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D264-05E9-450E-93DF-EA79786D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7A8-5F82-40DA-86E8-A72F9E32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81DC-BB45-4CEF-9957-D007E04D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EB0-2463-41B3-9177-5CA3B035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500A-5A30-4A9A-AF24-22B3C6FB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9625-DBD0-4691-917A-86241991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1D42-36D8-44F4-AADB-CB1C8B47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EB94-8ABA-4B68-BA6C-93020A01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DE64-6C42-4EE8-881D-8AEE97FF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6C7F-D695-4E38-AFF8-37C918EF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AA47-F0DF-4699-B3C1-134D19F5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B3E-E811-41E4-A02A-AF899A53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99EA-4074-4FB1-9F5D-434B1C72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42A6-1D34-4209-B661-9BC57020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0A1A-26C8-41FC-A7A9-E335446B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84AA-D862-4826-92F1-062C5CDE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94D9-04F6-41C6-9820-FC74F860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D7F0B-CABD-4C56-9A24-061598E4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15F98-58B4-4478-B685-1631A731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3C3B8-97DC-4495-84ED-51515A1F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D1D84-D9D7-417D-9E6D-DE9F4ACA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14D84-F587-4ADA-AABB-8D76CCC7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C9A-A9C0-4A1D-8E6D-C8C833AA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60250-59D1-435C-AFBD-2C4FB1B4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F23C6-90FB-43ED-B461-6997DA57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DB39D-9E83-4764-80AD-9CAF9C40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FE83B-DB1D-4E89-ABC9-D000E9A4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7DE2B-335D-4012-A52A-62E660D8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3F4E7-DB30-46D4-8774-A6E3B33C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7F550-955B-4DD0-B92E-A60624F4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C7733-CC49-42BE-9C1E-6D611406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0889A-6BCE-41B4-8695-C7AF1313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BC416-05A5-46EE-BA8D-60ACB3A6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E105-D274-4025-B8B0-F94274C2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79799-58DC-4CE8-B3E3-FB6A703C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63F99-5374-48CD-9215-BF3A1059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A6CFF-9CCA-4FFB-8FB8-2F3B355E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CF591-A9CC-4D46-B5E8-46E5FAC0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BF239-EE9A-47C6-9BF8-55D729B2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10BD6-BDB5-4E21-BD72-9FD7FF24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0F713-7849-4BE5-AB01-0F848BC9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EF060-F800-41D6-B783-3F5B567B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6978B-A0EE-4E8E-A612-5F1B3442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96F85-0DB5-4FA8-BC5C-64EF5860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00C-9A69-4154-82E3-C6A704D7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D6FBA3-F66D-43B3-94E3-20F63EC0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5658AE-DB5E-43FC-BEDF-B55F08FF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F39C73-5D08-479C-B054-6E54086E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81DC65-8924-4780-ABD7-0B60AFD1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E8D72B-14A4-4E02-ACCC-4D973F15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3E289F-4BD4-4E5F-BEE7-0DA0EB26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0B0DCB-F013-49E4-884B-A94CFF2C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95864-C3F6-42CB-9C92-406C90D5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1BC4FC-E922-45FF-8EC1-B8AA43E5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A59F47-CE7E-4038-9329-2946756D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7E4-A0E2-4547-9C0F-6EC934EF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010417-5548-4666-9572-5C2C7C7B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B445B6-70AC-4897-B2A5-9C456D06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447116-333A-4CE0-BC70-FB9ACACB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1BB2AE-C2E5-4E61-A519-21B40DF7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129230-789E-4FF5-802A-AD7A250E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F72C2A-DA46-4059-93DA-13392A68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30D2E2-B8F8-464F-B74E-D3FEBB99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763AFA-985D-4635-96F1-B1C19ED7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1DBA1F-D3F4-4FC9-A592-6746F23E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239F36-D6E0-4CBD-BB5B-068F9320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273-8F58-4926-ACF1-DA4ABDB9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3F7AA8-5EDC-43B8-BD29-369C4F4B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44ACA1-3ABF-4A41-A5EC-322B4DA8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66C941-D8F0-460B-B94C-A79E7F25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849235-45E0-4A4F-AEE6-217D244B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018BFE-BF6E-41F8-8900-301F720D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48764C-C4E4-4F3F-A2AD-E540EEF2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58E3C4-E4C9-498E-91E6-F8A5BA05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D5AB49-0BD4-49F1-BAA4-E20EA14C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089A1D-DAC0-4717-9810-697A9E50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E1246D-967D-4E29-AC8F-1CA870F4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EAC7-A6B8-4916-84B1-8BC93023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375516-6843-42DD-A47C-40023814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B1A881-34E4-4A8F-A5D2-D6719C3F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86756F-2E53-4A6E-B26B-DB015144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1F5068-AB5F-45C5-8839-F1324228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4C66F2-B0A1-4754-BEFB-3BA1C155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C4A-09C6-4E70-A161-B9FDB3F9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ADF7-872E-470E-80E0-E678DA364CB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2F36-D245-4B70-90F7-C03EAB660F0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E383-A2AF-45B1-B46D-FBB9407A446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546C-CB2A-43C1-B08F-8705E140777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FB84-83C5-47FE-B3FC-6AD87D185DD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34A0-EEDD-4FB4-B88F-6C156EF2F83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5A8B-6F9A-4734-AF00-99DA6448FEE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777240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ПРАВИЛА ТЕХНИКИ  БЕЗОПАСНОСТИ И ПОВЕДЕНИЯ В МАСТЕРСКОЙ.</a:t>
            </a:r>
            <a:br>
              <a:rPr sz="3600"/>
            </a:b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ОРГАНИЗАЦИЯ РАБОЧЕГО МЕСТА.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714240" y="2999880"/>
            <a:ext cx="8143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Century Schoolbook"/>
              </a:rPr>
              <a:t>Практическая часть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Century Schoolbook"/>
              </a:rPr>
              <a:t>Устройство столярного верстак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Учитель технологии Митрофанов О.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МОУ гимназия №7 г. Балтийс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Калининградской обл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I:\Работы из дерева\IMG_0659.jpg"/>
          <p:cNvPicPr/>
          <p:nvPr/>
        </p:nvPicPr>
        <p:blipFill>
          <a:blip r:embed="rId1"/>
          <a:stretch/>
        </p:blipFill>
        <p:spPr>
          <a:xfrm>
            <a:off x="928800" y="64296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I:\Работы из дерева\Митрофанов 018.jpg"/>
          <p:cNvPicPr/>
          <p:nvPr/>
        </p:nvPicPr>
        <p:blipFill>
          <a:blip r:embed="rId2"/>
          <a:stretch/>
        </p:blipFill>
        <p:spPr>
          <a:xfrm>
            <a:off x="5214960" y="64296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I:\Работы из дерева\IMG_1500.jpg"/>
          <p:cNvPicPr/>
          <p:nvPr/>
        </p:nvPicPr>
        <p:blipFill>
          <a:blip r:embed="rId3"/>
          <a:stretch/>
        </p:blipFill>
        <p:spPr>
          <a:xfrm>
            <a:off x="785880" y="3429000"/>
            <a:ext cx="3571920" cy="2905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I:\Работы из дерева\IMG_0725.jpg"/>
          <p:cNvPicPr/>
          <p:nvPr/>
        </p:nvPicPr>
        <p:blipFill>
          <a:blip r:embed="rId4"/>
          <a:stretch/>
        </p:blipFill>
        <p:spPr>
          <a:xfrm>
            <a:off x="5214960" y="385776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ПОД </a:t>
            </a: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ТЕХНОЛОГИЕЙ</a:t>
            </a: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 ПОНИМАЮТ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Century Schoolbook"/>
              </a:rPr>
              <a:t>1. </a:t>
            </a: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совокупность приемов и способов получения, обработки или переработки сырья, материалов,  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полуфабрикатов или изделий, осуществляемых в процессе производства продукции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entury Schoolbook"/>
              </a:rPr>
              <a:t>2.  технологией называют также определенную последовательность действий, обеспечивающих  изготовление какой-либо продукции заданного качества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Century Schoolbook"/>
              </a:rPr>
              <a:t>Точное выполнение всех операций и  соблюдение их последовательности - гарантия выпуска качественной продукци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         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ТОЛЯРНЫЙ ВЕРСТАК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Century Schoolbook"/>
              </a:rPr>
              <a:t>из чего состоит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новани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ышка с отверстиями, в которые вставляются клинь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оток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дний и задний зажимы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движные пальц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ЕДНАЗНАЧЕНИЕ</a:t>
            </a:r>
            <a:br>
              <a:rPr sz="3000"/>
            </a:b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ОСНОВНЫХ УСТРОЙСТВ ВЕРСТА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основании крепится крышка верстака с механизмом ее регулировки по росту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ышка – для хранения инструментов при работе и выполнения столярных работ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верстия с клиньями - для упора и крепления заготовок при строгани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лотке  размещают инструмент и материал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дний и задний зажимы служат для закрепления заготовок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движные пальцы - для опоры длинномерных заготовок при их строган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746784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ИНСТРУМЕНТЫ И ПРИСПОСОБЛЕНИЯ: </a:t>
            </a:r>
            <a:br>
              <a:rPr sz="27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ДЛЯ РУЧНОЙ ОБРАБОТКИ ИЗДЕЛИЙ ИЗ ДРЕВЕСИНЫ НА СТОЛЯРНОМ ВЕРСТАКЕ ПРИМЕНЯЮТ РАЗЛИЧНЫЕ РЕЖУЩИЕ И ИЗМЕРИТЕЛЬНЫЕ ИНСТРУМЕНТЫ, А ТАКЖЕ ПРИСПОСОБЛЕНИЯ</a:t>
            </a:r>
            <a:br>
              <a:rPr sz="27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8400" y="2285640"/>
            <a:ext cx="40669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ежущ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илы, стамески, рубанки(струги), дрели и друг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43280" y="2285640"/>
            <a:ext cx="4043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Измерительн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нейки, угольники, циркули, транспортир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c00000"/>
                </a:solidFill>
                <a:latin typeface="Century Schoolbook"/>
              </a:rPr>
              <a:t>КРЕПЛЕНИЕ ОБРАБАТЫВАЕМЫХ ЗАГОТОВОК НА ВЕРСТАКЕ ДОЛЖНО БЫТЬ НАДЕЖНЫМ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8400" y="2214360"/>
            <a:ext cx="825804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Что для этого нужно делать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Заготовки зажимают винтовыми зажимами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ля крепления длинных заготовок применяют  снизу подпоры в виде выдвижных пальцев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Низкие заготовки при их строгании на крышке верстака упирают передним торцом в клин, а с заднего торца заготовку поджимают клином заднего зажима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c00000"/>
                </a:solidFill>
                <a:latin typeface="Century Schoolbook"/>
              </a:rPr>
              <a:t>ТЕХНИКА БЕЗОПАСНОСТИ ПРИ РАБОТЕ НА ВЕРСТАКЕ</a:t>
            </a: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берегать крышку верстака от повреждений режущими инструментам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е закручивать сильно передний и задний зажимы верстак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е ударять молотком по крышке верста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линья в отверстия верстака забивать только киян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а рабочем месте не должны находиться лишние предметы и ненужные инструмен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о окончании работы очищать верстак от стружки щет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8-23T08:30:48Z</dcterms:modified>
  <cp:revision>10</cp:revision>
  <dc:subject/>
  <dc:title>Организация рабочего места. Правила техники  безопасности и поведения в мастерской. </dc:title>
</cp:coreProperties>
</file>