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B1F-CF8B-417C-8812-3A4A95AA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4E4-2378-4FEB-8404-64D68D00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023-2D93-4799-B64A-56EA4CF3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922-CDE6-4DA8-BB7E-61D348AB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1D87-D95B-4E2D-AC55-61C5AA15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81FF-1994-4BA5-9F80-FF1602F9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630E-71F6-4064-A98B-785BE745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DD84-47BA-4DAD-9599-5F727D65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55DF-A63B-47CF-966E-32FC72BE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4610-B4E2-49C7-B984-715FE433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BCE8-9737-4EC9-89E2-CA052EFC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536-8F0E-4E21-84AB-03E25A66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86B5-436B-416C-9D1C-68F7A64F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9614-D895-413C-80BF-7753D3FF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7E58-6145-4ED0-B491-92EA25A8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F98D-50AF-4075-81A1-40C962E5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E292-A494-42B4-AF2C-FEAC04C4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37575-F73C-4CBF-9C8A-61115478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B0109-730A-4A1C-AB80-C5143C7D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B7C42-2D40-4945-9199-2B645B8A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4156B-A27D-45FB-A576-92F32052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C2C8C-9B26-4B2D-B5D7-CC835625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695-ED84-44F5-A587-6B143453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BCD72-DEF1-48A6-988C-A12F51BD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818D3-7CCC-4015-B5BC-B923906A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3888A-6B6C-4394-8725-23D97C6E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C46BA-51E5-4EAB-A049-7061BC0C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D0349-FEF8-4F14-B769-CFB43B1F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28B9A-8B29-411B-9A32-A60CE0BF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7CF54-FC4F-450E-AAC7-02B3D160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584C9-9B73-451A-8AB7-79F8356D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292FC-1644-4990-96D8-8D87663C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C4FA1-2AF1-4892-B8F1-765CD687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490-3D30-46AA-9DC6-81E0EC63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0E094-DE02-4EA2-ABE4-120265FD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B86AF-F5CA-46F7-BB37-EEC469DD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1925D-4F03-44E4-9220-436105FA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B73AC-BFE3-4FF6-B7DB-F443D068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B9F14-9D37-4779-B65D-D4CC1964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FCF52-D84B-4A3C-B4C4-F36D5A9C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20F4B-98DF-412D-9DA7-47F12531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20588-5683-4C3A-9A82-01BBF4F1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98CD3-763E-4543-9CB1-555A344D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B05F2-3C16-42A8-90FC-30470743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F83-B4F2-4D55-A27F-57B53276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D2995-BF5B-4A53-86CA-DFE9CF8B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C820BC-E99B-4530-9A78-9E46DE42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79168-B72D-4077-970E-7294A76C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ED397-AAA1-4325-836C-4C42AF17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BE123-9DF6-466C-AD21-104D0C39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F3BD7-B1BB-48FB-9435-0064B2A2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ED524-8227-4D72-99AA-246C544C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928C3-3577-4B8B-9CB3-CF563353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D920E-CB4F-4D6F-BD03-8CC07431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AAC031-FAB2-4C79-8109-2FC5C69F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6E7-CECB-49CC-AEBF-845DE84F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87582-3279-4134-88E2-2D275EAB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E27481-4538-4196-BD21-2D4DC6B3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F3545-83E9-480A-BCFA-7F0DA317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0FFD0-5AEF-47E8-B045-5C94BF6A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71524C-2B79-445B-8AC0-B25D2258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29CA42-3084-45B6-90C4-F3A9DD77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47B029-F604-4A78-8B51-C5265CDA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BE0DD7-DBF0-4EDA-BD77-BFD24667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4AADA-3CD0-4A37-9898-A692F7A8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CA5CF-193A-4D06-8D40-9334E298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2A5-4F93-41B2-91AE-BC619C59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12BA4-41FB-47BC-952A-97644D75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43819B-A1A7-4208-A780-28CA4D7E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222CF-36FF-476D-BAA7-6A7F878E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1DAFA-3326-4AA2-8EC5-0A259847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59E4E-3BFE-4A12-B913-D9852269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1FC626-4421-427F-BDFD-99DEC3FF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9DEE9-8EEB-4281-AD1A-FD59723F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B09AF0-3111-4F7B-BFE2-9907D78E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1DE531-CDB2-4263-863D-66D6C1A0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92179-F74F-4431-9383-A4445E18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8EC-0F13-4391-94D0-B40DC71A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A5F70-F846-4AF0-951C-60CD6E5F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97D54D-B455-4E75-B180-677370A0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CC30E6-533C-4778-B7D1-F9119CB2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4EB97-2D45-41E7-B1DE-1A7AF4DF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32B20E-619B-42AA-8294-452A03C0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BF7-905E-4847-A991-57FD3EFD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6D0B-9DF2-4AE4-8607-7AAFC8981F3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9A79-0978-473E-AD95-28366AD6DA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123E-F54C-4098-8834-2932BD5D9CB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1B47-EF62-41C8-87F0-D9831CC651E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0278-BD47-40DE-BF18-39288622151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2FB9-F814-44F9-A2A3-F159BB30777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6FBD-0830-4570-9628-EE7649778D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ПРАВИЛА ТЕХНИКИ  БЕЗОПАСНОСТИ И ПОВЕДЕНИЯ В МАСТЕРСКОЙ.</a:t>
            </a:r>
            <a:br>
              <a:rPr sz="3600"/>
            </a:b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ОРГАНИЗАЦИЯ РАБОЧЕГО МЕСТА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14240" y="2999880"/>
            <a:ext cx="8143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Century Schoolbook"/>
              </a:rPr>
              <a:t>Практическая часть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entury Schoolbook"/>
              </a:rPr>
              <a:t>Устройство столярного верстак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Учитель технологии Митрофанов О.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МОУ гимназия №7 г. Балтийс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Калининградской об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I:\Работы из дерева\IMG_0659.jpg"/>
          <p:cNvPicPr/>
          <p:nvPr/>
        </p:nvPicPr>
        <p:blipFill>
          <a:blip r:embed="rId1"/>
          <a:stretch/>
        </p:blipFill>
        <p:spPr>
          <a:xfrm>
            <a:off x="928800" y="64296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I:\Работы из дерева\Митрофанов 018.jpg"/>
          <p:cNvPicPr/>
          <p:nvPr/>
        </p:nvPicPr>
        <p:blipFill>
          <a:blip r:embed="rId2"/>
          <a:stretch/>
        </p:blipFill>
        <p:spPr>
          <a:xfrm>
            <a:off x="5214960" y="64296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I:\Работы из дерева\IMG_1500.jpg"/>
          <p:cNvPicPr/>
          <p:nvPr/>
        </p:nvPicPr>
        <p:blipFill>
          <a:blip r:embed="rId3"/>
          <a:stretch/>
        </p:blipFill>
        <p:spPr>
          <a:xfrm>
            <a:off x="785880" y="3429000"/>
            <a:ext cx="3571920" cy="2905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I:\Работы из дерева\IMG_0725.jpg"/>
          <p:cNvPicPr/>
          <p:nvPr/>
        </p:nvPicPr>
        <p:blipFill>
          <a:blip r:embed="rId4"/>
          <a:stretch/>
        </p:blipFill>
        <p:spPr>
          <a:xfrm>
            <a:off x="5214960" y="385776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ПОД </a:t>
            </a: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ТЕХНОЛОГИЕЙ</a:t>
            </a: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 ПОНИМАЮТ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Century Schoolbook"/>
              </a:rPr>
              <a:t>1. </a:t>
            </a: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совокупность приемов и способов получения, обработки или переработки сырья, материалов,  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полуфабрикатов или изделий, осуществляемых в процессе производства продукции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2.  технологией называют также определенную последовательность действий, обеспечивающих  изготовление какой-либо продукции заданного качества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Century Schoolbook"/>
              </a:rPr>
              <a:t>Точное выполнение всех операций и  соблюдение их последовательности - гарантия выпуска качественной продукци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        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ТОЛЯРНЫЙ ВЕРСТАК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из чего состоит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новани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ышка с отверстиями, в которые вставляются клинь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оток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дний и задний зажим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движные пальц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ЕДНАЗНАЧЕНИЕ</a:t>
            </a:r>
            <a:br>
              <a:rPr sz="30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ОСНОВНЫХ УСТРОЙСТВ ВЕРСТА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основании крепится крышка верстака с механизмом ее регулировки по росту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ышка – для хранения инструментов при работе и выполнения столярных рабо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верстия с клиньями - для упора и крепления заготовок при строгани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лотке  размещают инструмент и материал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дний и задний зажимы служат для закрепления заготовок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движные пальцы - для опоры длинномерных заготовок при их строга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74678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ИНСТРУМЕНТЫ И ПРИСПОСОБЛЕНИЯ: </a:t>
            </a:r>
            <a:br>
              <a:rPr sz="27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ДЛЯ РУЧНОЙ ОБРАБОТКИ ИЗДЕЛИЙ ИЗ ДРЕВЕСИНЫ НА СТОЛЯРНОМ ВЕРСТАКЕ ПРИМЕНЯЮТ РАЗЛИЧНЫЕ РЕЖУЩИЕ И ИЗМЕРИТЕЛЬНЫЕ ИНСТРУМЕНТЫ, А ТАКЖЕ ПРИСПОСОБЛЕНИЯ</a:t>
            </a:r>
            <a:br>
              <a:rPr sz="27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400" y="2285640"/>
            <a:ext cx="40669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жущ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илы, стамески, рубанки(струги), дрели и друг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43280" y="2285640"/>
            <a:ext cx="4043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змеритель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нейки, угольники, циркули, транспортир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КРЕПЛЕНИЕ ОБРАБАТЫВАЕМЫХ ЗАГОТОВОК НА ВЕРСТАКЕ ДОЛЖНО БЫТЬ НАДЕЖНЫМ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8400" y="2214360"/>
            <a:ext cx="82580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Что для этого нужно делать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Заготовки зажимают винтовыми зажимами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ля крепления длинных заготовок применяют  снизу подпоры в виде выдвижных пальцев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Низкие заготовки при их строгании на крышке верстака упирают передним торцом в клин, а с заднего торца заготовку поджимают клином заднего зажима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ТЕХНИКА БЕЗОПАСНОСТИ ПРИ РАБОТЕ НА ВЕРСТАКЕ</a:t>
            </a: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берегать крышку верстака от повреждений режущими инструментам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е закручивать сильно передний и задний зажимы верстак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е ударять молотком по крышке верста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линья в отверстия верстака забивать только киян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а рабочем месте не должны находиться лишние предметы и ненужные инструмен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о окончании работы очищать верстак от стружки щет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8-23T08:30:48Z</dcterms:modified>
  <cp:revision>10</cp:revision>
  <dc:subject/>
  <dc:title>Организация рабочего места. Правила техники  безопасности и поведения в мастерской. </dc:title>
</cp:coreProperties>
</file>