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A2AB-2C26-4373-A862-8F3FD691F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D568-1D6A-4ABB-80D1-7D995D6F9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C156-AB46-447B-9449-04257C15B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EDCD-8532-4A36-870C-44685C325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3495C-4591-454C-B191-941C74E90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2F499-D49D-40DB-A0D6-F8252A317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69CDC-C85D-4E6F-90C7-66D6D4850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94229-FE9F-4E73-955A-DCAB2F712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EF4E8-16CD-4BBF-A0A3-26F6DC972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64653-4FA8-4F31-9376-F558AA928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BCDCC-ADF3-41EE-81DB-297E60F2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98F3-7A20-4A67-8DE7-8F1612FE9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2BC4A-EAE6-4E31-A3D1-CE258FAF9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5DAA6-3089-418F-8296-6BD36F06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53444-EFC3-4619-AD55-CA4B76528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12EFD-2C47-4423-9316-519539647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9DF43-DD3C-435A-9E0F-72C61F4FB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F41D61-E24C-4394-A592-A980A0158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DD479A-C082-4790-9BBE-1BEB2D313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D09715-2EF2-4E72-B32B-DF3A10D12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430C70-4EE4-447E-A156-00E8A5503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59C002-4F63-4953-85D8-1FE08415A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52F8-CEBB-4EF2-9600-4ADDF2958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1802AD-578A-4601-8361-DBAE7AC43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D04AF0-0BE6-478C-BA71-67758294A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86D86A-86DC-47EB-ACB2-202DC82E6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A6C899-C953-4F3E-AD0C-1EFBA113E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8FE29C-A572-480A-9690-155E4E09E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C175E3-CC2D-46D2-8740-315096728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677B38-8BDA-41E9-AD14-1A9238648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BC480-43D5-4067-8201-75509F005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9CCEE-C79D-423D-B45B-BB77817CA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3515F-CC78-4217-AC53-8D00EBE13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8BED-B528-4A98-8377-77A89C3F2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62483-A8A3-448A-928D-A2082AB44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5526D-6E72-411F-855B-2C66D47D4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C9808-AE40-43E3-BE94-AC5D4D646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9BB1B-D220-4890-98C5-376C5D87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87904-AA2F-4CD0-BF57-576B4E6E3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FD58D-5876-42B8-AB51-66C136BAB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9E82D-7E21-403C-A828-D186ED2F1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1C49C-EFCF-443D-9B3A-E27C659C3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9E484-7185-4269-91FD-237A50F3B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E55F7C-3EDB-4876-A554-A25D7AEB6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EFBD-9888-4276-84E3-CF4949DA9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FA7C9F-BEFE-4907-A21C-F0A0BD75D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5FC6C8-ECE0-4D80-AF4F-B02E472F6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2DB39C-B9F7-4E6C-84EF-E15A452CB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13A6DE-47DC-4DE2-8235-DE146D4D2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03B887-E41C-4316-AB92-262EA013F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D8C609-350B-4CDD-A1A8-CAA82D9B2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72149F-3636-4E0D-A10C-8AE587785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1CFEB5-950C-4ED4-A830-5BC52673F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13F1B1-B4EC-4EF5-84FE-6B1A11F1D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10E6D9-844D-428F-A9AD-5D28CF4B4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D748-79DD-4C67-89F6-F3039CEDE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B51A5B-5650-4A8E-8C03-0DE8A9E8C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B887C6-9E52-41FB-B2B3-5E2B52F3A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DA026F-27D6-467B-873F-D60565985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F64A28-20BE-46D5-8B9C-5C22D9994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D50C3F-DAAF-4FC8-8383-99ACE4612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156CA0-7D6C-4BE1-A7BC-143017A01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493D8E-9DBA-4727-82B8-779B52898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0B19C1-51D1-4841-A06D-6C68BAD6F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12C8C5-682A-4883-8B1B-DAFE53ADB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A6188A-F37C-434C-98ED-3E165C76B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C3B9-4A2F-4FF5-B3D5-027D0251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2DF8C5-0AAC-4D46-80E6-A6198945E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530954-0237-447D-8A5F-56AB9441A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21E85E-3A98-4731-8965-AD31C255E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8BF78B-EFA9-41A5-A4F5-9C8E5CB6A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A01137-C357-445D-A7B6-83E1A9823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2D3AD6-9402-4467-B756-DF7ADEEE0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CC559D-8213-44B4-A317-C08FF1B2E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E0CAB4-69DF-4B26-8E86-D4456C19C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EA4274-1767-4263-ADAA-47CD830AF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86540C-7AFE-49C5-98AC-83AEF50D8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A6EC-A720-42B1-8B4B-FBE40BDBB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B85CBB-60D1-46C2-8472-CBC61DB2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639039-8261-405F-B8C6-8EE111DCF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64938E-E8B6-4FC8-ABA0-16CBE674D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06625C-1124-4DF8-ACED-71544BBFB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E55BC3-8F30-413B-A25F-ED79C045A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2132-93AB-4BBA-A885-E3CFFFE1D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A127E-B626-412E-B2A7-7D5AC9D2841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671DA-5173-4D8D-BA9C-4BE2812EC1A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B5632-CF01-4240-BC98-B027F0D0FFC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82A0D-46B9-4D2A-BD2F-416AD2E8951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D71D5-D8A5-408C-955B-9013C0B5FE3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6FC65-E915-4A7B-9105-00AFEEC06CE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4560A-D4C1-4955-B883-274CDE1272F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14240" y="571680"/>
            <a:ext cx="7772400" cy="25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entury Schoolbook"/>
              </a:rPr>
              <a:t>ПРАВИЛА ТЕХНИКИ  БЕЗОПАСНОСТИ И ПОВЕДЕНИЯ В МАСТЕРСКОЙ.</a:t>
            </a:r>
            <a:br>
              <a:rPr sz="3600"/>
            </a:br>
            <a:r>
              <a:rPr b="1" lang="ru-RU" sz="36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Century Schoolbook"/>
              </a:rPr>
              <a:t>ОРГАНИЗАЦИЯ РАБОЧЕГО МЕСТА.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714240" y="2999880"/>
            <a:ext cx="8143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d0d0d"/>
                </a:solidFill>
                <a:latin typeface="Century Schoolbook"/>
              </a:rPr>
              <a:t>Практическая часть: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d0d0d"/>
                </a:solidFill>
                <a:latin typeface="Century Schoolbook"/>
              </a:rPr>
              <a:t>Устройство столярного верстака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Учитель технологии Митрофанов О.В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МОУ гимназия №7 г. Балтийск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Калининградской обл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2" descr="I:\Работы из дерева\IMG_0659.jpg"/>
          <p:cNvPicPr/>
          <p:nvPr/>
        </p:nvPicPr>
        <p:blipFill>
          <a:blip r:embed="rId1"/>
          <a:stretch/>
        </p:blipFill>
        <p:spPr>
          <a:xfrm>
            <a:off x="928800" y="642960"/>
            <a:ext cx="3251160" cy="24382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3" descr="I:\Работы из дерева\Митрофанов 018.jpg"/>
          <p:cNvPicPr/>
          <p:nvPr/>
        </p:nvPicPr>
        <p:blipFill>
          <a:blip r:embed="rId2"/>
          <a:stretch/>
        </p:blipFill>
        <p:spPr>
          <a:xfrm>
            <a:off x="5214960" y="642960"/>
            <a:ext cx="3251160" cy="24382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4" descr="I:\Работы из дерева\IMG_1500.jpg"/>
          <p:cNvPicPr/>
          <p:nvPr/>
        </p:nvPicPr>
        <p:blipFill>
          <a:blip r:embed="rId3"/>
          <a:stretch/>
        </p:blipFill>
        <p:spPr>
          <a:xfrm>
            <a:off x="785880" y="3429000"/>
            <a:ext cx="3571920" cy="29052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5" descr="I:\Работы из дерева\IMG_0725.jpg"/>
          <p:cNvPicPr/>
          <p:nvPr/>
        </p:nvPicPr>
        <p:blipFill>
          <a:blip r:embed="rId4"/>
          <a:stretch/>
        </p:blipFill>
        <p:spPr>
          <a:xfrm>
            <a:off x="5214960" y="3857760"/>
            <a:ext cx="32511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entury Schoolbook"/>
              </a:rPr>
              <a:t>ПОД </a:t>
            </a:r>
            <a:r>
              <a:rPr b="1" lang="ru-RU" sz="3000" spc="-1" strike="noStrike">
                <a:solidFill>
                  <a:srgbClr val="c00000"/>
                </a:solidFill>
                <a:latin typeface="Century Schoolbook"/>
              </a:rPr>
              <a:t>ТЕХНОЛОГИЕЙ</a:t>
            </a:r>
            <a:r>
              <a:rPr b="0" lang="ru-RU" sz="3000" spc="-1" strike="noStrike">
                <a:solidFill>
                  <a:srgbClr val="c00000"/>
                </a:solidFill>
                <a:latin typeface="Century Schoolbook"/>
              </a:rPr>
              <a:t> ПОНИМАЮТ 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2060"/>
                </a:solidFill>
                <a:latin typeface="Century Schoolbook"/>
              </a:rPr>
              <a:t>1. </a:t>
            </a:r>
            <a:r>
              <a:rPr b="0" lang="ru-RU" sz="2600" spc="-1" strike="noStrike">
                <a:solidFill>
                  <a:srgbClr val="002060"/>
                </a:solidFill>
                <a:latin typeface="Century Schoolbook"/>
              </a:rPr>
              <a:t>совокупность приемов и способов получения, обработки или переработки сырья, материалов,  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entury Schoolbook"/>
              </a:rPr>
              <a:t>     </a:t>
            </a:r>
            <a:r>
              <a:rPr b="0" lang="ru-RU" sz="2600" spc="-1" strike="noStrike">
                <a:solidFill>
                  <a:srgbClr val="002060"/>
                </a:solidFill>
                <a:latin typeface="Century Schoolbook"/>
              </a:rPr>
              <a:t>полуфабрикатов или изделий, осуществляемых в процессе производства продукции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Century Schoolbook"/>
              </a:rPr>
              <a:t>2.  технологией называют также определенную последовательность действий, обеспечивающих  изготовление какой-либо продукции заданного качества.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0000"/>
                </a:solidFill>
                <a:latin typeface="Century Schoolbook"/>
              </a:rPr>
              <a:t>Точное выполнение всех операций и  соблюдение их последовательности - гарантия выпуска качественной продукции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          </a:t>
            </a: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СТОЛЯРНЫЙ ВЕРСТАК</a:t>
            </a: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                                 </a:t>
            </a:r>
            <a:r>
              <a:rPr b="0" lang="ru-RU" sz="2400" spc="-1" strike="noStrike">
                <a:solidFill>
                  <a:srgbClr val="0070c0"/>
                </a:solidFill>
                <a:latin typeface="Century Schoolbook"/>
              </a:rPr>
              <a:t>из чего состоит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снование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рышка с отверстиями, в которые вставляются клинь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лоток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ередний и задний зажимы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ыдвижные пальц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ПРЕДНАЗНАЧЕНИЕ</a:t>
            </a:r>
            <a:br>
              <a:rPr sz="3000"/>
            </a:b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ОСНОВНЫХ УСТРОЙСТВ ВЕРСТАКА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 основании крепится крышка верстака с механизмом ее регулировки по росту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рышка – для хранения инструментов при работе и выполнения столярных работ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тверстия с клиньями - для упора и крепления заготовок при строгании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лотке  размещают инструмент и материалы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ередний и задний зажимы служат для закрепления заготовок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ыдвижные пальцы - для опоры длинномерных заготовок при их строгани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57120" y="1071360"/>
            <a:ext cx="746784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r>
              <a:rPr b="1" lang="ru-RU" sz="2700" spc="-1" strike="noStrike">
                <a:solidFill>
                  <a:srgbClr val="575f6d"/>
                </a:solidFill>
                <a:latin typeface="Century Schoolbook"/>
              </a:rPr>
              <a:t>ИНСТРУМЕНТЫ И ПРИСПОСОБЛЕНИЯ: </a:t>
            </a:r>
            <a:br>
              <a:rPr sz="2700"/>
            </a:br>
            <a:r>
              <a:rPr b="0" lang="ru-RU" sz="2000" spc="-1" strike="noStrike">
                <a:solidFill>
                  <a:srgbClr val="575f6d"/>
                </a:solidFill>
                <a:latin typeface="Century Schoolbook"/>
              </a:rPr>
              <a:t>ДЛЯ РУЧНОЙ ОБРАБОТКИ ИЗДЕЛИЙ ИЗ ДРЕВЕСИНЫ НА СТОЛЯРНОМ ВЕРСТАКЕ ПРИМЕНЯЮТ РАЗЛИЧНЫЕ РЕЖУЩИЕ И ИЗМЕРИТЕЛЬНЫЕ ИНСТРУМЕНТЫ, А ТАКЖЕ ПРИСПОСОБЛЕНИЯ</a:t>
            </a:r>
            <a:br>
              <a:rPr sz="2700"/>
            </a:b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28400" y="2285640"/>
            <a:ext cx="40669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Режущи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илы, стамески, рубанки(струги), дрели и други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643280" y="2285640"/>
            <a:ext cx="4043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Измерительны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Линейки, угольники, циркули, транспортиры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r>
              <a:rPr b="1" lang="ru-RU" sz="2700" spc="-1" strike="noStrike">
                <a:solidFill>
                  <a:srgbClr val="c00000"/>
                </a:solidFill>
                <a:latin typeface="Century Schoolbook"/>
              </a:rPr>
              <a:t>КРЕПЛЕНИЕ ОБРАБАТЫВАЕМЫХ ЗАГОТОВОК НА ВЕРСТАКЕ ДОЛЖНО БЫТЬ НАДЕЖНЫМ.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28400" y="2214360"/>
            <a:ext cx="8258040" cy="39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Что для этого нужно делать</a:t>
            </a: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Заготовки зажимают винтовыми зажимами.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Для крепления длинных заготовок применяют  снизу подпоры в виде выдвижных пальцев.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Низкие заготовки при их строгании на крышке верстака упирают передним торцом в клин, а с заднего торца заготовку поджимают клином заднего зажима.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1" lang="ru-RU" sz="2700" spc="-1" strike="noStrike">
                <a:solidFill>
                  <a:srgbClr val="c00000"/>
                </a:solidFill>
                <a:latin typeface="Century Schoolbook"/>
              </a:rPr>
              <a:t>ТЕХНИКА БЕЗОПАСНОСТИ ПРИ РАБОТЕ НА ВЕРСТАКЕ</a:t>
            </a:r>
            <a:r>
              <a:rPr b="0" lang="ru-RU" sz="2700" spc="-1" strike="noStrike">
                <a:solidFill>
                  <a:srgbClr val="c00000"/>
                </a:solidFill>
                <a:latin typeface="Century Schoolbook"/>
              </a:rPr>
              <a:t>.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Оберегать крышку верстака от повреждений режущими инструментами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Не закручивать сильно передний и задний зажимы верстака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Не ударять молотком по крышке верстак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Клинья в отверстия верстака забивать только киянко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На рабочем месте не должны находиться лишние предметы и ненужные инструмент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По окончании работы очищать верстак от стружки щетко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08-23T08:30:48Z</dcterms:modified>
  <cp:revision>10</cp:revision>
  <dc:subject/>
  <dc:title>Организация рабочего места. Правила техники  безопасности и поведения в мастерской. </dc:title>
</cp:coreProperties>
</file>