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14.gif" ContentType="image/gif"/>
  <Override PartName="/ppt/media/image10.png" ContentType="image/png"/>
  <Override PartName="/ppt/media/image2.png" ContentType="image/png"/>
  <Override PartName="/ppt/media/image3.gif" ContentType="image/gif"/>
  <Override PartName="/ppt/media/image12.png" ContentType="image/png"/>
  <Override PartName="/ppt/media/image1.jpeg" ContentType="image/jpeg"/>
  <Override PartName="/ppt/media/image4.gif" ContentType="image/gif"/>
  <Override PartName="/ppt/media/image5.gif" ContentType="image/gif"/>
  <Override PartName="/ppt/media/image9.png" ContentType="image/png"/>
  <Override PartName="/ppt/media/image6.gif" ContentType="image/gif"/>
  <Override PartName="/ppt/media/image7.gif" ContentType="image/gif"/>
  <Override PartName="/ppt/media/image8.gif" ContentType="image/gif"/>
  <Override PartName="/ppt/media/image13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F885B-8341-47A4-B245-6B3AA2D5C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171C4-705A-4A04-9162-49C8639CC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62C96-9F3A-4F2C-B8CC-AF5D291BB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F291B-1ABA-4963-BC05-3401761C4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A58E0-9F00-4594-8412-36A59A31C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3CC85-72C8-4F7A-B076-F6849D811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44F0F-4CFA-4B6D-8FE9-9D4ADD5AD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C6748-1CB9-4E18-9F9E-4075AC353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7E704-9F15-4D79-BE52-9E1750B58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097E4-26C4-4E3E-931B-21DF36883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16719-FDE5-437B-9847-6206D33C3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146F9-3B75-4632-95A6-4320E1E84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ed22e"/>
            </a:gs>
            <a:gs pos="100000">
              <a:srgbClr val="b434b4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C8F07-CEDF-489E-9968-393D998F6F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ed22e"/>
            </a:gs>
            <a:gs pos="100000">
              <a:srgbClr val="b434b4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38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Правила противопожарной безопасности и новогодние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праздники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7821360"/>
            <a:ext cx="6400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556000" y="2708280"/>
            <a:ext cx="4329000" cy="3600360"/>
          </a:xfrm>
          <a:prstGeom prst="rect">
            <a:avLst/>
          </a:prstGeom>
          <a:ln w="34920">
            <a:solidFill>
              <a:srgbClr val="800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c6d0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323640" y="1484280"/>
            <a:ext cx="3600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О возникновении    пожара немедленно сообщить в пожарную охрану по телефону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«01».</a:t>
            </a:r>
            <a:br>
              <a:rPr sz="2800"/>
            </a:br>
            <a:br>
              <a:rPr sz="2800"/>
            </a:br>
            <a:br>
              <a:rPr sz="20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Рисунок2О"/>
          <p:cNvPicPr/>
          <p:nvPr/>
        </p:nvPicPr>
        <p:blipFill>
          <a:blip r:embed="rId1"/>
          <a:stretch/>
        </p:blipFill>
        <p:spPr>
          <a:xfrm>
            <a:off x="4336920" y="1413000"/>
            <a:ext cx="4349880" cy="45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3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8c1ce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Запомните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Не зажигайте фейерверки, свечи или бенгальские огни без взрослы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Не применяйте средства пиротехники в помещени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29r2"/>
          <p:cNvPicPr/>
          <p:nvPr/>
        </p:nvPicPr>
        <p:blipFill>
          <a:blip r:embed="rId1"/>
          <a:stretch/>
        </p:blipFill>
        <p:spPr>
          <a:xfrm rot="20881800">
            <a:off x="5110200" y="1356840"/>
            <a:ext cx="4033800" cy="312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1000"/>
                            </p:stCondLst>
                            <p:childTnLst>
                              <p:par>
                                <p:cTn id="15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6" dur="1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2000"/>
                            </p:stCondLst>
                            <p:childTnLst>
                              <p:par>
                                <p:cTn id="15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0" dur="10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8c1ce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8" descr="Text_4"/>
          <p:cNvPicPr/>
          <p:nvPr/>
        </p:nvPicPr>
        <p:blipFill>
          <a:blip r:embed="rId1"/>
          <a:stretch/>
        </p:blipFill>
        <p:spPr>
          <a:xfrm>
            <a:off x="2119320" y="484200"/>
            <a:ext cx="4905360" cy="7239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4" descr="newy39"/>
          <p:cNvPicPr/>
          <p:nvPr/>
        </p:nvPicPr>
        <p:blipFill>
          <a:blip r:embed="rId2"/>
          <a:stretch/>
        </p:blipFill>
        <p:spPr>
          <a:xfrm>
            <a:off x="2335320" y="1773360"/>
            <a:ext cx="331632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2ab0ba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Правила безопасного поведения при проведении новогодней ёлк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7" descr="Christ"/>
          <p:cNvPicPr/>
          <p:nvPr/>
        </p:nvPicPr>
        <p:blipFill>
          <a:blip r:embed="rId1"/>
          <a:stretch/>
        </p:blipFill>
        <p:spPr>
          <a:xfrm>
            <a:off x="2556000" y="1628640"/>
            <a:ext cx="4294080" cy="4791240"/>
          </a:xfrm>
          <a:prstGeom prst="rect">
            <a:avLst/>
          </a:prstGeom>
          <a:ln w="38160">
            <a:solidFill>
              <a:srgbClr val="008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46c6d0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395280" y="836640"/>
            <a:ext cx="36720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Во время проведения новогодней ёлки запрещается приносить с собой и использовать  бенгальские огни,  петарды, хлопушки и другие средства пиротехни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014"/>
          <p:cNvPicPr/>
          <p:nvPr/>
        </p:nvPicPr>
        <p:blipFill>
          <a:blip r:embed="rId1"/>
          <a:stretch/>
        </p:blipFill>
        <p:spPr>
          <a:xfrm>
            <a:off x="4356000" y="1417680"/>
            <a:ext cx="4464000" cy="283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2000"/>
                            </p:stCondLst>
                            <p:childTnLst>
                              <p:par>
                                <p:cTn id="2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7b6cf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newy41"/>
          <p:cNvPicPr/>
          <p:nvPr/>
        </p:nvPicPr>
        <p:blipFill>
          <a:blip r:embed="rId1"/>
          <a:stretch/>
        </p:blipFill>
        <p:spPr>
          <a:xfrm>
            <a:off x="5508720" y="1628640"/>
            <a:ext cx="3166920" cy="28720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395280" y="5493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464040" indent="-464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4040" indent="-464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Любые пиротехнические изделия сами по себе представляют огромную опасн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4040" indent="-464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4040" indent="-464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Пожары от неправильного их применения уносят жизни сотен людей и уничтожают все на своем пут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8c1ce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395280" y="11970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Хлопушки, бенгальские огни, фейерверки и свечи зажигайте только вдали от ёлки, занавесей, других горючих предметов, людей, одетых в новогодние костюм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8" descr="newy34"/>
          <p:cNvPicPr/>
          <p:nvPr/>
        </p:nvPicPr>
        <p:blipFill>
          <a:blip r:embed="rId1"/>
          <a:stretch/>
        </p:blipFill>
        <p:spPr>
          <a:xfrm>
            <a:off x="4716360" y="981000"/>
            <a:ext cx="395928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9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000"/>
                            </p:stCondLst>
                            <p:childTnLst>
                              <p:par>
                                <p:cTn id="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1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7c4cb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403848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Если во время новогоднего праздника у вас на ёлке загорелась гирлянда – не паникуйт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Необходимо обесточить гирлянду, выдернув сетевую вилку из розет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13m4"/>
          <p:cNvPicPr/>
          <p:nvPr/>
        </p:nvPicPr>
        <p:blipFill>
          <a:blip r:embed="rId1"/>
          <a:stretch/>
        </p:blipFill>
        <p:spPr>
          <a:xfrm rot="1564200">
            <a:off x="4201920" y="1800000"/>
            <a:ext cx="4599000" cy="14587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ani-lights-left-29x120"/>
          <p:cNvPicPr/>
          <p:nvPr/>
        </p:nvPicPr>
        <p:blipFill>
          <a:blip r:embed="rId2"/>
          <a:stretch/>
        </p:blipFill>
        <p:spPr>
          <a:xfrm rot="5400000">
            <a:off x="6466320" y="3695040"/>
            <a:ext cx="74772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0" dur="1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4" dur="1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7c0cb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539280" y="549000"/>
            <a:ext cx="4103640" cy="510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При горении опасен ядовитый дым, поэтому, покидая помещение, необходимо дышать через ткан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При эвакуации из помещения не толкаться, не создавать паники и пробки в дверя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3" descr="Рисунок1"/>
          <p:cNvPicPr/>
          <p:nvPr/>
        </p:nvPicPr>
        <p:blipFill>
          <a:blip r:embed="rId1"/>
          <a:stretch/>
        </p:blipFill>
        <p:spPr>
          <a:xfrm>
            <a:off x="5364000" y="1844640"/>
            <a:ext cx="2870280" cy="29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2000"/>
                            </p:stCondLst>
                            <p:childTnLst>
                              <p:par>
                                <p:cTn id="8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7c0cb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При горении элементов ёлки опасен ядовитый дым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1m5"/>
          <p:cNvPicPr/>
          <p:nvPr/>
        </p:nvPicPr>
        <p:blipFill>
          <a:blip r:embed="rId1"/>
          <a:stretch/>
        </p:blipFill>
        <p:spPr>
          <a:xfrm>
            <a:off x="4643280" y="1428840"/>
            <a:ext cx="4248360" cy="40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7c0cb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68360" y="9810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Запомнить детям и взрослым необходимо, чт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чаще в пожарах гибнут от дым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Рисунок1"/>
          <p:cNvPicPr/>
          <p:nvPr/>
        </p:nvPicPr>
        <p:blipFill>
          <a:blip r:embed="rId1"/>
          <a:stretch/>
        </p:blipFill>
        <p:spPr>
          <a:xfrm>
            <a:off x="5184720" y="549360"/>
            <a:ext cx="3195720" cy="63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2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6T16:07:34Z</dcterms:created>
  <dc:creator>MICHAEL</dc:creator>
  <dc:description/>
  <dc:language>en-US</dc:language>
  <cp:lastModifiedBy>Ольга Мизга</cp:lastModifiedBy>
  <dcterms:modified xsi:type="dcterms:W3CDTF">2010-12-24T23:28:15Z</dcterms:modified>
  <cp:revision>12</cp:revision>
  <dc:subject/>
  <dc:title>Поведение человек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d619000000000001024140</vt:lpwstr>
  </property>
</Properties>
</file>