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821-895F-4CAA-8856-5D730C4E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506-70A2-426E-A198-3DC60191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AA9-3E9F-4EB3-AD86-7C764B42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054-5C76-46A0-A486-22045DD4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DE9-4860-452E-8B38-5815FD14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1C0-7ECD-48AD-A734-4331CECB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759-71BB-4423-8A4A-03D6B815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85F-1ADA-4571-AE4C-FDB7E3FA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63F-066C-44E2-8C88-AF8D7908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CA1-9964-42FB-B354-74DA457A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864-F762-4AFA-A04F-FDE19D1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D00-3188-4BE6-8E54-E3A1C221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6C23-B116-41C2-B7E7-46A4BE463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равила противопожарной безопасности и новогодние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разд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7821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4329000" cy="360036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 возникновении    пожара немедленно сообщить в пожарную охрану по телефону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01».</a:t>
            </a: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 зажигайте фейерверки, свечи или бенгальские огни без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 применяйте средства пиротехники в поме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hrist"/>
          <p:cNvPicPr/>
          <p:nvPr/>
        </p:nvPicPr>
        <p:blipFill>
          <a:blip r:embed="rId1"/>
          <a:stretch/>
        </p:blipFill>
        <p:spPr>
          <a:xfrm>
            <a:off x="2556000" y="1628640"/>
            <a:ext cx="4294080" cy="47912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367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и использовать  бенгальские огни,  петарды, хлопушки и другие средства пиро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жары от неправильного их применения уносят жизни сотен людей и уничтожают все на своем пу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, люд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41036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и горении опасен ядовитый дым, поэтому, покидая помещение,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и эвакуации из помещения не толкаться, не создавать паники и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Запомнить детям и взрослым необходимо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Ольга Мизга</cp:lastModifiedBy>
  <dcterms:modified xsi:type="dcterms:W3CDTF">2010-12-24T23:28:15Z</dcterms:modified>
  <cp:revision>12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