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553-71DA-4570-811F-C10D574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C2D-29DE-4736-A98F-DA6999F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F25-8A42-4372-A2C1-F81EF272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6EA-921A-42E1-8401-DF8562C1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1CD-ECAC-48F4-8CBD-98920CD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1FD-F699-4690-BE91-B43B173D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1B7-475B-4B2A-985F-0DD9658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439-BB34-4BFA-BEAA-99CEFFB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866-A042-42B9-BCB1-D99F03BE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CD1-0103-4ABD-BBA9-6BE1DEC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504-B60D-4DBE-B314-F639EB8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109-919D-4ADE-A3A5-D35B8E3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6A3C-9380-42CC-BE7B-AA59940A8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8360" y="549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ро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о информати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4437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ерв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02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Astra"/>
              </a:rPr>
              <a:t>Из чего состоит компьют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MCj04040310000[1]"/>
          <p:cNvPicPr/>
          <p:nvPr/>
        </p:nvPicPr>
        <p:blipFill>
          <a:blip r:embed="rId1"/>
          <a:stretch/>
        </p:blipFill>
        <p:spPr>
          <a:xfrm>
            <a:off x="5796000" y="415440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age002"/>
          <p:cNvPicPr/>
          <p:nvPr/>
        </p:nvPicPr>
        <p:blipFill>
          <a:blip r:embed="rId1"/>
          <a:stretch/>
        </p:blipFill>
        <p:spPr>
          <a:xfrm>
            <a:off x="6805440" y="3716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MCj04040310000[1]"/>
          <p:cNvPicPr/>
          <p:nvPr/>
        </p:nvPicPr>
        <p:blipFill>
          <a:blip r:embed="rId2"/>
          <a:stretch/>
        </p:blipFill>
        <p:spPr>
          <a:xfrm>
            <a:off x="755640" y="321300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900000" y="404640"/>
            <a:ext cx="6408720" cy="2448000"/>
          </a:xfrm>
          <a:prstGeom prst="wedgeRoundRectCallout">
            <a:avLst>
              <a:gd name="adj1" fmla="val 42569"/>
              <a:gd name="adj2" fmla="val 93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ьютер представляет из себя системный блок с подключенными к нему внешними устрой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MCj04040310000[1]"/>
          <p:cNvPicPr/>
          <p:nvPr/>
        </p:nvPicPr>
        <p:blipFill>
          <a:blip r:embed="rId1"/>
          <a:stretch/>
        </p:blipFill>
        <p:spPr>
          <a:xfrm>
            <a:off x="2411280" y="155736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 flipH="1" flipV="1">
            <a:off x="5292360" y="4941360"/>
            <a:ext cx="1152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6516360" y="836640"/>
            <a:ext cx="36036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1979640" y="836640"/>
            <a:ext cx="122400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1763640" y="4437000"/>
            <a:ext cx="8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859280" y="3333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084720" y="5877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84360" y="4941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826920" y="333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468360" y="404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истемный бло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часть компьютера состоящая из материнской платы, центрального процессора, оперативной памяти, накопителей, блока питания и других элемен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4098960" y="3213000"/>
            <a:ext cx="12463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image002"/>
          <p:cNvPicPr/>
          <p:nvPr/>
        </p:nvPicPr>
        <p:blipFill>
          <a:blip r:embed="rId2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0" y="836640"/>
            <a:ext cx="88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онито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едназначен для вывода на экран чисел, тестов и рисун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219040" cy="2525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2"/>
          <a:stretch/>
        </p:blipFill>
        <p:spPr>
          <a:xfrm>
            <a:off x="2268360" y="5013360"/>
            <a:ext cx="151308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3"/>
          <a:stretch/>
        </p:blipFill>
        <p:spPr>
          <a:xfrm>
            <a:off x="4932360" y="5013360"/>
            <a:ext cx="1584360" cy="129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image002"/>
          <p:cNvPicPr/>
          <p:nvPr/>
        </p:nvPicPr>
        <p:blipFill>
          <a:blip r:embed="rId4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692280"/>
            <a:ext cx="914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виатур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устройство, позволяющее вводить в компьютер алфавитно–цифровую информацию, а также специальные знаки и управлять работой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5067360" cy="2152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468360" y="2997360"/>
            <a:ext cx="792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0" y="981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ышь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– устройство, позволяющее вводить в компьютер команды, не пользуясь клавиа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4343400" cy="2171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8"/>
          <p:cNvSpPr/>
          <p:nvPr/>
        </p:nvSpPr>
        <p:spPr>
          <a:xfrm>
            <a:off x="2340000" y="40464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 flipV="1" rot="10800000">
            <a:off x="468360" y="1772280"/>
            <a:ext cx="82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редназначенное для  вывод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6836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 flipV="1" rot="10800000">
            <a:off x="469800" y="39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 flipV="1" rot="10800000">
            <a:off x="468360" y="47239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 flipV="1" rot="10800000">
            <a:off x="826560" y="6093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9640" y="692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озволяющее вводить в компьютер команды, из предъявленного набора на экране монитора не используя клавиату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11280" y="3141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84360" y="3860640"/>
            <a:ext cx="45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11280" y="4581360"/>
            <a:ext cx="37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24000" y="62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стройство , в котором расположены все важные части компьюте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68360" y="292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 flipV="1" rot="10800000">
            <a:off x="539280" y="36439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9528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 flipV="1" rot="10800000">
            <a:off x="468000" y="220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260280"/>
            <a:ext cx="17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63840" y="6094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4000" y="40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познакомить с устройством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206064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2400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знакомить с правилами поведения в кабинете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24000" y="551664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image002"/>
          <p:cNvPicPr/>
          <p:nvPr/>
        </p:nvPicPr>
        <p:blipFill>
          <a:blip r:embed="rId1"/>
          <a:stretch/>
        </p:blipFill>
        <p:spPr>
          <a:xfrm>
            <a:off x="7020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4000" y="2852640"/>
            <a:ext cx="8496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глядно продемонстрировать такие  составляющие компьютера ка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, монитор, клавиатура, мышь. В ходе диалога выяснить их на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дназначена для ввода в компьютер алфавитно–цифровой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 flipV="1" rot="10800000">
            <a:off x="466200" y="2419920"/>
            <a:ext cx="51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31417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95280" y="3860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верьте правильные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55640" y="177336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) 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55640" y="2565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55640" y="3357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) 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84360" y="41497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7505640" y="258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2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7"/>
          <p:cNvSpPr/>
          <p:nvPr/>
        </p:nvSpPr>
        <p:spPr>
          <a:xfrm>
            <a:off x="684360" y="83664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63640" y="1628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771640" y="2276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80000" y="314172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716360" y="3860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5651640" y="4653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51672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5" descr="4[1]"/>
          <p:cNvPicPr/>
          <p:nvPr/>
        </p:nvPicPr>
        <p:blipFill>
          <a:blip r:embed="rId1"/>
          <a:stretch/>
        </p:blipFill>
        <p:spPr>
          <a:xfrm>
            <a:off x="0" y="328608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4[1]"/>
          <p:cNvPicPr/>
          <p:nvPr/>
        </p:nvPicPr>
        <p:blipFill>
          <a:blip r:embed="rId2"/>
          <a:stretch/>
        </p:blipFill>
        <p:spPr>
          <a:xfrm>
            <a:off x="6610320" y="62064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image002"/>
          <p:cNvPicPr/>
          <p:nvPr/>
        </p:nvPicPr>
        <p:blipFill>
          <a:blip r:embed="rId3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95280" y="692280"/>
            <a:ext cx="82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 п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 кабин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6227640" y="364500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4941720"/>
            <a:ext cx="46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разрешени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учител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54936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ключай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MCj04040310000[1]"/>
          <p:cNvPicPr/>
          <p:nvPr/>
        </p:nvPicPr>
        <p:blipFill>
          <a:blip r:embed="rId1"/>
          <a:stretch/>
        </p:blipFill>
        <p:spPr>
          <a:xfrm>
            <a:off x="3132000" y="170028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mage002"/>
          <p:cNvPicPr/>
          <p:nvPr/>
        </p:nvPicPr>
        <p:blipFill>
          <a:blip r:embed="rId2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2"/>
          <p:cNvSpPr/>
          <p:nvPr/>
        </p:nvSpPr>
        <p:spPr>
          <a:xfrm>
            <a:off x="3276720" y="148428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971640" y="620640"/>
            <a:ext cx="752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ход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184464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в мокрой одеж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468360" y="33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 с грязным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66" name="Oval 15"/>
          <p:cNvSpPr/>
          <p:nvPr/>
        </p:nvSpPr>
        <p:spPr>
          <a:xfrm>
            <a:off x="1116000" y="414972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826920" y="3213000"/>
            <a:ext cx="71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1619280" y="3357720"/>
            <a:ext cx="71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1763640" y="422100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340000" y="335772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2340000" y="450864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324000" y="4437000"/>
            <a:ext cx="72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4.72222E-006 0.33333 E">
                                      <p:cBhvr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755640" y="7650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нос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0" y="2421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сторонние предм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7" descr="wpktfomi"/>
          <p:cNvPicPr/>
          <p:nvPr/>
        </p:nvPicPr>
        <p:blipFill>
          <a:blip r:embed="rId3"/>
          <a:stretch/>
        </p:blipFill>
        <p:spPr>
          <a:xfrm>
            <a:off x="4500720" y="5734080"/>
            <a:ext cx="144756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8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6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81" name="AutoShape 15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7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8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9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0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4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5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8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8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0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1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3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5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7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8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9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0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1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2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3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4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5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6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7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8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9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0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1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2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3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4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5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6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7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8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9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0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1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2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8"/>
          <p:cNvSpPr/>
          <p:nvPr/>
        </p:nvSpPr>
        <p:spPr>
          <a:xfrm>
            <a:off x="971640" y="76500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дотрагив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2060640"/>
            <a:ext cx="62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До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364000" y="292428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image002"/>
          <p:cNvPicPr/>
          <p:nvPr/>
        </p:nvPicPr>
        <p:blipFill>
          <a:blip r:embed="rId1"/>
          <a:stretch/>
        </p:blipFill>
        <p:spPr>
          <a:xfrm>
            <a:off x="7236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3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C -0.79114 -0.00903 -0.40469 0.05671 -0.64201 -0.02107 C -0.6533 -0.03079 -0.6658 -0.03773 -0.67882 -0.04213 C -0.68802 -0.05417 -0.68055 -0.04676 -0.69722 -0.05255 C -0.7 -0.05347 -0.70521 -0.05625 -0.70521 -0.05625 E">
                                      <p:cBhvr>
                                        <p:cTn id="18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144" name="AutoShape 12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9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1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"/>
          <p:cNvSpPr/>
          <p:nvPr/>
        </p:nvSpPr>
        <p:spPr>
          <a:xfrm>
            <a:off x="539640" y="6206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передвиг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042920" y="1916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 класс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979640" y="306864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во время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70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C -0.15538 0.01574 -0.31701 0.04282 -0.46858 -0.00718 C -0.4783 -0.01042 -0.4849 -0.01783 -0.49479 -0.02107 C -0.52379 -0.05973 -0.49288 -0.07315 -0.4658 -0.07385 C -0.35261 -0.07709 -0.23976 -0.07848 -0.12639 -0.08079 C -0.11858 -0.08334 -0.11024 -0.08403 -0.10278 -0.08773 C -0.09618 -0.09121 -0.09063 -0.09769 -0.0842 -0.10185 C -0.0816 -0.10533 -0.07813 -0.10787 -0.07639 -0.11227 C -0.07379 -0.11875 -0.07118 -0.13334 -0.07118 -0.13334 C -0.07379 -0.15209 -0.07535 -0.17107 -0.07899 -0.18959 C -0.08247 -0.20787 -0.09497 -0.21343 -0.10538 -0.22107 C -0.11094 -0.225 -0.11528 -0.23195 -0.12118 -0.23519 C -0.12604 -0.23797 -0.13177 -0.23704 -0.13698 -0.23866 C -0.1533 -0.24375 -0.16024 -0.24815 -0.17639 -0.25625 C -0.21858 -0.25394 -0.26129 -0.2588 -0.30295 -0.24931 C -0.31389 -0.24676 -0.32031 -0.23033 -0.32899 -0.22107 C -0.34549 -0.20348 -0.35625 -0.19051 -0.36858 -0.16852 C -0.37396 -0.1588 -0.39965 -0.10834 -0.40799 -0.09838 C -0.43316 -0.06806 -0.4592 -0.05371 -0.49219 -0.04931 C -0.50625 -0.05278 -0.52066 -0.05371 -0.5342 -0.05973 C -0.53733 -0.06111 -0.53837 -0.06644 -0.53958 -0.07037 C -0.55799 -0.13496 -0.52083 -0.0301 -0.55 -0.1088 C -0.5474 -0.13681 -0.54722 -0.16551 -0.54219 -0.19306 C -0.53889 -0.21088 -0.50174 -0.23635 -0.49479 -0.24213 C -0.48021 -0.25463 -0.46337 -0.25857 -0.4474 -0.26667 C -0.40365 -0.28889 -0.36215 -0.30417 -0.3158 -0.3088 C -0.25365 -0.32593 -0.25903 -0.32732 -0.15538 -0.3088 C -0.14601 -0.30718 -0.13976 -0.29422 -0.1316 -0.28773 C -0.11788 -0.27662 -0.08958 -0.25625 -0.08958 -0.25625 C -0.08611 -0.25047 -0.08299 -0.24398 -0.07899 -0.23866 C -0.075 -0.23334 -0.06945 -0.23033 -0.0658 -0.22454 C -0.06129 -0.21736 -0.05938 -0.20787 -0.05538 -0.2 C -0.02257 -0.13449 -0.06511 -0.22824 -0.03698 -0.16505 C -0.03229 -0.14329 -0.02656 -0.12408 -0.02379 -0.10185 C -0.02552 -0.08426 -0.02604 -0.06644 -0.02899 -0.04931 C -0.04288 0.03171 -0.11129 0.06805 -0.1658 0.07708 C -0.34774 0.05324 -0.25278 0.08935 -0.32379 0.04213 C -0.37309 0.00949 -0.32153 0.05139 -0.37118 2.96296E-006 C -0.38212 -0.01135 -0.40538 -0.03172 -0.40538 -0.03172 C -0.41372 -0.05162 -0.42031 -0.07176 -0.42899 -0.09121 C -0.42813 -0.10764 -0.42917 -0.12454 -0.42639 -0.14051 C -0.42118 -0.16945 -0.41302 -0.16412 -0.3974 -0.17894 C -0.3908 -0.18519 -0.38576 -0.19422 -0.37899 -0.2 C -0.34983 -0.22431 -0.31597 -0.22917 -0.2842 -0.24213 C -0.27326 -0.24653 -0.26372 -0.25533 -0.25278 -0.25973 C -0.24011 -0.26482 -0.22622 -0.26598 -0.2132 -0.27037 C -0.13316 -0.29699 -0.18368 -0.28658 -0.13698 -0.29491 C -0.11684 -0.30371 -0.09861 -0.31435 -0.07899 -0.32292 C -0.07292 -0.32176 -0.06649 -0.32199 -0.06059 -0.31945 C -0.05816 -0.31829 -0.05695 -0.31482 -0.05538 -0.31227 C -0.04115 -0.29028 -0.03594 -0.26968 -0.02899 -0.24213 C -0.02535 -0.19398 -0.02274 -0.17871 -0.0316 -0.11945 C -0.03351 -0.10648 -0.04063 -0.09607 -0.04479 -0.08426 C -0.07587 0.00416 -0.05625 -0.03889 -0.0842 0.01736 C -0.08594 0.02569 -0.08629 0.03472 -0.08958 0.04213 C -0.09184 0.04699 -0.09688 0.04838 -0.1 0.05254 C -0.10313 0.05671 -0.10469 0.06296 -0.10799 0.06666 C -0.11667 0.07639 -0.13195 0.07824 -0.14219 0.08055 C -0.18958 0.07477 -0.23854 0.08102 -0.2842 0.06296 C -0.29306 0.05949 -0.30174 0.05555 -0.31059 0.05254 C -0.32205 0.04861 -0.33351 0.04652 -0.34479 0.04213 C -0.38524 0.02662 -0.42379 0.0037 -0.4658 -0.00371 C -0.48715 -0.01297 -0.50695 -0.01898 -0.52899 -0.02454 C -0.53264 -0.02547 -0.53594 -0.02732 -0.53958 -0.02824 C -0.54826 -0.03079 -0.5658 -0.03519 -0.5658 -0.03519 C -0.58368 -0.04676 -0.60434 -0.05116 -0.62379 -0.05625 C -0.6408 -0.06065 -0.65712 -0.06736 -0.67379 -0.07385 C -0.71927 -0.07014 -0.70174 -0.07037 -0.72639 -0.07037 E">
                                      <p:cBhvr>
                                        <p:cTn id="217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0" y="76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Сиди на расстоян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50 - 70 см от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042920" y="321300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ff"/>
                </a:solidFill>
                <a:latin typeface="Arial"/>
              </a:rPr>
              <a:t>компьют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3"/>
          <p:cNvSpPr txBox="1"/>
          <p:nvPr/>
        </p:nvSpPr>
        <p:spPr>
          <a:xfrm>
            <a:off x="2627280" y="-1108080"/>
            <a:ext cx="1778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ст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C -0.13802 1.11022E-016 -0.27587 1.11022E-016 -0.41354 1.11022E-016 E">
                                      <p:cBhvr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C -0.00243 0.0699 -0.00295 0.12754 -0.01145 0.19259 C -0.01059 0.29745 -0.01597 0.41828 -0.00468 0.52708 C -0.00538 0.63981 -0.00694 0.86574 -0.00694 0.8662 E">
                                      <p:cBhvr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38:32Z</dcterms:created>
  <dc:creator>User</dc:creator>
  <dc:description/>
  <dc:language>en-US</dc:language>
  <cp:lastModifiedBy>Your User Name</cp:lastModifiedBy>
  <dcterms:modified xsi:type="dcterms:W3CDTF">2014-04-11T15:45:42Z</dcterms:modified>
  <cp:revision>11</cp:revision>
  <dc:subject/>
  <dc:title>Из чего состоит компьютер</dc:title>
</cp:coreProperties>
</file>