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029-F060-437C-9AD1-2408196D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36A-111A-4A42-884F-A60FDC3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207-A286-4A73-8465-364BA18D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CEF2-DC3B-48F9-88F0-DA6A6CBE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711-662E-487C-A603-130CB42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64C-7E4A-45E2-AE65-7193F6A6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6F7-98EE-4CB8-9985-C4317818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28A-A77D-4C87-801D-10D17832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60E-22FB-4191-B8EF-93C0D46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507-4D37-450A-B2E4-68C9738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B6A-DE71-4A8D-94C3-8479C23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C00-715F-4870-91B2-C7368EA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F5F-1C2D-4340-9531-73DC3B98E4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pskovfishing.ru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vasilich-k.narod.ru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33240" y="731880"/>
            <a:ext cx="778536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328760" y="2548080"/>
            <a:ext cx="656604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16 из 6823"/>
          <p:cNvPicPr/>
          <p:nvPr/>
        </p:nvPicPr>
        <p:blipFill>
          <a:blip r:embed="rId1"/>
          <a:stretch/>
        </p:blipFill>
        <p:spPr>
          <a:xfrm>
            <a:off x="34361280" y="-11572920"/>
            <a:ext cx="10587240" cy="793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ramina.ru/esmi3/img/admirk/go_4s/ice3_040210.jpg"/>
          <p:cNvPicPr/>
          <p:nvPr/>
        </p:nvPicPr>
        <p:blipFill>
          <a:blip r:embed="rId2"/>
          <a:stretch/>
        </p:blipFill>
        <p:spPr>
          <a:xfrm>
            <a:off x="4714920" y="3929040"/>
            <a:ext cx="4267080" cy="2571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С плаката Омского МЧС"/>
          <p:cNvPicPr/>
          <p:nvPr/>
        </p:nvPicPr>
        <p:blipFill>
          <a:blip r:embed="rId3"/>
          <a:stretch/>
        </p:blipFill>
        <p:spPr>
          <a:xfrm>
            <a:off x="285840" y="4643280"/>
            <a:ext cx="209556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С плаката Омского МЧС"/>
          <p:cNvPicPr/>
          <p:nvPr/>
        </p:nvPicPr>
        <p:blipFill>
          <a:blip r:embed="rId4"/>
          <a:stretch/>
        </p:blipFill>
        <p:spPr>
          <a:xfrm>
            <a:off x="142920" y="285840"/>
            <a:ext cx="3240000" cy="28573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3357720" y="7858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11.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В случае провала льда под ногам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адо действовать быстро и решительно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широко расставив  руки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, удержаться на поверхности льда ,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без резких движений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тараться выползти на твёрдый лёд, а затем , лёжа на спине или на груди 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двинуться в сторону , откуда пришел ,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овременно призывая на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285920" y="571680"/>
            <a:ext cx="72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Calibri"/>
              </a:rPr>
              <a:t>Зимние спасательны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286000" y="22748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1.Спасательная доска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доски – 5-8 метров, ширина - 120 см. На одном конце крепится петля, на другом - веревка длиной от 30 до 40 м. Спасатели на берегу привязывают к неподвижному предмету конец веревки, потом подползают по льду к пострадавшему и подают ему конец доски с петлей, помогая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://im0-tub-ru.yandex.net/i?id=248464013-69-72"/>
          <p:cNvPicPr/>
          <p:nvPr/>
        </p:nvPicPr>
        <p:blipFill>
          <a:blip r:embed="rId1"/>
          <a:stretch/>
        </p:blipFill>
        <p:spPr>
          <a:xfrm>
            <a:off x="357120" y="2643120"/>
            <a:ext cx="14288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im8-tub-ru.yandex.net/i?id=343844565-59-72"/>
          <p:cNvPicPr/>
          <p:nvPr/>
        </p:nvPicPr>
        <p:blipFill>
          <a:blip r:embed="rId2"/>
          <a:stretch/>
        </p:blipFill>
        <p:spPr>
          <a:xfrm>
            <a:off x="3143160" y="4929120"/>
            <a:ext cx="250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42960" y="364320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2.Спасательный шест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– 5-8 метров. К концу шеста крепится пеньковая капроновая веревка длиной 40 м. Спасатель привязывает на берегу веревку, приближается на безопасное для себя расстояние, подает пострадавшему шест, помогает выбраться из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im5-tub-ru.yandex.net/i?id=127936053-38-72"/>
          <p:cNvPicPr/>
          <p:nvPr/>
        </p:nvPicPr>
        <p:blipFill>
          <a:blip r:embed="rId1"/>
          <a:stretch/>
        </p:blipFill>
        <p:spPr>
          <a:xfrm>
            <a:off x="4071960" y="928800"/>
            <a:ext cx="3357720" cy="268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m5-tub-ru.yandex.net/i?id=94337681-30-72"/>
          <p:cNvPicPr/>
          <p:nvPr/>
        </p:nvPicPr>
        <p:blipFill>
          <a:blip r:embed="rId2"/>
          <a:stretch/>
        </p:blipFill>
        <p:spPr>
          <a:xfrm>
            <a:off x="1285920" y="0"/>
            <a:ext cx="31431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00120" y="350028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3.Спасательная веревка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ина – 25-30 м с большими, длиной до 70 см, петлями на обоих концах. Спасатель надевает на левую руку петлю, а правой берет другую петлю и, сделав два-три круговых размаха, бросает ее тонущему. Поймав петлю, тонущий надевает ее через голову под руку, после чего спасатель подтягивает его к бере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Изображение"/>
          <p:cNvPicPr/>
          <p:nvPr/>
        </p:nvPicPr>
        <p:blipFill>
          <a:blip r:embed="rId1"/>
          <a:stretch/>
        </p:blipFill>
        <p:spPr>
          <a:xfrm>
            <a:off x="4714920" y="57168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Изображение"/>
          <p:cNvPicPr/>
          <p:nvPr/>
        </p:nvPicPr>
        <p:blipFill>
          <a:blip r:embed="rId2"/>
          <a:stretch/>
        </p:blipFill>
        <p:spPr>
          <a:xfrm>
            <a:off x="6000840" y="3857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Изображение"/>
          <p:cNvPicPr/>
          <p:nvPr/>
        </p:nvPicPr>
        <p:blipFill>
          <a:blip r:embed="rId3"/>
          <a:stretch/>
        </p:blipFill>
        <p:spPr>
          <a:xfrm>
            <a:off x="642960" y="928800"/>
            <a:ext cx="3498840" cy="2404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2583360" y="307188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6084000" y="564372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236280" y="5796000"/>
            <a:ext cx="14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143160" y="29289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4.Спасательная лестниц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Длина – 3-6 м, ширина – 50-70 см. Изготавливается из ели, сосны или дюралюминиевых трубок с запаянными концами. Используется спасателями так же, как и спасательная доска. Во всех случаях желательно, чтобы спасатель предварительно подстраховал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http://im6-tub-ru.yandex.net/i?id=320680214-48-72"/>
          <p:cNvPicPr/>
          <p:nvPr/>
        </p:nvPicPr>
        <p:blipFill>
          <a:blip r:embed="rId1"/>
          <a:stretch/>
        </p:blipFill>
        <p:spPr>
          <a:xfrm>
            <a:off x="857160" y="0"/>
            <a:ext cx="2857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0" y="255096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.Подручные средства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В экстренных ситуациях для оказания помощи утопающему могут быть использованы подручные средства: бревна, шесты, лыжи, щиты, веревки, брючные ремни, личная одежда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Картинка 34 из 95"/>
          <p:cNvPicPr/>
          <p:nvPr/>
        </p:nvPicPr>
        <p:blipFill>
          <a:blip r:embed="rId1"/>
          <a:stretch/>
        </p:blipFill>
        <p:spPr>
          <a:xfrm>
            <a:off x="214200" y="357120"/>
            <a:ext cx="3438720" cy="211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Картинка 13 из 188"/>
          <p:cNvPicPr/>
          <p:nvPr/>
        </p:nvPicPr>
        <p:blipFill>
          <a:blip r:embed="rId2"/>
          <a:stretch/>
        </p:blipFill>
        <p:spPr>
          <a:xfrm>
            <a:off x="5000760" y="412596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gims27.narod.ru/foto_gal/MCHS-1.jpg"/>
          <p:cNvPicPr/>
          <p:nvPr/>
        </p:nvPicPr>
        <p:blipFill>
          <a:blip r:embed="rId1"/>
          <a:stretch/>
        </p:blipFill>
        <p:spPr>
          <a:xfrm>
            <a:off x="5072040" y="142920"/>
            <a:ext cx="4071960" cy="651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5072040" y="6286680"/>
            <a:ext cx="257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85840" y="214200"/>
            <a:ext cx="4572000" cy="916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амятка для обучающихся и их роди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по оказанию помощи пострадавшим, провалившимся под л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285840" y="1071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Полезные советы: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икогда не ступайт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 лед, если вы не убеждены, что он достаточно креп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мните, что лед крепче у берег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; его толщина уменьшается на большой глубине по мере удаления от берега, а также в тех местах, где есть растительность или быстрое т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репость льда зависи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кже от температуры воздуха. Днем он не такой прочный, как утром и вече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ередвигаясь по льду,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е темные пятна: здесь лед очень хрупк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о время движения по льду следует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ходить участки, покрытые толстым слоем снега, места, где быстрое течение, родники, выступают на поверхность кусты, трава, впадают в водоем ручьи и вливаются теплые сточные воды промышленных предприятий, ведется заготовка льда и т.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Calibri"/>
              </a:rPr>
              <a:t>Падение в полынью: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ет случиться так, что в этот момент поблизости никого не окажется и вам придется выбираться самостояте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аши действ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Не паникуйт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 Дышите как можно глубже и медленн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Делайте ногами непрерывные движения так, словно вы крутите педали велосип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Не пытайтесь сразу выбраться на лед. Вокруг полыньи лед очень хрупкий и не выдержит тяжести вашего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двигайтесь в ту сторону, откуда пришли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ли до ближайшего берега, кроша на своем пути ледяную кромку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. Как только лед перестанет ломаться под вашими ударами,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ложите руки на л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протянув их как можно дальше, и изо всех сил толкайтесь ногами, стараясь придать туловищу горизонтальное поло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. Не опирайтесь на лед всей тяжестью тела: он может снова провалиться, и вы с головой окунетесь в в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. 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Выбравшись на лед, распластайтесь на нем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ползите вперед, не пытаясь подняться на но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9. Ближе к берегу, где лед крепче, повернитесь на бок и перекатывайтесь в сторону бере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ыбравшись на берег, не останавливайтесь, чтобы не замерзнуть окончательно. Бегом добирайтесь до ближайшего теплого помещ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286000" y="185904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. Оценка обстановки и ее опасности для оказывающего помощ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2. Прекращение действия травмирующего фактора (извлечение пострадавшего из полыньи (проруби)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3. Оценка состояния пострадавш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4. Оказание медицин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5. Доставка пострадавшего в лечебное учреж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286000" y="3571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Первая помощь провалившемуся под лед включает следующие эта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138 из 7910"/>
          <p:cNvPicPr/>
          <p:nvPr/>
        </p:nvPicPr>
        <p:blipFill>
          <a:blip r:embed="rId1"/>
          <a:stretch/>
        </p:blipFill>
        <p:spPr>
          <a:xfrm>
            <a:off x="214200" y="5000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im0-tub-ru.yandex.net/i?id=270144732-01-72"/>
          <p:cNvPicPr/>
          <p:nvPr/>
        </p:nvPicPr>
        <p:blipFill>
          <a:blip r:embed="rId2"/>
          <a:stretch/>
        </p:blipFill>
        <p:spPr>
          <a:xfrm>
            <a:off x="5286240" y="4714920"/>
            <a:ext cx="28576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281160" y="963720"/>
            <a:ext cx="8508960" cy="1700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2583000" y="2928960"/>
            <a:ext cx="44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Использованы рисунки и фото с сайт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349800" y="32446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3149280" y="364320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pskovfishing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515320" y="407196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gims27.narod.ru/foto_gal/MCHS-1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school-1981.ru/pamyatki/ice1.jpg"/>
          <p:cNvPicPr/>
          <p:nvPr/>
        </p:nvPicPr>
        <p:blipFill>
          <a:blip r:embed="rId1"/>
          <a:stretch/>
        </p:blipFill>
        <p:spPr>
          <a:xfrm>
            <a:off x="5357880" y="1714680"/>
            <a:ext cx="3786120" cy="321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77280" y="285840"/>
            <a:ext cx="6564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1.Осенний лёд до насту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стойчивых морозов обычно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очен.Ещё быстрей ледяной покров разрушается вес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его подтачивает снизу усиливающее 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ереправляться по льду в это врем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ельзя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ходить по льду нужно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орудованным переправам, но если их 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 прежде, чем двигаться по льду,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бедиться в его про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chool-1981.ru/pamyatki/ice2.jpg"/>
          <p:cNvPicPr/>
          <p:nvPr/>
        </p:nvPicPr>
        <p:blipFill>
          <a:blip r:embed="rId1"/>
          <a:stretch/>
        </p:blipFill>
        <p:spPr>
          <a:xfrm>
            <a:off x="5786280" y="171468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3 из 98957"/>
          <p:cNvPicPr/>
          <p:nvPr/>
        </p:nvPicPr>
        <p:blipFill>
          <a:blip r:embed="rId2"/>
          <a:stretch/>
        </p:blipFill>
        <p:spPr>
          <a:xfrm>
            <a:off x="1357200" y="1357200"/>
            <a:ext cx="3000600" cy="1428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642960" y="428760"/>
            <a:ext cx="835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Безопасный переход по льду возможен при толщине льда не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7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прич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юди должны идти на расстоянии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5-6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метров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уг от друга. Такую же дистанцию надо соблюдать при встречном движ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.Если  собралась группа из 4-5 человек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едвигаться можно по льду, толщ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торого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не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&lt;15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см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Картинка 0 из 99762"/>
          <p:cNvPicPr/>
          <p:nvPr/>
        </p:nvPicPr>
        <p:blipFill>
          <a:blip r:embed="rId3"/>
          <a:stretch/>
        </p:blipFill>
        <p:spPr>
          <a:xfrm>
            <a:off x="3357720" y="450072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505320" y="621504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ages.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 flipV="1" rot="10800000">
            <a:off x="571680" y="398880"/>
            <a:ext cx="857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Во всех случаях, прежде чем сойти с берега на лёд, необходимо внимательно осмотреться, наметить маршрут движения , выбирая безопасные места. Лучше всего идти по проложенной тропе.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асно выходить на лёд при оттеп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ледует спускаться на лёд в незнакомых местах, особенно с обрывов.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Картинка 6 из 6823"/>
          <p:cNvPicPr/>
          <p:nvPr/>
        </p:nvPicPr>
        <p:blipFill>
          <a:blip r:embed="rId1"/>
          <a:stretch/>
        </p:blipFill>
        <p:spPr>
          <a:xfrm>
            <a:off x="1071720" y="214308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14200" y="142920"/>
            <a:ext cx="4857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ри движении по льду следует быть осторожным, внимательно следить за поверхностью льда, обходить опасные и подозрительные места.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 осторожным нужно быть в местах, где быстрое течение, вблизи выступающих на поверхность кустов, осоки, травы , где ручьи впадают в водоёмы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ят родники и вливаются тёплые сточные воды промышленных предприятий, где ведётся заготовка льда и т.п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Картинка 0 из 99762"/>
          <p:cNvPicPr/>
          <p:nvPr/>
        </p:nvPicPr>
        <p:blipFill>
          <a:blip r:embed="rId1"/>
          <a:stretch/>
        </p:blipFill>
        <p:spPr>
          <a:xfrm>
            <a:off x="5786280" y="4214880"/>
            <a:ext cx="2786400" cy="208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143000" y="4786200"/>
            <a:ext cx="4572000" cy="131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ее всего переходить по прозрачному с зеленоватым, голубоватым  оттенком льду толщиной не менее 7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im3-tub-ru.yandex.net/i?id=372709211-47-72"/>
          <p:cNvPicPr/>
          <p:nvPr/>
        </p:nvPicPr>
        <p:blipFill>
          <a:blip r:embed="rId2"/>
          <a:stretch/>
        </p:blipFill>
        <p:spPr>
          <a:xfrm>
            <a:off x="6072120" y="64296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642960" y="3643200"/>
            <a:ext cx="4572000" cy="916920"/>
          </a:xfrm>
          <a:prstGeom prst="rect">
            <a:avLst/>
          </a:prstGeom>
          <a:noFill/>
          <a:ln w="93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дует остерегаться площадок, покрытых толстым слоем снега - под снегом лёд всегда тоньше, чем на открытом мес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369800" y="714240"/>
            <a:ext cx="757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7.Проверять толщину льда ударом ног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атегорически запрещен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-Ударами можно проверять прочность льда лишь с помощ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шни или пал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- Если после первого удара лёд пробивается и на нём появля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да, нужно немедленно остановиться и идти обратно по сле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Первые шаги на обратном пути надо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е отрывая подошвы от льда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http://vasilich-k.narod.ru/prorub_f/2011potop/z70.jpg"/>
          <p:cNvPicPr/>
          <p:nvPr/>
        </p:nvPicPr>
        <p:blipFill>
          <a:blip r:embed="rId1"/>
          <a:stretch/>
        </p:blipFill>
        <p:spPr>
          <a:xfrm>
            <a:off x="785880" y="3071880"/>
            <a:ext cx="3720960" cy="3476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94520" y="62866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asilich-k.narod.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http://im3-tub-ru.yandex.net/i?id=529011379-11-72"/>
          <p:cNvPicPr/>
          <p:nvPr/>
        </p:nvPicPr>
        <p:blipFill>
          <a:blip r:embed="rId3"/>
          <a:stretch/>
        </p:blipFill>
        <p:spPr>
          <a:xfrm>
            <a:off x="214200" y="1000080"/>
            <a:ext cx="1152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857680" y="3214800"/>
            <a:ext cx="60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8. Пользоваться на водоемах площадками для катания на коньках разрешается после тщательной проверки прочности льда, толщина которого должна быть не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менее 12 см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массовом катании -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 менее 2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http://im2-tub-ru.yandex.net/i?id=184478308-42-72"/>
          <p:cNvPicPr/>
          <p:nvPr/>
        </p:nvPicPr>
        <p:blipFill>
          <a:blip r:embed="rId1"/>
          <a:stretch/>
        </p:blipFill>
        <p:spPr>
          <a:xfrm>
            <a:off x="142920" y="142920"/>
            <a:ext cx="414324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im6-tub-ru.yandex.net/i?id=19204738-02-16f-40542"/>
          <p:cNvPicPr/>
          <p:nvPr/>
        </p:nvPicPr>
        <p:blipFill>
          <a:blip r:embed="rId2"/>
          <a:stretch/>
        </p:blipFill>
        <p:spPr>
          <a:xfrm>
            <a:off x="6500880" y="4714920"/>
            <a:ext cx="1285920" cy="1722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85840" y="52149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пасно ходить и кататься на льду в ночное время и особенно в незнакомых места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57120" y="3429000"/>
            <a:ext cx="7358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9.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 переходе водоема по льду на лыжах рекомендуется пользоваться проложенной лыжней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а при ее отсутствии, прежде чем двигаться по целине,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следует отстегнуть крепление лыж и снять петли лыжных палок с кистей рук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Рюкзак или ранец необходимо взять на одно плеч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асстояние между лыжниками должно быть 5-6 метров.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 время движения лыжник, идущий первым, ударами палок проверяет прочность льда и следит за его состоя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im6-tub-ru.yandex.net/i?id=84976681-39-72"/>
          <p:cNvPicPr/>
          <p:nvPr/>
        </p:nvPicPr>
        <p:blipFill>
          <a:blip r:embed="rId1"/>
          <a:stretch/>
        </p:blipFill>
        <p:spPr>
          <a:xfrm>
            <a:off x="1357200" y="285840"/>
            <a:ext cx="48578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im7-tub-ru.yandex.net/i?id=92290344-15-72"/>
          <p:cNvPicPr/>
          <p:nvPr/>
        </p:nvPicPr>
        <p:blipFill>
          <a:blip r:embed="rId1"/>
          <a:stretch/>
        </p:blipFill>
        <p:spPr>
          <a:xfrm>
            <a:off x="142920" y="357120"/>
            <a:ext cx="3214800" cy="28782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714680" y="2928960"/>
            <a:ext cx="157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3571920" y="714240"/>
            <a:ext cx="507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.Во время подледного лова рыбы нельзя пробивать много лунок на ограниченной площади и собираться большими групп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285840" y="42148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ому рыболову рекомендуется иметь спасательное средство в виде шнура длиной 12- 15 метров, на одном конце которого должен быть закреплен груз весом 400-500 граммов, а на другом - изготовлена пет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http://im7-tub-ru.yandex.net/i?id=300760479-51-72"/>
          <p:cNvPicPr/>
          <p:nvPr/>
        </p:nvPicPr>
        <p:blipFill>
          <a:blip r:embed="rId3"/>
          <a:stretch/>
        </p:blipFill>
        <p:spPr>
          <a:xfrm>
            <a:off x="5643720" y="2622600"/>
            <a:ext cx="2571480" cy="273528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7"/>
          <p:cNvCxnSpPr/>
          <p:nvPr/>
        </p:nvCxnSpPr>
        <p:spPr>
          <a:xfrm flipV="1">
            <a:off x="4929120" y="3928320"/>
            <a:ext cx="121536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73" name="Picture 8" descr="http://im3-tub-ru.yandex.net/i?id=61255261-26-72"/>
          <p:cNvPicPr/>
          <p:nvPr/>
        </p:nvPicPr>
        <p:blipFill>
          <a:blip r:embed="rId4"/>
          <a:stretch/>
        </p:blipFill>
        <p:spPr>
          <a:xfrm>
            <a:off x="3214800" y="2149560"/>
            <a:ext cx="2428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4:44:30Z</dcterms:created>
  <dc:creator>Попов А. С.</dc:creator>
  <dc:description/>
  <dc:language>en-US</dc:language>
  <cp:lastModifiedBy>Олег</cp:lastModifiedBy>
  <dcterms:modified xsi:type="dcterms:W3CDTF">2011-12-19T19:01:13Z</dcterms:modified>
  <cp:revision>56</cp:revision>
  <dc:subject/>
  <dc:title>ПАМЯТКА</dc:title>
</cp:coreProperties>
</file>