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941F-D2F6-41BB-8562-E44EFFC8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127A-08BA-4714-BD17-BF01FBA2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1CB2-28C3-4990-9B42-3E25AE58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26DB-E5AD-4D3D-A43D-318FE521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F34C-7BE7-42AC-AED6-F19EC463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A17B-78C6-4051-B389-A0C845A1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E869-CC6F-4CFB-BC91-E5321236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5CDE-E956-49A2-B4F2-253FDA6B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65E8-E5E4-40A0-8F89-029971C8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3046-C503-42CE-8B24-1EBF0F45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5568-66B2-4251-B1C7-474D0A8D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11E6-3E08-410F-AB56-07B779EA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008D-FA9B-4501-95F7-815AB189674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hyperlink" Target="http://www.pskovfishing.ru/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images.yandex.ru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vasilich-k.narod.ru/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images.yandex.ru/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33240" y="731880"/>
            <a:ext cx="7785360" cy="160344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2" descr=""/>
          <p:cNvPicPr/>
          <p:nvPr/>
        </p:nvPicPr>
        <p:blipFill>
          <a:blip r:embed="rId2"/>
          <a:stretch/>
        </p:blipFill>
        <p:spPr>
          <a:xfrm>
            <a:off x="1328760" y="2548080"/>
            <a:ext cx="656604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Картинка 16 из 6823"/>
          <p:cNvPicPr/>
          <p:nvPr/>
        </p:nvPicPr>
        <p:blipFill>
          <a:blip r:embed="rId1"/>
          <a:stretch/>
        </p:blipFill>
        <p:spPr>
          <a:xfrm>
            <a:off x="34361280" y="-11572920"/>
            <a:ext cx="10587240" cy="793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http://ramina.ru/esmi3/img/admirk/go_4s/ice3_040210.jpg"/>
          <p:cNvPicPr/>
          <p:nvPr/>
        </p:nvPicPr>
        <p:blipFill>
          <a:blip r:embed="rId2"/>
          <a:stretch/>
        </p:blipFill>
        <p:spPr>
          <a:xfrm>
            <a:off x="4714920" y="3929040"/>
            <a:ext cx="4267080" cy="2571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С плаката Омского МЧС"/>
          <p:cNvPicPr/>
          <p:nvPr/>
        </p:nvPicPr>
        <p:blipFill>
          <a:blip r:embed="rId3"/>
          <a:stretch/>
        </p:blipFill>
        <p:spPr>
          <a:xfrm>
            <a:off x="285840" y="4643280"/>
            <a:ext cx="2095560" cy="1847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С плаката Омского МЧС"/>
          <p:cNvPicPr/>
          <p:nvPr/>
        </p:nvPicPr>
        <p:blipFill>
          <a:blip r:embed="rId4"/>
          <a:stretch/>
        </p:blipFill>
        <p:spPr>
          <a:xfrm>
            <a:off x="142920" y="285840"/>
            <a:ext cx="3240000" cy="28573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6"/>
          <p:cNvSpPr/>
          <p:nvPr/>
        </p:nvSpPr>
        <p:spPr>
          <a:xfrm>
            <a:off x="3357720" y="78588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11.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В случае провала льда под ногами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надо действовать быстро и решительно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-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Calibri"/>
              </a:rPr>
              <a:t>широко расставив  руки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, удержаться на поверхности льда ,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Calibri"/>
              </a:rPr>
              <a:t>без резких движений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стараться выползти на твёрдый лёд, а затем , лёжа на спине или на груди ,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родвинуться в сторону , откуда пришел ,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дновременно призывая на помощ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285920" y="571680"/>
            <a:ext cx="72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Calibri"/>
              </a:rPr>
              <a:t>Зимние спасательные сред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2286000" y="22748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1.Спасательная доска.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лина доски – 5-8 метров, ширина - 120 см. На одном конце крепится петля, на другом - веревка длиной от 30 до 40 м. Спасатели на берегу привязывают к неподвижному предмету конец веревки, потом подползают по льду к пострадавшему и подают ему конец доски с петлей, помогая выбраться из в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http://im0-tub-ru.yandex.net/i?id=248464013-69-72"/>
          <p:cNvPicPr/>
          <p:nvPr/>
        </p:nvPicPr>
        <p:blipFill>
          <a:blip r:embed="rId1"/>
          <a:stretch/>
        </p:blipFill>
        <p:spPr>
          <a:xfrm>
            <a:off x="357120" y="2643120"/>
            <a:ext cx="1428840" cy="1152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im8-tub-ru.yandex.net/i?id=343844565-59-72"/>
          <p:cNvPicPr/>
          <p:nvPr/>
        </p:nvPicPr>
        <p:blipFill>
          <a:blip r:embed="rId2"/>
          <a:stretch/>
        </p:blipFill>
        <p:spPr>
          <a:xfrm>
            <a:off x="3143160" y="4929120"/>
            <a:ext cx="25005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642960" y="3643200"/>
            <a:ext cx="557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2.Спасательный шест.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лина – 5-8 метров. К концу шеста крепится пеньковая капроновая веревка длиной 40 м. Спасатель привязывает на берегу веревку, приближается на безопасное для себя расстояние, подает пострадавшему шест, помогает выбраться из в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http://im5-tub-ru.yandex.net/i?id=127936053-38-72"/>
          <p:cNvPicPr/>
          <p:nvPr/>
        </p:nvPicPr>
        <p:blipFill>
          <a:blip r:embed="rId1"/>
          <a:stretch/>
        </p:blipFill>
        <p:spPr>
          <a:xfrm>
            <a:off x="4071960" y="928800"/>
            <a:ext cx="3357720" cy="2685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://im5-tub-ru.yandex.net/i?id=94337681-30-72"/>
          <p:cNvPicPr/>
          <p:nvPr/>
        </p:nvPicPr>
        <p:blipFill>
          <a:blip r:embed="rId2"/>
          <a:stretch/>
        </p:blipFill>
        <p:spPr>
          <a:xfrm>
            <a:off x="1285920" y="0"/>
            <a:ext cx="314316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1500120" y="3500280"/>
            <a:ext cx="4572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3.Спасательная веревка.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Длина – 25-30 м с большими, длиной до 70 см, петлями на обоих концах. Спасатель надевает на левую руку петлю, а правой берет другую петлю и, сделав два-три круговых размаха, бросает ее тонущему. Поймав петлю, тонущий надевает ее через голову под руку, после чего спасатель подтягивает его к берег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Изображение"/>
          <p:cNvPicPr/>
          <p:nvPr/>
        </p:nvPicPr>
        <p:blipFill>
          <a:blip r:embed="rId1"/>
          <a:stretch/>
        </p:blipFill>
        <p:spPr>
          <a:xfrm>
            <a:off x="4714920" y="571680"/>
            <a:ext cx="3809880" cy="2590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Изображение"/>
          <p:cNvPicPr/>
          <p:nvPr/>
        </p:nvPicPr>
        <p:blipFill>
          <a:blip r:embed="rId2"/>
          <a:stretch/>
        </p:blipFill>
        <p:spPr>
          <a:xfrm>
            <a:off x="6000840" y="385776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Изображение"/>
          <p:cNvPicPr/>
          <p:nvPr/>
        </p:nvPicPr>
        <p:blipFill>
          <a:blip r:embed="rId3"/>
          <a:stretch/>
        </p:blipFill>
        <p:spPr>
          <a:xfrm>
            <a:off x="642960" y="928800"/>
            <a:ext cx="3498840" cy="24048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5"/>
          <p:cNvSpPr/>
          <p:nvPr/>
        </p:nvSpPr>
        <p:spPr>
          <a:xfrm>
            <a:off x="2583360" y="3071880"/>
            <a:ext cx="14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pskovfishing.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6084000" y="5643720"/>
            <a:ext cx="14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http://www.pskovfishing.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6236280" y="5796000"/>
            <a:ext cx="14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http://www.pskovfishing.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3143160" y="292896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4.Спасательная лестница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. Длина – 3-6 м, ширина – 50-70 см. Изготавливается из ели, сосны или дюралюминиевых трубок с запаянными концами. Используется спасателями так же, как и спасательная доска. Во всех случаях желательно, чтобы спасатель предварительно подстраховал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http://im6-tub-ru.yandex.net/i?id=320680214-48-72"/>
          <p:cNvPicPr/>
          <p:nvPr/>
        </p:nvPicPr>
        <p:blipFill>
          <a:blip r:embed="rId1"/>
          <a:stretch/>
        </p:blipFill>
        <p:spPr>
          <a:xfrm>
            <a:off x="857160" y="0"/>
            <a:ext cx="28576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2286000" y="255096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5.Подручные средства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В экстренных ситуациях для оказания помощи утопающему могут быть использованы подручные средства: бревна, шесты, лыжи, щиты, веревки, брючные ремни, личная одежда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Картинка 34 из 95"/>
          <p:cNvPicPr/>
          <p:nvPr/>
        </p:nvPicPr>
        <p:blipFill>
          <a:blip r:embed="rId1"/>
          <a:stretch/>
        </p:blipFill>
        <p:spPr>
          <a:xfrm>
            <a:off x="214200" y="357120"/>
            <a:ext cx="3438720" cy="2114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Картинка 13 из 188"/>
          <p:cNvPicPr/>
          <p:nvPr/>
        </p:nvPicPr>
        <p:blipFill>
          <a:blip r:embed="rId2"/>
          <a:stretch/>
        </p:blipFill>
        <p:spPr>
          <a:xfrm>
            <a:off x="5000760" y="4125960"/>
            <a:ext cx="36432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gims27.narod.ru/foto_gal/MCHS-1.jpg"/>
          <p:cNvPicPr/>
          <p:nvPr/>
        </p:nvPicPr>
        <p:blipFill>
          <a:blip r:embed="rId1"/>
          <a:stretch/>
        </p:blipFill>
        <p:spPr>
          <a:xfrm>
            <a:off x="5072040" y="142920"/>
            <a:ext cx="4071960" cy="651492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5072040" y="6286680"/>
            <a:ext cx="257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http://gims27.narod.ru/foto_gal/MCHS-1.jp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285840" y="214200"/>
            <a:ext cx="4572000" cy="9169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Памятка для обучающихся и их родител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по оказанию помощи пострадавшим, провалившимся под ле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285840" y="107172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Полезные советы: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Никогда не ступайте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 лед, если вы не убеждены, что он достаточно крепо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Помните, что лед крепче у берег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; его толщина уменьшается на большой глубине по мере удаления от берега, а также в тех местах, где есть растительность или быстрое теч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Крепость льда зависит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акже от температуры воздуха. Днем он не такой прочный, как утром и вече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Передвигаясь по льду,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ходите темные пятна: здесь лед очень хрупк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Во время движения по льду следует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ходить участки, покрытые толстым слоем снега, места, где быстрое течение, родники, выступают на поверхность кусты, трава, впадают в водоем ручьи и вливаются теплые сточные воды промышленных предприятий, ведется заготовка льда и т.п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0" y="14292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00"/>
                </a:solidFill>
                <a:uFillTx/>
                <a:latin typeface="Calibri"/>
              </a:rPr>
              <a:t>Падение в полынью: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ожет случиться так, что в этот момент поблизости никого не окажется и вам придется выбираться самостоятельн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Ваши действия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Не паникуйте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 Дышите как можно глубже и медленне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. Делайте ногами непрерывные движения так, словно вы крутите педали велосипе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. Не пытайтесь сразу выбраться на лед. Вокруг полыньи лед очень хрупкий и не выдержит тяжести вашего те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Продвигайтесь в ту сторону, откуда пришли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ли до ближайшего берега, кроша на своем пути ледяную кромку ру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. Как только лед перестанет ломаться под вашими ударами,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положите руки на лед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, протянув их как можно дальше, и изо всех сил толкайтесь ногами, стараясь придать туловищу горизонтальное полож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6. Не опирайтесь на лед всей тяжестью тела: он может снова провалиться, и вы с головой окунетесь в во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7. Постарайтесь добиться того, чтобы ваше тело оказалось вровень со льдом. После этого наползайте на лед, продолжая отталкиваться ногами и помогая себе рук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8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Выбравшись на лед, распластайтесь на нем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ползите вперед, не пытаясь подняться на ног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9. Ближе к берегу, где лед крепче, повернитесь на бок и перекатывайтесь в сторону берег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0.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Выбравшись на берег, не останавливайтесь, чтобы не замерзнуть окончательно. Бегом добирайтесь до ближайшего теплого помещ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2286000" y="185904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1. Оценка обстановки и ее опасности для оказывающего помощ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2. Прекращение действия травмирующего фактора (извлечение пострадавшего из полыньи (проруби)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3. Оценка состояния пострадавше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4. Оказание медицинской помощ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5. Доставка пострадавшего в лечебное учреж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2"/>
          <p:cNvSpPr/>
          <p:nvPr/>
        </p:nvSpPr>
        <p:spPr>
          <a:xfrm>
            <a:off x="2286000" y="3571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Первая помощь провалившемуся под лед включает следующие этап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Картинка 138 из 7910"/>
          <p:cNvPicPr/>
          <p:nvPr/>
        </p:nvPicPr>
        <p:blipFill>
          <a:blip r:embed="rId1"/>
          <a:stretch/>
        </p:blipFill>
        <p:spPr>
          <a:xfrm>
            <a:off x="214200" y="500040"/>
            <a:ext cx="2143080" cy="1500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://im0-tub-ru.yandex.net/i?id=270144732-01-72"/>
          <p:cNvPicPr/>
          <p:nvPr/>
        </p:nvPicPr>
        <p:blipFill>
          <a:blip r:embed="rId2"/>
          <a:stretch/>
        </p:blipFill>
        <p:spPr>
          <a:xfrm>
            <a:off x="5286240" y="4714920"/>
            <a:ext cx="285768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2" descr=""/>
          <p:cNvPicPr/>
          <p:nvPr/>
        </p:nvPicPr>
        <p:blipFill>
          <a:blip r:embed="rId1"/>
          <a:stretch/>
        </p:blipFill>
        <p:spPr>
          <a:xfrm>
            <a:off x="281160" y="963720"/>
            <a:ext cx="8508960" cy="17002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"/>
          <p:cNvSpPr/>
          <p:nvPr/>
        </p:nvSpPr>
        <p:spPr>
          <a:xfrm>
            <a:off x="2583000" y="2928960"/>
            <a:ext cx="44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Использованы рисунки и фото с сайт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3349800" y="3244680"/>
            <a:ext cx="24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images.yandex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3149280" y="364320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pskovfishing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2515320" y="4071960"/>
            <a:ext cx="43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gims27.narod.ru/foto_gal/MCHS-1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school-1981.ru/pamyatki/ice1.jpg"/>
          <p:cNvPicPr/>
          <p:nvPr/>
        </p:nvPicPr>
        <p:blipFill>
          <a:blip r:embed="rId1"/>
          <a:stretch/>
        </p:blipFill>
        <p:spPr>
          <a:xfrm>
            <a:off x="5357880" y="1714680"/>
            <a:ext cx="3786120" cy="321444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377280" y="285840"/>
            <a:ext cx="6564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1.Осенний лёд до наступ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устойчивых морозов обычно 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прочен.Ещё быстрей ледяной покров разрушается вес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его подтачивает снизу усиливающее теч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Переправляться по льду в это врем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нельзя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ереходить по льду нужно п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борудованным переправам, но если их не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о прежде, чем двигаться по льду, над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бедиться в его проч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school-1981.ru/pamyatki/ice2.jpg"/>
          <p:cNvPicPr/>
          <p:nvPr/>
        </p:nvPicPr>
        <p:blipFill>
          <a:blip r:embed="rId1"/>
          <a:stretch/>
        </p:blipFill>
        <p:spPr>
          <a:xfrm>
            <a:off x="5786280" y="1714680"/>
            <a:ext cx="2381400" cy="1533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Картинка 3 из 98957"/>
          <p:cNvPicPr/>
          <p:nvPr/>
        </p:nvPicPr>
        <p:blipFill>
          <a:blip r:embed="rId2"/>
          <a:stretch/>
        </p:blipFill>
        <p:spPr>
          <a:xfrm>
            <a:off x="1357200" y="1357200"/>
            <a:ext cx="3000600" cy="142884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642960" y="428760"/>
            <a:ext cx="8358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.Безопасный переход по льду возможен при толщине льда не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&lt;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7см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,причё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юди должны идти на расстоянии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5-6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метров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руг от друга. Такую же дистанцию надо соблюдать при встречном движе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.Если  собралась группа из 4-5 человек, 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ередвигаться можно по льду, толщ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торого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не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&lt;15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см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6" descr="Картинка 0 из 99762"/>
          <p:cNvPicPr/>
          <p:nvPr/>
        </p:nvPicPr>
        <p:blipFill>
          <a:blip r:embed="rId3"/>
          <a:stretch/>
        </p:blipFill>
        <p:spPr>
          <a:xfrm>
            <a:off x="3357720" y="4500720"/>
            <a:ext cx="2786040" cy="20890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3505320" y="6215040"/>
            <a:ext cx="24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images.yandex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 flipV="1" rot="10800000">
            <a:off x="571680" y="398880"/>
            <a:ext cx="8572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о всех случаях, прежде чем сойти с берега на лёд, необходимо внимательно осмотреться, наметить маршрут движения , выбирая безопасные места. Лучше всего идти по проложенной тропе.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асно выходить на лёд при оттепе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следует спускаться на лёд в незнакомых местах, особенно с обрывов.   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Картинка 6 из 6823"/>
          <p:cNvPicPr/>
          <p:nvPr/>
        </p:nvPicPr>
        <p:blipFill>
          <a:blip r:embed="rId1"/>
          <a:stretch/>
        </p:blipFill>
        <p:spPr>
          <a:xfrm>
            <a:off x="1071720" y="2143080"/>
            <a:ext cx="7500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214200" y="142920"/>
            <a:ext cx="4857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При движении по льду следует быть осторожным, внимательно следить за поверхностью льда, обходить опасные и подозрительные места.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 осторожным нужно быть в местах, где быстрое течение, вблизи выступающих на поверхность кустов, осоки, травы , где ручьи впадают в водоёмы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ходят родники и вливаются тёплые сточные воды промышленных предприятий, где ведётся заготовка льда и т.п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6" descr="Картинка 0 из 99762"/>
          <p:cNvPicPr/>
          <p:nvPr/>
        </p:nvPicPr>
        <p:blipFill>
          <a:blip r:embed="rId1"/>
          <a:stretch/>
        </p:blipFill>
        <p:spPr>
          <a:xfrm>
            <a:off x="5786280" y="4214880"/>
            <a:ext cx="2786400" cy="208908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1143000" y="4786200"/>
            <a:ext cx="4572000" cy="1313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ее всего переходить по прозрачному с зеленоватым, голубоватым  оттенком льду толщиной не менее 7 с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http://im3-tub-ru.yandex.net/i?id=372709211-47-72"/>
          <p:cNvPicPr/>
          <p:nvPr/>
        </p:nvPicPr>
        <p:blipFill>
          <a:blip r:embed="rId2"/>
          <a:stretch/>
        </p:blipFill>
        <p:spPr>
          <a:xfrm>
            <a:off x="6072120" y="642960"/>
            <a:ext cx="2786040" cy="27860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6"/>
          <p:cNvSpPr/>
          <p:nvPr/>
        </p:nvSpPr>
        <p:spPr>
          <a:xfrm>
            <a:off x="642960" y="3643200"/>
            <a:ext cx="4572000" cy="916920"/>
          </a:xfrm>
          <a:prstGeom prst="rect">
            <a:avLst/>
          </a:prstGeom>
          <a:noFill/>
          <a:ln w="93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едует остерегаться площадок, покрытых толстым слоем снега - под снегом лёд всегда тоньше, чем на открытом мест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1369800" y="714240"/>
            <a:ext cx="7572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7.Проверять толщину льда ударом ноги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категорически запрещено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-Ударами можно проверять прочность льда лишь с помощ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пешни или пал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Если после первого удара лёд пробивается и на нём появля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ода, нужно немедленно остановиться и идти обратно по след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ервые шаги на обратном пути надо дел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не отрывая подошвы от льда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http://vasilich-k.narod.ru/prorub_f/2011potop/z70.jpg"/>
          <p:cNvPicPr/>
          <p:nvPr/>
        </p:nvPicPr>
        <p:blipFill>
          <a:blip r:embed="rId1"/>
          <a:stretch/>
        </p:blipFill>
        <p:spPr>
          <a:xfrm>
            <a:off x="785880" y="3071880"/>
            <a:ext cx="3720960" cy="34765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794520" y="6286680"/>
            <a:ext cx="14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vasilich-k.narod.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6" descr="http://im3-tub-ru.yandex.net/i?id=529011379-11-72"/>
          <p:cNvPicPr/>
          <p:nvPr/>
        </p:nvPicPr>
        <p:blipFill>
          <a:blip r:embed="rId3"/>
          <a:stretch/>
        </p:blipFill>
        <p:spPr>
          <a:xfrm>
            <a:off x="214200" y="1000080"/>
            <a:ext cx="11527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857680" y="3214800"/>
            <a:ext cx="6072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8. Пользоваться на водоемах площадками для катания на коньках разрешается после тщательной проверки прочности льда, толщина которого должна быть не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менее 12 см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а при массовом катании -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не менее 25 с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http://im2-tub-ru.yandex.net/i?id=184478308-42-72"/>
          <p:cNvPicPr/>
          <p:nvPr/>
        </p:nvPicPr>
        <p:blipFill>
          <a:blip r:embed="rId1"/>
          <a:stretch/>
        </p:blipFill>
        <p:spPr>
          <a:xfrm>
            <a:off x="142920" y="142920"/>
            <a:ext cx="4143240" cy="2979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im6-tub-ru.yandex.net/i?id=19204738-02-16f-40542"/>
          <p:cNvPicPr/>
          <p:nvPr/>
        </p:nvPicPr>
        <p:blipFill>
          <a:blip r:embed="rId2"/>
          <a:stretch/>
        </p:blipFill>
        <p:spPr>
          <a:xfrm>
            <a:off x="6500880" y="4714920"/>
            <a:ext cx="1285920" cy="17222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285840" y="521496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Опасно ходить и кататься на льду в ночное время и особенно в незнакомых местах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357120" y="3429000"/>
            <a:ext cx="7358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9.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При переходе водоема по льду на лыжах рекомендуется пользоваться проложенной лыжней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а при ее отсутствии, прежде чем двигаться по целине,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следует отстегнуть крепление лыж и снять петли лыжных палок с кистей рук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Рюкзак или ранец необходимо взять на одно плеч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Расстояние между лыжниками должно быть 5-6 метров.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о время движения лыжник, идущий первым, ударами палок проверяет прочность льда и следит за его состоян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http://im6-tub-ru.yandex.net/i?id=84976681-39-72"/>
          <p:cNvPicPr/>
          <p:nvPr/>
        </p:nvPicPr>
        <p:blipFill>
          <a:blip r:embed="rId1"/>
          <a:stretch/>
        </p:blipFill>
        <p:spPr>
          <a:xfrm>
            <a:off x="1357200" y="285840"/>
            <a:ext cx="485784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im7-tub-ru.yandex.net/i?id=92290344-15-72"/>
          <p:cNvPicPr/>
          <p:nvPr/>
        </p:nvPicPr>
        <p:blipFill>
          <a:blip r:embed="rId1"/>
          <a:stretch/>
        </p:blipFill>
        <p:spPr>
          <a:xfrm>
            <a:off x="142920" y="357120"/>
            <a:ext cx="3214800" cy="28782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>
            <a:off x="1714680" y="2928960"/>
            <a:ext cx="1579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images.yandex.ru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3571920" y="714240"/>
            <a:ext cx="5072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0.Во время подледного лова рыбы нельзя пробивать много лунок на ограниченной площади и собираться большими групп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285840" y="42148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ому рыболову рекомендуется иметь спасательное средство в виде шнура длиной 12- 15 метров, на одном конце которого должен быть закреплен груз весом 400-500 граммов, а на другом - изготовлена пет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4" descr="http://im7-tub-ru.yandex.net/i?id=300760479-51-72"/>
          <p:cNvPicPr/>
          <p:nvPr/>
        </p:nvPicPr>
        <p:blipFill>
          <a:blip r:embed="rId3"/>
          <a:stretch/>
        </p:blipFill>
        <p:spPr>
          <a:xfrm>
            <a:off x="5643720" y="2622600"/>
            <a:ext cx="2571480" cy="2735280"/>
          </a:xfrm>
          <a:prstGeom prst="rect">
            <a:avLst/>
          </a:prstGeom>
          <a:ln w="0">
            <a:noFill/>
          </a:ln>
        </p:spPr>
      </p:pic>
      <p:cxnSp>
        <p:nvCxnSpPr>
          <p:cNvPr id="72" name="Прямая со стрелкой 7"/>
          <p:cNvCxnSpPr/>
          <p:nvPr/>
        </p:nvCxnSpPr>
        <p:spPr>
          <a:xfrm flipV="1">
            <a:off x="4929120" y="3928320"/>
            <a:ext cx="1215360" cy="5007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pic>
        <p:nvPicPr>
          <p:cNvPr id="73" name="Picture 8" descr="http://im3-tub-ru.yandex.net/i?id=61255261-26-72"/>
          <p:cNvPicPr/>
          <p:nvPr/>
        </p:nvPicPr>
        <p:blipFill>
          <a:blip r:embed="rId4"/>
          <a:stretch/>
        </p:blipFill>
        <p:spPr>
          <a:xfrm>
            <a:off x="3214800" y="2149560"/>
            <a:ext cx="24289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4:44:30Z</dcterms:created>
  <dc:creator>Попов А. С.</dc:creator>
  <dc:description/>
  <dc:language>en-US</dc:language>
  <cp:lastModifiedBy>Олег</cp:lastModifiedBy>
  <dcterms:modified xsi:type="dcterms:W3CDTF">2011-12-19T19:01:13Z</dcterms:modified>
  <cp:revision>56</cp:revision>
  <dc:subject/>
  <dc:title>ПАМЯТКА</dc:title>
</cp:coreProperties>
</file>