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6B36-0E97-4EA9-B166-494ACDABE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4EDC-A2A0-4FD1-AB71-B538DD45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DB27-C71C-4318-8062-6C09C2B27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A7DF-5A6F-4EA1-80F7-6ECFFDE49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AA6F-42C3-463C-AA8B-0D639D6E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7719-A8A3-4D3F-9D6A-F4D1AD1E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4C9E-6169-42D2-A520-847E6CA1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0576-028D-4161-9F08-1AF818EB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FB31-5144-4035-A1BD-0A42D228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1CB6-DB88-4BD7-8C96-C23E689D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0D9F-6213-4C2D-981C-62B62CD9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A585-AB91-4BC6-A415-AE781ABD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676B-C57C-4E89-A561-0C2C8B9EC4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vtule.ru/events/arc/year2009/month4/p6/" TargetMode="External"/><Relationship Id="rId3" Type="http://schemas.openxmlformats.org/officeDocument/2006/relationships/hyperlink" Target="http://holzori.ru/obshestvo/trevozhnye-zvonki-20-10-2011.html" TargetMode="External"/><Relationship Id="rId4" Type="http://schemas.openxmlformats.org/officeDocument/2006/relationships/hyperlink" Target="http://ar00t.bestpersons.ru/feed/post29305098/" TargetMode="External"/><Relationship Id="rId5" Type="http://schemas.openxmlformats.org/officeDocument/2006/relationships/hyperlink" Target="http://polemika.com.ua/news-73407.html" TargetMode="External"/><Relationship Id="rId6" Type="http://schemas.openxmlformats.org/officeDocument/2006/relationships/hyperlink" Target="http://www.liveinternet.ru/users/sovuchka/post199342814/" TargetMode="External"/><Relationship Id="rId7" Type="http://schemas.openxmlformats.org/officeDocument/2006/relationships/hyperlink" Target="http://novostey.com/auto/news266919.html" TargetMode="External"/><Relationship Id="rId8" Type="http://schemas.openxmlformats.org/officeDocument/2006/relationships/hyperlink" Target="http://www.saratovnews.ru/category/proisshestviya/?page=92" TargetMode="External"/><Relationship Id="rId9" Type="http://schemas.openxmlformats.org/officeDocument/2006/relationships/hyperlink" Target="http://www.saratovnews.ru/category/proisshestviya/?page=92" TargetMode="External"/><Relationship Id="rId10" Type="http://schemas.openxmlformats.org/officeDocument/2006/relationships/hyperlink" Target="http://www.saratovnews.ru/category/proisshestviya/?page=92" TargetMode="External"/><Relationship Id="rId11" Type="http://schemas.openxmlformats.org/officeDocument/2006/relationships/hyperlink" Target="http://terijoki.spb.ru/railway/rw_ozhdnews.php?item=8" TargetMode="External"/><Relationship Id="rId12" Type="http://schemas.openxmlformats.org/officeDocument/2006/relationships/hyperlink" Target="http://terijoki.spb.ru/railway/rw_ozhdnews.php?item=8" TargetMode="External"/><Relationship Id="rId13" Type="http://schemas.openxmlformats.org/officeDocument/2006/relationships/hyperlink" Target="http://terijoki.spb.ru/railway/rw_ozhdnews.php?item=8" TargetMode="External"/><Relationship Id="rId14" Type="http://schemas.openxmlformats.org/officeDocument/2006/relationships/hyperlink" Target="http://www.adved.ru/news/?PAGEN_1=98" TargetMode="External"/><Relationship Id="rId1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8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ПОНЯТИЕ ПРЕСТУПЛЕНИЯ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ВИДЫ И КАТЕГОРИИ ПРЕСТУПЛЕНИЙ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755640" y="558972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подаватель-организатор ОБЖ Данилова Ольга Вале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У «Средняя общеобразовательная школа № 18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. Электросталь Моск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4" descr="01967170-photo-liee.jpg"/>
          <p:cNvPicPr/>
          <p:nvPr/>
        </p:nvPicPr>
        <p:blipFill>
          <a:blip r:embed="rId2"/>
          <a:stretch/>
        </p:blipFill>
        <p:spPr>
          <a:xfrm>
            <a:off x="2693880" y="2273400"/>
            <a:ext cx="4041720" cy="297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85808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МОШЕННИЧЕСТВО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есть лишение гражданина его имущества или приобретение права на чужое имущество путем обмана или злоупотребления довери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4" descr="40.jpg"/>
          <p:cNvPicPr/>
          <p:nvPr/>
        </p:nvPicPr>
        <p:blipFill>
          <a:blip r:embed="rId2"/>
          <a:stretch/>
        </p:blipFill>
        <p:spPr>
          <a:xfrm>
            <a:off x="536400" y="3565440"/>
            <a:ext cx="3724560" cy="24814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7" descr="88cd210538a65888-large.jpg"/>
          <p:cNvPicPr/>
          <p:nvPr/>
        </p:nvPicPr>
        <p:blipFill>
          <a:blip r:embed="rId3"/>
          <a:stretch/>
        </p:blipFill>
        <p:spPr>
          <a:xfrm>
            <a:off x="4853160" y="3638520"/>
            <a:ext cx="3687480" cy="24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5428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mbria"/>
              </a:rPr>
              <a:t>МОШЕННИЧ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5" descr="44.jpg"/>
          <p:cNvPicPr/>
          <p:nvPr/>
        </p:nvPicPr>
        <p:blipFill>
          <a:blip r:embed="rId2"/>
          <a:stretch/>
        </p:blipFill>
        <p:spPr>
          <a:xfrm>
            <a:off x="4998960" y="585720"/>
            <a:ext cx="3468600" cy="19623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6" descr="53.jpg"/>
          <p:cNvPicPr/>
          <p:nvPr/>
        </p:nvPicPr>
        <p:blipFill>
          <a:blip r:embed="rId3"/>
          <a:stretch/>
        </p:blipFill>
        <p:spPr>
          <a:xfrm>
            <a:off x="603360" y="542880"/>
            <a:ext cx="3475080" cy="19810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7" descr="62608646_27phishing1.jpg"/>
          <p:cNvPicPr/>
          <p:nvPr/>
        </p:nvPicPr>
        <p:blipFill>
          <a:blip r:embed="rId4"/>
          <a:stretch/>
        </p:blipFill>
        <p:spPr>
          <a:xfrm>
            <a:off x="5072040" y="3060720"/>
            <a:ext cx="3297240" cy="19558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9" descr="shans1993-1.jpg"/>
          <p:cNvPicPr/>
          <p:nvPr/>
        </p:nvPicPr>
        <p:blipFill>
          <a:blip r:embed="rId5"/>
          <a:stretch/>
        </p:blipFill>
        <p:spPr>
          <a:xfrm>
            <a:off x="749160" y="2992320"/>
            <a:ext cx="3183120" cy="20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mbria"/>
              </a:rPr>
              <a:t>Виды наказаний, назначаемые несовершеннолетним</a:t>
            </a: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Штра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7" descr="koshelek-.jpg"/>
          <p:cNvPicPr/>
          <p:nvPr/>
        </p:nvPicPr>
        <p:blipFill>
          <a:blip r:embed="rId2"/>
          <a:stretch/>
        </p:blipFill>
        <p:spPr>
          <a:xfrm>
            <a:off x="1689120" y="2633760"/>
            <a:ext cx="5722920" cy="33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mbria"/>
              </a:rPr>
              <a:t>Виды наказаний, назначаемые несовершеннолетни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Лишение права заниматься определенной деятельност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5" descr="picture.jpg"/>
          <p:cNvPicPr/>
          <p:nvPr/>
        </p:nvPicPr>
        <p:blipFill>
          <a:blip r:embed="rId2"/>
          <a:stretch/>
        </p:blipFill>
        <p:spPr>
          <a:xfrm>
            <a:off x="895320" y="3352680"/>
            <a:ext cx="3298680" cy="238284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6" descr="KEY_TO~1.JPG"/>
          <p:cNvPicPr/>
          <p:nvPr/>
        </p:nvPicPr>
        <p:blipFill>
          <a:blip r:embed="rId3"/>
          <a:stretch/>
        </p:blipFill>
        <p:spPr>
          <a:xfrm>
            <a:off x="4853160" y="3352680"/>
            <a:ext cx="3114360" cy="238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mbria"/>
              </a:rPr>
              <a:t>Виды наказаний, назначаемые несовершеннолетним</a:t>
            </a: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Обязательные и исправительные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5" descr="12_4_orig.gif"/>
          <p:cNvPicPr/>
          <p:nvPr/>
        </p:nvPicPr>
        <p:blipFill>
          <a:blip r:embed="rId2"/>
          <a:stretch/>
        </p:blipFill>
        <p:spPr>
          <a:xfrm>
            <a:off x="3054240" y="2919240"/>
            <a:ext cx="3005280" cy="34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mbria"/>
              </a:rPr>
              <a:t>Виды наказаний, назначаемые несовершеннолетним</a:t>
            </a: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786040" y="1600200"/>
            <a:ext cx="300024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Аре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4" descr="arest.jpg"/>
          <p:cNvPicPr/>
          <p:nvPr/>
        </p:nvPicPr>
        <p:blipFill>
          <a:blip r:embed="rId2"/>
          <a:stretch/>
        </p:blipFill>
        <p:spPr>
          <a:xfrm>
            <a:off x="2548080" y="2919240"/>
            <a:ext cx="3822480" cy="28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mbria"/>
              </a:rPr>
              <a:t>Виды наказаний, назначаемые несовершеннолетним</a:t>
            </a: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59984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Лишение свободы на определенный ср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5" descr="556609.jpg"/>
          <p:cNvPicPr/>
          <p:nvPr/>
        </p:nvPicPr>
        <p:blipFill>
          <a:blip r:embed="rId2"/>
          <a:stretch/>
        </p:blipFill>
        <p:spPr>
          <a:xfrm>
            <a:off x="2548080" y="3133800"/>
            <a:ext cx="3767040" cy="29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mbria"/>
              </a:rPr>
              <a:t>ПРИНУДИТЕЛЬНЫЕ  МЕРЫ  ВОСПИТАТЕЛЬНОГО ВОЗДЕЙСТВ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едупрежд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ередача под надзор родител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озложение обязанности загладить причиненный вред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граничение досуга и установление особых требований к поведен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ПРОВЕРКА ЗН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 соответствии с УК РФ преступлением признаетс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 – действия граждан, сознательно нарушающих требования Конституции РФ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 - виновно совершаемое общественно опасное деяние, запрещенное кодексом под угрозой наказа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 – противоправные действия, посягающие на честь и достоинство гражд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ПРОВЕРКА ЗН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42848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к подразделяются преступления в зависимости от характера и степени общественной опасно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 – малой тяже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 – небольшой тяже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 - средней тяже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Г – тяжкие и особо тяж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 - умышлен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400" y="499680"/>
            <a:ext cx="4863960" cy="580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mbria"/>
              </a:rPr>
              <a:t>ПРЕСТУПЛЕНИЕМ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 признается виновно совершенное общественно опасное деяние, запрещенное Уголовным кодексом под угрозой наказа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3" descr="Detskaya_prestupnost_.jpg"/>
          <p:cNvPicPr/>
          <p:nvPr/>
        </p:nvPicPr>
        <p:blipFill>
          <a:blip r:embed="rId2"/>
          <a:stretch/>
        </p:blipFill>
        <p:spPr>
          <a:xfrm>
            <a:off x="5505480" y="1262160"/>
            <a:ext cx="3241800" cy="43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ПРОВЕРКА ЗН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28760" y="1571400"/>
            <a:ext cx="82296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 какого возраста в соответствии с УК устанавливается уголовная ответственнос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 – в отдельных случаях с 12 ле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 – в отдельных случаях с 14 ле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 – с 16 ле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Г – с 18 л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ПРОВЕРКА ЗН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кие виды наказания, назначаемые несовершеннолетним, предусмотрены УК РФ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 – штраф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 – принудительные работ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 – лишение права заниматься определенной деятельностью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Г – арес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 – содержание под страж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ПРОВЕРКА ЗН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00040" y="12142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Чтобы не стать жертвой мошенника необходимо соблюдать следующие рекоменда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 – не следует доверять свои вещи посторонним людя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 – соблюдая осторожность играть в азартные игры с малознакомыми людьми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 –не следует принимать предложения совершить сомнительную сделку, даже если она кажется очень выгодн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vtule.ru/events/arc/year2009/month4/p6/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аручн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holzori.ru/obshestvo/trevozhnye-zvonki-20-10-2011.htm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азбитая витр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ar00t.bestpersons.ru/feed/post29305098/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мальчик на ступеньк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polemika.com.ua/news-73407.htm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драка двух мальчи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liveinternet.ru/users/sovuchka/post199342814/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ража кошелька из сум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novostey.com/auto/news266919.htm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скрытие автомобильной двер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saratovnews.ru/category/proisshestviya/?page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=9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исто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terijoki.spb.ru/railway/rw_ozhdnews.php?item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=8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аскрашенные ж/д вагон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www.adved.ru/news/?PAGEN_1=98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акет с неизвестным порошк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news.mail.ru/incident/6711260/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трон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468360" y="112536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ы безопасности жизнедеятельности. 9 кл.: учебник для общеобразовательных учреждений/ С.Н.Вангородский, В.Н.Латчук, М.И.Кузнецов, В.В.Марков. М.: Дрофа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uliyanovsk.bezformata.ru/listnews/polshe-proizoshlo-krushenie-poezda/1058250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рушение поез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trud-ost.ru/?cat=1&amp;paged=371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ьюте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moinovovyatsk.ru/home/next/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ошелек с деньг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13vainamoinen.livejournal.com/118738.html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ыган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autozam.ru/bezopasnost-na-dorogach/avtopodstavschiki-ne-spyat.html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втоподста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oldcoffer.narod.ru/Lottery/Russ_fed/5-1.htm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отерейный би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leto.feodom.com/Raznoe/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ьютерный клу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bizness-idei.com/s-chego-nachat-biznes/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апка «Свое дело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ohuliganah.ru/node/155/related_links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абоч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donbass.ua/news/incidents/2011/12/12/gorlovchanin-otobral-u-podrostka-mobilnik.htm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уки в наручник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dvinainform.ru/archive/2011/03/29/525.htm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забор и колючая провол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В зависимости от характера и степени общественной опасности деяния подразделяются 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85732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mbria"/>
              </a:rPr>
              <a:t>преступления небольшой тяжест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mbria"/>
              </a:rPr>
              <a:t>преступления средней тяжест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mbria"/>
              </a:rPr>
              <a:t>тяжкие преступления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mbria"/>
              </a:rPr>
              <a:t>особо тяжкие преступ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500040"/>
            <a:ext cx="7772400" cy="578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Уголовной ответственности подлежит лицо, достигшее ко времени совершения преступления </a:t>
            </a:r>
            <a:r>
              <a:rPr b="1" i="1" lang="en-US" sz="3600" spc="-1" strike="noStrike">
                <a:solidFill>
                  <a:srgbClr val="000000"/>
                </a:solidFill>
                <a:latin typeface="Cambria"/>
              </a:rPr>
              <a:t>16-летнего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 возраста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За совершение серьезного преступления уголовной ответственности подлежат лица, достигшие ко времени совершения преступления </a:t>
            </a:r>
            <a:r>
              <a:rPr b="1" i="1" lang="en-US" sz="3600" spc="-1" strike="noStrike">
                <a:solidFill>
                  <a:srgbClr val="000000"/>
                </a:solidFill>
                <a:latin typeface="Cambria"/>
              </a:rPr>
              <a:t>14 лет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4360" y="907920"/>
            <a:ext cx="40323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БРОДЯЖНИЧЕ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Заголовок 4"/>
          <p:cNvSpPr/>
          <p:nvPr/>
        </p:nvSpPr>
        <p:spPr>
          <a:xfrm>
            <a:off x="1619280" y="4365720"/>
            <a:ext cx="309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ДР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5" descr="0.jpg"/>
          <p:cNvPicPr/>
          <p:nvPr/>
        </p:nvPicPr>
        <p:blipFill>
          <a:blip r:embed="rId2"/>
          <a:stretch/>
        </p:blipFill>
        <p:spPr>
          <a:xfrm>
            <a:off x="463680" y="328680"/>
            <a:ext cx="3644640" cy="27432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7" descr="DSC048472.jpg"/>
          <p:cNvPicPr/>
          <p:nvPr/>
        </p:nvPicPr>
        <p:blipFill>
          <a:blip r:embed="rId3"/>
          <a:stretch/>
        </p:blipFill>
        <p:spPr>
          <a:xfrm>
            <a:off x="4853160" y="3492360"/>
            <a:ext cx="3754440" cy="294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4360" y="1484280"/>
            <a:ext cx="41036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КРАЖА</a:t>
            </a: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ЛИЧНОГО ИМУЩЕ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22.jpg"/>
          <p:cNvPicPr/>
          <p:nvPr/>
        </p:nvPicPr>
        <p:blipFill>
          <a:blip r:embed="rId2"/>
          <a:stretch/>
        </p:blipFill>
        <p:spPr>
          <a:xfrm>
            <a:off x="1036800" y="328680"/>
            <a:ext cx="2706480" cy="3657600"/>
          </a:xfrm>
          <a:prstGeom prst="rect">
            <a:avLst/>
          </a:prstGeom>
          <a:ln w="0">
            <a:noFill/>
          </a:ln>
        </p:spPr>
      </p:pic>
      <p:pic>
        <p:nvPicPr>
          <p:cNvPr id="55" name="Содержимое 3" descr="28.jpg"/>
          <p:cNvPicPr/>
          <p:nvPr/>
        </p:nvPicPr>
        <p:blipFill>
          <a:blip r:embed="rId3"/>
          <a:stretch/>
        </p:blipFill>
        <p:spPr>
          <a:xfrm>
            <a:off x="4780080" y="3713040"/>
            <a:ext cx="3870360" cy="2810160"/>
          </a:xfrm>
          <a:prstGeom prst="rect">
            <a:avLst/>
          </a:prstGeom>
          <a:ln w="0">
            <a:noFill/>
          </a:ln>
        </p:spPr>
      </p:pic>
      <p:sp>
        <p:nvSpPr>
          <p:cNvPr id="56" name="Заголовок 1"/>
          <p:cNvSpPr/>
          <p:nvPr/>
        </p:nvSpPr>
        <p:spPr>
          <a:xfrm>
            <a:off x="826920" y="4724280"/>
            <a:ext cx="36007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УГОН  АВТОМОБИ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58920" y="1125000"/>
            <a:ext cx="360540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УБИЙ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Заголовок 1"/>
          <p:cNvSpPr/>
          <p:nvPr/>
        </p:nvSpPr>
        <p:spPr>
          <a:xfrm>
            <a:off x="611280" y="4365720"/>
            <a:ext cx="3566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ВАНД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5" descr="566724.jpg"/>
          <p:cNvPicPr/>
          <p:nvPr/>
        </p:nvPicPr>
        <p:blipFill>
          <a:blip r:embed="rId2"/>
          <a:stretch/>
        </p:blipFill>
        <p:spPr>
          <a:xfrm>
            <a:off x="536400" y="469800"/>
            <a:ext cx="4254840" cy="27241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7" descr="vandals_080708.jpg"/>
          <p:cNvPicPr/>
          <p:nvPr/>
        </p:nvPicPr>
        <p:blipFill>
          <a:blip r:embed="rId3"/>
          <a:stretch/>
        </p:blipFill>
        <p:spPr>
          <a:xfrm>
            <a:off x="4352760" y="3767040"/>
            <a:ext cx="4125960" cy="26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350028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ХРАНЕНИЕ, РАСПРОСТРАНЕНИЕ, ХИЩЕНИЕ ИЛИ ВЫМОГАТЕЛЬСТВО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 - НАРКОТИЧЕСКИХ СРЕДСТВ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- ОРУЖИЯ, БОЕПРИПАСОВ, ВЗРЫВЧАТЫХ ВЕЩЕСТ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6" descr="1144385_640_516_source.jpg"/>
          <p:cNvPicPr/>
          <p:nvPr/>
        </p:nvPicPr>
        <p:blipFill>
          <a:blip r:embed="rId2"/>
          <a:stretch/>
        </p:blipFill>
        <p:spPr>
          <a:xfrm>
            <a:off x="506520" y="615960"/>
            <a:ext cx="3492360" cy="26035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7" descr="0_6c07d_2b7eb7f5_XL.jpg"/>
          <p:cNvPicPr/>
          <p:nvPr/>
        </p:nvPicPr>
        <p:blipFill>
          <a:blip r:embed="rId3"/>
          <a:stretch/>
        </p:blipFill>
        <p:spPr>
          <a:xfrm>
            <a:off x="4925880" y="689040"/>
            <a:ext cx="3432240" cy="25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442908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mbria"/>
              </a:rPr>
              <a:t>ПРИВЕДЕНИЕ В НЕГОДНОСТЬ ТРАНСПОРТНЫХ СРЕДСТВ ИЛИ ПУТЕЙ СООБЩЕН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5" descr="73102563_f5d26262bda44ca883c187d406ccdf2a.jpg"/>
          <p:cNvPicPr/>
          <p:nvPr/>
        </p:nvPicPr>
        <p:blipFill>
          <a:blip r:embed="rId2"/>
          <a:stretch/>
        </p:blipFill>
        <p:spPr>
          <a:xfrm>
            <a:off x="2114640" y="542880"/>
            <a:ext cx="4840200" cy="3632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6:20:13Z</dcterms:created>
  <dc:creator>Ольга</dc:creator>
  <dc:description/>
  <dc:language>en-US</dc:language>
  <cp:lastModifiedBy>КарМаН</cp:lastModifiedBy>
  <dcterms:modified xsi:type="dcterms:W3CDTF">2012-01-24T12:42:42Z</dcterms:modified>
  <cp:revision>57</cp:revision>
  <dc:subject/>
  <dc:title>ДРАКА</dc:title>
</cp:coreProperties>
</file>