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2A0-9234-437E-938A-0D403798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DDF-6D7D-4EFA-8CBF-3E0F9FC9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78E-A35E-4F59-88F9-59361D41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785-DF0C-4D2A-8140-675FC171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883-75AE-4F0F-B12E-362AC3DE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E70-6A82-4354-B22E-849ABDDA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B75-ADA9-4A94-9486-8821222D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2B2-D83A-4C14-91B9-EFA46DEC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BF8-3BED-429F-A818-5D80E966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03D-DC1D-4790-86E6-09467D41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3AA-6930-4B0A-A617-8B04A3C9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DB2-0CA2-49B9-B499-2E85975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4FDF-C62E-4BE2-9BE7-D17A83272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tule.ru/events/arc/year2009/month4/p6/" TargetMode="External"/><Relationship Id="rId3" Type="http://schemas.openxmlformats.org/officeDocument/2006/relationships/hyperlink" Target="http://holzori.ru/obshestvo/trevozhnye-zvonki-20-10-2011.html" TargetMode="External"/><Relationship Id="rId4" Type="http://schemas.openxmlformats.org/officeDocument/2006/relationships/hyperlink" Target="http://ar00t.bestpersons.ru/feed/post29305098/" TargetMode="External"/><Relationship Id="rId5" Type="http://schemas.openxmlformats.org/officeDocument/2006/relationships/hyperlink" Target="http://polemika.com.ua/news-73407.html" TargetMode="External"/><Relationship Id="rId6" Type="http://schemas.openxmlformats.org/officeDocument/2006/relationships/hyperlink" Target="http://www.liveinternet.ru/users/sovuchka/post199342814/" TargetMode="External"/><Relationship Id="rId7" Type="http://schemas.openxmlformats.org/officeDocument/2006/relationships/hyperlink" Target="http://novostey.com/auto/news266919.html" TargetMode="External"/><Relationship Id="rId8" Type="http://schemas.openxmlformats.org/officeDocument/2006/relationships/hyperlink" Target="http://www.saratovnews.ru/category/proisshestviya/?page=92" TargetMode="External"/><Relationship Id="rId9" Type="http://schemas.openxmlformats.org/officeDocument/2006/relationships/hyperlink" Target="http://www.saratovnews.ru/category/proisshestviya/?page=92" TargetMode="External"/><Relationship Id="rId10" Type="http://schemas.openxmlformats.org/officeDocument/2006/relationships/hyperlink" Target="http://www.saratovnews.ru/category/proisshestviya/?page=92" TargetMode="External"/><Relationship Id="rId11" Type="http://schemas.openxmlformats.org/officeDocument/2006/relationships/hyperlink" Target="http://terijoki.spb.ru/railway/rw_ozhdnews.php?item=8" TargetMode="External"/><Relationship Id="rId12" Type="http://schemas.openxmlformats.org/officeDocument/2006/relationships/hyperlink" Target="http://terijoki.spb.ru/railway/rw_ozhdnews.php?item=8" TargetMode="External"/><Relationship Id="rId13" Type="http://schemas.openxmlformats.org/officeDocument/2006/relationships/hyperlink" Target="http://terijoki.spb.ru/railway/rw_ozhdnews.php?item=8" TargetMode="External"/><Relationship Id="rId14" Type="http://schemas.openxmlformats.org/officeDocument/2006/relationships/hyperlink" Target="http://www.adved.ru/news/?PAGEN_1=98" TargetMode="External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ПОНЯТИЕ ПРЕСТУПЛЕНИЯ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ВИДЫ И КАТЕГОРИИ ПРЕСТУПЛЕНИЙ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55640" y="5589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подаватель-организатор ОБЖ Данилова Ольг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 1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. Электросталь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01967170-photo-liee.jpg"/>
          <p:cNvPicPr/>
          <p:nvPr/>
        </p:nvPicPr>
        <p:blipFill>
          <a:blip r:embed="rId2"/>
          <a:stretch/>
        </p:blipFill>
        <p:spPr>
          <a:xfrm>
            <a:off x="2693880" y="2273400"/>
            <a:ext cx="4041720" cy="29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85808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МОШЕННИЧЕСТВО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есть лишение гражданина его имущества или приобретение права на чужое имущество путем обмана или злоупотребления довер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40.jpg"/>
          <p:cNvPicPr/>
          <p:nvPr/>
        </p:nvPicPr>
        <p:blipFill>
          <a:blip r:embed="rId2"/>
          <a:stretch/>
        </p:blipFill>
        <p:spPr>
          <a:xfrm>
            <a:off x="536400" y="3565440"/>
            <a:ext cx="3724560" cy="24814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88cd210538a65888-large.jpg"/>
          <p:cNvPicPr/>
          <p:nvPr/>
        </p:nvPicPr>
        <p:blipFill>
          <a:blip r:embed="rId3"/>
          <a:stretch/>
        </p:blipFill>
        <p:spPr>
          <a:xfrm>
            <a:off x="4853160" y="3638520"/>
            <a:ext cx="36874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mbria"/>
              </a:rPr>
              <a:t>МОШЕННИ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44.jpg"/>
          <p:cNvPicPr/>
          <p:nvPr/>
        </p:nvPicPr>
        <p:blipFill>
          <a:blip r:embed="rId2"/>
          <a:stretch/>
        </p:blipFill>
        <p:spPr>
          <a:xfrm>
            <a:off x="4998960" y="585720"/>
            <a:ext cx="3468600" cy="1962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53.jpg"/>
          <p:cNvPicPr/>
          <p:nvPr/>
        </p:nvPicPr>
        <p:blipFill>
          <a:blip r:embed="rId3"/>
          <a:stretch/>
        </p:blipFill>
        <p:spPr>
          <a:xfrm>
            <a:off x="603360" y="542880"/>
            <a:ext cx="347508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62608646_27phishing1.jpg"/>
          <p:cNvPicPr/>
          <p:nvPr/>
        </p:nvPicPr>
        <p:blipFill>
          <a:blip r:embed="rId4"/>
          <a:stretch/>
        </p:blipFill>
        <p:spPr>
          <a:xfrm>
            <a:off x="5072040" y="3060720"/>
            <a:ext cx="3297240" cy="1955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shans1993-1.jpg"/>
          <p:cNvPicPr/>
          <p:nvPr/>
        </p:nvPicPr>
        <p:blipFill>
          <a:blip r:embed="rId5"/>
          <a:stretch/>
        </p:blipFill>
        <p:spPr>
          <a:xfrm>
            <a:off x="749160" y="2992320"/>
            <a:ext cx="318312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Шт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7" descr="koshelek-.jpg"/>
          <p:cNvPicPr/>
          <p:nvPr/>
        </p:nvPicPr>
        <p:blipFill>
          <a:blip r:embed="rId2"/>
          <a:stretch/>
        </p:blipFill>
        <p:spPr>
          <a:xfrm>
            <a:off x="1689120" y="2633760"/>
            <a:ext cx="572292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Лишение права заниматься определенной деятель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5" descr="picture.jpg"/>
          <p:cNvPicPr/>
          <p:nvPr/>
        </p:nvPicPr>
        <p:blipFill>
          <a:blip r:embed="rId2"/>
          <a:stretch/>
        </p:blipFill>
        <p:spPr>
          <a:xfrm>
            <a:off x="895320" y="3352680"/>
            <a:ext cx="3298680" cy="23828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KEY_TO~1.JPG"/>
          <p:cNvPicPr/>
          <p:nvPr/>
        </p:nvPicPr>
        <p:blipFill>
          <a:blip r:embed="rId3"/>
          <a:stretch/>
        </p:blipFill>
        <p:spPr>
          <a:xfrm>
            <a:off x="4853160" y="3352680"/>
            <a:ext cx="311436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Обязательные и исправительны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5" descr="12_4_orig.gif"/>
          <p:cNvPicPr/>
          <p:nvPr/>
        </p:nvPicPr>
        <p:blipFill>
          <a:blip r:embed="rId2"/>
          <a:stretch/>
        </p:blipFill>
        <p:spPr>
          <a:xfrm>
            <a:off x="3054240" y="2919240"/>
            <a:ext cx="300528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86040" y="1600200"/>
            <a:ext cx="300024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Ар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arest.jpg"/>
          <p:cNvPicPr/>
          <p:nvPr/>
        </p:nvPicPr>
        <p:blipFill>
          <a:blip r:embed="rId2"/>
          <a:stretch/>
        </p:blipFill>
        <p:spPr>
          <a:xfrm>
            <a:off x="2548080" y="2919240"/>
            <a:ext cx="382248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Лишение свободы на определенный с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5" descr="556609.jpg"/>
          <p:cNvPicPr/>
          <p:nvPr/>
        </p:nvPicPr>
        <p:blipFill>
          <a:blip r:embed="rId2"/>
          <a:stretch/>
        </p:blipFill>
        <p:spPr>
          <a:xfrm>
            <a:off x="2548080" y="3133800"/>
            <a:ext cx="376704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mbria"/>
              </a:rPr>
              <a:t>ПРИНУДИТЕЛЬНЫЕ  МЕРЫ  ВОСПИТАТЕЛЬНОГО ВОЗДЕЙСТВ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дупрежд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соответствии с УК РФ преступлением призна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действия граждан, сознательно нарушающих требования Конституции РФ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- виновно совершаемое общественно опасное деяние, запрещенное кодексом под угрозой наказ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 противоправные действия, посягающие на честь и достоинство граж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284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подразделяются преступления в зависимости от характера и степени общественной опас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малой тяже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небольшой тяже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- средней тяже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 – тяжкие и особо тяж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 - умышле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4863960" cy="580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mbria"/>
              </a:rPr>
              <a:t>ПРЕСТУПЛЕНИЕМ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признается виновно совершенное общественно опасное деяние, запрещенное Уголовным кодексом под угрозой наказ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Detskaya_prestupnost_.jpg"/>
          <p:cNvPicPr/>
          <p:nvPr/>
        </p:nvPicPr>
        <p:blipFill>
          <a:blip r:embed="rId2"/>
          <a:stretch/>
        </p:blipFill>
        <p:spPr>
          <a:xfrm>
            <a:off x="5505480" y="1262160"/>
            <a:ext cx="324180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5714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какого возраста в соответствии с УК устанавливается уголовная ответственно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в отдельных случаях с 12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в отдельных случаях с 14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 с 16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 – с 18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ие виды наказания, назначаемые несовершеннолетним, предусмотрены УК РФ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штраф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принудительные рабо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 лишение права заниматься определенной деятельность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 – аре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 – содержание под страж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004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тобы не стать жертвой мошенника необходимо соблюдать следующие рекоменд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не следует доверять свои вещи посторонним люд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соблюдая осторожность играть в азартные игры с малознакомыми людьми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не следует принимать предложения совершить сомнительную сделку, даже если она кажется очень выгод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tule.ru/events/arc/year2009/month4/p6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ру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holzori.ru/obshestvo/trevozhnye-zvonki-20-10-2011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битая вит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ar00t.bestpersons.ru/feed/post29305098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альчик на ступень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polemika.com.ua/news-73407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рака двух мальч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liveinternet.ru/users/sovuchka/post199342814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ажа кошелька из сум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novostey.com/auto/news266919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скрытие автомобильной дв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saratovnews.ru/category/proisshestviya/?page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=9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исто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terijoki.spb.ru/railway/rw_ozhdnews.php?item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=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крашенные ж/д ваго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adved.ru/news/?PAGEN_1=9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акет с неизвестным порошк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news.mail.ru/incident/6711260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тро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68360" y="11253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безопасности жизнедеятельности. 9 кл.: учебник для общеобразовательных учреждений/ С.Н.Вангородский, В.Н.Латчук, М.И.Кузнецов, В.В.Марков. М.: Дрофа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liyanovsk.bezformata.ru/listnews/polshe-proizoshlo-krushenie-poezda/105825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ушение поез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rud-ost.ru/?cat=1&amp;paged=37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oinovovyatsk.ru/home/next/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шелек с деньг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13vainamoinen.livejournal.com/118738.html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ыга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autozam.ru/bezopasnost-na-dorogach/avtopodstavschiki-ne-spyat.html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подст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oldcoffer.narod.ru/Lottery/Russ_fed/5-1.htm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терейный би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eto.feodom.com/Raznoe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ьютерный кл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izness-idei.com/s-chego-nachat-biznes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апка «Свое дел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ohuliganah.ru/node/155/related_link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боч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donbass.ua/news/incidents/2011/12/12/gorlovchanin-otobral-u-podrostka-mobilnik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уки в наручни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dvinainform.ru/archive/2011/03/29/525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бор и колючая провол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 зависимости от характера и степени общественной опасности деяния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преступления небольшой тяже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преступления средней тяже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тяжкие преступл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особо тяжкие преступ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Уголовной ответственности подлежит лицо, достигшее ко времени совершения преступления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16-летнего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возраста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За совершение серьезного преступления уголовной ответственности подлежат лица, достигшие ко времени совершения преступления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14 лет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360" y="907920"/>
            <a:ext cx="40323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БРОДЯЖНИЧЕ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4"/>
          <p:cNvSpPr/>
          <p:nvPr/>
        </p:nvSpPr>
        <p:spPr>
          <a:xfrm>
            <a:off x="1619280" y="4365720"/>
            <a:ext cx="309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Д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0.jpg"/>
          <p:cNvPicPr/>
          <p:nvPr/>
        </p:nvPicPr>
        <p:blipFill>
          <a:blip r:embed="rId2"/>
          <a:stretch/>
        </p:blipFill>
        <p:spPr>
          <a:xfrm>
            <a:off x="463680" y="328680"/>
            <a:ext cx="364464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DSC048472.jpg"/>
          <p:cNvPicPr/>
          <p:nvPr/>
        </p:nvPicPr>
        <p:blipFill>
          <a:blip r:embed="rId3"/>
          <a:stretch/>
        </p:blipFill>
        <p:spPr>
          <a:xfrm>
            <a:off x="4853160" y="3492360"/>
            <a:ext cx="375444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360" y="1484280"/>
            <a:ext cx="4103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КРАЖА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ЛИЧНОГО ИМУ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22.jpg"/>
          <p:cNvPicPr/>
          <p:nvPr/>
        </p:nvPicPr>
        <p:blipFill>
          <a:blip r:embed="rId2"/>
          <a:stretch/>
        </p:blipFill>
        <p:spPr>
          <a:xfrm>
            <a:off x="1036800" y="328680"/>
            <a:ext cx="270648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3" descr="28.jpg"/>
          <p:cNvPicPr/>
          <p:nvPr/>
        </p:nvPicPr>
        <p:blipFill>
          <a:blip r:embed="rId3"/>
          <a:stretch/>
        </p:blipFill>
        <p:spPr>
          <a:xfrm>
            <a:off x="4780080" y="3713040"/>
            <a:ext cx="3870360" cy="281016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826920" y="4724280"/>
            <a:ext cx="3600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УГОН  АВТОМОБ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8920" y="1125000"/>
            <a:ext cx="3605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УБИЙ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611280" y="4365720"/>
            <a:ext cx="356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ВАНД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566724.jpg"/>
          <p:cNvPicPr/>
          <p:nvPr/>
        </p:nvPicPr>
        <p:blipFill>
          <a:blip r:embed="rId2"/>
          <a:stretch/>
        </p:blipFill>
        <p:spPr>
          <a:xfrm>
            <a:off x="536400" y="469800"/>
            <a:ext cx="4254840" cy="2724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vandals_080708.jpg"/>
          <p:cNvPicPr/>
          <p:nvPr/>
        </p:nvPicPr>
        <p:blipFill>
          <a:blip r:embed="rId3"/>
          <a:stretch/>
        </p:blipFill>
        <p:spPr>
          <a:xfrm>
            <a:off x="4352760" y="3767040"/>
            <a:ext cx="4125960" cy="26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5002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ХРАНЕНИЕ, РАСПРОСТРАНЕНИЕ, ХИЩЕНИЕ ИЛИ ВЫМОГАТЕЛЬСТВО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- НАРКОТИЧЕСКИХ СРЕДСТВ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- ОРУЖИЯ, БОЕПРИПАСОВ, ВЗРЫВЧАТ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6" descr="1144385_640_516_source.jpg"/>
          <p:cNvPicPr/>
          <p:nvPr/>
        </p:nvPicPr>
        <p:blipFill>
          <a:blip r:embed="rId2"/>
          <a:stretch/>
        </p:blipFill>
        <p:spPr>
          <a:xfrm>
            <a:off x="506520" y="615960"/>
            <a:ext cx="3492360" cy="2603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0_6c07d_2b7eb7f5_XL.jpg"/>
          <p:cNvPicPr/>
          <p:nvPr/>
        </p:nvPicPr>
        <p:blipFill>
          <a:blip r:embed="rId3"/>
          <a:stretch/>
        </p:blipFill>
        <p:spPr>
          <a:xfrm>
            <a:off x="4925880" y="689040"/>
            <a:ext cx="34322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442908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ПРИВЕДЕНИЕ В НЕГОДНОСТЬ ТРАНСПОРТНЫХ СРЕДСТВ ИЛИ ПУТЕЙ СООБЩ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73102563_f5d26262bda44ca883c187d406ccdf2a.jpg"/>
          <p:cNvPicPr/>
          <p:nvPr/>
        </p:nvPicPr>
        <p:blipFill>
          <a:blip r:embed="rId2"/>
          <a:stretch/>
        </p:blipFill>
        <p:spPr>
          <a:xfrm>
            <a:off x="2114640" y="542880"/>
            <a:ext cx="4840200" cy="363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6:20:13Z</dcterms:created>
  <dc:creator>Ольга</dc:creator>
  <dc:description/>
  <dc:language>en-US</dc:language>
  <cp:lastModifiedBy>КарМаН</cp:lastModifiedBy>
  <dcterms:modified xsi:type="dcterms:W3CDTF">2012-01-24T12:42:42Z</dcterms:modified>
  <cp:revision>57</cp:revision>
  <dc:subject/>
  <dc:title>ДРАКА</dc:title>
</cp:coreProperties>
</file>