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23.gif" ContentType="image/gif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959-C35C-4453-973F-317478BE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D8F-83BB-47DB-BC06-F234732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6F8-C620-4041-8193-8F93EA7C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350-A762-40C5-820E-CB5EC85E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01F4-BEA0-4505-820B-73A69CD9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F4B9-861B-4DC4-AFC4-04E379E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59B5-EEE9-4E28-8F67-8C176818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6765-B623-44CE-AF86-1F001CB2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CEDD-D84E-45E1-A8B3-5A32C8B9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23BB-6B6D-404A-967B-3F3A577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6A9-0A02-422C-8741-68B5DB3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AC1-3400-44ED-90D3-0A62033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BCAD-C217-45B4-AF5C-4944C4E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A7B6-3431-447A-891C-2DB4E6E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871-A478-4064-9164-11283002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85B5-D235-4577-A50B-7D037315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AD3C-8AB8-4D9D-943D-1DE49696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18D-D54B-4932-8D70-042BB874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447-E648-474F-9608-7E98214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C7BC-7E60-46C6-B313-5E84589F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038-BA80-4297-ABB8-9D035A0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AF9-2D35-4F26-8DF4-EA85D2EB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0AB-8E4E-4C36-893F-61863162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20D-0A39-4778-9CAE-3032B545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C332-5687-431D-838F-B66B3421F4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0E4-CE9B-43A5-9AAF-4302481054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lick.begun.ru/kick.jsp?url=4vrJyKFvy9XULjtp3Hb2HgCcq4mc2mIuLcqLWSIYT6zCA1pe3u17s8t9a6Nih635qvc4hz1im2WqwAmIS3iNrkzipaJcFLP9ylP1jKLJN2BjuEQuueWIF_tds_SdKKcGCZZkro07LhIsWS9g5Zh0NdewvGR_DLoOF4hiuuu8zZE7hi1XLZMzsRlp46rMHVlv8ZmmkBbO8oal1nJAoc6Jfh-I7_o08UBfmeKmEoJMCq0wadBKyRXQuDqxT1aNHai0FnCJre4rEYV-BgvvkibpWDUTVR9yOf9VB08KBcTSQ8JXOpXpn8v3C_MxBDzWiA5GKwJ5htdeE0JXjVLTA8r0RNFeXUhOfYP1cVQ_zWtnYT0ic7OdqbALeUJGpp1KLp3I1FtddGhM0-6ino9AOD-cAG_7rnsSQa1N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022400" y="404640"/>
            <a:ext cx="720072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5" descr="0001"/>
          <p:cNvPicPr/>
          <p:nvPr/>
        </p:nvPicPr>
        <p:blipFill>
          <a:blip r:embed="rId1"/>
          <a:stretch/>
        </p:blipFill>
        <p:spPr>
          <a:xfrm>
            <a:off x="7885080" y="270828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Картинка0008"/>
          <p:cNvPicPr/>
          <p:nvPr/>
        </p:nvPicPr>
        <p:blipFill>
          <a:blip r:embed="rId2"/>
          <a:stretch/>
        </p:blipFill>
        <p:spPr>
          <a:xfrm>
            <a:off x="284040" y="2708280"/>
            <a:ext cx="1476360" cy="1679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2920" y="4365720"/>
            <a:ext cx="7489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: Кириленко Артём Леонид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сто работы: МОУ СОШ №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жность: учитель физической культуры, преподаватель ОБ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сканирование0001"/>
          <p:cNvPicPr/>
          <p:nvPr/>
        </p:nvPicPr>
        <p:blipFill>
          <a:blip r:embed="rId1"/>
          <a:stretch/>
        </p:blipFill>
        <p:spPr>
          <a:xfrm rot="1227000">
            <a:off x="5867280" y="549000"/>
            <a:ext cx="2595600" cy="3686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шин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стни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лоч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ане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тчат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альные деревянные Детерих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руч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ебования к иммобилизации следующие: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хват 2-3 сустав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манной конечности необходимо придать правильное положение (физиологическо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сткая шина должна быть наложена на вату, ткан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мобилизация должна быть достаточной для создания неподвижности поврежденной ко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3"/>
          <p:cNvPicPr/>
          <p:nvPr/>
        </p:nvPicPr>
        <p:blipFill>
          <a:blip r:embed="rId1"/>
          <a:stretch/>
        </p:blipFill>
        <p:spPr>
          <a:xfrm>
            <a:off x="7623000" y="692280"/>
            <a:ext cx="1130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вая медицинская помощь при закрытом перелом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дленно прекратить внешнее воздействие поражающих факто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езболить (спросить о реакции пострадавшего на обезболивающее средство, дать 2-3 таблетки анальгина, растолочь не давать запивать или внутримышечно ввести анальгети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мобилизац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реть зимой, предупреждение перегрева лет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вать врача или доставить  медицинское учре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voice_rington"/>
          <p:cNvPicPr/>
          <p:nvPr/>
        </p:nvPicPr>
        <p:blipFill>
          <a:blip r:embed="rId1"/>
          <a:stretch/>
        </p:blipFill>
        <p:spPr>
          <a:xfrm>
            <a:off x="8101080" y="6093000"/>
            <a:ext cx="86364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рвая медицинская помощь при открытом перелом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новка кровотечения: (нанести жгут выше раны на 90-120 мин. летом и 60-90мин. зимой., вложить записку с указанием времени (часы, минуты), торчащую кость обложить с двух сторон бинтовыми валиками и наложить стерильную повязк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ьнейшие действия, что и при закрытом перел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nmed1"/>
          <p:cNvPicPr/>
          <p:nvPr/>
        </p:nvPicPr>
        <p:blipFill>
          <a:blip r:embed="rId1"/>
          <a:stretch/>
        </p:blipFill>
        <p:spPr>
          <a:xfrm>
            <a:off x="7380360" y="981000"/>
            <a:ext cx="792000" cy="50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0006"/>
          <p:cNvPicPr/>
          <p:nvPr/>
        </p:nvPicPr>
        <p:blipFill>
          <a:blip r:embed="rId2"/>
          <a:stretch/>
        </p:blipFill>
        <p:spPr>
          <a:xfrm>
            <a:off x="7020000" y="5300640"/>
            <a:ext cx="18223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таскивать или переносить пострадавших без наложения транспортной шин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равлять или сопоставлять костные об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тельное пребывание спасателя на корточках при оказании пмп (может стать причиной обморок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 rot="322800">
            <a:off x="755640" y="404640"/>
            <a:ext cx="71280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16000"/>
                </a:gradFill>
                <a:latin typeface="Impact"/>
              </a:rPr>
              <a:t>недопустим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16000"/>
              </a:gradFill>
              <a:latin typeface="Impact"/>
              <a:ea typeface="Impact"/>
            </a:endParaRPr>
          </a:p>
        </p:txBody>
      </p:sp>
      <p:pic>
        <p:nvPicPr>
          <p:cNvPr id="139" name="Picture 6" descr="mf_protiv"/>
          <p:cNvPicPr/>
          <p:nvPr/>
        </p:nvPicPr>
        <p:blipFill>
          <a:blip r:embed="rId1"/>
          <a:stretch/>
        </p:blipFill>
        <p:spPr>
          <a:xfrm>
            <a:off x="7093080" y="1844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ерелом бедр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ы накладывают по боковым поверхностям (внутренней, наружной) и бинтуют к конечност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стные выступы подкладывают куски в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у накладывают от основания бедра до стопы (неподвижность в тазобедренном, коленном, голеностопном сустава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6"/>
          <p:cNvPicPr/>
          <p:nvPr/>
        </p:nvPicPr>
        <p:blipFill>
          <a:blip r:embed="rId1"/>
          <a:stretch/>
        </p:blipFill>
        <p:spPr>
          <a:xfrm>
            <a:off x="6372360" y="4653000"/>
            <a:ext cx="25207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релом предплечь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ять физиологическое положение поврежденной конеч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ину накладывают от основания пальцев до верхней трети плеча (неподвижность лучезапястном и локтевом сустав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у подвесить на косын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Картинка0003"/>
          <p:cNvPicPr/>
          <p:nvPr/>
        </p:nvPicPr>
        <p:blipFill>
          <a:blip r:embed="rId1"/>
          <a:stretch/>
        </p:blipFill>
        <p:spPr>
          <a:xfrm>
            <a:off x="6156360" y="456264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улярное употребление </a:t>
            </a: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одуктов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 богатых магнием, кальцием предупреждает перело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улярные </a:t>
            </a: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занятия физической культу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(фитнесом) укрепляет 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66"/>
                </a:solidFill>
                <a:uFillTx/>
                <a:latin typeface="Tahoma"/>
              </a:rPr>
              <a:t>Не кури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 курящих медленнее заживают сломанные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14"/>
          <p:cNvPicPr/>
          <p:nvPr/>
        </p:nvPicPr>
        <p:blipFill>
          <a:blip r:embed="rId2"/>
          <a:stretch/>
        </p:blipFill>
        <p:spPr>
          <a:xfrm>
            <a:off x="7020000" y="5300640"/>
            <a:ext cx="1908000" cy="14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4"/>
          <p:cNvPicPr/>
          <p:nvPr/>
        </p:nvPicPr>
        <p:blipFill>
          <a:blip r:embed="rId3"/>
          <a:stretch/>
        </p:blipFill>
        <p:spPr>
          <a:xfrm>
            <a:off x="1979640" y="476280"/>
            <a:ext cx="1270080" cy="9396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7"/>
          <p:cNvSpPr txBox="1"/>
          <p:nvPr/>
        </p:nvSpPr>
        <p:spPr>
          <a:xfrm rot="5400000">
            <a:off x="-2978280" y="3166920"/>
            <a:ext cx="6480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рофилактик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9" descr="0017"/>
          <p:cNvPicPr/>
          <p:nvPr/>
        </p:nvPicPr>
        <p:blipFill>
          <a:blip r:embed="rId4"/>
          <a:stretch/>
        </p:blipFill>
        <p:spPr>
          <a:xfrm>
            <a:off x="7524720" y="1844640"/>
            <a:ext cx="933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МЗ 911, В.Г. Бубнов, Н.В. Бубнов, Москва Издательство АСТ-ЛТД 1997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МЗ и ЗОЖ А.Т. Смирнов, Б.И. Мишин, П.В. Ижевский, Москва «Просвещение»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Медико-санитарная подготовка учащихся П.А. Курцев, Москва «Просвещение» 1988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Электронный учебник спасателя МЧС Р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л Кириленко А.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ерело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ерелом к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рушение целостности кости под одномоментным воздействием внешней силы, которая превышает запас прочности к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mfs_professor"/>
          <p:cNvPicPr/>
          <p:nvPr/>
        </p:nvPicPr>
        <p:blipFill>
          <a:blip r:embed="rId1"/>
          <a:stretch/>
        </p:blipFill>
        <p:spPr>
          <a:xfrm>
            <a:off x="7236000" y="260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артинка0007"/>
          <p:cNvPicPr/>
          <p:nvPr/>
        </p:nvPicPr>
        <p:blipFill>
          <a:blip r:embed="rId2"/>
          <a:stretch/>
        </p:blipFill>
        <p:spPr>
          <a:xfrm>
            <a:off x="5508720" y="4149720"/>
            <a:ext cx="2577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иды переломов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ушение целостности кости может бы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ол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этом случае возникает трещина надлом дырчатый дефект ткани кости. У детей вследствие неполного созревания костного скелета имеются свои особенности переломов. Часто встречаю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надкостнич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ломы, когда ломается костная основа, а надкостница, покрывающая кость, остается целой, удерживая отломки на своем месте. Возможно также смещение и разъединение костных отломков в зонах роста, где хрящевая ткань еще не преобразовалась в костную. Если ломается нормальная по структуре и прочности кость – такой перелом называетс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авматичес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7596360" y="0"/>
            <a:ext cx="11300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 характеру повреждения кости переломы бываю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ры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ыты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мешен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речаются переломы единичные и множеств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1"/>
          <a:stretch/>
        </p:blipFill>
        <p:spPr>
          <a:xfrm>
            <a:off x="4643280" y="1916280"/>
            <a:ext cx="2376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 характеру образовавшихся отломков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щины, надломы, краевые переломы, поперечные, продольные, косые, винтообразные, оскольчатые перело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619280" y="357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асположению отломков переломы бывают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19280" y="458136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 смещ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19280" y="5445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 смещение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11"/>
          <p:cNvPicPr/>
          <p:nvPr/>
        </p:nvPicPr>
        <p:blipFill>
          <a:blip r:embed="rId1"/>
          <a:stretch/>
        </p:blipFill>
        <p:spPr>
          <a:xfrm>
            <a:off x="5435640" y="4508640"/>
            <a:ext cx="23050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Закрытый перелом – это перелом с неповрежденной целостностью кожных покрово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: нарушение функций в поврежденной конечности, деформация конечности, боли в области перелома, хруст в костях при ощупыван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26920" y="4076640"/>
            <a:ext cx="45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к и припухлость в области перелома кровоизлиянием в области перело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tretch/>
        </p:blipFill>
        <p:spPr>
          <a:xfrm>
            <a:off x="5580000" y="4365720"/>
            <a:ext cx="27370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ткрытый перелом сопровождается повреждением кожи и мягких тканей и сообщается с внешней сред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и: наличие  раны, деформация конечности, из просвета раны могут выступать костные облом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0013"/>
          <p:cNvPicPr/>
          <p:nvPr/>
        </p:nvPicPr>
        <p:blipFill>
          <a:blip r:embed="rId1"/>
          <a:stretch/>
        </p:blipFill>
        <p:spPr>
          <a:xfrm>
            <a:off x="7524720" y="5300640"/>
            <a:ext cx="11206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ммобилизация при переломах косте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 –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 обеспечение условий для неподвижности поврежденной части тела. Иммобилизация обязательно должна быть применена при переломах костей, суставов, повреждении нервов, крупных сосудов, обширных повреждениях мышц, ожогах большой площади те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i"/>
          <p:cNvPicPr/>
          <p:nvPr/>
        </p:nvPicPr>
        <p:blipFill>
          <a:blip r:embed="rId1"/>
          <a:stretch/>
        </p:blipFill>
        <p:spPr>
          <a:xfrm>
            <a:off x="7451640" y="1052640"/>
            <a:ext cx="140040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Картинка0005"/>
          <p:cNvPicPr/>
          <p:nvPr/>
        </p:nvPicPr>
        <p:blipFill>
          <a:blip r:embed="rId2"/>
          <a:stretch/>
        </p:blipFill>
        <p:spPr>
          <a:xfrm>
            <a:off x="6227640" y="5229360"/>
            <a:ext cx="15354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Транспортная                                         иммобилизац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–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оздание неподвижности конечности на время, необходимое для доставки пациента в травмопункт или больн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10"/>
          <p:cNvPicPr/>
          <p:nvPr/>
        </p:nvPicPr>
        <p:blipFill>
          <a:blip r:embed="rId1"/>
          <a:stretch/>
        </p:blipFill>
        <p:spPr>
          <a:xfrm>
            <a:off x="4786200" y="4005360"/>
            <a:ext cx="3602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2:55:35Z</dcterms:created>
  <dc:creator>Artem</dc:creator>
  <dc:description/>
  <dc:language>en-US</dc:language>
  <cp:lastModifiedBy>Aitemi</cp:lastModifiedBy>
  <dcterms:modified xsi:type="dcterms:W3CDTF">2012-02-27T02:05:48Z</dcterms:modified>
  <cp:revision>12</cp:revision>
  <dc:subject/>
  <dc:title>Слайд 1</dc:title>
</cp:coreProperties>
</file>