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11.jpeg" ContentType="image/jpeg"/>
  <Override PartName="/ppt/media/image6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23.gif" ContentType="image/gif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A372-DE24-493E-9F26-7B2EF094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A95-5248-4A81-A91F-9FEC0469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9F6-3B44-4C17-BC0F-99CCFFB7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4F46-8057-4A8F-8A37-F3FB9C66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6370-87A7-4E6B-AF3F-5317BD6B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8762-BC48-4767-8479-800C8A3A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B797-7C43-4625-A0C1-08E2EF1A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B2AF-F8C4-429E-A6E0-043114B2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DA36-0ABD-4B58-BBBA-6118C369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3410-D2CD-489E-B9F6-7E02DEB6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7C30-FE9C-4B21-BC10-9F12BDE4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3409-636B-4D55-8FFD-5E8F4274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7677-7D64-42C5-A9CB-5A873179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37B4-26AA-44D6-8541-3CDE8663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7043-AD97-4A27-A197-EFF51E11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5509-03FA-4502-93D5-D517F8F0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36A5-93B2-4351-A568-4AC366AF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41E6-DC70-4F8D-98FA-A70291DA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3CCA-5BC9-43CE-AC15-E7ED0CCB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BEEC-3032-4513-A00C-B9EA977D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AB2D-4889-441C-83FD-1F9A8B05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9975-A003-4FC8-A578-A78D0FE6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00DC-584A-4D18-9C1F-AAC2A656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297C-D9D7-402D-9823-42DE6451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41C2-605F-432F-8D58-35AD5AD2C32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86BB-F153-4DCB-BB5B-8158DC6E307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click.begun.ru/kick.jsp?url=4vrJyKFvy9XULjtp3Hb2HgCcq4mc2mIuLcqLWSIYT6zCA1pe3u17s8t9a6Nih635qvc4hz1im2WqwAmIS3iNrkzipaJcFLP9ylP1jKLJN2BjuEQuueWIF_tds_SdKKcGCZZkro07LhIsWS9g5Zh0NdewvGR_DLoOF4hiuuu8zZE7hi1XLZMzsRlp46rMHVlv8ZmmkBbO8oal1nJAoc6Jfh-I7_o08UBfmeKmEoJMCq0wadBKyRXQuDqxT1aNHai0FnCJre4rEYV-BgvvkibpWDUTVR9yOf9VB08KBcTSQ8JXOpXpn8v3C_MxBDzWiA5GKwJ5htdeE0JXjVLTA8r0RNFeXUhOfYP1cVQ_zWtnYT0ic7OdqbALeUJGpp1KLp3I1FtddGhM0-6ino9AOD-cAG_7rnsSQa1N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1022400" y="404640"/>
            <a:ext cx="72007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елом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Picture 5" descr="0001"/>
          <p:cNvPicPr/>
          <p:nvPr/>
        </p:nvPicPr>
        <p:blipFill>
          <a:blip r:embed="rId1"/>
          <a:stretch/>
        </p:blipFill>
        <p:spPr>
          <a:xfrm>
            <a:off x="7885080" y="2708280"/>
            <a:ext cx="936720" cy="1440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Картинка0008"/>
          <p:cNvPicPr/>
          <p:nvPr/>
        </p:nvPicPr>
        <p:blipFill>
          <a:blip r:embed="rId2"/>
          <a:stretch/>
        </p:blipFill>
        <p:spPr>
          <a:xfrm>
            <a:off x="284040" y="2708280"/>
            <a:ext cx="1476360" cy="16794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02920" y="4365720"/>
            <a:ext cx="74898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: Кириленко Артём Леонидо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сто работы: МОУ СОШ №6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лжность: учитель физической культуры, преподаватель ОБЖ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сканирование0001"/>
          <p:cNvPicPr/>
          <p:nvPr/>
        </p:nvPicPr>
        <p:blipFill>
          <a:blip r:embed="rId1"/>
          <a:stretch/>
        </p:blipFill>
        <p:spPr>
          <a:xfrm rot="1227000">
            <a:off x="5867280" y="549000"/>
            <a:ext cx="2595600" cy="3686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иды шин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стнич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олоч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анер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тчат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ециальные деревянные Детерих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ручные сре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ребования к иммобилизации следующие: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хват 2-3 сустав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ломанной конечности необходимо придать правильное положение (физиологическое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есткая шина должна быть наложена на вату, ткан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мобилизация должна быть достаточной для создания неподвижности поврежденной кост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3"/>
          <p:cNvPicPr/>
          <p:nvPr/>
        </p:nvPicPr>
        <p:blipFill>
          <a:blip r:embed="rId1"/>
          <a:stretch/>
        </p:blipFill>
        <p:spPr>
          <a:xfrm>
            <a:off x="7623000" y="692280"/>
            <a:ext cx="11304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ервая медицинская помощь при закрытом перелом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медленно прекратить внешнее воздействие поражающих фактор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езболить (спросить о реакции пострадавшего на обезболивающее средство, дать 2-3 таблетки анальгина, растолочь не давать запивать или внутримышечно ввести анальгетик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вести мобилизаци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греть зимой, предупреждение перегрева лет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звать врача или доставить  медицинское учрежд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voice_rington"/>
          <p:cNvPicPr/>
          <p:nvPr/>
        </p:nvPicPr>
        <p:blipFill>
          <a:blip r:embed="rId1"/>
          <a:stretch/>
        </p:blipFill>
        <p:spPr>
          <a:xfrm>
            <a:off x="8101080" y="6093000"/>
            <a:ext cx="86364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ервая медицинская помощь при открытом перелом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тановка кровотечения: (нанести жгут выше раны на 90-120 мин. летом и 60-90мин. зимой., вложить записку с указанием времени (часы, минуты), торчащую кость обложить с двух сторон бинтовыми валиками и наложить стерильную повязк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льнейшие действия, что и при закрытом перело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nmed1"/>
          <p:cNvPicPr/>
          <p:nvPr/>
        </p:nvPicPr>
        <p:blipFill>
          <a:blip r:embed="rId1"/>
          <a:stretch/>
        </p:blipFill>
        <p:spPr>
          <a:xfrm>
            <a:off x="7380360" y="981000"/>
            <a:ext cx="792000" cy="503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Картинка0006"/>
          <p:cNvPicPr/>
          <p:nvPr/>
        </p:nvPicPr>
        <p:blipFill>
          <a:blip r:embed="rId2"/>
          <a:stretch/>
        </p:blipFill>
        <p:spPr>
          <a:xfrm>
            <a:off x="7020000" y="5300640"/>
            <a:ext cx="18223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таскивать или переносить пострадавших без наложения транспортной шин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правлять или сопоставлять костные облом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ительное пребывание спасателя на корточках при оказании пмп (может стать причиной обморок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WordArt 4"/>
          <p:cNvSpPr txBox="1"/>
          <p:nvPr/>
        </p:nvSpPr>
        <p:spPr>
          <a:xfrm rot="322800">
            <a:off x="755640" y="404640"/>
            <a:ext cx="712800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716000"/>
                </a:gradFill>
                <a:latin typeface="Impact"/>
              </a:rPr>
              <a:t>недопустим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716000"/>
              </a:gradFill>
              <a:latin typeface="Impact"/>
              <a:ea typeface="Impact"/>
            </a:endParaRPr>
          </a:p>
        </p:txBody>
      </p:sp>
      <p:pic>
        <p:nvPicPr>
          <p:cNvPr id="139" name="Picture 6" descr="mf_protiv"/>
          <p:cNvPicPr/>
          <p:nvPr/>
        </p:nvPicPr>
        <p:blipFill>
          <a:blip r:embed="rId1"/>
          <a:stretch/>
        </p:blipFill>
        <p:spPr>
          <a:xfrm>
            <a:off x="7093080" y="184464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Перелом бедра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ины накладывают по боковым поверхностям (внутренней, наружной) и бинтуют к конечност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костные выступы подкладывают куски ва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ину накладывают от основания бедра до стопы (неподвижность в тазобедренном, коленном, голеностопном суставах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6"/>
          <p:cNvPicPr/>
          <p:nvPr/>
        </p:nvPicPr>
        <p:blipFill>
          <a:blip r:embed="rId1"/>
          <a:stretch/>
        </p:blipFill>
        <p:spPr>
          <a:xfrm>
            <a:off x="6372360" y="4653000"/>
            <a:ext cx="25207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ерелом предплечь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нять физиологическое положение поврежденной конеч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ину накладывают от основания пальцев до верхней трети плеча (неподвижность лучезапястном и локтевом суставе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ку подвесить на косын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Картинка0003"/>
          <p:cNvPicPr/>
          <p:nvPr/>
        </p:nvPicPr>
        <p:blipFill>
          <a:blip r:embed="rId1"/>
          <a:stretch/>
        </p:blipFill>
        <p:spPr>
          <a:xfrm>
            <a:off x="6156360" y="4562640"/>
            <a:ext cx="28303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егулярное употребление </a:t>
            </a:r>
            <a:r>
              <a:rPr b="1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родуктов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, богатых магнием, кальцием предупреждает перелом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егулярные </a:t>
            </a:r>
            <a:r>
              <a:rPr b="1" lang="ru-RU" sz="3200" spc="-1" strike="noStrike" u="sng">
                <a:solidFill>
                  <a:srgbClr val="ffcc66"/>
                </a:solidFill>
                <a:uFillTx/>
                <a:latin typeface="Tahoma"/>
              </a:rPr>
              <a:t>занятия физической культурой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фитнесом) укрепляет 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c66"/>
                </a:solidFill>
                <a:uFillTx/>
                <a:latin typeface="Tahoma"/>
              </a:rPr>
              <a:t>Не курить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- у курящих медленнее заживают сломанные к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14"/>
          <p:cNvPicPr/>
          <p:nvPr/>
        </p:nvPicPr>
        <p:blipFill>
          <a:blip r:embed="rId2"/>
          <a:stretch/>
        </p:blipFill>
        <p:spPr>
          <a:xfrm>
            <a:off x="7020000" y="5300640"/>
            <a:ext cx="1908000" cy="1405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4"/>
          <p:cNvPicPr/>
          <p:nvPr/>
        </p:nvPicPr>
        <p:blipFill>
          <a:blip r:embed="rId3"/>
          <a:stretch/>
        </p:blipFill>
        <p:spPr>
          <a:xfrm>
            <a:off x="1979640" y="476280"/>
            <a:ext cx="1270080" cy="939600"/>
          </a:xfrm>
          <a:prstGeom prst="rect">
            <a:avLst/>
          </a:prstGeom>
          <a:ln w="0">
            <a:noFill/>
          </a:ln>
        </p:spPr>
      </p:pic>
      <p:sp>
        <p:nvSpPr>
          <p:cNvPr id="149" name="WordArt 7"/>
          <p:cNvSpPr txBox="1"/>
          <p:nvPr/>
        </p:nvSpPr>
        <p:spPr>
          <a:xfrm rot="5400000">
            <a:off x="-2978280" y="3166920"/>
            <a:ext cx="64800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Профилактика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0" name="Picture 9" descr="0017"/>
          <p:cNvPicPr/>
          <p:nvPr/>
        </p:nvPicPr>
        <p:blipFill>
          <a:blip r:embed="rId4"/>
          <a:stretch/>
        </p:blipFill>
        <p:spPr>
          <a:xfrm>
            <a:off x="7524720" y="1844640"/>
            <a:ext cx="933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ОМЗ 911, В.Г. Бубнов, Н.В. Бубнов, Москва Издательство АСТ-ЛТД 1997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ОМЗ и ЗОЖ А.Т. Смирнов, Б.И. Мишин, П.В. Ижевский, Москва «Просвещение» 2002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Медико-санитарная подготовка учащихся П.А. Курцев, Москва «Просвещение» 1988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Электронный учебник спасателя МЧС Р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ил Кириленко А.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ерело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ерелом кост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рушение целостности кости под одномоментным воздействием внешней силы, которая превышает запас прочности к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mfs_professor"/>
          <p:cNvPicPr/>
          <p:nvPr/>
        </p:nvPicPr>
        <p:blipFill>
          <a:blip r:embed="rId1"/>
          <a:stretch/>
        </p:blipFill>
        <p:spPr>
          <a:xfrm>
            <a:off x="7236000" y="260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Картинка0007"/>
          <p:cNvPicPr/>
          <p:nvPr/>
        </p:nvPicPr>
        <p:blipFill>
          <a:blip r:embed="rId2"/>
          <a:stretch/>
        </p:blipFill>
        <p:spPr>
          <a:xfrm>
            <a:off x="5508720" y="4149720"/>
            <a:ext cx="25779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иды переломов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ушение целостности кости может быть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полны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в этом случае возникает трещина надлом дырчатый дефект ткани кости. У детей вследствие неполного созревания костного скелета имеются свои особенности переломов. Часто встречаютс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надкостничн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ереломы, когда ломается костная основа, а надкостница, покрывающая кость, остается целой, удерживая отломки на своем месте. Возможно также смещение и разъединение костных отломков в зонах роста, где хрящевая ткань еще не преобразовалась в костную. Если ломается нормальная по структуре и прочности кость – такой перелом называетс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равматически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2"/>
          <p:cNvPicPr/>
          <p:nvPr/>
        </p:nvPicPr>
        <p:blipFill>
          <a:blip r:embed="rId1"/>
          <a:stretch/>
        </p:blipFill>
        <p:spPr>
          <a:xfrm>
            <a:off x="7596360" y="0"/>
            <a:ext cx="11300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  характеру повреждения кости переломы бывают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крыт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рыт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мешен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тречаются переломы единичные и множествен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5" descr="5"/>
          <p:cNvPicPr/>
          <p:nvPr/>
        </p:nvPicPr>
        <p:blipFill>
          <a:blip r:embed="rId1"/>
          <a:stretch/>
        </p:blipFill>
        <p:spPr>
          <a:xfrm>
            <a:off x="4643280" y="1916280"/>
            <a:ext cx="2376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 характеру образовавшихся отломков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щины, надломы, краевые переломы, поперечные, продольные, косые, винтообразные, оскольчатые перелом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619280" y="3573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расположению отломков переломы бывают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619280" y="458136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з смещ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619280" y="5445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 смещение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11"/>
          <p:cNvPicPr/>
          <p:nvPr/>
        </p:nvPicPr>
        <p:blipFill>
          <a:blip r:embed="rId1"/>
          <a:stretch/>
        </p:blipFill>
        <p:spPr>
          <a:xfrm>
            <a:off x="5435640" y="4508640"/>
            <a:ext cx="230508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Закрытый перелом – это перелом с неповрежденной целостностью кожных покровов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знаки: нарушение функций в поврежденной конечности, деформация конечности, боли в области перелома, хруст в костях при ощупывани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826920" y="4076640"/>
            <a:ext cx="453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ек и припухлость в области перелома кровоизлиянием в области перелом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1"/>
          <p:cNvPicPr/>
          <p:nvPr/>
        </p:nvPicPr>
        <p:blipFill>
          <a:blip r:embed="rId1"/>
          <a:stretch/>
        </p:blipFill>
        <p:spPr>
          <a:xfrm>
            <a:off x="5580000" y="4365720"/>
            <a:ext cx="27370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Открытый перелом сопровождается повреждением кожи и мягких тканей и сообщается с внешней средой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.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знаки: наличие  раны, деформация конечности, из просвета раны могут выступать костные облом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0013"/>
          <p:cNvPicPr/>
          <p:nvPr/>
        </p:nvPicPr>
        <p:blipFill>
          <a:blip r:embed="rId1"/>
          <a:stretch/>
        </p:blipFill>
        <p:spPr>
          <a:xfrm>
            <a:off x="7524720" y="5300640"/>
            <a:ext cx="11206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Иммобилизация при переломах костей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 –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 обеспечение условий для неподвижности поврежденной части тела. Иммобилизация обязательно должна быть применена при переломах костей, суставов, повреждении нервов, крупных сосудов, обширных повреждениях мышц, ожогах большой площади тел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i"/>
          <p:cNvPicPr/>
          <p:nvPr/>
        </p:nvPicPr>
        <p:blipFill>
          <a:blip r:embed="rId1"/>
          <a:stretch/>
        </p:blipFill>
        <p:spPr>
          <a:xfrm>
            <a:off x="7451640" y="1052640"/>
            <a:ext cx="1400400" cy="100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Картинка0005"/>
          <p:cNvPicPr/>
          <p:nvPr/>
        </p:nvPicPr>
        <p:blipFill>
          <a:blip r:embed="rId2"/>
          <a:stretch/>
        </p:blipFill>
        <p:spPr>
          <a:xfrm>
            <a:off x="6227640" y="5229360"/>
            <a:ext cx="15354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Транспортная                                         иммобилизация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–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создание неподвижности конечности на время, необходимое для доставки пациента в травмопункт или больниц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10"/>
          <p:cNvPicPr/>
          <p:nvPr/>
        </p:nvPicPr>
        <p:blipFill>
          <a:blip r:embed="rId1"/>
          <a:stretch/>
        </p:blipFill>
        <p:spPr>
          <a:xfrm>
            <a:off x="4786200" y="4005360"/>
            <a:ext cx="36021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02:55:35Z</dcterms:created>
  <dc:creator>Artem</dc:creator>
  <dc:description/>
  <dc:language>en-US</dc:language>
  <cp:lastModifiedBy>Aitemi</cp:lastModifiedBy>
  <dcterms:modified xsi:type="dcterms:W3CDTF">2012-02-27T02:05:48Z</dcterms:modified>
  <cp:revision>12</cp:revision>
  <dc:subject/>
  <dc:title>Слайд 1</dc:title>
</cp:coreProperties>
</file>