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23.gif" ContentType="image/gif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F51-97EB-498D-B5CC-6EF148FA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E35-4E6E-4E71-A47E-F38AA36A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41C-9382-445E-AAC3-E3C78566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66B-FCEC-4D84-9829-BB6F40BD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50B9-F173-43DF-9D87-92C6A8D6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62ED-C703-4532-B36C-34FFAB50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E647-C50C-4813-A18D-074E332E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BEEC-818E-4EC4-BD9B-30654C7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62D8-C080-4A76-A4C7-347C640F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0F51-24FA-463F-9277-3965AC20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4825-658F-45FA-B810-3E9BB49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C32-0BEB-4C99-BCDF-F6033FE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9045-7ACF-4A6B-A870-F3F12E0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D87-8D0E-4EEE-88EB-3823B149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CE71-E2CA-4EAA-873F-CE92C02C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4C45-6491-46B0-9716-CC111D67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62DB-08E7-48AE-8ADA-F9912A0A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4C9-23CD-4D43-ABBF-B0CA1E57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E3C-A0A3-4BE3-84BD-B4D018A7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F60-385D-4FEE-AB87-AE97A243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BCD-F4DF-47EB-AF2C-F2548328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FCB-3058-4719-BAF4-704115D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CDE-ED2C-41DE-BCE0-D60D8FB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BFA-EE40-4325-874F-727AF14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1F01-1EF6-4F36-9304-1260CCD12E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8D75-4863-484D-8750-FED37DFCB4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lick.begun.ru/kick.jsp?url=4vrJyKFvy9XULjtp3Hb2HgCcq4mc2mIuLcqLWSIYT6zCA1pe3u17s8t9a6Nih635qvc4hz1im2WqwAmIS3iNrkzipaJcFLP9ylP1jKLJN2BjuEQuueWIF_tds_SdKKcGCZZkro07LhIsWS9g5Zh0NdewvGR_DLoOF4hiuuu8zZE7hi1XLZMzsRlp46rMHVlv8ZmmkBbO8oal1nJAoc6Jfh-I7_o08UBfmeKmEoJMCq0wadBKyRXQuDqxT1aNHai0FnCJre4rEYV-BgvvkibpWDUTVR9yOf9VB08KBcTSQ8JXOpXpn8v3C_MxBDzWiA5GKwJ5htdeE0JXjVLTA8r0RNFeXUhOfYP1cVQ_zWtnYT0ic7OdqbALeUJGpp1KLp3I1FtddGhM0-6ino9AOD-cAG_7rnsSQa1N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022400" y="404640"/>
            <a:ext cx="72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5" descr="0001"/>
          <p:cNvPicPr/>
          <p:nvPr/>
        </p:nvPicPr>
        <p:blipFill>
          <a:blip r:embed="rId1"/>
          <a:stretch/>
        </p:blipFill>
        <p:spPr>
          <a:xfrm>
            <a:off x="7885080" y="2708280"/>
            <a:ext cx="936720" cy="144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Картинка0008"/>
          <p:cNvPicPr/>
          <p:nvPr/>
        </p:nvPicPr>
        <p:blipFill>
          <a:blip r:embed="rId2"/>
          <a:stretch/>
        </p:blipFill>
        <p:spPr>
          <a:xfrm>
            <a:off x="284040" y="2708280"/>
            <a:ext cx="1476360" cy="1679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2920" y="4365720"/>
            <a:ext cx="7489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Кириленко Артём Леонид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о работы: МОУ СОШ №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лжность: учитель физической культуры, преподаватель ОБ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сканирование0001"/>
          <p:cNvPicPr/>
          <p:nvPr/>
        </p:nvPicPr>
        <p:blipFill>
          <a:blip r:embed="rId1"/>
          <a:stretch/>
        </p:blipFill>
        <p:spPr>
          <a:xfrm rot="1227000">
            <a:off x="5867280" y="549000"/>
            <a:ext cx="2595600" cy="3686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иды шин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стни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ло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нер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тча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е деревянные Детерих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руч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ебования к иммобилизации следующие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хват 2-3 сустав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манной конечности необходимо придать правильное положение (физиологическо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сткая шина должна быть наложена на вату, ткан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мобилизация должна быть достаточной для создания неподвижности поврежденной к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3"/>
          <p:cNvPicPr/>
          <p:nvPr/>
        </p:nvPicPr>
        <p:blipFill>
          <a:blip r:embed="rId1"/>
          <a:stretch/>
        </p:blipFill>
        <p:spPr>
          <a:xfrm>
            <a:off x="7623000" y="692280"/>
            <a:ext cx="1130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рвая медицинская помощь при закрытом перелом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дленно прекратить внешнее воздействие поражающих факто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зболить (спросить о реакции пострадавшего на обезболивающее средство, дать 2-3 таблетки анальгина, растолочь не давать запивать или внутримышечно ввести анальгети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сти мобилизац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реть зимой, предупреждение перегрева лет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звать врача или доставить  медицинское учре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voice_rington"/>
          <p:cNvPicPr/>
          <p:nvPr/>
        </p:nvPicPr>
        <p:blipFill>
          <a:blip r:embed="rId1"/>
          <a:stretch/>
        </p:blipFill>
        <p:spPr>
          <a:xfrm>
            <a:off x="8101080" y="6093000"/>
            <a:ext cx="863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рвая медицинская помощь при открытом перелом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новка кровотечения: (нанести жгут выше раны на 90-120 мин. летом и 60-90мин. зимой., вложить записку с указанием времени (часы, минуты), торчащую кость обложить с двух сторон бинтовыми валиками и наложить стерильную повяз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ьнейшие действия, что и при закрытом перел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nmed1"/>
          <p:cNvPicPr/>
          <p:nvPr/>
        </p:nvPicPr>
        <p:blipFill>
          <a:blip r:embed="rId1"/>
          <a:stretch/>
        </p:blipFill>
        <p:spPr>
          <a:xfrm>
            <a:off x="7380360" y="98100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Картинка0006"/>
          <p:cNvPicPr/>
          <p:nvPr/>
        </p:nvPicPr>
        <p:blipFill>
          <a:blip r:embed="rId2"/>
          <a:stretch/>
        </p:blipFill>
        <p:spPr>
          <a:xfrm>
            <a:off x="7020000" y="5300640"/>
            <a:ext cx="18223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таскивать или переносить пострадавших без наложения транспортной ши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равлять или сопоставлять костные облом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тельное пребывание спасателя на корточках при оказании пмп (может стать причиной обморок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WordArt 4"/>
          <p:cNvSpPr txBox="1"/>
          <p:nvPr/>
        </p:nvSpPr>
        <p:spPr>
          <a:xfrm rot="322800">
            <a:off x="755640" y="404640"/>
            <a:ext cx="712800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16000"/>
                </a:gradFill>
                <a:latin typeface="Impact"/>
              </a:rPr>
              <a:t>недопустим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16000"/>
              </a:gradFill>
              <a:latin typeface="Impact"/>
              <a:ea typeface="Impact"/>
            </a:endParaRPr>
          </a:p>
        </p:txBody>
      </p:sp>
      <p:pic>
        <p:nvPicPr>
          <p:cNvPr id="139" name="Picture 6" descr="mf_protiv"/>
          <p:cNvPicPr/>
          <p:nvPr/>
        </p:nvPicPr>
        <p:blipFill>
          <a:blip r:embed="rId1"/>
          <a:stretch/>
        </p:blipFill>
        <p:spPr>
          <a:xfrm>
            <a:off x="7093080" y="1844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ерелом бедр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ны накладывают по боковым поверхностям (внутренней, наружной) и бинтуют к конечност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остные выступы подкладывают куски ва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ну накладывают от основания бедра до стопы (неподвижность в тазобедренном, коленном, голеностопном сустава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6"/>
          <p:cNvPicPr/>
          <p:nvPr/>
        </p:nvPicPr>
        <p:blipFill>
          <a:blip r:embed="rId1"/>
          <a:stretch/>
        </p:blipFill>
        <p:spPr>
          <a:xfrm>
            <a:off x="6372360" y="4653000"/>
            <a:ext cx="25207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ерелом предплечь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ь физиологическое положение поврежденной конеч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ну накладывают от основания пальцев до верхней трети плеча (неподвижность лучезапястном и локтевом сустав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у подвесить на косын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Картинка0003"/>
          <p:cNvPicPr/>
          <p:nvPr/>
        </p:nvPicPr>
        <p:blipFill>
          <a:blip r:embed="rId1"/>
          <a:stretch/>
        </p:blipFill>
        <p:spPr>
          <a:xfrm>
            <a:off x="6156360" y="4562640"/>
            <a:ext cx="2830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улярное употребление </a:t>
            </a:r>
            <a:r>
              <a:rPr b="1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одукт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богатых магнием, кальцием предупреждает перело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улярные </a:t>
            </a:r>
            <a:r>
              <a:rPr b="1" lang="ru-RU" sz="3200" spc="-1" strike="noStrike" u="sng">
                <a:solidFill>
                  <a:srgbClr val="ffcc66"/>
                </a:solidFill>
                <a:uFillTx/>
                <a:latin typeface="Tahoma"/>
              </a:rPr>
              <a:t>занятия физической культу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фитнесом) укрепляет 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66"/>
                </a:solidFill>
                <a:uFillTx/>
                <a:latin typeface="Tahoma"/>
              </a:rPr>
              <a:t>Не ку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 курящих медленнее заживают сломанные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14"/>
          <p:cNvPicPr/>
          <p:nvPr/>
        </p:nvPicPr>
        <p:blipFill>
          <a:blip r:embed="rId2"/>
          <a:stretch/>
        </p:blipFill>
        <p:spPr>
          <a:xfrm>
            <a:off x="7020000" y="5300640"/>
            <a:ext cx="1908000" cy="140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4"/>
          <p:cNvPicPr/>
          <p:nvPr/>
        </p:nvPicPr>
        <p:blipFill>
          <a:blip r:embed="rId3"/>
          <a:stretch/>
        </p:blipFill>
        <p:spPr>
          <a:xfrm>
            <a:off x="1979640" y="476280"/>
            <a:ext cx="1270080" cy="9396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7"/>
          <p:cNvSpPr txBox="1"/>
          <p:nvPr/>
        </p:nvSpPr>
        <p:spPr>
          <a:xfrm rot="5400000">
            <a:off x="-2978280" y="3166920"/>
            <a:ext cx="6480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рофилактик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Picture 9" descr="0017"/>
          <p:cNvPicPr/>
          <p:nvPr/>
        </p:nvPicPr>
        <p:blipFill>
          <a:blip r:embed="rId4"/>
          <a:stretch/>
        </p:blipFill>
        <p:spPr>
          <a:xfrm>
            <a:off x="7524720" y="1844640"/>
            <a:ext cx="93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МЗ 911, В.Г. Бубнов, Н.В. Бубнов, Москва Издательство АСТ-ЛТД 1997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МЗ и ЗОЖ А.Т. Смирнов, Б.И. Мишин, П.В. Ижевский, Москва «Просвещение»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Медико-санитарная подготовка учащихся П.А. Курцев, Москва «Просвещение» 1988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Электронный учебник спасателя МЧС Р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л Кириленко А.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ерело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ерелом к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рушение целостности кости под одномоментным воздействием внешней силы, которая превышает запас прочности к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mfs_professor"/>
          <p:cNvPicPr/>
          <p:nvPr/>
        </p:nvPicPr>
        <p:blipFill>
          <a:blip r:embed="rId1"/>
          <a:stretch/>
        </p:blipFill>
        <p:spPr>
          <a:xfrm>
            <a:off x="7236000" y="260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Картинка0007"/>
          <p:cNvPicPr/>
          <p:nvPr/>
        </p:nvPicPr>
        <p:blipFill>
          <a:blip r:embed="rId2"/>
          <a:stretch/>
        </p:blipFill>
        <p:spPr>
          <a:xfrm>
            <a:off x="5508720" y="4149720"/>
            <a:ext cx="2577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иды переломов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целостности кости может быт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ол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этом случае возникает трещина надлом дырчатый дефект ткани кости. У детей вследствие неполного созревания костного скелета имеются свои особенности переломов. Часто встречаю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надкостнич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еломы, когда ломается костная основа, а надкостница, покрывающая кость, остается целой, удерживая отломки на своем месте. Возможно также смещение и разъединение костных отломков в зонах роста, где хрящевая ткань еще не преобразовалась в костную. Если ломается нормальная по структуре и прочности кость – такой перелом назыв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авматически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7596360" y="0"/>
            <a:ext cx="11300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  характеру повреждения кости переломы бываю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ры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ы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ешен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речаются переломы единичные и множествен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1"/>
          <a:stretch/>
        </p:blipFill>
        <p:spPr>
          <a:xfrm>
            <a:off x="4643280" y="1916280"/>
            <a:ext cx="2376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 характеру образовавшихся отломков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щины, надломы, краевые переломы, поперечные, продольные, косые, винтообразные, оскольчатые перело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619280" y="357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положению отломков переломы бывают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19280" y="4581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 смещ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619280" y="5445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 смещени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11"/>
          <p:cNvPicPr/>
          <p:nvPr/>
        </p:nvPicPr>
        <p:blipFill>
          <a:blip r:embed="rId1"/>
          <a:stretch/>
        </p:blipFill>
        <p:spPr>
          <a:xfrm>
            <a:off x="5435640" y="4508640"/>
            <a:ext cx="230508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Закрытый перелом – это перелом с неповрежденной целостностью кожных покров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и: нарушение функций в поврежденной конечности, деформация конечности, боли в области перелома, хруст в костях при ощупыван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26920" y="4076640"/>
            <a:ext cx="45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к и припухлость в области перелома кровоизлиянием в области перело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1"/>
          <p:cNvPicPr/>
          <p:nvPr/>
        </p:nvPicPr>
        <p:blipFill>
          <a:blip r:embed="rId1"/>
          <a:stretch/>
        </p:blipFill>
        <p:spPr>
          <a:xfrm>
            <a:off x="5580000" y="4365720"/>
            <a:ext cx="2737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ткрытый перелом сопровождается повреждением кожи и мягких тканей и сообщается с внешней сред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и: наличие  раны, деформация конечности, из просвета раны могут выступать костные облом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0013"/>
          <p:cNvPicPr/>
          <p:nvPr/>
        </p:nvPicPr>
        <p:blipFill>
          <a:blip r:embed="rId1"/>
          <a:stretch/>
        </p:blipFill>
        <p:spPr>
          <a:xfrm>
            <a:off x="7524720" y="5300640"/>
            <a:ext cx="11206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ммобилизация при переломах косте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 –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 обеспечение условий для неподвижности поврежденной части тела. Иммобилизация обязательно должна быть применена при переломах костей, суставов, повреждении нервов, крупных сосудов, обширных повреждениях мышц, ожогах большой площади те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i"/>
          <p:cNvPicPr/>
          <p:nvPr/>
        </p:nvPicPr>
        <p:blipFill>
          <a:blip r:embed="rId1"/>
          <a:stretch/>
        </p:blipFill>
        <p:spPr>
          <a:xfrm>
            <a:off x="7451640" y="1052640"/>
            <a:ext cx="1400400" cy="10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Картинка0005"/>
          <p:cNvPicPr/>
          <p:nvPr/>
        </p:nvPicPr>
        <p:blipFill>
          <a:blip r:embed="rId2"/>
          <a:stretch/>
        </p:blipFill>
        <p:spPr>
          <a:xfrm>
            <a:off x="6227640" y="5229360"/>
            <a:ext cx="15354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Транспортная                                         иммобилизац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–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оздание неподвижности конечности на время, необходимое для доставки пациента в травмопункт или больниц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10"/>
          <p:cNvPicPr/>
          <p:nvPr/>
        </p:nvPicPr>
        <p:blipFill>
          <a:blip r:embed="rId1"/>
          <a:stretch/>
        </p:blipFill>
        <p:spPr>
          <a:xfrm>
            <a:off x="4786200" y="4005360"/>
            <a:ext cx="3602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02:55:35Z</dcterms:created>
  <dc:creator>Artem</dc:creator>
  <dc:description/>
  <dc:language>en-US</dc:language>
  <cp:lastModifiedBy>Aitemi</cp:lastModifiedBy>
  <dcterms:modified xsi:type="dcterms:W3CDTF">2012-02-27T02:05:48Z</dcterms:modified>
  <cp:revision>12</cp:revision>
  <dc:subject/>
  <dc:title>Слайд 1</dc:title>
</cp:coreProperties>
</file>