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B4D-693A-4FFB-83D7-40367A8A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7E4-D2A5-4A79-B98F-E942613E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0D1-5B17-47E4-8CD6-421EC7D8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727-ADC0-4186-8984-DE88CBB2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F3B1-20F8-4402-959C-DA568473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B40C-8855-4853-A413-A6B4FAE4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2549-C22E-4E84-9124-EC5B0CC8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193B-DE87-4DBA-9BE4-51E33972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A637-69C6-4ADB-9C52-1CFD3A52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7560-0C8A-4979-A26F-FDDEB184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CAD5-A532-4D02-BEDC-91C5625E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3C6-7073-49AC-827E-A9C9E703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BFB6-3D10-47E1-975B-F9040278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6DD5-27D6-4213-9E56-D27905E4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7C4F-6AFB-4F29-9366-52411930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B29F-EC74-499F-9FB3-32A8C543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E438-5A5E-4A97-89CF-92FC461B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788E5-2EF6-4859-B4C6-D560ABC1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DC6D4-16A0-40B4-9B14-0C5827D6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016A0-36DB-40A0-837C-C8427A8A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C23B5-A0BF-4914-BAF4-E8BF4703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20C8D-13A1-4C2D-8E1D-7E1CCE22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9FB-1A68-4284-84CB-52DC240B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9CEC1-7131-4E90-BFB9-1C57963F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25A97-88DD-4858-95DD-1EAD891A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B2AEE-A1C0-4557-A89E-12694B8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18CBE-51C0-47B0-A19C-ADB934C8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8AD7F-B6F0-4B5E-8A12-39B75054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022D5-50AC-4131-ACC1-B579C99C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EA12F-B8AA-4E0B-A908-8721B423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E17E6-4FF9-45C6-947A-CF06DEAA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50835-5492-490E-8639-B4B3F7F3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B00B-2F06-4451-92E3-4E77A6BE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F24-8A94-40B6-A9BF-C4B2F9C5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4966A-6DDC-4915-B386-19EDEFC9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2185-BCFF-49F2-A5D3-9EF49059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E894F-ED4E-43FF-9C41-55E37DB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1AD0E-13FC-424A-852A-70164F50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086B-3810-48DB-9950-89540E8B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9CCB-4402-4613-B185-1DED0834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6D1E0-0CBD-4579-B383-17E6410B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2C7F8-2C36-4878-94B9-AE4D2F88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5F185-3684-474F-B4D4-717EEE5D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5B614-59E2-4245-AD85-655525BD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41C-22F7-43B1-8546-D1D8DDF3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E5B8C-65FF-4A83-A06B-4DC8C54A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7AD46-ABCD-4EFA-972F-8AFA8612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1355F-FF19-4800-A48B-8A24D3A8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3D8BE-257E-4786-AB5D-3F58B10E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9CAB6-18AF-4B0C-9CF2-45FE0862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D34A1-9A68-43E1-B96F-494ABD0B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01694-4E86-4470-B072-6E4D4C1C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66427-28F8-4284-AC43-7E44A5D6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1443A-F611-4516-A803-20143D63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0BD28-0B21-4D79-9576-8AF4B89D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B64-32EF-43B7-9209-742C87D4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57E8D-1F2C-4B4C-8580-DC4C4D6A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AE543-3774-4B1A-BB7B-9F67924E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B1431-5EF6-463E-A265-3EB35BC8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AE51B-AEB2-447C-BC0C-E26E3984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4BDD0-C448-4D62-A11F-D96B41A4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E8F91-9A65-4EF6-B83E-4987599C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CDA57-F366-4914-989B-58080C89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11D8A-A70F-41E0-BF65-C3FC487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0AA9B-7AA3-42E3-9CC7-B359BE54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429EB2-9039-40C6-AF33-42247F8B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8DA-7D5D-490C-9789-3BA896F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6B3198-BC7C-40D8-8D66-E3AE78F7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820AD-B25F-44BE-9A7B-BB9651A7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7EB21-5F0B-47D1-B4BB-0E8C3C67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133C73-D71B-4B51-A0FB-EB46AE2F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A62253-AFC0-47AA-836C-B873BACD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5B04B-1FF8-4A36-BA80-B658480E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DFE2E5-6129-410A-B481-BADEE2E2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A1B85-5F65-431E-95A8-14C533AC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BB909-3F6F-43EC-927B-A907CA79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60AB2-2E03-48B0-9863-6374F24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683-9AB4-4C85-A495-1D480705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FF78C-A6ED-4661-8E0C-842D00BB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6772B-48F6-456A-8AEE-F21BA2E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3FA87-D6FD-4E60-8140-62D1BA5D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0751E-A325-4EBA-BB89-3F751BDF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2B793-2C4B-4A38-8105-AB02126D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357-BDD6-4D94-9043-8AD0FABA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9E32-E516-4AC5-B0AC-193CD27595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8150-BA82-463C-9239-06C7B2A579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C1AA-69CA-4888-8E83-9C1389CB26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dec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7dec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1A03-211A-4E23-AB13-08E3DC05333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B337-4D66-4A44-B757-8C48361C94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DB7B-97FF-4353-9466-C7558F0F15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1B0E-5540-4B79-A50B-E0A23A9B9D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68000" y="2781000"/>
            <a:ext cx="61009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Асбестовское муниципальное дошкольное образовательное учреждение детский сад комбинированного вида № 25</a:t>
            </a:r>
            <a:br>
              <a:rPr sz="1400"/>
            </a:br>
            <a:br>
              <a:rPr sz="2600"/>
            </a:br>
            <a:r>
              <a:rPr b="1" lang="ru-RU" sz="3200" spc="-1" strike="noStrike">
                <a:solidFill>
                  <a:srgbClr val="4f271c"/>
                </a:solidFill>
                <a:latin typeface="Arial"/>
              </a:rPr>
              <a:t>ОСТОРОЖНО – ЭЛЕКТРОПРИБОРЫ!!!</a:t>
            </a:r>
            <a:r>
              <a:rPr b="1" lang="ru-RU" sz="4400" spc="-1" strike="noStrike">
                <a:solidFill>
                  <a:srgbClr val="4f271c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4f271c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Авторы: Лабутина Е.В.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Асбест, 2011</a:t>
            </a:r>
            <a:br>
              <a:rPr sz="1800"/>
            </a:br>
            <a:endParaRPr b="0" lang="en-US" sz="1800" spc="-1" strike="noStrike">
              <a:solidFill>
                <a:srgbClr val="4f27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460836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гости к нам пришла соседка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ы резвились с ней полдня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ицу вставили в розетку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розетки – столб огня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ы с соседкой еле-ел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ыгнуть в сторону успели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па мой, большой знаток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м сказал: “В розетке – ток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м розетку эту 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гать не советую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тюги и провод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хватайте никогда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ок невидимый без рук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с ударить может вдруг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Текст 12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28940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0e5e"/>
                </a:solidFill>
                <a:latin typeface="Arial"/>
              </a:rPr>
              <a:t>Чтоб не случилась с тобою беда</a:t>
            </a:r>
            <a:br>
              <a:rPr sz="2800"/>
            </a:br>
            <a:r>
              <a:rPr b="1" lang="en-US" sz="2800" spc="-1" strike="noStrike">
                <a:solidFill>
                  <a:srgbClr val="120e5e"/>
                </a:solidFill>
                <a:latin typeface="Arial"/>
              </a:rPr>
              <a:t>Правила эти помни всегда!!!</a:t>
            </a:r>
            <a:endParaRPr b="0" lang="en-US" sz="28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4" name="Текст 12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657600" cy="35560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1280" y="5444640"/>
            <a:ext cx="76327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199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 заливай водой горящие электроприб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4f271c"/>
                </a:solidFill>
                <a:latin typeface="Tahoma"/>
              </a:rPr>
              <a:t>Не играй с розетками!!!</a:t>
            </a:r>
            <a:endParaRPr b="0" lang="en-US" sz="39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7" name="Текст 12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44164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Не дотрагивайся до проводов и электроприборов мокрыми руками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9" name="Текст 12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41648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Не оставляйте без присмотра включенные электроприборы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1" name="Текст 12" descr=""/>
          <p:cNvPicPr/>
          <p:nvPr/>
        </p:nvPicPr>
        <p:blipFill>
          <a:blip r:embed="rId1"/>
          <a:stretch/>
        </p:blipFill>
        <p:spPr>
          <a:xfrm>
            <a:off x="1982880" y="1889280"/>
            <a:ext cx="44164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Если все приборы разом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Ты в одну розетку включишь,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То пожар проводки сразу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В этой комнате получишь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3" name="Текст 12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338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В розетку ни в коем случае нельзя втыкать посторонние предметы (особенно металлические)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5" name="Текст 12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4321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137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Нельзя тянуть 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за электрический провод. 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Выключая электроприбор, 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возьмись за вилку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7" name="Текст 12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4392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353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ahoma"/>
              </a:rPr>
              <a:t>Внимание!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ahoma"/>
              </a:rPr>
              <a:t>Соблюдайте правила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4f271c"/>
                </a:solidFill>
                <a:latin typeface="Tahoma"/>
              </a:rPr>
              <a:t>чтоб не было возгорания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Загадки об электроприборах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елый шкаф стоит в углу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ашей кухни на полу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нем немало льда и снег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нем всегда мороз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ожет быть, снег белый с неб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то-нибудь принес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Здесь морозно даже летом..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то мне скажет, что же это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Текст 12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6576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1092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Ток бежит по проводам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Свет несёт в квартиру на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Чтоб работали приборы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Холодильник, монитор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Кофемолки, пылесос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Ток энергию принёс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Есть у меня в квартире робо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 него огромный хобо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Любит робот чисто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 гудит, как лайнер "ТУ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н охотно пыль глотает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е болеет, не чихае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то говорить – не солнце я,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о освещать умею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еня лишь включите, друзья,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 станет жизнь светлее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е будет времени для сна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сегда, когда я включена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Текст 12" descr=""/>
          <p:cNvPicPr/>
          <p:nvPr/>
        </p:nvPicPr>
        <p:blipFill>
          <a:blip r:embed="rId1"/>
          <a:srcRect l="35567" t="36106" r="36312" b="35669"/>
          <a:stretch/>
        </p:blipFill>
        <p:spPr>
          <a:xfrm>
            <a:off x="4932360" y="549360"/>
            <a:ext cx="2157480" cy="23032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25192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388764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26560" y="836640"/>
            <a:ext cx="7705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и важен, я и нужен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ишь включите вы мен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сли только захочу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ипяточку вскипяч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вас чаем напо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хотите, вы, ребят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вам песенку спо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сли песню не хотите 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вам сказку расскаж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2195640" cy="24480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2400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4360" y="620640"/>
            <a:ext cx="7991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олько я, только 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Я на кухне главна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ез меня, как ни трудитес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ез обеда насидитесь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а столе я нахожус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ам, ребята, пригожус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еня вечером включит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огда читать вы захотит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68528" t="39168" r="2384" b="35754"/>
          <a:stretch/>
        </p:blipFill>
        <p:spPr>
          <a:xfrm>
            <a:off x="4859280" y="260280"/>
            <a:ext cx="2338560" cy="2664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258920" y="3195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 сатиновому пол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рейс пошел электро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н плывет, с волнами спор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о назад, а то вперед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ам, где он оставил след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и одной морщинки нет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от так дом 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дно ок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аждый ден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окне кино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595680" cy="27734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rcRect l="3246" t="36389" r="67482" b="36682"/>
          <a:stretch/>
        </p:blipFill>
        <p:spPr>
          <a:xfrm>
            <a:off x="4859280" y="333360"/>
            <a:ext cx="287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08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рез поле и лес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ается голос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 бежит по проводам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ажешь здес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слышно т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мотри на боч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 мне вертится волч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 кого он не бьё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то всё собьё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2995920" cy="22449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rcRect l="4906" t="11640" r="66545" b="63964"/>
          <a:stretch/>
        </p:blipFill>
        <p:spPr>
          <a:xfrm>
            <a:off x="755640" y="3213000"/>
            <a:ext cx="2879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4678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f271c"/>
                </a:solidFill>
                <a:latin typeface="Arial"/>
              </a:rPr>
              <a:t>Игра с мячом «Для чего это нужно?».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вайте вместе вспомним, какие действия совершают разными электроприбор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югом – гладят бельё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ксером – взбивают кр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ном – сушат волос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мпой – освещают книг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ылесосом – пылесосят ковр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нтилятором – охлаждают возду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холодильнике – хранят продук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микроволновке – разогревают е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айнике – кипятят во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электроплите – готовят е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елефону – звоня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магнитофоне – слушают музы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3b2a"/>
                </a:solidFill>
                <a:latin typeface="Tahoma"/>
              </a:rPr>
              <a:t>Главное правило пользования электроприборами для до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Нельзя включать электроприборы без разрешения взросл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и в их отсутств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3b2a"/>
                </a:solidFill>
                <a:latin typeface="Tahoma"/>
              </a:rPr>
              <a:t>И если вы будете соблюдать все эти правила, то электричество будет  всегда вашим друг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4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ети, будьте бдительны!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чень заняты ваши родители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мните о своей безопасности –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круг не мал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пасностей!</a:t>
            </a:r>
            <a:br>
              <a:rPr sz="2600"/>
            </a:b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78" name="Текст 12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3657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Жизнь опасна если рядом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Зажигалки, спички, ток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Не бери их в руки, детка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Вот тогда и будет толк</a:t>
            </a: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49053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Газ на кухне, пылесос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Телевизор, тостер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Пусть включает взрослый.</a:t>
            </a:r>
            <a:r>
              <a:rPr b="0" lang="en-US" sz="2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2" name="Текст 12" descr=""/>
          <p:cNvPicPr/>
          <p:nvPr/>
        </p:nvPicPr>
        <p:blipFill>
          <a:blip r:embed="rId1"/>
          <a:stretch/>
        </p:blipFill>
        <p:spPr>
          <a:xfrm>
            <a:off x="1936800" y="1916280"/>
            <a:ext cx="45082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И девочка, и мальчик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Не суй в розетку пальчик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В розетке круглый год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Живет опасный ток!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4" name="Текст 12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45356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Нельзя играться с утюгом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Утюг бывает тоже злом!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Не приключиться чтоб беде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Утюг нельзя включать тебе!!!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0134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6113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Если ты включил утюг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Убегать не надо вдруг.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Закрывая в доме дверь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Все ли выключил, проверь.</a:t>
            </a:r>
            <a:r>
              <a:rPr b="0" lang="en-US" sz="2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979640" y="2246400"/>
            <a:ext cx="50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7708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Вот докрасна утюг раскалился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Хозяин ушел, а пожар приключился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Скажем, друзья вам, дружно и ясно: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Утюг и розетку трогать опасно.</a:t>
            </a:r>
            <a:r>
              <a:rPr b="0" lang="en-US" sz="2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0" name="Текст 1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895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20:05:32Z</dcterms:created>
  <dc:creator>Admin</dc:creator>
  <dc:description/>
  <dc:language>en-US</dc:language>
  <cp:lastModifiedBy>Женя</cp:lastModifiedBy>
  <dcterms:modified xsi:type="dcterms:W3CDTF">2012-04-27T06:41:45Z</dcterms:modified>
  <cp:revision>32</cp:revision>
  <dc:subject/>
  <dc:title>Огонь в картинках и загадках.</dc:title>
</cp:coreProperties>
</file>