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C623-8BD2-45D4-9723-9660AFA7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8472-656E-4229-B1E8-26A25D75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F695-A42A-429C-984B-0A409249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8B5D-FBD4-4570-B015-790D014D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645E-D3E1-475E-BFFD-054C5D0B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3B77-9832-4395-BD5F-95564C64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6D73-94BE-417E-B8A4-75BD7919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605A-B388-49D3-B234-21493427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3E7B-DEFA-4584-82D0-FEEF9664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40F7-7B3A-4C3F-8D1C-89BB9F1C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CF73-2442-4A33-97A2-BD0AE1F9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8A23-7652-409B-8723-2BC14534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BB6D-B9B5-4972-AA4B-A055F193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B35A-3823-4C1B-82FB-A1654DFB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4D36-CEAD-4D99-84C1-44C66314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9016-C1A6-49A5-9F2E-45BF8EEE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A634-5044-45CC-A028-3DDB5120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D693E6-CFC0-469A-A774-7DAECF00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772655-12D2-468E-A8E4-9EFD947E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B4CC4-C126-4605-A4E7-E6841128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025E1-FCB9-4F94-A64F-77077668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6D0425-17DA-4D12-97B5-7647CA5A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7985-147B-421C-ABFA-3DF63727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78211-F691-4FF7-9ACA-5BE852CC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DD80E-9173-4C58-B6AD-11594CEE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8E9902-645B-4155-8E26-5E31AA8D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001BD-7EB1-4A43-9591-C0F6022F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6BE677-AD74-4564-ADD3-D13B75FF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18C2C-1129-47E4-9BBB-97AADAA8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FE1BA-395C-4696-9274-566D5179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FE60F-5E3B-421F-9B9D-F49B7064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562FC-D210-44C3-B06A-6187F4D1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C7113-BB20-4091-A2BF-93E1B25A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A9C-C3BF-4547-AC9E-25C77EC3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FF3ED-3BED-4F32-A435-D20E0941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FFAE4-A06F-40B9-B3AA-307F538F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D63BD-BBB7-47FA-8791-847FEDD3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CF593-E052-4F89-8F10-0113F1AC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33ADC-C573-4961-B577-BBF4A2C7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1FD47-7A67-41C2-9EF9-BB1B09A9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81F8A-4E98-46F9-AA37-6A4D2FED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AF9D3-7CA5-4C1F-A9AD-32F7D1FD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E02F5-BE13-4C0A-B3CF-34514CF1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DC9DA8-3782-4723-949D-01578FCA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62ED-22A5-4B65-9C0F-09D46B92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C6E57A-742A-46B5-9FFC-70B0FFE2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B6C54E-7B54-4499-B796-2EE20671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8AF774-514E-4FE6-B3FA-39E3003D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A30705-2913-44F4-A220-65F323A2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EDF1DE-788E-4EA3-A432-A8F50AD0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6D3019-77EC-4738-8867-4458329E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93FFEC-8FB5-41BD-AF19-B1AEE3DE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5BF00-EC70-45E2-8C66-A5F65FDA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56FA30-5B28-417C-AC6C-D8207D06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6C6766-3966-4FA7-B48B-7A4757A6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D8F0-7D17-4A32-9671-707BDE16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F38D19-896C-42A7-9AF0-9904377D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D48F9E-0D73-4F5D-BAE2-836D349E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ED2B90-6333-47A4-9FAE-3146177C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E8247F-8DD7-442F-B54D-2079CB51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C688AD-AD98-43A1-A924-2EA987E8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F77903-4D05-4B66-AC74-0E2230BE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ECB0C5-CD87-4A31-A5DC-F4B93EB8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34A123-B5C6-4CB8-9C92-35C3E36F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58E9B2-179B-477E-B1DE-09226EEA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3CF8C6-F2A2-4D2F-87D0-72B31A87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6C70-4EDF-4AE0-BF7A-080CA95C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883D4-FA8C-42A2-AAD1-5804C56C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807E2F-5FBC-4C13-A8A7-41DF3A09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5AA429-936A-45A3-BE61-DB1CAD3E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5E1768-5D5A-4D99-B80A-253BC934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C839E7-CF42-4991-998D-BB8B6DA8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B2FE22-0090-4161-98B9-A7D3D334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083FA7-6E54-421C-98BF-29C0214E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BD7F99-645E-434C-BBD9-2A6B14B0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6A66A7-7C40-4FE9-9B3E-718F5239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09460D-AE6C-4D7C-B91A-71ECC5F7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4BC3-3478-40D0-BF8D-D965B635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08CC4C-A8BB-494F-8801-0D33BF8B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13BDE2-B188-453E-8ACE-7D35CFBE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94201E-30F7-48C6-9EC7-2D1784AA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F91911-33B7-44A6-9ACD-8A1EDFCF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052861-4188-4FF6-BB5F-72C86C3D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6139-56BF-4413-A825-FF9EC506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BA47-04B9-4967-9FC2-3B466AF443E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A599-4161-44BF-9FC0-DDB3C1DA488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6D40-A006-44E8-A08C-8061BADFD12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dec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e7dec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0707-9843-4462-B1ED-46081A0D807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833B-4A62-4D30-A57C-D95AC874343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D912-BF60-4958-8630-926D8C995CA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4A43-F5F0-4412-9517-A6E601748CE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68000" y="2781000"/>
            <a:ext cx="61009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271c"/>
                </a:solidFill>
                <a:latin typeface="Arial"/>
              </a:rPr>
              <a:t>Асбестовское муниципальное дошкольное образовательное учреждение детский сад комбинированного вида № 25</a:t>
            </a:r>
            <a:br>
              <a:rPr sz="1400"/>
            </a:br>
            <a:br>
              <a:rPr sz="2600"/>
            </a:br>
            <a:r>
              <a:rPr b="1" lang="ru-RU" sz="3200" spc="-1" strike="noStrike">
                <a:solidFill>
                  <a:srgbClr val="4f271c"/>
                </a:solidFill>
                <a:latin typeface="Arial"/>
              </a:rPr>
              <a:t>ОСТОРОЖНО – ЭЛЕКТРОПРИБОРЫ!!!</a:t>
            </a:r>
            <a:r>
              <a:rPr b="1" lang="ru-RU" sz="4400" spc="-1" strike="noStrike">
                <a:solidFill>
                  <a:srgbClr val="4f271c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4f271c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Авторы: Лабутина Е.В.</a:t>
            </a:r>
            <a:br>
              <a:rPr sz="1800"/>
            </a:b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                                           </a:t>
            </a:r>
            <a:r>
              <a:rPr b="1" lang="en-US" sz="1800" spc="-1" strike="noStrike">
                <a:solidFill>
                  <a:srgbClr val="10253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Асбест, 2011</a:t>
            </a:r>
            <a:br>
              <a:rPr sz="1800"/>
            </a:br>
            <a:endParaRPr b="0" lang="en-US" sz="1800" spc="-1" strike="noStrike">
              <a:solidFill>
                <a:srgbClr val="4f27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460836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гости к нам пришла соседка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ы резвились с ней полдня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ицу вставили в розетку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 розетки – столб огня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ы с соседкой еле-еле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ыгнуть в сторону успели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па мой, большой знаток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м сказал: “В розетке – ток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м розетку эту я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огать не советую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тюги и провода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 хватайте никогда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ок невидимый без рук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с ударить может вдруг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Текст 12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28940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0e5e"/>
                </a:solidFill>
                <a:latin typeface="Arial"/>
              </a:rPr>
              <a:t>Чтоб не случилась с тобою беда</a:t>
            </a:r>
            <a:br>
              <a:rPr sz="2800"/>
            </a:br>
            <a:r>
              <a:rPr b="1" lang="en-US" sz="2800" spc="-1" strike="noStrike">
                <a:solidFill>
                  <a:srgbClr val="120e5e"/>
                </a:solidFill>
                <a:latin typeface="Arial"/>
              </a:rPr>
              <a:t>Правила эти помни всегда!!!</a:t>
            </a:r>
            <a:endParaRPr b="0" lang="en-US" sz="28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94" name="Текст 12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3657600" cy="35560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1280" y="5444640"/>
            <a:ext cx="763272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199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Не заливай водой горящие электроприб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1" lang="en-US" sz="3900" spc="-1" strike="noStrike">
                <a:solidFill>
                  <a:srgbClr val="4f271c"/>
                </a:solidFill>
                <a:latin typeface="Tahoma"/>
              </a:rPr>
              <a:t>Не играй с розетками!!!</a:t>
            </a:r>
            <a:endParaRPr b="0" lang="en-US" sz="39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97" name="Текст 12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44164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Не дотрагивайся до проводов и электроприборов мокрыми руками!!!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99" name="Текст 12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441648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Не оставляйте без присмотра включенные электроприборы!!!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401" name="Текст 12" descr=""/>
          <p:cNvPicPr/>
          <p:nvPr/>
        </p:nvPicPr>
        <p:blipFill>
          <a:blip r:embed="rId1"/>
          <a:stretch/>
        </p:blipFill>
        <p:spPr>
          <a:xfrm>
            <a:off x="1982880" y="1889280"/>
            <a:ext cx="441648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2184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1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Если все приборы разом</a:t>
            </a:r>
            <a:br>
              <a:rPr sz="3200"/>
            </a:b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Ты в одну розетку включишь,</a:t>
            </a:r>
            <a:br>
              <a:rPr sz="3200"/>
            </a:b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То пожар проводки сразу</a:t>
            </a:r>
            <a:br>
              <a:rPr sz="3200"/>
            </a:b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В этой комнате получишь!!!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403" name="Текст 12" descr=""/>
          <p:cNvPicPr/>
          <p:nvPr/>
        </p:nvPicPr>
        <p:blipFill>
          <a:blip r:embed="rId1"/>
          <a:stretch/>
        </p:blipFill>
        <p:spPr>
          <a:xfrm>
            <a:off x="2411280" y="2276640"/>
            <a:ext cx="3381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8036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В розетку ни в коем случае нельзя втыкать посторонние предметы (особенно металлические)!!!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405" name="Текст 12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43210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137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Нельзя тянуть </a:t>
            </a:r>
            <a:br>
              <a:rPr sz="3200"/>
            </a:b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за электрический провод. </a:t>
            </a:r>
            <a:br>
              <a:rPr sz="3200"/>
            </a:b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Выключая электроприбор, </a:t>
            </a:r>
            <a:br>
              <a:rPr sz="3200"/>
            </a:b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возьмись за вилку!</a:t>
            </a:r>
            <a:endParaRPr b="0" lang="en-US" sz="32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407" name="Текст 12" descr=""/>
          <p:cNvPicPr/>
          <p:nvPr/>
        </p:nvPicPr>
        <p:blipFill>
          <a:blip r:embed="rId1"/>
          <a:stretch/>
        </p:blipFill>
        <p:spPr>
          <a:xfrm>
            <a:off x="2050920" y="2997360"/>
            <a:ext cx="4392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353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271c"/>
                </a:solidFill>
                <a:latin typeface="Tahoma"/>
              </a:rPr>
              <a:t>Внимание!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271c"/>
                </a:solidFill>
                <a:latin typeface="Tahoma"/>
              </a:rPr>
              <a:t>Соблюдайте правила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271c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4f271c"/>
                </a:solidFill>
                <a:latin typeface="Tahoma"/>
              </a:rPr>
              <a:t>чтоб не было возгорания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Загадки об электроприборах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Белый шкаф стоит в углу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Нашей кухни на полу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В нем немало льда и снега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В нем всегда мороз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Может быть, снег белый с неба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Кто-нибудь принес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Здесь морозно даже летом..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Кто мне скажет, что же это?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Текст 12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365760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10920" y="105228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Ток бежит по проводам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Свет несёт в квартиру нам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Чтоб работали приборы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Холодильник, монитор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Кофемолки, пылесос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Ток энергию принёс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0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Есть у меня в квартире робо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У него огромный хобо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Любит робот чистот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И гудит, как лайнер "ТУ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Он охотно пыль глотает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Не болеет, не чихае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Что говорить – не солнце я,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Но освещать умею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Меня лишь включите, друзья,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И станет жизнь светлее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Не будет времени для сна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Всегда, когда я включена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Текст 12" descr=""/>
          <p:cNvPicPr/>
          <p:nvPr/>
        </p:nvPicPr>
        <p:blipFill>
          <a:blip r:embed="rId1"/>
          <a:srcRect l="35567" t="36106" r="36312" b="35669"/>
          <a:stretch/>
        </p:blipFill>
        <p:spPr>
          <a:xfrm>
            <a:off x="4932360" y="549360"/>
            <a:ext cx="2157480" cy="23032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1116000" y="3716280"/>
            <a:ext cx="25192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68000" y="1052280"/>
            <a:ext cx="388764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26560" y="836640"/>
            <a:ext cx="7705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Я и важен, я и нужен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ишь включите вы мен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Если только захочу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ипяточку вскипяч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 вас чаем напою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хотите, вы, ребята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Я вам песенку спою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Если песню не хотите –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Я вам сказку расскажу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219640" y="620640"/>
            <a:ext cx="2195640" cy="24480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324000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4360" y="620640"/>
            <a:ext cx="7991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Только я, только я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Я на кухне главна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Без меня, как ни трудитесь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Без обеда насидитесь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На столе я нахожусь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Вам, ребята, пригожус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Меня вечером включит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Когда читать вы захотит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rcRect l="68528" t="39168" r="2384" b="35754"/>
          <a:stretch/>
        </p:blipFill>
        <p:spPr>
          <a:xfrm>
            <a:off x="4859280" y="260280"/>
            <a:ext cx="2338560" cy="26640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1258920" y="3195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610920" y="476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о сатиновому пол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В рейс пошел электрохо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Он плывет, с волнами споря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То назад, а то вперед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Там, где он оставил след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Ни одной морщинки нет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Вот так дом —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Одно окно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Каждый ден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В окне кино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3595680" cy="27734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rcRect l="3246" t="36389" r="67482" b="36682"/>
          <a:stretch/>
        </p:blipFill>
        <p:spPr>
          <a:xfrm>
            <a:off x="4859280" y="333360"/>
            <a:ext cx="2879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82087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ерез поле и лес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ается голос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н бежит по проводам 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ажешь здес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 слышно т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мотри на боч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 мне вертится волч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и кого он не бьё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то всё собьё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2995920" cy="224496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rcRect l="4906" t="11640" r="66545" b="63964"/>
          <a:stretch/>
        </p:blipFill>
        <p:spPr>
          <a:xfrm>
            <a:off x="755640" y="3213000"/>
            <a:ext cx="28796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46784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f271c"/>
                </a:solidFill>
                <a:latin typeface="Arial"/>
              </a:rPr>
              <a:t>Игра с мячом «Для чего это нужно?».</a:t>
            </a:r>
            <a:endParaRPr b="0" lang="en-US" sz="2600" spc="-1" strike="noStrike">
              <a:solidFill>
                <a:srgbClr val="4f271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вайте вместе вспомним, какие действия совершают разными электроприбор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тюгом – гладят бельё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ксером – взбивают кр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ном – сушат волос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мпой – освещают книг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ылесосом – пылесосят ковр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нтилятором – охлаждают возду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холодильнике – хранят продукт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микроволновке – разогревают ед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чайнике – кипятят вод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электроплите – готовят ед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телефону – звоня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магнитофоне – слушают музы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497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3b2a"/>
                </a:solidFill>
                <a:latin typeface="Tahoma"/>
              </a:rPr>
              <a:t>Главное правило пользования электроприборами для дошколь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Нельзя включать электроприборы без разрешения взрослы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Tahoma"/>
              </a:rPr>
              <a:t>и в их отсутств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3b2a"/>
                </a:solidFill>
                <a:latin typeface="Tahoma"/>
              </a:rPr>
              <a:t>И если вы будете соблюдать все эти правила, то электричество будет  всегда вашим друг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74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Дети, будьте бдительны!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чень заняты ваши родители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мните о своей безопасности –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округ не мал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пасностей!</a:t>
            </a:r>
            <a:br>
              <a:rPr sz="2600"/>
            </a:br>
            <a:endParaRPr b="0" lang="en-US" sz="26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78" name="Текст 12" descr=""/>
          <p:cNvPicPr/>
          <p:nvPr/>
        </p:nvPicPr>
        <p:blipFill>
          <a:blip r:embed="rId1"/>
          <a:stretch/>
        </p:blipFill>
        <p:spPr>
          <a:xfrm>
            <a:off x="2124000" y="2421000"/>
            <a:ext cx="36576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349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Жизнь опасна если рядом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Зажигалки, спички, ток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Не бери их в руки, детка,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Вот тогда и будет толк</a:t>
            </a:r>
            <a:r>
              <a:rPr b="0" lang="en-US" sz="3000" spc="-1" strike="noStrike">
                <a:solidFill>
                  <a:srgbClr val="4f27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49053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349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Газ на кухне, пылесос,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Телевизор, тостер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Пусть включает взрослый.</a:t>
            </a:r>
            <a:r>
              <a:rPr b="0" lang="en-US" sz="2600" spc="-1" strike="noStrike">
                <a:solidFill>
                  <a:srgbClr val="4f271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82" name="Текст 12" descr=""/>
          <p:cNvPicPr/>
          <p:nvPr/>
        </p:nvPicPr>
        <p:blipFill>
          <a:blip r:embed="rId1"/>
          <a:stretch/>
        </p:blipFill>
        <p:spPr>
          <a:xfrm>
            <a:off x="1936800" y="1916280"/>
            <a:ext cx="450828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И девочка, и мальчик,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Не суй в розетку пальчик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В розетке круглый год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Живет опасный ток!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84" name="Текст 12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453564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3492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Нельзя играться с утюгом,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Утюг бывает тоже злом!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Не приключиться чтоб беде,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Утюг нельзя включать тебе!!!</a:t>
            </a:r>
            <a:endParaRPr b="0" lang="en-US" sz="30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601344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6113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Если ты включил утюг,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Убегать не надо вдруг.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Закрывая в доме дверь,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Все ли выключил, проверь.</a:t>
            </a:r>
            <a:r>
              <a:rPr b="0" lang="en-US" sz="2600" spc="-1" strike="noStrike">
                <a:solidFill>
                  <a:srgbClr val="4f271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979640" y="2246400"/>
            <a:ext cx="5040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7708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Вот докрасна утюг раскалился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Хозяин ушел, а пожар приключился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Скажем, друзья вам, дружно и ясно: </a:t>
            </a:r>
            <a:br>
              <a:rPr sz="3000"/>
            </a:br>
            <a:r>
              <a:rPr b="1" lang="en-US" sz="3000" spc="-1" strike="noStrike">
                <a:solidFill>
                  <a:srgbClr val="4f271c"/>
                </a:solidFill>
                <a:latin typeface="Arial"/>
              </a:rPr>
              <a:t>Утюг и розетку трогать опасно.</a:t>
            </a:r>
            <a:r>
              <a:rPr b="0" lang="en-US" sz="2600" spc="-1" strike="noStrike">
                <a:solidFill>
                  <a:srgbClr val="4f271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f271c"/>
              </a:solidFill>
              <a:latin typeface="Arial"/>
            </a:endParaRPr>
          </a:p>
        </p:txBody>
      </p:sp>
      <p:pic>
        <p:nvPicPr>
          <p:cNvPr id="390" name="Текст 12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489564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20:05:32Z</dcterms:created>
  <dc:creator>Admin</dc:creator>
  <dc:description/>
  <dc:language>en-US</dc:language>
  <cp:lastModifiedBy>Женя</cp:lastModifiedBy>
  <dcterms:modified xsi:type="dcterms:W3CDTF">2012-04-27T06:41:45Z</dcterms:modified>
  <cp:revision>32</cp:revision>
  <dc:subject/>
  <dc:title>Огонь в картинках и загадках.</dc:title>
</cp:coreProperties>
</file>