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13E-842C-42D1-B817-73ABCEDC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7E3-489A-473C-A8A9-5631BD3C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9CB-72ED-4865-898E-69561C34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0DA-4CD4-4CD3-820D-5EF49B41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5895-24AD-4136-82D7-1FAA625B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8C9E-4256-418F-B40F-D35AF1DD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63C7-51E9-4FCF-95BF-CDB1753D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F678-2CA8-4E43-9A28-CA73971F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DE21-7A35-4787-BF40-6449CB6F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CB54-D3E1-4DE1-9B1F-59D9F104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A330-E6BC-4ABD-9491-651D7E1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5B1-98F4-4C7C-8355-CCCCA5D5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852B-B45C-4B48-874C-78777DA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3106-842C-4A7B-B602-7757E500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9C6E-F6AC-43AD-95C6-53815B52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EAED-9EC1-43EE-A9E1-FDD911C2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4371-D9B7-493A-A373-E77C9055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86FB5-BD7A-4EB4-B1C4-5ED38138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24AC8-857E-4936-94F2-340806F1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A671E-4F44-4226-84DC-353721D4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BA272-CF09-45B8-A72A-3EFCE0F9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2131C-1A9E-44FE-852D-24D3F1A3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E21-2EE1-41CA-8D6D-C617EB21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F49A8-C6EB-42BE-849A-621FB181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18832-59ED-497D-8E20-3BFB109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1DEEE-6B3F-4B2C-8A6E-AC088E59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44123-4E47-4425-BE6C-36C7D62B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B08A2-87CF-4BD9-AAF7-BC626DEC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96CEB-0E1F-4E71-8B75-B7F291C3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D4B73-65BD-49B8-862D-E1C4FF73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B0429-7BE0-4D46-83BB-59AECDAB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F95F-C5ED-4DE0-8E0B-2879B8BF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7030-01BF-4C2A-8D23-C852A4D5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1AE-5F91-449B-A162-71E904F0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E4A5-70A6-4133-AD71-354BC8D3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FFF6-C976-4F8F-AE70-42882437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89C82-31DB-4EAE-8600-1D8AB6FF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1A56C-D5C0-431B-956E-94ECDA6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11BC-CEF8-475A-808A-5EEC8BC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108A-B385-4E46-B63C-09447BD5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CA18-1AF1-415F-9015-608788F3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0321-C7FE-4674-A48E-8D69CF13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C2FF-C448-47A8-9693-47004FD0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886CF-E882-4D30-AA41-AA41BAC4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F32-E693-4919-913D-3714336C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B221E-8801-4A9B-BE27-4606FBAD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7D1E9-2022-423A-B8A0-0CBE86DB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C092A-15CD-4729-98EB-46958525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EA880-3D80-4D0E-94F2-C9FF62F5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74DDB-53B5-4BEE-B5C7-030EC34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54BC1-C907-4544-B074-4C3968D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6230B-299E-4880-B63E-2353EB4F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29231-747A-40F9-BA4F-85707C1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B1962-2D43-42CD-B1AB-13299DD0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6708C-85B2-4A88-8087-8A3CD4BF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318-D285-4ECE-A44E-E4F90726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ADBC0-5F15-4476-8BA7-FD9C6E10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17EEC-7421-487D-ACBA-FA2323EA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33657-2235-480D-BCD6-A6481C91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636CB-E0BB-45CC-9A0E-E359AD8C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6BB17-F3BB-45D9-82C0-B9C2E596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5D92F-9DE2-4EFF-96DE-62673A0B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E8510-9061-40E2-9983-499D52B1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3D6F6-6356-489D-A38C-8F204007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DCA76-CC49-47D5-AE32-DC76DA88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3DC60-A643-491C-B66C-CA1B9A68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D9F-7BF0-43AB-835F-E5026B3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D4540-288D-4CD6-A9C0-4756B9A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75CD3-F0E2-4C47-BB36-14255A49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40C65-7C0D-4715-BAE6-8FA507D9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A0A2E-5882-4795-8698-9489D4FC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865D7-7C25-4268-BAF9-B0E4056F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D139F-F1EA-4473-979E-48FC3E49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4A63F-5DBD-4216-9C78-214CA91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6336D-842F-40D5-AA86-8A2C5F4D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DC78B-A7B3-4D41-A714-5D1ADBB0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896E0-992C-453E-BD20-CE55D798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233-ABAB-4918-865F-BCF55B29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C7755-0BCA-467E-8D53-8A26D255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6F221-E3CB-4A26-9813-FA9F54B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822A3-30FC-48F0-ACFE-5FC789E3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14FE3-EF6B-48AC-B689-DF816474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752F6-2BAA-4D05-95D2-090B1903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36B-5D2D-4C6E-B3E0-196C197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64D9-D950-4B7B-8A9A-39072731E0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6D81-1EFC-4FDF-9A44-42DA177BB1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4CCA-EDCD-404C-9F02-AD7978BE65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616-4106-49A2-B73B-29AEDA539D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D3A7-F19F-421F-937D-2351644B78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7B71-CA51-4190-858B-95AAC7893D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7AF8-F8B2-479C-A8DE-3048077C20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2781000"/>
            <a:ext cx="61009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Асбестовское муниципальное дошкольное образовательное учреждение детский сад комбинированного вида № 25</a:t>
            </a:r>
            <a:br>
              <a:rPr sz="1400"/>
            </a:br>
            <a:br>
              <a:rPr sz="2600"/>
            </a:br>
            <a:r>
              <a:rPr b="1" lang="ru-RU" sz="3200" spc="-1" strike="noStrike">
                <a:solidFill>
                  <a:srgbClr val="4f271c"/>
                </a:solidFill>
                <a:latin typeface="Arial"/>
              </a:rPr>
              <a:t>ОСТОРОЖНО – ЭЛЕКТРОПРИБОРЫ!!!</a:t>
            </a: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Авторы: Лабутина Е.В.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Асбест, 2011</a:t>
            </a:r>
            <a:br>
              <a:rPr sz="1800"/>
            </a:br>
            <a:endParaRPr b="0" lang="en-US" sz="1800" spc="-1" strike="noStrike">
              <a:solidFill>
                <a:srgbClr val="4f27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460836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гости к нам пришла соседка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 резвились с ней полдня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ицу вставили в розетку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розетки – столб огня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 с соседкой еле-ел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ыгнуть в сторону успели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па мой, большой знаток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м сказал: “В розетке – ток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м розетку эту 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гать не советую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тюги и провод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хватайте никогда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к невидимый без ру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с ударить может вдруг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Текст 12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28940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0e5e"/>
                </a:solidFill>
                <a:latin typeface="Arial"/>
              </a:rPr>
              <a:t>Чтоб не случилась с тобою беда</a:t>
            </a:r>
            <a:br>
              <a:rPr sz="2800"/>
            </a:br>
            <a:r>
              <a:rPr b="1" lang="en-US" sz="2800" spc="-1" strike="noStrike">
                <a:solidFill>
                  <a:srgbClr val="120e5e"/>
                </a:solidFill>
                <a:latin typeface="Arial"/>
              </a:rPr>
              <a:t>Правила эти помни всегда!!!</a:t>
            </a:r>
            <a:endParaRPr b="0" lang="en-US" sz="28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4" name="Текст 12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657600" cy="35560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1280" y="5444640"/>
            <a:ext cx="76327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9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 заливай водой горящие электроприб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4f271c"/>
                </a:solidFill>
                <a:latin typeface="Tahoma"/>
              </a:rPr>
              <a:t>Не играй с розетками!!!</a:t>
            </a:r>
            <a:endParaRPr b="0" lang="en-US" sz="39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7" name="Текст 12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4164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 дотрагивайся до проводов и электроприборов мокрыми руками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9" name="Текст 12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41648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 оставляйте без присмотра включенные электроприборы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1" name="Текст 12" descr=""/>
          <p:cNvPicPr/>
          <p:nvPr/>
        </p:nvPicPr>
        <p:blipFill>
          <a:blip r:embed="rId1"/>
          <a:stretch/>
        </p:blipFill>
        <p:spPr>
          <a:xfrm>
            <a:off x="1982880" y="1889280"/>
            <a:ext cx="44164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Если все приборы разом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Ты в одну розетку включишь,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То пожар проводки сразу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 этой комнате получишь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3" name="Текст 12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3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 розетку ни в коем случае нельзя втыкать посторонние предметы (особенно металлические)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5" name="Текст 12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4321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137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льзя тянуть 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за электрический провод. 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ыключая электроприбор, 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озьмись за вилку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7" name="Текст 12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4392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353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Внимание!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Соблюдайте правил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чтоб не было возгорания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Загадки об электроприборах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лый шкаф стоит в углу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ашей кухни на пол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нем немало льда и снег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нем всегда мороз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ожет быть, снег белый с неб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то-нибудь принес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Здесь морозно даже летом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то мне скажет, что же это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Текст 12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657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Ток бежит по проводам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Свет несёт в квартиру на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Чтоб работали приборы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Холодильник, монитор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Кофемолки, пылесос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Ток энергию принёс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Есть у меня в квартире р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 него огромный х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Любит робот чисто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 гудит, как лайнер "ТУ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н охотно пыль глотает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е болеет, не чихае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то говорить – не солнце 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о освещать умею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еня лишь включите, друзь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 станет жизнь светлее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е будет времени для сна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сегда, когда я включена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Текст 12" descr=""/>
          <p:cNvPicPr/>
          <p:nvPr/>
        </p:nvPicPr>
        <p:blipFill>
          <a:blip r:embed="rId1"/>
          <a:srcRect l="35567" t="36106" r="36312" b="35669"/>
          <a:stretch/>
        </p:blipFill>
        <p:spPr>
          <a:xfrm>
            <a:off x="4932360" y="549360"/>
            <a:ext cx="2157480" cy="23032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519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388764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7705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и важен, я и нужен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шь включите вы мен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только захочу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ипяточку вскипяч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вас чаем на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хотите, вы, ребят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песенку с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песню не хотите 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сказку расскаж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2195640" cy="2448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240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4360" y="620640"/>
            <a:ext cx="7991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олько я, только 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Я на кухне главна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з меня, как ни трудите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з обеда насидитесь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а столе я нахожу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ам, ребята, пригожус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еня вечером включи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огда читать вы захотит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68528" t="39168" r="2384" b="35754"/>
          <a:stretch/>
        </p:blipFill>
        <p:spPr>
          <a:xfrm>
            <a:off x="4859280" y="260280"/>
            <a:ext cx="2338560" cy="2664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258920" y="3195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 сатиновому по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рейс пошел электро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н плывет, с волнами спор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о назад, а то вперед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ам, где он оставил след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и одной морщинки нет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от так дом 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дно ок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аждый ден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окне кино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595680" cy="2773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rcRect l="3246" t="36389" r="67482" b="36682"/>
          <a:stretch/>
        </p:blipFill>
        <p:spPr>
          <a:xfrm>
            <a:off x="4859280" y="333360"/>
            <a:ext cx="287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08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ез поле и ле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ается голос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 бежит по проводам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ажешь зде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слышно 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мотри на боч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 мне вертится волч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 кого он не бьё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то всё собьё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2995920" cy="22449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rcRect l="4906" t="11640" r="66545" b="63964"/>
          <a:stretch/>
        </p:blipFill>
        <p:spPr>
          <a:xfrm>
            <a:off x="755640" y="3213000"/>
            <a:ext cx="2879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467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f271c"/>
                </a:solidFill>
                <a:latin typeface="Arial"/>
              </a:rPr>
              <a:t>Игра с мячом «Для чего это нужно?».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вайте вместе вспомним, какие действия совершают разными электроприбор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югом – гладят бель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ксером – взбивают кр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ом – сушат волос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мпой – освещают книг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ылесосом – пылесосят ковр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нтилятором – охлаждают возду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холодильнике – хранят продук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микроволновке – разогреваю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айнике – кипятят во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электроплите – готовя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лефону – звоня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магнитофоне – слушают музы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3b2a"/>
                </a:solidFill>
                <a:latin typeface="Tahoma"/>
              </a:rPr>
              <a:t>Главное правило пользования электроприборами для до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льзя включать электроприборы без разрешения взросл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и в их отсутств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3b2a"/>
                </a:solidFill>
                <a:latin typeface="Tahoma"/>
              </a:rPr>
              <a:t>И если вы будете соблюдать все эти правила, то электричество будет  всегда вашим друг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ети, будьте бдительны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чень заняты ваши родители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мните о своей безопасности –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круг не мал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пасностей!</a:t>
            </a:r>
            <a:br>
              <a:rPr sz="2600"/>
            </a:b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78" name="Текст 12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3657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Жизнь опасна если рядом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Зажигалки, спички, ток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 бери их в руки, детка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от тогда и будет толк</a:t>
            </a: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905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Газ на кухне, пылесос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Телевизор, тостер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Пусть включает взрослый.</a:t>
            </a:r>
            <a:r>
              <a:rPr b="0" lang="en-US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2" name="Текст 12" descr=""/>
          <p:cNvPicPr/>
          <p:nvPr/>
        </p:nvPicPr>
        <p:blipFill>
          <a:blip r:embed="rId1"/>
          <a:stretch/>
        </p:blipFill>
        <p:spPr>
          <a:xfrm>
            <a:off x="1936800" y="1916280"/>
            <a:ext cx="45082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И девочка, и мальчик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 суй в розетку пальчик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 розетке круглый год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Живет опасный ток!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4" name="Текст 12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45356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льзя играться с утюгом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тюг бывает тоже злом!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 приключиться чтоб беде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тюг нельзя включать тебе!!!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0134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6113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Если ты включил утюг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бегать не надо вдруг.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Закрывая в доме дверь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се ли выключил, проверь.</a:t>
            </a:r>
            <a:r>
              <a:rPr b="0" lang="en-US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979640" y="2246400"/>
            <a:ext cx="50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7708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от докрасна утюг раскалился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Хозяин ушел, а пожар приключился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Скажем, друзья вам, дружно и ясно: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тюг и розетку трогать опасно.</a:t>
            </a:r>
            <a:r>
              <a:rPr b="0" lang="en-US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0" name="Текст 1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895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20:05:32Z</dcterms:created>
  <dc:creator>Admin</dc:creator>
  <dc:description/>
  <dc:language>en-US</dc:language>
  <cp:lastModifiedBy>Женя</cp:lastModifiedBy>
  <dcterms:modified xsi:type="dcterms:W3CDTF">2012-04-27T06:41:45Z</dcterms:modified>
  <cp:revision>32</cp:revision>
  <dc:subject/>
  <dc:title>Огонь в картинках и загадках.</dc:title>
</cp:coreProperties>
</file>