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08C-BB8B-4B60-A483-452C2DBB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098-97A3-42F4-B9D8-A29B7CE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420-35FF-4E87-815E-5E08DFBE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C52-268A-4714-AD88-BC07B3DF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BE9-5714-49EC-8046-CC2689CF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C39C-9653-47EB-A384-C969455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90A3-F0DA-4D57-9F40-A33FB103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52AF-3D12-4740-9574-C0CF5784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4FC0-F611-4DC0-94CC-BC7F7B50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E582-ECDA-4B0B-8CF4-A38B7617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968-A636-4F3B-984F-17B3936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AFD-0636-4DCD-A333-914B4EA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C46F-0427-4DB9-A8C7-3CAB555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8F3-F31B-4731-B9A5-5BD75AC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EBA3-71A0-43C9-BE27-EC47BA8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A19D-1C54-45F5-BDCD-D5A481D3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6663-5073-4845-9953-6BFD7751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5193-F9DE-4D8B-A489-335660D3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0A83-B6CC-49E2-B951-36F85149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25F2-8A43-44FD-9AFB-94D4648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F7ED-1B7B-4811-8CB5-F86EF57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9643-0C31-4C5E-A171-262DC9E3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8B9-7619-4702-A1BC-C117AE6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D05B-AB8E-44DC-8047-554B26A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9A20-75E7-45F5-951B-6A012B8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4ACA-5BE1-4EDE-85CE-07105B27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B248-554C-4802-842F-4E3DADF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4DC8-47A7-4F5D-8B79-10372782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91B0-D441-44A9-ADBE-4337B2DD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164B-C3B4-4308-BCE3-E32EBCC8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C30F-47A3-4AA9-A302-A4415980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2F94-136B-4114-BBCB-53303B0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8821-4A8C-4FEF-92F5-0540391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47C-9355-4659-8E4A-3EFBE22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53800-63F7-4206-814F-61BE472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AFD9-3CD5-46BA-A281-B32B2C4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2E78-0AF2-427F-82F1-CEDA086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46BB-3780-44A4-AFB9-BA269B8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9E749-509F-4FD6-AA69-917B2A1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AC25-992D-4B85-9DC9-9D69BDE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3961-C822-4997-9108-2F49523D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1D53-2D6A-41A4-A0E5-B347FC66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25DD-37F5-47A7-9409-0E338407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58FB-BCD0-4E53-B847-84E5F202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809-0DCC-451E-9BA4-89F13B8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8E54-2C59-450E-83A0-2BA766A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E78A-58DD-4016-9D0E-4A75DD3A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ABD4-F101-4C15-B531-6AAE181A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8EAC-B844-4930-87F0-2E40188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0BB4-E6BF-407C-B875-A44A976A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DC9D7-FEF7-44F9-A3BC-81860D3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22AE-EDDC-4B0A-A807-7B820C61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FFA1-FA97-4331-B343-E525D55C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27E2-A619-466F-9C36-B65D9F5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79D1-22CA-4F6A-A341-CC1194AA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6E5-24C4-4686-95C9-65C2BAEE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01A8-0165-4FDE-8BB0-F8D1E272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E436-E82D-49BD-B2B1-A1236396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07EE-2408-4B73-8144-96AB7E68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4E88-5FB4-4734-AE2C-82ADD588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72CD3-2675-497B-AECD-32C85B0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D6E3F-3A57-4F7B-9ED6-450ACB6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5D3B-6DA1-487D-A568-463F20A6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875A-06F2-4F59-B9AB-E214632D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7836-0624-4143-BB7B-2F53116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D5E9F-2CD4-4CDC-8D9F-D7DAA92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AEB-3CCD-4043-9A0C-5AB5B50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AD5A-A262-4BBA-921B-57777722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0E35-1515-4D9E-BDBA-96050F46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7CBE-8FBC-4CE2-A047-DB5A7659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313-5BFC-4FC0-89C0-45FADCB6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75B-88A2-44C8-9A62-5037E510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9847-00A4-402F-BDE8-E00FF51060E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EAF-F40B-4C5F-AB29-66FEC5DDCC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9E2-27B1-4137-BA86-9CDE6EEC986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345-883E-4C73-8835-5D7600484E7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F94-FE99-4235-8C0A-9782F91243C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8251-4242-4B82-9FDA-AD1E0634A84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58760" y="792000"/>
            <a:ext cx="8167680" cy="2732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Виктор\Рабочий стол\картиныы\38_01_02.jpg"/>
          <p:cNvPicPr/>
          <p:nvPr/>
        </p:nvPicPr>
        <p:blipFill>
          <a:blip r:embed="rId2"/>
          <a:stretch/>
        </p:blipFill>
        <p:spPr>
          <a:xfrm>
            <a:off x="3214800" y="3127320"/>
            <a:ext cx="25714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C:\Documents and Settings\Виктор\Рабочий стол\картиныы\_710.jpg"/>
          <p:cNvPicPr/>
          <p:nvPr/>
        </p:nvPicPr>
        <p:blipFill>
          <a:blip r:embed="rId1"/>
          <a:stretch/>
        </p:blipFill>
        <p:spPr>
          <a:xfrm>
            <a:off x="-239760" y="0"/>
            <a:ext cx="938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Picture 2" descr="C:\Documents and Settings\Виктор\Рабочий стол\картиныы\1.jpg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C:\Documents and Settings\Виктор\Рабочий стол\картиныы\inet_13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Picture 2" descr="C:\Documents and Settings\Виктор\Рабочий стол\картиныы\mif2_1.jpg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Виктор\Рабочий стол\картиныы\slidek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заблаговременном оповещении об опасности  оползня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ыстро соберите наиболее важные документа, деньги и ц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лышав звук сирен, включите средства приема информации и прослушайте сообщение о характере угрозы и порядке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берите со двора и балконов наиболее ценное имущество. Подготовьте самые необходимые вещи, медикаменты, продукты и сложите их в сум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ключите электричество, газ и во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готовьтесь к эвакуации. Возьмите сумки и направляйтесь в эвакопункт для посадки в транспорт или самостоятельно покиньте опасную з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внезапном проявлении оползн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59984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покиньте опасную зону, предупредив об угрозе близких и сосе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ставайтесь в безопасном месте до получения сигнала о том, что опасность миновала. Возвращайтесь в свой дом с осторожностью, убедившись, что он не рухнет из-за поврежд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входе в дом будьте внимательны к состоянию электрической сети, не зажигайте огня из-за возможной утечки г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дожидаясь прибытия помощи извне, приступайте к розыску и извлечению пострадавших, оказанию им первой помощи, расчистке заваленных до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читель ОБЖ МОУСОШ №37 г.Шах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евченко Иван Серг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79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Оползни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– смещения горных пород по склонам под воздействием собственного веса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Движение оползня начинается в результате нарушения равновесия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Picture 2" descr="C:\Documents and Settings\Виктор\Рабочий стол\картиныы\1c_1.jpg"/>
          <p:cNvPicPr/>
          <p:nvPr/>
        </p:nvPicPr>
        <p:blipFill>
          <a:blip r:embed="rId1"/>
          <a:stretch/>
        </p:blipFill>
        <p:spPr>
          <a:xfrm>
            <a:off x="2571840" y="3714840"/>
            <a:ext cx="3992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Развитию оползней способствует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тизна скло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етряс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увлажнение скло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ение крутизны в результате подмыва 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ие твёрдости горных пород при выветрива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дование водоупорных и водоносных 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ечение пород трещи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C:\Documents and Settings\Виктор\Рабочий стол\картиныы\hn_19_3.jpg"/>
          <p:cNvPicPr/>
          <p:nvPr/>
        </p:nvPicPr>
        <p:blipFill>
          <a:blip r:embed="rId1"/>
          <a:stretch/>
        </p:blipFill>
        <p:spPr>
          <a:xfrm>
            <a:off x="5357880" y="214200"/>
            <a:ext cx="3584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Виктор\Рабочий стол\картиныы\sp6168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7df56"/>
                </a:solidFill>
                <a:latin typeface="Franklin Gothic Book"/>
              </a:rPr>
              <a:t>Признаки появления оползня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явление трещин на поверхности земл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ыв дорог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мещ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ревье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столб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Основным параметром оползня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является скорость: 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она больше 1 м в секунду - это катастрофа (обвал)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сутки - быстрая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месяц - медленна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C:\Documents and Settings\Виктор\Рабочий стол\картиныы\vesna-kok-tobe_small.jpg"/>
          <p:cNvPicPr/>
          <p:nvPr/>
        </p:nvPicPr>
        <p:blipFill>
          <a:blip r:embed="rId1"/>
          <a:stretch/>
        </p:blipFill>
        <p:spPr>
          <a:xfrm>
            <a:off x="4643280" y="378612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C:\Documents and Settings\Виктор\Рабочий стол\картиныы\image010.jpg"/>
          <p:cNvPicPr/>
          <p:nvPr/>
        </p:nvPicPr>
        <p:blipFill>
          <a:blip r:embed="rId1"/>
          <a:stretch/>
        </p:blipFill>
        <p:spPr>
          <a:xfrm>
            <a:off x="4572000" y="100008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 образованию оползни делятся на: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642760"/>
            <a:ext cx="8329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р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вод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неж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олзни искусственных земляных сооружений (котлованов, каналов и др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Основные поражающие факторы: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ры движущихся масс горных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аливание или заиливание свободных простран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явления вызыв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зд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населенных пун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сельхозугод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ель людей и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рожают безопасности автомобильного и железнодорожного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Franklin Gothic Book"/>
              </a:rPr>
              <a:t>Мероприятия по предупреждению </a:t>
            </a: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делят на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7df56"/>
                </a:solidFill>
                <a:uFillTx/>
                <a:latin typeface="Arial"/>
              </a:rPr>
              <a:t>пассивные</a:t>
            </a:r>
            <a:r>
              <a:rPr b="0" i="1" lang="ru-RU" sz="3000" spc="-1" strike="noStrike">
                <a:solidFill>
                  <a:srgbClr val="f7df56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блюдение за состоянием скло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строительства в районах возможных обвалов, оползн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взрывных работ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храна горных пастбищ, кустарник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7df56"/>
                </a:solidFill>
                <a:uFillTx/>
                <a:latin typeface="Franklin Gothic Book"/>
              </a:rPr>
              <a:t>активные</a:t>
            </a:r>
            <a:r>
              <a:rPr b="0" i="1" lang="ru-RU" sz="3200" spc="-1" strike="noStrike">
                <a:solidFill>
                  <a:srgbClr val="f7df56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стройство инженерных и гидротехнических сооружени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тивоселевые постройки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оружение направляющих стенок для отвода обвалочных пород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специальных ситуаций и постов для наблюдения за перемещением грун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6:12Z</dcterms:created>
  <dc:creator>Шевченко Иван</dc:creator>
  <dc:description/>
  <dc:language>en-US</dc:language>
  <cp:lastModifiedBy>Work_pc</cp:lastModifiedBy>
  <dcterms:modified xsi:type="dcterms:W3CDTF">2010-02-08T11:50:39Z</dcterms:modified>
  <cp:revision>22</cp:revision>
  <dc:subject/>
  <dc:title>ОПОЛЗНИ</dc:title>
</cp:coreProperties>
</file>