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33D-5C97-4900-9AAA-AC4BC337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8EB-84AF-486F-8191-098F1A7E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641-08D2-42EB-B326-8D3DB06D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E21-6BD9-4465-819B-1DA237BA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8E53-F20E-4B05-912E-FA3565A8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35E7-73D3-451B-8771-64259973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142A-60AC-427F-8FD9-E49F9F77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051E-54B6-4298-9BF4-BA1B5AEB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4599-A1FB-421C-8DF7-A0BFC6DB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6A68-5F68-4832-8848-8D71B29A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ACC6-9915-449E-8B5E-7823FC27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57C-3706-47A5-B463-43CEED9E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ADE3-1CEB-4162-A452-CB1E8E84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6F77-65BA-4CC8-920B-E54FBE0E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4A47-973E-4993-B9C1-461B2B86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F47A-1E5A-4776-9A19-F1487793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0110-7E23-4D98-ADBB-ABFF76B1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81C6-9AA6-4D02-91A5-E649EE2E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C2CC8-B100-4962-9564-7B1D0FA1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2D80B-7F1C-4A6A-AD34-227E0B19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F777A-6EAB-43AD-9BD3-2090EF2E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85BCA-5FCC-4241-83A0-3D27B06D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635-2FB0-49AD-B170-5755BE5D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9C54-76AA-4B2C-A7DC-44251687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F260-1A23-450A-889F-6EC56AC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DF3B5-E539-4090-B6F6-C2322F59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F6433-E335-49C7-BCB2-DA49E79F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EBB8-7A50-4ABD-A1F8-BC439A05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03B8-2FA2-4479-98FB-2F1B609B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C9EC-5C37-4EE6-B02C-A78B5B2A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B4DEE-E273-43AA-8EFF-83F5653E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71289-2534-4C9D-A2FE-FD408195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0BE29-416E-4358-906C-7703FC3A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108-297F-4EF0-A3F4-08FAA739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89A70-C15A-4AD2-9070-2B312C23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0DF3-5E0E-4ED6-ADFE-E710D308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49373-014F-48A4-8E7D-0A63EC39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E965-84B4-4908-92BB-ED385B41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50DBF-FF3F-48CB-B816-D6CB019F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A8C28-CF76-4224-9F24-3D1F1BFF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9738-04CB-4D93-8DCC-6FCF3DED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9EB8B-0753-4E22-9176-155D54E8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1FFE-38EC-4C29-9827-7F51F659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C19AD-D379-4154-855C-5A4AF025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E08-70E5-4A8D-967E-C9640238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5877E-06CD-44A3-A670-AC537789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BB52B-8023-41CA-9AA9-02A8D653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2FEAE-272A-48BC-9E8F-5DB82812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A41F5-D27F-4B12-9972-DDC03225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3C916-EB5B-4F1B-85D8-51346C16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12647-91E4-4B9E-885E-14E0D7E4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FD290-3C5C-4056-AE26-135E61F6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2234B-192A-4088-BEC4-C6C2D0BB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85A21-4240-424A-8CBB-8CE10F67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5DB65-606C-4ECE-9F71-B6BB0DF2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407-A080-4ABF-91F1-FDD65D26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1A07C-E1C7-4CE8-AB11-DAE00062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20566-34F1-44A7-A300-2D59DC85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747CE-12D4-4723-8F47-2069F726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D597C-19F4-48FD-A21C-42566B64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93CAD-8BAD-489F-AF74-FD207342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C4153-25E9-44DE-A23D-FD7FF7AC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DEE6A-9337-496B-8F3E-9E6C5C01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79BE9-8C31-4C1C-9135-9A871E77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A6640-E62E-43A4-B17E-FB82F061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4D024-5A0C-4494-8730-C1DEA046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513-5E82-4553-A075-7DEC4284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00F8E-0639-4FFA-A21A-B6FEEDFC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ACF2C-88D7-4B03-B17F-2E4E7E87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5C6DF-5452-4D6A-923A-A080422E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E19-31C4-4D61-8F43-9DB45F6E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9D2-F2BD-4EFF-9249-66C23B40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2361-4F33-4537-A198-F904ACC88E1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9D29-3573-4C4C-86F9-74EE40ED86E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EB17-0A12-4FB5-B38A-0F18F17617E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26B0-A662-498B-B234-23FF6C6ACD3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42A0-9583-4E0A-8FDB-C63D7231752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6D1C-7298-44F5-BEB3-2045A941C3D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58760" y="792000"/>
            <a:ext cx="8167680" cy="2732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Виктор\Рабочий стол\картиныы\38_01_02.jpg"/>
          <p:cNvPicPr/>
          <p:nvPr/>
        </p:nvPicPr>
        <p:blipFill>
          <a:blip r:embed="rId2"/>
          <a:stretch/>
        </p:blipFill>
        <p:spPr>
          <a:xfrm>
            <a:off x="3214800" y="3127320"/>
            <a:ext cx="257148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Picture 2" descr="C:\Documents and Settings\Виктор\Рабочий стол\картиныы\_710.jpg"/>
          <p:cNvPicPr/>
          <p:nvPr/>
        </p:nvPicPr>
        <p:blipFill>
          <a:blip r:embed="rId1"/>
          <a:stretch/>
        </p:blipFill>
        <p:spPr>
          <a:xfrm>
            <a:off x="-239760" y="0"/>
            <a:ext cx="938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9" name="Picture 2" descr="C:\Documents and Settings\Виктор\Рабочий стол\картиныы\1.jpg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1" name="Picture 2" descr="C:\Documents and Settings\Виктор\Рабочий стол\картиныы\inet_13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Picture 2" descr="C:\Documents and Settings\Виктор\Рабочий стол\картиныы\mif2_1.jpg"/>
          <p:cNvPicPr/>
          <p:nvPr/>
        </p:nvPicPr>
        <p:blipFill>
          <a:blip r:embed="rId1"/>
          <a:stretch/>
        </p:blipFill>
        <p:spPr>
          <a:xfrm>
            <a:off x="0" y="0"/>
            <a:ext cx="925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Picture 2" descr="C:\Documents and Settings\Виктор\Рабочий стол\картиныы\slidek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21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f56"/>
                </a:solidFill>
                <a:latin typeface="Franklin Gothic Book"/>
              </a:rPr>
              <a:t>Правила поведения при заблаговременном оповещении об опасности  оползня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ыстро соберите наиболее важные документа, деньги и ц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лышав звук сирен, включите средства приема информации и прослушайте сообщение о характере угрозы и порядке дейст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берите со двора и балконов наиболее ценное имущество. Подготовьте самые необходимые вещи, медикаменты, продукты и сложите их в сум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ключите электричество, газ и вод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дготовьтесь к эвакуации. Возьмите сумки и направляйтесь в эвакопункт для посадки в транспорт или самостоятельно покиньте опасную зо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f56"/>
                </a:solidFill>
                <a:latin typeface="Franklin Gothic Book"/>
              </a:rPr>
              <a:t>Правила поведения при внезапном проявлении оползня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1599840"/>
            <a:ext cx="885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медленно покиньте опасную зону, предупредив об угрозе близких и сосед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ставайтесь в безопасном месте до получения сигнала о том, что опасность миновала. Возвращайтесь в свой дом с осторожностью, убедившись, что он не рухнет из-за поврежд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 входе в дом будьте внимательны к состоянию электрической сети, не зажигайте огня из-за возможной утечки газ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дожидаясь прибытия помощи извне, приступайте к розыску и извлечению пострадавших, оказанию им первой помощи, расчистке заваленных дом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читель ОБЖ МОУСОШ №37 г.Шах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евченко Иван Серге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79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Оползни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– смещения горных пород по склонам под воздействием собственного веса.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Движение оползня начинается в результате нарушения равновесия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Picture 2" descr="C:\Documents and Settings\Виктор\Рабочий стол\картиныы\1c_1.jpg"/>
          <p:cNvPicPr/>
          <p:nvPr/>
        </p:nvPicPr>
        <p:blipFill>
          <a:blip r:embed="rId1"/>
          <a:stretch/>
        </p:blipFill>
        <p:spPr>
          <a:xfrm>
            <a:off x="2571840" y="3714840"/>
            <a:ext cx="3992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Развитию оползней способствует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утизна скло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млетряс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увлажнение склон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еличение крутизны в результате подмыва вод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лабление твёрдости горных пород при выветрива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едование водоупорных и водоносных  пор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ечение пород трещин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C:\Documents and Settings\Виктор\Рабочий стол\картиныы\hn_19_3.jpg"/>
          <p:cNvPicPr/>
          <p:nvPr/>
        </p:nvPicPr>
        <p:blipFill>
          <a:blip r:embed="rId1"/>
          <a:stretch/>
        </p:blipFill>
        <p:spPr>
          <a:xfrm>
            <a:off x="5357880" y="214200"/>
            <a:ext cx="35845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Documents and Settings\Виктор\Рабочий стол\картиныы\sp6168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7df56"/>
                </a:solidFill>
                <a:latin typeface="Franklin Gothic Book"/>
              </a:rPr>
              <a:t>Признаки появления оползня: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явление трещин на поверхности земл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рыв дорог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мещени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ревье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 столбов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Основным параметром оползня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является скорость: </a:t>
            </a: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она больше 1 м в секунду - это катастрофа (обвал)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м в сутки - быстрая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м в месяц - медленна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C:\Documents and Settings\Виктор\Рабочий стол\картиныы\vesna-kok-tobe_small.jpg"/>
          <p:cNvPicPr/>
          <p:nvPr/>
        </p:nvPicPr>
        <p:blipFill>
          <a:blip r:embed="rId1"/>
          <a:stretch/>
        </p:blipFill>
        <p:spPr>
          <a:xfrm>
            <a:off x="4643280" y="378612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C:\Documents and Settings\Виктор\Рабочий стол\картиныы\image010.jpg"/>
          <p:cNvPicPr/>
          <p:nvPr/>
        </p:nvPicPr>
        <p:blipFill>
          <a:blip r:embed="rId1"/>
          <a:stretch/>
        </p:blipFill>
        <p:spPr>
          <a:xfrm>
            <a:off x="4572000" y="1000080"/>
            <a:ext cx="4319640" cy="32320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о образованию оползни делятся на: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642760"/>
            <a:ext cx="83296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орны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водны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нежны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олзни искусственных земляных сооружений (котлованов, каналов и др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Book"/>
              </a:rPr>
              <a:t>Основные поражающие факторы:</a:t>
            </a: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071720"/>
            <a:ext cx="7467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ры движущихся масс горных пор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аливание или заиливание свободных простран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явления вызываю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ушение зда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чтожение населенных пунк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чтожение сельхозугод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ель людей и живот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грожают безопасности автомобильного и железнодорожного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Franklin Gothic Book"/>
              </a:rPr>
              <a:t>Мероприятия по предупреждению </a:t>
            </a:r>
            <a:r>
              <a:rPr b="0" lang="ru-RU" sz="2800" spc="-1" strike="noStrike">
                <a:solidFill>
                  <a:srgbClr val="ffff00"/>
                </a:solidFill>
                <a:latin typeface="Franklin Gothic Book"/>
              </a:rPr>
              <a:t>делят на:</a:t>
            </a:r>
            <a:br>
              <a:rPr sz="41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7df56"/>
                </a:solidFill>
                <a:uFillTx/>
                <a:latin typeface="Arial"/>
              </a:rPr>
              <a:t>пассивные</a:t>
            </a:r>
            <a:r>
              <a:rPr b="0" i="1" lang="ru-RU" sz="3000" spc="-1" strike="noStrike">
                <a:solidFill>
                  <a:srgbClr val="f7df56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блюдение за состоянием склонов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рещение строительства в районах возможных обвалов, оползне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рещение взрывных работ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храна горных пастбищ, кустарник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7df56"/>
                </a:solidFill>
                <a:uFillTx/>
                <a:latin typeface="Franklin Gothic Book"/>
              </a:rPr>
              <a:t>активные</a:t>
            </a:r>
            <a:r>
              <a:rPr b="0" i="1" lang="ru-RU" sz="3200" spc="-1" strike="noStrike">
                <a:solidFill>
                  <a:srgbClr val="f7df56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стройство инженерных и гидротехнических сооружени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тивоселевые постройки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оружение направляющих стенок для отвода обвалочных пород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ние специальных ситуаций и постов для наблюдения за перемещением грунт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0:56:12Z</dcterms:created>
  <dc:creator>Шевченко Иван</dc:creator>
  <dc:description/>
  <dc:language>en-US</dc:language>
  <cp:lastModifiedBy>Work_pc</cp:lastModifiedBy>
  <dcterms:modified xsi:type="dcterms:W3CDTF">2010-02-08T11:50:39Z</dcterms:modified>
  <cp:revision>22</cp:revision>
  <dc:subject/>
  <dc:title>ОПОЛЗНИ</dc:title>
</cp:coreProperties>
</file>