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C76-ADFE-4F61-A7DD-C0E3ED74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0BB-9FAE-4FB5-B6BB-13627093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42E-D337-4AA4-B31D-A040D8D9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CFF-FF7F-470B-9E47-C204B6EE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A9C8-F932-42B9-B060-16C8742F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2A5-6729-41C2-A632-CBD00AF8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E143-DAC8-4F20-9DCF-03DC7713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AD07-3C3E-4981-97FD-5A74A49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8224-5CF2-43F9-8EBA-9EE0C3A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478A-B7A1-4B0C-B8EE-E2D2DBE6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347A-51F9-4D6E-9ED7-DECB37A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2C6-AB00-4C3A-99DC-3132065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82EC-FFD2-49F3-B96C-3CA7C30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266D-DDD5-4602-97FB-B16D81BF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F316-6B0F-4208-BE83-7A986403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AA32-46D3-4DEC-9C64-5ED2108B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8D1-02EA-4A63-8B3C-EA73F347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22EF-02A1-4C04-A523-7294C465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BD0A-A518-434C-BC6C-7D67379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81755-ECAE-4122-A768-F1F0745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C0C0-5305-4EF5-92CB-4E710482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9B16-4969-4A48-99B8-A907FE03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5E3-6D3C-404B-AB7C-014159D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C9C1-EB9C-4C21-B72E-74B77043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EE04-9DA8-4225-B247-BABAD5D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CDEB-A24F-45D3-BF59-07AAC56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0758-C867-4048-B012-FBD15766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6316-5F1B-43CE-8C90-BDE07138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45F4-5DEA-4DB2-9823-DE25ABA0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9249-C471-47AA-A8B0-C720ECE4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DAF3-9699-4EF3-9799-45F3B21C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1708E-E392-4C3D-BA46-3658A02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96E37-33DE-415E-9B4A-624B83B0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0C7-7201-49AA-8DF5-4EA67979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5065-A9B0-4279-8B36-CEC94D2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26D0-B42A-4C18-B9A8-A77C5BA0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7DF1-8506-4A8E-9AB2-84455DA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ACFB8-ED9A-4AD2-93EC-588342A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C5596-451B-4FB9-87D7-93E1B6F1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21643-952E-41BB-82D5-905950B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33B5-74ED-4594-883E-372ED507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2B92-E68D-40F0-8437-E6A74533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A79F-51EE-4543-82A0-81EA9139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D2097-7525-4886-8B40-B0E67F8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274-A56C-4E5F-81F7-124A75E7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C30C-0ABE-4EAD-893F-3714A945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9EC01-CD04-4BCD-BC76-06C2F7D2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E38B5-7920-4B6B-B654-E959CD65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3441A-853E-4D14-9E37-C5170370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F3F7F-4815-4F16-9150-69DEDF3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BB272-571E-4635-8039-36CF304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3F599-E484-423C-96C1-54782F6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F3F7-5C74-4459-97B3-6848943D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31C7-002B-4978-80D3-05E94BE5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1B87A-8D74-4012-98CF-9F6AED7B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DEA-A001-4509-9FB0-F70F2AAA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C6881-9938-46DD-A708-E51B1122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9615-88B1-4F09-B691-62AEE551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0199-CAB4-4AE4-A1FA-AE25BAA5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E3EFB-0E5A-468C-9B1F-DCD591B3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EE81-A314-41D9-8A77-E66C57A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3F1B-890A-4766-A639-E0BC37A6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2113-11ED-4BEC-95D8-99A6BB65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40538-5EB3-4115-8C06-33998F2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1F7E4-8E8D-48D4-BBE3-A7D2C31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1525-CF67-464D-B3D0-17D58E3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671-EDAB-46CA-A02C-167BE03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3B8F-6C85-46EC-91BF-3A5874DB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A626-BD00-4FBD-BBFC-8E04E408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14DA-4A8A-4330-BC80-700D4726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2F4-079A-4103-8C5E-CCFD446A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D10-6B3E-47BD-A637-8317F2A1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14E-3E65-4B5A-A6FD-EF77E7111A3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797C-4A16-425D-A6B9-EAFED3D157F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5423-A7D1-49B5-A0D7-F827580AD51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B2F-6FEC-444B-904C-17D331461D1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972-C61A-48B2-8EAB-76BAE9AC47B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4BB0-BC8B-419C-AE1D-FADCEE525BD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58760" y="792000"/>
            <a:ext cx="8167680" cy="2732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Виктор\Рабочий стол\картиныы\38_01_02.jpg"/>
          <p:cNvPicPr/>
          <p:nvPr/>
        </p:nvPicPr>
        <p:blipFill>
          <a:blip r:embed="rId2"/>
          <a:stretch/>
        </p:blipFill>
        <p:spPr>
          <a:xfrm>
            <a:off x="3214800" y="3127320"/>
            <a:ext cx="25714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C:\Documents and Settings\Виктор\Рабочий стол\картиныы\_710.jpg"/>
          <p:cNvPicPr/>
          <p:nvPr/>
        </p:nvPicPr>
        <p:blipFill>
          <a:blip r:embed="rId1"/>
          <a:stretch/>
        </p:blipFill>
        <p:spPr>
          <a:xfrm>
            <a:off x="-239760" y="0"/>
            <a:ext cx="938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9" name="Picture 2" descr="C:\Documents and Settings\Виктор\Рабочий стол\картиныы\1.jpg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C:\Documents and Settings\Виктор\Рабочий стол\картиныы\inet_13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Picture 2" descr="C:\Documents and Settings\Виктор\Рабочий стол\картиныы\mif2_1.jpg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Picture 2" descr="C:\Documents and Settings\Виктор\Рабочий стол\картиныы\slidek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214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f56"/>
                </a:solidFill>
                <a:latin typeface="Franklin Gothic Book"/>
              </a:rPr>
              <a:t>Правила поведения при заблаговременном оповещении об опасности  оползня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ыстро соберите наиболее важные документа, деньги и ц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лышав звук сирен, включите средства приема информации и прослушайте сообщение о характере угрозы и порядке 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берите со двора и балконов наиболее ценное имущество. Подготовьте самые необходимые вещи, медикаменты, продукты и сложите их в сум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ключите электричество, газ и во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дготовьтесь к эвакуации. Возьмите сумки и направляйтесь в эвакопункт для посадки в транспорт или самостоятельно покиньте опасную з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f56"/>
                </a:solidFill>
                <a:latin typeface="Franklin Gothic Book"/>
              </a:rPr>
              <a:t>Правила поведения при внезапном проявлении оползня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59984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покиньте опасную зону, предупредив об угрозе близких и сосе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ставайтесь в безопасном месте до получения сигнала о том, что опасность миновала. Возвращайтесь в свой дом с осторожностью, убедившись, что он не рухнет из-за поврежд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входе в дом будьте внимательны к состоянию электрической сети, не зажигайте огня из-за возможной утечки г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дожидаясь прибытия помощи извне, приступайте к розыску и извлечению пострадавших, оказанию им первой помощи, расчистке заваленных до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читель ОБЖ МОУСОШ №37 г.Шах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евченко Иван Серг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79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Оползни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– смещения горных пород по склонам под воздействием собственного веса.</a:t>
            </a: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Движение оползня начинается в результате нарушения равновесия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Picture 2" descr="C:\Documents and Settings\Виктор\Рабочий стол\картиныы\1c_1.jpg"/>
          <p:cNvPicPr/>
          <p:nvPr/>
        </p:nvPicPr>
        <p:blipFill>
          <a:blip r:embed="rId1"/>
          <a:stretch/>
        </p:blipFill>
        <p:spPr>
          <a:xfrm>
            <a:off x="2571840" y="3714840"/>
            <a:ext cx="3992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Развитию оползней способствует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утизна скло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етряс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увлажнение скло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величение крутизны в результате подмыва вод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ие твёрдости горных пород при выветрива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дование водоупорных и водоносных  п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сечение пород трещин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C:\Documents and Settings\Виктор\Рабочий стол\картиныы\hn_19_3.jpg"/>
          <p:cNvPicPr/>
          <p:nvPr/>
        </p:nvPicPr>
        <p:blipFill>
          <a:blip r:embed="rId1"/>
          <a:stretch/>
        </p:blipFill>
        <p:spPr>
          <a:xfrm>
            <a:off x="5357880" y="214200"/>
            <a:ext cx="3584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Виктор\Рабочий стол\картиныы\sp6168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7df56"/>
                </a:solidFill>
                <a:latin typeface="Franklin Gothic Book"/>
              </a:rPr>
              <a:t>Признаки появления оползня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явление трещин на поверхности земл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рыв дорог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мещени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ревье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столбов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Основным параметром оползня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является скорость: 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она больше 1 м в секунду - это катастрофа (обвал)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м в сутки - быстрая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м в месяц - медленна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C:\Documents and Settings\Виктор\Рабочий стол\картиныы\vesna-kok-tobe_small.jpg"/>
          <p:cNvPicPr/>
          <p:nvPr/>
        </p:nvPicPr>
        <p:blipFill>
          <a:blip r:embed="rId1"/>
          <a:stretch/>
        </p:blipFill>
        <p:spPr>
          <a:xfrm>
            <a:off x="4643280" y="378612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C:\Documents and Settings\Виктор\Рабочий стол\картиныы\image010.jpg"/>
          <p:cNvPicPr/>
          <p:nvPr/>
        </p:nvPicPr>
        <p:blipFill>
          <a:blip r:embed="rId1"/>
          <a:stretch/>
        </p:blipFill>
        <p:spPr>
          <a:xfrm>
            <a:off x="4572000" y="100008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По образованию оползни делятся на: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642760"/>
            <a:ext cx="832968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р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вод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нежные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олзни искусственных земляных сооружений (котлованов, каналов и др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Основные поражающие факторы: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071720"/>
            <a:ext cx="7467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ры движущихся масс горных пор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аливание или заиливание свободных простран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явления вызыва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зда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чтожение населенных пунк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чтожение сельхозугод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ель людей и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грожают безопасности автомобильного и железнодорожного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Franklin Gothic Book"/>
              </a:rPr>
              <a:t>Мероприятия по предупреждению </a:t>
            </a: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делят на:</a:t>
            </a:r>
            <a:br>
              <a:rPr sz="41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f7df56"/>
                </a:solidFill>
                <a:uFillTx/>
                <a:latin typeface="Arial"/>
              </a:rPr>
              <a:t>пассивные</a:t>
            </a:r>
            <a:r>
              <a:rPr b="0" i="1" lang="ru-RU" sz="3000" spc="-1" strike="noStrike">
                <a:solidFill>
                  <a:srgbClr val="f7df56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блюдение за состоянием склон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ение строительства в районах возможных обвалов, оползне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ение взрывных работ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храна горных пастбищ, кустарник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7df56"/>
                </a:solidFill>
                <a:uFillTx/>
                <a:latin typeface="Franklin Gothic Book"/>
              </a:rPr>
              <a:t>активные</a:t>
            </a:r>
            <a:r>
              <a:rPr b="0" i="1" lang="ru-RU" sz="3200" spc="-1" strike="noStrike">
                <a:solidFill>
                  <a:srgbClr val="f7df56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стройство инженерных и гидротехнических сооружени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тивоселевые постройки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оружение направляющих стенок для отвода обвалочных пород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здание специальных ситуаций и постов для наблюдения за перемещением грунт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0:56:12Z</dcterms:created>
  <dc:creator>Шевченко Иван</dc:creator>
  <dc:description/>
  <dc:language>en-US</dc:language>
  <cp:lastModifiedBy>Work_pc</cp:lastModifiedBy>
  <dcterms:modified xsi:type="dcterms:W3CDTF">2010-02-08T11:50:39Z</dcterms:modified>
  <cp:revision>22</cp:revision>
  <dc:subject/>
  <dc:title>ОПОЛЗНИ</dc:title>
</cp:coreProperties>
</file>