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0DD-1425-4E09-B1EF-823CC40F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D9A-436D-43E9-87EC-7BCB151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B87-E6AE-4B5B-8208-17359859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A09-62EA-492F-AEC3-CCE624C8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D2074-AB55-43D4-957C-80355E97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EB0A5-7C8C-4CA6-B0CF-D0D4101B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8CBA6-118D-4920-B713-2D9ABB0E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16748-085D-4F29-AE16-1EBB1592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D1927-EBD3-428C-B5B1-44F1863C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8277E-D925-4DE8-A476-270665E2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66958-1361-4DF9-90BE-C49633D9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529-CAA4-431A-AB75-4CCF639B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5D4EB-F945-48E6-85B4-5DE2FAB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E1851-9C06-40F2-8187-60E96E80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7EB1F-2129-474C-B672-BF23AFE2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163AE-A69B-495F-A1E8-3D1B9548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0D2D7-4037-4A09-84E4-7164E65C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613-9439-4187-A97A-2CF8D8D5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91F-0EA6-4A8C-8B5C-7E2156D8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066-A86B-45FA-A020-85257608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D7C-555F-4C74-AD9B-DC8076A1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D83-7BCE-4906-A521-31124913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92D-03B9-41D3-96C8-97F44E6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DE1-1897-4641-A5F7-BED77060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A06C-C23C-49D3-9416-FF1F2203C6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EC35-4E0E-4298-B96B-72533FB3CF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тор: Мельников А.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268280"/>
            <a:ext cx="813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бщевоинские уставы ВС Р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обязанности должностных лиц караула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915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Устав внутренней службы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Дисциплинарный устав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Устав гарнизонной и караульной служб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строевые приёмы и движение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0755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ав внутренней службы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оевой Устав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сциплинарный устав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колько уставов включают общевоинские уставы ВС РФ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3 уст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4 уст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5 уста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должностные обязанности военнослужащих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79311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исциплинарный устав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Устав гарнизонной и караульной служб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Устав внутренней службы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дисциплинарные права военнослужащих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353440" cy="30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Устав гарнизонной и караульной служб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Дисциплинарный устав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Строевой устав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0:08:12Z</dcterms:created>
  <dc:creator>user</dc:creator>
  <dc:description/>
  <dc:language>en-US</dc:language>
  <cp:lastModifiedBy>user</cp:lastModifiedBy>
  <dcterms:modified xsi:type="dcterms:W3CDTF">2007-09-13T12:40:48Z</dcterms:modified>
  <cp:revision>14</cp:revision>
  <dc:subject/>
  <dc:title>Слайд 1</dc:title>
</cp:coreProperties>
</file>