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68D-55DC-4EA7-8BA3-477D3181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0DE-D9A3-4605-B1FD-BBE8063C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6B9-96AA-4411-ACCC-317FAAD2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9B9-1BAF-43FE-AD91-50D1108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B198D-193D-4B12-8E8A-9933B8C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8C80E-37A4-4D41-9D6F-43761E6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E5AA0-1C56-466B-BAFC-5B8DF81C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7ADE8-BFA1-4942-99CE-0C606279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E353-C67C-40E5-8746-28649AD5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6F85E-2AED-4CA4-BDC5-47E19B85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B5C8-6A72-4874-9F37-D0E5CED8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0EA-47D9-4069-9B31-E413CD21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773C3-A105-496E-A5F8-7F7573E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7D040-1317-4080-9B67-86584E2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FEE47-0374-475A-8104-FEC8B6E2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302FB-361E-48BD-8097-39CE155F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4EDDD-A283-4251-8809-9797FDF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D21-59A1-43E6-85B2-D0BF61B3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A09-DDD1-4875-8F4E-DF891573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69F-AC81-41A6-A38F-4E13852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B7A-EFE9-4EBA-8FAA-8B26F83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6CB-3DDF-4CB7-9CC7-824933A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5B9-48D7-4756-9704-D081D046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DC5-457C-4F4F-9A86-52C2971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83E-C842-4241-92F5-E7D8A622AF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9755-02B8-432F-968B-D042B256C5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тор: Мельников А.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268280"/>
            <a:ext cx="8136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щевоинские уставы ВС Р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обязанности должностных лиц караул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9152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внутренней службы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строевые приёмы и движе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0755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оево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колько уставов включают общевоинские уставы ВС РФ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3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4 уст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5 уста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олжностные обязанности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79311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исциплинарный устав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Устав гарнизонной и караульной служб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Устав внутренней службы В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5373720"/>
            <a:ext cx="32511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ой из общевоинских уставов ВС РФ определяет дисциплинарные права военнослужащих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353440" cy="30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Устав гарнизонной и караульной служб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Дисциплинарны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Строевой устав ВС Р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40384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ал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549360"/>
            <a:ext cx="6842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АВИЛЬ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332000" y="2421000"/>
            <a:ext cx="6816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0:08:12Z</dcterms:created>
  <dc:creator>user</dc:creator>
  <dc:description/>
  <dc:language>en-US</dc:language>
  <cp:lastModifiedBy>user</cp:lastModifiedBy>
  <dcterms:modified xsi:type="dcterms:W3CDTF">2007-09-13T12:40:48Z</dcterms:modified>
  <cp:revision>14</cp:revision>
  <dc:subject/>
  <dc:title>Слайд 1</dc:title>
</cp:coreProperties>
</file>