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E56-1201-46CC-B82B-6A549CBF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28A-A3AD-4FC3-BB80-8822018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C3C-078A-4691-938A-2A0852C4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27C-67F4-4161-A33D-93E80F15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1BDD2-BB2F-4250-B759-AA68FF75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2FC1D-2ED0-4AF7-ABD4-408935A3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BD23F-16B9-46AF-9604-7FD0368C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27D37-01C0-49E8-9EEE-144CD95F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4E46E-F65C-4D11-AED5-13054115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15F14-27D1-419F-B2FB-9F1F3259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C34FE-464A-45E1-AC90-B3D9D21B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2DE-9CAD-4DA0-826A-5252BE67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D961F-304D-490F-8A55-ACE3D7B8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4373-CB96-46E3-AE7F-E225C9F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4C6EC-DC56-4B97-8D54-D6890B6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4F135-186E-4249-A1DB-93271293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CBBE5-B0EB-4781-B80A-851DCE66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8DE-6EE5-4C3F-AEA9-88DCD69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F9B-474E-473E-9DC9-82F0625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F0F-69A9-48F7-8A4C-4AC9088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B55-C1A7-4EF2-91C4-8EE0C7F6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3D3-B43B-41BA-9CAD-FD4D294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8B4-0078-4B4F-9C8C-EC5C28FF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0F7-C596-4DEF-BB2E-559A107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331-C114-4069-9FD3-439C73FD87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5B0-AE88-474F-B4FD-0C8FD8B19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 Мельников А.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268280"/>
            <a:ext cx="813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щевоинские уставы ВС 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обязанности должностных лиц караул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915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внутренней службы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строевые приёмы и движе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0755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оево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колько уставов включают общевоинские уставы ВС РФ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3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4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5 уста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олжностные обязанности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79311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Устав гарнизонной и караульной служб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исциплинарные права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35344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Строево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0:08:12Z</dcterms:created>
  <dc:creator>user</dc:creator>
  <dc:description/>
  <dc:language>en-US</dc:language>
  <cp:lastModifiedBy>user</cp:lastModifiedBy>
  <dcterms:modified xsi:type="dcterms:W3CDTF">2007-09-13T12:40:48Z</dcterms:modified>
  <cp:revision>14</cp:revision>
  <dc:subject/>
  <dc:title>Слайд 1</dc:title>
</cp:coreProperties>
</file>