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BDF-98AF-4F6E-9B52-D6D6EB99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E02-DC41-4E8C-A7B4-6B34955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6B907-51E5-4BF4-ABD3-5D65D12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CDCB4-5FAA-430A-9075-5D1EF809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CA94C-BA8B-40DD-AA9B-E48EF732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674F7-905C-4F74-8C25-D503123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421ED-2B7C-4421-9617-D946AF0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4085E-49CA-467D-96B7-FD99469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D9AFC-E70E-441A-AE18-703E2B6E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E96C8-3962-47C2-989F-8E87B332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7E8D7-D3BB-44CB-B90E-503DC5CD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E5B94-080A-4A00-9BDC-43CBCF87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FF9-2DAA-4461-8054-250D0114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5B326-1F0E-45F5-831C-28E9BD4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C761B-B7D4-4E1D-8A2D-9F2CB91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89825-D342-4F10-90F8-54BFBBE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AB0FD-DA94-4DD3-9E94-BB923D34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781C3-172C-4DCB-9545-818E418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686C7-8F7F-4AAB-BC6A-C683A9CE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EFFEE-0056-4B7B-A0F4-378C41CA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75D4B-A181-4B71-B5C7-CEF7F278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ADC3B-2987-434D-A77D-B36C982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A95A4-0253-435D-AEC4-483DE641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98B-D1BA-4CA2-BEBA-DBBB239D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9E5B7-FF98-45BC-B743-D1AEAF3A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A8EAA-56AF-4C52-9006-ED98939F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B9F5-BC36-4762-8DD5-18CA727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9364-732C-46BE-B2BC-150FE08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BD9C2-6E9A-44DF-86BB-2C9D0AF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1BD6-576E-4C59-9F12-E76B9E59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07D5-2F26-4766-B5A1-7CA6211F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359C-580D-4614-B13E-8CB52C2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2707B-6039-4B1F-B52F-834EC4A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AC06C-3C3D-4609-86C6-F73B73F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0E3C-DFF6-4456-A380-4F7BBDAE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ACFAA-5499-4EC4-9B5D-386A137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3BF83-02BC-4CFD-B2D7-CFE6745C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6826C-7E8B-4FA8-8DE1-C1E37C20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8A651-A0FD-4734-873B-B52A0244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74D27-9AC9-4FC5-893E-07B818C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5A2A5-3E40-43FB-B1FC-F46DEB53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792A4-6F43-43C1-86AB-C9ADE223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6322F-1A3E-4786-9329-18C94C37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F5105-A878-48B3-BFAD-D7883C28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2290F-6D78-4BC0-BFA2-93A43DA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27B7-77CB-424C-AC00-27C6778C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CC1E6-8344-4452-9C73-9AE99DA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E6637-87BD-4D0E-A823-661BE514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CADC9-D13B-4857-81A2-9C972B48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B7CD4-F5FE-4C0C-A054-838660CC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275DC-9AFD-4461-BDF3-4241DBA6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5948-19F3-4148-B2B5-513D486F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C3E4-97C4-465E-9A06-71B3783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371-84D0-4CF9-B368-5C55B5ED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89F6-7CD0-408B-BF43-771DF7CB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F578-4EA6-402B-9B21-E0217D12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554-1045-431A-9FA7-3A0F9F4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9AD-DE8E-4B36-A58F-C54D0DF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C7E-D88B-4846-8D54-F96D6284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6A22-E029-4F7F-A375-735B67B0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D36-1B73-4CF5-B8EF-D6A367AE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719B-AF9A-4077-A76F-3FAB92A9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28F1-3F40-42F2-8D69-C8EF285D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2EA9-1025-48E6-998E-F5D70BDA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C7F0-89B6-4D5F-9965-2F076C3A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69F5-B1EE-4F7A-9348-C4CD5CA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477C-09D5-4EB5-814A-D1D3355F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F88-2B5B-4A5B-AFC0-1D505356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9498-03DB-4896-B5C9-4CCF980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B100-876C-4AD2-B37D-2D1C6C4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B0CC-0753-4D02-A2C4-CFB61C8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DB36-DA1F-4035-9B10-7BD684F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9440-01E2-4C79-A21C-D0D670FF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9077-3A7F-4ADA-B649-E43A1E77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847A-CFCA-4F29-A0BE-B670B327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8C48-6184-4F05-8ADD-982F36D2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D3AF-E76A-4D20-9F12-F13D9EC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BF1A-FC39-46AB-A3E1-0731289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429-9537-43CF-9D4C-3A798F32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DCDE-CD77-4E21-AC1A-8FA2E445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BBC1-3686-4F23-B9BB-944FA31D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9B5A-FC5D-4989-AAE6-F86B8D5B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88A7-F2F4-4BE6-8611-023C50D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97A1-D972-45D3-972C-215F8609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2542-2CAA-4DE7-B9E4-E929D33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522D-99D1-4E89-A05F-10833BDF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B377-7B91-4BC0-B046-8FF21155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79AE-925A-4565-8EAB-B0C026F1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3292-A6A2-4036-A9F6-5AC8D0D0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9A9-2213-4F03-8542-ECBC7EFF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783A-59BA-4100-947D-6C8A5476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4BC2-FEDC-4E0C-9166-82104DF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62B3-B411-4AEE-B854-01E6AE69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A25A-E552-430F-817C-56DA0688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314E-143E-49C2-BE00-65646608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F8FFC-999E-4102-B9DF-FB9A2DD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931E-7AF3-4CB8-9754-28E6CC0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C9B4-107D-429F-95BB-AB7F89D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DC93-F5AE-440C-888E-396FBBBE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3DA9-5E71-49F3-8893-6803CD88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EAD-BB8A-4074-B3CA-5B286A8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D3925-7123-4ABE-8D5B-EE6CE821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BEA9D-3970-484D-A51A-55740F2F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2CF29-9468-4A12-85DE-A4EB2D91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7D29F-26D3-45F0-841D-482F58FC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5D0A-90F0-4D1A-BFA4-3AA7CFFB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73D5-7A59-4E11-B08C-3BDB8D77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D1A28-8817-4451-A8D0-F78E221B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BA4D-FE62-4499-90E8-133F366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847E3-DA02-4E27-908F-06D4C6B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610DE-3A9D-4D93-9E82-C048C42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DA0-F6A9-4E64-BCDF-177BF33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BAF5-9E6A-4D53-A414-DFE795E1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488A-A9CC-4F38-9808-31FEB8B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FC16B-316E-47F8-85EC-A883D6AA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8722-3AA0-4FD1-A008-65D27950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4FF90-3F17-4DFE-B685-3FC44B28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B8693-95AC-4B87-BA03-6C1267F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1B61C-29BA-467E-98B6-32DEEA3F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8A8C-8843-45A3-8780-8A3C6B8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F52B-5A7C-4CA7-9378-0B432957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2EBDD-0693-4C19-99F6-8C1AFC7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932-B27D-47DB-8261-90D377A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5F895-CC13-4AA7-9293-107B7F7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EC186-F05F-4D21-A9DF-17DC6040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4021C-3B3C-4A96-859C-D4A600DB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62E0-C9D1-4541-A5E4-CD0DD3D6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8E09-D6B6-4DCC-A6F9-5F253A38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A141-DAC1-423E-AF9C-E62E9810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0C32-02A1-49CD-8217-1D482AF9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6A85-BC6E-4EE2-AF06-0359F530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478B4-4376-4156-89D9-EF07844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888E8-ACA5-4DFA-9446-72109153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956-D354-499C-9498-2807EA94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EA7D-028C-40C8-8725-D479C096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08D2-AA30-4919-BFB0-E39591C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F47DE-2DEF-4AF9-9E64-785FFD86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527D6-8B77-4AA6-BC38-F2E55A24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4FFB9-254F-4D3B-BCE0-29B45864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ADE5-18F5-4532-81BE-726AADE3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1563-4007-4CB3-8C4D-0AFB2401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C36EA-AA47-4355-B438-D3916780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2070C-D636-43F8-A3F4-4D3D709B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ED982-4FC1-47EF-BB42-7B10C7E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99BE-8653-464E-ACE0-1D45D55D6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CA9-A885-4854-B011-DBECF98199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FC28-D6BA-4003-B1DE-59B145B248D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C530-EA1F-4226-BB15-CAAEA72030B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F382-B44B-4549-8EB5-062A06D27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C5F-1768-41F1-8BDB-3E0C5058A27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B20B-69EB-4F6D-8110-F559B8E22D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B098-044A-4B60-AEBE-8720E62A4C4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D3A1-BBB5-49D6-9DDA-AFF2E5AEAF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BD2-9625-4E96-85C0-883E3A0FE6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D73-C205-43BC-96E1-C6E885C3E67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F31-68F3-40CE-9B5F-7FD3BF7BB2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71760" y="5071680"/>
            <a:ext cx="3071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ОБЖ В 10 КЛАСС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СОШ №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. ВЛАДИМИ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БРАЙТ Е.Н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раграф 8.1 «Основы подготовки граждан к военной службе. Начальная военная подготовка в войсках». Записи в тетрад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8T11:51:11Z</dcterms:modified>
  <cp:revision>6</cp:revision>
  <dc:subject/>
  <dc:title>Начальная военная подготовка</dc:title>
</cp:coreProperties>
</file>