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E7FA-919A-4D73-ACA1-90EE1DBA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90C1-D25A-4AFF-B725-BF2CC741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E69AFE-9375-40E6-9819-5266812B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2716C6-34D2-4FB6-AB2A-AB74548B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256728-063F-4EB9-99F5-7AC411F8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DAA61-9208-4695-8E0A-0F97ADAB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D3D2C-8ADD-4D7F-9DAC-7F808AE7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A7604A-38B4-4B85-88CB-5B9D6A84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82A99A-6651-4A18-870D-450748F1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8DB3C9-7B3D-4DB1-B20A-AB75958A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47EE9E-2FDC-4EB5-835E-CDF00064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53468-6019-428E-B956-0831C6DB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0DA-1606-44D2-ADDF-D906F8C8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E2C17B-0D9F-461B-B8FE-172EEED7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10F4DE-1A68-462A-A25D-D02B3BBC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FEC96-C2C4-49B0-AA67-1B568973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0F260E-10BF-4F5D-841A-4318560A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B568CE-E9A1-4D52-B47C-90586491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25E20D-6979-4767-BAC6-86FF52EB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E98F3D-93DB-482B-8DD5-CE23E7F4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EB31C-480B-4229-B7A4-BA6361DC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03C5B-6E22-4C15-BBE1-6160131C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34A21-FCD5-46D3-8CA1-52287955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0EC-5B62-4BE2-B5EF-CEC47B49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5181A-7713-4908-AE34-6FDAEF1D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765A5-3005-4384-8020-DD295B85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7E0CB-F746-45E2-B8A7-117470B3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D5954-8275-4306-AE9D-0C4A6EB1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8DDEA-D986-4192-AD78-0D570F19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63206-8765-42CB-966C-ADAA729B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3687E-7CBC-4ABB-B958-EC20F3EB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CC1B4-CF3A-42FA-9EC2-97A264EF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23406-45BD-4A1E-97D7-4FC2F5DB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93CDD-4B14-42AF-BC76-45966B86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A796-9839-4816-B658-CA00D216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B4B5B-CF0B-44E8-90D2-A6BB009B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BC5B0-4D3D-4B99-A745-D566B66A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54ADD-F51C-4927-ABE2-52B46A01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01265-36C3-4900-8B76-5CF3260F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4D634D-6793-4BB9-907A-863BCE6F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54B5F-79EC-4B4D-B63E-4056B942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3CF2E4-44E0-4CD1-86FA-8CDED7DA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C28F8A-6DDE-4C98-8BC5-3448D352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5D00B8-303C-4952-8EF8-11EEC851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3C7C5-AF2E-4D17-8B1E-417FBD4C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FC06-43BB-4B79-98FF-F305308A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E7B75-87EC-4A9D-A27A-42F3E43D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4464A6-3381-47C4-9218-E5A2B82A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50F140-47D6-46AC-9BCC-A6136F82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8C8C30-1CA6-488C-9BC2-648A27AD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49DEA1-1A4E-4254-9CC5-E75619C3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E664-7A0F-4296-9456-BCB19A63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DA14-FFBA-437A-A2B9-A18AE73B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BA26-4CCD-45B8-A7DD-6B78CF93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E679-E6C7-49BE-8B18-4E8C6682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7C80-336B-4606-8190-1442DD93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D4D-4B45-4151-AEF1-C9B352D4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A748-DFF0-45FA-8D9C-EBDF24EF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4A83-F3C1-48A6-86CD-02909D03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1CD3-02B8-4E50-AF72-9B9380BD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57E4-366E-4000-8EEC-4542C2D7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D037-4E76-4F3D-B6BE-548CCFF2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97C54-4E1B-4C37-88BA-5182905B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7E702-15C3-4E65-91A0-817318C0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681E3-4CC8-4AD2-B02D-D44917E6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E1A66-98B6-40DF-8A45-03332923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46D21-A53F-4989-B672-BB3BD27B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A6C-E27E-4AC0-85F2-1C6D0D6C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E5C2A-F061-4BC8-8C16-A5440085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35894-2549-44DB-AA40-0118D317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CEB5B-9E91-4606-8815-E3D0CDE2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04ADA-B8D0-4379-ACFB-0BC1C06D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D11D9-7C4C-411D-8916-70C9EF63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F0621-BC4D-4854-B656-28A0E4A4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48BF7-CE70-4CB4-A724-5A9CC74E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EC564-A5C0-4FC6-849D-1B79C82E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B55F3-134A-4FF3-A172-DA2C511A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5D6E5-0ABD-45EE-87B2-BB851342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581-EC21-4F2B-BBE3-463E3336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4FBBA-A077-48FF-B035-C66FA2AD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9C662-10F6-4FE2-8253-A6C2B92C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E8DE7-236B-4D9A-ACD2-119E3704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CE066-E3C3-49D5-B543-5D78E2B6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27A88-7D28-452C-98C0-5DB0F281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61D73-479B-4852-B9D1-A41C2749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84B47-C251-4AFB-8689-120CE1BA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DA275-BCCD-41A5-A9C2-50F6DE1D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4D085-122A-419C-B6D6-D541D247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D790E-85E7-4BEC-926F-B1B0FE78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AE5-5F59-4599-B9BD-4A822988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F8337-2F8F-4179-9683-7E238246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88C49-6ABD-4FBF-8319-24CD9D8A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CE8F5-66B0-433D-B3DE-64A347BE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D09E5-82ED-43A3-9C56-5F0A23A6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3970D-44A6-42A3-8B53-169E3B57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D6216-639B-47F3-96FC-BA2126AB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2B862-E169-471B-9EE8-37C6E1FE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C47BE-D936-4CB5-8D99-57BF07CE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28824-B1CE-404A-A6B7-3A53B2D0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CB732-9899-4EF2-A58B-FF8A3EB0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6F1-6B28-43EA-99C5-62271642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8EFA0-79AB-4B18-87B1-62CBF6B4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64DD7-7484-42CF-9C17-575B6C39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D13EF-41C2-492B-ACF9-2D9D9398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AE48E-26D3-4346-AF29-3EA37CFD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FB8F4-A1EF-45B2-80FA-536F4954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AB829-3563-475B-8984-CA998292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5CF7A-413E-4EAB-9199-AEBBE5E2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44BFC-A627-4B88-A3B8-A787BE3B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EE442-C3B4-474D-8702-1DB0DD20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7B49F-7169-4DA5-8048-14BD0BDC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A5A4-4105-461C-828B-F1353EDD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00605-DA73-4059-87DA-59AC8CC7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F4442-E8F7-4E6C-9988-4DEABDD1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46E09-4268-41A5-A664-4D85C728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1DF82-D664-4322-8033-A027BCD6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2F1BD-56C2-49AF-A4DC-4FE82DA8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379DD-A79D-4D3D-BB36-F7328A05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99465-4AFE-460F-AF12-FBD69B3B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098BA-2CCD-4AF8-9E44-8E07FC26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D34A9-D8FE-4055-A446-72281506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FA828-A929-4FB7-A117-3204BB8C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B63-826B-4A6B-A53B-7DCE6C7E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A8808-7DEF-4C99-BBCF-22973A8D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4B1BA-24DB-4BBC-AB4B-C8FC660F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B4EEF-7465-4FBD-A6B2-3E1702DE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4F1ED-E63A-4C87-B94F-5EC990D5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203CD-743C-40FF-92E4-D7A48AC8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068F5-A9BB-409B-BEAC-A814D1D6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4DA16-5FE8-4F88-9008-DD959C01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7397D-9874-4549-901D-E133D8C9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DA258-E168-4745-9CFA-25EDA4CD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72C47-E8FD-490F-8218-00DDC143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17C4-61C6-4C90-98AD-F85BAF01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08139-F612-4574-B406-D895ADF5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A6DEB-4D12-4775-A997-9234C48B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054D0-C31B-41D2-B63C-FA077F4A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05BA5-2E7A-4542-8965-CFD9737B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371BD-A287-44C7-B5FC-69F5E85E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19842-B189-4A33-B75C-4B68C454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31F41-D3EF-458D-9441-BEF278CD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730AE-1DF8-47EB-B842-ABABB7E6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440FEA-35E9-409F-AF60-22239DF3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C07C86-5285-4A4C-A2BD-51DADADC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41DB-868B-41EF-9A17-6D69E75985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0771-1563-4962-9A37-0E747558A33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25E9-E869-4DDA-BD0C-FECF325A788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C99F-67DB-4C05-A445-E2CDADEF8EE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CCA6-115C-474A-817C-8ED87B4F23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573D-06C9-4201-BB15-89D8EC3054E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FC3E-36ED-4A25-9F45-3150324D5EC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4438-605B-4FB1-9A00-1AA09DF33F6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47C8-36C7-4491-BEA6-AE26132DCB5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94B2-7DAA-4BC7-BDDD-88E28F1F1AE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9FCD-46C0-42DF-B6B2-5F36B3B1AE3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9965-DEF0-49EE-AF86-DD5707BDE44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oudomlya.ru/wp-content/gallery/military_training/military_training_05_2010_8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sch-143.narod.ru/sbor/3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6071760" y="5071680"/>
            <a:ext cx="3071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УРОК ОБЖ В 10 КЛАСС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БОУ СОШ № 6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Г. ВЛАДИМИР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БРАЙТ Е.Н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Georgia"/>
              </a:rPr>
              <a:t>Начальная военная подготовка</a:t>
            </a:r>
            <a:endParaRPr b="0" lang="en-US" sz="7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eorgia"/>
              </a:rPr>
              <a:t>Военная служба </a:t>
            </a:r>
            <a:r>
              <a:rPr b="0" lang="ru-RU" sz="3000" spc="-1" strike="noStrike">
                <a:solidFill>
                  <a:srgbClr val="002060"/>
                </a:solidFill>
                <a:latin typeface="Georgia"/>
              </a:rPr>
              <a:t>— это особый вид федеральной государственной службы. Она заключается в повседневном выполнении гражданами воинских обязанностей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9" name="Picture 2" descr="http://www.partbilet.ru/userfiles/2e9bf21a275dbf884eff1b320186b1ba.jpg"/>
          <p:cNvPicPr/>
          <p:nvPr/>
        </p:nvPicPr>
        <p:blipFill>
          <a:blip r:embed="rId1"/>
          <a:stretch/>
        </p:blipFill>
        <p:spPr>
          <a:xfrm>
            <a:off x="714240" y="1643040"/>
            <a:ext cx="78217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2060"/>
                </a:solidFill>
                <a:latin typeface="Georgia"/>
              </a:rPr>
              <a:t>Главная задача военной службы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 Постоянная целенаправленная подготовка к вооруженной защите или вооруженная защита территории РФ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http://pln-pskov.ru/pictures/0781112227.jpg"/>
          <p:cNvPicPr/>
          <p:nvPr/>
        </p:nvPicPr>
        <p:blipFill>
          <a:blip r:embed="rId1"/>
          <a:stretch/>
        </p:blipFill>
        <p:spPr>
          <a:xfrm>
            <a:off x="1500120" y="2857680"/>
            <a:ext cx="62150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Georgia"/>
              </a:rPr>
              <a:t>В соответствии с ФЗ «О военной обязанности и военной службе» от 28.03.1998 г. и ФЗ «Об образовании от 21.06.2005 г. предусмотрена подготовка обучающихся -  граждан мужского пола, не прошедших военной службы, по основам военной службы, а также проведение с ними учебных сборов после окончания 10 класса.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4" name="Picture 2" descr="Картинка 16 из 77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428920"/>
            <a:ext cx="6650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62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eorgia"/>
              </a:rPr>
              <a:t>Основная цель профессиональной подготовки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680" y="1527120"/>
            <a:ext cx="691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Ознакомить учащихся с основами военной службы и привить им знания и умения в выполнении ряда общих обязанностей военнослужащего, проходящего военную службу по призыв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http://patriot-nvkz.ucoz.ru/meropriatie/sbory/sbori-1-.jpg"/>
          <p:cNvPicPr/>
          <p:nvPr/>
        </p:nvPicPr>
        <p:blipFill>
          <a:blip r:embed="rId1"/>
          <a:stretch/>
        </p:blipFill>
        <p:spPr>
          <a:xfrm>
            <a:off x="142920" y="4357800"/>
            <a:ext cx="3733920" cy="25002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http://school648.org/Sbor/IMG_3442-320x200-.jpg"/>
          <p:cNvPicPr/>
          <p:nvPr/>
        </p:nvPicPr>
        <p:blipFill>
          <a:blip r:embed="rId2"/>
          <a:stretch/>
        </p:blipFill>
        <p:spPr>
          <a:xfrm>
            <a:off x="7238880" y="1000080"/>
            <a:ext cx="1905120" cy="28576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Картинка 53 из 77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Georgia"/>
              </a:rPr>
              <a:t>Обязательная подготовка</a:t>
            </a:r>
            <a:r>
              <a:rPr b="0" lang="en-US" sz="3000" spc="-1" strike="noStrike">
                <a:solidFill>
                  <a:srgbClr val="002060"/>
                </a:solidFill>
                <a:latin typeface="Georgia"/>
              </a:rPr>
              <a:t> гражданина к военной службе предусматривает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олучение начальных знаний в области обороны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одготовку по основам военной службы в образовательном учреждении и на учебных пунктах организаций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военно-патриотическое воспитание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одготовку по военно-учетным специальностям солдат, матросов, сержантов и старшин по направлению военного комиссариата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медицинское освидетельствование и медицинское обследование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роведение лечебно-оздоровительных мероприятий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Georgia"/>
              </a:rPr>
              <a:t>Учебные сборы: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Пятидневные учебные сборы проводятся в мае, после окончания учащимися 10 класс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В ходе учебных сборов учащиеся знакомятся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размещением военнослужащих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Правилами содержания помещения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основными мероприятиями, направленными на обеспечение безопасности военной службы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распорядком служебного времени и организацией повседневного распорядка жизнедеятельности военнослужащих в военной част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организацией суточного наряда и нарядной службы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Изучают основные элементы строевой и тактической подготовк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Проходят огневую подготовку: изучение автомата Калашникова, порядок подготовки его к ведению огня, меры безопасности при стрельбе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Основами военно-медицинских знаний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Общевоинскими уставам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Домашнее зад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араграф 8.1 «Основы подготовки граждан к военной службе. Начальная военная подготовка в войсках». Записи в тетрад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1-28T11:51:11Z</dcterms:modified>
  <cp:revision>6</cp:revision>
  <dc:subject/>
  <dc:title>Начальная военная подготовка</dc:title>
</cp:coreProperties>
</file>