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A4FF-1B6D-4A72-B42E-AFEEE5BC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D42-BC77-4332-BF48-0B6FEA87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CD2-C3CB-431E-BB25-77A91218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279-8E0F-4E06-AE9B-579144D9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DBFD-CE17-40E1-A9BF-96B21754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E16D-8A0F-4221-87B4-BE9F990B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E61C-D5A9-45AB-8F2D-A7DD5D93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7A1A-86DF-4601-B9E5-B5554DF6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2AF9-8C51-4FFA-95F0-2E61076B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7F1D-2B6F-418A-BF2D-61D89BFD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5522-ADFB-480B-83DC-E919BE08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4A8-EE3F-4D67-9AA2-AC52E66A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2839-5784-4C78-B6BB-74F19A87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F007-AEC3-486C-A823-ADA45515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6B46-327D-4479-9CB0-83C72939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324C-296C-48D6-8275-99179EB2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8715-95B9-4948-BE8D-260211AB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6129E-1D3B-4B77-A56F-48CA28B3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7A060-05B4-4209-9012-BE1A6E99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803F6-97BA-4D7E-A1E3-78319D0C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FECC8-0D55-41CC-9B8C-154B2032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68B64-251B-4135-85CC-47137D96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4D9C-30A2-488E-AA26-152F3B4F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47567-A0B1-4DE2-B029-D48DF8A0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82CA2-AAAC-4EDE-B50A-65A85602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14D6A-87BF-42C2-8FB0-5744592B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B7928-A5AB-43D0-A319-AE7234DF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0F2C1-CB97-4E86-9B09-6E697DAB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F281F-819D-4D83-9DF7-B81142B1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EBEF5-D390-49F3-BADB-59D565FC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8AFB8-A1B5-4EE0-B2E5-2D12D808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56927-16D5-40C9-8F1E-7D5687AB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FDE4A-0522-4D47-8482-B6F3407A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B719-9125-4517-A6EC-D3E1336F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F4852-E380-41E9-A8E9-0789F930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86C94-0AA8-4F70-AAA1-F9F3128D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1114A-2C4E-423D-B3F6-FBE65A60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DC00D-8B2F-4278-A932-FB4FA968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A87C9-F47B-40EA-8666-4DF505CC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F1634-F702-48D2-BF07-1D0D8FC2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72699-F526-4A73-B83F-91162F5B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3F6CD-624F-4E43-9A6F-5F0A0BF4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C09B5-7FF2-4EBF-B965-CB9AAB1B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7387F-6358-4737-AE3F-571F309B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FC0-B231-44FF-80CD-C5C8EBDE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E6707-0D5F-45D4-B171-E92AE27D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9D3D1-FACA-4B5A-86EC-41D80747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F399A-E6EC-4F29-AB27-2028433F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D651E-E1B7-4A95-9AED-C19156C6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C930B-1727-4A32-AA67-DD884595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53F03-91EE-40B6-B5D4-35849275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D12A2-7126-4ECE-A851-8067C50E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59753-EC10-44AA-8BB2-7A2AB6EC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BEC64-57D9-434C-A01D-DDCF4934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6F378-3FA9-41DF-9891-39378083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1D65-5BA1-4682-AFE6-5CAE48F9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4373E-8F1A-42BC-8123-BE0F16C8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B617-10B7-4013-B7DD-C49D38DC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C915-D45E-4F6C-9020-BCE0DB60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234E-CDC1-4013-910F-144C9E39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A3A6-F6F0-498D-88E7-64DBD35FB1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60C4-5588-45D5-8D8C-8F2F70AA960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58BC-C7A4-4FD4-94BD-4DB0BB3239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E477-076A-44F8-AC97-B8A0F86FD6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286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21C8-8A80-4EB5-B4A2-BD4577C64F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438120" y="1152360"/>
            <a:ext cx="8352000" cy="27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f2d32"/>
                </a:solidFill>
                <a:latin typeface="Calibri"/>
              </a:rPr>
              <a:t>Россия</a:t>
            </a:r>
            <a:endParaRPr b="0" lang="en-US" sz="44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f2d32"/>
                </a:solidFill>
                <a:latin typeface="Calibri"/>
              </a:rPr>
              <a:t>Настроена против развертывания ПРО  в Европе с самого начала</a:t>
            </a: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f2d32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3f2d32"/>
                </a:solidFill>
                <a:latin typeface="Calibri"/>
              </a:rPr>
              <a:t>Российские военные и начальник генерального штаба объявили, что такое развертывание вызовет, возможно, выход России из соглашения 1987 года об уничтожении ракет ближней и средней дальности (</a:t>
            </a:r>
            <a:r>
              <a:rPr b="0" lang="en-US" sz="3300" spc="-1" strike="noStrike">
                <a:solidFill>
                  <a:srgbClr val="3f2d32"/>
                </a:solidFill>
                <a:latin typeface="Calibri"/>
              </a:rPr>
              <a:t>INF</a:t>
            </a:r>
            <a:r>
              <a:rPr b="0" lang="ru-RU" sz="3300" spc="-1" strike="noStrike">
                <a:solidFill>
                  <a:srgbClr val="3f2d32"/>
                </a:solidFill>
                <a:latin typeface="Calibri"/>
              </a:rPr>
              <a:t>)</a:t>
            </a: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f2d32"/>
                </a:solidFill>
                <a:latin typeface="Calibri"/>
              </a:rPr>
              <a:t>Среди прочего Москва настаивала, что фактически развернутые или развертываемые иранские ракетные силы не способны достичь континентальных США</a:t>
            </a: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1663560" y="1047600"/>
            <a:ext cx="64137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f2d32"/>
                </a:solidFill>
                <a:latin typeface="Calibri"/>
              </a:rPr>
              <a:t>Мнение внешних сторон, а именно стран, не участвующих в конфликте, очень точно отразила ежегодная конференция по безопасности, проходившая в Мюнхене с 6 по 8 февраля 2009 года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785000" cy="14385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f2d32"/>
                </a:solidFill>
                <a:latin typeface="Calibri"/>
              </a:rPr>
              <a:t>Внесение корректив Президентом США в планы по созданию системы ПРО, не означает отказ от размещения наземных элементов ПРО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f2d32"/>
                </a:solidFill>
                <a:latin typeface="Calibri"/>
              </a:rPr>
              <a:t>Отсрочка до 2015 года в связи с изменением в оценке иранской угрозы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f2d32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f2d32"/>
                </a:solidFill>
                <a:latin typeface="Calibri"/>
              </a:rPr>
              <a:t>Приглашение к сотрудничеству по созданию глобальной Про России и стран НАТО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f2d32"/>
                </a:solidFill>
                <a:latin typeface="Calibri"/>
              </a:rPr>
              <a:t>До появления первых наземных объектов береге Европы будут патрулировать американские корабли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663560" y="1663560"/>
            <a:ext cx="641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262080" y="268200"/>
            <a:ext cx="863280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785000" cy="14385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 октября 2009 года Вашингтон продолжал реализацию своих планов по размещению 10 противоракет в Польше и радиолокационной станции в Чехии</a:t>
            </a:r>
            <a:endParaRPr b="0" lang="en-US" sz="26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ША были не согласны ограничиться предложением России о совместном использовании Габалинской РЛС (Азербайджан) и строящейся РЛС под Армавиром</a:t>
            </a:r>
            <a:endParaRPr b="0" lang="en-US" sz="26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оборонительная система направлена против одиночных баллистических ракет</a:t>
            </a:r>
            <a:endParaRPr b="0" lang="en-US" sz="26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 в Европе не направлена против какой-либо страны, но предназначена дать отпор тем, кто станет угрожать Европе и США. Сегодня правительства говорят об Иране, поскольку эта страна представляется наиболее опасной.</a:t>
            </a:r>
            <a:endParaRPr b="0" lang="en-US" sz="2600" spc="-1" strike="noStrike">
              <a:solidFill>
                <a:srgbClr val="3f2d32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alibri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785000" cy="1225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прихода к власти Джорджа Буша-младшего в 2001 году США заявили о намерении выйти из договора по ПРО, заключенного США и Советским Союзом в 1972 году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онце 2001 года США официально объявили о выходе из договора, который перестал действовать 13 июня 2002 года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декабре этого же года Вашингтон приступил к первой фазе создания национальной системы ПРО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2003 году правительство США обвиняют Иран в том, что он тайно ведёт работы по созданию ядерного оружия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феврале 2006 года администрации США, которая вот уже несколько лет последовательно добивается ужесточения политики мирового сообщества по отношению к Ирану, к концу января удаётся убедить всех постоянных членов Совета Безопасности ООН, в том числе Россию и Китай, что пришло время передать иранский вопрос в ведение СБ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2007 году напряженность по повод разработок Ираном своего ядерного оружия сохраняется, ведь доставить такое вооружение до цели Иран мог бы уже тогда (ракетой, в бомбодержателе тактического истребителя)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785000" cy="12258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угрозы и возможности того, что неконтролируемые страны рано или поздно будут обладать ракетами с диапазоном, необходимым для достижения территории США.  </a:t>
            </a: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технической точки зрения, развертывание ПРО  где-нибудь в Восточной Европе имеет смысл также против ракет, нацеленных на США из региона, расположенного ближе к северу, которые могут быть перехвачены противоракетной системой обороны, развернутой на территории их полета.</a:t>
            </a: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ертывание системы ПРО в  Чехии и Польше даст возможность Соединенным Штатам  следить за ракетным испытаниями, проводимыми в Капустином Яре, на российском испытательном полигоне, расположенным приблизительно в 500 милях от к юго-востоку от Москвы. </a:t>
            </a: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исключается возможность, что расширение американской ПРО в действительности нацелено против ядерных активов России и не имеет никакой оборонной ценности для Европы</a:t>
            </a: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f2d32"/>
                </a:solidFill>
                <a:latin typeface="Calibri"/>
              </a:rPr>
              <a:t>США</a:t>
            </a:r>
            <a:endParaRPr b="0" lang="en-US" sz="48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щита своей страны в ближайшем будущем от нарастающей ядерной угрозы со стороны Ирана </a:t>
            </a:r>
            <a:endParaRPr b="0" lang="en-US" sz="40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щита Евросоюза</a:t>
            </a:r>
            <a:endParaRPr b="0" lang="en-US" sz="40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зможность следить за ракетным испытаниями на российском испытательном полигоне, проводимыми в Капустином Яре </a:t>
            </a:r>
            <a:endParaRPr b="0" lang="en-US" sz="40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f2d32"/>
                </a:solidFill>
                <a:latin typeface="Calibri"/>
              </a:rPr>
              <a:t>ЕС</a:t>
            </a:r>
            <a:endParaRPr b="0" lang="en-US" sz="40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Отсутствие поддержки населения Польши и Чехии к американскому развертыванию </a:t>
            </a: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 то время как правительства этих стран демонстрировали свою заинтересованность в этом проекте</a:t>
            </a: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Евросоюз в целом выражал заинтересованность в проекте США по размещению ПРО на их территории</a:t>
            </a: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Но также большинство европейских столиц отметили нарастание напряженности между Москвой и Вашингтоном по вопросам возможного развертывания ПРО</a:t>
            </a: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21:57:50Z</dcterms:created>
  <dc:creator>Владимир</dc:creator>
  <dc:description/>
  <dc:language>en-US</dc:language>
  <cp:lastModifiedBy>Владимир</cp:lastModifiedBy>
  <dcterms:modified xsi:type="dcterms:W3CDTF">2009-11-19T16:51:21Z</dcterms:modified>
  <cp:revision>12</cp:revision>
  <dc:subject/>
  <dc:title>Международный конфликт</dc:title>
</cp:coreProperties>
</file>