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458F-9563-4A80-AD74-5AFB4A60E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6A8F-DB75-45F2-9363-8F48A7899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B29F-98F4-4137-8311-B4B1F6ED6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C675-631E-470B-AD4D-3B45B06B6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0D89B-9170-44DD-BA6C-1765B4909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EA101-FAC3-4314-93F1-A0FEFF5EE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AAD5A-659C-413B-91FD-E9AD5E4DB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19C18-A32C-46F8-B201-E269CF8F9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0EFC0-CC82-4AB1-8B63-F6BA85404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5600B-6CBE-4970-BC49-8E006255C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FB15B-3F31-4CAE-B74B-0BC23614D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B435-7B75-4EDC-934B-BB281797C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3D61F-04A8-41EF-ADC1-380AA28A1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2D014-EC16-4E15-9953-B3F44B52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33547-8ACC-4ABD-B681-AA0ABE005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82E5F-C3AE-4474-9F1B-8F25DE69B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D2F33-67B7-4CB1-9F86-C91FC1BCB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44597-2016-4812-97EA-D41450E82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A65D5-F2FD-4204-8ACB-66C66FBD6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A7654-13E9-4558-9C52-C257CBFEB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1CC53-CA15-4467-B585-B2C061214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EFE97-C655-4441-B9BB-DF534851F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455F-FCC7-42ED-995B-5504AC519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2F531-FC05-42AA-877E-6CEF350B9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5E927-A371-4D3D-A5E1-68313E205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9033C-5D91-4D58-B69A-A0693BD3B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E1A7D-8265-46C4-AB7A-F897D88D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8CF2D-A637-4970-8200-FADAD28C5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7A5A6-B35E-45C7-8B02-969BAFCC5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578F4-82D8-443D-A64B-490A0A49B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23CE2-4600-4A4B-A118-5815A33C4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39247-FE00-4755-A2AB-C10A71277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7ED48-3695-498F-8E4E-2E7A6729D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9AD4-A9F2-4023-95E0-B096F00E1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D67DE-0368-412D-8810-3BE1D65C8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49D54-5B59-4955-86B3-D694CB610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E12EB-2ADA-4D0E-967C-5488BA63E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5040E-E82C-4196-BA9F-DF20F70B1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49748-44A9-484A-871F-34A868789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6F131-B109-413C-95DB-0FCA4C48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B908D-1D61-46A4-B2B4-DDD79A19A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D182C-0D22-4FC5-AC2D-E82187921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CD1FD-8041-4221-A532-1BF97F741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2C3B0-B9B5-407A-8FF7-6D4C4A9F5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6BB1-D255-406A-AC5F-8AC9D98FD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E5EC9-8ACF-4EFD-BA40-A95A5664D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0CD49-5857-49F6-AF3B-ED65725BA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BC26F3-92D8-4D99-8B86-0B56BD6E0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7BCC6-59F9-4884-BCC1-21833D80A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E7DA5-8446-459B-BCBF-68437FD5F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EA30D-B85E-449E-9B25-E5271C1E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081DC5-6DB9-468A-A317-EC61D0602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1E480F-15B1-4675-BE95-498F703F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F09906-0481-4C9E-BCAB-E4BB13ABC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11C5FF-65E6-4C9C-AA40-896977BE8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AF68-8376-4202-A610-B6EA45099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BB8B9-FB1F-4CB9-BCA7-2411D19D6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307F-DF8F-4477-8D0D-D777134BF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11D7-2201-4173-9E61-7EB795754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AEFF-97FC-44CD-851B-B0138FDD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6262b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c4c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6611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9446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F4F7E-CF39-4159-9657-A24AB7CAD36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6262b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c4c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6611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9446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C1A27-6015-462F-927C-FE82E2E6956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6262b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c4c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6611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9446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0399F-2E9F-4E5C-BA11-4444283D380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6262b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c4c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6611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9446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DAF3B-39B3-4FEA-AD89-2DFB16A0B68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6262b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c4c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6611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9446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519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28668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73F99-DE5C-48A5-B561-6D6332777B3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Заголовок 1" descr=""/>
          <p:cNvPicPr/>
          <p:nvPr/>
        </p:nvPicPr>
        <p:blipFill>
          <a:blip r:embed="rId1"/>
          <a:stretch/>
        </p:blipFill>
        <p:spPr>
          <a:xfrm>
            <a:off x="438120" y="1152360"/>
            <a:ext cx="8352000" cy="2743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2d32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f2d32"/>
                </a:solidFill>
                <a:latin typeface="Calibri"/>
              </a:rPr>
              <a:t>Россия</a:t>
            </a:r>
            <a:endParaRPr b="0" lang="en-US" sz="4400" spc="-1" strike="noStrike">
              <a:solidFill>
                <a:srgbClr val="3f2d32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2d32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f2d32"/>
                </a:solidFill>
                <a:latin typeface="Calibri"/>
              </a:rPr>
              <a:t>Настроена против развертывания ПРО  в Европе с самого начала</a:t>
            </a:r>
            <a:endParaRPr b="0" lang="en-US" sz="3300" spc="-1" strike="noStrike">
              <a:solidFill>
                <a:srgbClr val="3f2d32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f2d32"/>
                </a:solidFill>
                <a:latin typeface="Calibri"/>
              </a:rPr>
              <a:t> </a:t>
            </a:r>
            <a:r>
              <a:rPr b="0" lang="ru-RU" sz="3300" spc="-1" strike="noStrike">
                <a:solidFill>
                  <a:srgbClr val="3f2d32"/>
                </a:solidFill>
                <a:latin typeface="Calibri"/>
              </a:rPr>
              <a:t>Российские военные и начальник генерального штаба объявили, что такое развертывание вызовет, возможно, выход России из соглашения 1987 года об уничтожении ракет ближней и средней дальности (</a:t>
            </a:r>
            <a:r>
              <a:rPr b="0" lang="en-US" sz="3300" spc="-1" strike="noStrike">
                <a:solidFill>
                  <a:srgbClr val="3f2d32"/>
                </a:solidFill>
                <a:latin typeface="Calibri"/>
              </a:rPr>
              <a:t>INF</a:t>
            </a:r>
            <a:r>
              <a:rPr b="0" lang="ru-RU" sz="3300" spc="-1" strike="noStrike">
                <a:solidFill>
                  <a:srgbClr val="3f2d32"/>
                </a:solidFill>
                <a:latin typeface="Calibri"/>
              </a:rPr>
              <a:t>)</a:t>
            </a:r>
            <a:endParaRPr b="0" lang="en-US" sz="3300" spc="-1" strike="noStrike">
              <a:solidFill>
                <a:srgbClr val="3f2d32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f2d32"/>
                </a:solidFill>
                <a:latin typeface="Calibri"/>
              </a:rPr>
              <a:t>Среди прочего Москва настаивала, что фактически развернутые или развертываемые иранские ракетные силы не способны достичь континентальных США</a:t>
            </a:r>
            <a:endParaRPr b="0" lang="en-US" sz="3300" spc="-1" strike="noStrike">
              <a:solidFill>
                <a:srgbClr val="3f2d32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f2d3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Заголовок 1" descr=""/>
          <p:cNvPicPr/>
          <p:nvPr/>
        </p:nvPicPr>
        <p:blipFill>
          <a:blip r:embed="rId1"/>
          <a:stretch/>
        </p:blipFill>
        <p:spPr>
          <a:xfrm>
            <a:off x="1663560" y="1047600"/>
            <a:ext cx="641376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f2d32"/>
                </a:solidFill>
                <a:latin typeface="Calibri"/>
              </a:rPr>
              <a:t>Мнение внешних сторон, а именно стран, не участвующих в конфликте, очень точно отразила ежегодная конференция по безопасности, проходившая в Мюнхене с 6 по 8 февраля 2009 года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682560" y="-6480"/>
            <a:ext cx="7785000" cy="143856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0" y="1571760"/>
            <a:ext cx="914400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f2d32"/>
                </a:solidFill>
                <a:latin typeface="Calibri"/>
              </a:rPr>
              <a:t>Внесение корректив Президентом США в планы по созданию системы ПРО, не означает отказ от размещения наземных элементов ПРО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f2d32"/>
                </a:solidFill>
                <a:latin typeface="Calibri"/>
              </a:rPr>
              <a:t>Отсрочка до 2015 года в связи с изменением в оценке иранской угрозы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f2d32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3f2d32"/>
                </a:solidFill>
                <a:latin typeface="Calibri"/>
              </a:rPr>
              <a:t>Приглашение к сотрудничеству по созданию глобальной Про России и стран НАТО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f2d32"/>
                </a:solidFill>
                <a:latin typeface="Calibri"/>
              </a:rPr>
              <a:t>До появления первых наземных объектов береге Европы будут патрулировать американские корабли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1663560" y="1663560"/>
            <a:ext cx="64137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Заголовок 1" descr=""/>
          <p:cNvPicPr/>
          <p:nvPr/>
        </p:nvPicPr>
        <p:blipFill>
          <a:blip r:embed="rId1"/>
          <a:stretch/>
        </p:blipFill>
        <p:spPr>
          <a:xfrm>
            <a:off x="262080" y="268200"/>
            <a:ext cx="8632800" cy="573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Заголовок 1" descr=""/>
          <p:cNvPicPr/>
          <p:nvPr/>
        </p:nvPicPr>
        <p:blipFill>
          <a:blip r:embed="rId1"/>
          <a:stretch/>
        </p:blipFill>
        <p:spPr>
          <a:xfrm>
            <a:off x="682560" y="-6480"/>
            <a:ext cx="7785000" cy="143856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0" y="1071360"/>
            <a:ext cx="914400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f2d32"/>
              </a:solidFill>
              <a:latin typeface="Calibri"/>
            </a:endParaRPr>
          </a:p>
          <a:p>
            <a:pPr algn="just"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о октября 2009 года Вашингтон продолжал реализацию своих планов по размещению 10 противоракет в Польше и радиолокационной станции в Чехии</a:t>
            </a:r>
            <a:endParaRPr b="0" lang="en-US" sz="2600" spc="-1" strike="noStrike">
              <a:solidFill>
                <a:srgbClr val="3f2d32"/>
              </a:solidFill>
              <a:latin typeface="Calibri"/>
            </a:endParaRPr>
          </a:p>
          <a:p>
            <a:pPr algn="just"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ША были не согласны ограничиться предложением России о совместном использовании Габалинской РЛС (Азербайджан) и строящейся РЛС под Армавиром</a:t>
            </a:r>
            <a:endParaRPr b="0" lang="en-US" sz="2600" spc="-1" strike="noStrike">
              <a:solidFill>
                <a:srgbClr val="3f2d32"/>
              </a:solidFill>
              <a:latin typeface="Calibri"/>
            </a:endParaRPr>
          </a:p>
          <a:p>
            <a:pPr algn="just"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а оборонительная система направлена против одиночных баллистических ракет</a:t>
            </a:r>
            <a:endParaRPr b="0" lang="en-US" sz="2600" spc="-1" strike="noStrike">
              <a:solidFill>
                <a:srgbClr val="3f2d32"/>
              </a:solidFill>
              <a:latin typeface="Calibri"/>
            </a:endParaRPr>
          </a:p>
          <a:p>
            <a:pPr algn="just"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О в Европе не направлена против какой-либо страны, но предназначена дать отпор тем, кто станет угрожать Европе и США. Сегодня правительства говорят об Иране, поскольку эта страна представляется наиболее опасной.</a:t>
            </a:r>
            <a:endParaRPr b="0" lang="en-US" sz="2600" spc="-1" strike="noStrike">
              <a:solidFill>
                <a:srgbClr val="3f2d32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Calibri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f2d3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Заголовок 1" descr=""/>
          <p:cNvPicPr/>
          <p:nvPr/>
        </p:nvPicPr>
        <p:blipFill>
          <a:blip r:embed="rId1"/>
          <a:stretch/>
        </p:blipFill>
        <p:spPr>
          <a:xfrm>
            <a:off x="682560" y="-6480"/>
            <a:ext cx="7785000" cy="12258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0" y="928800"/>
            <a:ext cx="9144000" cy="59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ле прихода к власти Джорджа Буша-младшего в 2001 году США заявили о намерении выйти из договора по ПРО, заключенного США и Советским Союзом в 1972 году</a:t>
            </a:r>
            <a:endParaRPr b="0" lang="en-US" sz="2800" spc="-1" strike="noStrike">
              <a:solidFill>
                <a:srgbClr val="3f2d32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конце 2001 года США официально объявили о выходе из договора, который перестал действовать 13 июня 2002 года</a:t>
            </a:r>
            <a:endParaRPr b="0" lang="en-US" sz="2800" spc="-1" strike="noStrike">
              <a:solidFill>
                <a:srgbClr val="3f2d32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декабре этого же года Вашингтон приступил к первой фазе создания национальной системы ПРО</a:t>
            </a:r>
            <a:endParaRPr b="0" lang="en-US" sz="2800" spc="-1" strike="noStrike">
              <a:solidFill>
                <a:srgbClr val="3f2d32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2003 году правительство США обвиняют Иран в том, что он тайно ведёт работы по созданию ядерного оружия</a:t>
            </a:r>
            <a:endParaRPr b="0" lang="en-US" sz="2800" spc="-1" strike="noStrike">
              <a:solidFill>
                <a:srgbClr val="3f2d32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2d32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2d32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2d32"/>
              </a:solidFill>
              <a:latin typeface="Calibri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феврале 2006 года администрации США, которая вот уже несколько лет последовательно добивается ужесточения политики мирового сообщества по отношению к Ирану, к концу января удаётся убедить всех постоянных членов Совета Безопасности ООН, в том числе Россию и Китай, что пришло время передать иранский вопрос в ведение СБ</a:t>
            </a:r>
            <a:endParaRPr b="0" lang="en-US" sz="2800" spc="-1" strike="noStrike">
              <a:solidFill>
                <a:srgbClr val="3f2d32"/>
              </a:solidFill>
              <a:latin typeface="Calibri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2007 году напряженность по повод разработок Ираном своего ядерного оружия сохраняется, ведь доставить такое вооружение до цели Иран мог бы уже тогда (ракетой, в бомбодержателе тактического истребителя)</a:t>
            </a:r>
            <a:endParaRPr b="0" lang="en-US" sz="2800" spc="-1" strike="noStrike">
              <a:solidFill>
                <a:srgbClr val="3f2d3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Заголовок 1" descr=""/>
          <p:cNvPicPr/>
          <p:nvPr/>
        </p:nvPicPr>
        <p:blipFill>
          <a:blip r:embed="rId1"/>
          <a:stretch/>
        </p:blipFill>
        <p:spPr>
          <a:xfrm>
            <a:off x="682560" y="-6480"/>
            <a:ext cx="7785000" cy="12258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0" y="1071360"/>
            <a:ext cx="914400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14440" indent="-5144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витие угрозы и возможности того, что неконтролируемые страны рано или поздно будут обладать ракетами с диапазоном, необходимым для достижения территории США.  </a:t>
            </a:r>
            <a:endParaRPr b="0" lang="en-US" sz="2400" spc="-1" strike="noStrike">
              <a:solidFill>
                <a:srgbClr val="3f2d32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 технической точки зрения, развертывание ПРО  где-нибудь в Восточной Европе имеет смысл также против ракет, нацеленных на США из региона, расположенного ближе к северу, которые могут быть перехвачены противоракетной системой обороны, развернутой на территории их полета.</a:t>
            </a:r>
            <a:endParaRPr b="0" lang="en-US" sz="2400" spc="-1" strike="noStrike">
              <a:solidFill>
                <a:srgbClr val="3f2d32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вертывание системы ПРО в  Чехии и Польше даст возможность Соединенным Штатам  следить за ракетным испытаниями, проводимыми в Капустином Яре, на российском испытательном полигоне, расположенным приблизительно в 500 милях от к юго-востоку от Москвы. </a:t>
            </a:r>
            <a:endParaRPr b="0" lang="en-US" sz="2400" spc="-1" strike="noStrike">
              <a:solidFill>
                <a:srgbClr val="3f2d32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исключается возможность, что расширение американской ПРО в действительности нацелено против ядерных активов России и не имеет никакой оборонной ценности для Европы</a:t>
            </a:r>
            <a:endParaRPr b="0" lang="en-US" sz="2400" spc="-1" strike="noStrike">
              <a:solidFill>
                <a:srgbClr val="3f2d32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2d3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2d32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f2d32"/>
                </a:solidFill>
                <a:latin typeface="Calibri"/>
              </a:rPr>
              <a:t>США</a:t>
            </a:r>
            <a:endParaRPr b="0" lang="en-US" sz="4800" spc="-1" strike="noStrike">
              <a:solidFill>
                <a:srgbClr val="3f2d32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2d32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щита своей страны в ближайшем будущем от нарастающей ядерной угрозы со стороны Ирана </a:t>
            </a:r>
            <a:endParaRPr b="0" lang="en-US" sz="4000" spc="-1" strike="noStrike">
              <a:solidFill>
                <a:srgbClr val="3f2d32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щита Евросоюза</a:t>
            </a:r>
            <a:endParaRPr b="0" lang="en-US" sz="4000" spc="-1" strike="noStrike">
              <a:solidFill>
                <a:srgbClr val="3f2d32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озможность следить за ракетным испытаниями на российском испытательном полигоне, проводимыми в Капустином Яре </a:t>
            </a:r>
            <a:endParaRPr b="0" lang="en-US" sz="4000" spc="-1" strike="noStrike">
              <a:solidFill>
                <a:srgbClr val="3f2d3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f2d32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f2d32"/>
                </a:solidFill>
                <a:latin typeface="Calibri"/>
              </a:rPr>
              <a:t>ЕС</a:t>
            </a:r>
            <a:endParaRPr b="0" lang="en-US" sz="4000" spc="-1" strike="noStrike">
              <a:solidFill>
                <a:srgbClr val="3f2d32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2d32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Отсутствие поддержки населения Польши и Чехии к американскому развертыванию </a:t>
            </a:r>
            <a:endParaRPr b="0" lang="en-US" sz="3300" spc="-1" strike="noStrike">
              <a:solidFill>
                <a:srgbClr val="3f2d32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В то время как правительства этих стран демонстрировали свою заинтересованность в этом проекте</a:t>
            </a:r>
            <a:endParaRPr b="0" lang="en-US" sz="3300" spc="-1" strike="noStrike">
              <a:solidFill>
                <a:srgbClr val="3f2d32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Евросоюз в целом выражал заинтересованность в проекте США по размещению ПРО на их территории</a:t>
            </a:r>
            <a:endParaRPr b="0" lang="en-US" sz="3300" spc="-1" strike="noStrike">
              <a:solidFill>
                <a:srgbClr val="3f2d32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Но также большинство европейских столиц отметили нарастание напряженности между Москвой и Вашингтоном по вопросам возможного развертывания ПРО</a:t>
            </a:r>
            <a:endParaRPr b="0" lang="en-US" sz="3300" spc="-1" strike="noStrike">
              <a:solidFill>
                <a:srgbClr val="3f2d32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f2d3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21:57:50Z</dcterms:created>
  <dc:creator>Владимир</dc:creator>
  <dc:description/>
  <dc:language>en-US</dc:language>
  <cp:lastModifiedBy>Владимир</cp:lastModifiedBy>
  <dcterms:modified xsi:type="dcterms:W3CDTF">2009-11-19T16:51:21Z</dcterms:modified>
  <cp:revision>12</cp:revision>
  <dc:subject/>
  <dc:title>Международный конфликт</dc:title>
</cp:coreProperties>
</file>