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C679-6E83-424F-9BFA-C08F565F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361C-ADD7-4D7E-9EFA-39DF62A0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5A32-E339-464E-AFBD-A45E6079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22DE-4604-412F-A26E-7ADD37E6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C7A9-AE56-40C5-B200-B0251F15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1CF6-C2BC-41AC-865B-6B11BB6E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FE00-81C0-4513-8C83-512D324A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FFF7-39F5-4F0A-8BB1-1F537665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0583-87E5-483A-9E7B-E7FCA7F2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3049-94DE-4D23-BB8F-36650E80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928D-C6A0-449E-8D14-AD5803CA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305B-B506-4B5E-A7FB-E152718A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03BE-55CD-48B9-95AD-3095E5D0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1436-F18D-4C66-A7AA-D8B445BB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4EC3-D6C0-46A9-AB62-2219C63D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F87C-C745-4331-AAAF-79E95F12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8B3A-1A81-43CD-BD23-573E02A7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8849C-D1A1-4AD7-BDFB-9CC6F125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A4A1C-9BD5-4446-857A-100A6C1C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3160F-2BBF-44EC-842C-F178FB86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D76C2-0F70-4BD2-8388-80958D7B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30E81-EFCD-48A2-986A-A8CE3B9B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E03B-E2FB-454F-A604-61DF66DC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40107-12BB-459A-B9C2-07F00632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79788-5FFA-46C7-A503-03EF16E8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B1C38-F861-406C-86DE-0B21CCBD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60A41-41D2-471F-8334-E2F794B5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CC735-1EFA-4213-8CA6-68ACE6CD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AD470-7D49-4B84-99E6-9F62A002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4E93A-8FA9-4351-99DD-1EFF65E3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06F37-A8C8-4888-A77C-02299DEB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7CACC-B30C-4449-ADED-DC7F4EDA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586FD-187F-4F7C-A018-7368C6B4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0EA-A1A6-40A3-B7BE-95469739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0A111-65C0-4715-8794-5A890622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7FB21-D5B2-4AB9-8A4C-4424589E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86D27-0764-49B2-9A74-FFF27EAA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23077-8E2C-4926-AF68-180492FD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D657A-B38E-480F-A67F-6E67869B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697A4-A365-4827-80D2-AF5C74FD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98296-1708-40B1-8E41-402BB0B5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70B28-D732-4091-9B94-540F2BD3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6EA53-F31F-459A-8B2B-91E41FCB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FECB5-9C15-4BD2-8406-2F3E4BA8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9A8-1BD2-462C-9FB0-49F519FA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163C2-FF51-47BB-B279-12CB9813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704CC-4657-454E-8BC7-66BB6B36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D4F78-5D6C-4E83-BA74-EC06513F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66589-D07D-445D-A7F5-B95AEB98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D0FB0-83D4-4DC2-9E8A-60E3F011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89C6D-53D0-4762-8133-1D2ACEAF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BFFA2-0FA0-4371-B715-F48F52FB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2A6BA-AC9A-4948-BA2C-718BE135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FF8D8-5DED-4EA5-A3E7-CC8143E1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C7033-44C5-484B-A8B7-9A4CB37A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7E0F-376D-4601-B02A-B3AA74FF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DE48B-AE62-4E6A-9C8A-E5A70891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0842-92F5-4506-B622-9912415B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FE7-DDBA-405F-B065-6CC9140B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44F-C9F3-4892-B162-6EE74DAE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0531-5AD8-4288-AA13-E4CBBE5493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BA4F-297F-4141-A8F2-09FEA6E47AF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C83E-B4CB-4A97-9BD9-44572F5791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19B9-A805-4916-857B-36236E0560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6262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c4c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6611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9446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2d3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286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BDDF-3B60-42F2-9188-B404BA9785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438120" y="1152360"/>
            <a:ext cx="8352000" cy="27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f2d32"/>
                </a:solidFill>
                <a:latin typeface="Calibri"/>
              </a:rPr>
              <a:t>Россия</a:t>
            </a:r>
            <a:endParaRPr b="0" lang="en-US" sz="44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f2d32"/>
                </a:solidFill>
                <a:latin typeface="Calibri"/>
              </a:rPr>
              <a:t>Настроена против развертывания ПРО  в Европе с самого начала</a:t>
            </a: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f2d32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3f2d32"/>
                </a:solidFill>
                <a:latin typeface="Calibri"/>
              </a:rPr>
              <a:t>Российские военные и начальник генерального штаба объявили, что такое развертывание вызовет, возможно, выход России из соглашения 1987 года об уничтожении ракет ближней и средней дальности (</a:t>
            </a:r>
            <a:r>
              <a:rPr b="0" lang="en-US" sz="3300" spc="-1" strike="noStrike">
                <a:solidFill>
                  <a:srgbClr val="3f2d32"/>
                </a:solidFill>
                <a:latin typeface="Calibri"/>
              </a:rPr>
              <a:t>INF</a:t>
            </a:r>
            <a:r>
              <a:rPr b="0" lang="ru-RU" sz="3300" spc="-1" strike="noStrike">
                <a:solidFill>
                  <a:srgbClr val="3f2d32"/>
                </a:solidFill>
                <a:latin typeface="Calibri"/>
              </a:rPr>
              <a:t>)</a:t>
            </a: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f2d32"/>
                </a:solidFill>
                <a:latin typeface="Calibri"/>
              </a:rPr>
              <a:t>Среди прочего Москва настаивала, что фактически развернутые или развертываемые иранские ракетные силы не способны достичь континентальных США</a:t>
            </a: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1663560" y="1047600"/>
            <a:ext cx="64137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f2d32"/>
                </a:solidFill>
                <a:latin typeface="Calibri"/>
              </a:rPr>
              <a:t>Мнение внешних сторон, а именно стран, не участвующих в конфликте, очень точно отразила ежегодная конференция по безопасности, проходившая в Мюнхене с 6 по 8 февраля 2009 года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7785000" cy="14385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f2d32"/>
                </a:solidFill>
                <a:latin typeface="Calibri"/>
              </a:rPr>
              <a:t>Внесение корректив Президентом США в планы по созданию системы ПРО, не означает отказ от размещения наземных элементов ПРО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f2d32"/>
                </a:solidFill>
                <a:latin typeface="Calibri"/>
              </a:rPr>
              <a:t>Отсрочка до 2015 года в связи с изменением в оценке иранской угрозы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f2d32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f2d32"/>
                </a:solidFill>
                <a:latin typeface="Calibri"/>
              </a:rPr>
              <a:t>Приглашение к сотрудничеству по созданию глобальной Про России и стран НАТО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f2d32"/>
                </a:solidFill>
                <a:latin typeface="Calibri"/>
              </a:rPr>
              <a:t>До появления первых наземных объектов береге Европы будут патрулировать американские корабли</a:t>
            </a: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663560" y="1663560"/>
            <a:ext cx="641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262080" y="268200"/>
            <a:ext cx="863280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7785000" cy="14385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 октября 2009 года Вашингтон продолжал реализацию своих планов по размещению 10 противоракет в Польше и радиолокационной станции в Чехии</a:t>
            </a:r>
            <a:endParaRPr b="0" lang="en-US" sz="26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ША были не согласны ограничиться предложением России о совместном использовании Габалинской РЛС (Азербайджан) и строящейся РЛС под Армавиром</a:t>
            </a:r>
            <a:endParaRPr b="0" lang="en-US" sz="26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а оборонительная система направлена против одиночных баллистических ракет</a:t>
            </a:r>
            <a:endParaRPr b="0" lang="en-US" sz="26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 в Европе не направлена против какой-либо страны, но предназначена дать отпор тем, кто станет угрожать Европе и США. Сегодня правительства говорят об Иране, поскольку эта страна представляется наиболее опасной.</a:t>
            </a:r>
            <a:endParaRPr b="0" lang="en-US" sz="2600" spc="-1" strike="noStrike">
              <a:solidFill>
                <a:srgbClr val="3f2d32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alibri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7785000" cy="1225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прихода к власти Джорджа Буша-младшего в 2001 году США заявили о намерении выйти из договора по ПРО, заключенного США и Советским Союзом в 1972 году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онце 2001 года США официально объявили о выходе из договора, который перестал действовать 13 июня 2002 года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декабре этого же года Вашингтон приступил к первой фазе создания национальной системы ПРО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2003 году правительство США обвиняют Иран в том, что он тайно ведёт работы по созданию ядерного оружия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феврале 2006 года администрации США, которая вот уже несколько лет последовательно добивается ужесточения политики мирового сообщества по отношению к Ирану, к концу января удаётся убедить всех постоянных членов Совета Безопасности ООН, в том числе Россию и Китай, что пришло время передать иранский вопрос в ведение СБ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2007 году напряженность по повод разработок Ираном своего ядерного оружия сохраняется, ведь доставить такое вооружение до цели Иран мог бы уже тогда (ракетой, в бомбодержателе тактического истребителя)</a:t>
            </a:r>
            <a:endParaRPr b="0" lang="en-US" sz="28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7785000" cy="12258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угрозы и возможности того, что неконтролируемые страны рано или поздно будут обладать ракетами с диапазоном, необходимым для достижения территории США.  </a:t>
            </a: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технической точки зрения, развертывание ПРО  где-нибудь в Восточной Европе имеет смысл также против ракет, нацеленных на США из региона, расположенного ближе к северу, которые могут быть перехвачены противоракетной системой обороны, развернутой на территории их полета.</a:t>
            </a: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ертывание системы ПРО в  Чехии и Польше даст возможность Соединенным Штатам  следить за ракетным испытаниями, проводимыми в Капустином Яре, на российском испытательном полигоне, расположенным приблизительно в 500 милях от к юго-востоку от Москвы. </a:t>
            </a: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исключается возможность, что расширение американской ПРО в действительности нацелено против ядерных активов России и не имеет никакой оборонной ценности для Европы</a:t>
            </a: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f2d32"/>
                </a:solidFill>
                <a:latin typeface="Calibri"/>
              </a:rPr>
              <a:t>США</a:t>
            </a:r>
            <a:endParaRPr b="0" lang="en-US" sz="48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щита своей страны в ближайшем будущем от нарастающей ядерной угрозы со стороны Ирана </a:t>
            </a:r>
            <a:endParaRPr b="0" lang="en-US" sz="40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щита Евросоюза</a:t>
            </a:r>
            <a:endParaRPr b="0" lang="en-US" sz="40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зможность следить за ракетным испытаниями на российском испытательном полигоне, проводимыми в Капустином Яре </a:t>
            </a:r>
            <a:endParaRPr b="0" lang="en-US" sz="40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f2d32"/>
                </a:solidFill>
                <a:latin typeface="Calibri"/>
              </a:rPr>
              <a:t>ЕС</a:t>
            </a:r>
            <a:endParaRPr b="0" lang="en-US" sz="40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Отсутствие поддержки населения Польши и Чехии к американскому развертыванию </a:t>
            </a: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В то время как правительства этих стран демонстрировали свою заинтересованность в этом проекте</a:t>
            </a: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Евросоюз в целом выражал заинтересованность в проекте США по размещению ПРО на их территории</a:t>
            </a: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Но также большинство европейских столиц отметили нарастание напряженности между Москвой и Вашингтоном по вопросам возможного развертывания ПРО</a:t>
            </a: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f2d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21:57:50Z</dcterms:created>
  <dc:creator>Владимир</dc:creator>
  <dc:description/>
  <dc:language>en-US</dc:language>
  <cp:lastModifiedBy>Владимир</cp:lastModifiedBy>
  <dcterms:modified xsi:type="dcterms:W3CDTF">2009-11-19T16:51:21Z</dcterms:modified>
  <cp:revision>12</cp:revision>
  <dc:subject/>
  <dc:title>Международный конфликт</dc:title>
</cp:coreProperties>
</file>