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CB0-5493-47EB-B542-16D9DEB9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035-F528-41FC-938E-E60D9440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757-D8F1-402C-B075-FE8D6679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588-65B8-473E-BCAF-204842AD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8536-D019-4E6F-9D85-4C567E0F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376C-DBC0-4866-9978-55A84BF4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7E5B-3453-429D-A3BB-1B8D39B9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8703-BF6A-4AE8-8967-13406DE1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6808-4FB5-49E2-90A4-3DF4FC60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1E97-F856-429B-A6B7-72C7DDD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24AF-03FC-452E-92BD-0484BB8D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A7E-6667-4405-9877-6B3307C7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D748-2309-4989-9798-65B4EE5B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7F0B-C22C-4092-8A63-209E611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722-9ADE-40F5-AA93-9DEB2BB0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CA1F-FAB5-4C63-AF36-92772334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1F5-17BA-489F-9F8C-5F9F0EE5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734-27C9-48CC-ADC5-E37870C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C3B-AEA6-4FBA-89F8-AE02DDC8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E98-4973-4430-83E3-1DB6D5F2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CEF-0DE3-40A2-A328-FD76735A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5AF-4449-4B70-B428-C1783E1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0E8-78AA-4363-8E63-DD9234B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8B6-F4FC-4E09-978A-67385F24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Группа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Полилиния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Группа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Овал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Овал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Овал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Овал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Полилиния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Полилиния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Полилиния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Полилиния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Полилиния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Овал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Группа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Овал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Овал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Овал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Овал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Овал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Овал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Овал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Овал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Полилиния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Полилиния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Полилиния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Полилиния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Полилиния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Полилиния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Полилиния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Полилиния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Полилиния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Полилиния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Группа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Полилиния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Полилиния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Полилиния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Полилиния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Полилиния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Полилиния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Полилиния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Полилиния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Полилиния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Полилиния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Полилиния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Овал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Овал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Овал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Овал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Овал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Овал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Группа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Полилиния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Полилиния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Полилиния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Полилиния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Полилиния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Полилиния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Полилиния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Группа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Овал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Овал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Овал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Овал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162-7732-4E23-B4A8-6B7BDB3F7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Полилиния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Группа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Овал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Овал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Овал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Овал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Овал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Полилиния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Полилиния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Полилиния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Полилиния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Полилиния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Овал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Группа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Овал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Овал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Овал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Овал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Овал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Овал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Овал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Овал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Полилиния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Полилиния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Полилиния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Полилиния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Полилиния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Полилиния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Полилиния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Полилиния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Полилиния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Полилиния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Группа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Полилиния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Полилиния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Полилиния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Полилиния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Полилиния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Полилиния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Полилиния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Полилиния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Полилиния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Полилиния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Полилиния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Овал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Овал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Овал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Овал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Овал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Овал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Группа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Полилиния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Полилиния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Полилиния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Полилиния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Полилиния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олилиния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Группа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Овал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Овал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Овал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Овал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B8B3-731F-44FF-ACF2-BDB0E92DAC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64304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6" descr="{2298E604-FDC0-4693-ACE2-7A14BE7EE579}"/>
          <p:cNvPicPr/>
          <p:nvPr/>
        </p:nvPicPr>
        <p:blipFill>
          <a:blip r:embed="rId1"/>
          <a:stretch/>
        </p:blipFill>
        <p:spPr>
          <a:xfrm>
            <a:off x="2000160" y="2529000"/>
            <a:ext cx="572292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пра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70 лет человек съедает и выпив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5 т бел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т жи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т углев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2-0.3 т поваренной с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 т вод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{B47E2327-0780-467C-902A-21261B773A92}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укты деля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го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9" descr="{D06EA45C-5353-40E8-AAF8-B048E002F2E9}"/>
          <p:cNvPicPr/>
          <p:nvPr/>
        </p:nvPicPr>
        <p:blipFill>
          <a:blip r:embed="rId1"/>
          <a:stretch/>
        </p:blipFill>
        <p:spPr>
          <a:xfrm>
            <a:off x="1979640" y="2492280"/>
            <a:ext cx="4572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тительного происхож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Рисунок 6" descr="LFCOLWI1"/>
          <p:cNvPicPr/>
          <p:nvPr/>
        </p:nvPicPr>
        <p:blipFill>
          <a:blip r:embed="rId1"/>
          <a:stretch/>
        </p:blipFill>
        <p:spPr>
          <a:xfrm>
            <a:off x="971640" y="155736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цион должен быт разнообразны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авильное питание залог к здоровь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Рисунок 6" descr="{BF0E162D-892A-4CA9-A5CC-69DDB42A6688}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точное распределение рацион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-разов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1-й завтрак                 20-3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-й завтрак                 10-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д                            40-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ин                            15-20%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в организме выполняет следующие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яет многие химические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организма выводит шл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вует терморегуля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а должна бы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а может содержа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кроорганизмы (кишечные инфекции -дизентерия, туляремия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йца или личинки гельминтозов (паразитические черви, глис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ая защита – пить кипяченную в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ятие о личной гигие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к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де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одеж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 должна соответств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иматическим услови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Рисунок 6" descr="{C1AFC59E-5E3C-463C-B448-51A8FCF978DF}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арактеру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Рисунок 5" descr="{0DC3FE86-1857-47AE-87BB-8E962E654F51}"/>
          <p:cNvPicPr/>
          <p:nvPr/>
        </p:nvPicPr>
        <p:blipFill>
          <a:blip r:embed="rId1"/>
          <a:stretch/>
        </p:blipFill>
        <p:spPr>
          <a:xfrm>
            <a:off x="2063880" y="1600200"/>
            <a:ext cx="501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 затрудняющий кровообращению и дыхан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Рисунок 10" descr="{5D267D24-22DB-4349-92B0-A6F73E46E753}"/>
          <p:cNvPicPr/>
          <p:nvPr/>
        </p:nvPicPr>
        <p:blipFill>
          <a:blip r:embed="rId1"/>
          <a:stretch/>
        </p:blipFill>
        <p:spPr>
          <a:xfrm>
            <a:off x="1571760" y="1957320"/>
            <a:ext cx="6000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учшим материалом являются натуральные ткан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ки искусственных волок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 впитывает вла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ическое электр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игиена жилища.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игиенические требование жилищ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освещенный солнечным све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три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загрязненную воздушн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18-19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ажность 40-6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5" descr="Квартира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ить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включает в себя личная гиги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ухаживать за кож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гигиене 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наете о гигиене одеж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ь инструкцию по соблюдению личной гиги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рукция по соблюдению личной гигиены питания для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чная гигиена включае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к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де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олости р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нятие гигие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т греческого слова «гигиэйнос» в переводе – целебный, приносящий 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гиена кожи. Не реже 1 раз в неделю мойтесь в бан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6" descr="{2298E604-FDC0-4693-ACE2-7A14BE7EE579}"/>
          <p:cNvPicPr/>
          <p:nvPr/>
        </p:nvPicPr>
        <p:blipFill>
          <a:blip r:embed="rId1"/>
          <a:stretch/>
        </p:blipFill>
        <p:spPr>
          <a:xfrm>
            <a:off x="900000" y="1600200"/>
            <a:ext cx="6510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едой каждый раз мойте теплой водой с мылом рук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временно меняйте белье, носки, чулки, колго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ожа сухая или чешется, смажьте ее кре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ыдавливайте пры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щайте кожу от обмор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осите слишком тесную одеж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жа должна быть чистая и красива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Рисунок 5" descr="{B7360629-95BE-4B5D-B4AC-1DE95EEB51AE}"/>
          <p:cNvPicPr/>
          <p:nvPr/>
        </p:nvPicPr>
        <p:blipFill>
          <a:blip r:embed="rId1"/>
          <a:stretch/>
        </p:blipFill>
        <p:spPr>
          <a:xfrm>
            <a:off x="1835280" y="1413000"/>
            <a:ext cx="468144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 забудьте и о волос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Рисунок 6" descr="{1C35E0E2-C2D6-4EB5-816C-BAA68A48FF14}"/>
          <p:cNvPicPr/>
          <p:nvPr/>
        </p:nvPicPr>
        <p:blipFill>
          <a:blip r:embed="rId1"/>
          <a:stretch/>
        </p:blipFill>
        <p:spPr>
          <a:xfrm>
            <a:off x="1258920" y="1268280"/>
            <a:ext cx="554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 забудьте и о зубах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6" descr="{3B709AC0-AD5E-49F9-9AC6-37CC9066274F}"/>
          <p:cNvPicPr/>
          <p:nvPr/>
        </p:nvPicPr>
        <p:blipFill>
          <a:blip r:embed="rId1"/>
          <a:stretch/>
        </p:blipFill>
        <p:spPr>
          <a:xfrm>
            <a:off x="2556000" y="1557360"/>
            <a:ext cx="36399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0:46:38Z</dcterms:created>
  <dc:creator>11</dc:creator>
  <dc:description/>
  <dc:language>en-US</dc:language>
  <cp:lastModifiedBy>Admin</cp:lastModifiedBy>
  <dcterms:modified xsi:type="dcterms:W3CDTF">2012-05-16T12:12:27Z</dcterms:modified>
  <cp:revision>8</cp:revision>
  <dc:subject/>
  <dc:title>Слайд 1</dc:title>
</cp:coreProperties>
</file>