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CF80-42FC-4BA6-BB98-6590807C6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6714-14ED-4F0A-BDB9-5D594296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DD49-187D-47CF-8962-B29153D67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760D-6A88-460A-956D-4D17957D9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76AA-1249-4D83-B7AE-7C7E4E365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16EE-C23F-4B57-9537-721963B1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160C-88C7-4234-A2B3-39D824C9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FDEB-FA64-4E77-BEC6-939D4A0B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9FBA-3FAA-48A1-9469-1FCD887E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E551-F8A7-4E52-8DB0-D178A52E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E8B4-EF31-4DEC-B4A3-6A9BDCB0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41EB-73B7-463D-BD7F-0E5E95AD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F600-1AB2-4D50-B5DB-5B01DCC4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6BE2-66D2-4800-97E2-4E1E70C4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9D55-6BD6-442F-A53D-D4DD331E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A667-489C-4D25-9FD5-8B7309926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A1B8-0DAC-4653-8F07-840E8CBAC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4EDD-BBF9-4F64-BE44-891BD3D5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1C9D-7F24-4EB6-8638-560D4528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116F-2773-460C-B43E-3C2EDD12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EF02-7D86-48AE-B1A8-A4CA83FD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D321-F5E8-4521-B7A6-E70E2F5D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6603-95E4-44A9-8A68-292332F5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2E01-4A8F-47D2-8A1D-815DF310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Группа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Полилиния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Группа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Овал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Овал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Овал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Овал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Овал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Полилиния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Полилиния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Полилиния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Полилиния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Полилиния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Овал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Группа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Овал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Овал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Овал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Овал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Овал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Овал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Овал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Овал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Полилиния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Полилиния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Полилиния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Полилиния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Полилиния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Полилиния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Полилиния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Полилиния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Полилиния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Полилиния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Группа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Полилиния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Полилиния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Полилиния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Полилиния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Полилиния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Полилиния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Полилиния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Полилиния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Полилиния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Полилиния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Полилиния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Овал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Овал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Овал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Овал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Овал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Овал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Группа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Полилиния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Полилиния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Полилиния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Полилиния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Полилиния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Полилиния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Полилиния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Группа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Овал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Овал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Овал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Овал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F644-244A-454D-AE5A-C224DF0E19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Группа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Полилиния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Группа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Овал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Овал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Овал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Овал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Овал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Полилиния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Полилиния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Полилиния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Полилиния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Полилиния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Овал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Группа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Овал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Овал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Овал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Овал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Овал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Овал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Овал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Овал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Полилиния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Полилиния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Полилиния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Полилиния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Полилиния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Полилиния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Полилиния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Полилиния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Полилиния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Полилиния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Группа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Полилиния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Полилиния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Полилиния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Полилиния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Полилиния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Полилиния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Полилиния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Полилиния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Полилиния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Полилиния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Полилиния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Овал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Овал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Овал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Овал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Овал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Овал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Группа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Полилиния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Полилиния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Полилиния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Полилиния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Полилиния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Полилиния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Полилиния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Группа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Овал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Овал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Овал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Овал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3E50-3E01-4F08-A583-C6A41330F72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643040" y="114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Личная гигиен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оугольник 3"/>
          <p:cNvSpPr/>
          <p:nvPr/>
        </p:nvSpPr>
        <p:spPr>
          <a:xfrm>
            <a:off x="3714840" y="0"/>
            <a:ext cx="2286000" cy="50004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Рисунок 6" descr="{2298E604-FDC0-4693-ACE2-7A14BE7EE579}"/>
          <p:cNvPicPr/>
          <p:nvPr/>
        </p:nvPicPr>
        <p:blipFill>
          <a:blip r:embed="rId1"/>
          <a:stretch/>
        </p:blipFill>
        <p:spPr>
          <a:xfrm>
            <a:off x="2000160" y="2529000"/>
            <a:ext cx="572292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игиена пит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справ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 70 лет человек съедает и выпивае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5 т бел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т жир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 т углевод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0.2-0.3 т поваренной со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0 т воды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7" descr="{B47E2327-0780-467C-902A-21261B773A92}"/>
          <p:cNvPicPr/>
          <p:nvPr/>
        </p:nvPicPr>
        <p:blipFill>
          <a:blip r:embed="rId1"/>
          <a:stretch/>
        </p:blipFill>
        <p:spPr>
          <a:xfrm>
            <a:off x="900000" y="404640"/>
            <a:ext cx="7344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одукты делятс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вотного происхожд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Рисунок 9" descr="{D06EA45C-5353-40E8-AAF8-B048E002F2E9}"/>
          <p:cNvPicPr/>
          <p:nvPr/>
        </p:nvPicPr>
        <p:blipFill>
          <a:blip r:embed="rId1"/>
          <a:stretch/>
        </p:blipFill>
        <p:spPr>
          <a:xfrm>
            <a:off x="1979640" y="2492280"/>
            <a:ext cx="4572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астительного происхожд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Рисунок 6" descr="LFCOLWI1"/>
          <p:cNvPicPr/>
          <p:nvPr/>
        </p:nvPicPr>
        <p:blipFill>
          <a:blip r:embed="rId1"/>
          <a:stretch/>
        </p:blipFill>
        <p:spPr>
          <a:xfrm>
            <a:off x="971640" y="1557360"/>
            <a:ext cx="6624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Рацион должен быт разнообразны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Рисунок 8" descr="{2C4AFA75-0736-47BB-A59F-92FDC51620EC}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авильное питание залог к здоровью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Рисунок 6" descr="{BF0E162D-892A-4CA9-A5CC-69DDB42A6688}"/>
          <p:cNvPicPr/>
          <p:nvPr/>
        </p:nvPicPr>
        <p:blipFill>
          <a:blip r:embed="rId1"/>
          <a:stretch/>
        </p:blipFill>
        <p:spPr>
          <a:xfrm>
            <a:off x="1549440" y="1600200"/>
            <a:ext cx="6045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уточное распределение рациона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-разовое пит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1-й завтрак                 20-3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2-й завтрак                 10-25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ед                            40-5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жин                            15-20%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игиена вод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а в организме выполняет следующие функц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творяет многие химические веще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организма выводит шла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ствует терморегуля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да должна быть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зрач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иметь запах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вежающий вку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иболее благоприятная температура воды для питья – 7-12 градус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да может содержать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икроорганизмы (кишечные инфекции -дизентерия, туляремия и др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йца или личинки гельминтозов (паразитические черви, глист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учшая защита – пить кипяченную во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Учебные вопро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нятие о личной гигие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гиена кож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гиена в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гиена одеж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гиена жилищ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игиена одежд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ункция одежды – защита организма от неблагоприятных внешних условий и воздейств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ежда должна соответствоват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лиматическим условия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3" name="Рисунок 6" descr="{C1AFC59E-5E3C-463C-B448-51A8FCF978DF}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Характеру рабо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Рисунок 5" descr="{0DC3FE86-1857-47AE-87BB-8E962E654F51}"/>
          <p:cNvPicPr/>
          <p:nvPr/>
        </p:nvPicPr>
        <p:blipFill>
          <a:blip r:embed="rId1"/>
          <a:stretch/>
        </p:blipFill>
        <p:spPr>
          <a:xfrm>
            <a:off x="2063880" y="1600200"/>
            <a:ext cx="5016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е затрудняющий кровообращению и дыханию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7" name="Рисунок 10" descr="{5D267D24-22DB-4349-92B0-A6F73E46E753}"/>
          <p:cNvPicPr/>
          <p:nvPr/>
        </p:nvPicPr>
        <p:blipFill>
          <a:blip r:embed="rId1"/>
          <a:stretch/>
        </p:blipFill>
        <p:spPr>
          <a:xfrm>
            <a:off x="1571760" y="1957320"/>
            <a:ext cx="60004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Лучшим материалом являются натуральные ткани.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достатки искусственных волокн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охо впитывает влаг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тическое электри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127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Гигиена жилища.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Гигиенические требование жилище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статочно просторным и сух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рошо освещенный солнечным свет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тривать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загрязненную воздушную сре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мпература 18-19 граду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лажность 40-60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то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Рисунок 5" descr="Квартира"/>
          <p:cNvPicPr/>
          <p:nvPr/>
        </p:nvPicPr>
        <p:blipFill>
          <a:blip r:embed="rId1"/>
          <a:stretch/>
        </p:blipFill>
        <p:spPr>
          <a:xfrm>
            <a:off x="826920" y="549360"/>
            <a:ext cx="727416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тветить на вопро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включает в себя личная гигиен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ухаживать за коже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кажите о гигиене пит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знаете о гигиене одежд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гиена жилищ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машнее 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авить инструкцию по соблюдению личной гигие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имер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струкция по соблюдению личной гигиены питания для учащих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ичная гигиена включает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гиена кож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гиена в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гиена одеж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гиена жилищ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гиена пит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гиена полости рт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нятие гигиен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гиена от греческого слова «гигиэйнос» в переводе – целебный, приносящий здоровь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Гигиена кожи. Не реже 1 раз в неделю мойтесь в бан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Рисунок 6" descr="{2298E604-FDC0-4693-ACE2-7A14BE7EE579}"/>
          <p:cNvPicPr/>
          <p:nvPr/>
        </p:nvPicPr>
        <p:blipFill>
          <a:blip r:embed="rId1"/>
          <a:stretch/>
        </p:blipFill>
        <p:spPr>
          <a:xfrm>
            <a:off x="900000" y="1600200"/>
            <a:ext cx="65106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еред едой каждый раз мойте теплой водой с мылом руки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оевременно меняйте белье, носки, чулки, колгот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кожа сухая или чешется, смажьте ее крем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выдавливайте прыщ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щищайте кожу от обморож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носите слишком тесную одежд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ожа должна быть чистая и красива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Рисунок 5" descr="{B7360629-95BE-4B5D-B4AC-1DE95EEB51AE}"/>
          <p:cNvPicPr/>
          <p:nvPr/>
        </p:nvPicPr>
        <p:blipFill>
          <a:blip r:embed="rId1"/>
          <a:stretch/>
        </p:blipFill>
        <p:spPr>
          <a:xfrm>
            <a:off x="1835280" y="1413000"/>
            <a:ext cx="4681440" cy="51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е забудьте и о волосах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Рисунок 6" descr="{1C35E0E2-C2D6-4EB5-816C-BAA68A48FF14}"/>
          <p:cNvPicPr/>
          <p:nvPr/>
        </p:nvPicPr>
        <p:blipFill>
          <a:blip r:embed="rId1"/>
          <a:stretch/>
        </p:blipFill>
        <p:spPr>
          <a:xfrm>
            <a:off x="1258920" y="1268280"/>
            <a:ext cx="5545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е забудьте и о зубах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Рисунок 6" descr="{3B709AC0-AD5E-49F9-9AC6-37CC9066274F}"/>
          <p:cNvPicPr/>
          <p:nvPr/>
        </p:nvPicPr>
        <p:blipFill>
          <a:blip r:embed="rId1"/>
          <a:stretch/>
        </p:blipFill>
        <p:spPr>
          <a:xfrm>
            <a:off x="2556000" y="1557360"/>
            <a:ext cx="363996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4T10:46:38Z</dcterms:created>
  <dc:creator>11</dc:creator>
  <dc:description/>
  <dc:language>en-US</dc:language>
  <cp:lastModifiedBy>Admin</cp:lastModifiedBy>
  <dcterms:modified xsi:type="dcterms:W3CDTF">2012-05-16T12:12:27Z</dcterms:modified>
  <cp:revision>8</cp:revision>
  <dc:subject/>
  <dc:title>Слайд 1</dc:title>
</cp:coreProperties>
</file>