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7D3C-EE5C-4CE4-A257-620AE0B3B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8E9E-CEA0-4D86-ACA3-EA472362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8130-0F08-4504-A846-2114A9888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0A36-75DB-4D9D-B377-56017A753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B880F-16D4-4ACF-BF65-D4536E9D5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EA73-F826-4522-97A7-DACDA0B5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3E60-C55D-422B-86B7-C36407C1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1F34-9710-46F0-8C5D-11CB9C10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C6A7-85B5-40D2-A99B-3C9CA568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9A27-B6E3-4F9E-9172-CDF2EF3B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F5E95-5AC0-4F9F-A8BB-857603BE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ECC3-2FE7-4E9D-8268-89E5943B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BAA5-B840-4526-AB37-1D17135B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6245-4967-4C09-8D95-4BDCBD46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05FA8-4F17-4210-B9F8-8CC16B9D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F6A0-3DD4-4881-A823-1F4350420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8B30-847D-4516-AA43-A5290DAFD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9B39-0EA7-44AC-A2CF-34095DBDE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31AB-327D-41BE-82E2-9C1ECC50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CCE9-1980-489C-8766-157BDD83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4007-899D-4025-B67A-1091B3E4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F11E-8093-40CC-93DB-94E424D6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7741-76A7-427A-88DF-84923CC4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5D90-C008-4D6D-AF26-5256DECD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Группа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Полилиния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Группа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Овал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Овал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Овал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Овал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Овал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Полилиния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Полилиния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Полилиния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Полилиния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Полилиния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Овал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Группа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Овал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Овал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Овал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Овал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Овал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Овал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Овал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Овал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Полилиния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Полилиния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Полилиния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Полилиния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Полилиния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Полилиния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Полилиния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Полилиния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Полилиния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Полилиния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Группа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Полилиния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Полилиния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Полилиния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Полилиния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Полилиния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Полилиния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Полилиния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Полилиния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Полилиния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Полилиния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Полилиния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Овал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Овал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Овал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Овал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Овал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Овал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Группа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Полилиния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Полилиния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Полилиния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Полилиния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Полилиния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Полилиния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Полилиния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Группа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Овал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Овал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Овал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Овал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C0E7-72F6-48BC-B917-333A7BBB00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Группа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Полилиния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Группа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Овал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Овал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Овал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Овал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Овал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Полилиния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Полилиния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Полилиния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Полилиния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Полилиния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Овал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Группа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Овал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Овал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Овал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Овал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Овал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Овал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Овал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Овал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Полилиния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Полилиния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Полилиния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Полилиния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Полилиния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Полилиния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Полилиния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Полилиния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Полилиния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Полилиния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Группа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Полилиния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Полилиния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Полилиния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Полилиния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Полилиния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Полилиния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Полилиния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Полилиния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Полилиния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Полилиния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Полилиния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Овал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Овал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Овал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Овал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Овал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Овал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Группа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Полилиния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Полилиния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Полилиния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Полилиния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Полилиния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Полилиния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Полилиния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Группа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Овал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Овал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Овал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Овал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FF91-FE62-4D53-BA4A-5BD6BB04A82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1643040" y="114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Личная гигиен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Прямоугольник 3"/>
          <p:cNvSpPr/>
          <p:nvPr/>
        </p:nvSpPr>
        <p:spPr>
          <a:xfrm>
            <a:off x="3714840" y="0"/>
            <a:ext cx="2286000" cy="500040"/>
          </a:xfrm>
          <a:prstGeom prst="rect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Рисунок 6" descr="{2298E604-FDC0-4693-ACE2-7A14BE7EE579}"/>
          <p:cNvPicPr/>
          <p:nvPr/>
        </p:nvPicPr>
        <p:blipFill>
          <a:blip r:embed="rId1"/>
          <a:stretch/>
        </p:blipFill>
        <p:spPr>
          <a:xfrm>
            <a:off x="2000160" y="2529000"/>
            <a:ext cx="572292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игиена пит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справ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 70 лет человек съедает и выпивае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5 т бел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т жир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 т углевод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0.2-0.3 т поваренной со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0 т воды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7" descr="{B47E2327-0780-467C-902A-21261B773A92}"/>
          <p:cNvPicPr/>
          <p:nvPr/>
        </p:nvPicPr>
        <p:blipFill>
          <a:blip r:embed="rId1"/>
          <a:stretch/>
        </p:blipFill>
        <p:spPr>
          <a:xfrm>
            <a:off x="900000" y="404640"/>
            <a:ext cx="73440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одукты делятся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ивотного происхожд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Рисунок 9" descr="{D06EA45C-5353-40E8-AAF8-B048E002F2E9}"/>
          <p:cNvPicPr/>
          <p:nvPr/>
        </p:nvPicPr>
        <p:blipFill>
          <a:blip r:embed="rId1"/>
          <a:stretch/>
        </p:blipFill>
        <p:spPr>
          <a:xfrm>
            <a:off x="1979640" y="2492280"/>
            <a:ext cx="4572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астительного происхожд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Рисунок 6" descr="LFCOLWI1"/>
          <p:cNvPicPr/>
          <p:nvPr/>
        </p:nvPicPr>
        <p:blipFill>
          <a:blip r:embed="rId1"/>
          <a:stretch/>
        </p:blipFill>
        <p:spPr>
          <a:xfrm>
            <a:off x="971640" y="1557360"/>
            <a:ext cx="6624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Рацион должен быт разнообразным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Рисунок 8" descr="{2C4AFA75-0736-47BB-A59F-92FDC51620EC}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равильное питание залог к здоровью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1" name="Рисунок 6" descr="{BF0E162D-892A-4CA9-A5CC-69DDB42A6688}"/>
          <p:cNvPicPr/>
          <p:nvPr/>
        </p:nvPicPr>
        <p:blipFill>
          <a:blip r:embed="rId1"/>
          <a:stretch/>
        </p:blipFill>
        <p:spPr>
          <a:xfrm>
            <a:off x="1549440" y="1600200"/>
            <a:ext cx="6045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уточное распределение рациона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-разовое пит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1-й завтрак                 20-3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2-й завтрак                 10-25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ед                            40-5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жин                            15-20%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игиена вод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да в организме выполняет следующие функци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творяет многие химические веще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организма выводит шла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ствует терморегуля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да должна быть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зрачн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иметь запах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вежающий вку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иболее благоприятная температура воды для питья – 7-12 градус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да может содержать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икроорганизмы (кишечные инфекции -дизентерия, туляремия и др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йца или личинки гельминтозов (паразитические черви, глисты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учшая защита – пить кипяченную во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Учебные вопрос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нятие о личной гигиен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гиена кож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гиена в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гиена одеж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гиена жилищ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игиена одежд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ункция одежды – защита организма от неблагоприятных внешних условий и воздейств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ежда должна соответствоват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лиматическим условия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3" name="Рисунок 6" descr="{C1AFC59E-5E3C-463C-B448-51A8FCF978DF}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Характеру рабо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5" name="Рисунок 5" descr="{0DC3FE86-1857-47AE-87BB-8E962E654F51}"/>
          <p:cNvPicPr/>
          <p:nvPr/>
        </p:nvPicPr>
        <p:blipFill>
          <a:blip r:embed="rId1"/>
          <a:stretch/>
        </p:blipFill>
        <p:spPr>
          <a:xfrm>
            <a:off x="2063880" y="1600200"/>
            <a:ext cx="5016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е затрудняющий кровообращению и дыханию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7" name="Рисунок 10" descr="{5D267D24-22DB-4349-92B0-A6F73E46E753}"/>
          <p:cNvPicPr/>
          <p:nvPr/>
        </p:nvPicPr>
        <p:blipFill>
          <a:blip r:embed="rId1"/>
          <a:stretch/>
        </p:blipFill>
        <p:spPr>
          <a:xfrm>
            <a:off x="1571760" y="1957320"/>
            <a:ext cx="60004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Лучшим материалом являются натуральные ткани.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достатки искусственных волокн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охо впитывает влаг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тическое электрич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127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Гигиена жилища.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Гигиенические требование жилище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статочно просторным и сухи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рошо освещенный солнечным свет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етривать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загрязненную воздушную сре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мпература 18-19 граду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лажность 40-60 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сто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Рисунок 5" descr="Квартира"/>
          <p:cNvPicPr/>
          <p:nvPr/>
        </p:nvPicPr>
        <p:blipFill>
          <a:blip r:embed="rId1"/>
          <a:stretch/>
        </p:blipFill>
        <p:spPr>
          <a:xfrm>
            <a:off x="826920" y="549360"/>
            <a:ext cx="727416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тветить на вопрос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включает в себя личная гигиен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ухаживать за коже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кажите о гигиене пит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знаете о гигиене одежд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гиена жилищ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омашнее  зад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тавить инструкцию по соблюдению личной гигие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ример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струкция по соблюдению личной гигиены питания для учащих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ичная гигиена включает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гиена кож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гиена в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гиена одеж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гиена жилищ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гиена пит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гиена полости рт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нятие гигиен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гиена от греческого слова «гигиэйнос» в переводе – целебный, приносящий здоровь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Гигиена кожи. Не реже 1 раз в неделю мойтесь в бан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Рисунок 6" descr="{2298E604-FDC0-4693-ACE2-7A14BE7EE579}"/>
          <p:cNvPicPr/>
          <p:nvPr/>
        </p:nvPicPr>
        <p:blipFill>
          <a:blip r:embed="rId1"/>
          <a:stretch/>
        </p:blipFill>
        <p:spPr>
          <a:xfrm>
            <a:off x="900000" y="1600200"/>
            <a:ext cx="65106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еред едой каждый раз мойте теплой водой с мылом руки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оевременно меняйте белье, носки, чулки, колгот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кожа сухая или чешется, смажьте ее крем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выдавливайте прыщ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щищайте кожу от обморож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носите слишком тесную одежд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ожа должна быть чистая и красива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Рисунок 5" descr="{B7360629-95BE-4B5D-B4AC-1DE95EEB51AE}"/>
          <p:cNvPicPr/>
          <p:nvPr/>
        </p:nvPicPr>
        <p:blipFill>
          <a:blip r:embed="rId1"/>
          <a:stretch/>
        </p:blipFill>
        <p:spPr>
          <a:xfrm>
            <a:off x="1835280" y="1413000"/>
            <a:ext cx="4681440" cy="51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е забудьте и о волосах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Рисунок 6" descr="{1C35E0E2-C2D6-4EB5-816C-BAA68A48FF14}"/>
          <p:cNvPicPr/>
          <p:nvPr/>
        </p:nvPicPr>
        <p:blipFill>
          <a:blip r:embed="rId1"/>
          <a:stretch/>
        </p:blipFill>
        <p:spPr>
          <a:xfrm>
            <a:off x="1258920" y="1268280"/>
            <a:ext cx="5545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е забудьте и о зубах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Рисунок 6" descr="{3B709AC0-AD5E-49F9-9AC6-37CC9066274F}"/>
          <p:cNvPicPr/>
          <p:nvPr/>
        </p:nvPicPr>
        <p:blipFill>
          <a:blip r:embed="rId1"/>
          <a:stretch/>
        </p:blipFill>
        <p:spPr>
          <a:xfrm>
            <a:off x="2556000" y="1557360"/>
            <a:ext cx="3639960" cy="48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4T10:46:38Z</dcterms:created>
  <dc:creator>11</dc:creator>
  <dc:description/>
  <dc:language>en-US</dc:language>
  <cp:lastModifiedBy>Admin</cp:lastModifiedBy>
  <dcterms:modified xsi:type="dcterms:W3CDTF">2012-05-16T12:12:27Z</dcterms:modified>
  <cp:revision>8</cp:revision>
  <dc:subject/>
  <dc:title>Слайд 1</dc:title>
</cp:coreProperties>
</file>