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7E54D-854B-49D1-AFFD-CC0D550E5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9B4C8-BCE5-4215-870A-CEEF935DE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0549A-C2F4-4AE7-AED9-F3E506862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494D0-51D5-4736-80BE-FBFFCAB37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8F54C-8EE1-4CA2-907B-093FE84F7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721B2-79D5-44DC-9432-B33E7567D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AC712-7997-49AB-98E3-CD0CDE64D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71384-0CF0-4DBB-B144-086F232C4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017BC-4248-4273-8D99-B0609CC26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4E609-8D28-4AB5-AD44-CD6B108C8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DA6A4-F707-4365-8D99-696C9F42A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6EAB7-0F1D-4433-A6D7-D9341C665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477E5-DA2B-4FC2-957A-041A5810F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1A6ED-4054-4D61-B5AC-361A34E01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95DFC-8E3A-49FF-8708-8B1086987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B762F-BF84-4C83-AEBD-504A2FB93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32004-C617-41E3-ADA6-43315F917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88BBA-BF5E-447B-8B68-8DBF815F1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B1D65-DC6E-4D56-A3E6-E50F27998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590C4-C59E-4344-A61A-8ACDA844E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11CDF-C862-4DB8-9E65-6A37B24BD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801E9-6E2D-409C-8B49-9B7E6CD4D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932C5-2AE9-45CD-B7E5-127E256B8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11346-2420-4FE1-A21C-4A5A67B16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Группа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Полилиния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Полилиния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Полилиния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Полилиния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Полилиния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Полилиния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Полилиния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Полилиния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DAB98-5BB9-4290-BD98-D9860501436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Группа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Полилиния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Полилиния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Полилиния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Полилиния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Полилиния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Полилиния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A3EB9-F0C7-437E-84D1-D7F24919E07D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Рисунок 4" descr="sluzhbaSlygba4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 </a:t>
            </a:r>
            <a:r>
              <a:rPr b="1" lang="ru-RU" sz="2000" spc="-1" strike="noStrike">
                <a:solidFill>
                  <a:srgbClr val="ffffb7"/>
                </a:solidFill>
                <a:latin typeface="Arial Black"/>
              </a:rPr>
              <a:t>Указанные документы командиром подразделения вместе со служебной характеристикой военнослужащего, написанной прямым начальником не ниже командира роты, представляются в штаб воинской части.</a:t>
            </a: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-360" y="1988640"/>
            <a:ext cx="6335640" cy="411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и несоответствии на день заключения контракта его возраста требованиям Федерального закона «О воинской обязанности и военной службе», а также если это лицо не вправе в соответствии с Федеральным законом заключать контракт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•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и вынесении в отношении его обвинительного приговора и назначении наказания, ведения в отношении его дознания, предварительного следствия или передаче дела в суд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•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и наличии у него неснятой или непогашенной судимости за совершение преступления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•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если это лицо отбывало наказание в виде лишения свободы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сле рассмотрения рапортов военнослужащих, изъявивших желание поступить на военную службу по контракту, командир воинской части при необходимости дает указания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•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 проведении медицинского освидетельствования кандидатов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•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 проведении с ними мероприятий по профессиональному психологическому отбору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•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 проверке соответствия их уровня образования, профессиональной и физической подготовки требованиям, установленным для поступающих на военную службу по контракту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•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 рассмотрении их кандидатур аттестационной комиссией воинской части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•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 оформлении допуска к сведениям, составляющим государственную тайну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Рисунок 4" descr="163"/>
          <p:cNvPicPr/>
          <p:nvPr/>
        </p:nvPicPr>
        <p:blipFill>
          <a:blip r:embed="rId1"/>
          <a:stretch/>
        </p:blipFill>
        <p:spPr>
          <a:xfrm>
            <a:off x="6227640" y="2276640"/>
            <a:ext cx="2916360" cy="28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 </a:t>
            </a:r>
            <a:r>
              <a:rPr b="1" lang="ru-RU" sz="2000" spc="-1" strike="noStrike">
                <a:solidFill>
                  <a:srgbClr val="ffffb7"/>
                </a:solidFill>
                <a:latin typeface="Arial Black"/>
              </a:rPr>
              <a:t>Соответствие кандидата требованиям, установленным для поступающих на военную службу по контракту, определяется аттестационной комиссией воинской части.</a:t>
            </a:r>
            <a:br>
              <a:rPr sz="2000"/>
            </a:br>
            <a:r>
              <a:rPr b="1" lang="ru-RU" sz="2000" spc="-1" strike="noStrike">
                <a:solidFill>
                  <a:srgbClr val="ffffb7"/>
                </a:solidFill>
                <a:latin typeface="Arial Black"/>
              </a:rPr>
              <a:t>     Решение о несоответствии кандидата требованиям, установленным для поступающих на военную службу по контракту, принимается в случаях:</a:t>
            </a: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-360" y="2276280"/>
            <a:ext cx="54356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•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и несоответствии на день заключения контракта его возраста требованиям Федерального закона «О воинской обязанности и военной службе», а также если это лицо не вправе в соответствии с Федеральным законом заключать контракт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•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и вынесении в отношении его обвинительного приговора и назначении наказания, ведения в отношении его дознания, предварительного следствия или передаче дела в суд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•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и наличии у него неснятой или непогашенной судимости за совершение преступления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•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если это лицо отбывало наказание в виде лишения свободы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•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и признании его по результатам медицинского освидетельствования ограниченно годным к военной службе, временно негодным к военной службе или негодным к военной службе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•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и отнесении его по результатам профессионального психологического отбора к четвертой категории профессиональной пригодности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•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и признании его не соответствующим требованиям для поступающих на военную службу по контракту по уровню образования, профессиональной или физической подготовки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Рисунок 4" descr="737690_1110526054"/>
          <p:cNvPicPr/>
          <p:nvPr/>
        </p:nvPicPr>
        <p:blipFill>
          <a:blip r:embed="rId1"/>
          <a:stretch/>
        </p:blipFill>
        <p:spPr>
          <a:xfrm>
            <a:off x="5796000" y="2997360"/>
            <a:ext cx="30481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Рисунок 4" descr="big1646"/>
          <p:cNvPicPr/>
          <p:nvPr/>
        </p:nvPicPr>
        <p:blipFill>
          <a:blip r:embed="rId1"/>
          <a:stretch/>
        </p:blipFill>
        <p:spPr>
          <a:xfrm>
            <a:off x="0" y="333360"/>
            <a:ext cx="8964720" cy="61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Рисунок 4" descr="pic638"/>
          <p:cNvPicPr/>
          <p:nvPr/>
        </p:nvPicPr>
        <p:blipFill>
          <a:blip r:embed="rId1"/>
          <a:stretch/>
        </p:blipFill>
        <p:spPr>
          <a:xfrm>
            <a:off x="539640" y="189000"/>
            <a:ext cx="81360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Рисунок 4" descr="996_013"/>
          <p:cNvPicPr/>
          <p:nvPr/>
        </p:nvPicPr>
        <p:blipFill>
          <a:blip r:embed="rId1"/>
          <a:stretch/>
        </p:blipFill>
        <p:spPr>
          <a:xfrm>
            <a:off x="539640" y="189000"/>
            <a:ext cx="8280360" cy="66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Рисунок 4" descr="0"/>
          <p:cNvPicPr/>
          <p:nvPr/>
        </p:nvPicPr>
        <p:blipFill>
          <a:blip r:embed="rId1"/>
          <a:stretch/>
        </p:blipFill>
        <p:spPr>
          <a:xfrm>
            <a:off x="2050920" y="0"/>
            <a:ext cx="5113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250920" y="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оенная служба по контракту – это добровольная служба когда гражданин заключает  контракт с министерством обороны  Российской федерации , где обязуется проходить  военную службу на определенных условия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Рисунок 4" descr="dsc01178"/>
          <p:cNvPicPr/>
          <p:nvPr/>
        </p:nvPicPr>
        <p:blipFill>
          <a:blip r:embed="rId1"/>
          <a:stretch/>
        </p:blipFill>
        <p:spPr>
          <a:xfrm>
            <a:off x="468360" y="1197000"/>
            <a:ext cx="7559640" cy="51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b7"/>
                </a:solidFill>
                <a:latin typeface="Arial Black"/>
              </a:rPr>
              <a:t>Контракт о прохождении военной службы вправе заключать:</a:t>
            </a: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-360" y="1268280"/>
            <a:ext cx="579420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оеннослужащие, у которых заканчивается предыдущий контракт о прохождении военной службы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оеннослужащие, проходящие военную службу по призыву, прослужившие не менее 6 месяцев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раждане, пребывающие в запасе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раждане мужского пола, не пребывающие в запасе, окончившие государственные, муниципальные или имеющие государственную аккредитацию по соответствующим направлениям подготовки (специальностям) негосударственные образовательные учреждения высшего образования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раждане женского пола, не пребывающие в запасе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ругие граждане в соответствии с нормативными актами Президента Российской Федераци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Рисунок 5" descr="contract"/>
          <p:cNvPicPr/>
          <p:nvPr/>
        </p:nvPicPr>
        <p:blipFill>
          <a:blip r:embed="rId1"/>
          <a:stretch/>
        </p:blipFill>
        <p:spPr>
          <a:xfrm>
            <a:off x="5710320" y="1197000"/>
            <a:ext cx="3433680" cy="2879640"/>
          </a:xfrm>
          <a:prstGeom prst="rect">
            <a:avLst/>
          </a:prstGeom>
          <a:ln w="0">
            <a:noFill/>
          </a:ln>
        </p:spPr>
      </p:pic>
      <p:pic>
        <p:nvPicPr>
          <p:cNvPr id="104" name="Рисунок 6" descr="contract2"/>
          <p:cNvPicPr/>
          <p:nvPr/>
        </p:nvPicPr>
        <p:blipFill>
          <a:blip r:embed="rId2"/>
          <a:stretch/>
        </p:blipFill>
        <p:spPr>
          <a:xfrm>
            <a:off x="5651640" y="4338720"/>
            <a:ext cx="310176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Рисунок 4" descr="soldat"/>
          <p:cNvPicPr/>
          <p:nvPr/>
        </p:nvPicPr>
        <p:blipFill>
          <a:blip r:embed="rId1"/>
          <a:stretch/>
        </p:blipFill>
        <p:spPr>
          <a:xfrm>
            <a:off x="755640" y="907920"/>
            <a:ext cx="763272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b7"/>
                </a:solidFill>
                <a:latin typeface="Arial Black"/>
              </a:rPr>
              <a:t> </a:t>
            </a:r>
            <a:r>
              <a:rPr b="1" lang="ru-RU" sz="2000" spc="-1" strike="noStrike">
                <a:solidFill>
                  <a:srgbClr val="ffffb7"/>
                </a:solidFill>
                <a:latin typeface="Arial Black"/>
              </a:rPr>
              <a:t>В заявлении граждане, изъявившие желание поступить на военную службу по контракту, указывают:</a:t>
            </a: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140000" y="1773000"/>
            <a:ext cx="500364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фамилию, имя, отчество, число, месяц и год рождени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есто жительств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именование федерального органа исполнительной власти, с которым желают заключить контракт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рок, на который предполагается заключение контракт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Рисунок 4" descr="1_3_9"/>
          <p:cNvPicPr/>
          <p:nvPr/>
        </p:nvPicPr>
        <p:blipFill>
          <a:blip r:embed="rId1"/>
          <a:stretch/>
        </p:blipFill>
        <p:spPr>
          <a:xfrm>
            <a:off x="179280" y="1341360"/>
            <a:ext cx="3803760" cy="55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 </a:t>
            </a:r>
            <a:r>
              <a:rPr b="1" lang="ru-RU" sz="2000" spc="-1" strike="noStrike">
                <a:solidFill>
                  <a:srgbClr val="ffffb7"/>
                </a:solidFill>
                <a:latin typeface="Arial Black"/>
              </a:rPr>
              <a:t>Вместе с заявлением граждане должны предъявить документ, удостоверяющий их личность и гражданство, и представить:</a:t>
            </a: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-360" y="1988640"/>
            <a:ext cx="5724360" cy="39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•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заполненную по установленной форме и подписанную анкету поступающего на военную службу по контракту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   •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автобиографию, написанную от руки в произвольной форме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   •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заверенные в установленном порядке копии документов, подтверждающих профессиональное или иное образование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   •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заверенные в установленном порядке копии свидетельств о браке и о рождении детей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   •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заверенную в установленном порядке копию трудовой книжки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   •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фотографию размером 3х4 см – 1 шт. (только гражданам женского пола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   •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фотографию размером 9х12 см (анфас). На ее обороте чернилами указываются фамилия, имя, отчество и дата фотографирования. Фотография заверяется военным комиссаром и гербовой печатью военного комиссариата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   •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копию свидетельства о рождении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   •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служебную характеристику с последнего места работы (учебы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   •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выписку из домовой книги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Рисунок 4" descr="03_01_01"/>
          <p:cNvPicPr/>
          <p:nvPr/>
        </p:nvPicPr>
        <p:blipFill>
          <a:blip r:embed="rId1"/>
          <a:stretch/>
        </p:blipFill>
        <p:spPr>
          <a:xfrm>
            <a:off x="6227640" y="2205000"/>
            <a:ext cx="2540160" cy="37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Рисунок 4" descr="Skokov(400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b7"/>
                </a:solidFill>
                <a:latin typeface="Arial Black"/>
              </a:rPr>
              <a:t>Порядок подачи и оформления документов</a:t>
            </a: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-360" y="1904760"/>
            <a:ext cx="54356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рапорте указывается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•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оинское звание, фамилия, имя, отчество, число, месяц и год рождения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•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аким военным комиссариатом и когда призван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•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аименование федерального органа исполнительной власти, с которым желают заключить контракт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•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рок, на который предполагается заключение контракта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месте с рапортом военнослужащий представляет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•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заполненную по установленной форме и подписанную анкету поступающего на военную службу по контракту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•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втобиографию, написанную от руки в произвольной форме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•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заверенные в установленном порядке копии документов, подтверждающих профессиональное или иное образование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•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заверенные в установленном порядке копии свидетельств о браке и о рождении детей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•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фотографию размером 9х12 см (анфас). На ее обороте чернилами указываются фамилия, имя, отчество и дата фотографирования. Фотография заверяется командиром воинской части и гербовой печатью воинской части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Рисунок 4" descr="764810_1119254409"/>
          <p:cNvPicPr/>
          <p:nvPr/>
        </p:nvPicPr>
        <p:blipFill>
          <a:blip r:embed="rId1"/>
          <a:stretch/>
        </p:blipFill>
        <p:spPr>
          <a:xfrm>
            <a:off x="5292720" y="1268280"/>
            <a:ext cx="367200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Рисунок 4" descr="kontrakt02-208794405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2T16:24:55Z</dcterms:created>
  <dc:creator>Артёмка</dc:creator>
  <dc:description/>
  <dc:language>en-US</dc:language>
  <cp:lastModifiedBy>Admin</cp:lastModifiedBy>
  <dcterms:modified xsi:type="dcterms:W3CDTF">2010-10-18T17:57:25Z</dcterms:modified>
  <cp:revision>2</cp:revision>
  <dc:subject/>
  <dc:title>Слайд 1</dc:title>
</cp:coreProperties>
</file>