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B09-4EC5-4346-B9B3-93A95855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A98-692F-44D6-9743-566A79AC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B68-65B5-4455-BC8D-08597218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FDE-6A4A-42E9-BA63-6973CC20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8631-F321-42C5-9E1F-23EAA846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62B3-99A5-4A0C-9EE2-2F61419C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3961-5EBF-4452-94B9-14C46390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3E13-A255-4281-A23B-636FDF3C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8023-0088-4D3C-BECE-B10CD656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1BF1-D2F4-4DE5-9180-63871907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94F8-EA4E-47F9-9615-2E01033D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10C-2C57-453F-B348-D6BBB55F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0BC6-E520-4F1C-9FDE-ED721715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2CCE-3ABA-410A-9F41-1AA9A8DF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4540-D663-4106-9C76-E7BDEA67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83FF-D4FF-4C91-A1D6-AE0F6A66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7B8D-4F4C-4EBD-8A73-09AC1B0E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1E4-A684-4521-A5BE-3DE392BD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257-55D6-4CA6-B8AC-D456C022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87C-5553-49B3-8591-FAB3A7E8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D26-AB36-4314-99FE-C494F5FB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706-451C-4A22-989E-1BC623B8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C05-1273-4B5A-9163-7E8F5478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740-1FBF-456E-96D8-F8EF690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Полилиния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EFC6-8EF5-4CD0-9E21-7E8B4715C2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Полилиния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Полилиния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Полилиния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Полилиния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Полилиния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Полилиния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1A9C-C3D7-4D3F-9882-81C08344D3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sluzhbaSlygba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Указанные документы командиром подразделения вместе со служебной характеристикой военнослужащего, написанной прямым начальником не ниже командира роты, представляются в штаб воинской част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6335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несоответствии на день заключения контракта его возраста требованиям Федерального закона «О воинской обязанности и военной службе», а также если это лицо не вправе в соответствии с Федеральным законом заключать контрак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вынесении в отношении его обвинительного приговора и назначении наказания, ведения в отношении его дознания, предварительного следствия или передаче дела в су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наличии у него неснятой или непогашенной судимости за совершение преступ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это лицо отбывало наказание в виде лишения свобод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ле рассмотрения рапортов военнослужащих, изъявивших желание поступить на военную службу по контракту, командир воинской части при необходимости дает указ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проведении медицинского освидетельствования кандида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проведении с ними мероприятий по профессиональному психологическому отбор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проверке соответствия их уровня образования, профессиональной и физической подготовки требованиям, установленным для поступающих на военную службу по контракт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рассмотрении их кандидатур аттестационной комиссией воинской ча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 оформлении допуска к сведениям, составляющим государственную тай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4" descr="163"/>
          <p:cNvPicPr/>
          <p:nvPr/>
        </p:nvPicPr>
        <p:blipFill>
          <a:blip r:embed="rId1"/>
          <a:stretch/>
        </p:blipFill>
        <p:spPr>
          <a:xfrm>
            <a:off x="6227640" y="2276640"/>
            <a:ext cx="2916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Соответствие кандидата требованиям, установленным для поступающих на военную службу по контракту, определяется аттестационной комиссией воинской части.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    Решение о несоответствии кандидата требованиям, установленным для поступающих на военную службу по контракту, принимается в случаях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2276280"/>
            <a:ext cx="5435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несоответствии на день заключения контракта его возраста требованиям Федерального закона «О воинской обязанности и военной службе», а также если это лицо не вправе в соответствии с Федеральным законом заключать контрак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вынесении в отношении его обвинительного приговора и назначении наказания, ведения в отношении его дознания, предварительного следствия или передаче дела в су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наличии у него неснятой или непогашенной судимости за совершение преступ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это лицо отбывало наказание в виде лишения своб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ризнании его по результатам медицинского освидетельствования ограниченно годным к военной службе, временно негодным к военной службе или негодным к военной служб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тнесении его по результатам профессионального психологического отбора к четвертой категории профессиональной пригод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ризнании его не соответствующим требованиям для поступающих на военную службу по контракту по уровню образования, профессиональной или физической подготов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4" descr="737690_1110526054"/>
          <p:cNvPicPr/>
          <p:nvPr/>
        </p:nvPicPr>
        <p:blipFill>
          <a:blip r:embed="rId1"/>
          <a:stretch/>
        </p:blipFill>
        <p:spPr>
          <a:xfrm>
            <a:off x="5796000" y="2997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4" descr="big1646"/>
          <p:cNvPicPr/>
          <p:nvPr/>
        </p:nvPicPr>
        <p:blipFill>
          <a:blip r:embed="rId1"/>
          <a:stretch/>
        </p:blipFill>
        <p:spPr>
          <a:xfrm>
            <a:off x="0" y="333360"/>
            <a:ext cx="8964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pic638"/>
          <p:cNvPicPr/>
          <p:nvPr/>
        </p:nvPicPr>
        <p:blipFill>
          <a:blip r:embed="rId1"/>
          <a:stretch/>
        </p:blipFill>
        <p:spPr>
          <a:xfrm>
            <a:off x="539640" y="189000"/>
            <a:ext cx="8136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996_013"/>
          <p:cNvPicPr/>
          <p:nvPr/>
        </p:nvPicPr>
        <p:blipFill>
          <a:blip r:embed="rId1"/>
          <a:stretch/>
        </p:blipFill>
        <p:spPr>
          <a:xfrm>
            <a:off x="539640" y="189000"/>
            <a:ext cx="8280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0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енная служба по контракту – это добровольная служба когда гражданин заключает  контракт с министерством обороны  Российской федерации , где обязуется проходить  военную службу на определенных услов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4" descr="dsc01178"/>
          <p:cNvPicPr/>
          <p:nvPr/>
        </p:nvPicPr>
        <p:blipFill>
          <a:blip r:embed="rId1"/>
          <a:stretch/>
        </p:blipFill>
        <p:spPr>
          <a:xfrm>
            <a:off x="468360" y="1197000"/>
            <a:ext cx="75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Контракт о прохождении военной службы вправе заключать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57942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еннослужащие, у которых заканчивается предыдущий контракт о прохождении военной служб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еннослужащие, проходящие военную службу по призыву, прослужившие не менее 6 месяце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е, пребывающие в запас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е мужского пола, не пребывающие в запасе, окончившие государственные, муниципальные или имеющие государственную аккредитацию по соответствующим направлениям подготовки (специальностям) негосударственные образовательные учреждения высшего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е женского пола, не пребывающие в запас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гие граждане в соответствии с нормативными актами Президента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5" descr="contract"/>
          <p:cNvPicPr/>
          <p:nvPr/>
        </p:nvPicPr>
        <p:blipFill>
          <a:blip r:embed="rId1"/>
          <a:stretch/>
        </p:blipFill>
        <p:spPr>
          <a:xfrm>
            <a:off x="5710320" y="1197000"/>
            <a:ext cx="343368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contract2"/>
          <p:cNvPicPr/>
          <p:nvPr/>
        </p:nvPicPr>
        <p:blipFill>
          <a:blip r:embed="rId2"/>
          <a:stretch/>
        </p:blipFill>
        <p:spPr>
          <a:xfrm>
            <a:off x="5651640" y="4338720"/>
            <a:ext cx="3101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soldat"/>
          <p:cNvPicPr/>
          <p:nvPr/>
        </p:nvPicPr>
        <p:blipFill>
          <a:blip r:embed="rId1"/>
          <a:stretch/>
        </p:blipFill>
        <p:spPr>
          <a:xfrm>
            <a:off x="755640" y="907920"/>
            <a:ext cx="7632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 заявлении граждане, изъявившие желание поступить на военную службу по контракту, указывают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40000" y="1773000"/>
            <a:ext cx="5003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милию, имя, отчество, число, месяц и год ро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житель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менование федерального органа исполнительной власти, с которым желают заключить контрак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к, на который предполагается заключение контра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4" descr="1_3_9"/>
          <p:cNvPicPr/>
          <p:nvPr/>
        </p:nvPicPr>
        <p:blipFill>
          <a:blip r:embed="rId1"/>
          <a:stretch/>
        </p:blipFill>
        <p:spPr>
          <a:xfrm>
            <a:off x="179280" y="1341360"/>
            <a:ext cx="38037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месте с заявлением граждане должны предъявить документ, удостоверяющий их личность и гражданство, и представить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5724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олненную по установленной форме и подписанную анкету поступающего на военную службу по контракт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втобиографию, написанную от руки в произвольной форм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веренные в установленном порядке копии документов, подтверждающих профессиональное или иное образов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веренные в установленном порядке копии свидетельств о браке и о рождении де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веренную в установленном порядке копию трудовой книж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тографию размером 3х4 см – 1 шт. (только гражданам женского пола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тографию размером 9х12 см (анфас). На ее обороте чернилами указываются фамилия, имя, отчество и дата фотографирования. Фотография заверяется военным комиссаром и гербовой печатью военного комиссариа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пию свидетельства о рожден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лужебную характеристику с последнего места работы (учебы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писку из домовой книг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4" descr="03_01_01"/>
          <p:cNvPicPr/>
          <p:nvPr/>
        </p:nvPicPr>
        <p:blipFill>
          <a:blip r:embed="rId1"/>
          <a:stretch/>
        </p:blipFill>
        <p:spPr>
          <a:xfrm>
            <a:off x="6227640" y="2205000"/>
            <a:ext cx="25401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4" descr="Skokov(40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Порядок подачи и оформления документов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5435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апорте указыва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инское звание, фамилия, имя, отчество, число, месяц и год рожд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м военным комиссариатом и когда призван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менование федерального органа исполнительной власти, с которым желают заключить контрак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, на который предполагается заключение контрак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е с рапортом военнослужащий представляе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олненную по установленной форме и подписанную анкету поступающего на военную службу по контракт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биографию, написанную от руки в произвольной форм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еренные в установленном порядке копии документов, подтверждающих профессиональное или иное образован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еренные в установленном порядке копии свидетельств о браке и о рождении дете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тографию размером 9х12 см (анфас). На ее обороте чернилами указываются фамилия, имя, отчество и дата фотографирования. Фотография заверяется командиром воинской части и гербовой печатью воинской ча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4" descr="764810_1119254409"/>
          <p:cNvPicPr/>
          <p:nvPr/>
        </p:nvPicPr>
        <p:blipFill>
          <a:blip r:embed="rId1"/>
          <a:stretch/>
        </p:blipFill>
        <p:spPr>
          <a:xfrm>
            <a:off x="5292720" y="1268280"/>
            <a:ext cx="3672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kontrakt02-2087944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6:24:55Z</dcterms:created>
  <dc:creator>Артёмка</dc:creator>
  <dc:description/>
  <dc:language>en-US</dc:language>
  <cp:lastModifiedBy>Admin</cp:lastModifiedBy>
  <dcterms:modified xsi:type="dcterms:W3CDTF">2010-10-18T17:57:25Z</dcterms:modified>
  <cp:revision>2</cp:revision>
  <dc:subject/>
  <dc:title>Слайд 1</dc:title>
</cp:coreProperties>
</file>