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5C61-D024-4302-94A4-7EE952B73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6D0B-B973-4B86-BD6D-D1306C507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5647-8EE8-4B2F-B8FD-D9D103796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ED98-A45D-4DC7-9F8D-55422068D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97F0B-B76C-4FAC-93BE-63CF2BE21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CC572-4903-4497-8BC3-3481F222A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04553-3F47-4B8F-B99A-A9948FCDC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26034-D667-4ABA-85A0-391030239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5073A-B4EE-4C6C-A57D-C25E7D60E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F4FFA-8975-4A50-A72A-44A206540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CD2B6-244B-478D-B83D-585D5D57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680C-E07B-4AF2-9D71-659583E91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BEB90-88BC-4F97-8740-238EBCDA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F574E-2F5E-4881-98FC-42D6CC93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4FDD1-91E6-45C0-9F5E-DE6D8DA9C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FA377-3991-4355-AB25-B74B3A9AC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0E259-FCDE-4F40-A3D1-EB844F063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DC6B-3C12-4353-AEAF-B217B5525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A4A8-331F-4CD6-B5B1-E125AD6F7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C937-19EF-45A3-A6A3-FC94FA63A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FB6F-E8A9-4F51-9633-5467D4673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3183-97BA-4E6E-980B-401D2E3C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48B1-D0A3-4D34-90D3-2083C3D9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C408-24C4-48A2-90AB-2810B905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Группа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Полилиния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Полилиния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Полилиния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Полилиния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Полилиния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Полилиния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Полилиния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Полилиния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C0C8C-3625-4CFE-AB19-DEF43495C7A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Группа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Полилиния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Полилиния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Полилиния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Полилиния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Полилиния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Полилиния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A49B2-E15C-4189-B2E1-6C68041B77B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4" descr="sluzhbaSlygba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Указанные документы командиром подразделения вместе со служебной характеристикой военнослужащего, написанной прямым начальником не ниже командира роты, представляются в штаб воинской части.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1988640"/>
            <a:ext cx="6335640" cy="41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 несоответствии на день заключения контракта его возраста требованиям Федерального закона «О воинской обязанности и военной службе», а также если это лицо не вправе в соответствии с Федеральным законом заключать контракт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•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 вынесении в отношении его обвинительного приговора и назначении наказания, ведения в отношении его дознания, предварительного следствия или передаче дела в суд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•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 наличии у него неснятой или непогашенной судимости за совершение преступления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•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это лицо отбывало наказание в виде лишения свобод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сле рассмотрения рапортов военнослужащих, изъявивших желание поступить на военную службу по контракту, командир воинской части при необходимости дает указани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•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 проведении медицинского освидетельствования кандидатов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•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 проведении с ними мероприятий по профессиональному психологическому отбору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•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 проверке соответствия их уровня образования, профессиональной и физической подготовки требованиям, установленным для поступающих на военную службу по контракту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•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 рассмотрении их кандидатур аттестационной комиссией воинской част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•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 оформлении допуска к сведениям, составляющим государственную тайн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Рисунок 4" descr="163"/>
          <p:cNvPicPr/>
          <p:nvPr/>
        </p:nvPicPr>
        <p:blipFill>
          <a:blip r:embed="rId1"/>
          <a:stretch/>
        </p:blipFill>
        <p:spPr>
          <a:xfrm>
            <a:off x="6227640" y="2276640"/>
            <a:ext cx="291636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Соответствие кандидата требованиям, установленным для поступающих на военную службу по контракту, определяется аттестационной комиссией воинской части.</a:t>
            </a:r>
            <a:br>
              <a:rPr sz="2000"/>
            </a:b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     Решение о несоответствии кандидата требованиям, установленным для поступающих на военную службу по контракту, принимается в случаях: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-360" y="2276280"/>
            <a:ext cx="5435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 несоответствии на день заключения контракта его возраста требованиям Федерального закона «О воинской обязанности и военной службе», а также если это лицо не вправе в соответствии с Федеральным законом заключать контракт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•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 вынесении в отношении его обвинительного приговора и назначении наказания, ведения в отношении его дознания, предварительного следствия или передаче дела в суд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•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 наличии у него неснятой или непогашенной судимости за совершение преступления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•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это лицо отбывало наказание в виде лишения свободы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•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 признании его по результатам медицинского освидетельствования ограниченно годным к военной службе, временно негодным к военной службе или негодным к военной службе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•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 отнесении его по результатам профессионального психологического отбора к четвертой категории профессиональной пригодност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•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 признании его не соответствующим требованиям для поступающих на военную службу по контракту по уровню образования, профессиональной или физической подготовк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Рисунок 4" descr="737690_1110526054"/>
          <p:cNvPicPr/>
          <p:nvPr/>
        </p:nvPicPr>
        <p:blipFill>
          <a:blip r:embed="rId1"/>
          <a:stretch/>
        </p:blipFill>
        <p:spPr>
          <a:xfrm>
            <a:off x="5796000" y="299736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Рисунок 4" descr="big1646"/>
          <p:cNvPicPr/>
          <p:nvPr/>
        </p:nvPicPr>
        <p:blipFill>
          <a:blip r:embed="rId1"/>
          <a:stretch/>
        </p:blipFill>
        <p:spPr>
          <a:xfrm>
            <a:off x="0" y="333360"/>
            <a:ext cx="896472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Рисунок 4" descr="pic638"/>
          <p:cNvPicPr/>
          <p:nvPr/>
        </p:nvPicPr>
        <p:blipFill>
          <a:blip r:embed="rId1"/>
          <a:stretch/>
        </p:blipFill>
        <p:spPr>
          <a:xfrm>
            <a:off x="539640" y="189000"/>
            <a:ext cx="8136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4" descr="996_013"/>
          <p:cNvPicPr/>
          <p:nvPr/>
        </p:nvPicPr>
        <p:blipFill>
          <a:blip r:embed="rId1"/>
          <a:stretch/>
        </p:blipFill>
        <p:spPr>
          <a:xfrm>
            <a:off x="539640" y="189000"/>
            <a:ext cx="828036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4" descr="0"/>
          <p:cNvPicPr/>
          <p:nvPr/>
        </p:nvPicPr>
        <p:blipFill>
          <a:blip r:embed="rId1"/>
          <a:stretch/>
        </p:blipFill>
        <p:spPr>
          <a:xfrm>
            <a:off x="2050920" y="0"/>
            <a:ext cx="511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25092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енная служба по контракту – это добровольная служба когда гражданин заключает  контракт с министерством обороны  Российской федерации , где обязуется проходить  военную службу на определенных условия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Рисунок 4" descr="dsc01178"/>
          <p:cNvPicPr/>
          <p:nvPr/>
        </p:nvPicPr>
        <p:blipFill>
          <a:blip r:embed="rId1"/>
          <a:stretch/>
        </p:blipFill>
        <p:spPr>
          <a:xfrm>
            <a:off x="468360" y="1197000"/>
            <a:ext cx="755964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Контракт о прохождении военной службы вправе заключать: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-360" y="1268280"/>
            <a:ext cx="57942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еннослужащие, у которых заканчивается предыдущий контракт о прохождении военной служб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еннослужащие, проходящие военную службу по призыву, прослужившие не менее 6 месяце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раждане, пребывающие в запас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раждане мужского пола, не пребывающие в запасе, окончившие государственные, муниципальные или имеющие государственную аккредитацию по соответствующим направлениям подготовки (специальностям) негосударственные образовательные учреждения высшего образова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раждане женского пола, не пребывающие в запас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ругие граждане в соответствии с нормативными актами Президента Российской Федера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Рисунок 5" descr="contract"/>
          <p:cNvPicPr/>
          <p:nvPr/>
        </p:nvPicPr>
        <p:blipFill>
          <a:blip r:embed="rId1"/>
          <a:stretch/>
        </p:blipFill>
        <p:spPr>
          <a:xfrm>
            <a:off x="5710320" y="1197000"/>
            <a:ext cx="3433680" cy="287964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6" descr="contract2"/>
          <p:cNvPicPr/>
          <p:nvPr/>
        </p:nvPicPr>
        <p:blipFill>
          <a:blip r:embed="rId2"/>
          <a:stretch/>
        </p:blipFill>
        <p:spPr>
          <a:xfrm>
            <a:off x="5651640" y="4338720"/>
            <a:ext cx="31017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4" descr="soldat"/>
          <p:cNvPicPr/>
          <p:nvPr/>
        </p:nvPicPr>
        <p:blipFill>
          <a:blip r:embed="rId1"/>
          <a:stretch/>
        </p:blipFill>
        <p:spPr>
          <a:xfrm>
            <a:off x="755640" y="907920"/>
            <a:ext cx="763272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В заявлении граждане, изъявившие желание поступить на военную службу по контракту, указывают: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140000" y="1773000"/>
            <a:ext cx="50036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амилию, имя, отчество, число, месяц и год рожд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сто жительств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именование федерального органа исполнительной власти, с которым желают заключить контракт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рок, на который предполагается заключение контрак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Рисунок 4" descr="1_3_9"/>
          <p:cNvPicPr/>
          <p:nvPr/>
        </p:nvPicPr>
        <p:blipFill>
          <a:blip r:embed="rId1"/>
          <a:stretch/>
        </p:blipFill>
        <p:spPr>
          <a:xfrm>
            <a:off x="179280" y="1341360"/>
            <a:ext cx="380376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Вместе с заявлением граждане должны предъявить документ, удостоверяющий их личность и гражданство, и представить: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1988640"/>
            <a:ext cx="572436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•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заполненную по установленной форме и подписанную анкету поступающего на военную службу по контракту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•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автобиографию, написанную от руки в произвольной форме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•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заверенные в установленном порядке копии документов, подтверждающих профессиональное или иное образование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•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заверенные в установленном порядке копии свидетельств о браке и о рождении детей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•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заверенную в установленном порядке копию трудовой книжк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•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фотографию размером 3х4 см – 1 шт. (только гражданам женского пола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•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фотографию размером 9х12 см (анфас). На ее обороте чернилами указываются фамилия, имя, отчество и дата фотографирования. Фотография заверяется военным комиссаром и гербовой печатью военного комиссариата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•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опию свидетельства о рождени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•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лужебную характеристику с последнего места работы (учебы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•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писку из домовой книг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Рисунок 4" descr="03_01_01"/>
          <p:cNvPicPr/>
          <p:nvPr/>
        </p:nvPicPr>
        <p:blipFill>
          <a:blip r:embed="rId1"/>
          <a:stretch/>
        </p:blipFill>
        <p:spPr>
          <a:xfrm>
            <a:off x="6227640" y="2205000"/>
            <a:ext cx="254016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Рисунок 4" descr="Skokov(400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Порядок подачи и оформления документов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360" y="1904760"/>
            <a:ext cx="5435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рапорте указываетс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•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инское звание, фамилия, имя, отчество, число, месяц и год рождения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•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ким военным комиссариатом и когда призван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•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именование федерального органа исполнительной власти, с которым желают заключить контракт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•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ок, на который предполагается заключение контракт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месте с рапортом военнослужащий представляет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•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полненную по установленной форме и подписанную анкету поступающего на военную службу по контракту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•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втобиографию, написанную от руки в произвольной форме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•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веренные в установленном порядке копии документов, подтверждающих профессиональное или иное образование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•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веренные в установленном порядке копии свидетельств о браке и о рождении детей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•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отографию размером 9х12 см (анфас). На ее обороте чернилами указываются фамилия, имя, отчество и дата фотографирования. Фотография заверяется командиром воинской части и гербовой печатью воинской част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Рисунок 4" descr="764810_1119254409"/>
          <p:cNvPicPr/>
          <p:nvPr/>
        </p:nvPicPr>
        <p:blipFill>
          <a:blip r:embed="rId1"/>
          <a:stretch/>
        </p:blipFill>
        <p:spPr>
          <a:xfrm>
            <a:off x="5292720" y="1268280"/>
            <a:ext cx="367200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4" descr="kontrakt02-20879440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2T16:24:55Z</dcterms:created>
  <dc:creator>Артёмка</dc:creator>
  <dc:description/>
  <dc:language>en-US</dc:language>
  <cp:lastModifiedBy>Admin</cp:lastModifiedBy>
  <dcterms:modified xsi:type="dcterms:W3CDTF">2010-10-18T17:57:25Z</dcterms:modified>
  <cp:revision>2</cp:revision>
  <dc:subject/>
  <dc:title>Слайд 1</dc:title>
</cp:coreProperties>
</file>