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3C74-E751-4A2D-8681-F693B1E6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3AC4-4CB3-4C75-A877-4E056AC4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C52E-EFFE-44EE-AABD-7A1C5D2F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947D-123E-4316-B8CC-35384C37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5DB5-D647-4FF4-87AF-02F84C54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2D3-2BD2-4677-BF1D-502C3E41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4F15-C472-45B3-9621-81A09583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052-79FF-418B-B9B6-31733335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A2FD-7643-4CB5-8AB2-BE8C382B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5AF-3AB5-4177-BB59-8C0F30B5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742-9444-4004-AE46-48E62A3E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3FB-DB08-4190-A959-634FB35B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7664-3366-4427-A770-5661033BA1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3048120" y="1676520"/>
            <a:ext cx="5410080" cy="3886200"/>
          </a:xfrm>
          <a:prstGeom prst="ellipse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Ка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избежать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неприятностей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на улице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Советы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Мудрого Фили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747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829040" cy="37245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5257800" y="1143000"/>
            <a:ext cx="3429000" cy="48488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олодная сосуль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куснее леденца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кую бы конфетк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изать мн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конца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 вот лежу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ангиной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мне гулять нельзя... Послушайте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над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ульки есть, друзья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791320" y="1295280"/>
            <a:ext cx="2743200" cy="420876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до трогат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о та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дячих кошек и собак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них чесотку и лиша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ко подхватишь невзначай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гладишь - можешь заразитьс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будешь вынужден лечиться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ных встретишь ты дорогой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обойди и их не трогай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314880" y="2819520"/>
            <a:ext cx="5448240" cy="3504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533520" y="457200"/>
            <a:ext cx="3962160" cy="22885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люди-незнакомц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 кататься позовут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ним в машину не садитес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ко вас увезут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е будет папы, мамы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 подружек, ни друзей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адитесь к незнакомцам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бегите прочь скоре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191120" cy="3276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105520" y="2019240"/>
            <a:ext cx="3809880" cy="41173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омни, друг: на красный св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ез дорогу хода нет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будь внимателен в пути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да на светофор гляд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ь осторожен пешеход 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 безопасен пешехо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223920" y="919080"/>
            <a:ext cx="4086000" cy="45338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4800600" y="1752480"/>
            <a:ext cx="3505320" cy="28382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людать совсем не слож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а в пути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кресток осторож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 переход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е по диагонали, А с людьми, в толпе, Чтоб водителям сигналить Не пришлось тебе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724640" cy="3095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5029200" y="2209680"/>
            <a:ext cx="3809880" cy="40579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ядом с дорогой опасно игра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а нее за мячом выбега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ормозить не успеет шофер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машине сломался мото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занесло ее на тротуар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ты спокойно в машинки играл. Миг! - И случится большая беда... Ты у дорог не играй никогда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343400" cy="27432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5181480" y="1295280"/>
            <a:ext cx="3733920" cy="49726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 это правило учти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бус сзади обходи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спереди нельзя, мой друг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да случиться может вдруг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шины резко - все подряд!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-за тебя затормозя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нут друг друга задевать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люди могут пострадат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йми к тому же, что и т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застрахован от беды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rcRect l="51289" t="0" r="2192" b="12693"/>
          <a:stretch/>
        </p:blipFill>
        <p:spPr>
          <a:xfrm>
            <a:off x="762120" y="22860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105520" y="1447920"/>
            <a:ext cx="2895480" cy="466776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цепляйтес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автобус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зади, ребят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катайтес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ним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сковать ва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надо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друг сорветесь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може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да приключиться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соседней машин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гко очутиться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rcRect l="0" t="371" r="52661" b="9978"/>
          <a:stretch/>
        </p:blipFill>
        <p:spPr>
          <a:xfrm>
            <a:off x="685800" y="533520"/>
            <a:ext cx="4114800" cy="5562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5105520" y="762120"/>
            <a:ext cx="3200400" cy="56455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ейтборд и самокат - веселая забав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жизнью рисков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ей не стоит, право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зда така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проезжей част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сспорно, мож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вести к несчастью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машинами на трасса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тягайтес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на площадка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дворе катайтес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4876920" cy="2743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380880" y="457200"/>
            <a:ext cx="3276720" cy="58874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ледяной горы катать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чется ребятам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ветерком стремглав промчать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село куда-т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куд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отрите са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ледите строго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 не вынесли вас сан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 на дорог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в пруд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лед пока чт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нок и непрочен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село с горы катать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пасно очен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905120" y="0"/>
            <a:ext cx="342900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5638680" y="1066680"/>
            <a:ext cx="2667240" cy="49726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торожней будьте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илые ребята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знакомым людя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верять не над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вас с собо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гости позову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ли вам конфетку Вкусную даду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учше отбегайте Прочь от них скоре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предупреждайте Всех своих друзей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4038480" cy="5334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5334120" y="60480"/>
            <a:ext cx="3200400" cy="680220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рельсам ходят поезда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ты зачем пошел туд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ь поезда стрелой летя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ругие города спеша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машинист не сможет вдруг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да тебя увидит, друг,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ой состав затормозит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тебя не раздавит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шпалам прыгать интересно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для прогулок здесь не мест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3505320" y="533520"/>
            <a:ext cx="5486400" cy="36669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228600" y="1447920"/>
            <a:ext cx="3200400" cy="466776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до ехал мальчик Пет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воем велосипеде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потом лихачи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л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ль рукам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ержал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валился под откос, Разукрасил лоб и нос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 паденья избежат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епко надо руль держа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 rot="5169600">
            <a:off x="-290520" y="1128600"/>
            <a:ext cx="5667480" cy="4324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5486400" y="609480"/>
            <a:ext cx="2895480" cy="545040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доль проезж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и огражден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м необходим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сомненья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же есл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ты спешишь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ерелеза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о, малыш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3619800" cy="4800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5486400" y="1523880"/>
            <a:ext cx="3048120" cy="375300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деревьям лази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чень интересн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лько это трудно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ждому известн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жно напоро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корявый сук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ли может ветка Выскользнуть из рук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адать очень боль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разбиться можно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что уж, ребята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удьте осторожны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505320" cy="5790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5257800" y="365040"/>
            <a:ext cx="3200400" cy="64972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черний, час заката Наступает на двор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домам бегут ребята -Доброй ночи детворе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один лишь заигрался, Не торопишься дом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 песочнице остался Строить замок рассыпной. Но гулять, пойми, опасно Без друзей, без пап и мам: Может напугать ужас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обидеть хулига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усвоить твердо должен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дному не надо бы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втра ты игру продолжиш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 ж, пора домой спеши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360036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181480" y="685800"/>
            <a:ext cx="3581640" cy="53060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русели и качел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влекают всех ребят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мех, и счастье, и весель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Целый день вокруг царя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о чтоб это развлечень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 закончилось бедой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руг мой, все без исключенья Эти правила усвой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сли заняты качели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 ним не стоит подбегать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тоб не пнули, не задели 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учше сбоку постоять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репко не забудь держаться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летая вниз и вверх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 ногах нельзя качаться 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ти правила для всех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не спрыгивай с качелей 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жно ногу повредит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800520" cy="3448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3124080" y="380880"/>
            <a:ext cx="1133640" cy="1190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5334120" y="304920"/>
            <a:ext cx="3124080" cy="59461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пустыр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на свалк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стоит прыгат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играть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росают банки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сти, палки 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надо мусор подбирать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кие стекла и желез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асны нашей детворе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стырь для игр 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всем не место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уляйте лучш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 дворе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286160" cy="3324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5105520" y="762120"/>
            <a:ext cx="3352680" cy="55825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льчик не знал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ем бы утром заняться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тал он собак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разнить - развлекаться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ает и вое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овет за соб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отбирает тарелк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едой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 же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бака рычала, скулил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не сдержалась –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го укусила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льчика долго придется лечит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до ли был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баку дразнить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3809880" cy="4876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6019920" y="380880"/>
            <a:ext cx="2438280" cy="58874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 здорово залезть на крыш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быть домов, деревьев выше, Гулять по крыше, словно кошка, Смотреть в чердачное окошко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о миг! –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можешь ты сорватьс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высоте не удержаться... Ходить по крыше вам опасно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не рискуйте понапрасну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809880" cy="51814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648320" y="152280"/>
            <a:ext cx="4114800" cy="66268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 стройках работают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 не играют –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ишь глупые дет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б этом не знают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Хоть вам интересн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грать в жмурки-прятки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ам бегать и прыгат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пасно, ребятки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ы будете прятатьс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ль убегать –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можно споткнутьс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ногу сломать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ль с лестницы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ез огражденья свалиться..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грали на стройке –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пали в больницу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4-29T09:29:01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