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AB4-6A67-4CBB-AB98-6FB3260D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DDF-06E4-410F-BC54-61141F1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9E6-9514-450D-ADF0-69E87901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D4C-D2DA-4647-8338-52F54AC8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93E-E383-494C-8EC6-46F8BEB2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CE7-6873-4D17-B624-C1606664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03F-62BF-47E0-8F8D-02329B8F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9E7-2B36-41A8-B3F9-2F7CF486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C87-1296-4999-932F-04C3BCEF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FD2-6698-47CA-BAEE-F4081B58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BEC-8997-42B1-BFED-A74D379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644-5683-4325-B4D8-38E13C9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69AA-330A-4BEE-95B9-0E55C76DC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3048120" y="1676520"/>
            <a:ext cx="5410080" cy="3886200"/>
          </a:xfrm>
          <a:prstGeom prst="ellipse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избеж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еприятнос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а улиц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Сове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Мудрого Фи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7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29040" cy="3724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257800" y="1143000"/>
            <a:ext cx="3429000" cy="48488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ая сосул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уснее леде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ую бы конфет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зать м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ко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леж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ангино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мне гулять нельзя... Послушайте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ульки есть, друзь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791320" y="1295280"/>
            <a:ext cx="2743200" cy="4208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тро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т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дячих кошек и собак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их чесотку и лиш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подхватишь невзнача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адишь - можешь зарази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удешь вынужден лечитьс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х встретишь ты дорого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обойди и их не трогай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314880" y="2819520"/>
            <a:ext cx="544824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33520" y="457200"/>
            <a:ext cx="3962160" cy="2288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люди-незнаком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кататься позову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в машину не сади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вас увезут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будет папы, мам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одружек, ни друзе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адитесь к незнакомца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егите прочь скор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105520" y="2019240"/>
            <a:ext cx="3809880" cy="41173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ни, друг: на красный с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дорогу хода не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удь внимателен в пу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на светофор гляд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 осторожен пешеход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безопасен пешех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23920" y="919080"/>
            <a:ext cx="4086000" cy="453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800600" y="1752480"/>
            <a:ext cx="3505320" cy="28382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совсем не сл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в пу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есток остор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ереход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по диагонали, А с людьми, в толпе, Чтоб водителям сигналить Не пришлось тебе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724640" cy="3095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5029200" y="2209680"/>
            <a:ext cx="3809880" cy="40579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с дорогой опасно игр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нее за мячом выбег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рмозить не успеет шофе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машине сломался мо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несло ее на тротуа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ты спокойно в машинки играл. Миг! - И случится большая беда... Ты у дорог не играй никогд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181480" y="1295280"/>
            <a:ext cx="373392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это правило уч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бус сзади обход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переди нельзя, мой друг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случиться может вдруг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ы резко - все подряд!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-за тебя затормозя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нут друг друга задевать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юди могут пострада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йми к тому же, что и 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страхован от бед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rcRect l="51289" t="0" r="2192" b="12693"/>
          <a:stretch/>
        </p:blipFill>
        <p:spPr>
          <a:xfrm>
            <a:off x="7621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105520" y="1447920"/>
            <a:ext cx="289548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пля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автобу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, ребят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ата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ним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ковать в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до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руг сорветес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ож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приключитьс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едней маши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очути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rcRect l="0" t="371" r="52661" b="9978"/>
          <a:stretch/>
        </p:blipFill>
        <p:spPr>
          <a:xfrm>
            <a:off x="685800" y="533520"/>
            <a:ext cx="4114800" cy="5562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5105520" y="762120"/>
            <a:ext cx="3200400" cy="5645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йтборд и самокат - веселая заба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жизнью риск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й не стоит, пра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зда так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оезжей час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спорно,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ести к несчасть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ашинами на трасс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ягайте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площад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дворе катайте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80880" y="457200"/>
            <a:ext cx="327672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едяной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чется ребята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терком стремглав промч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куда-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те 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едите строг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не вынесли вас са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дорог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пруд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лед пока ч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ок и непрочен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с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асно очен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342900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638680" y="1066680"/>
            <a:ext cx="266724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орожней будьт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ые ребят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м людя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верять не над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вас с собо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гости позову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вам конфетку Вкусную дад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ше отбегайте Прочь от них скор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редупреждайте Всех своих друзе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038480" cy="5334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34120" y="60480"/>
            <a:ext cx="3200400" cy="68022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льсам ходят поезда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ы зачем пошел т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поезда стрелой летя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ие города спеша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шинист не сможет вдруг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тебя увидит, друг,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состав затормоз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тебя не раздав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шпалам прыгать интересн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для прогулок здесь не мес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5486400" cy="3666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28600" y="1447920"/>
            <a:ext cx="320040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до ехал мальчик Пет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воем велосипед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лихач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ль рука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ржал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валился под откос, Разукрасил лоб и но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аденья избежа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о надо руль держ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5169600">
            <a:off x="-290520" y="1128600"/>
            <a:ext cx="5667480" cy="4324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86400" y="609480"/>
            <a:ext cx="2895480" cy="54504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оль проезж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огражд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необходим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ь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ты спешиш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лез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, малыш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61980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86400" y="1523880"/>
            <a:ext cx="3048120" cy="37530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еревьям лаз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интерес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лько это трудно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ждому извест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но напоро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рявый с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может ветка Выскользнуть из ру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дать очень боль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разбиться можн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что уж, ребят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257800" y="365040"/>
            <a:ext cx="3200400" cy="64972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черний, час заката Наступает на дво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омам бегут ребята -Доброй ночи детвор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дин лишь заигрался, Не торопишься дом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песочнице остался Строить замок рассыпной. Но гулять, пойми, опасно Без друзей, без пап и мам: Может напугать ужас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бидеть хулига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усвоить твердо должен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ому не надо бы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втра ты игру продолжиш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, пора домой спеш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181480" y="685800"/>
            <a:ext cx="3581640" cy="53060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русели и каче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влекают всех ребят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ех, и счастье, и весел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лый день вокруг царя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чтоб это развлечен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закончилось бед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мой, все без исключенья Эти правила усвой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заняты качел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им не стоит подбега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не пнули, не задели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учше сбоку постоять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епко не забудь держатьс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етая вниз и ввер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ногах нельзя качаться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 правила для всех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е спрыгивай с качелей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жно ногу повреди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00520" cy="344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133640" cy="119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334120" y="304920"/>
            <a:ext cx="3124080" cy="59461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устыр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на свал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стоит прыг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игра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росают банк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и, пал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мусор подбират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ие стекла и желез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ны нашей дет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тырь для игр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сем не мес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уляйте луч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д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286160" cy="3324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105520" y="762120"/>
            <a:ext cx="3352680" cy="5582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 не зна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м бы утром заня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л он соба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азнить - развлекать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ает и вое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вет за соб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бирает тарел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е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а рычала, скули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сдержалась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укусил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а долго придется леч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о ли бы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у дразни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6019920" y="380880"/>
            <a:ext cx="243828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дорово залезть на крыш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ыть домов, деревьев выше, Гулять по крыше, словно кошка, Смотреть в чердачное окошк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иг!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можешь ты сорв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высоте не удержаться... Ходить по крыше вам опасно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е рискуйте понапрасну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648320" y="152280"/>
            <a:ext cx="4114800" cy="66268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стройках работаю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не играют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шь глупые де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 этом не знаю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ть вам интересн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ть в жмурки-прятк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м бегать и пры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пасно, ребятки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будете прята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убегать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можно споткну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огу слома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с лестниц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 огражденья свалиться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ли на стройке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пали в больниц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9T09:29:01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