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ED1-D23B-43A7-A474-FF228A84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DD8-0FA8-47FC-BB2C-206E82F1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DE4-D671-49C2-93B0-7A79A38A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5D4-F661-41C4-8DD1-EEAF7993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7F4-9635-4B93-AE51-1359AAF9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7D9-C3FC-4227-AACF-1D1E72B8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F79-0286-488F-8437-1624BF56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0FF-BDB5-4355-9D93-83D9973D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867-A4B2-4D7A-8C89-D3F020D7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53C-CF42-415A-BFD7-4DA5D6B3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BFF-97D4-4FCF-8809-8B9C665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178-9609-463B-A291-B863B4E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DE8F-A46A-4382-AD79-2EAB7CD67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3048120" y="1676520"/>
            <a:ext cx="5410080" cy="3886200"/>
          </a:xfrm>
          <a:prstGeom prst="ellipse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Ка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избежат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еприятносте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а улиц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Совет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Мудрого Фи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747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29040" cy="3724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257800" y="1143000"/>
            <a:ext cx="3429000" cy="48488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лодная сосуль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куснее леде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ую бы конфет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зать м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ко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вот леж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ангиной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мне гулять нельзя... Послушайте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ульки есть, друзь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791320" y="1295280"/>
            <a:ext cx="2743200" cy="4208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о тро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т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дячих кошек и собак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их чесотку и лиша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подхватишь невзнача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ладишь - можешь зарази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удешь вынужден лечитьс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х встретишь ты дорого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обойди и их не трогай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314880" y="2819520"/>
            <a:ext cx="5448240" cy="3504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33520" y="457200"/>
            <a:ext cx="3962160" cy="2288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люди-незнаком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кататься позовут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им в машину не садите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 вас увезут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будет папы, мам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подружек, ни друзе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адитесь к незнакомца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егите прочь скор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9112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105520" y="2019240"/>
            <a:ext cx="3809880" cy="41173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ни, друг: на красный с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дорогу хода нет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удь внимателен в пу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 на светофор гляд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 осторожен пешеход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безопасен пешех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23920" y="919080"/>
            <a:ext cx="4086000" cy="4533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800600" y="1752480"/>
            <a:ext cx="3505320" cy="28382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совсем не сл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в пу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есток остор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переход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по диагонали, А с людьми, в толпе, Чтоб водителям сигналить Не пришлось тебе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724640" cy="3095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029200" y="2209680"/>
            <a:ext cx="3809880" cy="40579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с дорогой опасно игр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а нее за мячом выбег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ормозить не успеет шофе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машине сломался мото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анесло ее на тротуа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ты спокойно в машинки играл. Миг! - И случится большая беда... Ты у дорог не играй никогд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181480" y="1295280"/>
            <a:ext cx="373392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это правило уч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бус сзади обходи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переди нельзя, мой друг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случиться может вдруг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ы резко - все подряд!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-за тебя затормозя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нут друг друга задевать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люди могут пострада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йми к тому же, что и 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страхован от бед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rcRect l="51289" t="0" r="2192" b="12693"/>
          <a:stretch/>
        </p:blipFill>
        <p:spPr>
          <a:xfrm>
            <a:off x="76212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105520" y="1447920"/>
            <a:ext cx="289548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пля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автобу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зади, ребят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ката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ним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ковать в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надо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друг сорветес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ож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приключиться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едней маши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очути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rcRect l="0" t="371" r="52661" b="9978"/>
          <a:stretch/>
        </p:blipFill>
        <p:spPr>
          <a:xfrm>
            <a:off x="685800" y="533520"/>
            <a:ext cx="4114800" cy="5562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105520" y="762120"/>
            <a:ext cx="3200400" cy="5645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ейтборд и самокат - веселая забав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жизнью риско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ей не стоит, прав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зда так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проезжей част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сспорно, мо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ести к несчасть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машинами на трасс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ягайтес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а площадк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дворе катайтес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4876920" cy="2743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80880" y="457200"/>
            <a:ext cx="327672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ледяной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чется ребятам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етерком стремглав промч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куда-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к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ите с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ледите строг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не вынесли вас са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 на дорог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 пруд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лед пока ч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нок и непрочен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с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асно очен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342900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638680" y="1066680"/>
            <a:ext cx="266724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орожней будьт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лые ребят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м людя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верять не над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вас с собо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гости позову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вам конфетку Вкусную даду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учше отбегайте Прочь от них скор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редупреждайте Всех своих друзе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038480" cy="5334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334120" y="60480"/>
            <a:ext cx="3200400" cy="68022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ельсам ходят поезда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ы зачем пошел т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поезда стрелой летя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угие города спеша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ашинист не сможет вдруг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тебя увидит, друг,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состав затормоз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тебя не раздав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шпалам прыгать интересно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для прогулок здесь не мес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5486400" cy="3666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28600" y="1447920"/>
            <a:ext cx="320040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до ехал мальчик Пет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воем велосипед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лихач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ль рука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ржал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валился под откос, Разукрасил лоб и но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паденья избежа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ко надо руль держ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 rot="5169600">
            <a:off x="-290520" y="1128600"/>
            <a:ext cx="5667480" cy="4324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486400" y="609480"/>
            <a:ext cx="2895480" cy="54504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оль проезж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огражд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 необходим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сомнень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же ес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ты спешишь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леза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, малыш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61980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486400" y="1523880"/>
            <a:ext cx="3048120" cy="37530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еревьям лаз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интерес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лько это трудно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ждому извест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но напоро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корявый су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может ветка Выскользнуть из ру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дать очень боль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разбиться можн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что уж, ребята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удьте осторожн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50532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257800" y="365040"/>
            <a:ext cx="3200400" cy="64972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черний, час заката Наступает на двор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омам бегут ребята -Доброй ночи детвор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один лишь заигрался, Не торопишься дом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песочнице остался Строить замок рассыпной. Но гулять, пойми, опасно Без друзей, без пап и мам: Может напугать ужас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бидеть хулига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усвоить твердо должен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ому не надо бы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втра ты игру продолжиш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, пора домой спеш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360036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181480" y="685800"/>
            <a:ext cx="3581640" cy="53060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русели и каче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влекают всех ребят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мех, и счастье, и весель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елый день вокруг царя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о чтоб это развлечень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закончилось бедо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 мой, все без исключенья Эти правила усвой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заняты качел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ним не стоит подбегать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б не пнули, не задели 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учше сбоку постоять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репко не забудь держатьс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летая вниз и вверх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ногах нельзя качаться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 правила для всех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е спрыгивай с качелей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жно ногу повреди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800520" cy="344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133640" cy="1190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334120" y="304920"/>
            <a:ext cx="3124080" cy="59461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устыр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на свал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стоит прыгат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играть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росают банк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сти, палки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мусор подбирать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ие стекла и желез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асны нашей дет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стырь для игр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сем не мест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уляйте лучш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 д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286160" cy="3324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105520" y="762120"/>
            <a:ext cx="3352680" cy="5582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 не зна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ем бы утром заня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ал он соба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азнить - развлекаться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ает и вое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овет за соб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бирает тарел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е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а рычала, скулил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сдержалась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укусил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а долго придется леч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до ли был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у дразни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3809880" cy="4876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019920" y="380880"/>
            <a:ext cx="243828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здорово залезть на крыш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ыть домов, деревьев выше, Гулять по крыше, словно кошка, Смотреть в чердачное окошк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миг!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можешь ты сорв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высоте не удержаться... Ходить по крыше вам опасно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не рискуйте понапрасну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648320" y="152280"/>
            <a:ext cx="4114800" cy="66268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стройках работаю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не играют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ишь глупые де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 этом не знают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оть вам интересн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ть в жмурки-прятки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м бегать и пры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пасно, ребятки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 будете прята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убегать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можно споткну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огу сломать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с лестниц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з огражденья свалиться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ли на стройке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пали в больницу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4-29T09:29:01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