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021-0FE3-45C9-82C7-7CCD9BD0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0E3-ACA4-4558-AC9F-78DA711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63A-E446-4F33-AC24-43654DD9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670-8EBF-401D-97AD-725DC0CE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09C8-D879-4E1D-AF3B-B4D18212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0172-37F6-4BA9-8381-F36093FA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26C3-5EB5-4AF2-9E66-5D00446E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2AE5-681F-402B-8026-1339D2F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6F61-1EA0-46C0-BEC8-0479D26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FF1B-29F2-4475-8BED-935B027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D4C-99C8-4BED-9BB5-F22C2FDB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2AB-3A28-490F-A1DE-D5BB1EC3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8FF3-5010-436B-87AC-FB8698C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FD83-F55E-4013-B23A-59C1336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769D-39F9-4CDD-B80C-40BC403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A27-2A8E-4DCA-9B35-D08ED4DC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EDE-6AF8-4FFB-848E-76277FC9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DEB0-E433-4288-AE5F-1CF7F54A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E700-591D-4CF1-98F3-07D69D4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2E2A-2462-4808-91E0-B4BC6EC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CA32-580D-43E7-B7CF-35E5393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4612-B08B-4D03-8AA1-31CD7E3E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5D6-E181-413C-B3CE-B8980DA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8C4A-39D3-4D5E-BBB1-43282318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AAC4-9F04-49D1-B81C-94DBE27F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8F3C-08A1-4539-B681-067FB10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6402-383A-45F3-B860-70D7D3A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EE84-B71F-4BB2-B337-406A351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614F-AE81-4073-950E-B5B84213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0765-8B3E-44E9-BC40-424B3BA2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B545-2FEA-46F4-AE0A-F1A73E34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BDF52-1163-4705-BD64-CA963DB9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D0F9-35FC-4248-9C56-1E629B6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B13-927E-4C7B-B2DE-F98BABC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B878-46C9-42B8-BD63-A023FEA7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7C0A-DF77-4869-95B3-9EEAA11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26AC-F9B1-47A0-8C51-3E666D13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A338-773D-460D-A967-85E54AA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B2B1-95F1-467B-823B-8A2D642F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0A67-2716-4F35-95B5-4E389EC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2E7F-F3C7-4663-9A3E-DB4EE0D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E6D1-F39A-4D01-8C8C-2327FA81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196E3-5451-4D2A-B105-C4D31C34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AA8F-7A4A-4226-9CB7-479383C3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340-CB8B-4263-949C-EE700B5B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1182-DB90-4018-8962-CDCAC92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9F57-B096-423B-9B02-38D38E30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C6B6-E408-46EE-8D6D-86BF4973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9F194-D900-46D5-951A-98187C0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149E-C3F7-4494-8815-59BAE9E6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7951-4FD3-420D-9757-7BFA937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EBDB-DC71-491E-8527-F2FFCC1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113B9-633D-478C-8FC9-80EBEED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E185-2FC9-4A97-97E6-1E06F95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481F-CCF0-4F51-A6FF-DFDAB959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924-C3C8-431B-9399-FBD7B9A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0C56-38D9-492E-A981-AB95C0D0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47B-41B5-49B6-A1B4-2C336CC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83E-4F4C-488D-BAB5-CAE3E67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6E8-730E-421F-BDAF-0D86FF7B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087-2BD5-4E0A-A92F-16F26FE925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A9B-0286-4CD2-85FA-41B8D5A249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960C-0E3D-4812-B055-E5E1089066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B8A-A722-49F2-9B75-A91EE4D33D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174-AAE8-4034-B436-08B9BC88A5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466800" y="2541600"/>
            <a:ext cx="69879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Готов к Труду и Обороне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4713120" y="48096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Haettenschweiler"/>
                <a:ea typeface="Aharoni"/>
              </a:rPr>
              <a:t>ГТО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3" descr=""/>
          <p:cNvPicPr/>
          <p:nvPr/>
        </p:nvPicPr>
        <p:blipFill>
          <a:blip r:embed="rId1"/>
          <a:srcRect l="0" t="0" r="0" b="62184"/>
          <a:stretch/>
        </p:blipFill>
        <p:spPr>
          <a:xfrm>
            <a:off x="2174760" y="20520"/>
            <a:ext cx="7344000" cy="683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rcRect l="0" t="37723" r="0" b="35124"/>
          <a:stretch/>
        </p:blipFill>
        <p:spPr>
          <a:xfrm>
            <a:off x="1300320" y="19080"/>
            <a:ext cx="102297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1"/>
          <a:srcRect l="0" t="0" r="0" b="52521"/>
          <a:stretch/>
        </p:blipFill>
        <p:spPr>
          <a:xfrm>
            <a:off x="2577960" y="-150840"/>
            <a:ext cx="712332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"/>
          <p:cNvPicPr/>
          <p:nvPr/>
        </p:nvPicPr>
        <p:blipFill>
          <a:blip r:embed="rId1"/>
          <a:srcRect l="0" t="47319" r="0" b="17886"/>
          <a:stretch/>
        </p:blipFill>
        <p:spPr>
          <a:xfrm>
            <a:off x="162864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5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30acec"/>
                </a:solidFill>
                <a:latin typeface="Corbel"/>
              </a:rPr>
              <a:t>Для чего хотят воссоздать систему ГТО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98400" y="269640"/>
            <a:ext cx="772344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На прошедшем в марте 2013 года совещании по развитию детско-юношеского спорта Президент РФ Владимир Путин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серьёзно не изменила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9" name="Рисунок 4" descr=""/>
          <p:cNvPicPr/>
          <p:nvPr/>
        </p:nvPicPr>
        <p:blipFill>
          <a:blip r:embed="rId1"/>
          <a:stretch/>
        </p:blipFill>
        <p:spPr>
          <a:xfrm>
            <a:off x="8248680" y="682560"/>
            <a:ext cx="37670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483920" y="141120"/>
            <a:ext cx="6216840" cy="65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Для решения этой проблемы и укрепления здоровья детей Путин и предложил воссоздать систему ГТО в новом формате с современными нормативами, которые будут соответствовать уровню физического развития ребёнка. Он также заявил о том, что название программе нужно придумать другое, и поручил Минобрнауки и Минспорту заняться её разработ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Путин также предложил вносить оценку уровня физической подготовки школьника в аттестат и учитывать её при поступлении в ву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Рисунок 4" descr=""/>
          <p:cNvPicPr/>
          <p:nvPr/>
        </p:nvPicPr>
        <p:blipFill>
          <a:blip r:embed="rId1"/>
          <a:stretch/>
        </p:blipFill>
        <p:spPr>
          <a:xfrm>
            <a:off x="8110440" y="507960"/>
            <a:ext cx="3733920" cy="54435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2"/>
          <a:stretch/>
        </p:blipFill>
        <p:spPr>
          <a:xfrm>
            <a:off x="7873920" y="574560"/>
            <a:ext cx="3970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83920" y="509400"/>
            <a:ext cx="4886280" cy="528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Инициативу Путина снова ввести ГТО уже поддержали депутаты Госдумы, сенаторы Совета Федерации, ректоры вузов, а также ДОСААФ России (Добровольное общество содействия армии, авиации и флоту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1"/>
          <a:stretch/>
        </p:blipFill>
        <p:spPr>
          <a:xfrm>
            <a:off x="6126120" y="971640"/>
            <a:ext cx="6066000" cy="43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5440" y="144360"/>
            <a:ext cx="945648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Что такое ГТО?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84280" y="1661760"/>
            <a:ext cx="689760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— программа физкультурной подготовки в общеобразовательных, профессиональных и спортивных организациях в СССР, основополагающая в единой и поддерживаемой государством системе патриотического воспитания молодёжи. Существовала с 1931 по 1991 год. Охватывала население в возрасте от 10 до 60 лет. В 2014 году Президент Российской Федерации Владимир Путин подписал указ о возвращении системы «Готов к труду и обороне». По словам министра образования Дмитрия Ливанова, начиная с 2015 года результаты сдачи комплекса ГТО будут учитываться при поступлении в высшие учебные заве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Рисунок 4" descr=""/>
          <p:cNvPicPr/>
          <p:nvPr/>
        </p:nvPicPr>
        <p:blipFill>
          <a:blip r:embed="rId1"/>
          <a:stretch/>
        </p:blipFill>
        <p:spPr>
          <a:xfrm>
            <a:off x="8381880" y="1390680"/>
            <a:ext cx="3633840" cy="505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br>
              <a:rPr sz="3600"/>
            </a:b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2576160"/>
            <a:ext cx="10018800" cy="40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стометровку, отжаться определённое количество раз, прыгнуть с вышки в воду или метнуть грана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зависимости от уровня достижений сдающие нормативы каждой ступени награждались золотым или серебряным значком «ГТО», выполняющие нормативы в течение ряда лет — «Почётным значком ГТО». Коллективы физкультуры предприятий, учреждений, организаций, добившиеся особых успехов по внедрению комплекса ГТО в повседневную жизнь трудящихся, награждались знаком «За успехи в работе по комплексу ГТО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2" name="Текст 5" descr=""/>
          <p:cNvPicPr/>
          <p:nvPr/>
        </p:nvPicPr>
        <p:blipFill>
          <a:blip r:embed="rId1"/>
          <a:stretch/>
        </p:blipFill>
        <p:spPr>
          <a:xfrm>
            <a:off x="1243080" y="2365200"/>
            <a:ext cx="5207040" cy="12067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3" descr=""/>
          <p:cNvPicPr/>
          <p:nvPr/>
        </p:nvPicPr>
        <p:blipFill>
          <a:blip r:embed="rId2"/>
          <a:stretch/>
        </p:blipFill>
        <p:spPr>
          <a:xfrm>
            <a:off x="2341440" y="3279600"/>
            <a:ext cx="2889360" cy="6444000"/>
          </a:xfrm>
          <a:prstGeom prst="rect">
            <a:avLst/>
          </a:prstGeom>
          <a:ln w="0">
            <a:noFill/>
          </a:ln>
        </p:spPr>
      </p:pic>
      <p:pic>
        <p:nvPicPr>
          <p:cNvPr id="254" name="Текст 6" descr=""/>
          <p:cNvPicPr/>
          <p:nvPr/>
        </p:nvPicPr>
        <p:blipFill>
          <a:blip r:embed="rId3"/>
          <a:stretch/>
        </p:blipFill>
        <p:spPr>
          <a:xfrm>
            <a:off x="6881760" y="2292480"/>
            <a:ext cx="5145120" cy="1279440"/>
          </a:xfrm>
          <a:prstGeom prst="rect">
            <a:avLst/>
          </a:prstGeom>
          <a:ln w="0">
            <a:noFill/>
          </a:ln>
        </p:spPr>
      </p:pic>
      <p:pic>
        <p:nvPicPr>
          <p:cNvPr id="255" name="Объект 8" descr=""/>
          <p:cNvPicPr/>
          <p:nvPr/>
        </p:nvPicPr>
        <p:blipFill>
          <a:blip r:embed="rId4"/>
          <a:stretch/>
        </p:blipFill>
        <p:spPr>
          <a:xfrm>
            <a:off x="7742160" y="3279600"/>
            <a:ext cx="3297240" cy="64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Corbel"/>
              </a:rPr>
              <a:t>История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84280" y="2666880"/>
            <a:ext cx="10018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Принятая в 1931 году программа состояла из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«Будь готов к труду и обороне СССР» (БГТО) для школьников 1—8-х классов (4 возрастные ступен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для учащихся и населения старше 16 лет (3 ступ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Нормативы и требования комплекса ГТО периодически изменялис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1934 году появился комплекс БГТО («Будь готов к труду и обороне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8" name="Рисунок 8" descr=""/>
          <p:cNvPicPr/>
          <p:nvPr/>
        </p:nvPicPr>
        <p:blipFill>
          <a:blip r:embed="rId1"/>
          <a:stretch/>
        </p:blipFill>
        <p:spPr>
          <a:xfrm>
            <a:off x="8756640" y="257040"/>
            <a:ext cx="343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2440" y="772920"/>
            <a:ext cx="10018800" cy="53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Изменения вносились в 1940, 1947, 1955, 1959, 1965 год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оследний всесоюзный физкультурный комплекс ГТО был утверждён постановлением ЦК КПСС и Совета Министров СССР 17 января 1972 года № 61. Он имел 5 возрастных ступеней (для каждой были установлены свои нормы и требования): I ступень — «Смелые и ловкие» — 10—11 и 12—13 лет, II — «Спортивная смена» — 14—15 лет, III — «Сила и мужество» — 16—18 лет, IV — «Физическое совершенство» — мужчины 19—28 и 29—39 лет, женщины 19—28 и 29—34 лет, V — «Бодрость и здоровье» — мужчины 40—60 лет, женщины 35—55 л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В Вооружённых Силах СССР с 1972 года действовал военно-спортивный комплекс, соответствующий 4-й ступени ГТ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Хотя с юридической точки зрения последний комплекс ГТО остаётся действующим (с незначительным изменением 1988 г.), в настоящее время в разных учебных заведениях применяются различные методики физической подготовки и её оценки. Появилось разнообразие — каждый может выбрать тот комплекс, который ближе ему по физическим возможностя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1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екоторые нормы ГТО для юношей и девушек 16—18 лет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0"/>
          <a:ext cx="12192120" cy="87613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  <a:gridCol w="2438280"/>
                <a:gridCol w="2438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100 м (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на простых коньках 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длин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высот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тание гранаты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лкание ядра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 кг (м, 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 к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рш-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вание 1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6920" y="650880"/>
            <a:ext cx="11995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овые нормы ГТО от 2014-го год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6:35:36Z</dcterms:created>
  <dc:creator>Ira</dc:creator>
  <dc:description/>
  <dc:language>en-US</dc:language>
  <cp:lastModifiedBy>Ira</cp:lastModifiedBy>
  <dcterms:modified xsi:type="dcterms:W3CDTF">2014-11-18T09:41:42Z</dcterms:modified>
  <cp:revision>13</cp:revision>
  <dc:subject/>
  <dc:title>Презентация PowerPoint</dc:title>
</cp:coreProperties>
</file>