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F55-302D-474A-9575-F71CA304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9BE-B4CE-42FF-8015-452B5ED0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C68-2558-48D5-AC9F-CD422424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BE0-F25A-4460-8199-C94EB443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6499-E3C1-4079-8E38-D9EB1C6C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67B5-2CF4-4F4F-B5B5-53D75661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2D2-EF55-4194-B51C-C0584A95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02C9-3B18-42C3-BE35-4D48586C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122C-067B-4CD6-9198-2C10B395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C7AF-B77D-4D3D-AE9A-E14EEA47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B0B-B4B0-4B3E-8ADA-6513872B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932-11E6-40C3-BB80-289D5221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2C7B-99E8-45B0-B53F-D993F7C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5D84-C1D0-41B5-9AA8-51674C75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F57B-D681-4CFA-AAF2-C6930E4B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0555-909A-4AD4-963E-518B2112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4A82-1646-415B-AF42-A0C0BD2D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F5B3-3083-4211-8E18-5FEA7CAC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BA5B-8EC5-4C5C-A1AC-4815E98B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53BDD-1298-4458-9663-EA99413F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FE5E-7A7D-4281-A4F2-E322ED30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CDB9-BC22-41C4-AA51-3D5900A7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DF3-84CC-4196-8C37-7448CF94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E71AB-4F5D-4E72-B63B-C7205A84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2878-E7B0-430C-9882-4CCE394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16F8-9022-4CB5-A63A-EA2FC72F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1FD3-74FC-42A2-8F33-91EE7DC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B62B-3A79-4B78-8E6F-7537C7AB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3DD5-9930-4436-908E-9E0F5F7C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4E5F-9B8F-4B2A-B049-B8D1F8FF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5A23E-24A9-4FE1-A2B1-EF165C9C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BADB6-D260-4219-8238-95F0890D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5E5D-DF0D-485D-9757-0A0B1176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CC1-F59F-4C49-AE2C-941937D2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6788A-780B-49D0-8874-EB5A8D6E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580C-81E3-43AF-8E10-8F360B6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05C0-2888-40B0-898D-C6C2EA4E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A18C-2888-4159-89AA-E597934A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9DECA-8AFC-4890-A2DC-7D0643C2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B928-7D1E-4EC7-9D24-4060EE62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DB60-0D50-4D87-9DF9-B0B75296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A2105-6212-4AF2-A9B6-6956132B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52C5-9C32-4686-9610-C80D2DFF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23367-9D0B-4614-9CFB-ECABE87F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66E-B6D9-4073-926F-5E88912A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5EF0-E989-43F8-8CBA-79D6B15A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94993-0045-4831-A9DE-482632C6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4A74-BA35-44C5-837A-A1CB5B01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DBD6-3C50-4B23-8BD7-2440B1D0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EDDE3-D83A-4184-950C-6748EE0F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7D99F-2123-42D4-ADD9-7A2A5D9F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96C0F-AA26-42B2-BC92-36D7F11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5E143-1FBB-4280-A973-45DC7894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61BF-9F4E-4102-BB81-A89FC52C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39B07-7DFA-4616-BE40-4F2B425C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1DE-8B4C-42B8-A437-42E5D660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E3C1-6D9E-46D9-B1DE-51E6464D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E0C-1749-47D1-8E08-7DF50F13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882-9CE7-4E63-BD3E-938D8C0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479-C5AC-4922-8F79-BE1C7639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DFCA-BBF1-474E-9C9E-F7DDBEB507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A271-D95D-4DB6-B62A-CC3C6B9D10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33D0-7889-4D26-8DA0-83C81529BB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377D-ECAA-4001-80F6-22DC1FCAE3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5CBC-9526-4271-A0AB-18C74E7EE6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466800" y="2541600"/>
            <a:ext cx="69879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Готов к Труду и Обороне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4713120" y="48096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0acec"/>
                </a:solidFill>
                <a:latin typeface="Haettenschweiler"/>
                <a:ea typeface="Aharoni"/>
              </a:rPr>
              <a:t>ГТО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3" descr=""/>
          <p:cNvPicPr/>
          <p:nvPr/>
        </p:nvPicPr>
        <p:blipFill>
          <a:blip r:embed="rId1"/>
          <a:srcRect l="0" t="0" r="0" b="62184"/>
          <a:stretch/>
        </p:blipFill>
        <p:spPr>
          <a:xfrm>
            <a:off x="2174760" y="20520"/>
            <a:ext cx="7344000" cy="683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"/>
          <p:cNvPicPr/>
          <p:nvPr/>
        </p:nvPicPr>
        <p:blipFill>
          <a:blip r:embed="rId1"/>
          <a:srcRect l="0" t="37723" r="0" b="35124"/>
          <a:stretch/>
        </p:blipFill>
        <p:spPr>
          <a:xfrm>
            <a:off x="1300320" y="19080"/>
            <a:ext cx="102297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"/>
          <p:cNvPicPr/>
          <p:nvPr/>
        </p:nvPicPr>
        <p:blipFill>
          <a:blip r:embed="rId1"/>
          <a:srcRect l="0" t="0" r="0" b="52521"/>
          <a:stretch/>
        </p:blipFill>
        <p:spPr>
          <a:xfrm>
            <a:off x="2577960" y="-150840"/>
            <a:ext cx="712332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"/>
          <p:cNvPicPr/>
          <p:nvPr/>
        </p:nvPicPr>
        <p:blipFill>
          <a:blip r:embed="rId1"/>
          <a:srcRect l="0" t="47319" r="0" b="17886"/>
          <a:stretch/>
        </p:blipFill>
        <p:spPr>
          <a:xfrm>
            <a:off x="1628640" y="0"/>
            <a:ext cx="951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552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30acec"/>
                </a:solidFill>
                <a:latin typeface="Corbel"/>
              </a:rPr>
              <a:t>Для чего хотят воссоздать систему ГТО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98400" y="269640"/>
            <a:ext cx="772344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На прошедшем в марте 2013 года совещании по развитию детско-юношеского спорта Президент РФ Владимир Путин заявил о том, что, несмотря на усилия по продвижению ценностей здорового образа жизни, сейчас многие дети имеют хронические заболевания, и ситуация с массовым и с детским спортом серьёзно не изменилас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9" name="Рисунок 4" descr=""/>
          <p:cNvPicPr/>
          <p:nvPr/>
        </p:nvPicPr>
        <p:blipFill>
          <a:blip r:embed="rId1"/>
          <a:stretch/>
        </p:blipFill>
        <p:spPr>
          <a:xfrm>
            <a:off x="8248680" y="682560"/>
            <a:ext cx="37670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483920" y="141120"/>
            <a:ext cx="6216840" cy="65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Для решения этой проблемы и укрепления здоровья детей Путин и предложил воссоздать систему ГТО в новом формате с современными нормативами, которые будут соответствовать уровню физического развития ребёнка. Он также заявил о том, что название программе нужно придумать другое, и поручил Минобрнауки и Минспорту заняться её разработк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Путин также предложил вносить оценку уровня физической подготовки школьника в аттестат и учитывать её при поступлении в вуз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1" name="Рисунок 4" descr=""/>
          <p:cNvPicPr/>
          <p:nvPr/>
        </p:nvPicPr>
        <p:blipFill>
          <a:blip r:embed="rId1"/>
          <a:stretch/>
        </p:blipFill>
        <p:spPr>
          <a:xfrm>
            <a:off x="8110440" y="507960"/>
            <a:ext cx="3733920" cy="54435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"/>
          <p:cNvPicPr/>
          <p:nvPr/>
        </p:nvPicPr>
        <p:blipFill>
          <a:blip r:embed="rId2"/>
          <a:stretch/>
        </p:blipFill>
        <p:spPr>
          <a:xfrm>
            <a:off x="7873920" y="574560"/>
            <a:ext cx="39704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483920" y="509400"/>
            <a:ext cx="4886280" cy="528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Инициативу Путина снова ввести ГТО уже поддержали депутаты Госдумы, сенаторы Совета Федерации, ректоры вузов, а также ДОСААФ России (Добровольное общество содействия армии, авиации и флоту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1"/>
          <a:stretch/>
        </p:blipFill>
        <p:spPr>
          <a:xfrm>
            <a:off x="6126120" y="971640"/>
            <a:ext cx="6066000" cy="43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65440" y="144360"/>
            <a:ext cx="945648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Что такое ГТО?</a:t>
            </a: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84280" y="1661760"/>
            <a:ext cx="6897600" cy="48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ГТО — программа физкультурной подготовки в общеобразовательных, профессиональных и спортивных организациях в СССР, основополагающая в единой и поддерживаемой государством системе патриотического воспитания молодёжи. Существовала с 1931 по 1991 год. Охватывала население в возрасте от 10 до 60 лет. В 2014 году Президент Российской Федерации Владимир Путин подписал указ о возвращении системы «Готов к труду и обороне». По словам министра образования Дмитрия Ливанова, начиная с 2015 года результаты сдачи комплекса ГТО будут учитываться при поступлении в высшие учебные заведен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8" name="Рисунок 4" descr=""/>
          <p:cNvPicPr/>
          <p:nvPr/>
        </p:nvPicPr>
        <p:blipFill>
          <a:blip r:embed="rId1"/>
          <a:stretch/>
        </p:blipFill>
        <p:spPr>
          <a:xfrm>
            <a:off x="8381880" y="1390680"/>
            <a:ext cx="3633840" cy="505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Знак ГТО</a:t>
            </a:r>
            <a:br>
              <a:rPr sz="3600"/>
            </a:b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2576160"/>
            <a:ext cx="10018800" cy="40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Сдача нормативов подтверждалась особыми значками. Чтобы получить такой значок, нужно было выполнить заданный набор требований, например: пробежать на скорость стометровку, отжаться определённое количество раз, прыгнуть с вышки в воду или метнуть грана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В зависимости от уровня достижений сдающие нормативы каждой ступени награждались золотым или серебряным значком «ГТО», выполняющие нормативы в течение ряда лет — «Почётным значком ГТО». Коллективы физкультуры предприятий, учреждений, организаций, добившиеся особых успехов по внедрению комплекса ГТО в повседневную жизнь трудящихся, награждались знаком «За успехи в работе по комплексу ГТО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600" spc="-1" strike="noStrike">
                <a:solidFill>
                  <a:srgbClr val="30acec"/>
                </a:solidFill>
                <a:latin typeface="Corbel"/>
              </a:rPr>
              <a:t>Знак ГТО</a:t>
            </a:r>
            <a:endParaRPr b="0" lang="en-US" sz="8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2" name="Текст 5" descr=""/>
          <p:cNvPicPr/>
          <p:nvPr/>
        </p:nvPicPr>
        <p:blipFill>
          <a:blip r:embed="rId1"/>
          <a:stretch/>
        </p:blipFill>
        <p:spPr>
          <a:xfrm>
            <a:off x="1243080" y="2365200"/>
            <a:ext cx="5207040" cy="1206720"/>
          </a:xfrm>
          <a:prstGeom prst="rect">
            <a:avLst/>
          </a:prstGeom>
          <a:ln w="0">
            <a:noFill/>
          </a:ln>
        </p:spPr>
      </p:pic>
      <p:pic>
        <p:nvPicPr>
          <p:cNvPr id="253" name="Объект 3" descr=""/>
          <p:cNvPicPr/>
          <p:nvPr/>
        </p:nvPicPr>
        <p:blipFill>
          <a:blip r:embed="rId2"/>
          <a:stretch/>
        </p:blipFill>
        <p:spPr>
          <a:xfrm>
            <a:off x="2341440" y="3279600"/>
            <a:ext cx="2889360" cy="6444000"/>
          </a:xfrm>
          <a:prstGeom prst="rect">
            <a:avLst/>
          </a:prstGeom>
          <a:ln w="0">
            <a:noFill/>
          </a:ln>
        </p:spPr>
      </p:pic>
      <p:pic>
        <p:nvPicPr>
          <p:cNvPr id="254" name="Текст 6" descr=""/>
          <p:cNvPicPr/>
          <p:nvPr/>
        </p:nvPicPr>
        <p:blipFill>
          <a:blip r:embed="rId3"/>
          <a:stretch/>
        </p:blipFill>
        <p:spPr>
          <a:xfrm>
            <a:off x="6881760" y="2292480"/>
            <a:ext cx="5145120" cy="1279440"/>
          </a:xfrm>
          <a:prstGeom prst="rect">
            <a:avLst/>
          </a:prstGeom>
          <a:ln w="0">
            <a:noFill/>
          </a:ln>
        </p:spPr>
      </p:pic>
      <p:pic>
        <p:nvPicPr>
          <p:cNvPr id="255" name="Объект 8" descr=""/>
          <p:cNvPicPr/>
          <p:nvPr/>
        </p:nvPicPr>
        <p:blipFill>
          <a:blip r:embed="rId4"/>
          <a:stretch/>
        </p:blipFill>
        <p:spPr>
          <a:xfrm>
            <a:off x="7742160" y="3279600"/>
            <a:ext cx="3297240" cy="64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600" spc="-1" strike="noStrike">
                <a:solidFill>
                  <a:srgbClr val="30acec"/>
                </a:solidFill>
                <a:latin typeface="Corbel"/>
              </a:rPr>
              <a:t>История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84280" y="2666880"/>
            <a:ext cx="100188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30acec"/>
                </a:solidFill>
                <a:latin typeface="Corbel"/>
              </a:rPr>
              <a:t>Принятая в 1931 году программа состояла из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«Будь готов к труду и обороне СССР» (БГТО) для школьников 1—8-х классов (4 возрастные ступени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ГТО для учащихся и населения старше 16 лет (3 ступени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Нормативы и требования комплекса ГТО периодически изменялис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В 1934 году появился комплекс БГТО («Будь готов к труду и обороне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8" name="Рисунок 8" descr=""/>
          <p:cNvPicPr/>
          <p:nvPr/>
        </p:nvPicPr>
        <p:blipFill>
          <a:blip r:embed="rId1"/>
          <a:stretch/>
        </p:blipFill>
        <p:spPr>
          <a:xfrm>
            <a:off x="8756640" y="257040"/>
            <a:ext cx="343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2440" y="772920"/>
            <a:ext cx="10018800" cy="53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0acec"/>
                </a:solidFill>
                <a:latin typeface="Corbel"/>
              </a:rPr>
              <a:t>Изменения вносились в 1940, 1947, 1955, 1959, 1965 год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Последний всесоюзный физкультурный комплекс ГТО был утверждён постановлением ЦК КПСС и Совета Министров СССР 17 января 1972 года № 61. Он имел 5 возрастных ступеней (для каждой были установлены свои нормы и требования): I ступень — «Смелые и ловкие» — 10—11 и 12—13 лет, II — «Спортивная смена» — 14—15 лет, III — «Сила и мужество» — 16—18 лет, IV — «Физическое совершенство» — мужчины 19—28 и 29—39 лет, женщины 19—28 и 29—34 лет, V — «Бодрость и здоровье» — мужчины 40—60 лет, женщины 35—55 л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В Вооружённых Силах СССР с 1972 года действовал военно-спортивный комплекс, соответствующий 4-й ступени ГТ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30acec"/>
                </a:solidFill>
                <a:latin typeface="Corbel"/>
              </a:rPr>
              <a:t>Хотя с юридической точки зрения последний комплекс ГТО остаётся действующим (с незначительным изменением 1988 г.), в настоящее время в разных учебных заведениях применяются различные методики физической подготовки и её оценки. Появилось разнообразие — каждый может выбрать тот комплекс, который ближе ему по физическим возможностя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511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Некоторые нормы ГТО для юношей и девушек 16—18 лет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0" y="0"/>
          <a:ext cx="12192120" cy="87613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  <a:gridCol w="2438280"/>
                <a:gridCol w="2438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иды упраж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Юно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еву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серебряны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золото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серебряны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 золотой знач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г 100 м (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г на простых коньках 5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ыжок в длину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ыжок в высоту (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етание гранаты в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0 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00 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олкание ядра в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 кг (м, с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 кг (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арш-бро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 км (ми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 км (ми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лавание 100 м (мин., сек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6920" y="650880"/>
            <a:ext cx="119952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30acec"/>
                </a:solidFill>
                <a:latin typeface="Corbel"/>
              </a:rPr>
              <a:t>Новые нормы ГТО от 2014-го год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6:35:36Z</dcterms:created>
  <dc:creator>Ira</dc:creator>
  <dc:description/>
  <dc:language>en-US</dc:language>
  <cp:lastModifiedBy>Ira</cp:lastModifiedBy>
  <dcterms:modified xsi:type="dcterms:W3CDTF">2014-11-18T09:41:42Z</dcterms:modified>
  <cp:revision>13</cp:revision>
  <dc:subject/>
  <dc:title>Презентация PowerPoint</dc:title>
</cp:coreProperties>
</file>