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DAE-2D18-45A1-9E4B-41EF08A8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6F6-0D6E-4B6C-8231-C990B595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06F-F659-430E-A51C-13E5287B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B33-3D42-480B-84F6-1BE657C2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7D02-10C3-4491-9344-AB3F5640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84D0-C383-48A8-A163-CAF0CF9F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144B-30E6-4019-BDBC-65D84540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7BCA-5940-435B-AE65-7A806FBC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A729-7784-4102-8505-5E0F6A91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F6D1-AC7D-49D3-9109-A4631C74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4A88-07C3-4126-8485-0EDB66D0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5C4-EA9A-4469-BB9B-86E4953A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1369-81B1-4CC5-9D2B-C925F9A8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5AF5-A98F-4206-811D-0FF70B7E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8835-01A5-48B8-B923-8513E826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DD2B-11D9-44AF-A2A0-D0062588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3AF3-A639-4964-BBA7-26256A5D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706F-6651-445B-90B8-72B8400D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69CD-06B3-461B-A8A8-0BA25EAB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5C25-4914-402C-87F7-BCA42C9E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5D0C-CD46-4BE4-B35A-EC51F206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54F49-E5D5-4338-A3DC-D195C63E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44D-EE49-40E2-87BD-5DD17DAE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E972-D60D-4DEE-B1EA-76586496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A1C7-451F-40CA-A3E8-9CFE2A8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E315-197B-4723-A774-59A56828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6697-0D52-46AA-876D-0426195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5D42-5BD7-4ECA-B58B-980B7056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5390-338E-4A41-9EE8-70A1F495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4AEA-9595-4C99-90C0-49552325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CBB6-842E-4F9D-A695-E31CC5A1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90E9-DF9A-4286-8EAA-39AD4D46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DCA4-A996-424E-B6EB-417645DC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FC0-7643-4802-8B36-A0F86A70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4EA8-FCDE-490F-AA3D-51C064F1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F022-FF88-4564-95B3-AC9F984F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308C7-DB64-46D3-B122-49AC331D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06E9-EA12-412E-A0FE-405BDDB2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E7D7-21CD-45C3-BE67-4BBEB55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941C-0253-4D39-A2FE-7A8BDA3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0599-96A0-42FC-892B-696DE934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6AA49-B1C9-4032-BABF-BC6BEB12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3D40-E126-4FEF-9258-0D92CF4C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D96E7-8C2E-4C92-A880-C9AED7F6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768-5507-477D-AEB2-B4BA087D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0038B-A504-40F0-BDA7-79991522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C5831-A167-4477-B4A0-737A0DE5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9AF82-8951-4818-9788-D9205894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E7C8D-BDF0-4432-AE34-AA1DA834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565E8-D7C8-4EB2-B23D-3A7289D6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9DAFC-BAB5-4F40-A0FA-414B3AB6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36640-B216-4D12-B7AC-FD8CF7EB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25B62-31AC-42D7-849F-ED1149FB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F711-B438-4762-A8C0-18329B08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E0B27-77F2-44BE-877E-2F85FEB4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F80-9AF8-4FDC-A2CF-EA9DFD9F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4390C-DC3A-4BD6-A448-6992CF5A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A4A-E150-4834-BA2D-E3DEF40E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387-F56A-46BE-8B98-8CB7EFC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26B-9B9E-48F0-BE50-8B9C101E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C5DD-EFB9-4AEC-9855-62D78C69E8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7A83-06DF-4BF7-B52D-22FE5F3C8C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74C2-265B-4B89-9688-0BE9D288BA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2495-4FE0-43C1-BEBE-4B3149D084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EF91-ECA3-439C-B8B5-3363165BA6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466800" y="2541600"/>
            <a:ext cx="69879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30acec"/>
                </a:solidFill>
                <a:latin typeface="Corbel"/>
              </a:rPr>
              <a:t>Готов к Труду и Обороне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4713120" y="48096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0acec"/>
                </a:solidFill>
                <a:latin typeface="Haettenschweiler"/>
                <a:ea typeface="Aharoni"/>
              </a:rPr>
              <a:t>ГТО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3" descr=""/>
          <p:cNvPicPr/>
          <p:nvPr/>
        </p:nvPicPr>
        <p:blipFill>
          <a:blip r:embed="rId1"/>
          <a:srcRect l="0" t="0" r="0" b="62184"/>
          <a:stretch/>
        </p:blipFill>
        <p:spPr>
          <a:xfrm>
            <a:off x="2174760" y="20520"/>
            <a:ext cx="7344000" cy="683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"/>
          <p:cNvPicPr/>
          <p:nvPr/>
        </p:nvPicPr>
        <p:blipFill>
          <a:blip r:embed="rId1"/>
          <a:srcRect l="0" t="37723" r="0" b="35124"/>
          <a:stretch/>
        </p:blipFill>
        <p:spPr>
          <a:xfrm>
            <a:off x="1300320" y="19080"/>
            <a:ext cx="1022976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"/>
          <p:cNvPicPr/>
          <p:nvPr/>
        </p:nvPicPr>
        <p:blipFill>
          <a:blip r:embed="rId1"/>
          <a:srcRect l="0" t="0" r="0" b="52521"/>
          <a:stretch/>
        </p:blipFill>
        <p:spPr>
          <a:xfrm>
            <a:off x="2577960" y="-150840"/>
            <a:ext cx="712332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"/>
          <p:cNvPicPr/>
          <p:nvPr/>
        </p:nvPicPr>
        <p:blipFill>
          <a:blip r:embed="rId1"/>
          <a:srcRect l="0" t="47319" r="0" b="17886"/>
          <a:stretch/>
        </p:blipFill>
        <p:spPr>
          <a:xfrm>
            <a:off x="1628640" y="0"/>
            <a:ext cx="951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552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30acec"/>
                </a:solidFill>
                <a:latin typeface="Corbel"/>
              </a:rPr>
              <a:t>Для чего хотят воссоздать систему ГТО?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98400" y="269640"/>
            <a:ext cx="772344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0acec"/>
                </a:solidFill>
                <a:latin typeface="Corbel"/>
              </a:rPr>
              <a:t>На прошедшем в марте 2013 года совещании по развитию детско-юношеского спорта Президент РФ Владимир Путин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серьёзно не изменила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9" name="Рисунок 4" descr=""/>
          <p:cNvPicPr/>
          <p:nvPr/>
        </p:nvPicPr>
        <p:blipFill>
          <a:blip r:embed="rId1"/>
          <a:stretch/>
        </p:blipFill>
        <p:spPr>
          <a:xfrm>
            <a:off x="8248680" y="682560"/>
            <a:ext cx="37670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483920" y="141120"/>
            <a:ext cx="6216840" cy="65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Для решения этой проблемы и укрепления здоровья детей Путин и предложил воссоздать систему ГТО в новом формате с современными нормативами, которые будут соответствовать уровню физического развития ребёнка. Он также заявил о том, что название программе нужно придумать другое, и поручил Минобрнауки и Минспорту заняться её разработк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Путин также предложил вносить оценку уровня физической подготовки школьника в аттестат и учитывать её при поступлении в вуз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1" name="Рисунок 4" descr=""/>
          <p:cNvPicPr/>
          <p:nvPr/>
        </p:nvPicPr>
        <p:blipFill>
          <a:blip r:embed="rId1"/>
          <a:stretch/>
        </p:blipFill>
        <p:spPr>
          <a:xfrm>
            <a:off x="8110440" y="507960"/>
            <a:ext cx="3733920" cy="54435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"/>
          <p:cNvPicPr/>
          <p:nvPr/>
        </p:nvPicPr>
        <p:blipFill>
          <a:blip r:embed="rId2"/>
          <a:stretch/>
        </p:blipFill>
        <p:spPr>
          <a:xfrm>
            <a:off x="7873920" y="574560"/>
            <a:ext cx="39704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483920" y="509400"/>
            <a:ext cx="4886280" cy="528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0acec"/>
                </a:solidFill>
                <a:latin typeface="Corbel"/>
              </a:rPr>
              <a:t>Инициативу Путина снова ввести ГТО уже поддержали депутаты Госдумы, сенаторы Совета Федерации, ректоры вузов, а также ДОСААФ России (Добровольное общество содействия армии, авиации и флоту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1"/>
          <a:stretch/>
        </p:blipFill>
        <p:spPr>
          <a:xfrm>
            <a:off x="6126120" y="971640"/>
            <a:ext cx="6066000" cy="43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65440" y="144360"/>
            <a:ext cx="945648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30acec"/>
                </a:solidFill>
                <a:latin typeface="Corbel"/>
              </a:rPr>
              <a:t>Что такое ГТО?</a:t>
            </a:r>
            <a:endParaRPr b="0" lang="en-US" sz="8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84280" y="1661760"/>
            <a:ext cx="6897600" cy="48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ГТО — программа физкультурной подготовки в общеобразовательных, профессиональных и спортивных организациях в СССР, основополагающая в единой и поддерживаемой государством системе патриотического воспитания молодёжи. Существовала с 1931 по 1991 год. Охватывала население в возрасте от 10 до 60 лет. В 2014 году Президент Российской Федерации Владимир Путин подписал указ о возвращении системы «Готов к труду и обороне». По словам министра образования Дмитрия Ливанова, начиная с 2015 года результаты сдачи комплекса ГТО будут учитываться при поступлении в высшие учебные завед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Рисунок 4" descr=""/>
          <p:cNvPicPr/>
          <p:nvPr/>
        </p:nvPicPr>
        <p:blipFill>
          <a:blip r:embed="rId1"/>
          <a:stretch/>
        </p:blipFill>
        <p:spPr>
          <a:xfrm>
            <a:off x="8381880" y="1390680"/>
            <a:ext cx="3633840" cy="5056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30acec"/>
                </a:solidFill>
                <a:latin typeface="Corbel"/>
              </a:rPr>
              <a:t>Знак ГТО</a:t>
            </a:r>
            <a:br>
              <a:rPr sz="3600"/>
            </a:br>
            <a:endParaRPr b="0" lang="en-US" sz="8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2576160"/>
            <a:ext cx="10018800" cy="40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Сдача нормативов подтверждалась особыми значками. Чтобы получить такой значок, нужно было выполнить заданный набор требований, например: пробежать на скорость стометровку, отжаться определённое количество раз, прыгнуть с вышки в воду или метнуть грана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В зависимости от уровня достижений сдающие нормативы каждой ступени награждались золотым или серебряным значком «ГТО», выполняющие нормативы в течение ряда лет — «Почётным значком ГТО». Коллективы физкультуры предприятий, учреждений, организаций, добившиеся особых успехов по внедрению комплекса ГТО в повседневную жизнь трудящихся, награждались знаком «За успехи в работе по комплексу ГТО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30acec"/>
                </a:solidFill>
                <a:latin typeface="Corbel"/>
              </a:rPr>
              <a:t>Знак ГТО</a:t>
            </a:r>
            <a:endParaRPr b="0" lang="en-US" sz="8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2" name="Текст 5" descr=""/>
          <p:cNvPicPr/>
          <p:nvPr/>
        </p:nvPicPr>
        <p:blipFill>
          <a:blip r:embed="rId1"/>
          <a:stretch/>
        </p:blipFill>
        <p:spPr>
          <a:xfrm>
            <a:off x="1243080" y="2365200"/>
            <a:ext cx="5207040" cy="1206720"/>
          </a:xfrm>
          <a:prstGeom prst="rect">
            <a:avLst/>
          </a:prstGeom>
          <a:ln w="0">
            <a:noFill/>
          </a:ln>
        </p:spPr>
      </p:pic>
      <p:pic>
        <p:nvPicPr>
          <p:cNvPr id="253" name="Объект 3" descr=""/>
          <p:cNvPicPr/>
          <p:nvPr/>
        </p:nvPicPr>
        <p:blipFill>
          <a:blip r:embed="rId2"/>
          <a:stretch/>
        </p:blipFill>
        <p:spPr>
          <a:xfrm>
            <a:off x="2341440" y="3279600"/>
            <a:ext cx="2889360" cy="6444000"/>
          </a:xfrm>
          <a:prstGeom prst="rect">
            <a:avLst/>
          </a:prstGeom>
          <a:ln w="0">
            <a:noFill/>
          </a:ln>
        </p:spPr>
      </p:pic>
      <p:pic>
        <p:nvPicPr>
          <p:cNvPr id="254" name="Текст 6" descr=""/>
          <p:cNvPicPr/>
          <p:nvPr/>
        </p:nvPicPr>
        <p:blipFill>
          <a:blip r:embed="rId3"/>
          <a:stretch/>
        </p:blipFill>
        <p:spPr>
          <a:xfrm>
            <a:off x="6881760" y="2292480"/>
            <a:ext cx="5145120" cy="1279440"/>
          </a:xfrm>
          <a:prstGeom prst="rect">
            <a:avLst/>
          </a:prstGeom>
          <a:ln w="0">
            <a:noFill/>
          </a:ln>
        </p:spPr>
      </p:pic>
      <p:pic>
        <p:nvPicPr>
          <p:cNvPr id="255" name="Объект 8" descr=""/>
          <p:cNvPicPr/>
          <p:nvPr/>
        </p:nvPicPr>
        <p:blipFill>
          <a:blip r:embed="rId4"/>
          <a:stretch/>
        </p:blipFill>
        <p:spPr>
          <a:xfrm>
            <a:off x="7742160" y="3279600"/>
            <a:ext cx="3297240" cy="64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600" spc="-1" strike="noStrike">
                <a:solidFill>
                  <a:srgbClr val="30acec"/>
                </a:solidFill>
                <a:latin typeface="Corbel"/>
              </a:rPr>
              <a:t>История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484280" y="2666880"/>
            <a:ext cx="100188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0acec"/>
                </a:solidFill>
                <a:latin typeface="Corbel"/>
              </a:rPr>
              <a:t>Принятая в 1931 году программа состояла из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«Будь готов к труду и обороне СССР» (БГТО) для школьников 1—8-х классов (4 возрастные ступен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ГТО для учащихся и населения старше 16 лет (3 ступен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Нормативы и требования комплекса ГТО периодически изменялис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В 1934 году появился комплекс БГТО («Будь готов к труду и обороне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8" name="Рисунок 8" descr=""/>
          <p:cNvPicPr/>
          <p:nvPr/>
        </p:nvPicPr>
        <p:blipFill>
          <a:blip r:embed="rId1"/>
          <a:stretch/>
        </p:blipFill>
        <p:spPr>
          <a:xfrm>
            <a:off x="8756640" y="257040"/>
            <a:ext cx="343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2440" y="772920"/>
            <a:ext cx="10018800" cy="53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Изменения вносились в 1940, 1947, 1955, 1959, 1965 год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Последний всесоюзный физкультурный комплекс ГТО был утверждён постановлением ЦК КПСС и Совета Министров СССР 17 января 1972 года № 61. Он имел 5 возрастных ступеней (для каждой были установлены свои нормы и требования): I ступень — «Смелые и ловкие» — 10—11 и 12—13 лет, II — «Спортивная смена» — 14—15 лет, III — «Сила и мужество» — 16—18 лет, IV — «Физическое совершенство» — мужчины 19—28 и 29—39 лет, женщины 19—28 и 29—34 лет, V — «Бодрость и здоровье» — мужчины 40—60 лет, женщины 35—55 л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В Вооружённых Силах СССР с 1972 года действовал военно-спортивный комплекс, соответствующий 4-й ступени ГТ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Хотя с юридической точки зрения последний комплекс ГТО остаётся действующим (с незначительным изменением 1988 г.), в настоящее время в разных учебных заведениях применяются различные методики физической подготовки и её оценки. Появилось разнообразие — каждый может выбрать тот комплекс, который ближе ему по физическим возможностя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511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30acec"/>
                </a:solidFill>
                <a:latin typeface="Corbel"/>
              </a:rPr>
              <a:t>Некоторые нормы ГТО для юношей и девушек 16—18 лет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0" y="0"/>
          <a:ext cx="12192120" cy="87613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  <a:gridCol w="2438280"/>
                <a:gridCol w="24386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упраж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Юно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еву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серебряны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золото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серебряны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золото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г 100 м (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г на простых коньках 5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ыжок в длину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ыжок в высоту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тание гранаты ве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00 г (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00 г (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олкание ядра ве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 кг (м, 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 кг (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рш-бро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 км (ми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 км (ми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лавание 1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6920" y="650880"/>
            <a:ext cx="11995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30acec"/>
                </a:solidFill>
                <a:latin typeface="Corbel"/>
              </a:rPr>
              <a:t>Новые нормы ГТО от 2014-го год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06:35:36Z</dcterms:created>
  <dc:creator>Ira</dc:creator>
  <dc:description/>
  <dc:language>en-US</dc:language>
  <cp:lastModifiedBy>Ira</cp:lastModifiedBy>
  <dcterms:modified xsi:type="dcterms:W3CDTF">2014-11-18T09:41:42Z</dcterms:modified>
  <cp:revision>13</cp:revision>
  <dc:subject/>
  <dc:title>Презентация PowerPoint</dc:title>
</cp:coreProperties>
</file>