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EE3-53FA-4030-A7D8-F477FABA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7E6-EBB7-44F0-9646-97CC3EDE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D11-213A-4353-AEA0-E340D610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771-E789-4484-9E93-9DFB87AB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134-1CB2-4A61-846C-6C73DC9C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F0B-BADF-436A-8325-00EB98E7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385-C2F4-420F-8240-7E54BF13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AD0-73F0-45DE-96A3-71114EF9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DAC-77AD-4804-A1D6-640C6791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3D7-914B-4E81-AA8A-FF6811F5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7CE-9637-4F2F-BC1E-C031F804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12E-C842-4E56-9291-DC5E65DE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CE1A-D982-4819-A513-B1BC270EE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Условия и показатели безопасности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безопасного пути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троль входа и выхода учащихся из    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работы гарде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пере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храна труда на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ация по обеспечению безопасности во внеуроч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учение правилам безопасного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Дорога в школ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ние правил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хема микрорайона и выбор безопасного маршр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блюдение правил избежания криминальной 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ход в школу, гардеро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журство учащихся и уч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ение потоков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дельные гардеробы по возрастным ступе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зопасное переоде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отвращение краж в гардеро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едотвращение проникновения в школу посторон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провождение учащихся после уроков к гардеробу и на 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журство учителей и дежурство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тролирование туал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Участие ГИБД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ановка светоф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тка 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филактические 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неклассны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структажи перед экскурсиями, походами, соревнов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групп безопасности продленного дня, кружков, спортивных с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Защита при чрезвычайных ситуац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ние в школе звеньев само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защиты в помещениях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я эвакуации при Ч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рганизация безопасного пути в шк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ния учащимися правил безопасности движения пеше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личие плана-схемы микрорайона и наиболее безопасного маршрута в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личие дворника в школе, обеспечивающего безопасные подходы к зданию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полнение правил безопасного движения пеше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нание знаков дорожн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личие детской организации «Юные инспекторы движ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Контроль входа и выхода учащихся из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609480" y="1676520"/>
            <a:ext cx="3471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олнение режима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журство по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зованный выход учащихся нача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48320" y="1676520"/>
            <a:ext cx="39463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жидаем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уществление контроля классными руков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а детей нач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сутствие кр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рганизация работы гардеро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орудованный гардер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а пользования гардер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зделение мест между старшими и младшими школь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репление определенных мест в гардеробе за клас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личие гардеробщ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ганизация дежур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сутствие краж и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рганизация перем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журство по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ледование несчастных случаев, анализ травма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вижные игровые перемены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– 4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явление зон повышенной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рганизация зон отдыха с учетом возрастных особенносте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блюдение правил безопасного поведения в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Охрана труда на занят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утвержденных и введенных в действие приказом по школе инструкций по охране труда на все виды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журналов регистрации: вводного инструктажа, несчастных случаев с учащимися и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типовых инструкций в каждом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указаний нормативных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зопасное движение в помещ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требований охран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огнетуш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людение требований электро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филактические беседы по предупреждению детского травма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 по обеспечению безопасности во внеуроч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азы директора о безопасности учащихся и ответственности учителей во время проведения экскурсий, походов, сорев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руктаж учащихся о безопасности движения и рекомендации по поведению во время внеуроч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ация дежу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сутствие трав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рганизация системы мероприятий по безопасности (День защиты детей, конкурсы ЮИД, ЮДМ, Дни здоровь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бучение правилам безопасн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инималь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рс ОБЖ в учебном пл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жидаем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личие кабинета ОБ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личие учебных наглядных пособий по ОБЖ, учеб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идеотека по ОБ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истема обеспечения безопасности детей в 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971800" y="3124080"/>
            <a:ext cx="297180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ЕБ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886200" y="1600200"/>
            <a:ext cx="175248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а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219320" y="1828800"/>
            <a:ext cx="19810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09480" y="2895480"/>
            <a:ext cx="19814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класс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85800" y="4114800"/>
            <a:ext cx="16002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267080" y="5257800"/>
            <a:ext cx="22100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щь ГИБ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858000" y="4648320"/>
            <a:ext cx="17524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6553080" y="3200400"/>
            <a:ext cx="19814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 в школ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рдер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6553080" y="1981080"/>
            <a:ext cx="19051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га в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1600200" y="5257800"/>
            <a:ext cx="18288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та при Ч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6-29T07:43:4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