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793-FF4D-4244-BE8A-A4FFF43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F51-D432-40D3-9C90-FBF1421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C69-0CDA-4F3D-825D-6D3284C1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C86-7506-42FD-BA76-F2069ED1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4EB-5EC8-45CA-9263-FD1CE9AB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7B1-0E50-468A-A277-B6E2765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08A-8DA3-4E8A-ACE5-85B0545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351-8508-4735-899E-CA01A5F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F44-E644-42FD-B656-38F4FF3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A03-3F45-46A3-8BDA-EED7413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F63-F9E6-4DBD-B5A9-0A1D080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CB5-07A3-4302-A679-F1CBFB4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7FE0-4C58-455A-8EED-839C4AC2C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Условия и показатели безопасности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безопасного пути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ь входа и выхода учащихся из    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гарде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е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храна труда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правилам безопасного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Дорога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ние правил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хема микрорайона и выбор безопасного маршр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блюдение правил избежания криминальной 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ход в школу, гардер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журство учащихся и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ение потоков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ьные гардеробы по возрастным ступе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зопасное переоде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краж в гардер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проникновения в школу п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провождение учащихся после уроков к гардеробу и на 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журство учителей и дежурств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тролирование туа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частие ГИБ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новка светоф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тка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филактическ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структажи перед экскурсиями, походами, соревнов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групп безопасности продленного дня, кружков, спортивных с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щита при чрезвычайных ситуа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ние в школе звеньев само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защиты в помещениях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эвакуации при 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безопасного пути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я учащимися правил безопасности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плана-схемы микрорайона и наиболее безопасного маршрута в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ворника в школе, обеспечивающего безопасные подходы к зданию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олнение правил безопасного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е знаков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етской организации «Юные инспекторы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онтроль входа и выхода учащихся из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09480" y="1676520"/>
            <a:ext cx="3471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ение режима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ованный выход учащихся нач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8320" y="1676520"/>
            <a:ext cx="3946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уществление контроля классными руков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а детей нач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работы гардер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орудованный гарде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пользования гардер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ение мест между старшими и младшими школь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репление определенных мест в гардеробе за клас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гардеробщ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ация дежур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 и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рганизация пере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ледование несчастных случаев, анализ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ижные игровые перемены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– 4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явление зон повыше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изация зон отдыха с учетом возрастных особенносте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блюдение правил безопасного поведения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храна труда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утвержденных и введенных в действие приказом по школе инструкций по охране труда на все виды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журналов регистрации: вводного инструктажа, несчастных случаев с учащимися и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типовых инструкций в каждом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указаний норматив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опасное движение в помещ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охран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огнетуш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электро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филактические беседы по предупреждению детского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азы директора о безопасности учащихся и ответственности учителей во время проведения экскурсий, походов, сорев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ктаж учащихся о безопасности движения и рекомендации по поведению во время внеуроч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дежу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сутствие тра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я системы мероприятий по безопасности (День защиты детей, конкурсы ЮИД, ЮДМ, Дни здоровь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бучение правилам безопас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рс ОБЖ в учебном пл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кабинета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учебных наглядных пособий по ОБЖ, учеб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деотека по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истема обеспечения безопасности детей в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971800" y="3124080"/>
            <a:ext cx="297180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Б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6200" y="1600200"/>
            <a:ext cx="175248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а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19320" y="1828800"/>
            <a:ext cx="19810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09480" y="289548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клас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5800" y="411480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267080" y="5257800"/>
            <a:ext cx="22100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щь ГИБ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0" y="4648320"/>
            <a:ext cx="17524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553080" y="320040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 в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де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6553080" y="1981080"/>
            <a:ext cx="19051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1600200" y="5257800"/>
            <a:ext cx="18288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а при 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9T07:43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