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D86-5EED-4550-BCAC-29281792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A8C-28E0-4BD3-AE50-2D9337E8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753-A8F0-4E82-9CFC-D9A6E71E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B5A-0783-444A-B5E0-1D612A03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68F-EAF2-45BE-8F05-C87C0702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310-83F7-4EF1-8413-BB312BBF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94B-ED11-400D-8795-42E42EE1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C59-2E90-4B99-80BA-3D2106C1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F0B-6B01-4EF4-88BE-0612959A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31C-29D9-47AE-A3BD-C705433F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AC8-DF91-47D7-B158-E3112B8F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5CC-AE33-4F3E-B000-F7AA4EB6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23D-1C6B-4866-91C6-31D2034C9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Условия и показатели безопасности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безопасного пути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троль входа и выхода учащихся из    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работы гарде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пере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храна труда на за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по обеспечению безопасности во внеуроч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учение правилам безопасного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Дорога в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ние правил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хема микрорайона и выбор безопасного маршр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блюдение правил избежания криминальной 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ход в школу, гардеро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журство учащихся и уч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деление потоков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дельные гардеробы по возрастным ступе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зопасное переоде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отвращение краж в гардеро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отвращение проникновения в школу посторон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провождение учащихся после уроков к гардеробу и на 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журство учителей и дежурство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тролирование туал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Участие ГИБД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ановка светоф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тка дор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филактические 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неклассны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структажи перед экскурсиями, походами, соревнов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групп безопасности продленного дня, кружков, спортивных с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Защита при чрезвычайных ситуац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ние в школе звеньев само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защиты в помещениях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эвакуации при Ч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рганизация безопасного пути в шк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ния учащимися правил безопасности движения пеше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личие плана-схемы микрорайона и наиболее безопасного маршрута в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личие дворника в школе, обеспечивающего безопасные подходы к зданию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полнение правил безопасного движения пеше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ние знаков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личие детской организации «Юные инспекторы движ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Контроль входа и выхода учащихся из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09480" y="1676520"/>
            <a:ext cx="34718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олнение режима 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журство по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зованный выход учащихся нача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648320" y="1676520"/>
            <a:ext cx="39463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жидае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уществление контроля классными руков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а детей нач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сутствие кр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рганизация работы гардеро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орудованный гардер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а пользования гардер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деление мест между старшими и младшими школь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репление определенных мест в гардеробе за клас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личие гардеробщ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зация дежур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сутствие краж и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рганизация перем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журство по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ледование несчастных случаев, анализ травма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вижные игровые перемены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– 4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явление зон повышенной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рганизация зон отдыха с учетом возрастных особенносте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блюдение правил безопасного поведения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храна труда на занят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утвержденных и введенных в действие приказом по школе инструкций по охране труда на все виды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журналов регистрации: вводного инструктажа, несчастных случаев с учащимися и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типовых инструкций в каждом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людение указаний нормативных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зопасное движение в помещ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людение требований охран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огнетуш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людение требований электро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филактические беседы по предупреждению детского травма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 по обеспечению безопасности во внеуроч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казы директора о безопасности учащихся и ответственности учителей во время проведения экскурсий, походов, сорев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труктаж учащихся о безопасности движения и рекомендации по поведению во время внеуроч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я дежу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сутствие трав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рганизация системы мероприятий по безопасности (День защиты детей, конкурсы ЮИД, ЮДМ, Дни здоровь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бучение правилам безопасного по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рс ОБЖ в учебном пл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личие кабинета ОБ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личие учебных наглядных пособий по ОБЖ, учеб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деотека по ОБ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истема обеспечения безопасности детей в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971800" y="3124080"/>
            <a:ext cx="297180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Б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886200" y="1600200"/>
            <a:ext cx="175248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а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219320" y="1828800"/>
            <a:ext cx="19810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09480" y="2895480"/>
            <a:ext cx="19814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класс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685800" y="4114800"/>
            <a:ext cx="1600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267080" y="5257800"/>
            <a:ext cx="22100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щь ГИБ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858000" y="4648320"/>
            <a:ext cx="17524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6553080" y="3200400"/>
            <a:ext cx="19814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 в школ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рдер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6553080" y="1981080"/>
            <a:ext cx="19051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га в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1600200" y="5257800"/>
            <a:ext cx="18288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та при Ч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06-29T07:43:4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