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png" ContentType="image/png"/>
  <Override PartName="/ppt/media/image20.png" ContentType="image/png"/>
  <Override PartName="/ppt/media/image17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18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EE7F-61F4-4054-A682-0EF8A5783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2857-0F9A-4CF6-95A5-6D3035B8C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A6E4-67FE-433D-B0C1-FA27603DA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36E9-989D-4E2C-86CB-2A84D833E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969B-1EED-47EE-BC14-97B2FFA26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DCB3-70D9-4DE2-979B-A4DA4BA33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BBD9-EFAE-4BFA-BA66-6E676F3FE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7BD9-383C-443C-86AB-B8F943F74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7AFF-130E-4229-9632-9DD1E5E0C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BAE8-49D8-45A8-A1E8-3D4E78AA9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9511-B02C-4922-85AE-1B69E87F4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068-64D0-4620-BD84-29A0DFB88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A7ED-F5D8-4506-B52A-D28277891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9AF8-6BE3-4137-8C2A-288FC3B94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BFE4-87C9-4A5E-BB0D-A6A510D61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08EF-CA00-48F8-B9C2-C1199AF2C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AD1B-A0E0-41CA-934F-C0EC43BF5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3126-1552-4D4B-B529-06D768DB6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5A7B-1F68-4F6C-A04B-95E7A9ABC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F170-BF04-49BE-9F3D-E982CEEF8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87F0-B607-4694-82F1-4185DBB7D4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50EB-C4E5-49A4-99F0-4CADB54EE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2820-2B4F-40A0-A32D-05F9E8262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991-5FE9-4023-BE12-6E8D0596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24B-0A6C-466B-BD7D-625ACB25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CBE-4488-455F-932D-DC486AF4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E43-69F6-4CD9-907F-2196609C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79C5-F809-4436-BA5F-F66EC59B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8DA1-8FAF-4A1B-9049-7C7F7822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182F-6DBE-4E69-92A9-1FC9DADB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69E-B005-4949-AB6C-A7983888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589D-75C7-459F-B6F0-507BE5D4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E58B-004E-4612-B7E6-1773CF46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F3EE-6DCB-4E48-92EA-2C3CC276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5D8F-2D58-49C7-8D0F-5CDE68F2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1001-E55D-4251-87C2-1FE24855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15F9-474C-4297-955C-6A49366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DE36-1369-42F4-82D4-82480EF6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361E-DEB2-4838-B0B6-766CBA64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1FC0-92D5-4D7A-A280-F4A0FBFC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96C-5389-455F-B7CD-97E03EC9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62C-2C68-4E92-880C-E951AB3A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7EA-53FB-4422-BF64-4EBC3EE5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156-7B1D-460B-9007-9DDA46DB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0FD-8593-4B9A-813A-77776FF2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474-7F3E-45A1-AA55-7E4A8376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E1E-5D2D-44B3-89DB-CE0AE742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A0E1-0F11-4FDC-A3C8-1354C0045A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966A-3AEF-4FE1-A234-E32B096C3CA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 rot="20996400">
            <a:off x="385560" y="955440"/>
            <a:ext cx="820872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  СЕНТЯБРЯ -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ЕНЬ  ЗНАНИЙ!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3" name="Picture 5" descr="Новый рисунок (60)"/>
          <p:cNvPicPr/>
          <p:nvPr/>
        </p:nvPicPr>
        <p:blipFill>
          <a:blip r:embed="rId1"/>
          <a:stretch/>
        </p:blipFill>
        <p:spPr>
          <a:xfrm rot="20503200">
            <a:off x="684000" y="475920"/>
            <a:ext cx="31208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47640" y="2133360"/>
            <a:ext cx="5219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Подземный перехо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Спустись в подвал за вареньем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Спуск к рек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File0819"/>
          <p:cNvPicPr/>
          <p:nvPr/>
        </p:nvPicPr>
        <p:blipFill>
          <a:blip r:embed="rId1"/>
          <a:stretch/>
        </p:blipFill>
        <p:spPr>
          <a:xfrm>
            <a:off x="468360" y="2421000"/>
            <a:ext cx="28083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79640" y="2060640"/>
            <a:ext cx="5113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1. Здесь продают велосип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. Велосипедная  стоян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3. Велосипедная дорож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2400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6"/>
          <p:cNvSpPr txBox="1"/>
          <p:nvPr/>
        </p:nvSpPr>
        <p:spPr>
          <a:xfrm>
            <a:off x="395280" y="260280"/>
            <a:ext cx="83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шествие  2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26" name="Picture 17" descr="skazka_35"/>
          <p:cNvPicPr/>
          <p:nvPr/>
        </p:nvPicPr>
        <p:blipFill>
          <a:blip r:embed="rId1"/>
          <a:stretch/>
        </p:blipFill>
        <p:spPr>
          <a:xfrm>
            <a:off x="2195640" y="1773360"/>
            <a:ext cx="2498760" cy="41036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8"/>
          <p:cNvSpPr txBox="1"/>
          <p:nvPr/>
        </p:nvSpPr>
        <p:spPr>
          <a:xfrm>
            <a:off x="324000" y="5661000"/>
            <a:ext cx="8208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В Школу дорожных  наук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5292720" y="1484280"/>
            <a:ext cx="3456000" cy="3311640"/>
          </a:xfrm>
          <a:prstGeom prst="cloudCallout">
            <a:avLst>
              <a:gd name="adj1" fmla="val -102731"/>
              <a:gd name="adj2" fmla="val -20421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Что  поможет  мне  на  пути  в  тридевятое  царство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55640" y="2133720"/>
            <a:ext cx="4211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олосатая  лошадк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Её  зеброю  зову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о  она  не  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оопарке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о  ней  люди  в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идут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5219640" y="5300640"/>
            <a:ext cx="316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ереход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32" name="Picture 6" descr="File0820"/>
          <p:cNvPicPr/>
          <p:nvPr/>
        </p:nvPicPr>
        <p:blipFill>
          <a:blip r:embed="rId1"/>
          <a:stretch/>
        </p:blipFill>
        <p:spPr>
          <a:xfrm>
            <a:off x="539640" y="2133720"/>
            <a:ext cx="3768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5084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Посмотри,  силач  какой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На  ходу  одной  рук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Останавливать  привы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Пятитонный  грузови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182760" cy="4103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"/>
          <p:cNvSpPr txBox="1"/>
          <p:nvPr/>
        </p:nvSpPr>
        <p:spPr>
          <a:xfrm>
            <a:off x="250920" y="5373720"/>
            <a:ext cx="5905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егулировщик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5640" y="1916280"/>
            <a:ext cx="4716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Дом  по  улице  иде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а  работу  нас  везе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е  на  курьих  ножках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  резиновых  сапож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6481800" cy="20480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5"/>
          <p:cNvSpPr txBox="1"/>
          <p:nvPr/>
        </p:nvSpPr>
        <p:spPr>
          <a:xfrm rot="20402400">
            <a:off x="178920" y="2420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втобус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5472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Вот  так  чудо-чудеса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Подо  мной  два  колес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Я  ногами  их  верч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И  качу,  качу,  качу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324000" y="458136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елосипед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1845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16360" y="2349000"/>
            <a:ext cx="56512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Если  вдруг  зеленый  све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Вспыхнет  вперед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Скажет  он: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          </a:t>
            </a: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- Препятствий  нет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Смело  в  пу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6156360" y="4581360"/>
            <a:ext cx="2519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ди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8" name="Picture 5" descr="j0295169"/>
          <p:cNvPicPr/>
          <p:nvPr/>
        </p:nvPicPr>
        <p:blipFill>
          <a:blip r:embed="rId1"/>
          <a:stretch/>
        </p:blipFill>
        <p:spPr>
          <a:xfrm>
            <a:off x="179280" y="2565360"/>
            <a:ext cx="259236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73000"/>
            <a:ext cx="5157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Не  летает,  не  жужжит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Жук  по  улице  бежи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И  горят  в  глазах  жу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Два  блестящих  огонь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WordArt 4"/>
          <p:cNvSpPr txBox="1"/>
          <p:nvPr/>
        </p:nvSpPr>
        <p:spPr>
          <a:xfrm rot="917400">
            <a:off x="5570280" y="2053800"/>
            <a:ext cx="331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егковой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втомобиль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2268360" y="4149720"/>
            <a:ext cx="41752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763640" y="2712960"/>
            <a:ext cx="1656000" cy="161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1944720" cy="1611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1692360" y="4508640"/>
            <a:ext cx="1800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ДВ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635280" y="4508640"/>
            <a:ext cx="180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ИЖЕН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5580000" y="4508640"/>
            <a:ext cx="180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ИЯ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971640" y="260280"/>
            <a:ext cx="7272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опасно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2513160" cy="3240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684360" y="306864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Везде  и  всюду  правила,               Их  надо  знать  всегда:             Без  них  не  выйдут  в  плаванье      Из  гавани  суда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Выходят  в  рейс  по  правилам  Полярник  и  пилот.                  Свои  имеют  правила                Шофер  и  пешеход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395280" y="260280"/>
            <a:ext cx="83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шествие  3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61" name="Picture 4" descr="CSM001914"/>
          <p:cNvPicPr/>
          <p:nvPr/>
        </p:nvPicPr>
        <p:blipFill>
          <a:blip r:embed="rId1"/>
          <a:stretch/>
        </p:blipFill>
        <p:spPr>
          <a:xfrm>
            <a:off x="1547640" y="1773360"/>
            <a:ext cx="5543640" cy="374328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395280" y="5516640"/>
            <a:ext cx="8209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о  дорожным  лабиринтам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1871640" cy="18176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/>
          <p:cNvSpPr/>
          <p:nvPr/>
        </p:nvSpPr>
        <p:spPr>
          <a:xfrm>
            <a:off x="2340000" y="1557360"/>
            <a:ext cx="4032360" cy="3166920"/>
          </a:xfrm>
          <a:prstGeom prst="cloudCallout">
            <a:avLst>
              <a:gd name="adj1" fmla="val 46416"/>
              <a:gd name="adj2" fmla="val 35013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орогу  от  дома  до  школы  вы  найдете  с  закрытыми  глазами!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539640" y="189000"/>
            <a:ext cx="8001000" cy="15112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2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о  дорожным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лабиринтам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14880" cy="354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5290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4000" y="0"/>
            <a:ext cx="8424720" cy="65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Безопасной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ам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дороги,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ребята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611280" y="0"/>
            <a:ext cx="2403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95280" y="260280"/>
            <a:ext cx="83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шествие  1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8" name="Picture 5" descr="Новый рисунок (63)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3969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395280" y="5589720"/>
            <a:ext cx="8209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В Парк дорожных  знаков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932360" y="1197000"/>
            <a:ext cx="2592360" cy="1942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колько  мне  лет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419640" y="2204640"/>
            <a:ext cx="525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Осторожно,  дети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Добро пожаловать в школу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Детям  проход  запрещен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7" descr="File0820 - копия"/>
          <p:cNvPicPr/>
          <p:nvPr/>
        </p:nvPicPr>
        <p:blipFill>
          <a:blip r:embed="rId1"/>
          <a:stretch/>
        </p:blipFill>
        <p:spPr>
          <a:xfrm>
            <a:off x="179280" y="2421000"/>
            <a:ext cx="3168720" cy="2957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59280" y="1773360"/>
            <a:ext cx="5302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  Не  копайся, проезжай дальш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 Копать  запрещено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 Дорожные  работы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2520720" cy="2880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64000" y="2349000"/>
            <a:ext cx="5256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ешеходный перех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.  Железнодорожный переезд со  шлагбаум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3.  За  забором злая  собак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024000" cy="2654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95640" y="2276280"/>
            <a:ext cx="460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Восклицательное предложе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Прочие опас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Кричи  громч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0956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58920" y="2276280"/>
            <a:ext cx="5508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Здесь велосипеды не продаютс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зда только на велосипедах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Велосипедное движение запрещен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File0828"/>
          <p:cNvPicPr/>
          <p:nvPr/>
        </p:nvPicPr>
        <p:blipFill>
          <a:blip r:embed="rId1"/>
          <a:stretch/>
        </p:blipFill>
        <p:spPr>
          <a:xfrm>
            <a:off x="324000" y="2565360"/>
            <a:ext cx="2735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59280" y="1989000"/>
            <a:ext cx="536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Танцы запрещен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Движение пешеходов запрещен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Не спи,  замерзнеш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2663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06:56:54Z</dcterms:created>
  <dc:creator>Людмила</dc:creator>
  <dc:description/>
  <dc:language>en-US</dc:language>
  <cp:lastModifiedBy>R</cp:lastModifiedBy>
  <dcterms:modified xsi:type="dcterms:W3CDTF">2014-05-21T11:09:05Z</dcterms:modified>
  <cp:revision>8</cp:revision>
  <dc:subject/>
  <dc:title>Слайд 1</dc:title>
</cp:coreProperties>
</file>