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6.png" ContentType="image/png"/>
  <Override PartName="/ppt/media/image20.png" ContentType="image/png"/>
  <Override PartName="/ppt/media/image17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18.wmf" ContentType="image/x-wmf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A380-7B50-454C-AF42-8CA13E2D99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B0B6-09A7-4EB2-944A-1DC03F12BA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D2DE-B63B-4044-8FBA-F774D89C5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7432-09E0-4990-A83D-2E900992DD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4D52-09EB-464B-A9D2-4C69902504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7F4F-C575-47B4-AF33-A2926A16ED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F57B-86E8-4F65-9531-AD752DBB68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6C73-BF12-4032-BF07-A336E072F6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2995-A88E-4A02-871D-60E9889E3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19B8-1D72-4FED-9108-68F741448A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76FF-A64E-46BA-BE28-C30CE412BA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419E-CF58-42D7-B100-483C8720F6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898E-8482-4443-B3F8-B0B130203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0A08-152B-4881-9D50-FF37DBA148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FE80-A75E-4E6C-979A-0582857E97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AA3B-5241-4694-8FDB-33B1D9EDA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123D-A24D-4506-9B98-D000B833BD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C9EC-B925-4EB3-BB9D-85DD75173F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E1A1-5D93-4F8D-9664-E30B9E57C5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AA67-CF9D-4829-82A9-54A8D975FF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4192-0252-4691-B7E4-5E52BC102C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5427-7489-41D2-8893-7F42B8BA1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5C4F-3B61-4E0C-A3C8-058C067914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E2B-C560-4C77-82A9-C414FC0C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559-98B3-4008-BE56-D39E8726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F60-E6FC-459D-A2B5-7CD05FCE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808-0CBC-47D2-B9E1-87A95889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572D-1F69-42E8-AC81-89E05DB6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38E0-7421-47C9-9319-D5928042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E61C-4B0D-48C9-946C-8DA1E0BC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2D42-5474-4BAF-B78D-B0079D14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50F6-BB22-4131-ACF8-671927C0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96B4-9502-4A06-BF35-F3F927ED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C566-6A56-407D-A8C5-EC87E491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8BB-B8C6-4952-81C0-6DA2317E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41C9-2C05-4CAA-86AA-92488637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8A02-C893-4331-AAED-D6C5C159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658D-3CEE-4CE4-AA41-71F850A1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C874-B1B8-4155-93AB-53C6DBDC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FB3E-D3BB-442E-A6BB-A26D3162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E73-BBCD-4337-9599-1F58EB1B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832-7205-482F-AC68-780081E7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B86-B168-4BC2-96B1-6CAA9E63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5EF-1537-4DAF-AEE5-5A0267BC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E71-849A-4C69-8446-EEF80C26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F2E4-A7A9-46F3-A066-64574284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E4BE-86C0-4C52-AA6F-EDE3A449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1BF4-3CD0-4CD2-B7DC-2D2E7AB2FF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FE7A-DB49-4D8E-8B69-5EE0B21CA6F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 rot="20996400">
            <a:off x="385560" y="955440"/>
            <a:ext cx="820872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  СЕНТЯБРЯ -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ДЕНЬ  ЗНАНИЙ!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93" name="Picture 5" descr="Новый рисунок (60)"/>
          <p:cNvPicPr/>
          <p:nvPr/>
        </p:nvPicPr>
        <p:blipFill>
          <a:blip r:embed="rId1"/>
          <a:stretch/>
        </p:blipFill>
        <p:spPr>
          <a:xfrm rot="20503200">
            <a:off x="684000" y="475920"/>
            <a:ext cx="31208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47640" y="2133360"/>
            <a:ext cx="5219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 Подземный перехо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 Спустись в подвал за вареньем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 Спуск к рек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File0819"/>
          <p:cNvPicPr/>
          <p:nvPr/>
        </p:nvPicPr>
        <p:blipFill>
          <a:blip r:embed="rId1"/>
          <a:stretch/>
        </p:blipFill>
        <p:spPr>
          <a:xfrm>
            <a:off x="468360" y="2421000"/>
            <a:ext cx="280836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79640" y="2060640"/>
            <a:ext cx="5113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1. Здесь продают велосип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2. Велосипедная  стоян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3. Велосипедная дорож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2400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16"/>
          <p:cNvSpPr txBox="1"/>
          <p:nvPr/>
        </p:nvSpPr>
        <p:spPr>
          <a:xfrm>
            <a:off x="395280" y="260280"/>
            <a:ext cx="835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утешествие  2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26" name="Picture 17" descr="skazka_35"/>
          <p:cNvPicPr/>
          <p:nvPr/>
        </p:nvPicPr>
        <p:blipFill>
          <a:blip r:embed="rId1"/>
          <a:stretch/>
        </p:blipFill>
        <p:spPr>
          <a:xfrm>
            <a:off x="2195640" y="1773360"/>
            <a:ext cx="2498760" cy="4103640"/>
          </a:xfrm>
          <a:prstGeom prst="rect">
            <a:avLst/>
          </a:prstGeom>
          <a:ln w="0">
            <a:noFill/>
          </a:ln>
        </p:spPr>
      </p:pic>
      <p:sp>
        <p:nvSpPr>
          <p:cNvPr id="127" name="WordArt 18"/>
          <p:cNvSpPr txBox="1"/>
          <p:nvPr/>
        </p:nvSpPr>
        <p:spPr>
          <a:xfrm>
            <a:off x="324000" y="5661000"/>
            <a:ext cx="82087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В Школу дорожных  наук...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5292720" y="1484280"/>
            <a:ext cx="3456000" cy="3311640"/>
          </a:xfrm>
          <a:prstGeom prst="cloudCallout">
            <a:avLst>
              <a:gd name="adj1" fmla="val -102731"/>
              <a:gd name="adj2" fmla="val -20421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Что  поможет  мне  на  пути  в  тридевятое  царство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55640" y="2133720"/>
            <a:ext cx="4211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олосатая  лошадк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Её  зеброю  зову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Но  она  не  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оопарке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о  ней  люди  в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      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идут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5219640" y="5300640"/>
            <a:ext cx="316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ереход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32" name="Picture 6" descr="File0820"/>
          <p:cNvPicPr/>
          <p:nvPr/>
        </p:nvPicPr>
        <p:blipFill>
          <a:blip r:embed="rId1"/>
          <a:stretch/>
        </p:blipFill>
        <p:spPr>
          <a:xfrm>
            <a:off x="539640" y="2133720"/>
            <a:ext cx="3768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50846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Посмотри,  силач  какой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На  ходу  одной  руко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Останавливать  привы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Пятитонный  грузови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182760" cy="4103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4"/>
          <p:cNvSpPr txBox="1"/>
          <p:nvPr/>
        </p:nvSpPr>
        <p:spPr>
          <a:xfrm>
            <a:off x="250920" y="5373720"/>
            <a:ext cx="59054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егулировщик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5640" y="1916280"/>
            <a:ext cx="47167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Дом  по  улице  идет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На  работу  нас  везет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Не  на  курьих  ножках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В  резиновых  сапожк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187280" y="3933720"/>
            <a:ext cx="6481800" cy="2048040"/>
          </a:xfrm>
          <a:prstGeom prst="rect">
            <a:avLst/>
          </a:prstGeom>
          <a:ln w="0">
            <a:noFill/>
          </a:ln>
        </p:spPr>
      </p:pic>
      <p:sp>
        <p:nvSpPr>
          <p:cNvPr id="140" name="WordArt 5"/>
          <p:cNvSpPr txBox="1"/>
          <p:nvPr/>
        </p:nvSpPr>
        <p:spPr>
          <a:xfrm rot="20402400">
            <a:off x="178920" y="242064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втобус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5472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Вот  так  чудо-чудеса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Подо  мной  два  колес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Я  ногами  их  верч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И  качу,  качу,  качу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324000" y="458136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елосипед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31845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16360" y="2349000"/>
            <a:ext cx="56512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Если  вдруг  зеленый  све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Вспыхнет  впереди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Скажет  он: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          </a:t>
            </a: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- Препятствий  нет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Verdana"/>
              </a:rPr>
              <a:t>Смело  в  пу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6156360" y="4581360"/>
            <a:ext cx="2519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ди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48" name="Picture 5" descr="j0295169"/>
          <p:cNvPicPr/>
          <p:nvPr/>
        </p:nvPicPr>
        <p:blipFill>
          <a:blip r:embed="rId1"/>
          <a:stretch/>
        </p:blipFill>
        <p:spPr>
          <a:xfrm>
            <a:off x="179280" y="2565360"/>
            <a:ext cx="259236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73000"/>
            <a:ext cx="5157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Не  летает,  не  жужжит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Жук  по  улице  бежи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И  горят  в  глазах  жу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00"/>
                </a:solidFill>
                <a:latin typeface="Verdana"/>
              </a:rPr>
              <a:t>Два  блестящих  огонь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WordArt 4"/>
          <p:cNvSpPr txBox="1"/>
          <p:nvPr/>
        </p:nvSpPr>
        <p:spPr>
          <a:xfrm rot="917400">
            <a:off x="5570280" y="2053800"/>
            <a:ext cx="331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легковой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втомобиль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2268360" y="4149720"/>
            <a:ext cx="41752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ШКОЛА  ДОРОЖНЫХ  НАУ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763640" y="2712960"/>
            <a:ext cx="1656000" cy="161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3564000" y="2708280"/>
            <a:ext cx="1944720" cy="1611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5651640" y="27082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1"/>
          <p:cNvSpPr/>
          <p:nvPr/>
        </p:nvSpPr>
        <p:spPr>
          <a:xfrm>
            <a:off x="1692360" y="4508640"/>
            <a:ext cx="1800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ДВ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635280" y="4508640"/>
            <a:ext cx="1800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ИЖЕН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5580000" y="4508640"/>
            <a:ext cx="1800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ИЯ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971640" y="260280"/>
            <a:ext cx="7272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зопасно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6300720" y="2852640"/>
            <a:ext cx="2513160" cy="3240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684360" y="3068640"/>
            <a:ext cx="554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ahoma"/>
              </a:rPr>
              <a:t>Везде  и  всюду  правила,               Их  надо  знать  всегда:             Без  них  не  выйдут  в  плаванье      Из  гавани  суда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ahoma"/>
              </a:rPr>
              <a:t>Выходят  в  рейс  по  правилам  Полярник  и  пилот.                  Свои  имеют  правила                Шофер  и  пешеход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395280" y="260280"/>
            <a:ext cx="835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утешествие  3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61" name="Picture 4" descr="CSM001914"/>
          <p:cNvPicPr/>
          <p:nvPr/>
        </p:nvPicPr>
        <p:blipFill>
          <a:blip r:embed="rId1"/>
          <a:stretch/>
        </p:blipFill>
        <p:spPr>
          <a:xfrm>
            <a:off x="1547640" y="1773360"/>
            <a:ext cx="5543640" cy="3743280"/>
          </a:xfrm>
          <a:prstGeom prst="rect">
            <a:avLst/>
          </a:prstGeom>
          <a:ln w="0">
            <a:noFill/>
          </a:ln>
        </p:spPr>
      </p:pic>
      <p:sp>
        <p:nvSpPr>
          <p:cNvPr id="162" name="WordArt 5"/>
          <p:cNvSpPr txBox="1"/>
          <p:nvPr/>
        </p:nvSpPr>
        <p:spPr>
          <a:xfrm>
            <a:off x="395280" y="5516640"/>
            <a:ext cx="82090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По  дорожным  лабиринтам...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1871640" cy="18176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/>
          <p:cNvSpPr/>
          <p:nvPr/>
        </p:nvSpPr>
        <p:spPr>
          <a:xfrm>
            <a:off x="2340000" y="1557360"/>
            <a:ext cx="4032360" cy="3166920"/>
          </a:xfrm>
          <a:prstGeom prst="cloudCallout">
            <a:avLst>
              <a:gd name="adj1" fmla="val 46416"/>
              <a:gd name="adj2" fmla="val 35013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Дорогу  от  дома  до  школы  вы  найдете  с  закрытыми  глазами!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539640" y="189000"/>
            <a:ext cx="8001000" cy="15112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2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По  дорожным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лабиринтам...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314880" cy="3543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5290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324000" y="0"/>
            <a:ext cx="8424720" cy="65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Безопасной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ам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дороги,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ребята!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611280" y="0"/>
            <a:ext cx="2403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95280" y="260280"/>
            <a:ext cx="835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утешествие  1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8" name="Picture 5" descr="Новый рисунок (63)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396900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395280" y="5589720"/>
            <a:ext cx="82090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В Парк дорожных  знаков...</a:t>
            </a:r>
            <a:endParaRPr b="1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4932360" y="1197000"/>
            <a:ext cx="2592360" cy="1942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Сколько  мне  лет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419640" y="2204640"/>
            <a:ext cx="5256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 Осторожно,  дети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 Добро пожаловать в школу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 Детям  проход  запрещен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7" descr="File0820 - копия"/>
          <p:cNvPicPr/>
          <p:nvPr/>
        </p:nvPicPr>
        <p:blipFill>
          <a:blip r:embed="rId1"/>
          <a:stretch/>
        </p:blipFill>
        <p:spPr>
          <a:xfrm>
            <a:off x="179280" y="2421000"/>
            <a:ext cx="3168720" cy="2957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59280" y="1773360"/>
            <a:ext cx="5302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   Не  копайся, проезжай дальше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  Копать  запрещено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  Дорожные  работы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2520720" cy="2880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64000" y="2349000"/>
            <a:ext cx="5256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ешеходный перех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2.  Железнодорожный переезд со  шлагбаум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3.  За  забором злая  собака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024000" cy="2654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95640" y="2276280"/>
            <a:ext cx="4608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 Восклицательное предложе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 Прочие опаснос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 Кричи  громче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0956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58920" y="2276280"/>
            <a:ext cx="55083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Здесь велосипеды не продаютс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Езда только на велосипедах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Велосипедное движение запрещен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File0828"/>
          <p:cNvPicPr/>
          <p:nvPr/>
        </p:nvPicPr>
        <p:blipFill>
          <a:blip r:embed="rId1"/>
          <a:stretch/>
        </p:blipFill>
        <p:spPr>
          <a:xfrm>
            <a:off x="324000" y="2565360"/>
            <a:ext cx="2735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АРК  </a:t>
            </a: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ДОРОЖНЫХ</a:t>
            </a: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  ЗНА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59280" y="1989000"/>
            <a:ext cx="536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1. Танцы запрещен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2. Движение пешеходов запрещен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3. Не спи,  замерзнешь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2663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06:56:54Z</dcterms:created>
  <dc:creator>Людмила</dc:creator>
  <dc:description/>
  <dc:language>en-US</dc:language>
  <cp:lastModifiedBy>R</cp:lastModifiedBy>
  <dcterms:modified xsi:type="dcterms:W3CDTF">2014-05-21T11:09:05Z</dcterms:modified>
  <cp:revision>8</cp:revision>
  <dc:subject/>
  <dc:title>Слайд 1</dc:title>
</cp:coreProperties>
</file>