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20.png" ContentType="image/png"/>
  <Override PartName="/ppt/media/image17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870-B959-4CAA-8383-043A9CA42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B94-C9E3-4E8F-92F3-44DCC3A283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B9E0-45D2-46B2-B04F-237BE0641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62D1-0A07-4C23-B0E4-5539AD18F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DE6-3E55-4E6A-BF02-F7E5A80AC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3F8-D283-439D-92E2-C23D14132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F880-1EB4-4DCD-8895-BF5CDD8CC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98BB-8A08-444B-A9D2-39F92DBAD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B04E-E235-48BD-A3E3-8208EA42C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6CB-FEC2-416E-B87A-F6C70DBDA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F356-3EFE-4AED-A8F2-028A43159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A69-36C0-4FEE-9F23-1DA360777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645-ED2C-4D9B-B84D-974206E13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6E6F-33A3-48FA-96F3-09EEF9C42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4361-229D-4D36-AC41-B1A0BC1C3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9F9F-A6F7-4CCE-AB19-CD0BFE0E7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E90-472B-4177-AF3A-0A794427D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1AD-9648-49AC-A838-961F16A4E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599-7CF1-4669-99C0-0C317318E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B54-BDC3-4342-89EC-1FECB6936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0FD8-EBC7-460C-9B76-2DF4A4C72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52D-F484-40EC-AF83-4C9F418ED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3033-0D28-4EA7-AE8B-924928D77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B8B-6DC6-4494-89A2-37F01F5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009-14CF-4A06-9AB2-06B1A5E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074-BB64-480F-84F8-C0BC6DB3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6F8-0340-41AF-87DD-B4DA16E1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522-E657-4468-B1F8-AE41FF31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12C4-E94E-4AFD-94E4-108ABB8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CAF-7BCC-48F1-AF00-7AFF61C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583-22C6-4648-A309-68220BD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FDE-9722-4C74-95B5-E575F896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28D2-1FE7-438D-822E-3AAEF1CB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ED02-D1FE-4E54-BB4A-04F790B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8EA-0569-4098-972F-EB1AE26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076-6E7A-4606-BEE4-9EAEEF0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0497-617B-4266-91B2-D1238D2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65E4-99F8-4326-B16C-84B8859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C7FC-1AD6-4A68-BC71-C5AFF202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B36-8BAE-4512-97D3-A06496E4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DFD-14ED-4CC6-8FDA-6344682A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1D7-E90B-4D48-AEC2-E042AB5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F3F-77E3-4BF6-B4D7-7AF1228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3EB-60D5-45AA-B06B-F428D881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490-BDA7-4237-B7B2-16128BC7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39F-BBEF-45D3-A04D-B031580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E51-1671-45C2-9DE2-3930B79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957-CCC1-4E04-9551-CA38C098B3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5AF-6407-46D4-B66E-B75CA2DF63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 rot="20996400">
            <a:off x="385560" y="955440"/>
            <a:ext cx="820872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 СЕНТЯБРЯ -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ЕНЬ  ЗНАНИЙ!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5" descr="Новый рисунок (60)"/>
          <p:cNvPicPr/>
          <p:nvPr/>
        </p:nvPicPr>
        <p:blipFill>
          <a:blip r:embed="rId1"/>
          <a:stretch/>
        </p:blipFill>
        <p:spPr>
          <a:xfrm rot="20503200">
            <a:off x="684000" y="475920"/>
            <a:ext cx="3120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47640" y="2133360"/>
            <a:ext cx="521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Подземный перехо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Спустись в подвал за вареньем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Спуск к ре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File0819"/>
          <p:cNvPicPr/>
          <p:nvPr/>
        </p:nvPicPr>
        <p:blipFill>
          <a:blip r:embed="rId1"/>
          <a:stretch/>
        </p:blipFill>
        <p:spPr>
          <a:xfrm>
            <a:off x="468360" y="2421000"/>
            <a:ext cx="2808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2060640"/>
            <a:ext cx="511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 Здесь продают велосип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Велосипедная  стоя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Велосипедная дорож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240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6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2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6" name="Picture 17" descr="skazka_35"/>
          <p:cNvPicPr/>
          <p:nvPr/>
        </p:nvPicPr>
        <p:blipFill>
          <a:blip r:embed="rId1"/>
          <a:stretch/>
        </p:blipFill>
        <p:spPr>
          <a:xfrm>
            <a:off x="2195640" y="1773360"/>
            <a:ext cx="2498760" cy="4103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8"/>
          <p:cNvSpPr txBox="1"/>
          <p:nvPr/>
        </p:nvSpPr>
        <p:spPr>
          <a:xfrm>
            <a:off x="324000" y="5661000"/>
            <a:ext cx="820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Школу дорожных  наук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5292720" y="1484280"/>
            <a:ext cx="3456000" cy="3311640"/>
          </a:xfrm>
          <a:prstGeom prst="cloudCallout">
            <a:avLst>
              <a:gd name="adj1" fmla="val -102731"/>
              <a:gd name="adj2" fmla="val -20421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Что  поможет  мне  на  пути  в  тридевятое  царство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5640" y="2133720"/>
            <a:ext cx="421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лосатая  лошадк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Её  зеброю  зов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о  она  не 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оопарке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  ней  люди  в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ду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219640" y="530064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рехо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Picture 6" descr="File0820"/>
          <p:cNvPicPr/>
          <p:nvPr/>
        </p:nvPicPr>
        <p:blipFill>
          <a:blip r:embed="rId1"/>
          <a:stretch/>
        </p:blipFill>
        <p:spPr>
          <a:xfrm>
            <a:off x="539640" y="2133720"/>
            <a:ext cx="3768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5084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смотри,  силач  како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а  ходу  одной  рук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Останавливать  привы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ятитонный  грузови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182760" cy="4103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250920" y="5373720"/>
            <a:ext cx="590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гулировщик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640" y="1916280"/>
            <a:ext cx="4716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Дом  по  улице  ид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  работу  нас  вез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е  на  курьих  ножках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  резиновых  сапож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6481800" cy="2048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 rot="20402400">
            <a:off x="178920" y="2420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бус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5472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Вот  так  чудо-чудеса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до  мной  два  коле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Я  ногами  их  верч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качу,  качу,  кач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324000" y="4581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лосипе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184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16360" y="2349000"/>
            <a:ext cx="5651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Если  вдруг  зеленый  св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Вспыхнет  вперед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кажет  он: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- Препятствий  не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мело  в  п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56360" y="4581360"/>
            <a:ext cx="25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ди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5" descr="j0295169"/>
          <p:cNvPicPr/>
          <p:nvPr/>
        </p:nvPicPr>
        <p:blipFill>
          <a:blip r:embed="rId1"/>
          <a:stretch/>
        </p:blipFill>
        <p:spPr>
          <a:xfrm>
            <a:off x="179280" y="2565360"/>
            <a:ext cx="25923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5157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е  летает,  не  жужжи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Жук  по  улице  бежи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горят  в  глазах  жу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Два  блестящих  огонь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WordArt 4"/>
          <p:cNvSpPr txBox="1"/>
          <p:nvPr/>
        </p:nvSpPr>
        <p:spPr>
          <a:xfrm rot="917400">
            <a:off x="5570280" y="2053800"/>
            <a:ext cx="331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егковой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мобиль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2268360" y="4149720"/>
            <a:ext cx="4175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763640" y="2712960"/>
            <a:ext cx="1656000" cy="161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1944720" cy="1611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692360" y="4508640"/>
            <a:ext cx="180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В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63528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ЖЕН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558000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Я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971640" y="260280"/>
            <a:ext cx="727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опас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513160" cy="3240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684360" y="306864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езде  и  всюду  правила,               Их  надо  знать  всегда:             Без  них  не  выйдут  в  плаванье      Из  гавани  суда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ыходят  в  рейс  по  правилам  Полярник  и  пилот.                  Свои  имеют  правила                Шофер  и  пешеход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3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4" descr="CSM001914"/>
          <p:cNvPicPr/>
          <p:nvPr/>
        </p:nvPicPr>
        <p:blipFill>
          <a:blip r:embed="rId1"/>
          <a:stretch/>
        </p:blipFill>
        <p:spPr>
          <a:xfrm>
            <a:off x="1547640" y="1773360"/>
            <a:ext cx="5543640" cy="3743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95280" y="551664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  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1871640" cy="18176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>
            <a:off x="2340000" y="1557360"/>
            <a:ext cx="4032360" cy="3166920"/>
          </a:xfrm>
          <a:prstGeom prst="cloudCallout">
            <a:avLst>
              <a:gd name="adj1" fmla="val 46416"/>
              <a:gd name="adj2" fmla="val 35013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орогу  от  дома  до  школы  вы  найдете  с  закрытыми  глазами!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189000"/>
            <a:ext cx="8001000" cy="15112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2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488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529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4000" y="0"/>
            <a:ext cx="8424720" cy="65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Безопасной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ам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ороги,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ребята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611280" y="0"/>
            <a:ext cx="2403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1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Picture 5" descr="Новый рисунок (63)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3969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395280" y="558972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Парк дорожных  знаков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932360" y="1197000"/>
            <a:ext cx="2592360" cy="1942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колько  мне  лет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19640" y="2204640"/>
            <a:ext cx="525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Осторожно,  дети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обро пожаловать в школ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Детям  проход  запрещен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7" descr="File0820 - копия"/>
          <p:cNvPicPr/>
          <p:nvPr/>
        </p:nvPicPr>
        <p:blipFill>
          <a:blip r:embed="rId1"/>
          <a:stretch/>
        </p:blipFill>
        <p:spPr>
          <a:xfrm>
            <a:off x="179280" y="2421000"/>
            <a:ext cx="3168720" cy="2957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59280" y="1773360"/>
            <a:ext cx="5302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  Не  копайся, проезжай дальш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 Копать  запрещено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 Дорожные  работы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52072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64000" y="2349000"/>
            <a:ext cx="525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 Железнодорожный переезд со  шлагбаум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 За  забором злая  собак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24000" cy="2654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5640" y="2276280"/>
            <a:ext cx="460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Восклицательное предлож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Прочие 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Кричи  громч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956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58920" y="2276280"/>
            <a:ext cx="5508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Здесь велосипеды не продаютс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зда только на велосипеда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Велосипедное движение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File0828"/>
          <p:cNvPicPr/>
          <p:nvPr/>
        </p:nvPicPr>
        <p:blipFill>
          <a:blip r:embed="rId1"/>
          <a:stretch/>
        </p:blipFill>
        <p:spPr>
          <a:xfrm>
            <a:off x="324000" y="2565360"/>
            <a:ext cx="2735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9280" y="1989000"/>
            <a:ext cx="536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Танцы запрещен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вижение пешеходов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Не спи,  замерзнеш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663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6:54Z</dcterms:created>
  <dc:creator>Людмила</dc:creator>
  <dc:description/>
  <dc:language>en-US</dc:language>
  <cp:lastModifiedBy>R</cp:lastModifiedBy>
  <dcterms:modified xsi:type="dcterms:W3CDTF">2014-05-21T11:09:05Z</dcterms:modified>
  <cp:revision>8</cp:revision>
  <dc:subject/>
  <dc:title>Слайд 1</dc:title>
</cp:coreProperties>
</file>