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5D2-0A9E-4E1B-8590-52CB22AA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13B-1E28-4995-AD71-4046C4B6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12D-B0D9-4C2B-8D05-1A569DD5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4F9-41FF-456A-AC34-EB4D3B27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DE9-1EEE-44DC-9435-7E882B0C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F5BE-12D5-4204-B7BC-E4F6EFB6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C932-2F31-465E-AA01-7F40EA22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F7E8-D0C9-4AED-83B5-1DC5B45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3761-760D-429E-BB00-8327BCD3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C32-E64A-411E-9FFD-F85159CE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FE96-3C79-48FF-8D2C-67764D9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FC2-70A4-4BDE-A9F2-A03A622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79B-AC6E-42A6-AE06-A265EDE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80C-6D20-4E0E-8129-FB8E753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0CD-1D75-4B2B-8406-724B08D9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E01-1065-4E7B-8E54-F430CBFC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C1F-4F7E-47DA-86EE-99B0EB9C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002-A885-4E84-A4CB-81830AC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CB7-316C-4888-A580-78CB3009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626-0F03-4E85-8ED4-0B1BE3D4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DC4-2612-4884-AFF0-E6E9648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A29-714B-4FB4-BA26-0BA0D628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D70-1DF1-49C0-B0C4-E428EA2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300-831D-45F6-8EF1-1EED2A4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997-E717-41FB-8FB3-AB22C520D275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4139-0298-4D98-B690-E5FF2E68D8F0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ddddd"/>
                </a:solidFill>
                <a:latin typeface="Times New Roman"/>
              </a:rPr>
              <a:t>Безопасное лето</a:t>
            </a:r>
            <a:br>
              <a:rPr sz="4000"/>
            </a:b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авила дорожного движения существуют не только для водителей транспортных средств, но и для пешеходов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д тем как выйти на проезжую часть, остановись и скажи себе: «Будь осторожен!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выбегай на дорогу перед приближающимся автомобилем: водитель не может остановить машину сраз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Перед тем как выйти на проезжую часть, убедись, что слева, справа и сзади, если это перекресток, нет приближающегося транспорта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4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ыйдя из автобуса, троллейбуса и трамвая, не обходи его спереди или сзади – подожди, пока он отъедет. Найди пешеходный переход, а если поблизости его нет, осмотрись по сторонам и при отсутствии машин переходи дорогу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выезжай на улицы и дороги на роликовых коньках, велосипеде, самокате, санках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е играй в мяч и другие игры рядом с проезжей частью. Для игр есть двор, детская площадка или стадион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ходи дорогу только поперек, а не наискосок, иначе ты будешь дольше находиться на ней и можешь попасть под машину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Никогда не спеши, знай, что бежать по дороге нельзя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Когда выходишь с другими детьми на проезжую часть, не болтай, сосредоточься и скажи себе и ребятам: «Будьте осторожны»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ddddd"/>
                </a:solidFill>
                <a:latin typeface="Times New Roman"/>
              </a:rPr>
              <a:t>Правила дорожного движения  для велосипедистов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6046920" cy="54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Технические требования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 должен иметь исправные тормоз, руль и звуковой сигнал, быть оборудован спереди световозвращателем и фонарем или фарой (для движения в темное время суток и в условиях недостаточной видимости) белого цвета, сзади – световозвращателем или фонарем красного цвета, а с каждой боковой стороны — световозвращателем оранжевого или красного цвет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ru-RU" sz="2000" spc="-1" strike="noStrike" u="sng">
                <a:solidFill>
                  <a:srgbClr val="336699"/>
                </a:solidFill>
                <a:uFillTx/>
                <a:latin typeface="Arial"/>
              </a:rPr>
              <a:t>Движение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елосипеды должны двигаться по велосипедной дорожке, а при ее отсутствии – по крайней правой полосе проезжей части в один ряд возможно правее. Допускается движение по обочине, если это не создает помех пешеходам. Движение велосипедов (как и любых других транспортных средств) по тротуарам запрещено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000920" y="1197000"/>
            <a:ext cx="18921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99"/>
                </a:solidFill>
                <a:latin typeface="Arial"/>
              </a:rPr>
              <a:t>Водителям велосипеда запрещается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здить, не держась за руль хотя бы одной рукой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еревозить груз, который выступает более чем на 0,5 м по длине или ширине за габариты, или груз, мешающий управлению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при наличии рядом велосипедной дорожки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ворачивать налево или разворачиваться на дорогах с трамвайным движением и на дорогах, имеющих более одной полосы для движения в данном направлении (в этом случае нужно слезть с велосипеда и перейти дорогу по пешеходному переходу)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автомагистралям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99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двигаться по дороге в темное время суток без включенного переднего белого фонаря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508720" y="450864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при грозе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6265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Для уменьшения вероятности поражения молнией тело человека должно иметь как можно меньший контакт с землей. Наиболее безопасной позой считается следующая: присесть, ступни поставить вместе, опустить голову и грудь на колени и предплечья, руками обхватить колен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Можно сесть или встать на изоляционный материал: бревно, доску, камень, палатку, спальный мешок, рюкзак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располагайтесь во время грозы рядом с железнодорожным полотном, у водоема, у высотного объекта без молниеотвод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касайтесь головой, спиной или другими частями тела поверхности скал, стволов деревьев, металлических конструкций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В зоне относительной безопасности займите сухое место на расстоянии 1,5–2 метра от высоких объектов: дерево, скала, опора ЛЭП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ходитесь рядом с включенными электроприборами, проводкой, металлическими предметами, не касайтесь их ру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тключите мобильный телефон, снимите с себя металлические предметы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бойдите участок земли, куда попала молния, или переждите несколько минут, когда электричество рассеется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588000" y="1125360"/>
            <a:ext cx="2376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Электробезопасность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5543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оставляйте без присмотра включенные электроприбор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игр с включен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льзуйтесь мокрыми и неисправными электроприборам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берите в руки электроприборы, стоя босыми ногами на пол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используйте поломанную вилку и розет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тыкайте в розетку посторонние предметы: гвозди, ножницы, спицы, провод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нимайтесь ремонтом электрооборудования и приборов. Об их поломке сообщите родителям. Эту работу должен выполнять специалист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вытаскивайте вилку из штепсельной розетки, дергая за питающий электропровод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е к торчащим, лежащим на земле, висящим электропровода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еремещайте электроприборы и не производите их влажную уборку, не отключив от электросет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В случае возгорания электроприбора его следует обесточить и накрыть плотной тканью для прекращения доступа кислорода в зону горения. Нельзя тушить водой горящие электроприборы, которые находятся под напряжением. Если пожар не удалось потушить, то необходимо немедленно вызвать пожарных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удите об отсутствии электрического тока по тому, что не включаются бытовые электроприборы или не горит лампочк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допускайте халатности и небрежности при обращении с электричество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084720" y="1143000"/>
            <a:ext cx="2808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dddd"/>
                </a:solidFill>
                <a:latin typeface="Times New Roman"/>
              </a:rPr>
              <a:t>Безопасность при встрече с собакой</a:t>
            </a:r>
            <a:br>
              <a:rPr sz="3600"/>
            </a:br>
            <a:endParaRPr b="0" i="1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576108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Чтобы избежать нападения и укусов собаки, необходимо соблюдать следующие правила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у которой нет намордника, лучше обойти ее стороной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евожить собаку во время приема пищи и сна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касаться к чужой собаке, не пытаться брать ее на руки, не кормить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одходить к собаке сзади, не прикасаться к ней неожиданно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иближаться к собаке, которая находится на привязи (цепи)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Держаться при неожиданном появлении собаки уверенно, без страха. Если вы боитесь собаки, то она набросится на вас. Если вы не боитесь ее, то она будет только рычать и скалить зубы. Нужно быть спокойным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проявлять активных и агрессивных действий по отношению к хозяину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икогда не убегать от собаки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замахиваться на собаку рукой, палкой, другим предметом, не дразнить собаку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трогать щенков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Уступать дорогу собаке и ее хозяину в узком коридоре, проходе, лифте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Не смотреть пристально в глаза собаке, не улыбаться, не показывать зубы.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303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Times New Roman"/>
              </a:rPr>
              <a:t>Безопасность на переменах</a:t>
            </a:r>
            <a:br>
              <a:rPr sz="4000"/>
            </a:b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58327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нарушать дисциплину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Быть внимательным и осторожным при передвижении по лестницам, кафельному, асфальтовому и ледовому покрытию. Даже незначительное падение на таком твердом покрытии может привести к серьезной травме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бросать друг в друга камни, палки и другие предметы. Такие действия могут привести к потере зрения, травмам лица, головы и внутренних органов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лазать по деревьям, заборам, крышам зданий. При нахождении на высоте достаточно одного неловкого движения, чтобы произошло падение, которое может привести к ушибам, ссадинам, переломам, черепно-мозговой травме, гибели упавшего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именять самодельных и покупных пиротехнических изделий и каких-либо взрывных устройств. По статистике, именно эти «шалости» являются главной причиной потери зрения школьниками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одходить близко к котлованам, траншеям, открытым люкам, ямам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дразнить животных, оказавшихся на территории школьного двора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– 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провоцировать конфликты с окружающими, не участво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 – </a:t>
            </a: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Избегать опасностей, прогнозировать их развитие и выживать в них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Помни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9933"/>
                </a:solidFill>
                <a:latin typeface="Arial"/>
              </a:rPr>
              <a:t>Твоя безопасность – в твоих руках.</a:t>
            </a:r>
            <a:endParaRPr b="0" lang="en-US" sz="6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168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Если ты заблудился в лесу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608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тправляясь в лес за грибами, на прогулку или в поход, люди часто не задумываются о своей безопасности. Ежегодно спасательные службы регистрируют сотни случаев, когда люди теряются в лесу. </a:t>
            </a:r>
            <a:br>
              <a:rPr sz="1800"/>
            </a:b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Благоприятный исход подобных происшествий зависит от многих факторов: физического и психологического состояния, запасов пищи и воды, умения ориентироваться на местности, эффективности снаряжения и т.д. Известно немало случаев, когда люди, отправившись в лес и не имея достаточного опыта и знаний местных условий, легко сбивались с дороги и, потеряв ориентировку, оказывались в бедственном положении.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8163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Как же должен вести себя человек, заблудившийся в лесу?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рекратить движение и попытаться восстановить ориентировку с помощью компаса или пользуясь различными природными признаками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ганизовать временную стоянку на сухом месте, чтобы успокоиться и продумать дальнейшие действи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«прогулка» затянулась, следует поискать пищу вокруг себя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попытаться обозначить свое местонахождение поисковым группам (солнечный зайчик, сигнальный флаг, электрический фонарик, костер)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вы решили не дожидаться помощи спасателей и отправились в путь, оставляйте метки по ходу своего движения. Помните, часто поставленные метки облегчают поиск спасателям;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ориентируйтесь по звукам: гудкам, стуку колес поезда, сигналу автомобиля, лаю собак;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если идти вниз по течению реки, ручья, можно выйти к морю, а там – и к жилью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омните, что отчаяние – плохой помощник.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Никогда не опускайте рук. Ваша задача – как можно дольше продержаться до прихода помощи. Не сомневайтесь – вас обязательно найдут!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71640" y="2924280"/>
            <a:ext cx="484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Times New Roman"/>
              </a:rPr>
              <a:t>Пожар в лесу</a:t>
            </a: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6814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Когда вокруг все горит – это страшно. Тем более страшно, когда пожар происходит в лесу, на торфяниках, в степи или тундре, охватывая огромные площади.</a:t>
            </a:r>
            <a:br>
              <a:rPr sz="2000"/>
            </a:b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Непотушенный костер, горящая спичка, брошенная на сухую подстилку из листьев или в торф, могут стать причиной пожара. Причем очаг возникновения пожара может оказаться за десятки и сотни километров от жилья, а его масштабы становятся ясными тогда, когда горят уже огромные площади тайги или тундры. Дым от таких пожаров (особенно в условиях открытой местности) переносится ветром на десятки километров.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0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ddddd"/>
                </a:solidFill>
                <a:latin typeface="Times New Roman"/>
              </a:rPr>
              <a:t>С целью недопущения пожаров в природной среде запрещается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Бросать в лесу горящие спички, окурки, тлеющие тряп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густых зарослях и хвойном молодняке, под низко свисающими кронами деревьев, рядом со складами древесины, торфа, в непосредственной близости от созревших сельхозкультур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в лесу самовозгораемый материал: тряпку и ветошь, пропитанные маслом, бензином, стеклянную посуду, которая в солнечную погоду может сфокусировать солнечный луч и воспламенить сухую растительность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ыжигать сухую траву на лесных полянах, в садах, на полях, под деревьям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Поджигать камыш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Разводить костер в ветреную погоду и оставлять его без присмотра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Оставлять костер горящим после покидания стоянки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535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При обнаружении природного пожара постарайтесь ликвидировать очаг возгорания собственными силами; если это не удалось сделать, быстро покиньте опасную зону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бязательно сообщите о месте пожара в лесную охрану, администрацию, полицию, спасателям.</a:t>
            </a:r>
            <a:br>
              <a:rPr sz="2400"/>
            </a:b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ыходить нужно на дорогу, широкую просеку, опушку леса, к водоему. Двигаться следует перпендикулярно к направлению распространения огня. Если обстоятельства мешают вам уйти от огня, войдите в водоем или укройтесь на открытой поляне, накрывшись мокрой одеждой. Дышать нужно воздухом возле земли (он менее задымлен), прикрывая рот и нос марлевой повязкой или мокрой тряпко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ddddd"/>
                </a:solidFill>
                <a:latin typeface="Times New Roman"/>
              </a:rPr>
              <a:t>Безопасность на воде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88764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ак известно, купание не только доставляют удовольствие, но и служит хорошим средством закаливания организма. Но необходимо помнить, что небрежность, лихачество, излишняя шалость на воде нередко приводят к беде. Из-за несоблюдения техники безопасности в водоемах ежегодно гибнут тысячи людей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-24300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Times New Roman"/>
              </a:rPr>
              <a:t>Правила безопасного поведения на воде:</a:t>
            </a:r>
            <a:r>
              <a:rPr b="0" i="1" lang="ru-RU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купаться и загорать лучше на оборудованном пляже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не умеете плавать, не следует заходить в воду выше пояса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аходится в воде не более 15–20 минут, при переохлаждении могут возникнуть судороги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входить в воду или нырять после длительного пребывания на солнце, сразу после приема пищи, в состоянии утомления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нырять с мостов, пристаней даже в тех местах, где ныряли прошлым летом, так как за год мог понизиться уровень воды или было что-то брошено в вод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прыгать с берега в незнакомых местах категорически запрещает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за буйки, так как они ограничивают акваторию с проверенным дном – там нет водоворотов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оказались в водовороте, не теряйтесь, наберите больше воздуха в легкие и погрузитесь на глубину, сделав сильный рывок в сторону, всплывите на поверхность воды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льзя заплывать далеко, так как можно не рассчитать своих сил, чтобы вернуться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ы почувствовали усталость, не стремитесь как можно быстрее доплыть до берега, «отдохните» на воде, лежа на спине или спокойно расправив руки и ноги, закрыть глаза, лечь головой на воду и расслабиться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подныривать друг под друга, хватать за ноги, пугать, сталкивать в воду и заводить на глубину не умеющих плавать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если вас захватило сильное течение, не стоит пытаться бороться с ним, надо плыть вниз по течению под углом, приближаясь к берег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опасно купаться в воде ниже +17–19 градусов;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в шторм и в грозу;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"/>
              </a:rPr>
              <a:t>не следует купаться ночью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0:18:49Z</dcterms:created>
  <dc:creator>Mr. Smith</dc:creator>
  <dc:description/>
  <cp:keywords/>
  <dc:language>en-US</dc:language>
  <cp:lastModifiedBy>SVETA-PC</cp:lastModifiedBy>
  <dcterms:modified xsi:type="dcterms:W3CDTF">2010-11-15T18:56:2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71049</vt:lpwstr>
  </property>
</Properties>
</file>