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AE7-2EC7-4DF2-B014-E8A4B4C3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955-8FC4-4E84-AEA0-E33F7FD2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06C-537B-4042-8D4D-5EDA6E6A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76F3-FC4A-4BDF-BD8A-2B996832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3F59-CFC8-4F9C-9E72-620994EE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E9E0-3AC1-4DFF-A3BA-E0B0728D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61EC-2D7D-4523-818D-01FDAFB8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1A72-6129-40A1-B7A0-27A4B500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4F7F-68D8-48E2-83F9-9044757E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2FDD-411A-4CF8-88F8-3BCB3EE0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7197-8369-4A4A-BAA5-2C9B2155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E77-515E-46B8-B8E8-84AD3A61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B891-7E7D-4A31-9551-4AE06C4C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A6A2-D98D-4BBB-A513-53EBD5CC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0F67-425E-4868-97BA-2E2A22C1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3953-7FF9-447A-A867-DAD725E5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C390-F93F-4777-B5A4-CB1C2157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FFD-DF21-42BC-871C-95177DCF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42C4-160F-4AA6-B1A6-63087BEB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609-D86B-482B-AD9D-CF8F34E2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455-2671-4544-B12D-3A5F409E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466-2450-49FF-8DBB-B951131B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26E-3573-4381-9D04-9FACBC92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BAB-6A6E-4639-A736-C0C1A32D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CB76-D991-4B46-B558-E7B514ADA196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8CB6-86B2-4ADE-B7DD-11FC3A2C63D3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ddddd"/>
                </a:solidFill>
                <a:latin typeface="Times New Roman"/>
              </a:rPr>
              <a:t>Безопасное лето</a:t>
            </a:r>
            <a:br>
              <a:rPr sz="4000"/>
            </a:b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04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ddddd"/>
                </a:solidFill>
                <a:latin typeface="Times New Roman"/>
              </a:rPr>
              <a:t>Правила дорожного движения</a:t>
            </a:r>
            <a:r>
              <a:rPr b="0" i="1" lang="ru-RU" sz="4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равила дорожного движения существуют не только для водителей транспортных средств, но и для пешеходов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еред тем как выйти на проезжую часть, остановись и скажи себе: «Будь осторожен!»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Никогда не выбегай на дорогу перед приближающимся автомобилем: водитель не может остановить машину сразу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Перед тем как выйти на проезжую часть, убедись, что слева, справа и сзади, если это перекресток, нет приближающегося транспорта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4.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Выйдя из автобуса, троллейбуса и трамвая, не обходи его спереди или сзади – подожди, пока он отъедет. Найди пешеходный переход, а если поблизости его нет, осмотрись по сторонам и при отсутствии машин переходи дорогу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Не выезжай на улицы и дороги на роликовых коньках, велосипеде, самокате, санках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Не играй в мяч и другие игры рядом с проезжей частью. Для игр есть двор, детская площадка или стадион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7.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ереходи дорогу только поперек, а не наискосок, иначе ты будешь дольше находиться на ней и можешь попасть под машину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8.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Никогда не спеши, знай, что бежать по дороге нельзя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Когда выходишь с другими детьми на проезжую часть, не болтай, сосредоточься и скажи себе и ребятам: «Будьте осторожны»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ddddd"/>
                </a:solidFill>
                <a:latin typeface="Times New Roman"/>
              </a:rPr>
              <a:t>Правила дорожного движения  для велосипедистов</a:t>
            </a:r>
            <a:r>
              <a:rPr b="0" i="1" lang="ru-RU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6046920" cy="54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i="1" lang="ru-RU" sz="2000" spc="-1" strike="noStrike" u="sng">
                <a:solidFill>
                  <a:srgbClr val="336699"/>
                </a:solidFill>
                <a:uFillTx/>
                <a:latin typeface="Arial"/>
              </a:rPr>
              <a:t>Технические требования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Велосипед должен иметь исправные тормоз, руль и звуковой сигнал, быть оборудован спереди световозвращателем и фонарем или фарой (для движения в темное время суток и в условиях недостаточной видимости) белого цвета, сзади – световозвращателем или фонарем красного цвета, а с каждой боковой стороны — световозвращателем оранжевого или красного цвета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i="1" lang="ru-RU" sz="2000" spc="-1" strike="noStrike" u="sng">
                <a:solidFill>
                  <a:srgbClr val="336699"/>
                </a:solidFill>
                <a:uFillTx/>
                <a:latin typeface="Arial"/>
              </a:rPr>
              <a:t>Движение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Велосипеды должны двигаться по велосипедной дорожке, а при ее отсутствии – по крайней правой полосе проезжей части в один ряд возможно правее. Допускается движение по обочине, если это не создает помех пешеходам. Движение велосипедов (как и любых других транспортных средств) по тротуарам запрещено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000920" y="1197000"/>
            <a:ext cx="18921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11280" y="-36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Водителям велосипеда запрещается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ездить, не держась за руль хотя бы одной рукой;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еревозить груз, который выступает более чем на 0,5 м по длине или ширине за габариты, или груз, мешающий управлению;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двигаться по дороге при наличии рядом велосипедной дорожки;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оворачивать налево или разворачиваться на дорогах с трамвайным движением и на дорогах, имеющих более одной полосы для движения в данном направлении (в этом случае нужно слезть с велосипеда и перейти дорогу по пешеходному переходу);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двигаться по автомагистралям;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двигаться по дороге в темное время суток без включенного переднего белого фонаря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5508720" y="4508640"/>
            <a:ext cx="3095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ddddd"/>
                </a:solidFill>
                <a:latin typeface="Times New Roman"/>
              </a:rPr>
              <a:t>Безопасность при грозе</a:t>
            </a:r>
            <a:br>
              <a:rPr sz="4000"/>
            </a:b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62658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Для уменьшения вероятности поражения молнией тело человека должно иметь как можно меньший контакт с землей. Наиболее безопасной позой считается следующая: присесть, ступни поставить вместе, опустить голову и грудь на колени и предплечья, руками обхватить колени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Можно сесть или встать на изоляционный материал: бревно, доску, камень, палатку, спальный мешок, рюкзак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располагайтесь во время грозы рядом с железнодорожным полотном, у водоема, у высотного объекта без молниеотвода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 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касайтесь головой, спиной или другими частями тела поверхности скал, стволов деревьев, металлических конструкций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В зоне относительной безопасности займите сухое место на расстоянии 1,5–2 метра от высоких объектов: дерево, скала, опора ЛЭП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находитесь рядом с включенными электроприборами, проводкой, металлическими предметами, не касайтесь их руками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Отключите мобильный телефон, снимите с себя металлические предметы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Обойдите участок земли, куда попала молния, или переждите несколько минут, когда электричество рассеется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588000" y="1125360"/>
            <a:ext cx="237672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ddd"/>
                </a:solidFill>
                <a:latin typeface="Times New Roman"/>
              </a:rPr>
              <a:t>Электробезопасность</a:t>
            </a:r>
            <a:br>
              <a:rPr sz="4000"/>
            </a:b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554328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оставляйте без присмотра включенные электроприборы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допускайте игр с включенными электроприборами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ользуйтесь мокрыми и неисправными электроприборами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берите в руки электроприборы, стоя босыми ногами на полу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используйте поломанную вилку и розетку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втыкайте в розетку посторонние предметы: гвозди, ножницы, спицы, провода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занимайтесь ремонтом электрооборудования и приборов. Об их поломке сообщите родителям. Эту работу должен выполнять специалист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вытаскивайте вилку из штепсельной розетки, дергая за питающий электропровод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одходите к торчащим, лежащим на земле, висящим электропроводам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еремещайте электроприборы и не производите их влажную уборку, не отключив от электросети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В случае возгорания электроприбора его следует обесточить и накрыть плотной тканью для прекращения доступа кислорода в зону горения. Нельзя тушить водой горящие электроприборы, которые находятся под напряжением. Если пожар не удалось потушить, то необходимо немедленно вызвать пожарных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судите об отсутствии электрического тока по тому, что не включаются бытовые электроприборы или не горит лампочка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допускайте халатности и небрежности при обращении с электричеством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084720" y="1143000"/>
            <a:ext cx="28083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1904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dddd"/>
                </a:solidFill>
                <a:latin typeface="Times New Roman"/>
              </a:rPr>
              <a:t>Безопасность при встрече с собакой</a:t>
            </a:r>
            <a:br>
              <a:rPr sz="3600"/>
            </a:b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576108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Чтобы избежать нападения и укусов собаки, необходимо соблюдать следующие правила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риближаться к собаке, у которой нет намордника, лучше обойти ее стороной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тревожить собаку во время приема пищи и сна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 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рикасаться к чужой собаке, не пытаться брать ее на руки, не кормить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одходить к собаке сзади, не прикасаться к ней неожиданно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риближаться к собаке, которая находится на привязи (цепи)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Держаться при неожиданном появлении собаки уверенно, без страха. Если вы боитесь собаки, то она набросится на вас. Если вы не боитесь ее, то она будет только рычать и скалить зубы. Нужно быть спокойным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роявлять активных и агрессивных действий по отношению к хозяину собаки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икогда не убегать от собаки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замахиваться на собаку рукой, палкой, другим предметом, не дразнить собаку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трогать щенков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Уступать дорогу собаке и ее хозяину в узком коридоре, проходе, лифте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смотреть пристально в глаза собаке, не улыбаться, не показывать зубы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516720" y="1557360"/>
            <a:ext cx="23032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41904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ddd"/>
                </a:solidFill>
                <a:latin typeface="Times New Roman"/>
              </a:rPr>
              <a:t>Безопасность на переменах</a:t>
            </a:r>
            <a:br>
              <a:rPr sz="4000"/>
            </a:b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583272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 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нарушать дисциплину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Быть внимательным и осторожным при передвижении по лестницам, кафельному, асфальтовому и ледовому покрытию. Даже незначительное падение на таком твердом покрытии может привести к серьезной травме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бросать друг в друга камни, палки и другие предметы. Такие действия могут привести к потере зрения, травмам лица, головы и внутренних органов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лазать по деревьям, заборам, крышам зданий. При нахождении на высоте достаточно одного неловкого движения, чтобы произошло падение, которое может привести к ушибам, ссадинам, переломам, черепно-мозговой травме, гибели упавшего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применять самодельных и покупных пиротехнических изделий и каких-либо взрывных устройств. По статистике, именно эти «шалости» являются главной причиной потери зрения школьниками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подходить близко к котлованам, траншеям, открытым люкам, ямам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дразнить животных, оказавшихся на территории школьного двора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провоцировать конфликты с окружающими, не участвовать в них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 – 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Избегать опасностей, прогнозировать их развитие и выживать в них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6372360" y="1628640"/>
            <a:ext cx="2520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ddddd"/>
                </a:solidFill>
                <a:latin typeface="Times New Roman"/>
              </a:rPr>
              <a:t>Помни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9933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999933"/>
                </a:solidFill>
                <a:latin typeface="Arial"/>
              </a:rPr>
              <a:t>Твоя безопасность – в твоих руках.</a:t>
            </a:r>
            <a:endParaRPr b="0" lang="en-US" sz="6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843280" y="3860640"/>
            <a:ext cx="3168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ddddd"/>
                </a:solidFill>
                <a:latin typeface="Times New Roman"/>
              </a:rPr>
              <a:t>Если ты заблудился в лесу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608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Отправляясь в лес за грибами, на прогулку или в поход, люди часто не задумываются о своей безопасности. Ежегодно спасательные службы регистрируют сотни случаев, когда люди теряются в лесу. </a:t>
            </a:r>
            <a:br>
              <a:rPr sz="1800"/>
            </a:b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Благоприятный исход подобных происшествий зависит от многих факторов: физического и психологического состояния, запасов пищи и воды, умения ориентироваться на местности, эффективности снаряжения и т.д. Известно немало случаев, когда люди, отправившись в лес и не имея достаточного опыта и знаний местных условий, легко сбивались с дороги и, потеряв ориентировку, оказывались в бедственном положении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076720" y="1916280"/>
            <a:ext cx="381636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ddddd"/>
                </a:solidFill>
                <a:latin typeface="Times New Roman"/>
              </a:rPr>
              <a:t>Как же должен вести себя человек, заблудившийся в лесу?</a:t>
            </a:r>
            <a:r>
              <a:rPr b="0" i="1" lang="ru-RU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рекратить движение и попытаться восстановить ориентировку с помощью компаса или пользуясь различными природными признаками;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организовать временную стоянку на сухом месте, чтобы успокоиться и продумать дальнейшие действия;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если «прогулка» затянулась, следует поискать пищу вокруг себя;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опытаться обозначить свое местонахождение поисковым группам (солнечный зайчик, сигнальный флаг, электрический фонарик, костер);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если вы решили не дожидаться помощи спасателей и отправились в путь, оставляйте метки по ходу своего движения. Помните, часто поставленные метки облегчают поиск спасателям;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ориентируйтесь по звукам: гудкам, стуку колес поезда, сигналу автомобиля, лаю собак;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если идти вниз по течению реки, ручья, можно выйти к морю, а там – и к жилью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Помните, что отчаяние – плохой помощник.</a:t>
            </a: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 Никогда не опускайте рук. Ваша задача – как можно дольше продержаться до прихода помощи. Не сомневайтесь – вас обязательно найдут!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71640" y="2924280"/>
            <a:ext cx="48484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ddddd"/>
                </a:solidFill>
                <a:latin typeface="Times New Roman"/>
              </a:rPr>
              <a:t>Пожар в лесу</a:t>
            </a:r>
            <a:r>
              <a:rPr b="0" i="1" lang="ru-RU" sz="4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681440" cy="547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Когда вокруг все горит – это страшно. Тем более страшно, когда пожар происходит в лесу, на торфяниках, в степи или тундре, охватывая огромные площади.</a:t>
            </a:r>
            <a:br>
              <a:rPr sz="2000"/>
            </a:b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Непотушенный костер, горящая спичка, брошенная на сухую подстилку из листьев или в торф, могут стать причиной пожара. Причем очаг возникновения пожара может оказаться за десятки и сотни километров от жилья, а его масштабы становятся ясными тогда, когда горят уже огромные площади тайги или тундры. Дым от таких пожаров (особенно в условиях открытой местности) переносится ветром на десятки километров.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600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ddddd"/>
                </a:solidFill>
                <a:latin typeface="Times New Roman"/>
              </a:rPr>
              <a:t>С целью недопущения пожаров в природной среде запрещается:</a:t>
            </a:r>
            <a:r>
              <a:rPr b="0" i="1" lang="ru-RU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6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Бросать в лесу горящие спички, окурки, тлеющие тряпки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Разводить костер в густых зарослях и хвойном молодняке, под низко свисающими кронами деревьев, рядом со складами древесины, торфа, в непосредственной близости от созревших сельхозкультур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Оставлять в лесу самовозгораемый материал: тряпку и ветошь, пропитанные маслом, бензином, стеклянную посуду, которая в солнечную погоду может сфокусировать солнечный луч и воспламенить сухую растительность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Выжигать сухую траву на лесных полянах, в садах, на полях, под деревьями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Поджигать камыш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Разводить костер в ветреную погоду и оставлять его без присмотра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Оставлять костер горящим после покидания стоянки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772400" cy="53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При обнаружении природного пожара постарайтесь ликвидировать очаг возгорания собственными силами; если это не удалось сделать, быстро покиньте опасную зону.</a:t>
            </a:r>
            <a:br>
              <a:rPr sz="2400"/>
            </a:b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Обязательно сообщите о месте пожара в лесную охрану, администрацию, полицию, спасателям.</a:t>
            </a:r>
            <a:br>
              <a:rPr sz="2400"/>
            </a:b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Выходить нужно на дорогу, широкую просеку, опушку леса, к водоему. Двигаться следует перпендикулярно к направлению распространения огня. Если обстоятельства мешают вам уйти от огня, войдите в водоем или укройтесь на открытой поляне, накрывшись мокрой одеждой. Дышать нужно воздухом возле земли (он менее задымлен), прикрывая рот и нос марлевой повязкой или мокрой тряпкой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ddddd"/>
                </a:solidFill>
                <a:latin typeface="Times New Roman"/>
              </a:rPr>
              <a:t>Безопасность на воде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388764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Как известно, купание не только доставляют удовольствие, но и служит хорошим средством закаливания организма. Но необходимо помнить, что небрежность, лихачество, излишняя шалость на воде нередко приводят к беде. Из-за несоблюдения техники безопасности в водоемах ежегодно гибнут тысячи людей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716360" y="1916280"/>
            <a:ext cx="3888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4360" y="-24300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Times New Roman"/>
              </a:rPr>
              <a:t>Правила безопасного поведения на воде:</a:t>
            </a:r>
            <a:r>
              <a:rPr b="0" i="1" lang="ru-RU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купаться и загорать лучше на оборудованном пляже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если вы не умеете плавать, не следует заходить в воду выше пояса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аходится в воде не более 15–20 минут, при переохлаждении могут возникнуть судороги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льзя входить в воду или нырять после длительного пребывания на солнце, сразу после приема пищи, в состоянии утомления;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льзя нырять с мостов, пристаней даже в тех местах, где ныряли прошлым летом, так как за год мог понизиться уровень воды или было что-то брошено в воду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прыгать с берега в незнакомых местах категорически запрещается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льзя заплывать за буйки, так как они ограничивают акваторию с проверенным дном – там нет водоворотов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если вы оказались в водовороте, не теряйтесь, наберите больше воздуха в легкие и погрузитесь на глубину, сделав сильный рывок в сторону, всплывите на поверхность воды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льзя заплывать далеко, так как можно не рассчитать своих сил, чтобы вернуться к берегу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если вы почувствовали усталость, не стремитесь как можно быстрее доплыть до берега, «отдохните» на воде, лежа на спине или спокойно расправив руки и ноги, закрыть глаза, лечь головой на воду и расслабиться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опасно подныривать друг под друга, хватать за ноги, пугать, сталкивать в воду и заводить на глубину не умеющих плавать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если вас захватило сильное течение, не стоит пытаться бороться с ним, надо плыть вниз по течению под углом, приближаясь к берегу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опасно купаться в воде ниже +17–19 градусов;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следует купаться в шторм и в грозу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следует купаться ночью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0:18:49Z</dcterms:created>
  <dc:creator>Mr. Smith</dc:creator>
  <dc:description/>
  <cp:keywords/>
  <dc:language>en-US</dc:language>
  <cp:lastModifiedBy>SVETA-PC</cp:lastModifiedBy>
  <dcterms:modified xsi:type="dcterms:W3CDTF">2010-11-15T18:56:29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71049</vt:lpwstr>
  </property>
</Properties>
</file>