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A004-7B06-4AE7-875D-7142B4B2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FD03-605A-4F97-AB4C-EBCD47A5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D972-6B48-4B00-9096-F59A21AD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F453-C4CC-4BA6-B94E-0B40F9E4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1746-D059-4E3A-9646-719FE1CA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DC9E-2105-4255-9AEF-84E95E87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CD4E-2EA5-41C4-A155-41C3A37D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00C5-7074-4DD7-9F80-EDEE946E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BCE3-2876-41C0-971A-04A8E24B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33D2-C3DD-448A-8A0B-34E99A11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53C8-1765-4F57-8EA8-165566BA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51C-73DE-4DA8-9CCB-72FCA083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4F5F-F5F3-449A-BEE6-8BF1E5BD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351A-6EC8-48B5-A04F-71476F67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E509-E0FD-476F-9428-38671F9C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4984-1C07-4B52-ADC0-D8A36329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E048-F7EC-44F6-B6C4-F408F672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BA0B4-E75B-43B1-A468-52C33EBC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5F8E1-5048-4B62-B07E-5E2238D2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15192-BA3E-4C82-BDDC-3E5ECF12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25CB5-4592-49BB-9836-17A09C65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8ABAD-D9B7-4ABF-BB25-C713C55B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B5B1-E8A9-4644-AD6D-9F1FD997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E80BA-673C-4E54-9201-9895A768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B5E86-2988-4319-8F57-4A9EF808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032C9-26E1-4E14-AA03-D44E9DFB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BEB22-EB50-4238-8ED0-97A027E7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C1C89-3DF5-48FF-BF15-9EDC99C8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79676-382A-4EA3-9518-90D27185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95DED-36E2-4A46-AB4F-9D0F1C88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9C491-7877-408D-90F7-6B357C54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11433-CCFD-4D15-81DE-2FD3C8F8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26F77-99AC-404A-B7AA-0A71FB15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2481-ADA2-4D61-811C-5B13265A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8B9B2-D88E-48E5-8B1D-4551B09A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A1EDC-D36E-44B3-8002-32A06C01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4248B-6A5A-4CD7-A79B-5167BE44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3CA36-29FE-4586-B5BB-A36C1267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E51A8-1F8B-4D6D-803A-010EDFF9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2A201-F8DA-475F-B7E1-F659897C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03D22-4067-4A71-BD97-D3EFD699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8C7CE-6F67-4587-9EF2-D46DD1A9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AF29D-8141-441B-B9B0-BC4B62F2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CDC93-373D-4A2A-9864-879152BF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DEA-C06B-4C0C-B675-FD236F5F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BD070-03F7-499E-BE6D-DC7638B9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E5660-41BA-434A-AC72-8821B548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52B31-EA1E-4121-8227-65A45519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7ECC1-49E1-4DB3-8E50-EE14A085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EE3EE-0707-4D35-8BCD-5C76F53A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80C6A-04CB-4FF4-BD0D-0191D8F8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30AF2-D6F3-4F0E-8F16-343855E8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5AEEE-854F-4069-8E0B-662BC0DB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AD0D0-7092-4EBD-96D6-9B674FF8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92D68-2796-4D37-9D0C-A0458EB4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401-EBCE-4CD2-A5DD-527578A6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2BA3D-0449-4044-916F-260DB136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F191F-18C2-45FB-9CE8-76FA3AF6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78552-803B-449D-A2BD-C791FC97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3347B-BF27-4834-8787-8D06FEC5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D2EDD-F17F-40E5-A80F-9B9CA2DC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F07F1-36BD-44B1-AD01-6C8CC6DC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FC80B-03B5-496F-A1E4-96901E28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5A04D-6F58-4098-9CD1-97E8C8C3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F9F4E-A59E-4EE0-B277-6F648815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56AA3-BEE3-4549-A5CB-623FF8E9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A59-728F-46CA-B555-A0879138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D3488-41AF-499B-9708-0E572E24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09277-65B5-4320-BB0C-CBB16023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793D7-7214-4151-9AAA-B6F03C3F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A8603-87CA-4D22-B064-4F1731E2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E03AC-9179-4678-8562-41F7BF32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634F7-BE2C-4C87-801B-C827CD68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10872-463E-4E77-8288-2D492216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F478D-2B72-4238-9203-58638CD7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B404A-E58C-41E1-96C2-918C25B9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BED4B-54B6-4822-A215-F96C60EA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CD00-7537-4382-9F28-D050AA0D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13EDF-2218-41D8-88A5-3B05B9D8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E9465-820F-4FB7-8045-33160C51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770F3-DEC0-4CF1-911D-91BB74C1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5E65B-0007-4528-A84D-D6EE7835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9C458-A623-4E40-822A-25AF6EBD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C94D8-90FE-4246-A3CB-CF5047A9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70844-E3C7-4843-BC29-6DD8278E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0CFEB-26AB-448F-A205-FE3AFACD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8444F-BC10-49C9-927E-0874D607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B52E1-5CD6-40A7-9373-9EDECB5E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3087-6941-4ABF-A4C1-FF345189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0D4DB-0F7D-4ECD-981E-EB8722EE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31F80-F11D-448D-9EFB-695515EF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A1BB1-2A25-437C-AB95-F47897BF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63240-1E6B-4A0E-8DB1-BBC4EBB1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23032-4F8A-4F98-AEE5-6ED84BBA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4650B-FBE0-456C-B420-4C2DCBE1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B3364-C977-4180-B3CC-B745619F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985D-DA6C-4EFE-A304-2A22792370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8D55-A93F-41C5-9CB3-354AE21544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8C92-D21A-4921-8581-FF2F51253A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43D0-CC4F-48B1-8A7B-6273C4714BA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7385-6FF5-4EAF-84F7-6595076DC6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2AFC-EFC4-4E8D-AE58-5FB55EF16D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8C47-B36F-457C-BA65-326DDF7ACF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4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DA09-46CA-4A05-9FF1-F6C9FD1418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ttachments-blog.tut.by/4426/files/2009/01/0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.foto.radikal.ru/0705/8d/196aedbedb99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рок-путешествие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352680" y="5562360"/>
            <a:ext cx="5639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злова И.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ОУСОШ №8 г.Старая Русса Новгородской об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2209680" y="3352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токи рыб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нимательна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Какая рыба в Амазонке самая опасная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Какие рыбы имеют оружие на носу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Название каких рыб состоят из трёх букв ? К как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х относят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Давно уже замечено , что большинство видов акул находятся в движении с первого до последнего дня своей жизни и только некоторые неподвижно отдыхают на дне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Тело рыб обтекаемой формы . Голова их сразу переходит в туловище , а шеи нет вообще . Хвост у рыб  очень мускулистый и массивный 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На свежей или вяленной рыбе можно убедиться   , что её позвоночник легко гнётся вправо и влево , но при попытки согнуть его в вертикальной плоскости у вас ничего не получится. Как вы это объяснит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) Сельские жители вырыли котлован и заполнили его водой можно ли запустить туда рыб ? Ответ обоснуйте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Головоломк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«Живое ископаемое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09480" y="2133720"/>
          <a:ext cx="4191120" cy="310824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89"/>
          <p:cNvSpPr/>
          <p:nvPr/>
        </p:nvSpPr>
        <p:spPr>
          <a:xfrm>
            <a:off x="5715000" y="2590920"/>
            <a:ext cx="28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йдите начал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оловоломки 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 непрерывно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нии прочитайте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кую рыбу и почем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зывают живым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скопаемы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бобщить знания учащихся по теме «Рыбы», проверить их качество, развить познавательный, мыслительный интерес к биологии и коммуникабельность учен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5028840"/>
            <a:ext cx="381024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Arial"/>
              </a:rPr>
              <a:t>Л.Н. Толст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ЗНАНИЯ ТОЛЬКО ТОГДА ЗНАНИЯ , КОГДА ОНИ ПРИОБРЕТЕНЫ УСИЛИЯМИ СВОЕЙ МЫСЛИ , А НЕ ПАМЯТЬЮ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анция «Загадочная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гадайте загадки. К каким классам относятся рыбы, о которых  пойдет речь и назови признаки класс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рачун и забияка живет в воде, кости на спине, и щука не проглоти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человек, не зверь, а с ус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 нее во рту пила. Под водой она жила. Всех пугала, всех глотала. А теперь в котел попал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 зубастой трехметровой рыбкой знакомство было бы ошибко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95680" y="277560"/>
            <a:ext cx="4114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нимательн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5" name="Picture 4" descr="Картинка 21 из 1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09480"/>
            <a:ext cx="3200400" cy="3035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Картинка 2 из 700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1295280"/>
            <a:ext cx="5216400" cy="1820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Картинка 15 из 6364"/>
          <p:cNvPicPr/>
          <p:nvPr/>
        </p:nvPicPr>
        <p:blipFill>
          <a:blip r:embed="rId5"/>
          <a:stretch/>
        </p:blipFill>
        <p:spPr>
          <a:xfrm>
            <a:off x="152280" y="3809880"/>
            <a:ext cx="3962520" cy="2509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Картинка 3 из 3323"/>
          <p:cNvPicPr/>
          <p:nvPr/>
        </p:nvPicPr>
        <p:blipFill>
          <a:blip r:embed="rId6"/>
          <a:stretch/>
        </p:blipFill>
        <p:spPr>
          <a:xfrm>
            <a:off x="4419720" y="3505320"/>
            <a:ext cx="4114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f3f2d9"/>
                </a:solidFill>
                <a:latin typeface="Arial Black"/>
              </a:rPr>
              <a:t>Экологическая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da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Пруд постигла беда : произошёл сброс нефти . Поверхность пруда покрылась тонкой радужной плёнкой . Плёнка не оказала влияния мальков из икры , но затем способствовала их гибели . Почему нефтяная плёнка опасна для мальков 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2.В ручье , берега которого были покрыты лесом , обитала форель. Через некоторое время после того , как лес вырубили , форели в ручье не стало. Как можно объяснить этот факт ?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da"/>
                </a:solidFill>
                <a:latin typeface="Verdana"/>
              </a:rPr>
              <a:t>3. Водоём  в небольшой степени был загрязнён радиоактивными веществами . Проведённые лабораторные анализы показали , что хищные рыбы являются самыми загрязнёнными организмами в этом водоёме. Как можно объяснить этот факт ?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Прав ли был ученик , сказав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бы зимой спят с закрытыми глазами 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чему 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Определите , какие виды рыбы здесь зашифрованы и определите к какому отряду они относятся ? 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авлтпо                         г) аск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шаку                           д) сд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цтеун                          е) атшр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5" descr="Картинка 17 из 2143"/>
          <p:cNvPicPr/>
          <p:nvPr/>
        </p:nvPicPr>
        <p:blipFill>
          <a:blip r:embed="rId1"/>
          <a:stretch/>
        </p:blipFill>
        <p:spPr>
          <a:xfrm>
            <a:off x="2362320" y="3962520"/>
            <a:ext cx="1676160" cy="1103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Картинка 20 из 2394"/>
          <p:cNvPicPr/>
          <p:nvPr/>
        </p:nvPicPr>
        <p:blipFill>
          <a:blip r:embed="rId2"/>
          <a:stretch/>
        </p:blipFill>
        <p:spPr>
          <a:xfrm>
            <a:off x="6172200" y="365760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Картинка 34 из 558"/>
          <p:cNvPicPr/>
          <p:nvPr/>
        </p:nvPicPr>
        <p:blipFill>
          <a:blip r:embed="rId3"/>
          <a:stretch/>
        </p:blipFill>
        <p:spPr>
          <a:xfrm>
            <a:off x="2362320" y="5181480"/>
            <a:ext cx="1676160" cy="1236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4"/>
          <a:stretch/>
        </p:blipFill>
        <p:spPr>
          <a:xfrm>
            <a:off x="6172200" y="525780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Была зима - такая, что с ветв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мочком белым падал вороб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ованные в ледяные глыб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чных глубинах задыхались рыб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зимой может происходить замор ( удушье )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Очнувшись от зимней спячки , рыбы стремятся попасть в участок водоёма с быстрым течением воды . Почему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вестн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чаи вылова рыбаками крупных , нормально упитанных щук , которые были совершенно слепые. Почему отсутствие зрения не сказалось существенно на жизни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) В старинных документах имеются сведенья , что Пётр Первый запретил звонить в колокола во время нереста лещей. Это вызвало недовольство у духовенства .Какими соображениями руководствовался  Пётр Первый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9632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танция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итературная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386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Закончи пословиц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бы рыба , 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шь спать на берегу , не 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в реке - ещё не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мелка , д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ожу во все заливы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и </a:t>
            </a: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щ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ой-нибудь пожив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лю я край родных о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ршит камыш, горит кос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вижу как плыву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. Куда идут  они куда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уд и щу</a:t>
            </a:r>
            <a:r>
              <a:rPr b="0" lang="ru-RU" sz="2400" spc="-1" strike="noStrike">
                <a:solidFill>
                  <a:srgbClr val="000000"/>
                </a:solidFill>
                <a:latin typeface="Calisto MT"/>
              </a:rPr>
              <a:t>п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тваги пол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учок таранил носом 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5" descr="Картинка 15 из 3061"/>
          <p:cNvPicPr/>
          <p:nvPr/>
        </p:nvPicPr>
        <p:blipFill>
          <a:blip r:embed="rId1"/>
          <a:stretch/>
        </p:blipFill>
        <p:spPr>
          <a:xfrm>
            <a:off x="5105520" y="838080"/>
            <a:ext cx="3429000" cy="2035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2"/>
          <a:stretch/>
        </p:blipFill>
        <p:spPr>
          <a:xfrm>
            <a:off x="4572000" y="4724280"/>
            <a:ext cx="4114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08T17:38:1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