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E0C9-E7B1-4A7F-9B03-F26659A58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4889-05D4-4426-A07A-12DB6B8A5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6B7C-61DF-460C-B610-EEB927A38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791E-B7BC-4920-AE7A-8FCD44054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DF8F4-9DB6-465B-B16C-1D4D9C375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20B34-B689-4A89-837D-BB8888CBC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384C9-D07F-4857-A213-6765774F7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0CD55-0DA0-4E27-A680-9F0AA6326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063EA-57E5-43A8-9344-DC050AE26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9695D-DCB0-44E6-B23E-1ED1B2FE5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5C6C4-312D-4B32-8ACA-B6B3DB6D8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C24E-DE11-4745-BE17-EA0AC37E8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A2502-00E4-4E27-875F-06F6A212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CA6F2-0FAA-4740-ABA3-182E765A0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B5888-6D0B-4324-B252-7CA829326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CABDC-114B-4687-9C17-8131D3083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5BB36-556E-41E1-B1A1-B3F165C9C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B373C-DD04-4921-9452-EB8C56E53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17A36-FDBC-4EAD-ABE1-9A5147B50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217C4-A3A1-42EF-8222-51850F734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D957C-146A-4E67-8FD0-BDFFD6F93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3A7FC-4738-4F25-8ACD-46F53C2EB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97A3-0303-4DD2-98E1-42163B559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8498F-DB24-4E59-A762-4559B7EC4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64D8B-9165-4A60-80E2-FAE42C14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85B71-9A65-4C0D-8B53-528324A6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06965-1A96-42E1-8AD3-C9D97E990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D8745-5342-4292-AC12-0452BAD74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D32C0-BAA8-44A4-B7A0-A50C54A59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409F1-76AE-46C0-B397-1122A153C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D2975-9E6E-482D-A74A-1E2FA1AB8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DF57A-A358-4F46-8DD5-7AE9BB42D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13331-3F4D-4994-A011-579F36120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4A51-41B1-427B-B7DF-DDE552D4A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FA576-2421-4A5E-9782-5D2562BF5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79F7A-7FF4-497A-A394-EEE7B280E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A9F36-9347-488A-AF14-0342A50E4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347D1-A506-4979-8EA7-BB455658C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503C0-6A87-42FB-B66B-AF77AF840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F9A28-90D9-4B75-ACE1-18558D47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56BD0-C27B-4567-8078-8FCFE1CFB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D6DAF-6C09-454F-9926-E437ED431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D4ACC-F9B3-4F86-859D-3C1E7616E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D6D451-DA40-4262-80C1-964016E14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8D3A-F7BA-4370-8B04-595CB4AD7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EB5F92-6EE8-4DF1-93D3-46E7599FB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E8E12-0DF6-4B45-AF44-0376EA946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5F5C82-C59B-4EA8-A664-659EBFEA2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311EE8-28A0-44CB-A6AC-111ABDCD1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EB1F63-68E9-4385-AEEF-FB92AB3C8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75C517-DC71-47D9-AD9A-433E48629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25AEA-B2F6-4DD9-9954-376F9CC2B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C1AB0F-6510-477C-AABF-5B3A906A3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D9213C-2541-4922-9573-7DD1668BF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422C42-EBA9-4C41-AB21-7919875E9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D81F-5124-4B79-A3F0-E3016EF82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3DDCE-E013-47C3-B7B2-5211A1A4B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68B21-7FC8-4185-9FA6-4519F62AA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4208B9-D5FC-4F97-8649-5D4CCFF12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472F9B-1EE0-48F4-A6DB-DF706FB9F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07FB2A-CBA8-4707-B369-F13C60785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4716EE-FE30-424B-B67E-88611D1F8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8112BC-3AC7-41EC-8470-B19397CC6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9185BE-205E-4773-A693-87643128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77F4E8-3E83-49EA-BF7D-0605D5123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EB0BBD-5F51-4949-9087-8934BB86C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2718-7342-40F7-8A57-7D2EDBFAC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C2A111-FFA0-4002-BB33-256893044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B28975-F6DF-416C-A833-4EFB86144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91802D-E144-460D-B8FF-CAA6750F2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78BD06-D7E6-49A5-8A70-E19D34834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1BD64B-C304-4A0C-9F7F-51942AEEE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538125-5465-49CC-9C3A-502959F0F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3D4402-99D1-4BE8-8405-2B40E9862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CE6C98-3C1B-47F5-A0AE-D49096703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E47981-DEA9-4DEF-8AF3-78E41F230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8D3FD4-9CF7-43ED-B883-6874586B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BBFB-4714-41DF-8565-6D25432BF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640964-FC3F-4903-82FD-9EAE5B6D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707D6D-A424-41E8-B79C-9BF4163E7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F7B100-BEAE-4670-9E48-1B70173E5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23D5E2-1FF1-4E30-B77D-FC74B3114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8880C7-228E-498A-8A97-4E5D49E64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3B275F-686A-413D-A541-EEA211267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52F956-F3FE-437A-A70F-52F15B584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8E0189-381B-47C7-BFFE-1C1ABBC6D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298C43-0857-4054-90BD-3FE37393C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9DAB16-B3E6-413D-9DFF-EF7679B39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59E9-EDC5-4215-92C0-06710925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DD62E5-13F4-4170-AB70-F94FAA5A3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C039D3-19C0-47B2-AC9F-7C4E068FB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7285A1-E7AA-4D47-9D7C-1C5ED241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6B6CBC-1088-495E-9AFD-F0398BE6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3BC8B6-D902-4E52-A20A-6ED6843E1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0E830D-EBC9-4513-8836-5C36062D7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6783E7-7B69-4FAB-9CE2-55EB3BD80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4E1F9-5EBE-4550-B782-3F404536A62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C42FA-7C42-43FC-AC06-739ED7A21AD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99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0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1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2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3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4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5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6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74316-98E3-46F0-BE8B-7E80643BF4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49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0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1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53935-F496-43F6-A9B6-996597763B5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3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ED9EC-4DC4-4B33-89FE-95EE4D09DF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35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36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37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38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39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0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1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2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3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4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5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6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7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8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9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1DAFD-9A94-4638-B86D-DD88E93D5B9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92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93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94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95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96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97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9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0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B03AE-0D6A-4C24-8827-624399C85C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340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41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42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43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2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3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8D109-1AB7-464E-8A0D-BB4746C53E5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attachments-blog.tut.by/4426/files/2009/01/03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u.foto.radikal.ru/0705/8d/196aedbedb99.jpg" TargetMode="Externa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Урок-путешествие</a:t>
            </a:r>
            <a:br>
              <a:rPr sz="5700"/>
            </a:b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3352680" y="5562360"/>
            <a:ext cx="56390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Козлова И.А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МАОУСОШ №8 г.Старая Русса Новгородской обл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7" name="WordArt 5"/>
          <p:cNvSpPr txBox="1"/>
          <p:nvPr/>
        </p:nvSpPr>
        <p:spPr>
          <a:xfrm>
            <a:off x="2209680" y="3352680"/>
            <a:ext cx="4572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натоки рыб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Станция 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“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Занимательная 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”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76312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) Какая рыба в Амазонке самая опасная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) Какие рыбы имеют оружие на носу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)Название каких рыб состоят из трёх букв ? К каким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ряда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их относят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) Давно уже замечено , что большинство видов акул находятся в движении с первого до последнего дня своей жизни и только некоторые неподвижно отдыхают на дне. С чем это связано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) Тело рыб обтекаемой формы . Голова их сразу переходит в туловище , а шеи нет вообще . Хвост у рыб  очень мускулистый и массивный . С чем это связано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) На свежей или вяленной рыбе можно убедиться   , что её позвоночник легко гнётся вправо и влево , но при попытки согнуть его в вертикальной плоскости у вас ничего не получится. Как вы это объясните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) Сельские жители вырыли котлован и заполнили его водой можно ли запустить туда рыб ? Ответ обоснуйте 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Головоломка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«Живое ископаемое»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609480" y="2133720"/>
          <a:ext cx="4191120" cy="310824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Ё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Ы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Ш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Ш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Ы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7" name="Rectangle 89"/>
          <p:cNvSpPr/>
          <p:nvPr/>
        </p:nvSpPr>
        <p:spPr>
          <a:xfrm>
            <a:off x="5715000" y="2590920"/>
            <a:ext cx="2819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Найдите начало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головоломки и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по непрерывной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линии прочитайте,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какую рыбу и почему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называют живым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ископаемым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Цели урока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Обобщить знания учащихся по теме «Рыбы», проверить их качество, развить познавательный, мыслительный интерес к биологии и коммуникабельность учеников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480" y="5028840"/>
            <a:ext cx="3810240" cy="560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9ddcd"/>
                </a:solidFill>
                <a:latin typeface="Arial"/>
              </a:rPr>
              <a:t>Л.Н. Толстой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ЗНАНИЯ ТОЛЬКО ТОГДА ЗНАНИЯ , КОГДА ОНИ ПРИОБРЕТЕНЫ УСИЛИЯМИ СВОЕЙ МЫСЛИ , А НЕ ПАМЯТЬЮ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                                                                                            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286000" y="228600"/>
            <a:ext cx="4572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Станция «Загадочная»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Разгадайте загадки. К каким классам относятся рыбы, о которых  пойдет речь и назови признаки классов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Драчун и забияка живет в воде, кости на спине, и щука не проглотит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Не человек, не зверь, а с усами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У нее во рту пила. Под водой она жила. Всех пугала, всех глотала. А теперь в котел попала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 зубастой трехметровой рыбкой знакомство было бы ошибкой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495680" y="277560"/>
            <a:ext cx="4114800" cy="788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Занимательная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95" name="Picture 4" descr="Картинка 21 из 121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609480"/>
            <a:ext cx="3200400" cy="30355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5" descr="Картинка 2 из 7005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657600" y="1295280"/>
            <a:ext cx="5216400" cy="18208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6" descr="Картинка 15 из 6364"/>
          <p:cNvPicPr/>
          <p:nvPr/>
        </p:nvPicPr>
        <p:blipFill>
          <a:blip r:embed="rId5"/>
          <a:stretch/>
        </p:blipFill>
        <p:spPr>
          <a:xfrm>
            <a:off x="152280" y="3809880"/>
            <a:ext cx="3962520" cy="25099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7" descr="Картинка 3 из 3323"/>
          <p:cNvPicPr/>
          <p:nvPr/>
        </p:nvPicPr>
        <p:blipFill>
          <a:blip r:embed="rId6"/>
          <a:stretch/>
        </p:blipFill>
        <p:spPr>
          <a:xfrm>
            <a:off x="4419720" y="3505320"/>
            <a:ext cx="411480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3f2d9"/>
                </a:solidFill>
                <a:latin typeface="Arial"/>
              </a:rPr>
              <a:t>Станция </a:t>
            </a:r>
            <a:r>
              <a:rPr b="0" lang="en-US" sz="4400" spc="-1" strike="noStrike">
                <a:solidFill>
                  <a:srgbClr val="f3f2d9"/>
                </a:solidFill>
                <a:latin typeface="Arial"/>
              </a:rPr>
              <a:t>“</a:t>
            </a:r>
            <a:r>
              <a:rPr b="0" lang="ru-RU" sz="4400" spc="-1" strike="noStrike">
                <a:solidFill>
                  <a:srgbClr val="f3f2d9"/>
                </a:solidFill>
                <a:latin typeface="Arial Black"/>
              </a:rPr>
              <a:t>Экологическая</a:t>
            </a:r>
            <a:r>
              <a:rPr b="0" lang="en-US" sz="4400" spc="-1" strike="noStrike">
                <a:solidFill>
                  <a:srgbClr val="f3f2d9"/>
                </a:solidFill>
                <a:latin typeface="Arial"/>
              </a:rPr>
              <a:t>”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6e6da"/>
                </a:solidFill>
                <a:latin typeface="Verdana"/>
              </a:rPr>
              <a:t>1.</a:t>
            </a:r>
            <a:r>
              <a:rPr b="0" lang="ru-RU" sz="1800" spc="-1" strike="noStrike">
                <a:solidFill>
                  <a:srgbClr val="e6e6da"/>
                </a:solidFill>
                <a:latin typeface="Verdana"/>
              </a:rPr>
              <a:t>Пруд постигла беда : произошёл сброс нефти . Поверхность пруда покрылась тонкой радужной плёнкой . Плёнка не оказала влияния мальков из икры , но затем способствовала их гибели . Почему нефтяная плёнка опасна для мальков ?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da"/>
                </a:solidFill>
                <a:latin typeface="Verdana"/>
              </a:rPr>
              <a:t>2.В ручье , берега которого были покрыты лесом , обитала форель. Через некоторое время после того , как лес вырубили , форели в ручье не стало. Как можно объяснить этот факт ?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6e6da"/>
                </a:solidFill>
                <a:latin typeface="Verdana"/>
              </a:rPr>
              <a:t>3. Водоём  в небольшой степени был загрязнён радиоактивными веществами . Проведённые лабораторные анализы показали , что хищные рыбы являются самыми загрязнёнными организмами в этом водоёме. Как можно объяснить этот факт ?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танция 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“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ознавательная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) Прав ли был ученик , сказав 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“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ыбы зимой спят с закрытыми глазами ?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”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чему 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) Определите , какие виды рыбы здесь зашифрованы и определите к какому отряду они относятся ?  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)авлтпо                         г) асктр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)шаку                           д) сду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)цтеун                          е) атшрп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3" name="Picture 5" descr="Картинка 17 из 2143"/>
          <p:cNvPicPr/>
          <p:nvPr/>
        </p:nvPicPr>
        <p:blipFill>
          <a:blip r:embed="rId1"/>
          <a:stretch/>
        </p:blipFill>
        <p:spPr>
          <a:xfrm>
            <a:off x="2362320" y="3962520"/>
            <a:ext cx="1676160" cy="11030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6" descr="Картинка 20 из 2394"/>
          <p:cNvPicPr/>
          <p:nvPr/>
        </p:nvPicPr>
        <p:blipFill>
          <a:blip r:embed="rId2"/>
          <a:stretch/>
        </p:blipFill>
        <p:spPr>
          <a:xfrm>
            <a:off x="6172200" y="3657600"/>
            <a:ext cx="1908000" cy="143208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7" descr="Картинка 34 из 558"/>
          <p:cNvPicPr/>
          <p:nvPr/>
        </p:nvPicPr>
        <p:blipFill>
          <a:blip r:embed="rId3"/>
          <a:stretch/>
        </p:blipFill>
        <p:spPr>
          <a:xfrm>
            <a:off x="2362320" y="5181480"/>
            <a:ext cx="1676160" cy="123696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8" descr=""/>
          <p:cNvPicPr/>
          <p:nvPr/>
        </p:nvPicPr>
        <p:blipFill>
          <a:blip r:embed="rId4"/>
          <a:stretch/>
        </p:blipFill>
        <p:spPr>
          <a:xfrm>
            <a:off x="6172200" y="5257800"/>
            <a:ext cx="190512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танция 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“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ознавательная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”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)Была зима - такая, что с ветве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мочком белым падал воробе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кованные в ледяные глыбы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речных глубинах задыхались рыб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чему зимой может происходить замор ( удушье ) рыб 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)Очнувшись от зимней спячки , рыбы стремятся попасть в участок водоёма с быстрым течением воды . Почему 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5)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звестны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лучаи вылова рыбаками крупных , нормально упитанных щук , которые были совершенно слепые. Почему отсутствие зрения не сказалось существенно на жизни рыб 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6) В старинных документах имеются сведенья , что Пётр Первый запретил звонить в колокола во время нереста лещей. Это вызвало недовольство у духовенства .Какими соображениями руководствовался  Пётр Первый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096320" cy="9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Станция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Литературная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73864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Закончи пословиц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ла бы рыба , а 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удешь спать на берегу , не ……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ыба в реке - ещё не …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ыба мелка , да 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хожу во все заливы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 и </a:t>
            </a:r>
            <a:r>
              <a:rPr b="0" lang="ru-RU" sz="3600" spc="-1" strike="noStrike">
                <a:solidFill>
                  <a:srgbClr val="000000"/>
                </a:solidFill>
                <a:latin typeface="comic"/>
              </a:rPr>
              <a:t>щ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акой-нибудь поживы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юблю я край родных о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ё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уршит камыш, горит косте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вижу как плывут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. Куда идут  они куда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худ и щу</a:t>
            </a:r>
            <a:r>
              <a:rPr b="0" lang="ru-RU" sz="2400" spc="-1" strike="noStrike">
                <a:solidFill>
                  <a:srgbClr val="000000"/>
                </a:solidFill>
                <a:latin typeface="Calisto MT"/>
              </a:rPr>
              <a:t>п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Отваги пол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учок таранил носом вол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5" descr="Картинка 15 из 3061"/>
          <p:cNvPicPr/>
          <p:nvPr/>
        </p:nvPicPr>
        <p:blipFill>
          <a:blip r:embed="rId1"/>
          <a:stretch/>
        </p:blipFill>
        <p:spPr>
          <a:xfrm>
            <a:off x="5105520" y="838080"/>
            <a:ext cx="3429000" cy="2035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7" descr=""/>
          <p:cNvPicPr/>
          <p:nvPr/>
        </p:nvPicPr>
        <p:blipFill>
          <a:blip r:embed="rId2"/>
          <a:stretch/>
        </p:blipFill>
        <p:spPr>
          <a:xfrm>
            <a:off x="4572000" y="4724280"/>
            <a:ext cx="411480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ег</cp:lastModifiedBy>
  <dcterms:modified xsi:type="dcterms:W3CDTF">2012-01-08T17:38:15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