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F93D-01C6-4568-B0C2-3EE2D81AC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B52D-CD51-49A8-B3F4-86F0C778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BCE9-09AC-4B91-964C-A2C1BAD8B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F976-2770-4996-A32F-5B50EDDE1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6721C-86CE-4FCE-8C48-62A88ECBE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5EE9-3213-4AC2-B107-FC826FF8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43DC-4548-4A14-8B78-EA3872AC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20DC-A347-4735-B414-57C0750B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12CF-497C-4963-A6F5-F61CD0CA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2711-01F4-42C3-9D35-70ED2465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398C-346C-4465-86BA-EBA3BA98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BCB1-79B4-41C9-8627-E099B3F8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7BD25-6E4D-4ACC-A238-D4CB6518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2D17-E2D9-44F1-88D6-433A9D69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87C5-2802-4565-ADC3-8F4975F9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6A14-0C51-4159-AD47-2B849AC0F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A582-47CD-469B-B354-725DE0223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4ADED-2AD1-46B0-B415-057D871DF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3911E-617D-483F-BAA0-68E04381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8DA51-85BA-44D0-9309-D2EB3C1E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998FF-8883-484A-8E33-871B8199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9F380-158A-4724-8B89-B3EB6072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5989-F534-4163-83BC-4E389523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9098B-43F1-430B-9385-A2E36279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8488B-DA96-489A-AF42-5C88B818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3A7C6-C13F-4FE7-877B-1490620D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44907-C390-445D-8956-B709CB2E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54D36-A0B6-4B8C-8929-7F5E42AB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814A7-D1F7-40B0-B36B-52FAAEBDF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6A048-2C17-44D5-8A9F-C4ED970C0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497BD-F894-4378-85DB-CD2EA025E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97CB4-5FC2-4B9A-AF0A-964105BD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30C07-EC7A-4BE8-8EF6-7E613C6F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A39E-817C-49F9-918B-995A8BC4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2D306-565F-41E6-A54A-DC45F529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7DB23-E87B-441B-9E86-4DF7E139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E891A-5FE0-467A-B013-D47FCC85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34311-14F1-45CC-AE58-10BEED38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29138-3F2C-4F5F-8B87-B85B1F6D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7C2CC-D0A3-4696-BDFF-9C8039A3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41DDF-FAD9-4543-9AC6-1FC6494D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657E2-B0A0-4621-91F1-478E5BC1E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79380-FDE9-40A0-BC0B-9AC6B411A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9DC78-4BC3-4974-A930-1CE3E270D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BB2F-88C4-49EF-970F-7ED93B68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CD2BC-E33C-430B-AD56-E7F0E3DD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FF28D-F4C0-4D6A-A393-E1E9261B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A2AC0-FCBF-45F1-8B96-32DE2627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85179-82A6-46CB-B6E0-62002077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AD1B2-1EEE-4D5E-A0A4-26C78697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7CD5E-A321-42BD-AA90-FF75FB62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788D5-6D6D-43BF-ADB2-04920210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65184-5B65-4F6D-BD11-E2C06057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0B68D-E397-4505-8D9D-10BCA669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9E846-E6CB-48AA-8A98-F5009B684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4752-54E8-43F3-AAC2-1F850DD5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2B57F-AFEF-4629-948B-5F3A08819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75DA1-3CA7-4078-95F2-FC3CA8A5C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D4D1C-6C17-4C71-9BE2-085054A0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E46DC-2C9B-47F8-8204-F80960F9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FB09B-AADF-40D2-A150-82BB5580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2842E-F15D-4F93-B1A8-263CA02C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0A651-A375-43EF-A93A-E214EF0B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72BA6-EA6F-4C8E-BA25-4E7BE58D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B0026-D84D-42C5-8837-9E9DCFD9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827A1-0770-49BD-880D-7C57C14A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F749-B3AE-4951-8346-D0F40C73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42905-E0FC-437B-8382-FD48BA54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C0C59-5800-41F5-9D09-679972125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7C6D5-3BD5-400C-9CA5-D1095F8E1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3DAF5-A5B3-4986-A447-001AB74E1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978FC-BDF0-44C4-AB86-83FACC6B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FC800-BB65-47F2-8E68-FE681293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D1E91-AC89-415C-95C2-E844B4F8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C1FC3-4557-4DC2-BD19-C74FBA4E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1D6FA-BA88-4020-A68E-868E7654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C3811-E39B-42D1-8536-6C66CC81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7A05-5117-406A-9A4D-8F8A0D48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4F607-3310-4981-8466-A8C87BF1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5FB4D-BF33-42BD-82EF-EA4EBAEE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4B50B-ABA8-488B-B2B3-DE99066A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ACF5A-E94D-476B-BE0C-A14736AB5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435E6-5B51-4FE2-8330-8F13DF710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6C1E5-C2E8-4DA7-9853-43AA624BF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B488E-31D5-4379-B01A-5A31D9ED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D40B7-4FAE-412F-AADC-9DF7A78D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302A0-7FC6-4D61-9D95-CB16AA47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8920D-428F-401C-BD92-04A34997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EFE6-68D1-4806-B057-98E6FD5E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7A67F-829D-42DF-A892-674CB56E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76698-DBD2-4E4C-97EF-E6969686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27522-A1AC-4C9E-B25A-914E0846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AD5D8-68C0-4707-8C2F-063A1E99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F3786-737D-466F-8E1A-242E9598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8A989-A03F-4C7A-9342-9FF9BA018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C3FAB-CEC7-4616-BB4E-7B5FAA184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8EB2-8B7F-4E09-8E62-E82F8920A96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40DD-909F-454B-A386-42074E06803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0914-8752-49B5-AFA7-7F4F3AD801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49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0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1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29E7-89BA-490C-AEEE-DADFDE76B97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36E6-93A8-42A6-A9DA-6DF1B6C7BB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3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59C8-9502-4646-888F-BCAEB201E74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9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EF00-5832-4E38-B0AE-C14AE4BD4E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340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41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42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43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3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89B3-DC4E-4B8C-8BC7-0D433E001B4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ttachments-blog.tut.by/4426/files/2009/01/03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u.foto.radikal.ru/0705/8d/196aedbedb99.jpg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Урок-путешествие</a:t>
            </a:r>
            <a:br>
              <a:rPr sz="5700"/>
            </a:b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3352680" y="5562360"/>
            <a:ext cx="56390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озлова И.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МАОУСОШ №8 г.Старая Русса Новгородской обл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7" name="WordArt 5"/>
          <p:cNvSpPr txBox="1"/>
          <p:nvPr/>
        </p:nvSpPr>
        <p:spPr>
          <a:xfrm>
            <a:off x="2209680" y="3352680"/>
            <a:ext cx="4572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натоки рыб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Станция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анимательная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76312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) Какая рыба в Амазонке самая опасная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) Какие рыбы имеют оружие на носу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)Название каких рыб состоят из трёх букв ? К каким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ряда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х относят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) Давно уже замечено , что большинство видов акул находятся в движении с первого до последнего дня своей жизни и только некоторые неподвижно отдыхают на дне. С чем это связано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) Тело рыб обтекаемой формы . Голова их сразу переходит в туловище , а шеи нет вообще . Хвост у рыб  очень мускулистый и массивный . С чем это связано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) На свежей или вяленной рыбе можно убедиться   , что её позвоночник легко гнётся вправо и влево , но при попытки согнуть его в вертикальной плоскости у вас ничего не получится. Как вы это объясните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) Сельские жители вырыли котлован и заполнили его водой можно ли запустить туда рыб ? Ответ обоснуйте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Головоломка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«Живое ископаемое»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609480" y="2133720"/>
          <a:ext cx="4191120" cy="310824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Ё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Rectangle 89"/>
          <p:cNvSpPr/>
          <p:nvPr/>
        </p:nvSpPr>
        <p:spPr>
          <a:xfrm>
            <a:off x="5715000" y="2590920"/>
            <a:ext cx="2819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Найдите начал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головоломки 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о непрерывной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линии прочитайте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какую рыбу и почему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называют живым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ископаемым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Обобщить знания учащихся по теме «Рыбы», проверить их качество, развить познавательный, мыслительный интерес к биологии и коммуникабельность учеников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5028840"/>
            <a:ext cx="3810240" cy="560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9ddcd"/>
                </a:solidFill>
                <a:latin typeface="Arial"/>
              </a:rPr>
              <a:t>Л.Н. Толстой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ЗНАНИЯ ТОЛЬКО ТОГДА ЗНАНИЯ , КОГДА ОНИ ПРИОБРЕТЕНЫ УСИЛИЯМИ СВОЕЙ МЫСЛИ , А НЕ ПАМЯТЬЮ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                      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0" y="228600"/>
            <a:ext cx="4572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танция «Загадочная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згадайте загадки. К каким классам относятся рыбы, о которых  пойдет речь и назови признаки классов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Драчун и забияка живет в воде, кости на спине, и щука не проглотит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 человек, не зверь, а с усам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У нее во рту пила. Под водой она жила. Всех пугала, всех глотала. А теперь в котел попала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 зубастой трехметровой рыбкой знакомство было бы ошибкой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95680" y="277560"/>
            <a:ext cx="41148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Занимательна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5" name="Picture 4" descr="Картинка 21 из 12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609480"/>
            <a:ext cx="3200400" cy="30355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Картинка 2 из 7005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1295280"/>
            <a:ext cx="5216400" cy="18208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Картинка 15 из 6364"/>
          <p:cNvPicPr/>
          <p:nvPr/>
        </p:nvPicPr>
        <p:blipFill>
          <a:blip r:embed="rId5"/>
          <a:stretch/>
        </p:blipFill>
        <p:spPr>
          <a:xfrm>
            <a:off x="152280" y="3809880"/>
            <a:ext cx="3962520" cy="25099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7" descr="Картинка 3 из 3323"/>
          <p:cNvPicPr/>
          <p:nvPr/>
        </p:nvPicPr>
        <p:blipFill>
          <a:blip r:embed="rId6"/>
          <a:stretch/>
        </p:blipFill>
        <p:spPr>
          <a:xfrm>
            <a:off x="4419720" y="3505320"/>
            <a:ext cx="411480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Станция </a:t>
            </a: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f3f2d9"/>
                </a:solidFill>
                <a:latin typeface="Arial Black"/>
              </a:rPr>
              <a:t>Экологическая</a:t>
            </a: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e6da"/>
                </a:solidFill>
                <a:latin typeface="Verdana"/>
              </a:rPr>
              <a:t>1.</a:t>
            </a:r>
            <a:r>
              <a:rPr b="0" lang="ru-RU" sz="1800" spc="-1" strike="noStrike">
                <a:solidFill>
                  <a:srgbClr val="e6e6da"/>
                </a:solidFill>
                <a:latin typeface="Verdana"/>
              </a:rPr>
              <a:t>Пруд постигла беда : произошёл сброс нефти . Поверхность пруда покрылась тонкой радужной плёнкой . Плёнка не оказала влияния мальков из икры , но затем способствовала их гибели . Почему нефтяная плёнка опасна для мальков ?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da"/>
                </a:solidFill>
                <a:latin typeface="Verdana"/>
              </a:rPr>
              <a:t>2.В ручье , берега которого были покрыты лесом , обитала форель. Через некоторое время после того , как лес вырубили , форели в ручье не стало. Как можно объяснить этот факт ?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6e6da"/>
                </a:solidFill>
                <a:latin typeface="Verdana"/>
              </a:rPr>
              <a:t>3. Водоём  в небольшой степени был загрязнён радиоактивными веществами . Проведённые лабораторные анализы показали , что хищные рыбы являются самыми загрязнёнными организмами в этом водоёме. Как можно объяснить этот факт ?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танция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знавательная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 Прав ли был ученик , сказав 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ыбы зимой спят с закрытыми глазами ?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”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чему 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 Определите , какие виды рыбы здесь зашифрованы и определите к какому отряду они относятся ?  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авлтпо                         г) аск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шаку                           д) сду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цтеун                          е) атшрп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Picture 5" descr="Картинка 17 из 2143"/>
          <p:cNvPicPr/>
          <p:nvPr/>
        </p:nvPicPr>
        <p:blipFill>
          <a:blip r:embed="rId1"/>
          <a:stretch/>
        </p:blipFill>
        <p:spPr>
          <a:xfrm>
            <a:off x="2362320" y="3962520"/>
            <a:ext cx="1676160" cy="11030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Картинка 20 из 2394"/>
          <p:cNvPicPr/>
          <p:nvPr/>
        </p:nvPicPr>
        <p:blipFill>
          <a:blip r:embed="rId2"/>
          <a:stretch/>
        </p:blipFill>
        <p:spPr>
          <a:xfrm>
            <a:off x="6172200" y="3657600"/>
            <a:ext cx="1908000" cy="14320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Картинка 34 из 558"/>
          <p:cNvPicPr/>
          <p:nvPr/>
        </p:nvPicPr>
        <p:blipFill>
          <a:blip r:embed="rId3"/>
          <a:stretch/>
        </p:blipFill>
        <p:spPr>
          <a:xfrm>
            <a:off x="2362320" y="5181480"/>
            <a:ext cx="1676160" cy="12369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8" descr=""/>
          <p:cNvPicPr/>
          <p:nvPr/>
        </p:nvPicPr>
        <p:blipFill>
          <a:blip r:embed="rId4"/>
          <a:stretch/>
        </p:blipFill>
        <p:spPr>
          <a:xfrm>
            <a:off x="6172200" y="5257800"/>
            <a:ext cx="19051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танция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знавательная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”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Была зима - такая, что с ветве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мочком белым падал вороб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кованные в ледяные глыбы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речных глубинах задыхались рыб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чему зимой может происходить замор ( удушье ) рыб 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)Очнувшись от зимней спячки , рыбы стремятся попасть в участок водоёма с быстрым течением воды . Почему 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)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вестны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лучаи вылова рыбаками крупных , нормально упитанных щук , которые были совершенно слепые. Почему отсутствие зрения не сказалось существенно на жизни рыб 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6) В старинных документах имеются сведенья , что Пётр Первый запретил звонить в колокола во время нереста лещей. Это вызвало недовольство у духовенства .Какими соображениями руководствовался  Пётр Первый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09632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танция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Литературная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7386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Закончи пословиц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а бы рыба , а 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дешь спать на берегу , не …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ба в реке - ещё не 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ба мелка , да 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хожу во все заливы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 и </a:t>
            </a:r>
            <a:r>
              <a:rPr b="0" lang="ru-RU" sz="3600" spc="-1" strike="noStrike">
                <a:solidFill>
                  <a:srgbClr val="000000"/>
                </a:solidFill>
                <a:latin typeface="comic"/>
              </a:rPr>
              <a:t>щ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акой-нибудь поживы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лю я край родных о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ё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уршит камыш, горит кост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вижу как плывут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. Куда идут  они куда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худ и щу</a:t>
            </a:r>
            <a:r>
              <a:rPr b="0" lang="ru-RU" sz="2400" spc="-1" strike="noStrike">
                <a:solidFill>
                  <a:srgbClr val="000000"/>
                </a:solidFill>
                <a:latin typeface="Calisto MT"/>
              </a:rPr>
              <a:t>п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Отваги пол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учок таранил носом вол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5" descr="Картинка 15 из 3061"/>
          <p:cNvPicPr/>
          <p:nvPr/>
        </p:nvPicPr>
        <p:blipFill>
          <a:blip r:embed="rId1"/>
          <a:stretch/>
        </p:blipFill>
        <p:spPr>
          <a:xfrm>
            <a:off x="5105520" y="838080"/>
            <a:ext cx="3429000" cy="2035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7" descr=""/>
          <p:cNvPicPr/>
          <p:nvPr/>
        </p:nvPicPr>
        <p:blipFill>
          <a:blip r:embed="rId2"/>
          <a:stretch/>
        </p:blipFill>
        <p:spPr>
          <a:xfrm>
            <a:off x="4572000" y="4724280"/>
            <a:ext cx="41148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1-08T17:38:1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