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8F4-FACD-4818-A084-12639CFE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C18-7BB6-4513-AD0F-9C5A600D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587-5E70-45E4-84D7-1A6787E1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693-CBF4-420E-B021-96DB2DB9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8F4-F487-4C4C-8E36-2AF17185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FA5-9971-41B4-A06E-79E21FC9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A76-BB46-4EE0-B032-CDB06D5D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F83-8FA8-4343-858B-C8B7C26C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334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762-1F7C-409E-BAA2-C1500206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1EF-0630-492E-A13B-21DE9D8B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EF1-7FA4-46D2-90C0-2AECD8FD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8FF-6620-49C3-9994-C68AF701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791320" y="228600"/>
            <a:ext cx="327636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D5C6-DB70-48EA-B347-C30E8FA93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5486400" y="0"/>
            <a:ext cx="36576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Pj04253070000[1]"/>
          <p:cNvPicPr/>
          <p:nvPr/>
        </p:nvPicPr>
        <p:blipFill>
          <a:blip r:embed="rId2"/>
          <a:stretch/>
        </p:blipFill>
        <p:spPr>
          <a:xfrm>
            <a:off x="533520" y="1441440"/>
            <a:ext cx="8127720" cy="541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ЗИМНИ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         ВИДЫ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               СПОРТА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2895480" y="20574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5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РЫЖКИ С ТРАМПЛИНА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43600" y="380520"/>
            <a:ext cx="27432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спорта, включающий прыжки на лыжах со специально оборудован-ных трампли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SS07100"/>
          <p:cNvPicPr/>
          <p:nvPr/>
        </p:nvPicPr>
        <p:blipFill>
          <a:blip r:embed="rId1"/>
          <a:stretch/>
        </p:blipFill>
        <p:spPr>
          <a:xfrm>
            <a:off x="0" y="1752480"/>
            <a:ext cx="5715000" cy="402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53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СНОУБОРД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3" descr="SS07078"/>
          <p:cNvPicPr/>
          <p:nvPr/>
        </p:nvPicPr>
        <p:blipFill>
          <a:blip r:embed="rId1"/>
          <a:stretch/>
        </p:blipFill>
        <p:spPr>
          <a:xfrm>
            <a:off x="304920" y="1371600"/>
            <a:ext cx="5333760" cy="51814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095880" y="957240"/>
            <a:ext cx="274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оуборд или снежная доска» — спортивный снаряд, предназначенный для скоростного спуска с заснеженных склонов и г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75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MPj04010750000[1]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5791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ЬКОБЕЖНЫЙ СПОРТ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" name="Picture 4" descr="SS07057"/>
          <p:cNvPicPr/>
          <p:nvPr/>
        </p:nvPicPr>
        <p:blipFill>
          <a:blip r:embed="rId1"/>
          <a:stretch/>
        </p:blipFill>
        <p:spPr>
          <a:xfrm>
            <a:off x="457200" y="1554120"/>
            <a:ext cx="4952880" cy="4923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91320" y="380520"/>
            <a:ext cx="30477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остной бег на коньках —вид спорта, в котором необходимо как можно быстрее преодолевать определённую дистанцию на ледовом стадионе по замкнутому кру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БИАТЛОН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" name="Picture 4" descr="биатлон"/>
          <p:cNvPicPr/>
          <p:nvPr/>
        </p:nvPicPr>
        <p:blipFill>
          <a:blip r:embed="rId1"/>
          <a:stretch/>
        </p:blipFill>
        <p:spPr>
          <a:xfrm>
            <a:off x="304920" y="1219320"/>
            <a:ext cx="5137200" cy="5333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90960" y="426600"/>
            <a:ext cx="335268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имний олимпийский вид спорта, сочетающий лыжную гонку со стрельбой из винтов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БОБСЛЕЙ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" name="Picture 4" descr="бобслей"/>
          <p:cNvPicPr/>
          <p:nvPr/>
        </p:nvPicPr>
        <p:blipFill>
          <a:blip r:embed="rId1"/>
          <a:stretch/>
        </p:blipFill>
        <p:spPr>
          <a:xfrm>
            <a:off x="-76320" y="1676520"/>
            <a:ext cx="5943600" cy="4200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66920" y="533520"/>
            <a:ext cx="3048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ний олимпийский вид спорта, представляющий собой скоростной спуск с гор по специально оборудованным ледовым трассам на управляемых санях — боб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7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ФИГУРНОЕ КАТАНИ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6" descr="фигур"/>
          <p:cNvPicPr/>
          <p:nvPr/>
        </p:nvPicPr>
        <p:blipFill>
          <a:blip r:embed="rId1"/>
          <a:stretch/>
        </p:blipFill>
        <p:spPr>
          <a:xfrm>
            <a:off x="76320" y="1905120"/>
            <a:ext cx="571500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67280" y="609480"/>
            <a:ext cx="2819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зимний вид спорта, в котором спортсмены перемещаются на коньках по льду с выполнением дополнитель-ных элементов, чаще всего под музы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1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ЁРЛИНГ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43600" y="304560"/>
            <a:ext cx="2819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ЕРЛ"/>
          <p:cNvPicPr/>
          <p:nvPr/>
        </p:nvPicPr>
        <p:blipFill>
          <a:blip r:embed="rId1"/>
          <a:stretch/>
        </p:blipFill>
        <p:spPr>
          <a:xfrm>
            <a:off x="101520" y="1905120"/>
            <a:ext cx="5613480" cy="420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ХОККЕЙ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91320" y="380520"/>
            <a:ext cx="30477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кке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ется на специальной хоккейной площадке двумя командами из шести игроков. Цель игры — забить шайбу в ворота сопер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ХОККЕЙ"/>
          <p:cNvPicPr/>
          <p:nvPr/>
        </p:nvPicPr>
        <p:blipFill>
          <a:blip r:embed="rId1"/>
          <a:stretch/>
        </p:blipFill>
        <p:spPr>
          <a:xfrm>
            <a:off x="228600" y="1600200"/>
            <a:ext cx="5486400" cy="441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9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ЛЫЖНЫЕ ГОНК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67280" y="731520"/>
            <a:ext cx="32767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ки на лыжах на определённую дистанцию среди лиц определённой категории (возрастной, половой и т. д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Pj04002640000[1]"/>
          <p:cNvPicPr/>
          <p:nvPr/>
        </p:nvPicPr>
        <p:blipFill>
          <a:blip r:embed="rId1"/>
          <a:stretch/>
        </p:blipFill>
        <p:spPr>
          <a:xfrm>
            <a:off x="422280" y="1270080"/>
            <a:ext cx="4987800" cy="513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23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ГОРНОЛЫЖНЫЙСПОРТ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3" descr="SS07085"/>
          <p:cNvPicPr/>
          <p:nvPr/>
        </p:nvPicPr>
        <p:blipFill>
          <a:blip r:embed="rId1"/>
          <a:stretch/>
        </p:blipFill>
        <p:spPr>
          <a:xfrm>
            <a:off x="380880" y="1676520"/>
            <a:ext cx="5181840" cy="46450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5867280" y="577800"/>
            <a:ext cx="2971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нолыжный спорт - спуск с гор на специальных лыжах. Вид спорта, а также популярный вид активного отдыха миллионов людей по всему ми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6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7T11:50:4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