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9C6-3989-492A-A688-A6AC156F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18A-7F85-4449-92CB-EA7B50C7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072-23A0-4D00-ABAC-ED831DD5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EBE6-73C0-4C55-BB53-2105A2F9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578-D788-49A1-B4DD-E0A046DC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BDC-F064-44FA-9FEA-4116F399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70E-8481-4302-B52D-8F68D7E3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A8C-34B5-47BD-8362-7339D9EB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5334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473-25D3-4B74-9DA1-F0B766A7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5F9-44D8-4A2B-B371-AB5B03B0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A5F-696E-4DA6-886C-64EE6C13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0E3-28BA-4500-9852-2BAD8624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791320" y="228600"/>
            <a:ext cx="327636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743F-C4D0-4F6A-AF9A-62A0EC53B1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5486400" y="0"/>
            <a:ext cx="36576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Pj04253070000[1]"/>
          <p:cNvPicPr/>
          <p:nvPr/>
        </p:nvPicPr>
        <p:blipFill>
          <a:blip r:embed="rId2"/>
          <a:stretch/>
        </p:blipFill>
        <p:spPr>
          <a:xfrm>
            <a:off x="533520" y="1441440"/>
            <a:ext cx="8127720" cy="541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ЗИМНИ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            ВИДЫ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                СПОРТА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2895480" y="205740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5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ПРЫЖКИ С ТРАМПЛИНА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43600" y="380520"/>
            <a:ext cx="27432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спорта, включающий прыжки на лыжах со специально оборудован-ных трампли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SS07100"/>
          <p:cNvPicPr/>
          <p:nvPr/>
        </p:nvPicPr>
        <p:blipFill>
          <a:blip r:embed="rId1"/>
          <a:stretch/>
        </p:blipFill>
        <p:spPr>
          <a:xfrm>
            <a:off x="0" y="1752480"/>
            <a:ext cx="5715000" cy="402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53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СНОУБОРД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3" descr="SS07078"/>
          <p:cNvPicPr/>
          <p:nvPr/>
        </p:nvPicPr>
        <p:blipFill>
          <a:blip r:embed="rId1"/>
          <a:stretch/>
        </p:blipFill>
        <p:spPr>
          <a:xfrm>
            <a:off x="304920" y="1371600"/>
            <a:ext cx="5333760" cy="51814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6095880" y="957240"/>
            <a:ext cx="2743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оуборд или снежная доска» — спортивный снаряд, предназначенный для скоростного спуска с заснеженных склонов и г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75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MPj04010750000[1]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704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5791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ЬКОБЕЖНЫЙ СПОРТ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" name="Picture 4" descr="SS07057"/>
          <p:cNvPicPr/>
          <p:nvPr/>
        </p:nvPicPr>
        <p:blipFill>
          <a:blip r:embed="rId1"/>
          <a:stretch/>
        </p:blipFill>
        <p:spPr>
          <a:xfrm>
            <a:off x="457200" y="1554120"/>
            <a:ext cx="4952880" cy="4923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91320" y="380520"/>
            <a:ext cx="304776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ростной бег на коньках —вид спорта, в котором необходимо как можно быстрее преодолевать определённую дистанцию на ледовом стадионе по замкнутому кру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87631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4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БИАТЛОН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" name="Picture 4" descr="биатлон"/>
          <p:cNvPicPr/>
          <p:nvPr/>
        </p:nvPicPr>
        <p:blipFill>
          <a:blip r:embed="rId1"/>
          <a:stretch/>
        </p:blipFill>
        <p:spPr>
          <a:xfrm>
            <a:off x="304920" y="1219320"/>
            <a:ext cx="5137200" cy="5333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90960" y="426600"/>
            <a:ext cx="335268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зимний олимпийский вид спорта, сочетающий лыжную гонку со стрельбой из винтов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6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БОБСЛЕЙ 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" name="Picture 4" descr="бобслей"/>
          <p:cNvPicPr/>
          <p:nvPr/>
        </p:nvPicPr>
        <p:blipFill>
          <a:blip r:embed="rId1"/>
          <a:stretch/>
        </p:blipFill>
        <p:spPr>
          <a:xfrm>
            <a:off x="-76320" y="1676520"/>
            <a:ext cx="5943600" cy="4200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66920" y="533520"/>
            <a:ext cx="3048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ний олимпийский вид спорта, представляющий собой скоростной спуск с гор по специально оборудованным ледовым трассам на управляемых санях — боб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610480" y="-3808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7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ФИГУРНОЕ КАТАНИЕ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" name="Picture 6" descr="фигур"/>
          <p:cNvPicPr/>
          <p:nvPr/>
        </p:nvPicPr>
        <p:blipFill>
          <a:blip r:embed="rId1"/>
          <a:stretch/>
        </p:blipFill>
        <p:spPr>
          <a:xfrm>
            <a:off x="76320" y="1905120"/>
            <a:ext cx="5715000" cy="4419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867280" y="609480"/>
            <a:ext cx="28195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зимний вид спорта, в котором спортсмены перемещаются на коньках по льду с выполнением дополнитель-ных элементов, чаще всего под музы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1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ЁРЛИНГ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43600" y="304560"/>
            <a:ext cx="2819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ная спортивная игра на ледяной площадке. Участники двух команд поочерёдно пускают по льду специальные тяжёлые гранитные снаряды («камни») в сторону размеченной на льду миш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ЕРЛ"/>
          <p:cNvPicPr/>
          <p:nvPr/>
        </p:nvPicPr>
        <p:blipFill>
          <a:blip r:embed="rId1"/>
          <a:stretch/>
        </p:blipFill>
        <p:spPr>
          <a:xfrm>
            <a:off x="101520" y="1905120"/>
            <a:ext cx="5613480" cy="420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67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ХОККЕЙ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91320" y="380520"/>
            <a:ext cx="304776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кке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ется на специальной хоккейной площадке двумя командами из шести игроков. Цель игры — забить шайбу в ворота сопер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ХОККЕЙ"/>
          <p:cNvPicPr/>
          <p:nvPr/>
        </p:nvPicPr>
        <p:blipFill>
          <a:blip r:embed="rId1"/>
          <a:stretch/>
        </p:blipFill>
        <p:spPr>
          <a:xfrm>
            <a:off x="228600" y="1600200"/>
            <a:ext cx="5486400" cy="4419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9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ЛЫЖНЫЕ ГОНК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67280" y="731520"/>
            <a:ext cx="32767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нки на лыжах на определённую дистанцию среди лиц определённой категории (возрастной, половой и т. д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Pj04002640000[1]"/>
          <p:cNvPicPr/>
          <p:nvPr/>
        </p:nvPicPr>
        <p:blipFill>
          <a:blip r:embed="rId1"/>
          <a:stretch/>
        </p:blipFill>
        <p:spPr>
          <a:xfrm>
            <a:off x="422280" y="1270080"/>
            <a:ext cx="4987800" cy="513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23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ГОРНОЛЫЖНЫЙСПОРТ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3" descr="SS07085"/>
          <p:cNvPicPr/>
          <p:nvPr/>
        </p:nvPicPr>
        <p:blipFill>
          <a:blip r:embed="rId1"/>
          <a:stretch/>
        </p:blipFill>
        <p:spPr>
          <a:xfrm>
            <a:off x="380880" y="1676520"/>
            <a:ext cx="5181840" cy="46450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5867280" y="577800"/>
            <a:ext cx="2971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нолыжный спорт - спуск с гор на специальных лыжах. Вид спорта, а также популярный вид активного отдыха миллионов людей по всему ми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36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7T11:50:4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