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74D-C188-4A1E-8A27-283912A4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6D4-327E-486D-A4E0-E0E0AAB8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502-532F-4A73-8E0A-300BF01E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4E3-47C5-4C47-A9AD-6298BA94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3FA8-3AAC-4FC4-98F6-DD70857C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D98B-5525-4AA3-B02C-21CDC590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4C74-4366-442A-BE51-FCDB0D22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0655-3A09-4C86-9B15-7EC46341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E457-7891-4B38-9B79-0E9F9DED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E664-B8CA-4D0D-9CFF-E372BDC3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1371-7966-44FD-8BC3-D0504C68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E2D-759C-47CB-8A5F-9FDBED1C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5346-1A4C-4651-9570-158336AE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8907-759D-4790-96F6-21D8BF16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21C3-3A33-44DD-9264-BAFB5E00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C33A-F416-4918-BBC3-C7F0240B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9A83-5FA9-4920-975D-1153298C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DED-1C08-46C8-BD03-D4378116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778-B831-4EC9-8A12-D47733E6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19A-6523-4159-928B-1745F26C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33E-9EEE-43B7-A6DF-6A2B2D17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74C-08B0-497E-980F-11023FE4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3DE-46FD-49A8-A912-6322CE94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62C-D795-4B89-9CE0-6FD46A63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AC48-104D-4A2E-8C63-8152C53CB7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5B8F-B253-4834-ADBF-FBC960C84B1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Защита организма от излучения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кова Света и Фролова Викто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ипы облучений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нешнее облучение 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это облучение, при котором радиоактивные вещества находяться вне организма и облучают его снаруж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нутреннее облучение 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это облучение, при котором радиоактивные вещества оказываются в воздухе, которым дышит человек, в пище или в воде и попадают внутрь орган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тиволучевая защита и её виды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тиволучевая защита —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комплекс методов и средств, направленных на снижение радиационной нагрузки в условиях воздействия ионизирующего излу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- Физическая п. з.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защитные ограждения, дистанционные приспособления и наиболее рациональные технологии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ahoma"/>
              </a:rPr>
              <a:t>- Фармакологическая п. з.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пециальные радиозащитные препарат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изическая противолучевая защита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-излучение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статочно находиться на расстоянии не ближе 9—10 см от радиоактивного препарата; одежда, резиновые перчатки полностью защищают от внешнего облучения a-частиц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-излучение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нипуляции с радиоактивными веществами необходимо осуществлять за специальными экранами (ширмами) или в защитных шкафах. В качестве защитных материалов используют плексиглас, алюминий или стекл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нтгеновское и g-излучение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спользуют свинец, бетон и бари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032_1"/>
          <p:cNvPicPr/>
          <p:nvPr/>
        </p:nvPicPr>
        <p:blipFill>
          <a:blip r:embed="rId1"/>
          <a:stretch/>
        </p:blipFill>
        <p:spPr>
          <a:xfrm>
            <a:off x="0" y="1778040"/>
            <a:ext cx="2857680" cy="5079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el_01_01"/>
          <p:cNvPicPr/>
          <p:nvPr/>
        </p:nvPicPr>
        <p:blipFill>
          <a:blip r:embed="rId2"/>
          <a:stretch/>
        </p:blipFill>
        <p:spPr>
          <a:xfrm>
            <a:off x="6227640" y="3402000"/>
            <a:ext cx="3024360" cy="345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img_panel"/>
          <p:cNvPicPr/>
          <p:nvPr/>
        </p:nvPicPr>
        <p:blipFill>
          <a:blip r:embed="rId3"/>
          <a:stretch/>
        </p:blipFill>
        <p:spPr>
          <a:xfrm>
            <a:off x="3132000" y="2708280"/>
            <a:ext cx="2881440" cy="19954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24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редства индивидуальной защиты при работе с «открытыми» источниками ионизирующих излучений.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армакологическая противолучевая защита.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едства, повышающие общую сопротивляемость организма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пополисахариды, сочетания аминокислот и витаминов, гормоны, вакцины и др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диопротекторы —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репараты, создающие состояние искусственной радиорезистентности. К ним относят: меркаптоамины, индолилалкиламины, синтетические полимеры, полинуклеотиды, мукополисахариды, цианиды, нитрилы и др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щита биосферы предусматривает специальные меры снижения концентрации радиоактивных веществ в воде воздухе до предельно допустимых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9:17:41Z</dcterms:created>
  <dc:creator>Dan</dc:creator>
  <dc:description/>
  <dc:language>en-US</dc:language>
  <cp:lastModifiedBy>Николай</cp:lastModifiedBy>
  <dcterms:modified xsi:type="dcterms:W3CDTF">2013-07-03T11:41:02Z</dcterms:modified>
  <cp:revision>3</cp:revision>
  <dc:subject/>
  <dc:title>Защита организма от излучения.</dc:title>
</cp:coreProperties>
</file>