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160-CB73-40A7-97F5-5B291853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1EC-98DC-43F2-9FA8-DF4B0AC7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C3F-8733-4CA2-8227-CA9F1FD0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A98-DF1D-4724-ACDF-EBCE545E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D74-7246-46E5-98A3-C02F1AC2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C131-86CB-4567-B9A5-E0B7AB94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54E-21C7-4E53-992D-DD9B133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BA01-78E8-42AB-B59F-41B378C3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456F-4291-42B5-9363-CB71828B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476-411D-4206-B88B-2918775B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311-FBF1-4093-8268-19A40460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A86-0BC0-4F80-8B90-FEB31050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8B6-BA4A-4D1F-B68A-A0F407BA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1591-E242-46E1-967B-89ABDFB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A8D2-1BE8-45CB-8D17-1CB4A2DF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6F7-E89F-4CA6-9893-D43481E5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A1C4-6162-4B89-B529-802BB3A1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216-0668-4422-98AB-F136F54D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CF4-082A-46BF-AAB9-D87DCE1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089-F1FD-4AD3-B5F0-29EAF1F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D49-2294-4AC9-AEEB-1886914C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642-B547-45AE-94BD-F78CFCC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A93-BACF-4254-9931-A2B4BAD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23F-39FE-4549-8307-AEB9C58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A8F2-F74F-4418-9E74-BF32203C36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87E6-0F90-416F-B6CF-947F607DB8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Защита организма от излучения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кова Света и Фролова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ипы облучений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ешнее облучение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 облучение, при котором радиоактивные вещества находяться вне организма и облучают его снаруж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утреннее облучение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 облучение, при котором радиоактивные вещества оказываются в воздухе, которым дышит человек, в пище или в воде и попадают внутрь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лучевая защита и её виды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тиволучевая защита —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омплекс методов и средств, направленных на снижение радиационной нагрузки в условиях воздействия ионизирующего излу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- Физическая п. з.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щитные ограждения, дистанционные приспособления и наиболее рациональные технологи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- Фармакологическая п. з.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пециальные радиозащитные препара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изическая противолучевая защит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-излучение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аточно находиться на расстоянии не ближе 9—10 см от радиоактивного препарата; одежда, резиновые перчатки полностью защищают от внешнего облучения a-частиц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-излучение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ипуляции с радиоактивными веществами необходимо осуществлять за специальными экранами (ширмами) или в защитных шкафах. В качестве защитных материалов используют плексиглас, алюминий или стек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нтгеновское и g-излучени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спользуют свинец, бетон и бари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032_1"/>
          <p:cNvPicPr/>
          <p:nvPr/>
        </p:nvPicPr>
        <p:blipFill>
          <a:blip r:embed="rId1"/>
          <a:stretch/>
        </p:blipFill>
        <p:spPr>
          <a:xfrm>
            <a:off x="0" y="1778040"/>
            <a:ext cx="2857680" cy="5079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el_01_01"/>
          <p:cNvPicPr/>
          <p:nvPr/>
        </p:nvPicPr>
        <p:blipFill>
          <a:blip r:embed="rId2"/>
          <a:stretch/>
        </p:blipFill>
        <p:spPr>
          <a:xfrm>
            <a:off x="6227640" y="3402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img_panel"/>
          <p:cNvPicPr/>
          <p:nvPr/>
        </p:nvPicPr>
        <p:blipFill>
          <a:blip r:embed="rId3"/>
          <a:stretch/>
        </p:blipFill>
        <p:spPr>
          <a:xfrm>
            <a:off x="3132000" y="2708280"/>
            <a:ext cx="2881440" cy="19954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редства индивидуальной защиты при работе с «открытыми» источниками ионизирующих излучений.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армакологическая противолучевая защита.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а, повышающие общую сопротивляемость организм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пополисахариды, сочетания аминокислот и витаминов, гормоны, вакцины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диопротекторы —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епараты, создающие состояние искусственной радиорезистентности. К ним относят: меркаптоамины, индолилалкиламины, синтетические полимеры, полинуклеотиды, мукополисахариды, цианиды, нитрилы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щита биосферы предусматривает специальные меры снижения концентрации радиоактивных веществ в воде воздухе до предельно допустимых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17:41Z</dcterms:created>
  <dc:creator>Dan</dc:creator>
  <dc:description/>
  <dc:language>en-US</dc:language>
  <cp:lastModifiedBy>Николай</cp:lastModifiedBy>
  <dcterms:modified xsi:type="dcterms:W3CDTF">2013-07-03T11:41:02Z</dcterms:modified>
  <cp:revision>3</cp:revision>
  <dc:subject/>
  <dc:title>Защита организма от излучения.</dc:title>
</cp:coreProperties>
</file>