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E92-5BEE-4222-8698-8FCA0C3A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0FC-9595-4630-862D-A39AFCB2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388-E335-4C39-8B29-02786F68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C2B-6036-4BAD-A63D-0FEF084C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3577-4B77-4806-B9FC-BDE0E329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9E9B-6162-454C-B935-646ED3F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D25-FDCF-48AE-960E-DED2D111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5794-BA29-4260-BD73-76B949BB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2170-6143-497C-BDAB-A96478C2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50F2-D2BC-40BE-B45E-A56EDE1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58F1-BE47-4045-8CD0-7B92EBA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6B9-7AD2-4FBC-8C43-6125D27A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7BD7-8D47-4F2F-BA14-E07C442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781-7412-4430-8F2C-8CB3DAF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3BA7-D177-4A46-AFB2-FD3248A4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0C72-D857-4719-AA97-D8DAB5D9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2ECD-D4A2-4D15-B7FA-70D38B56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D36-9C00-427E-885B-87584208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7F3-044A-451F-845B-0FFFC172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5E4-4CB7-4AE7-BB99-4F9F4F8B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7B5-8C49-4244-838C-EC2A4EDD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159-77B0-4135-B421-A46924E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3EA-ADDE-4E7D-83F3-850D73F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FBA-6A2F-46FE-B3C1-623F45CA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43E-62E7-4524-AC21-D7E42E399B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4B5-D8D2-4E5F-B676-7F9644B9C2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Защита организма от излучения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кова Света и Фролова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ипы облучений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ешнее облучение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 облучение, при котором радиоактивные вещества находяться вне организма и облучают его снаруж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утреннее облучение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 облучение, при котором радиоактивные вещества оказываются в воздухе, которым дышит человек, в пище или в воде и попадают внутрь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лучевая защита и её виды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тиволучевая защита —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омплекс методов и средств, направленных на снижение радиационной нагрузки в условиях воздействия ионизирующего излу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- Физическая п. з.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щитные ограждения, дистанционные приспособления и наиболее рациональные технологи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- Фармакологическая п. з.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пециальные радиозащитные препара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изическая противолучевая защита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-излучение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аточно находиться на расстоянии не ближе 9—10 см от радиоактивного препарата; одежда, резиновые перчатки полностью защищают от внешнего облучения a-частиц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-излучение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ипуляции с радиоактивными веществами необходимо осуществлять за специальными экранами (ширмами) или в защитных шкафах. В качестве защитных материалов используют плексиглас, алюминий или стек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нтгеновское и g-излучени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спользуют свинец, бетон и бари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032_1"/>
          <p:cNvPicPr/>
          <p:nvPr/>
        </p:nvPicPr>
        <p:blipFill>
          <a:blip r:embed="rId1"/>
          <a:stretch/>
        </p:blipFill>
        <p:spPr>
          <a:xfrm>
            <a:off x="0" y="1778040"/>
            <a:ext cx="2857680" cy="5079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el_01_01"/>
          <p:cNvPicPr/>
          <p:nvPr/>
        </p:nvPicPr>
        <p:blipFill>
          <a:blip r:embed="rId2"/>
          <a:stretch/>
        </p:blipFill>
        <p:spPr>
          <a:xfrm>
            <a:off x="6227640" y="3402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img_panel"/>
          <p:cNvPicPr/>
          <p:nvPr/>
        </p:nvPicPr>
        <p:blipFill>
          <a:blip r:embed="rId3"/>
          <a:stretch/>
        </p:blipFill>
        <p:spPr>
          <a:xfrm>
            <a:off x="3132000" y="2708280"/>
            <a:ext cx="2881440" cy="19954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редства индивидуальной защиты при работе с «открытыми» источниками ионизирующих излучений.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армакологическая противолучевая защита.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а, повышающие общую сопротивляемость организм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пополисахариды, сочетания аминокислот и витаминов, гормоны, вакцины и д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диопротекторы —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епараты, создающие состояние искусственной радиорезистентности. К ним относят: меркаптоамины, индолилалкиламины, синтетические полимеры, полинуклеотиды, мукополисахариды, цианиды, нитрилы и д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щита биосферы предусматривает специальные меры снижения концентрации радиоактивных веществ в воде воздухе до предельно допустимых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17:41Z</dcterms:created>
  <dc:creator>Dan</dc:creator>
  <dc:description/>
  <dc:language>en-US</dc:language>
  <cp:lastModifiedBy>Николай</cp:lastModifiedBy>
  <dcterms:modified xsi:type="dcterms:W3CDTF">2013-07-03T11:41:02Z</dcterms:modified>
  <cp:revision>3</cp:revision>
  <dc:subject/>
  <dc:title>Защита организма от излучения.</dc:title>
</cp:coreProperties>
</file>