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1179-23D5-4F7C-86E4-2E8F6DDFA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3CE8-0087-4E48-8C00-0BDE9EDDC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FFA7-4CCB-4F64-8B58-74A069BFE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5018-CFEE-4E67-9F83-685773D6B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D56CB-B2F2-4CD0-B8DD-3395398BE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96829-955E-425A-BF56-519412200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7D300-2628-47E6-9DC6-659A8B9E2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1E095-E8D8-4A6F-B33B-AB3023A86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943BC-3887-49D5-A279-AB78FF849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9ECEE-7FCA-41D8-A0A5-77FF65744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3B28D-572B-4656-A5B7-B35874E4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CD47-CA7B-41FF-8D9E-CC72CB3C5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CAB77-AFC5-46F9-B888-AFBF4972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5F51C-5275-4A03-9926-F7061C91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80073-27E8-4829-99B7-C2EF645AD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7F2D5-AB27-4155-B844-9324329D5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063B8-8FCC-441C-8216-28C38FB15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2CA4-FB2E-4282-B334-01777C002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30B4-018E-4E88-B0A7-C98D6BC14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72B9-F88B-4D2F-8F3B-4C6940649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201D-941D-45A9-952D-D37FE7A22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C183-D28D-460C-B44A-AA2A934F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A867-B0BA-4F72-B3A1-4DBE43C7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D2F8-05E5-4475-A965-FE203370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92BE-9203-4E5E-B888-6A980116534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D0F0B-F6BC-4859-B9E8-F948A354826B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кружающий мир. 4 класс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1" lang="ru-RU" sz="4000" spc="-1" strike="noStrike">
                <a:solidFill>
                  <a:srgbClr val="ffffcc"/>
                </a:solidFill>
                <a:latin typeface="Verdana"/>
              </a:rPr>
              <a:t>Новое время: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1" lang="ru-RU" sz="4000" spc="-1" strike="noStrike">
                <a:solidFill>
                  <a:srgbClr val="ffffcc"/>
                </a:solidFill>
                <a:latin typeface="Verdana"/>
              </a:rPr>
              <a:t>Встреча Европы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1" lang="ru-RU" sz="4000" spc="-1" strike="noStrike">
                <a:solidFill>
                  <a:srgbClr val="ffffcc"/>
                </a:solidFill>
                <a:latin typeface="Verdana"/>
              </a:rPr>
              <a:t>и Америки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Verdana"/>
              </a:rPr>
              <a:t>Программа А.Плешакова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Метрополитен впервые построен в Лондоне (1863 г.)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8" name="Picture 4" descr="f_3224044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Первый телефонный аппарат А.Г.Белла (США)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1" name="Picture 4" descr="002"/>
          <p:cNvPicPr/>
          <p:nvPr/>
        </p:nvPicPr>
        <p:blipFill>
          <a:blip r:embed="rId1"/>
          <a:stretch/>
        </p:blipFill>
        <p:spPr>
          <a:xfrm>
            <a:off x="380880" y="1523880"/>
            <a:ext cx="82296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Телеграфная связь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3" name="Picture 7" descr="Samuel_Morse"/>
          <p:cNvPicPr/>
          <p:nvPr/>
        </p:nvPicPr>
        <p:blipFill>
          <a:blip r:embed="rId1"/>
          <a:stretch/>
        </p:blipFill>
        <p:spPr>
          <a:xfrm>
            <a:off x="380880" y="1295280"/>
            <a:ext cx="2971800" cy="3429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morze+"/>
          <p:cNvPicPr/>
          <p:nvPr/>
        </p:nvPicPr>
        <p:blipFill>
          <a:blip r:embed="rId2"/>
          <a:stretch/>
        </p:blipFill>
        <p:spPr>
          <a:xfrm>
            <a:off x="4191120" y="1447920"/>
            <a:ext cx="4952880" cy="487656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9"/>
          <p:cNvSpPr/>
          <p:nvPr/>
        </p:nvSpPr>
        <p:spPr>
          <a:xfrm>
            <a:off x="621000" y="4680000"/>
            <a:ext cx="189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С.Морзе. США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953640" y="5365800"/>
            <a:ext cx="39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Телеграфный аппарат С.Морзе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Фотографи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723920" y="1295280"/>
            <a:ext cx="44197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Основоположниками были  изобретатели Франции (М.Дагер и Ж.-Н.Ньепс) и Великобритании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(У.-Г.-Ф.Толбот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Цветные фото впервые получил Л.Дюко дю Орон (Франция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9" name="Picture 6" descr="139872_image_large"/>
          <p:cNvPicPr/>
          <p:nvPr/>
        </p:nvPicPr>
        <p:blipFill>
          <a:blip r:embed="rId1"/>
          <a:stretch/>
        </p:blipFill>
        <p:spPr>
          <a:xfrm>
            <a:off x="0" y="0"/>
            <a:ext cx="2467080" cy="2971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98456"/>
          <p:cNvPicPr/>
          <p:nvPr/>
        </p:nvPicPr>
        <p:blipFill>
          <a:blip r:embed="rId2"/>
          <a:stretch/>
        </p:blipFill>
        <p:spPr>
          <a:xfrm>
            <a:off x="1905120" y="1905120"/>
            <a:ext cx="2857320" cy="4095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h_12_08_001"/>
          <p:cNvPicPr/>
          <p:nvPr/>
        </p:nvPicPr>
        <p:blipFill>
          <a:blip r:embed="rId3"/>
          <a:stretch/>
        </p:blipFill>
        <p:spPr>
          <a:xfrm>
            <a:off x="0" y="3505320"/>
            <a:ext cx="2514600" cy="335268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0"/>
          <p:cNvSpPr/>
          <p:nvPr/>
        </p:nvSpPr>
        <p:spPr>
          <a:xfrm>
            <a:off x="157320" y="-44280"/>
            <a:ext cx="8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агер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318240" y="643248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.Дюко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3023280" y="5943600"/>
            <a:ext cx="184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бота Л.Дюко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Христофор Колумб открыл Америку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6" name="Picture 6" descr="118-8-3"/>
          <p:cNvPicPr/>
          <p:nvPr/>
        </p:nvPicPr>
        <p:blipFill>
          <a:blip r:embed="rId1"/>
          <a:stretch/>
        </p:blipFill>
        <p:spPr>
          <a:xfrm>
            <a:off x="457200" y="1890720"/>
            <a:ext cx="3606840" cy="47386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fc0d6b4cad5bfccb322258b0c1d6406d"/>
          <p:cNvPicPr/>
          <p:nvPr/>
        </p:nvPicPr>
        <p:blipFill>
          <a:blip r:embed="rId2"/>
          <a:stretch/>
        </p:blipFill>
        <p:spPr>
          <a:xfrm>
            <a:off x="4343400" y="1905120"/>
            <a:ext cx="43434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Первая кругосветная экспедиция </a:t>
            </a:r>
            <a:br>
              <a:rPr sz="3600"/>
            </a:b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Фернана Магеллана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9" name="Picture 6" descr="i"/>
          <p:cNvPicPr/>
          <p:nvPr/>
        </p:nvPicPr>
        <p:blipFill>
          <a:blip r:embed="rId1"/>
          <a:stretch/>
        </p:blipFill>
        <p:spPr>
          <a:xfrm>
            <a:off x="457200" y="2717640"/>
            <a:ext cx="4038480" cy="22957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542px-Портрет_Магеллана_из_галереи_Уффици"/>
          <p:cNvPicPr/>
          <p:nvPr/>
        </p:nvPicPr>
        <p:blipFill>
          <a:blip r:embed="rId2"/>
          <a:stretch/>
        </p:blipFill>
        <p:spPr>
          <a:xfrm>
            <a:off x="4800600" y="1752480"/>
            <a:ext cx="4114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Открытие Антарктид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2" name="Picture 6" descr="287482003_tonnel"/>
          <p:cNvPicPr/>
          <p:nvPr/>
        </p:nvPicPr>
        <p:blipFill>
          <a:blip r:embed="rId1"/>
          <a:stretch/>
        </p:blipFill>
        <p:spPr>
          <a:xfrm>
            <a:off x="304920" y="1143000"/>
            <a:ext cx="2857320" cy="38098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Hong-Kong-Collage"/>
          <p:cNvPicPr/>
          <p:nvPr/>
        </p:nvPicPr>
        <p:blipFill>
          <a:blip r:embed="rId2"/>
          <a:stretch/>
        </p:blipFill>
        <p:spPr>
          <a:xfrm>
            <a:off x="4876920" y="2286000"/>
            <a:ext cx="4038480" cy="43545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9"/>
          <p:cNvSpPr/>
          <p:nvPr/>
        </p:nvSpPr>
        <p:spPr>
          <a:xfrm>
            <a:off x="380880" y="5105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525600" y="4959360"/>
            <a:ext cx="262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Михаил Петрович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Л А З А Р Е В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6" name="Text Box 11"/>
          <p:cNvSpPr/>
          <p:nvPr/>
        </p:nvSpPr>
        <p:spPr>
          <a:xfrm>
            <a:off x="5070960" y="1371600"/>
            <a:ext cx="320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Фаддей Фаддеевич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Б Е Л Л И Н С Г А У З Е Н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кружающий мир. 4 класс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Verdana"/>
              </a:rPr>
              <a:t>Новое время: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Verdana"/>
              </a:rPr>
              <a:t>Встреча Европы и Америки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Verdana"/>
              </a:rPr>
              <a:t>Программа А.Плешаков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"/>
              </a:rPr>
              <a:t>Новое время подарило миру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великих путешественников, художников, архитекторов, писателей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технические изобретения: пароход и паровоз, телеграф и фотографию, электрическое освещение, автомобиль и метро, радио и телефон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история нового времени продолжалась 400 лет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Итальянский живописец, скульптор, архитектор, учёный, инженер.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533520" y="62485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«Мона Лиза»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0" name="Picture 9" descr="0_25810_b713ae4d_XL"/>
          <p:cNvPicPr/>
          <p:nvPr/>
        </p:nvPicPr>
        <p:blipFill>
          <a:blip r:embed="rId1"/>
          <a:stretch/>
        </p:blipFill>
        <p:spPr>
          <a:xfrm>
            <a:off x="4724280" y="1447920"/>
            <a:ext cx="4038840" cy="47242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0"/>
          <p:cNvSpPr/>
          <p:nvPr/>
        </p:nvSpPr>
        <p:spPr>
          <a:xfrm>
            <a:off x="4988880" y="6197760"/>
            <a:ext cx="395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Леонардо  да Винч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2" name="Picture 12" descr="mona_lisa"/>
          <p:cNvPicPr/>
          <p:nvPr/>
        </p:nvPicPr>
        <p:blipFill>
          <a:blip r:embed="rId2"/>
          <a:stretch/>
        </p:blipFill>
        <p:spPr>
          <a:xfrm>
            <a:off x="304920" y="1600200"/>
            <a:ext cx="39621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Рафаэль Санти – итальянский  живописец и архитектор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4" name="Picture 7" descr="204248_avtoportret"/>
          <p:cNvPicPr/>
          <p:nvPr/>
        </p:nvPicPr>
        <p:blipFill>
          <a:blip r:embed="rId1"/>
          <a:stretch/>
        </p:blipFill>
        <p:spPr>
          <a:xfrm>
            <a:off x="304920" y="1600200"/>
            <a:ext cx="3962160" cy="50292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9"/>
          <p:cNvSpPr/>
          <p:nvPr/>
        </p:nvSpPr>
        <p:spPr>
          <a:xfrm>
            <a:off x="5562720" y="6400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" name="Picture 11" descr="rafael_sikstinskaja_madonna-i"/>
          <p:cNvPicPr/>
          <p:nvPr/>
        </p:nvPicPr>
        <p:blipFill>
          <a:blip r:embed="rId2"/>
          <a:stretch/>
        </p:blipFill>
        <p:spPr>
          <a:xfrm>
            <a:off x="4419720" y="1676520"/>
            <a:ext cx="4419360" cy="46479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2"/>
          <p:cNvSpPr/>
          <p:nvPr/>
        </p:nvSpPr>
        <p:spPr>
          <a:xfrm>
            <a:off x="5422680" y="6491160"/>
            <a:ext cx="31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«Сикстинская мадонна»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Даниэль Дефо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Англичанин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Писатель, автор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приключенческого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омана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«Робинзон Крузо»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0" name="Picture 6" descr="200px-DanielDefoe"/>
          <p:cNvPicPr/>
          <p:nvPr/>
        </p:nvPicPr>
        <p:blipFill>
          <a:blip r:embed="rId1"/>
          <a:stretch/>
        </p:blipFill>
        <p:spPr>
          <a:xfrm>
            <a:off x="228600" y="1295280"/>
            <a:ext cx="4114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Жюль Верн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Французский писатель, один из создателей жанра научной фантастики, приключенческих произведений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3" name="Picture 7" descr="20049d5na2383437d"/>
          <p:cNvPicPr/>
          <p:nvPr/>
        </p:nvPicPr>
        <p:blipFill>
          <a:blip r:embed="rId1"/>
          <a:stretch/>
        </p:blipFill>
        <p:spPr>
          <a:xfrm>
            <a:off x="380880" y="1600200"/>
            <a:ext cx="40388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Технические изобретения </a:t>
            </a:r>
            <a:br>
              <a:rPr sz="4000"/>
            </a:b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Нового времени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6" name="Picture 4" descr="cherepanovu"/>
          <p:cNvPicPr/>
          <p:nvPr/>
        </p:nvPicPr>
        <p:blipFill>
          <a:blip r:embed="rId1"/>
          <a:stretch/>
        </p:blipFill>
        <p:spPr>
          <a:xfrm>
            <a:off x="457200" y="1371600"/>
            <a:ext cx="8229600" cy="54864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1123200" y="1422360"/>
            <a:ext cx="130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e855b"/>
                </a:solidFill>
                <a:latin typeface="Verdana"/>
              </a:rPr>
              <a:t>Паровоз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Пароход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0" name="Picture 4" descr="i"/>
          <p:cNvPicPr/>
          <p:nvPr/>
        </p:nvPicPr>
        <p:blipFill>
          <a:blip r:embed="rId1"/>
          <a:stretch/>
        </p:blipFill>
        <p:spPr>
          <a:xfrm>
            <a:off x="304920" y="1219320"/>
            <a:ext cx="8381880" cy="49528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678240" y="6156360"/>
            <a:ext cx="639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ервый пароход «Клермонт» построен в США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 1807 году Р.Фултоном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9458280" y="645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Первый паровой автомобиль построил Ж.Кюньо (Франция)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5" name="Picture 4" descr="14061_1234965207_full"/>
          <p:cNvPicPr/>
          <p:nvPr/>
        </p:nvPicPr>
        <p:blipFill>
          <a:blip r:embed="rId1"/>
          <a:stretch/>
        </p:blipFill>
        <p:spPr>
          <a:xfrm>
            <a:off x="457200" y="1614600"/>
            <a:ext cx="8229600" cy="52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иколай</dc:creator>
  <dc:description/>
  <dc:language>en-US</dc:language>
  <cp:lastModifiedBy>Николай</cp:lastModifiedBy>
  <dcterms:modified xsi:type="dcterms:W3CDTF">2013-01-10T10:00:4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