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593-453E-45C8-94D2-046C0CDB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B30-B399-4EC7-85D5-DC4FA6B4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F49-6C79-4E78-89F7-C0284181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8F0-3483-450C-A741-E7B42F7B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87F6-B64B-43BC-8BB2-0E4523F7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BF8-92D7-4BC5-8357-A0EDC875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4C7A-1C1F-4C60-8228-B67AF30A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F20E-B26B-438D-A6EB-BFF2EF4C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4554-6FA8-4CCD-BBA3-E6ED4E4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7169-7CA3-4959-AC92-A59514A7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CD0D-1CB3-4BB4-AC23-B816EB4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D3F-8885-41D9-B8D4-5974AEBC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481C-1437-449B-BA87-79BA765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6F8F-E7E6-40A9-86B7-D1E775BD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E53E-CA31-4434-9DE7-9509151C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F283-504E-4EC5-9D8A-2D26016C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AB2A-7DAB-4693-AF0D-B003623D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3CC-8A93-4455-8EA9-F706EB9A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DB4-6D6A-4190-B21A-B9095F3F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CF2-9893-4BD4-9404-2E015740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82A-96CD-4E16-8D87-3024B1C6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053-EF7A-4D96-9712-1C74E9B9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3E1-D8BD-4EDE-8AB7-C93ABC65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457-E4C9-40E9-9FF5-112D1E34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56D4-F108-4B35-ABDB-D8803A950D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A9F-1A4A-41E2-AFD6-2A0E597EF66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ружающий мир. 4 класс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Новое время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Встреча Европы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и Америк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Verdana"/>
              </a:rPr>
              <a:t>Программа А.Плешаков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Метрополитен впервые построен в Лондоне (1863 г.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4" descr="f_3224044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ервый телефонный аппарат А.Г.Белла (США)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4" descr="002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Телеграфная связ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7" descr="Samuel_Morse"/>
          <p:cNvPicPr/>
          <p:nvPr/>
        </p:nvPicPr>
        <p:blipFill>
          <a:blip r:embed="rId1"/>
          <a:stretch/>
        </p:blipFill>
        <p:spPr>
          <a:xfrm>
            <a:off x="380880" y="129528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morze+"/>
          <p:cNvPicPr/>
          <p:nvPr/>
        </p:nvPicPr>
        <p:blipFill>
          <a:blip r:embed="rId2"/>
          <a:stretch/>
        </p:blipFill>
        <p:spPr>
          <a:xfrm>
            <a:off x="4191120" y="1447920"/>
            <a:ext cx="4952880" cy="4876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621000" y="468000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.Морзе. СШ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953640" y="536580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леграфный аппарат С.Морз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отограф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723920" y="1295280"/>
            <a:ext cx="4419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сновоположниками были  изобретатели Франции (М.Дагер и Ж.-Н.Ньепс) и Великобритани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(У.-Г.-Ф.Толбо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Цветные фото впервые получил Л.Дюко дю Орон (Франция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6" descr="139872_image_large"/>
          <p:cNvPicPr/>
          <p:nvPr/>
        </p:nvPicPr>
        <p:blipFill>
          <a:blip r:embed="rId1"/>
          <a:stretch/>
        </p:blipFill>
        <p:spPr>
          <a:xfrm>
            <a:off x="0" y="0"/>
            <a:ext cx="2467080" cy="2971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98456"/>
          <p:cNvPicPr/>
          <p:nvPr/>
        </p:nvPicPr>
        <p:blipFill>
          <a:blip r:embed="rId2"/>
          <a:stretch/>
        </p:blipFill>
        <p:spPr>
          <a:xfrm>
            <a:off x="1905120" y="1905120"/>
            <a:ext cx="2857320" cy="409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_12_08_001"/>
          <p:cNvPicPr/>
          <p:nvPr/>
        </p:nvPicPr>
        <p:blipFill>
          <a:blip r:embed="rId3"/>
          <a:stretch/>
        </p:blipFill>
        <p:spPr>
          <a:xfrm>
            <a:off x="0" y="350532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157320" y="-44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ге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18240" y="64324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023280" y="594360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ристофор Колумб открыл Америк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Picture 6" descr="118-8-3"/>
          <p:cNvPicPr/>
          <p:nvPr/>
        </p:nvPicPr>
        <p:blipFill>
          <a:blip r:embed="rId1"/>
          <a:stretch/>
        </p:blipFill>
        <p:spPr>
          <a:xfrm>
            <a:off x="457200" y="1890720"/>
            <a:ext cx="3606840" cy="473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fc0d6b4cad5bfccb322258b0c1d6406d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ая кругосветная экспедиция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Фернана Магеллан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6" descr="i"/>
          <p:cNvPicPr/>
          <p:nvPr/>
        </p:nvPicPr>
        <p:blipFill>
          <a:blip r:embed="rId1"/>
          <a:stretch/>
        </p:blipFill>
        <p:spPr>
          <a:xfrm>
            <a:off x="457200" y="2717640"/>
            <a:ext cx="4038480" cy="2295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542px-Портрет_Магеллана_из_галереи_Уффици"/>
          <p:cNvPicPr/>
          <p:nvPr/>
        </p:nvPicPr>
        <p:blipFill>
          <a:blip r:embed="rId2"/>
          <a:stretch/>
        </p:blipFill>
        <p:spPr>
          <a:xfrm>
            <a:off x="4800600" y="17524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Открытие Антаркти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6" descr="287482003_tonnel"/>
          <p:cNvPicPr/>
          <p:nvPr/>
        </p:nvPicPr>
        <p:blipFill>
          <a:blip r:embed="rId1"/>
          <a:stretch/>
        </p:blipFill>
        <p:spPr>
          <a:xfrm>
            <a:off x="304920" y="114300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ong-Kong-Collage"/>
          <p:cNvPicPr/>
          <p:nvPr/>
        </p:nvPicPr>
        <p:blipFill>
          <a:blip r:embed="rId2"/>
          <a:stretch/>
        </p:blipFill>
        <p:spPr>
          <a:xfrm>
            <a:off x="4876920" y="2286000"/>
            <a:ext cx="4038480" cy="4354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808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25600" y="49593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ихаил Петро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Л А З А Р Е 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070960" y="1371600"/>
            <a:ext cx="32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Фаддей Фаддее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 Е Л Л И Н С Г А У З Е 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ружающий мир. 4 класс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Новое время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Встреча Европы и Америк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рограмма А.Плешако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Новое время подарило миру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еликих путешественников, художников, архитекторов, писателей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ехнические изобретения: пароход и паровоз, телеграф и фотографию, электрическое освещение, автомобиль и метро, радио и телефон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история нового времени продолжалась 400 л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тальянский живописец, скульптор, архитектор, учёный, инжене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33520" y="6248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Мона Лиз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9" descr="0_25810_b713ae4d_XL"/>
          <p:cNvPicPr/>
          <p:nvPr/>
        </p:nvPicPr>
        <p:blipFill>
          <a:blip r:embed="rId1"/>
          <a:stretch/>
        </p:blipFill>
        <p:spPr>
          <a:xfrm>
            <a:off x="4724280" y="1447920"/>
            <a:ext cx="40388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4988880" y="619776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Леонардо  да Вин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12" descr="mona_lisa"/>
          <p:cNvPicPr/>
          <p:nvPr/>
        </p:nvPicPr>
        <p:blipFill>
          <a:blip r:embed="rId2"/>
          <a:stretch/>
        </p:blipFill>
        <p:spPr>
          <a:xfrm>
            <a:off x="304920" y="1600200"/>
            <a:ext cx="3962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фаэль Санти – итальянский  живописец и архитект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7" descr="204248_avtoportret"/>
          <p:cNvPicPr/>
          <p:nvPr/>
        </p:nvPicPr>
        <p:blipFill>
          <a:blip r:embed="rId1"/>
          <a:stretch/>
        </p:blipFill>
        <p:spPr>
          <a:xfrm>
            <a:off x="304920" y="1600200"/>
            <a:ext cx="396216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5562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11" descr="rafael_sikstinskaja_madonna-i"/>
          <p:cNvPicPr/>
          <p:nvPr/>
        </p:nvPicPr>
        <p:blipFill>
          <a:blip r:embed="rId2"/>
          <a:stretch/>
        </p:blipFill>
        <p:spPr>
          <a:xfrm>
            <a:off x="4419720" y="1676520"/>
            <a:ext cx="4419360" cy="4647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5422680" y="649116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«Сикстинская мадонн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аниэль Деф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нгличанин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атель, автор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ключенческого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ома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Робинзон Крузо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6" descr="200px-DanielDefoe"/>
          <p:cNvPicPr/>
          <p:nvPr/>
        </p:nvPicPr>
        <p:blipFill>
          <a:blip r:embed="rId1"/>
          <a:stretch/>
        </p:blipFill>
        <p:spPr>
          <a:xfrm>
            <a:off x="228600" y="1295280"/>
            <a:ext cx="411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Жюль Вер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ранцузский писатель, один из создателей жанра научной фантастики, приключенческих произвед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20049d5na2383437d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ические изобретения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Нового времен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4" descr="cherepanovu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23200" y="142236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Verdana"/>
              </a:rPr>
              <a:t>Паровоз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Парох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i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495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78240" y="6156360"/>
            <a:ext cx="63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пароход «Клермонт» построен в СШ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1807 году Р.Фултон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9458280" y="645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ый паровой автомобиль построил Ж.Кюньо (Франц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14061_1234965207_full"/>
          <p:cNvPicPr/>
          <p:nvPr/>
        </p:nvPicPr>
        <p:blipFill>
          <a:blip r:embed="rId1"/>
          <a:stretch/>
        </p:blipFill>
        <p:spPr>
          <a:xfrm>
            <a:off x="457200" y="1614600"/>
            <a:ext cx="822960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1-10T10:00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