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D2A6-203E-407D-BD41-4FD81734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8196-AC66-44A6-844A-E0CA699E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1513-9170-468F-A614-D17C326E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FC48-A736-43DC-9D70-765FB283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47F6-E923-430F-BBF4-2388845E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B0BF-26E2-4A33-890F-87B149EE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92C1-67E4-46DD-B49D-94083242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41FC-12B6-41F2-872A-1FAF6090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ABE2-1A58-498E-A409-A1A08008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324B-097C-4D4C-A8F9-87E58568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FDE3-2600-4272-9FF3-65679528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A5BC-CF23-460E-BBF2-C693C6B2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5090-699F-40AA-A673-9DE67043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22DB-AE9B-46E7-9F54-2A0659FC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78DD-D6EC-4841-95FF-8EE9C444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109D-CA87-46F4-B637-99CAA701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232B-9935-404F-8825-C6243E5A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282D-DC95-4D2A-AAC5-5C9008D9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D842-4C08-4406-8824-C22B04E4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8C00-C975-4A47-A3D6-901384ED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A477-9386-467A-BBE6-CCEBA483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9E27-C1EC-45B0-8957-299327A3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689C-34A9-4662-847E-4F90DDC3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BF6D-6E14-43C0-B0FF-B3C9C576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117F-E9EE-4B27-AF39-4C2BC135C00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EF4D-C29F-4B72-AD9D-64FC2E70F284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кружающий мир. 4 класс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Новое время: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Встреча Европы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и Америки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Verdana"/>
              </a:rPr>
              <a:t>Программа А.Плешаков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Метрополитен впервые построен в Лондоне (1863 г.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4" descr="f_3224044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Первый телефонный аппарат А.Г.Белла (США)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Picture 4" descr="002"/>
          <p:cNvPicPr/>
          <p:nvPr/>
        </p:nvPicPr>
        <p:blipFill>
          <a:blip r:embed="rId1"/>
          <a:stretch/>
        </p:blipFill>
        <p:spPr>
          <a:xfrm>
            <a:off x="380880" y="1523880"/>
            <a:ext cx="8229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Телеграфная связ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Picture 7" descr="Samuel_Morse"/>
          <p:cNvPicPr/>
          <p:nvPr/>
        </p:nvPicPr>
        <p:blipFill>
          <a:blip r:embed="rId1"/>
          <a:stretch/>
        </p:blipFill>
        <p:spPr>
          <a:xfrm>
            <a:off x="380880" y="1295280"/>
            <a:ext cx="2971800" cy="3429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morze+"/>
          <p:cNvPicPr/>
          <p:nvPr/>
        </p:nvPicPr>
        <p:blipFill>
          <a:blip r:embed="rId2"/>
          <a:stretch/>
        </p:blipFill>
        <p:spPr>
          <a:xfrm>
            <a:off x="4191120" y="1447920"/>
            <a:ext cx="4952880" cy="48765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9"/>
          <p:cNvSpPr/>
          <p:nvPr/>
        </p:nvSpPr>
        <p:spPr>
          <a:xfrm>
            <a:off x="621000" y="4680000"/>
            <a:ext cx="18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.Морзе. СШ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953640" y="5365800"/>
            <a:ext cx="39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Телеграфный аппарат С.Морзе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Фотограф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723920" y="1295280"/>
            <a:ext cx="4419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Основоположниками были  изобретатели Франции (М.Дагер и Ж.-Н.Ньепс) и Великобритани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(У.-Г.-Ф.Толбот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Цветные фото впервые получил Л.Дюко дю Орон (Франция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6" descr="139872_image_large"/>
          <p:cNvPicPr/>
          <p:nvPr/>
        </p:nvPicPr>
        <p:blipFill>
          <a:blip r:embed="rId1"/>
          <a:stretch/>
        </p:blipFill>
        <p:spPr>
          <a:xfrm>
            <a:off x="0" y="0"/>
            <a:ext cx="2467080" cy="2971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98456"/>
          <p:cNvPicPr/>
          <p:nvPr/>
        </p:nvPicPr>
        <p:blipFill>
          <a:blip r:embed="rId2"/>
          <a:stretch/>
        </p:blipFill>
        <p:spPr>
          <a:xfrm>
            <a:off x="1905120" y="1905120"/>
            <a:ext cx="2857320" cy="4095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h_12_08_001"/>
          <p:cNvPicPr/>
          <p:nvPr/>
        </p:nvPicPr>
        <p:blipFill>
          <a:blip r:embed="rId3"/>
          <a:stretch/>
        </p:blipFill>
        <p:spPr>
          <a:xfrm>
            <a:off x="0" y="3505320"/>
            <a:ext cx="2514600" cy="33526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0"/>
          <p:cNvSpPr/>
          <p:nvPr/>
        </p:nvSpPr>
        <p:spPr>
          <a:xfrm>
            <a:off x="157320" y="-4428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гер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318240" y="643248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.Дюк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3023280" y="594360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бота Л.Дюк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Христофор Колумб открыл Америку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6" name="Picture 6" descr="118-8-3"/>
          <p:cNvPicPr/>
          <p:nvPr/>
        </p:nvPicPr>
        <p:blipFill>
          <a:blip r:embed="rId1"/>
          <a:stretch/>
        </p:blipFill>
        <p:spPr>
          <a:xfrm>
            <a:off x="457200" y="1890720"/>
            <a:ext cx="3606840" cy="4738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fc0d6b4cad5bfccb322258b0c1d6406d"/>
          <p:cNvPicPr/>
          <p:nvPr/>
        </p:nvPicPr>
        <p:blipFill>
          <a:blip r:embed="rId2"/>
          <a:stretch/>
        </p:blipFill>
        <p:spPr>
          <a:xfrm>
            <a:off x="4343400" y="1905120"/>
            <a:ext cx="43434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Первая кругосветная экспедиция 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Фернана Магеллан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9" name="Picture 6" descr="i"/>
          <p:cNvPicPr/>
          <p:nvPr/>
        </p:nvPicPr>
        <p:blipFill>
          <a:blip r:embed="rId1"/>
          <a:stretch/>
        </p:blipFill>
        <p:spPr>
          <a:xfrm>
            <a:off x="457200" y="2717640"/>
            <a:ext cx="4038480" cy="2295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542px-Портрет_Магеллана_из_галереи_Уффици"/>
          <p:cNvPicPr/>
          <p:nvPr/>
        </p:nvPicPr>
        <p:blipFill>
          <a:blip r:embed="rId2"/>
          <a:stretch/>
        </p:blipFill>
        <p:spPr>
          <a:xfrm>
            <a:off x="4800600" y="1752480"/>
            <a:ext cx="4114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Открытие Антаркти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2" name="Picture 6" descr="287482003_tonnel"/>
          <p:cNvPicPr/>
          <p:nvPr/>
        </p:nvPicPr>
        <p:blipFill>
          <a:blip r:embed="rId1"/>
          <a:stretch/>
        </p:blipFill>
        <p:spPr>
          <a:xfrm>
            <a:off x="304920" y="114300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Hong-Kong-Collage"/>
          <p:cNvPicPr/>
          <p:nvPr/>
        </p:nvPicPr>
        <p:blipFill>
          <a:blip r:embed="rId2"/>
          <a:stretch/>
        </p:blipFill>
        <p:spPr>
          <a:xfrm>
            <a:off x="4876920" y="2286000"/>
            <a:ext cx="4038480" cy="43545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9"/>
          <p:cNvSpPr/>
          <p:nvPr/>
        </p:nvSpPr>
        <p:spPr>
          <a:xfrm>
            <a:off x="380880" y="510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525600" y="4959360"/>
            <a:ext cx="262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Михаил Петрович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Л А З А Р Е В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5070960" y="1371600"/>
            <a:ext cx="320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Фаддей Фаддеевич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Б Е Л Л И Н С Г А У З Е 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кружающий мир. 4 класс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Verdana"/>
              </a:rPr>
              <a:t>Новое время: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Verdana"/>
              </a:rPr>
              <a:t>Встреча Европы и Америки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Программа А.Плешаков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Новое время подарило миру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великих путешественников, художников, архитекторов, писателей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технические изобретения: пароход и паровоз, телеграф и фотографию, электрическое освещение, автомобиль и метро, радио и телефон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история нового времени продолжалась 400 лет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Итальянский живописец, скульптор, архитектор, учёный, инженер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533520" y="6248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«Мона Лиза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Picture 9" descr="0_25810_b713ae4d_XL"/>
          <p:cNvPicPr/>
          <p:nvPr/>
        </p:nvPicPr>
        <p:blipFill>
          <a:blip r:embed="rId1"/>
          <a:stretch/>
        </p:blipFill>
        <p:spPr>
          <a:xfrm>
            <a:off x="4724280" y="1447920"/>
            <a:ext cx="4038840" cy="4724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0"/>
          <p:cNvSpPr/>
          <p:nvPr/>
        </p:nvSpPr>
        <p:spPr>
          <a:xfrm>
            <a:off x="4988880" y="6197760"/>
            <a:ext cx="39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Леонардо  да Винч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Picture 12" descr="mona_lisa"/>
          <p:cNvPicPr/>
          <p:nvPr/>
        </p:nvPicPr>
        <p:blipFill>
          <a:blip r:embed="rId2"/>
          <a:stretch/>
        </p:blipFill>
        <p:spPr>
          <a:xfrm>
            <a:off x="304920" y="1600200"/>
            <a:ext cx="3962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Рафаэль Санти – итальянский  живописец и архитектор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7" descr="204248_avtoportret"/>
          <p:cNvPicPr/>
          <p:nvPr/>
        </p:nvPicPr>
        <p:blipFill>
          <a:blip r:embed="rId1"/>
          <a:stretch/>
        </p:blipFill>
        <p:spPr>
          <a:xfrm>
            <a:off x="304920" y="1600200"/>
            <a:ext cx="3962160" cy="5029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55627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11" descr="rafael_sikstinskaja_madonna-i"/>
          <p:cNvPicPr/>
          <p:nvPr/>
        </p:nvPicPr>
        <p:blipFill>
          <a:blip r:embed="rId2"/>
          <a:stretch/>
        </p:blipFill>
        <p:spPr>
          <a:xfrm>
            <a:off x="4419720" y="1676520"/>
            <a:ext cx="4419360" cy="46479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2"/>
          <p:cNvSpPr/>
          <p:nvPr/>
        </p:nvSpPr>
        <p:spPr>
          <a:xfrm>
            <a:off x="5422680" y="6491160"/>
            <a:ext cx="31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«Сикстинская мадонна»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Даниэль Деф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Англичанин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исатель, автор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риключенческого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оман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«Робинзон Крузо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6" descr="200px-DanielDefoe"/>
          <p:cNvPicPr/>
          <p:nvPr/>
        </p:nvPicPr>
        <p:blipFill>
          <a:blip r:embed="rId1"/>
          <a:stretch/>
        </p:blipFill>
        <p:spPr>
          <a:xfrm>
            <a:off x="228600" y="1295280"/>
            <a:ext cx="4114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Жюль Вер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Французский писатель, один из создателей жанра научной фантастики, приключенческих произведени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7" descr="20049d5na2383437d"/>
          <p:cNvPicPr/>
          <p:nvPr/>
        </p:nvPicPr>
        <p:blipFill>
          <a:blip r:embed="rId1"/>
          <a:stretch/>
        </p:blipFill>
        <p:spPr>
          <a:xfrm>
            <a:off x="380880" y="1600200"/>
            <a:ext cx="4038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хнические изобретения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Нового времен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Picture 4" descr="cherepanovu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54864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1123200" y="142236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e855b"/>
                </a:solidFill>
                <a:latin typeface="Verdana"/>
              </a:rPr>
              <a:t>Паровоз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Парохо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Picture 4" descr="i"/>
          <p:cNvPicPr/>
          <p:nvPr/>
        </p:nvPicPr>
        <p:blipFill>
          <a:blip r:embed="rId1"/>
          <a:stretch/>
        </p:blipFill>
        <p:spPr>
          <a:xfrm>
            <a:off x="304920" y="1219320"/>
            <a:ext cx="8381880" cy="49528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678240" y="6156360"/>
            <a:ext cx="639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рвый пароход «Клермонт» построен в США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1807 году Р.Фултоно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9458280" y="645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Первый паровой автомобиль построил Ж.Кюньо (Франция)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Picture 4" descr="14061_1234965207_full"/>
          <p:cNvPicPr/>
          <p:nvPr/>
        </p:nvPicPr>
        <p:blipFill>
          <a:blip r:embed="rId1"/>
          <a:stretch/>
        </p:blipFill>
        <p:spPr>
          <a:xfrm>
            <a:off x="457200" y="1614600"/>
            <a:ext cx="822960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Николай</cp:lastModifiedBy>
  <dcterms:modified xsi:type="dcterms:W3CDTF">2013-01-10T10:00:4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