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32E-ABC2-4FC0-A18E-00A11473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D0E-E7FE-4A2E-A235-33EC544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21-F11E-42EB-A1BB-D5B26888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448-3BBF-4C9B-B63D-3B7D9D0C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A33-26FD-4C7E-8ED1-8F46DDBA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820-0735-4DFA-AA9E-61D2474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EEB8-7163-4C64-94BF-C44BF1E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ADAD-CB09-435C-940D-75499D00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4846-2D1B-4CA5-B242-E7DD546D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8529-3844-4A5A-BAF8-DC91A009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F55F-3ACD-4CF3-809A-1D33FE1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A59-CB5C-4A4A-8137-9689C5FF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F379-1C0A-407C-88BB-1CEE062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92D-6BC8-4A49-ACEF-DB620DF5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1F5E-C81E-4A7E-BFC6-D5A2AF67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340F-2177-4AD1-B23C-1D3D9CC3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DAF-74AB-4545-B9AA-AED18468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809-FE8C-49D9-B223-C37813B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FF8-0A44-4869-860A-7EF66408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712-42A5-486B-97B4-50CF0F1C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5FE-17A4-429C-A69E-82E3C36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997-61B7-4777-BAE9-5338BC2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107-3AF5-4341-ACB7-16997876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0C3-0ACC-4CA1-BBCA-693DC2B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1C9-2A95-42EA-ACC3-818E4D9F522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5023-0D48-4F52-B47F-64EE85E38B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оспитательский час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о ПДД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Регулирование дорожного движения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оспитатель Асбестовской СКОШ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артьянова С.А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 Где должны идти пешеходы в населенном пункте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по бордю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по тротуар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по клумба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ая разметка наносится на проезжую часть дороги, где разрешается переход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белые крести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желтые круж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оранжевые цветоч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белые полоск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 Сколько сигналов у пешеходного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од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тр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д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пя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кого сигнала нет у светофор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. сине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. красн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. желтог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. зеленог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нимательные вопро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ем должен быть пристегнут пассажир легкового автотранспорта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солдатским ремн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крепкой резинко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ремнем безопас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специальной цепочко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Что нельзя делать в автобус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. оплачивать проез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. проходить в салон, не задерживаясь в проход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. Держаться за поруч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. отвлекать водителя во время движен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Какой сигнал светофора запрещает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зеле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бел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красны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си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ри помощи чего инспектор ДПС регулирует дорожное движение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А. фуражк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. флажк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. платк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. жезл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о я, это я, это все мои друзь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3454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ОССВОР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Какие бывают пешеходные переходы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Где может двигаться пешеход, если отсутствует пешеходная дорожк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Дорога для движения пешеход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Дорога для транспортных средст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Кто может разрешить движение пешеходам или водителям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Посадочная площадка для пассажиров общественного транспор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 Как переходить дорогу по пешеходному переходу без светофор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Переходите дорогу только на специальных переходах. Не пугайте водителей, перебегая дорогу перед автомобилям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97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74080" y="452160"/>
            <a:ext cx="7687080" cy="16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ереходя дорогу, обязательно сначала посмотри налево, а дойдя до середины дороги — направо.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 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11280" y="2361960"/>
            <a:ext cx="4319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тропин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орога не канав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ерва смотри налев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том смотри направ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лево гляд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направо гляд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 — если машин не увидишь 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ди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456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Не играйте на проезжей части!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2738520"/>
            <a:ext cx="4897440" cy="3895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2920" y="322344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б не было несчаст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помните, друзь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то на проезжей ча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ать нельзя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ешех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Пешеход" - состоит из двух слов "пеш" и "ход". Что такое ход всем понятно, а что же такое "пеш"? Оказывается давным-давно, нижние конечности человека называли именно так - словом "пеш" или "пех". В буквальном смысле слово "пешеход" обозначает "ногоход", т.е. человек передвигающийся посредством своих нижних конечностей,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"НОГОХОД - ПЕШЕХОД"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888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ИК У ПЕРЕХОД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У дороги в домик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Без сада и крылечк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роживают гноми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Два славных человечк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Не играют в домино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 салки или прятки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А весь день глядят в окно:                                                         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ли там в порядке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Гном зеленый говори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—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се спокойно. Путь открыт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Если вышел красный —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Значит, путь опасный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И днем и ночью темною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Окошки в нем не гаснут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вышел гном зеленый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Вот появился красны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751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 встал для нас в дозор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учеглазый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Желтым глазом он мига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трого нас предупреждает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Чтобы был счастливым пу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овнимательнее будь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не бегай, не играй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Где автобус и трамвай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удь, малыш, всегда смышлен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шагай на свет …?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Этот конь не ест овс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место ног – два колес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ядь верхом и мчись на не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Только лучше правь рулем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де ведут ступеньки вниз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ы спускайся, не ленис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нать обязан пешеход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ут …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е летает, не жужжит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Жук по улице бежи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горят в глазах жу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ва блестящих огонька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дивительный вагон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удите сам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льсы в воздухе, а о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ржит их рук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3843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г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лосатые лошад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перёк дорог легли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авто останов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сли здесь проходим 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35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нь его – из прочной ст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уль, седло есть и педа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адник транспортом гордитс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дороге быстро мч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гулировщи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гулировщик показывает, кому можно ехать, а кому нет. Даже если работает светофор, пешеходы должны следовать указаниям регулировщ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Если рука с жезлом поднята вверх, то все должны стоять. Этот жест запрещает движение. Стоять должны и машины и пешеходы, даже если горит зеленый сигнал светоф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7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50Z</dcterms:created>
  <dc:creator>USER</dc:creator>
  <dc:description/>
  <dc:language>en-US</dc:language>
  <cp:lastModifiedBy>USER</cp:lastModifiedBy>
  <dcterms:modified xsi:type="dcterms:W3CDTF">2012-01-13T14:22:24Z</dcterms:modified>
  <cp:revision>8</cp:revision>
  <dc:subject/>
  <dc:title>Воспитательский час  по ПДД</dc:title>
</cp:coreProperties>
</file>