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B5D-143F-4B80-B4A7-8F0829E9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544-48DA-4162-8BD5-AB911C5F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5AB-ADAE-47AE-AE4F-6B00B1BB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18D-F42E-413B-8FA4-B3A75B0B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13B4-FFFC-4C06-B179-437B24A1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673-C771-442B-B908-AA1420E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B34D-9C1E-444E-A146-23BE82D1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21A-6D5E-41E7-A346-87E3752B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BEA8-FECC-4F64-8341-3376549E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483-7FEC-4E09-B30D-C2C172C2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57B5-1C1A-4C12-8506-629A01B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828-FDBC-478B-99B3-B402E194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BBCF-FECA-4574-9603-1ADCEFD5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6526-761A-4E24-8EAE-7E5FB102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0643-8878-4757-920B-25CB3AB1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E22F-B6A1-4233-8326-53AACD0F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9E55-D1BD-4595-8DD4-5D13A9F8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4BB-8B23-424A-8E4B-AE847411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4D0-6CC6-41D9-8A7C-7747ADC6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B0F-FE24-45C3-A98A-E7938E13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7DE-9BAD-43EA-A7FA-2B28180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0F5-AF0A-4C78-9268-0BB1930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F41-7AE3-404B-8A36-EF98CDE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8C6-CE96-498E-ABDB-854593E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D7BF-6B3F-4DE2-9780-13C19C64EE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6B07-C8F4-4512-8CD2-D59E6C9084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спитательский час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 ПДД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Регулирование дорожного движения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оспитатель Асбестовской СКОШ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артьянова С.А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нимательные вопросы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 Где должны идти пешеходы в населенном пункте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по бордю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по тротуа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по клумба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ая разметка наносится на проезжую часть дороги, где разрешается переход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белые крести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желтые кружоч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оранжевые цветоч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белые полос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 Сколько сигналов у пешеходного светофор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од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тр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д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пя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.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ого сигнала нет у светофор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сине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красно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желто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зеленог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нимательные вопро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Чем должен быть пристегнут пассажир легкового автотранспорта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. солдатским ремн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. крепкой резинко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. ремнем безопас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 специальной цепочкой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Что нельзя делать в автобус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. оплачивать проез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. проходить в салон, не задерживаясь в проход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. Держаться за поруч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 отвлекать водителя во время движен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.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Какой сигнал светофора запрещает движени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. зелен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. бел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. красн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. си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.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ри помощи чего инспектор ДПС регулирует дорожное движени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. фураж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. флажк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. платк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. жезл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о я, это я, это все мои друз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34544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ОССВОР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Какие бывают пешеходные переходы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Где может двигаться пешеход, если отсутствует пешеходная дорожк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Дорога для движения пеше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Дорога для транспортных средст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Кто может разрешить движение пешеходам или водителя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Посадочная площадка для пассажиров общественного транспор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Как переходить дорогу по пешеходному переходу без светофор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Переходите дорогу только на специальных переходах. Не пугайте водителей, перебегая дорогу перед автомобилям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97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74080" y="452160"/>
            <a:ext cx="7687080" cy="16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ереходя дорогу, обязательно сначала посмотри налево, а дойдя до середины дороги — направо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11280" y="2361960"/>
            <a:ext cx="4319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рога не тропин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рога не канав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ерва смотри налево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том смотри направ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лево гляд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направо гляди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— если машин не увидишь 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ди!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456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 играйте на проезжей части!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2738520"/>
            <a:ext cx="4897440" cy="3895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322344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б не было несчасть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помните, друзь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 на проезжей ча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ть нельзя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ешех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"Пешеход" - состоит из двух слов "пеш" и "ход". Что такое ход всем понятно, а что же такое "пеш"? Оказывается давным-давно, нижние конечности человека называли именно так - словом "пеш" или "пех". В буквальном смысле слово "пешеход" обозначает "ногоход", т.е. человек передвигающийся посредством своих нижних конечностей, но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"НОГОХОД - ПЕШЕХОД"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88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ИК У ПЕРЕХОД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У дороги в домик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Без сада и крылечк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роживают гноми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ва славных человечк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Не играют в домино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 салки или прят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А весь день глядят в окно:                                                         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се ли там в порядке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Гном зеленый говорит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се спокойно. Путь открыт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Если вышел красный —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Значит, путь опасный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И днем и ночью темною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Окошки в нем не гаснут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от вышел гном зеленый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от появился красны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4751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Это встал для нас в дозо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учеглазый …?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Желтым глазом он мигае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трого нас предупреждает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Чтобы был счастливым пу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внимательнее будь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не бегай, не играй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де автобус и трамвай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удь, малыш, всегда смышлен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шагай на свет …?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Этот конь не ест овс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место ног – два коле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ядь верхом и мчись на не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Только лучше правь рулем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де ведут ступеньки вниз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ы спускайся, не ленис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нать обязан пешеход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ут …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е летает, не жужжит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Жук по улице бежи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горят в глазах жу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ва блестящих огоньк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дивительный вагон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судите сам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льсы в воздухе, а о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ржит их рук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384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лосатые лошад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перёк дорог легли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авто остановили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сли здесь проходим 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нь его – из прочной ста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уль, седло есть и педа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адник транспортом гордитс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дороге быстро мчи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гулировщи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гулировщик показывает, кому можно ехать, а кому нет. Даже если работает светофор, пешеходы должны следовать указаниям регулировщ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рука с жезлом поднята вверх, то все должны стоять. Этот жест запрещает движение. Стоять должны и машины и пешеходы, даже если горит зеленый сигнал светофо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7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1:50Z</dcterms:created>
  <dc:creator>USER</dc:creator>
  <dc:description/>
  <dc:language>en-US</dc:language>
  <cp:lastModifiedBy>USER</cp:lastModifiedBy>
  <dcterms:modified xsi:type="dcterms:W3CDTF">2012-01-13T14:22:24Z</dcterms:modified>
  <cp:revision>8</cp:revision>
  <dc:subject/>
  <dc:title>Воспитательский час  по ПДД</dc:title>
</cp:coreProperties>
</file>