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ADFB-67D7-4FBC-A3AE-48FF52BB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DB12-863A-4710-8ADE-27CB0FB1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95DE-CDE8-40B2-BFC2-0092226D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FF14-05D1-4700-8A8B-E6C1F9AB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FE10-9D6C-4D86-8D88-6E29F1FF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19F1-9FFB-47CA-B54F-B8F9C5DC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2BDD-F9F7-493C-9C44-C4582488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A9EB-7E69-478C-AD49-55ACA364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5B7E-007D-4E3A-990B-A9B46583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6375-7B10-4D40-9652-8575B205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8D12-477E-4868-B0A3-6246E560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1881-ADEF-4140-B2E4-E0719312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8A86-9F63-4583-A8A0-F6133935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1053-EE0B-4685-9F21-8261A1A1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CE5D-6375-4D7A-B0CD-B928D186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0ED0-419A-4297-93DB-3086BEB3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73BD-E4B9-4010-A955-EDFD162FE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E67E-7FB6-4BDE-B8B9-76E7AFD5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E7BB-C56E-467C-9FD6-EA33181B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4ACC-8840-41CB-8DE6-7D870F87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5805-CCC3-4E0B-9C77-8C569139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8CF8-36ED-48FB-8899-9E5E7812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6654-C89A-47B8-90C4-214FB47B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676C-B455-4D65-BE4A-1FBFE7D7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C86C-E560-4A16-91E4-B92E30DA62D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F3B0-4CB8-46EF-A243-0E9FF3F7EBB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Воспитательский час 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по ПДД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«Регулирование дорожного движения»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Воспитатель Асбестовской СКОШИ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Мартьянова С.А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нимательные вопросы: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1. Где должны идти пешеходы в населенном пункте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. по бордюру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. по тротуару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. по клумбам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Какая разметка наносится на проезжую часть дороги, где разрешается переход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. белые крестик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. желтые кружочк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. оранжевые цветочк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. белые полоск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. Сколько сигналов у пешеходного светофора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. один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. тр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. дв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. пять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4.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Какого сигнала нет у светофора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. синего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. красного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. желтого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. зеленого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нимательные вопрос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5.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Чем должен быть пристегнут пассажир легкового автотранспорта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. солдатским ремне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Б. крепкой резинкой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. ремнем безопасно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. специальной цепочкой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6.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Что нельзя делать в автобусе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. оплачивать проезд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Б. проходить в салон, не задерживаясь в проход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. Держаться за поручн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. отвлекать водителя во время движения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7.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Какой сигнал светофора запрещает движение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А. зеленый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Б. белый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В. красный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Г. синий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8.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При помощи чего инспектор ДПС регулирует дорожное движение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А. фуражк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Б. флажк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В. платк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Г. жезл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Это я, это я, это все мои друзь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734544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РОССВОРД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Какие бывают пешеходные переходы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Где может двигаться пешеход, если отсутствует пешеходная дорожка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 Дорога для движения пеше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 Дорога для транспортных средст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 Кто может разрешить движение пешеходам или водителям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. Посадочная площадка для пассажиров общественного транспорт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. Как переходить дорогу по пешеходному переходу без светофора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Переходите дорогу только на специальных переходах. Не пугайте водителей, перебегая дорогу перед автомобилями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58920" y="2205000"/>
            <a:ext cx="66978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74080" y="452160"/>
            <a:ext cx="7687080" cy="16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Переходя дорогу, обязательно сначала посмотри налево, а дойдя до середины дороги — направо.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 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211280" y="2361960"/>
            <a:ext cx="4319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орога не тропинка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орога не канава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перва смотри налево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том смотри направо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лево гляди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 направо гляди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 — если машин не увидишь —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ди!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3456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Не играйте на проезжей части!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19640" y="2738520"/>
            <a:ext cx="4897440" cy="3895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042920" y="3223440"/>
            <a:ext cx="36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Чтоб не было несчастья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Запомните, друзья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Что на проезжей ча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грать нельзя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ешеход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"Пешеход" - состоит из двух слов "пеш" и "ход". Что такое ход всем понятно, а что же такое "пеш"? Оказывается давным-давно, нижние конечности человека называли именно так - словом "пеш" или "пех". В буквальном смысле слово "пешеход" обозначает "ногоход", т.е. человек передвигающийся посредством своих нижних конечностей, ног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"НОГОХОД - ПЕШЕХОД"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716360" y="2349360"/>
            <a:ext cx="3888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МИК У ПЕРЕХОДА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У дороги в домик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Без сада и крылечк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Проживают гномики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Два славных человечк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Не играют в домино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В салки или прятки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А весь день глядят в окно:                                                                 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Все ли там в порядке?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Гном зеленый говорит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—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Все спокойно. Путь открыт!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Если вышел красный —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Значит, путь опасный!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И днем и ночью темною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Окошки в нем не гаснут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Вот вышел гном зеленый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Вот появился красны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492360" y="2205000"/>
            <a:ext cx="4751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Загад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Это встал для нас в дозор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Пучеглазый …?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Желтым глазом он мигает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Строго нас предупреждает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Чтобы был счастливым путь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Повнимательнее будь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И не бегай, не играй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Где автобус и трамвай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Будь, малыш, всегда смышленый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И шагай на свет …?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Этот конь не ест овса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Вместо ног – два колес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Сядь верхом и мчись на нем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Только лучше правь рулем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де ведут ступеньки вниз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Ты спускайся, не ленись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Знать обязан пешеход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Тут …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е летает, не жужжит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Жук по улице бежит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 горят в глазах жук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Два блестящих огонька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Удивительный вагон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осудите сами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ельсы в воздухе, а он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Держит их рука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508720" y="0"/>
            <a:ext cx="33843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гад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лосатые лошад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перёк дорог легли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се авто остановилис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Если здесь проходим м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760640" y="2362320"/>
            <a:ext cx="3770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нь его – из прочной стали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уль, седло есть и педали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садник транспортом гордится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 дороге быстро мчитс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58920" y="4149720"/>
            <a:ext cx="2665440" cy="244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292720" y="0"/>
            <a:ext cx="38512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егулировщик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егулировщик показывает, кому можно ехать, а кому нет. Даже если работает светофор, пешеходы должны следовать указаниям регулировщ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Если рука с жезлом поднята вверх, то все должны стоять. Этот жест запрещает движение. Стоять должны и машины и пешеходы, даже если горит зеленый сигнал светофор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478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7:11:50Z</dcterms:created>
  <dc:creator>USER</dc:creator>
  <dc:description/>
  <dc:language>en-US</dc:language>
  <cp:lastModifiedBy>USER</cp:lastModifiedBy>
  <dcterms:modified xsi:type="dcterms:W3CDTF">2012-01-13T14:22:24Z</dcterms:modified>
  <cp:revision>8</cp:revision>
  <dc:subject/>
  <dc:title>Воспитательский час  по ПДД</dc:title>
</cp:coreProperties>
</file>