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67C-622F-42C5-9665-12E97A18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15D-158B-4FA3-8A51-46340086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1CE-38D6-438D-B455-EB3C592C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2ED-8F55-4B4A-A3D6-1D9DAE81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C406-3B03-45FA-B8AC-D11B9A8A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2C1C-518C-4B29-8B51-0FE0B5D2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4E6A-2A9C-45B7-B152-2D63C8BC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9A8A-A40F-4DDA-8340-B30B6B2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BC4F-CD0F-41E4-AD8F-841E7493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386C-2B8C-4040-B37E-C0CC00D9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852B-1641-452F-B3C0-8061CDF1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229-D3C3-430A-B385-3314192E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34F9-CB1B-497C-9B3E-46827CE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9342-CD69-463B-9D8B-E21FFB2D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BEDB-4338-4A3C-81D4-6576FAF9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8293-0B42-4901-9F31-B854CF13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59AF-0D7D-44EC-8419-0732FD9E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0B8-F6D8-45FB-965A-E717303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D39-FFB0-4C8B-96A2-7F8F10F1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077-4503-4AE6-A85D-2A272D79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DA9-851F-413F-916F-11A74CDA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E55-11ED-41F2-BD76-8B672E4C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CDC-FF1B-42DB-8AAC-8E669C28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D8E-641B-4F49-B3A9-DFE7BAE3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499C-4B08-48E7-978E-E8135B5271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1AD8-E14B-4C89-BCB1-DDE9C90258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Внутренняя среда 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организм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олекула гемоглоб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409760"/>
            <a:ext cx="65516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йкоци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йкоцит против бактерий 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293" t="0" r="0" b="6586"/>
          <a:stretch/>
        </p:blipFill>
        <p:spPr>
          <a:xfrm>
            <a:off x="1042920" y="1434960"/>
            <a:ext cx="70581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Тромб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42920" y="1133640"/>
            <a:ext cx="734544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ом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355760"/>
            <a:ext cx="66247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нутренняя среда организ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это совокупность жидкостей, принимающих участие в процессах обмена веществ и поддержания гомеостаза орган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ров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Лимф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каневая жидк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начение и 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К какому типу тканей относится кровь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признаки характерны для этого типа ткан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68360" y="1125360"/>
            <a:ext cx="1440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1125360"/>
            <a:ext cx="93672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989000"/>
            <a:ext cx="3311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-60 % объёма кр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1700280"/>
            <a:ext cx="3708360" cy="1728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ормен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ле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-40 % объёма кр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997360"/>
            <a:ext cx="3311640" cy="367164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да 90-92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лки 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ры 0,8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люкоза 0,12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н. соли  0,9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ер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рм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ук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3429000"/>
            <a:ext cx="3672000" cy="3168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оотношение компонентов кров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492200"/>
            <a:ext cx="6480360" cy="504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орменные элементы кров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836640"/>
          <a:ext cx="9144000" cy="5419800"/>
        </p:xfrm>
        <a:graphic>
          <a:graphicData uri="http://schemas.openxmlformats.org/drawingml/2006/table">
            <a:tbl>
              <a:tblPr/>
              <a:tblGrid>
                <a:gridCol w="1828800"/>
                <a:gridCol w="1879560"/>
                <a:gridCol w="1779480"/>
                <a:gridCol w="1827360"/>
                <a:gridCol w="1828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клет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о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сто обра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итр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вояковогнутый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т ядра; содержит 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 костный мозг, селезён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носит О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и СО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йк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руг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сцветная клетка; содержит яд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лезёнка, лимфатические узлы, костный моз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омб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прави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рагменты крупных клеток костного мозга, без яд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 костный моз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ёртывание кров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ритроци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7359"/>
          <a:stretch/>
        </p:blipFill>
        <p:spPr>
          <a:xfrm>
            <a:off x="1835280" y="1284120"/>
            <a:ext cx="6049800" cy="4305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632720" cy="412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5661000"/>
            <a:ext cx="367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повидный эритро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5734080"/>
            <a:ext cx="36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рмальный эритро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6:49:11Z</dcterms:created>
  <dc:creator>белый лукич</dc:creator>
  <dc:description/>
  <dc:language>en-US</dc:language>
  <cp:lastModifiedBy>белый лукич</cp:lastModifiedBy>
  <dcterms:modified xsi:type="dcterms:W3CDTF">2006-11-16T20:22:35Z</dcterms:modified>
  <cp:revision>3</cp:revision>
  <dc:subject/>
  <dc:title>Внутренняя среда  организма</dc:title>
</cp:coreProperties>
</file>