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389-1138-4B59-9E6B-B33CD397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A3A-F65C-425E-A6B3-90813654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1F4-256A-4D0E-BEEC-DD3DA426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AD4-2928-4BF6-ACFE-D24F8B96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4317-DEBD-40E0-8AC6-F1A62353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0870-9369-45A2-ADB4-63667A47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359D-F752-41BB-B64F-F7598344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B05A-6552-458D-B68F-2E8DB7F9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15E6-6211-4426-9ECF-D301D07A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1572-73E9-4E83-97C5-2ABBA3E3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7C02-0DBB-4107-81D5-C7B7854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B9A-FB90-4194-9986-E25138D0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2B47-1EE3-4C4C-BB87-5E12C322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2002-9516-4756-A6CD-7999F71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5B30-F5A0-48D1-94C4-C753B3CC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44E9-714A-40C6-ADE8-A3A270AC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9081-FAB8-4545-B5E3-92EEE1CB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5D8-8535-40B8-B163-D37050A3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A9D-77FC-49D2-97DE-456BACB8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F5B-8A94-4F84-AD81-E3EF101B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F1E-F27B-4047-8838-A23C6245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376-6FCE-45C7-B051-C4902E2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2F6-5AA3-4DF3-AE56-74D62697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612-4622-4CF6-86D8-95974C69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1C9B-B592-4672-8515-126BA73DA6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547F-1762-4962-B4D1-D835C8A7BD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Внутренняя среда 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организм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олекула гемоглоб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409760"/>
            <a:ext cx="65516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йкоци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йкоцит против бактерий 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293" t="0" r="0" b="6586"/>
          <a:stretch/>
        </p:blipFill>
        <p:spPr>
          <a:xfrm>
            <a:off x="1042920" y="1434960"/>
            <a:ext cx="70581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Тромб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42920" y="1133640"/>
            <a:ext cx="734544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ом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355760"/>
            <a:ext cx="66247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нутренняя среда организ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это совокупность жидкостей, принимающих участие в процессах обмена веществ и поддержания гомеостаза орган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ров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Лимф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каневая жидк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начение и 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К какому типу тканей относится кровь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признаки характерны для этого типа ткан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68360" y="1125360"/>
            <a:ext cx="1440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1125360"/>
            <a:ext cx="93672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989000"/>
            <a:ext cx="3311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-60 % объёма кр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1700280"/>
            <a:ext cx="3708360" cy="1728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ормен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ле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-40 % объёма кр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997360"/>
            <a:ext cx="3311640" cy="367164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да 90-92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лки 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ры 0,8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люкоза 0,12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н. соли  0,9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ер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рм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ук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3429000"/>
            <a:ext cx="3672000" cy="3168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оотношение компонентов кров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492200"/>
            <a:ext cx="6480360" cy="504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орменные элементы кров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836640"/>
          <a:ext cx="9144000" cy="5419800"/>
        </p:xfrm>
        <a:graphic>
          <a:graphicData uri="http://schemas.openxmlformats.org/drawingml/2006/table">
            <a:tbl>
              <a:tblPr/>
              <a:tblGrid>
                <a:gridCol w="1828800"/>
                <a:gridCol w="1879560"/>
                <a:gridCol w="1779480"/>
                <a:gridCol w="1827360"/>
                <a:gridCol w="1828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клет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о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сто обра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итр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вояковогнутый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т ядра; содержит 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 костный мозг, селезён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носит О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и СО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йк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руг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сцветная клетка; содержит яд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лезёнка, лимфатические узлы, костный моз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омб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прави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рагменты крупных клеток костного мозга, без яд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 костный моз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ёртывание кров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ритроци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7359"/>
          <a:stretch/>
        </p:blipFill>
        <p:spPr>
          <a:xfrm>
            <a:off x="1835280" y="1284120"/>
            <a:ext cx="6049800" cy="4305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632720" cy="412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5661000"/>
            <a:ext cx="367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повидный эритро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5734080"/>
            <a:ext cx="36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рмальный эритро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6:49:11Z</dcterms:created>
  <dc:creator>белый лукич</dc:creator>
  <dc:description/>
  <dc:language>en-US</dc:language>
  <cp:lastModifiedBy>белый лукич</cp:lastModifiedBy>
  <dcterms:modified xsi:type="dcterms:W3CDTF">2006-11-16T20:22:35Z</dcterms:modified>
  <cp:revision>3</cp:revision>
  <dc:subject/>
  <dc:title>Внутренняя среда  организма</dc:title>
</cp:coreProperties>
</file>