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70D0-0585-4CB5-8485-FA19980F0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EF22-EDBB-4075-892A-F6AABD5A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9FFA-5A21-4664-AF49-8BCFAA728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1AD0-4A55-4520-B34A-5CF62BFD0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0695-F3B3-4ECB-8291-01518E93B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A24F-B20B-4B0A-918B-01E0A5E5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E55F-180D-4EE6-940D-1C2CE0E9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81CC-E3F4-4C09-BE9C-E1C36FF7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F072-7327-4E7C-AF10-CAC6B70F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2C33A-1C55-488A-97DC-62B3F10C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324C-45D6-46F7-9081-DA85B41C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9474-B3D8-417E-8EB0-7C45B639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00EC1-A5CD-43AE-9D24-0A523E48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25FD7-135C-4D2E-A1CC-C51B9DD7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E2EB-EC8F-4700-8EA3-DD11F922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A43B-BD96-4CC3-954F-6A6747F15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21C67-2EDF-4BC1-9704-5DFD603C5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B95E-3329-4833-8EE0-D1F4BBB9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AADC-8B11-46AF-BE97-5657669E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F8E2-FE86-4A71-913B-62AC311D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4096-3E33-4322-ACA8-A40F4BE1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7CF2-977E-4482-A190-EF71680E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C170-74C9-44BE-8F97-8BBAC4A0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2F55-44C9-4921-8F4F-57F1CAB4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53CB-350B-455A-AAD6-62F1620DD18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4F11-3D89-4359-9666-66291B83E8F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Внутренняя среда </a:t>
            </a:r>
            <a:br>
              <a:rPr sz="6000"/>
            </a:b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организма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Молекула гемоглобин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76360" y="1409760"/>
            <a:ext cx="655164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Лейкоцит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195640" y="148428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Лейкоцит против бактерий 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1293" t="0" r="0" b="6586"/>
          <a:stretch/>
        </p:blipFill>
        <p:spPr>
          <a:xfrm>
            <a:off x="1042920" y="1434960"/>
            <a:ext cx="705816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Тромбоцит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324160" y="160020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Тромб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42920" y="1133640"/>
            <a:ext cx="7345440" cy="56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Тром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332000" y="1355760"/>
            <a:ext cx="662472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777744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Внутренняя среда организм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91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это совокупность жидкостей, принимающих участие в процессах обмена веществ и поддержания гомеостаза организ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Кров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Лимф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Тканевая жидк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Значение и состав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К какому типу тканей относится кровь?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ие признаки характерны для этого типа ткане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Состав кров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268360" y="1125360"/>
            <a:ext cx="144000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19640" y="1125360"/>
            <a:ext cx="936720" cy="57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1989000"/>
            <a:ext cx="3311640" cy="10083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Плаз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0-60 % объёма кров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32360" y="1700280"/>
            <a:ext cx="3708360" cy="17287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Форменны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Элемен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0-40 % объёма кров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2997360"/>
            <a:ext cx="3311640" cy="367164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да 90-92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елки 7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Жиры 0,8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люкоза 0,12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ин. соли  0,9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фермен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ормо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дукт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жизне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932360" y="3429000"/>
            <a:ext cx="3672000" cy="316872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Эритроци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Лейкоци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ромбоци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Соотношение компонентов кров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47640" y="1492200"/>
            <a:ext cx="6480360" cy="5048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9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Форменные элементы кров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0" y="836640"/>
          <a:ext cx="9144000" cy="5419800"/>
        </p:xfrm>
        <a:graphic>
          <a:graphicData uri="http://schemas.openxmlformats.org/drawingml/2006/table">
            <a:tbl>
              <a:tblPr/>
              <a:tblGrid>
                <a:gridCol w="1828800"/>
                <a:gridCol w="1879560"/>
                <a:gridCol w="1779480"/>
                <a:gridCol w="1827360"/>
                <a:gridCol w="18288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звание клет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орм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ро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сто образов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унк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ритроци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вояковогнутый дис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т ядра; содержит гемоглоб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расный костный мозг, селезён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ереносит О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и СО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ейкоци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кругл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есцветная клетка; содержит ядр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елезёнка, лимфатические узлы, костный моз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щит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ромбоци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правиль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рагменты крупных клеток костного мозга, без яд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расный костный моз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вёртывание кров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Эритроцит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0" r="0" b="7359"/>
          <a:stretch/>
        </p:blipFill>
        <p:spPr>
          <a:xfrm>
            <a:off x="1835280" y="1284120"/>
            <a:ext cx="6049800" cy="4305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26920" y="1441440"/>
            <a:ext cx="7632720" cy="4121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826920" y="5661000"/>
            <a:ext cx="3673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ерповидный эритроц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932360" y="5734080"/>
            <a:ext cx="3600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ормальный эритроц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16:49:11Z</dcterms:created>
  <dc:creator>белый лукич</dc:creator>
  <dc:description/>
  <dc:language>en-US</dc:language>
  <cp:lastModifiedBy>белый лукич</cp:lastModifiedBy>
  <dcterms:modified xsi:type="dcterms:W3CDTF">2006-11-16T20:22:35Z</dcterms:modified>
  <cp:revision>3</cp:revision>
  <dc:subject/>
  <dc:title>Внутренняя среда  организма</dc:title>
</cp:coreProperties>
</file>