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7E5-5AF0-4047-A5AB-94892948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4CA-CB83-4D80-9465-B6D5D3A1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A14-B1AD-4745-A077-57A0CF0C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5DF-E380-4C88-AADB-E9331BCE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9DA-BCA5-4589-83F3-720BE94D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074-1640-45CE-A991-7E499F04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4C1-233D-4F98-8C87-8B4FBE23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FAA-141B-49CB-A6B0-7166C436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518-4551-4DC6-AED5-E80F8CC6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CC5-530B-4886-BACD-56A43A21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740-F22A-4B80-B860-F47E85A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AD1-3CC8-4812-9EE5-F03677B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6027-0BC6-40DA-BCB5-A3B7D39E8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числение значений функции по формуле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ок алгебры, 7 класс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К Ю.Н. Макары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56000" y="4653000"/>
            <a:ext cx="4496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Лазарчук Владимир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и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п. Енский Ковдорского района 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476280"/>
            <a:ext cx="80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, пройденный автомобилем при равномерном движении со скоростью 50 км/ч, зависит от времени движ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0800000">
            <a:off x="971640" y="2204280"/>
            <a:ext cx="5473440" cy="1655640"/>
          </a:xfrm>
          <a:prstGeom prst="wedgeEllipseCallout">
            <a:avLst>
              <a:gd name="adj1" fmla="val -67402"/>
              <a:gd name="adj2" fmla="val -107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записать формулу зависимости пути от време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68360" y="1700280"/>
                <a:ext cx="4392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пройденный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путь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03640" y="1700280"/>
                <a:ext cx="3907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ремя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движения</m:t>
                    </m:r>
                    <m:r>
                      <m:t xml:space="preserve">(</m:t>
                    </m:r>
                    <m:r>
                      <m:t xml:space="preserve">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11280" y="4149720"/>
                <a:ext cx="18115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187280" y="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4000" y="549360"/>
                <a:ext cx="30240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формул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пу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10800000">
            <a:off x="3419640" y="332640"/>
            <a:ext cx="5473440" cy="1655640"/>
          </a:xfrm>
          <a:prstGeom prst="wedgeEllipseCallout">
            <a:avLst>
              <a:gd name="adj1" fmla="val -25319"/>
              <a:gd name="adj2" fmla="val -2211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аргумент и функцию от этого аргу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92360" y="2276640"/>
                <a:ext cx="2449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4000" y="2349360"/>
                <a:ext cx="2736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аргумен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 rot="10800000">
            <a:off x="3419640" y="332640"/>
            <a:ext cx="5473440" cy="1655640"/>
          </a:xfrm>
          <a:prstGeom prst="wedgeEllipseCallout">
            <a:avLst>
              <a:gd name="adj1" fmla="val -25379"/>
              <a:gd name="adj2" fmla="val -2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а область определения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00360" y="2924280"/>
                <a:ext cx="1006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rot="10800000">
            <a:off x="3419640" y="332640"/>
            <a:ext cx="5473440" cy="1655640"/>
          </a:xfrm>
          <a:prstGeom prst="wedgeEllipseCallout">
            <a:avLst>
              <a:gd name="adj1" fmla="val -25870"/>
              <a:gd name="adj2" fmla="val -222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значения функции, если значения аргумента рав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11280" y="3716280"/>
                <a:ext cx="13698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11280" y="4437000"/>
                <a:ext cx="1006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27280" y="3716280"/>
                <a:ext cx="1328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27280" y="4437000"/>
                <a:ext cx="1569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ь функция задана форму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68360" y="765000"/>
                <a:ext cx="46800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68360" y="206064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 значен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соответствующие целым значения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306864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зультаты вычислений запишем в вид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3716280"/>
          <a:ext cx="6096240" cy="1513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45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3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4581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5813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516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анном примере область определения указана в усло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03640" y="5950080"/>
                <a:ext cx="1952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ь функция задана форму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741840" y="765000"/>
                <a:ext cx="17319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68360" y="19162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ем область определения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492280"/>
            <a:ext cx="82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омним, что область определения функции, это все значения, которые принимает независимая переменная (аргумен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10800000">
            <a:off x="684360" y="3789000"/>
            <a:ext cx="5473440" cy="1079640"/>
          </a:xfrm>
          <a:prstGeom prst="wedgeEllipseCallout">
            <a:avLst>
              <a:gd name="adj1" fmla="val -74305"/>
              <a:gd name="adj2" fmla="val -46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да ли возможно дел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157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нуль дели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393372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едовательно область определения – все значения кроме – 9;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246560" y="4292640"/>
                <a:ext cx="1290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620640"/>
            <a:ext cx="81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функция задана формулой и область определения не указана, то считают, что область определения состоит из всех значений независимой переменной, при которых эта формула имеет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13440" y="2852640"/>
            <a:ext cx="288936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ь функция задана форму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576600" y="1041480"/>
                <a:ext cx="2063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68360" y="1773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ем, при каком значении аргумента значение функции равно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708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услов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71840" y="2637000"/>
                <a:ext cx="1143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851280" y="2708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ужно найти значение 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2130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тавим в формулу вмес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начение 3 и решим полученное у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19640" y="4005360"/>
                <a:ext cx="1989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581360"/>
                <a:ext cx="20253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9640" y="5300640"/>
                <a:ext cx="14382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229360"/>
                <a:ext cx="1511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76500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последнем примере с помощью формулы мы нашли значение аргумента, которому соответствует данное значение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13440" y="2852640"/>
            <a:ext cx="288936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18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область определ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1125360"/>
                <a:ext cx="2063880" cy="5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395280" y="112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08160" y="1857240"/>
                <a:ext cx="17319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38200" y="2205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29440" y="4221000"/>
            <a:ext cx="2014560" cy="26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58920" y="3284640"/>
                <a:ext cx="17319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88960" y="36320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66760" y="4821120"/>
                <a:ext cx="20638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62040" y="49291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112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– люб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1989000"/>
            <a:ext cx="54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 2, т.к. при х = 2  знаменатель равен нулю, а на нуль дели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5013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– люб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82920" y="33577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 - 5, т.к. при х = - 5  знаменатель равен нулю, а на нуль дели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те из уч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7, 269, 271,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0" y="2565360"/>
            <a:ext cx="28893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. 13, № 268, 270, 2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28893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ть: определения функции, области определения функции, области значени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находить значения функции по формуле и находить область определения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68360" y="54936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55736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. 7 класс: учеб. для общеобразоват. организаций учреждений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.Н. Макарычев, Н.Г. Миндюк, К.И. Нешков, С.Б. Сувор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под. ред. С.А. Теляковского. –  18-е изд. – М. : Просвещение, 2009. – 240 с. : и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N 978-5-09-021255-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35280" y="1052640"/>
            <a:ext cx="547344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ботаем уст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2781360"/>
            <a:ext cx="272268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формулируйте определе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421000"/>
            <a:ext cx="41749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ей называют такую зависимость одной переменной (зависимой) от другой (независимой), при которой каждому значению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зависимой переменной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тветствует единственное значение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зависимой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еременн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аргумен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637000"/>
            <a:ext cx="41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зависимую переменную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аргумент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функцией от аргу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565360"/>
            <a:ext cx="403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исимую переменную называют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функци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т  аргу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областью определения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2349360"/>
            <a:ext cx="403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 значения, которые принимает независимая переменная, называют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бластью определения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областью значений 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637000"/>
            <a:ext cx="424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 значения, которые принимает зависимая переменная, называют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бластью значений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ми способами можно задать функ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060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фи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924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чным (в виде табли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3716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помощью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16:53:13Z</dcterms:created>
  <dc:creator>User</dc:creator>
  <dc:description/>
  <dc:language>en-US</dc:language>
  <cp:lastModifiedBy>User</cp:lastModifiedBy>
  <dcterms:modified xsi:type="dcterms:W3CDTF">2015-10-28T16:42:36Z</dcterms:modified>
  <cp:revision>5</cp:revision>
  <dc:subject/>
  <dc:title>Вычисление значений функции по формуле  урок алгебры, 7 класс, УМК Ю.Н. Макарычев</dc:title>
</cp:coreProperties>
</file>