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9FC3-CA39-48E6-8822-DA0BBF275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73EF-715C-40C9-8CDE-79E79BB6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B382-F66D-4A4B-B211-C086ACE0C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0655-0F8B-484F-AF91-A4BE4909B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549C-1BF5-4B4B-A408-BE684963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EC40-6D6D-4ADC-85A4-72253E36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69BA-C165-4B59-82F4-72D9A6F7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4785-4F2A-41EA-A1FF-B8EED897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AF01-B42A-4306-AB67-40579ADF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0698-648F-4962-A070-02176CBC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FF7C-0FA3-4163-BDC5-2A5A0485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5E64-7736-4F9F-96A4-89B6A16E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3C9D-D9A3-49E9-9BF6-22061C52A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ычисление значений функции по формуле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рок алгебры, 7 класс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МК Ю.Н. Макарыч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356000" y="4653000"/>
            <a:ext cx="44960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: Лазарчук Владимир Николаевич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математики и физ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СОШ №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п. Енский Ковдорского района Мурма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9640" y="476280"/>
            <a:ext cx="80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ть, пройденный автомобилем при равномерном движении со скоростью 50 км/ч, зависит от времени движения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948360" y="4076640"/>
            <a:ext cx="1954440" cy="2559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 rot="10800000">
            <a:off x="971640" y="2204280"/>
            <a:ext cx="5473440" cy="1655640"/>
          </a:xfrm>
          <a:prstGeom prst="wedgeEllipseCallout">
            <a:avLst>
              <a:gd name="adj1" fmla="val -67402"/>
              <a:gd name="adj2" fmla="val -107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записать формулу зависимости пути от времен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68360" y="1700280"/>
                <a:ext cx="439272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пройденный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путь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к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003640" y="1700280"/>
                <a:ext cx="39070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время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движения</m:t>
                    </m:r>
                    <m:r>
                      <m:t xml:space="preserve">(</m:t>
                    </m:r>
                    <m:r>
                      <m:t xml:space="preserve">ч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411280" y="4149720"/>
                <a:ext cx="18115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1187280" y="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мер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24000" y="549360"/>
                <a:ext cx="302400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формула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пут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948360" y="4076640"/>
            <a:ext cx="1954440" cy="2559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rot="10800000">
            <a:off x="3419640" y="332640"/>
            <a:ext cx="5473440" cy="1655640"/>
          </a:xfrm>
          <a:prstGeom prst="wedgeEllipseCallout">
            <a:avLst>
              <a:gd name="adj1" fmla="val -25319"/>
              <a:gd name="adj2" fmla="val -2211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овите аргумент и функцию от этого аргум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492360" y="2276640"/>
                <a:ext cx="24498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функци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24000" y="2349360"/>
                <a:ext cx="27367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аргумен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 rot="10800000">
            <a:off x="3419640" y="332640"/>
            <a:ext cx="5473440" cy="1655640"/>
          </a:xfrm>
          <a:prstGeom prst="wedgeEllipseCallout">
            <a:avLst>
              <a:gd name="adj1" fmla="val -25379"/>
              <a:gd name="adj2" fmla="val -220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ова область определения функ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700360" y="2924280"/>
                <a:ext cx="10065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 rot="10800000">
            <a:off x="3419640" y="332640"/>
            <a:ext cx="5473440" cy="1655640"/>
          </a:xfrm>
          <a:prstGeom prst="wedgeEllipseCallout">
            <a:avLst>
              <a:gd name="adj1" fmla="val -25870"/>
              <a:gd name="adj2" fmla="val -2226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дите значения функции, если значения аргумента рав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11280" y="3716280"/>
                <a:ext cx="136980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611280" y="4437000"/>
                <a:ext cx="10065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627280" y="3716280"/>
                <a:ext cx="13287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627280" y="4437000"/>
                <a:ext cx="15699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9640" y="189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мер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84360" y="189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сть функция задана формул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268360" y="765000"/>
                <a:ext cx="468000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где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≤</m:t>
                    </m:r>
                    <m:r>
                      <m:t xml:space="preserve">х</m:t>
                    </m:r>
                    <m:r>
                      <m:t xml:space="preserve">≤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468360" y="206064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дём значения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соответствующие целым значениям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3068640"/>
            <a:ext cx="81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зультаты вычислений запишем в виде табл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3880" y="3716280"/>
          <a:ext cx="6096240" cy="151308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75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2411280" y="4581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87640" y="4581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3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4360" y="4581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00720" y="458136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64000" y="4581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84720" y="458136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48360" y="4581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551664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данном примере область определения указана в услов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003640" y="5950080"/>
                <a:ext cx="19526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≤</m:t>
                    </m:r>
                    <m:r>
                      <m:t xml:space="preserve">х</m:t>
                    </m:r>
                    <m:r>
                      <m:t xml:space="preserve">≤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9640" y="189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мер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84360" y="189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сть функция задана формул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741840" y="765000"/>
                <a:ext cx="173196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468360" y="191628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дем область определения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2492280"/>
            <a:ext cx="820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помним, что область определения функции, это все значения, которые принимает независимая переменная (аргумен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948360" y="4076640"/>
            <a:ext cx="1954440" cy="2559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rot="10800000">
            <a:off x="684360" y="3789000"/>
            <a:ext cx="5473440" cy="1079640"/>
          </a:xfrm>
          <a:prstGeom prst="wedgeEllipseCallout">
            <a:avLst>
              <a:gd name="adj1" fmla="val -74305"/>
              <a:gd name="adj2" fmla="val -461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егда ли возможно делени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15772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нуль делить нельз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3933720"/>
            <a:ext cx="82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едовательно область определения – все значения кроме – 9; 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246560" y="4292640"/>
                <a:ext cx="12906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620640"/>
            <a:ext cx="813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сли функция задана формулой и область определения не указана, то считают, что область определения состоит из всех значений независимой переменной, при которых эта формула имеет смыс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13440" y="2852640"/>
            <a:ext cx="288936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9640" y="189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мер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84360" y="189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сть функция задана формул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576600" y="1041480"/>
                <a:ext cx="20638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468360" y="177336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дем, при каком значении аргумента значение функции равно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270828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услов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571840" y="2637000"/>
                <a:ext cx="11430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851280" y="2708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ужно найти значение 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321300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тавим в формулу вместо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значение 3 и решим полученное урав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419640" y="4005360"/>
                <a:ext cx="19890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276720" y="4581360"/>
                <a:ext cx="202536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419640" y="5300640"/>
                <a:ext cx="14382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651640" y="5229360"/>
                <a:ext cx="15112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4,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765000"/>
            <a:ext cx="81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последнем примере с помощью формулы мы нашли значение аргумента, которому соответствует данное значение фун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013440" y="2852640"/>
            <a:ext cx="288936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9640" y="189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84360" y="1890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дите область определения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00000" y="1125360"/>
                <a:ext cx="2063880" cy="58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395280" y="112536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208160" y="1857240"/>
                <a:ext cx="173196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538200" y="220500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129440" y="4221000"/>
            <a:ext cx="2014560" cy="2637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258920" y="3284640"/>
                <a:ext cx="17319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588960" y="363204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166760" y="4821120"/>
                <a:ext cx="20638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662040" y="492912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64000" y="1125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 – люб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19640" y="1989000"/>
            <a:ext cx="54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 2, т.к. при х = 2  знаменатель равен нулю, а на нуль делить нельз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35280" y="5013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 – люб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82920" y="335772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 - 5, т.к. при х = - 5  знаменатель равен нулю, а на нуль делить нельз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ите из учеб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67, 269, 271, 2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72000" y="2565360"/>
            <a:ext cx="288936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е на 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. 13, № 268, 270, 2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284720" y="2565360"/>
            <a:ext cx="288936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торить: определения функции, области определения функции, области значений фун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рабатывать умения находить значения функции по формуле и находить область определения ф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468360" y="549360"/>
            <a:ext cx="82296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исок используемых источ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50920" y="1557360"/>
            <a:ext cx="8642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ебра. 7 класс: учеб. для общеобразоват. организаций учреждений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Ю.Н. Макарычев, Н.Г. Миндюк, К.И. Нешков, С.Б. Суворо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под. ред. С.А. Теляковского. –  18-е изд. – М. : Просвещение, 2009. – 240 с. : ил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BN 978-5-09-021255-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835280" y="1052640"/>
            <a:ext cx="5473440" cy="17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Работаем уст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572000" y="2781360"/>
            <a:ext cx="2722680" cy="35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948360" y="4076640"/>
            <a:ext cx="1954440" cy="2559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rot="10800000">
            <a:off x="900000" y="404280"/>
            <a:ext cx="6624720" cy="1224000"/>
          </a:xfrm>
          <a:prstGeom prst="wedgeEllipseCallout">
            <a:avLst>
              <a:gd name="adj1" fmla="val -48111"/>
              <a:gd name="adj2" fmla="val -298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формулируйте определени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2421000"/>
            <a:ext cx="41749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ункцией называют такую зависимость одной переменной (зависимой) от другой (независимой), при которой каждому значению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независимой переменной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ответствует единственное значение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зависимой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переменно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38920" y="3933720"/>
            <a:ext cx="2063880" cy="2702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rot="10800000">
            <a:off x="900000" y="404280"/>
            <a:ext cx="6624720" cy="1224000"/>
          </a:xfrm>
          <a:prstGeom prst="wedgeEllipseCallout">
            <a:avLst>
              <a:gd name="adj1" fmla="val -48111"/>
              <a:gd name="adj2" fmla="val -298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называют аргумент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2637000"/>
            <a:ext cx="41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езависимую переменную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зывают </a:t>
            </a: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аргументо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38920" y="3933720"/>
            <a:ext cx="2063880" cy="2702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0800000">
            <a:off x="900000" y="404280"/>
            <a:ext cx="6624720" cy="1224000"/>
          </a:xfrm>
          <a:prstGeom prst="wedgeEllipseCallout">
            <a:avLst>
              <a:gd name="adj1" fmla="val -48111"/>
              <a:gd name="adj2" fmla="val -298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называют функцией от аргумен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2565360"/>
            <a:ext cx="403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висимую переменную называют </a:t>
            </a: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функцие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от  аргум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38920" y="3933720"/>
            <a:ext cx="2063880" cy="2702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rot="10800000">
            <a:off x="900000" y="404280"/>
            <a:ext cx="6624720" cy="1224000"/>
          </a:xfrm>
          <a:prstGeom prst="wedgeEllipseCallout">
            <a:avLst>
              <a:gd name="adj1" fmla="val -48111"/>
              <a:gd name="adj2" fmla="val -298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называют областью определения функ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2349360"/>
            <a:ext cx="4032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се значения, которые принимает независимая переменная, называют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областью определения фун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38920" y="3933720"/>
            <a:ext cx="2063880" cy="2702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rot="10800000">
            <a:off x="900000" y="404280"/>
            <a:ext cx="6624720" cy="1224000"/>
          </a:xfrm>
          <a:prstGeom prst="wedgeEllipseCallout">
            <a:avLst>
              <a:gd name="adj1" fmla="val -48111"/>
              <a:gd name="adj2" fmla="val -298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называют областью значений  функ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2637000"/>
            <a:ext cx="424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се значения, которые принимает зависимая переменная, называют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областью значений фун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38920" y="3933720"/>
            <a:ext cx="2063880" cy="2702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rot="10800000">
            <a:off x="900000" y="404280"/>
            <a:ext cx="6624720" cy="1224000"/>
          </a:xfrm>
          <a:prstGeom prst="wedgeEllipseCallout">
            <a:avLst>
              <a:gd name="adj1" fmla="val -48111"/>
              <a:gd name="adj2" fmla="val -298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ими способами можно задать функци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206064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рафиче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29242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абличным (в виде таблиц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371628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помощью форму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7T16:53:13Z</dcterms:created>
  <dc:creator>User</dc:creator>
  <dc:description/>
  <dc:language>en-US</dc:language>
  <cp:lastModifiedBy>User</cp:lastModifiedBy>
  <dcterms:modified xsi:type="dcterms:W3CDTF">2015-10-28T16:42:36Z</dcterms:modified>
  <cp:revision>5</cp:revision>
  <dc:subject/>
  <dc:title>Вычисление значений функции по формуле  урок алгебры, 7 класс, УМК Ю.Н. Макарычев</dc:title>
</cp:coreProperties>
</file>