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163-9320-4D0F-8AD0-3D8999ED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C16-819C-4E9A-BDE6-86F41DE6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F8E-877A-4E7A-BC37-688513BA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A27-78B5-43FF-AA22-3D76A28A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1776-D5E5-4779-91D7-08423A72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5846-3362-48AF-955A-8FA524CD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E67C-53FA-429F-BBFA-78155C9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11F-0C88-4E5E-B03A-A231D26B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691B-DBAC-406F-8040-2A8CB73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8964-67F9-4486-A4F6-7F2FC250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1FE4-04BD-44BB-939F-6C55881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C30-FA86-4F72-BC44-E9C39F51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A670-B19B-4E09-ADCF-412590B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BA9A-2F61-4FA6-9234-008D9F4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74BA-B4B3-4DF1-9891-37D723D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CF9E-1A9B-4AF3-A6B7-A56F365A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1684-A8C8-4C63-A3F8-E4732E26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F04-DB12-4F2C-8377-A9D9A71C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30A-4D0C-475E-900C-3F7B128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94D-19B9-4184-885E-C3E2BB4B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728-363F-489A-9187-5BB8CF5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634-6361-405F-BEEB-C122062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2F0-F85B-4DF2-BD24-5748EB6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800-4314-42ED-B163-B402066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ACB1-4BD6-475D-BE1C-8FBDEC115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DC7-950A-4E7E-A297-6FBB82A3A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кружающий  мир   4  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риродные  зо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Обобщающий  ур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а  4 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мназии № 4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Виктория  Вели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 П.Н.Кова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ерблюд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ерблю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 млекопитающих семейства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рблюдов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крупные животные, приспособленные для жизни в засушливых регионах мира — пустынях, полупустынях и степя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и млекопитающие хорошо приспособлены к жизни в суровой и безводной местности. Густой мех предназначен для защиты от дневного зноя и ночного холода. Широкие двупалые ступни — для передвижения по сыпучим пескам или мелким камням. Верблюды не потеют и теряют малое количество жидкости с испражнениями. Добравшись до воды, верблюд, чтобы возместить потерю жидкости, может сразу выпить до ста литров. Верблюды способны выживать без воды до двух недель, а без пищи до месяца. Истинное назначение горбов иное: они служат своеобразной «крышей», защищающей спину верблюда от палящего солнц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30:40Z</dcterms:created>
  <dc:creator>Денис</dc:creator>
  <dc:description/>
  <dc:language>en-US</dc:language>
  <cp:lastModifiedBy>Полина</cp:lastModifiedBy>
  <dcterms:modified xsi:type="dcterms:W3CDTF">2011-12-09T17:16:11Z</dcterms:modified>
  <cp:revision>4</cp:revision>
  <dc:subject/>
  <dc:title>Верблюды</dc:title>
</cp:coreProperties>
</file>