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8B6-16A2-4D78-AB02-48FFC314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5EB-CFAA-4033-AE49-132507D1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124-0987-4B32-BCF1-A7CB7645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124-93BC-49B7-A14B-AFB1241B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AB9C-4B15-4601-8F7E-7FBCD0AF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F22F-A4AA-4C9A-BE02-56AEF0D9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BE56-1BD1-4884-89A7-2404274E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E215-C5E9-4304-B719-7FC64EF4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A272-961C-4B18-858B-64FF41AE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559E-7BD8-46C8-B131-66F8C653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E2F6-1D50-48C1-969D-88E75E7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29B-3F00-447D-ADF3-3D9A3C32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B598-B9A2-42E9-884C-D7CE76AF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F4BC-75B0-474B-A589-58D39E9D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9070-F39B-4C65-B728-8E42C229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A568-CE68-4C6D-918A-B63AC8BF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AB94-8B63-4076-A956-A624D236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9DA-2AB3-4E7B-BA74-CFD4FBCA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3F2-4FD0-4026-B8D0-C314F72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CB1-DC84-427F-9857-D6864518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66E-FD59-4A84-A661-B2A65E60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ACF-78A1-4240-A208-43211489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644-C712-423B-8C65-5C147FF2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679-8E6B-4D48-9B0A-803F632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5280-8DB5-4CD9-AD07-3AD0E771F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BC7E-EC84-473A-A036-3640C7BD4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кружающий  мир   4  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Природные  зо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Обобщающий  ур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ца  4  «А»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мназии № 4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Виктория  Вели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 П.Н.Ковар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ерблюд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ерблю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 млекопитающих семейства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рблюдов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крупные животные, приспособленные для жизни в засушливых регионах мира — пустынях, полупустынях и степя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ти млекопитающие хорошо приспособлены к жизни в суровой и безводной местности. Густой мех предназначен для защиты от дневного зноя и ночного холода. Широкие двупалые ступни — для передвижения по сыпучим пескам или мелким камням. Верблюды не потеют и теряют малое количество жидкости с испражнениями. Добравшись до воды, верблюд, чтобы возместить потерю жидкости, может сразу выпить до ста литров. Верблюды способны выживать без воды до двух недель, а без пищи до месяца. Истинное назначение горбов иное: они служат своеобразной «крышей», защищающей спину верблюда от палящего солнц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30:40Z</dcterms:created>
  <dc:creator>Денис</dc:creator>
  <dc:description/>
  <dc:language>en-US</dc:language>
  <cp:lastModifiedBy>Полина</cp:lastModifiedBy>
  <dcterms:modified xsi:type="dcterms:W3CDTF">2011-12-09T17:16:11Z</dcterms:modified>
  <cp:revision>4</cp:revision>
  <dc:subject/>
  <dc:title>Верблюды</dc:title>
</cp:coreProperties>
</file>