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548-3D35-47D5-AF5E-66709CDE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E1C-AE02-4CAD-9F0C-F5DA10D9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692-C63F-42AF-924B-4D66B713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75F-B4B0-4420-BECF-B9995780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D93A-3E00-4662-9D23-E25CB6D2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CBD1-C129-498D-9F30-62E5925B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4C9B-B5C8-4B88-B96D-B3244571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3B01-4B53-44BD-B812-49B95938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E4D9-519B-4BDE-8B7C-342772C5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4C93-02EE-4DBF-9A3E-45A91400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E171-F1AF-44AE-AE46-D187CDDA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DFE-BD46-492B-AEDB-2650DD59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9E9E-BF66-4C29-A5C1-7640F5AB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DA5C-21A3-455E-9A36-810A9AC3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785B-A255-436C-882B-68F292C1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BA41-C73A-4C26-A0DF-8D05BD8F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34D-5EFE-46D2-8CDC-25325DD7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088-8B1A-4DB9-B3D8-546176EF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15C-579F-4675-9E92-81424BE7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DB9-D234-42DE-8D92-03248DF6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CFD-19ED-49C1-BC85-CAF765DF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A26-FC91-4B72-9AB2-DEA49C9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EED-DF48-45E3-9B78-3474826E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DD7-FF05-444A-A25B-E9C1996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BEF4-7806-48DB-910D-F90272DAC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FF02-0853-4991-AEBA-86A103544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кружающий  мир   4  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риродные  зо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Обобщающий  ур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ца  4  «А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мназии № 4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Виктория  Вели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 П.Н.Ковар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ерблюд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ерблю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 млекопитающих семейства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рблюдов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крупные животные, приспособленные для жизни в засушливых регионах мира — пустынях, полупустынях и степя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ти млекопитающие хорошо приспособлены к жизни в суровой и безводной местности. Густой мех предназначен для защиты от дневного зноя и ночного холода. Широкие двупалые ступни — для передвижения по сыпучим пескам или мелким камням. Верблюды не потеют и теряют малое количество жидкости с испражнениями. Добравшись до воды, верблюд, чтобы возместить потерю жидкости, может сразу выпить до ста литров. Верблюды способны выживать без воды до двух недель, а без пищи до месяца. Истинное назначение горбов иное: они служат своеобразной «крышей», защищающей спину верблюда от палящего солнц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30:40Z</dcterms:created>
  <dc:creator>Денис</dc:creator>
  <dc:description/>
  <dc:language>en-US</dc:language>
  <cp:lastModifiedBy>Полина</cp:lastModifiedBy>
  <dcterms:modified xsi:type="dcterms:W3CDTF">2011-12-09T17:16:11Z</dcterms:modified>
  <cp:revision>4</cp:revision>
  <dc:subject/>
  <dc:title>Верблюды</dc:title>
</cp:coreProperties>
</file>