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2AB-165F-4573-9081-200842EB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DFF-C649-4B03-88EF-519E3E5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596-C3E8-4170-8FA7-75FDD3B8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15A-4C8A-4822-BD6E-F42C4C22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6DE-8EE1-4B46-AFBF-2868BB84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1BE-7E95-4C4C-87EC-A6C8F8C8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51A4-1C37-4B89-A9D7-1792E71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BCBF-4637-400A-A7B0-7C549BD8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762-DAD5-4515-B1D7-FFBA406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2245-2423-4553-BDE3-64BCAFB4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8B6-9229-4882-91E5-215838E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F69-1ACC-48DF-9941-8317B06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20C0-69D3-4A67-85B6-5C62D195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107E-F21F-46F4-9904-B67353E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7BDD-8339-496F-8D78-94D4ECC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9BB-A873-4FEA-A336-21BA3E32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D9CA-B907-4168-B55A-56A2DADD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10C1-D3EC-4DC1-852E-B1BC1D05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55E7-ECCD-4DE7-8C73-E326CDA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2228-AFCF-4FD0-AC4F-3813F66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DA37-4E24-4666-B797-7C9953C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94EB-8100-4394-B2A9-9D550E4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C46-FA04-451B-901C-0AF25AB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943F-57B7-4C5A-BCC1-603174C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E54B-E863-4E36-BCD0-16C6303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6BAB-DAD9-4E41-89F9-B52E9F4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DC33-666D-4327-A0A7-F3870C2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06E6-1783-4CA4-A1EE-C64FF4D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4B8C-DC42-4128-9219-CC04A72E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CBE9-47C0-43C5-9E06-8AB828AB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CA80-569F-4772-B835-637E7C47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D60A-211D-4662-A696-AD75D49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9A59-7903-4DA9-907B-74334D30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241-B0F0-4728-B6F4-D7788A4D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A2D3-1F67-41E4-805E-2B1D8C2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AC22-F7D9-45D4-B35D-4B299A05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E137-9D68-43FC-B0C0-FDA4DE4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8898-5E49-4812-AD9B-6D738CDE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DB18-B886-4FE8-8ED7-2E0D942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32B7-F519-47D3-95B3-10CCCEA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EA12-C0E7-4BED-AB14-A2C17C6E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8FB4-4EB7-416E-9280-E6334E3F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C73E-5967-4467-9287-636CAE70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DD84-631E-4961-B0D7-1E19296C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8AE-A280-4389-B2C7-B61C188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CB227-4D10-47CD-8D4C-06FFE3D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ED997-088C-4E08-8CD9-519BFFB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C62A-0390-4D34-92E0-3F63FC7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A5AB-A6A3-4ABD-BC69-C8757E3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D1EE-F9BB-419A-B9EE-77D668F1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6013-7365-4C1D-8095-5A31AF2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42D0-67F0-4BB8-B80E-89BD7392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15A6-F5E7-41AF-8538-B2CBD79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9675-0CB5-41E7-930F-5EC3BCD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9BD8-1691-47C5-8C67-62ED03F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2B3-9AE4-41C7-9A90-BA4E34C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6D7F-6BD3-4C6D-9BC7-464D6A46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9E75-8BB5-4CD6-B37D-440DB88A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E91A-515D-449B-BC8D-6D01CCCD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D0B4-5B09-4795-868B-C82FDCAF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477D-5D32-4E11-AE51-7CBC07D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57E1-E8D5-4F58-9AA8-B3197B1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BB36-3CBC-4D89-BCFC-E53772B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7883-AFB4-4D3D-B527-CEB6786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DE0A-6A6A-4F2F-8811-234DCDB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7086-D4C7-4C27-B916-FE7D207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E07-8E06-4E4D-BBA4-03804CF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A1FC-77B2-4B40-AD97-30CEDA14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4B31-C380-4CC5-BE1F-243B80DE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7B59-A6D7-4EA7-88EA-9AF4D6A8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CFF5-5792-462B-BEC5-380DA81C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1017-CB58-404E-A4B0-4CAC317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ED42-D3E4-4D03-B6C2-19FBA46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2FFF3-62F9-4BF0-A32E-3330D8D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0B89D-5715-431C-8C0E-E8D2F5C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1B7D-F3BB-44E2-BD71-4469449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4D53-443E-4D34-93A0-A6DB612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0F2-DCBB-47B6-A277-A1218E3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6628-9822-4927-8A1E-1013092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32E18-10C3-4E10-927B-9D71A50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935D-C706-4166-B362-6791443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3703-50CF-4AF5-918C-3D57A565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7383-EA8C-4B9A-BFCB-1328557C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7A98-FE20-4C51-AA38-A81A4A54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76A7-3BB3-476F-A4B8-B5EBD77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C4EB-9F0D-49F9-B177-FE392EC5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9317D-2CC6-46C9-A4D1-40C772D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2BC0E-DBF0-4AFA-B4F1-CEEACCD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1C3-6F45-4B28-A644-D1A4303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70BC-B6BB-4C6A-B416-A214EEAE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5D53-F704-42AC-880E-DAEA507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ECF6-B0B6-4037-9FC5-B670508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66F1-E9B1-4547-AF5F-64CE072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18A1-BB12-4D56-BFCA-76FD580B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A1CB-90AB-4791-AE7D-789CC7E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77E4-1BE9-47F5-B531-8936DEEF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2706-41A1-42DC-8FA2-0457E6C77A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6BA-E178-4CA6-806D-8F1822E878F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D743-7C42-4D26-8FF1-1C4BDBF63E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5EF-3583-4A07-8F6A-16E169D6C4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BF7-8F02-4A90-A100-504A91988F2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BC1-063A-4284-BA21-878992CDB47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D26-B658-4E85-B722-376086A49E2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7184-FB47-4856-A8C7-9817A06EED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00080" y="587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Николай</cp:lastModifiedBy>
  <dcterms:modified xsi:type="dcterms:W3CDTF">2013-01-19T08:25:43Z</dcterms:modified>
  <cp:revision>52</cp:revision>
  <dc:subject/>
  <dc:title>Слайд 1</dc:title>
</cp:coreProperties>
</file>