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27.png" ContentType="image/png"/>
  <Override PartName="/ppt/media/image8.jpeg" ContentType="image/jpeg"/>
  <Override PartName="/ppt/media/image29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32.gif" ContentType="image/gif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3BD-2DAE-4E10-B75E-50C5BE09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732-4AAF-462A-B0FE-4D5F42B4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593-4749-47A8-8F80-F23A48AC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335-92E4-457A-9502-C3C74017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D5CA-32B7-471A-BD74-725271AF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93B0-0A42-4681-9917-FB69D3FB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85E4-FAFB-4CB0-8936-EFEA274D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3440-EA75-4567-BBDF-66B9BFDC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AA09-C38A-4353-9FF6-88AA9865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511B-3400-40C0-8F2C-1AF6FAFF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DD4B-8F68-47C7-A7D9-AD3B17E5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5BE-D522-4631-BF60-36958108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1A67-3DFC-48D9-9524-ADA546F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5C7B-B784-4178-A338-C849AA8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067E-7383-431F-AC4D-143B68D1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37F5-6BD1-478F-8AE4-733404DB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B2E1-6249-49E7-B38B-C81C046C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6B205-2E56-4CF9-AF48-5223D0C1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01C2F-935A-4257-BDDA-0900309C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5F6D-EBDE-44BC-8525-BF2ABCF9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9949-CD52-4A6D-8970-5F8027F5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EDBA-C771-4A4E-81B5-342A8B25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930-5639-48FB-A361-64C116C6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CB60-39B4-49E3-A745-FF1B2863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0CD0-2E8F-418E-B1A2-CD56E900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CBA1E-13B4-4E5C-91BE-73CBA5A3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0B8C-56DF-4842-9AAF-48844841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046D-7938-4D3F-B227-88150BAC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7035-E0C6-485B-B0DE-C83906BC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7F88-BCEC-43F6-BA4D-F3A2FAB8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1145-4BE1-43D7-9A52-A535136B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95064-A1C6-452E-91E7-ABCE81FA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BE50-5222-4196-B4B8-E5565FA4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CB5-B18C-42BB-9096-50E103C9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A4BE7-5AEA-41E3-885D-2BB3C841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EA431-A776-48A8-9935-61E72A75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E9D3D-A939-40AB-841B-3A6ACC4A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9422E-22E0-493D-A73C-71D15654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1862-5A32-4653-A0E6-5338B444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717B1-3EEB-4074-AF41-783284E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6D079-C377-4FAE-8123-38F38460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D9148-BBAD-4FD7-A554-DBDCF2C4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5A12-D842-4164-9335-C5201F1D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B13A-1F4F-46D1-95A3-599672E3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A3C-27BE-4FBC-954E-CB2F2ADC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67093-FBDB-4C6D-883B-3074A83A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BE61E-4391-4FC7-908B-ED55E3DA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9251F-1CD8-4DC6-8441-DD82EC6D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CA84F-ED01-46C1-84A6-5C677257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7164D-AEC5-4C64-A72B-3B057F5B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69244-BB80-42D6-AEBE-DDC0D374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E33E0-603A-47F3-B165-22F2AD21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BE628-F71B-4D1A-B20E-CDAC5DAA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DC83A-A5E4-4051-93DA-6FDC9B2B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ECDC2-DA2C-469A-99E9-24409E76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DC8-DC8C-4013-9701-C89212D6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A3BEC-A1E6-47E5-9A31-401DB316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8FA0-B94D-477F-95D9-616E352A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84CB0-B12B-4E72-9372-4697B36E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5625D-7C94-4903-BC8B-B4EEDD52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D4692-FF6E-483C-A782-AD0B1870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4400F-3898-4699-8C04-62557AC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09D26-AD65-4F05-81A5-092D3E2F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0FE10-398F-448A-8797-12373432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22E6E-61C8-4291-AD03-742FF3C3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12BB0-4B21-43A5-8ABA-A9BCAE9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590-FF51-46BC-8DDE-9D1997F4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CB5E-B12A-40C0-AC05-8EA8E9C2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61F60-EA05-4687-B1AF-DDA665C0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1B1C1-B9D9-446F-8369-4C694519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E0E93-5AE3-4DE7-940F-2E9ECC0A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EB674-A886-4F7B-A58B-BEC91935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E7B1C-D0BF-46F8-B189-5BFF123E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70C85-0EE8-427B-8AFD-5BC79734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66BC7-9C3C-4A48-9333-6EB9539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3B457-970E-471B-9E6C-CD9B38A2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8D190-9AE5-4B37-A8E9-57FC686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DBE-F2B2-4152-A549-2E8463BC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9297A-7150-4C15-B14A-623E08A6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81D55-B9FE-4CFF-AF65-0DE9A416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E7F01-3A54-495D-A90D-774A7F50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A4F8-345E-4125-9EEE-F406E0D5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5EAC8-3D05-4BE0-BA6B-BCE83527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A5FAA-B011-474D-864F-84AF1813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18866-63A4-475C-A285-E06FA79F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E637F-CDC2-444E-84E7-2C1541B6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A900D-EC7E-45B6-AD20-DED10818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75C52-6F0D-4E6F-99AC-0FF4BD41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BDB-6D8A-4C84-BB18-F4178B4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A28A9-5DEF-4407-98EE-AC9EA9B6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F63E3-CA5E-4FC8-A686-4DFB9206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943C6-1D3B-4BD8-B0A9-E55CC07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CBDBA-344F-4887-B46C-A106BAEE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00B52-BD88-4E6A-A063-8CB1E2F1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AE9E5-AC6D-4582-8F57-EC7024D4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01C3E-4ECE-4661-816A-267D57F7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98F1-C4CA-4FAE-B4C6-38E5D395443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180C-F159-48B7-B86E-77EB8BD5233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E43A-4018-4F80-91B9-118860B7A88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C67A-7B7D-4EE5-8EF0-0F9F184634F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230A-A230-4585-B486-1ACDBF6B630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B218-994A-4384-8932-547B114EAC8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470B-31E9-439B-B5A2-56B8436E035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6E78-A280-4339-AD83-7F8188CFD1C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Documents and Settings\Admin\Рабочий стол\777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1214280" y="6572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1000080" y="5873760"/>
            <a:ext cx="586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ЕРБЛЮД – « ЦАРЬ» ДОМАШНИХ ЖИВОТНЫХ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0" y="5173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У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571760" y="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 « ОСШ  №17 С  ДМЦ»    п.Панфи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матин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ДЖИДИ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6351480" y="-6480"/>
            <a:ext cx="2835360" cy="6870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6.JPG"/>
          <p:cNvPicPr/>
          <p:nvPr/>
        </p:nvPicPr>
        <p:blipFill>
          <a:blip r:embed="rId2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499920" y="4428720"/>
            <a:ext cx="5186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4443480" y="-433440"/>
            <a:ext cx="4298760" cy="72979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428640" y="214200"/>
            <a:ext cx="52578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  <a:ea typeface="Arial"/>
              </a:rPr>
              <a:t>ДРОМЕДА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Одногорбый верблюд [дромедар]  - изначально обитал в засушливых районах Ближнего Востока до северной Индии и в Африке, преимущественно в Сахаре. Позже одногорбые верблюды были ввезены в Центральную Австралию, где распространены в пустынных областях. Масса дромедара 300-690 кг, высота в холке до 210 см, окраска коричневатая, или песочно-серая, также встречаются черные и белые особи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Характерной особенностью внешнего облика дромедара является длинная изогнутая шея, узкая грудь и единственный горб. Горб образуют жировые отложения, выполняющие роль пищевых запасов на случай необходимости, и его величина изменяется в зависимости от времени года, в голодные времена горб значительно уменьшается в размерах. Шерсть у дромедара длиннее на шее, плечах и в области горба. Ступни имеют копыта, которые прекрасно приспособлены для передвижению по пескам, однако непригодны для путешествия по острым камням, скользким поверхностям и вязкой грязи. Губы дромедара толстые, что позволяет употреблять в пищу колючие раст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120" y="-4759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6840" y="714240"/>
            <a:ext cx="368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Дромедар - травоядное животное, питается колючими растениями, сухой травой и кустарниками - практически всем, что растет в пустыне. Он ощипывает молодые побеги, которые составляет 70% его рациона. Около 8-12 часов в день дромедар пасется и еще долгое время пережевывает пищу. Верблюды способны доставать пищу на высоте 3,5 м, обдирая ветви или съедая листья на ходу. Каждую порцию пережевывают 40-50 раз. Пока они пережевывают колючки, рот держится открытым. Животные имеют обыкновение обходить большие области и срывать несколько листьев с каждого растения. Этот тип питания уменьшает нагрузку на растения. Помимо растительной пищи дромедарам необходима соль (больше, чем другим жителям пустыни в 6-8 раз)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3" name="Picture 4" descr="C:\Documents and Settings\Admin\Рабочий стол\Новое изображение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857920" y="1481040"/>
            <a:ext cx="2828880" cy="4525920"/>
          </a:xfrm>
          <a:prstGeom prst="rect">
            <a:avLst/>
          </a:prstGeom>
          <a:ln w="0">
            <a:noFill/>
          </a:ln>
        </p:spPr>
      </p:pic>
      <p:pic>
        <p:nvPicPr>
          <p:cNvPr id="415" name="Заголовок 2" descr=""/>
          <p:cNvPicPr/>
          <p:nvPr/>
        </p:nvPicPr>
        <p:blipFill>
          <a:blip r:embed="rId2"/>
          <a:stretch/>
        </p:blipFill>
        <p:spPr>
          <a:xfrm>
            <a:off x="6419880" y="420840"/>
            <a:ext cx="2663640" cy="5230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2.JPG"/>
          <p:cNvPicPr/>
          <p:nvPr/>
        </p:nvPicPr>
        <p:blipFill>
          <a:blip r:embed="rId3"/>
          <a:stretch/>
        </p:blipFill>
        <p:spPr>
          <a:xfrm>
            <a:off x="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9" name="Picture 2" descr="C:\Documents and Settings\Admin\Рабочий стол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357600" y="274680"/>
            <a:ext cx="23288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1" name="Picture 2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dmin\Рабочий стол\рабочий стол\видео о природе\животные\иолжд.gif"/>
          <p:cNvPicPr/>
          <p:nvPr/>
        </p:nvPicPr>
        <p:blipFill>
          <a:blip r:embed="rId2"/>
          <a:stretch/>
        </p:blipFill>
        <p:spPr>
          <a:xfrm>
            <a:off x="1643040" y="1214280"/>
            <a:ext cx="6858000" cy="50007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3160800" y="600084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граф №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А.. В. С. на стр.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Рисунок 3" descr="верблю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 flipV="1" rot="10203000">
            <a:off x="570600" y="22968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onotype Corsiva"/>
              </a:rPr>
              <a:t>КОРАБЛЬ ПУСТЫ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5638680" y="268200"/>
            <a:ext cx="3054600" cy="6308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Admin\Рабочий стол\7.JPG"/>
          <p:cNvPicPr/>
          <p:nvPr/>
        </p:nvPicPr>
        <p:blipFill>
          <a:blip r:embed="rId2"/>
          <a:stretch/>
        </p:blipFill>
        <p:spPr>
          <a:xfrm>
            <a:off x="0" y="0"/>
            <a:ext cx="564372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5643720" y="714240"/>
            <a:ext cx="350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« У КОГО ЕСТЬ ВЕРБЛЮД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ТОГО ОБЕРЕГАЮТ ДУХ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«НЕ  ИЗБЕГАЙ    ТОЩЕГО ВЕРБЛЮДА-   ЭТО   ТВОЯ   УДА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НЕ  ОТКАЗЫВАЙСЯ  ОТ БРЫКЛИВОЙ  ЛОШАДИ-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ТВОИ     КРЫЛЬЯ»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ТАК   ГЛА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НАРОДНАЯ   МУДР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5" name="Picture 3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0" y="285840"/>
            <a:ext cx="3643200" cy="6191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714480" y="213840"/>
            <a:ext cx="49719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ЕДКОМ ДОМАШНИХ ВЕРБЛЮДОВ ЯВЛЯЕТСЯ ДИКИЙ ВЕРБЛЮД . ОН БЫЛ ПРИРУЧЕН БОЛЕЕ 5000 ЛЕТ НАЗАД В ЦЕНТРАЛЬНОЙ И МАЛОЙ АЗИИ.СЕЙЧАС ВСТРЕЧАЕТСЯ (БАКТИРИАН) НЕБОЛЬШИ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ТАДА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ПУСТЫНЕ ГОБИ . ОТКРЫТ Н.М. ПРИЖЕВАЛЬСКИМ 1877 году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-360" y="285840"/>
            <a:ext cx="4071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Царство: Живо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Тип: Хор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ласс: Млекопитающ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Инфракласс: Плацентар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тряд: Парнокопы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отряд: Мозоленог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емейство: Верблю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: Верблюды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Живут  30-35 лет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 Верблюды – объединяет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редних и крупных копытных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 длиной тела 220-340 см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линой хвоста 55-75 с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сотой в холке 180-210 см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6160" y="274680"/>
            <a:ext cx="440064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7" descr="C:\Documents and Settings\Admin\Рабочий стол\8.JPG"/>
          <p:cNvPicPr/>
          <p:nvPr/>
        </p:nvPicPr>
        <p:blipFill>
          <a:blip r:embed="rId1"/>
          <a:stretch/>
        </p:blipFill>
        <p:spPr>
          <a:xfrm>
            <a:off x="4214880" y="533520"/>
            <a:ext cx="4471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6010200" y="268200"/>
            <a:ext cx="2755800" cy="58834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7429680" y="3571920"/>
            <a:ext cx="1257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5114880" y="-6480"/>
            <a:ext cx="4138560" cy="68709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5"/>
          <p:cNvSpPr/>
          <p:nvPr/>
        </p:nvSpPr>
        <p:spPr>
          <a:xfrm>
            <a:off x="1000080" y="5357880"/>
            <a:ext cx="756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5529240" y="-19080"/>
            <a:ext cx="3213000" cy="617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0" name="Picture 2" descr="C:\Documents and Settings\Admin\Рабочий стол\верблюды\0001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3"/>
          <p:cNvSpPr/>
          <p:nvPr/>
        </p:nvSpPr>
        <p:spPr>
          <a:xfrm flipV="1" rot="10800000">
            <a:off x="4142880" y="5373720"/>
            <a:ext cx="500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едение верблюдов очень выгодная отрасль экономики в животноводстве. Круглый год верблюды кормятся на пастбищах, а в зимнее время их кормят сеном. Но, а во время спаривания, подкармливают концентрированным кормом. Пить верблюдам дают всего раз в сутки зимой и два раза в сутки л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7:38:55Z</dcterms:created>
  <dc:creator>User</dc:creator>
  <dc:description/>
  <dc:language>en-US</dc:language>
  <cp:lastModifiedBy>Николай</cp:lastModifiedBy>
  <dcterms:modified xsi:type="dcterms:W3CDTF">2013-01-19T08:25:43Z</dcterms:modified>
  <cp:revision>52</cp:revision>
  <dc:subject/>
  <dc:title>Слайд 1</dc:title>
</cp:coreProperties>
</file>