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jpeg" ContentType="image/jpeg"/>
  <Override PartName="/ppt/media/image27.png" ContentType="image/png"/>
  <Override PartName="/ppt/media/image8.jpeg" ContentType="image/jpeg"/>
  <Override PartName="/ppt/media/image29.jpeg" ContentType="image/jpe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jpeg" ContentType="image/jpeg"/>
  <Override PartName="/ppt/media/image9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32.gif" ContentType="image/gif"/>
  <Override PartName="/ppt/media/image1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4C2-4769-4604-91A2-C2AE65D7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161-2639-4048-A096-4035BFEE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95E-645B-4B8A-A8E2-D218CF01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9EC4-0F50-4C17-9CA9-613BF841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D8B3-D4CA-459F-8C8E-EBAAA769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FFB2-FDDF-4C91-87C4-ED30F140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F56F-3AE3-48AC-BBBE-4680EFA1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9D14-A355-4913-8576-DEFF7D25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9627-D84B-4979-90FB-1EB35B99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49A4-E362-4F1A-B24D-CB22AF57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9022-6D70-40B2-AB5A-995C7AB0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26B4-BE7C-4923-ADAC-72055971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56D1-B0E5-4AF5-8464-3CAD4DA4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0BD0-9684-4EE3-98C5-3300B462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216B-2BE0-4195-88A4-CC3FA6B8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12F0-D229-47D0-B504-331CA1D5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3A2B-0BBC-4E27-80A0-528D6047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D74B7-47BA-49F2-AF99-0E56D439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138DA-5C97-4F1D-B89D-A2EB486A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A71CA-AEC1-4F29-9912-DFF471E4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8C9E6-ECA3-4E5A-B8B7-184E092D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41986-0519-4CA1-A546-16CA21C8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688-55C0-42CE-992D-9912C1B0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594CD-941E-40DE-8BA1-1C438119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4C359-EDFC-4200-83F9-ECD2A172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F359A-C980-41BC-A01D-CEBE239B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EF0B8-A557-4067-AA33-B71B12DB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8FB5A-C44F-4367-9429-F2A4C03D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F4C5D-6026-4B0C-90DF-52D12300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4AD3C-1D46-4B0C-8B42-EE2D8829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0F6B5-E01A-4E60-B307-B3315CEE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9BA7E-C599-475B-9890-1B28EACB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AF1B4-D29E-47B0-8197-0714FB17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7EE-0B53-4C6C-8D0D-F2593B8A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A9B9A-F3E7-4434-AA8A-7FCCBE27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CD4C5-3347-4FD5-AA7F-EDC79E4C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A3F1C-F138-413A-995D-BCF75415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53E81-8355-49D8-BF05-6CCB20C2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5B6C8-6DEE-4C91-B64F-EE9905A6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DAB8E-7984-4655-9E5B-72A1A6A5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4A91B-0C6E-4FA0-B396-8893D311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94835-BA6C-4E5F-8360-B4F6ED15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ED759-CE65-42DD-B553-2E4912B8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5E8C9-281A-4681-AB2C-3BDA7B0E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E3E-D0FF-423D-A606-B6362FA6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9CB45-429B-4CAC-B525-E690EB66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AF230-CF22-40DF-95EF-A099245E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9D159-038E-4238-A306-2080A208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C82A5-CA18-4B1A-8101-1A67172F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DC568-2602-4C39-B3F5-944A4A6C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89B26-E184-4E23-B97B-52A0B96F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E8FE9-E7F6-471C-971E-7763F457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412D5-E851-4E38-8A01-768CEDE4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41E4B-711A-4F7D-A980-08813236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5074A-030D-47C6-98A1-A31D6E7A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D36-0CA2-4250-8747-57C60B5F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3BB1A-EF8B-4B5F-875D-ADD9274C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B57D8-8670-4EB2-9A75-702735E1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DF2D1-52F4-48C9-A82F-56DF630B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89285-E97F-4CFD-9144-207ABBE1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5BA27-90AC-42E7-BC19-F9351A50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6CA4B-C6C4-4B68-BC28-5CA1D00F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966F2-D899-4D18-9EA8-10489786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3B685-9893-4F48-A740-4FF4B28F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8AEE7-A971-4314-AA69-6857EBDE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7481C-8A17-4D14-AA9E-95538450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D4D-3048-4B64-97F7-E2DFE98F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1B955-F953-4B66-BE7A-59704418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E4B43-4EDB-48CF-980F-9CC74A7D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79FC0-4148-4DA9-8ABA-F4FC3CE3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C79BB-7CB4-4D18-972B-E3B9FA66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8C81F-5A68-4965-83EC-B3DEE9DD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AA2C7-2C50-41F6-AD69-4C0105B8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9840D-5773-4B82-8EA5-6ED1F23E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C691E-9F80-4E75-8139-8FD22611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A5099-DC0D-417D-8D58-B18A8575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1AE6F-CFC6-45CB-B1FF-725790E4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C6F-4948-44E3-8213-EEFC3362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2C476-7004-44ED-A1F7-08E0C956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DF652-47DA-4122-9D63-E77F0254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616AC-AEA3-432A-9ADC-6D2530E7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BB8E9-775B-4E12-AE98-1AE56DF4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1C759-2E10-4AE8-BFC1-98B918EC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4DF0F-38EC-413A-8DC7-1D368FFF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B61D5-5405-4E0F-8E66-91634230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276E4-F2A0-4FE6-9BF7-E912517B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FB251-19E8-47B7-978C-80C7F137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90F70-EE96-4983-B421-9A7290D2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7643-0A5F-49A0-925E-F29C0ECF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475E1-7C59-4C66-818A-A5C70BF5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03BC2-D8CE-48AD-9957-EF03B6DD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DF32E-DAB3-4A71-97D4-96A1000B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C53A4-63A2-4BDB-A74A-B2777F64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E82CB-B877-4C77-9399-9081B517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3B65B-3AC4-45F8-A634-17215485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7582E-D1ED-4391-8B36-3C14A68C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D6FD-CB28-4357-BA47-59C26AF9522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2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12DF-F6A6-4AB3-8906-E4200955054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DE19-6181-473B-8B52-C26436DDB0D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D05E-F988-4EAA-A761-A45DC5BED39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8FBE-8BB2-4A2C-AEA4-04F8EC35316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FCF8-7810-4E7A-8BC3-F8ADB1A7882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B832-1147-42C0-9224-2D835A8B828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33A7-65DF-4F37-B668-FB0C231BF8D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2" descr="C:\Documents and Settings\Admin\Рабочий стол\777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"/>
          <p:cNvSpPr/>
          <p:nvPr/>
        </p:nvSpPr>
        <p:spPr>
          <a:xfrm>
            <a:off x="1214280" y="6572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1000080" y="5873760"/>
            <a:ext cx="5867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ЕРБЛЮД – « ЦАРЬ» ДОМАШНИХ ЖИВОТНЫХ</a:t>
            </a: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0" y="51735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УРОК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1571760" y="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 « ОСШ  №17 С  ДМЦ»    п.Панфи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матинской о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ДЖИДИ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6351480" y="-6480"/>
            <a:ext cx="2835360" cy="6870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C:\Documents and Settings\Admin\Рабочий стол\6.JPG"/>
          <p:cNvPicPr/>
          <p:nvPr/>
        </p:nvPicPr>
        <p:blipFill>
          <a:blip r:embed="rId2"/>
          <a:stretch/>
        </p:blipFill>
        <p:spPr>
          <a:xfrm>
            <a:off x="0" y="0"/>
            <a:ext cx="63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499920" y="4428720"/>
            <a:ext cx="51865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4443480" y="-433440"/>
            <a:ext cx="4298760" cy="729792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428640" y="214200"/>
            <a:ext cx="52578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 Black"/>
                <a:ea typeface="Arial"/>
              </a:rPr>
              <a:t>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  <a:ea typeface="Arial"/>
              </a:rPr>
              <a:t>ДРОМЕДАР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Одногорбый верблюд [дромедар]  - изначально обитал в засушливых районах Ближнего Востока до северной Индии и в Африке, преимущественно в Сахаре. Позже одногорбые верблюды были ввезены в Центральную Австралию, где распространены в пустынных областях. Масса дромедара 300-690 кг, высота в холке до 210 см, окраска коричневатая, или песочно-серая, также встречаются черные и белые особи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Характерной особенностью внешнего облика дромедара является длинная изогнутая шея, узкая грудь и единственный горб. Горб образуют жировые отложения, выполняющие роль пищевых запасов на случай необходимости, и его величина изменяется в зависимости от времени года, в голодные времена горб значительно уменьшается в размерах. Шерсть у дромедара длиннее на шее, плечах и в области горба. Ступни имеют копыта, которые прекрасно приспособлены для передвижению по пескам, однако непригодны для путешествия по острым камням, скользким поверхностям и вязкой грязи. Губы дромедара толстые, что позволяет употреблять в пищу колючие растения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11120" y="-47592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6840" y="714240"/>
            <a:ext cx="368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Дромедар - травоядное животное, питается колючими растениями, сухой травой и кустарниками - практически всем, что растет в пустыне. Он ощипывает молодые побеги, которые составляет 70% его рациона. Около 8-12 часов в день дромедар пасется и еще долгое время пережевывает пищу. Верблюды способны доставать пищу на высоте 3,5 м, обдирая ветви или съедая листья на ходу. Каждую порцию пережевывают 40-50 раз. Пока они пережевывают колючки, рот держится открытым. Животные имеют обыкновение обходить большие области и срывать несколько листьев с каждого растения. Этот тип питания уменьшает нагрузку на растения. Помимо растительной пищи дромедарам необходима соль (больше, чем другим жителям пустыни в 6-8 раз)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3" name="Picture 4" descr="C:\Documents and Settings\Admin\Рабочий стол\Новое изображение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5857920" y="1481040"/>
            <a:ext cx="2828880" cy="4525920"/>
          </a:xfrm>
          <a:prstGeom prst="rect">
            <a:avLst/>
          </a:prstGeom>
          <a:ln w="0">
            <a:noFill/>
          </a:ln>
        </p:spPr>
      </p:pic>
      <p:pic>
        <p:nvPicPr>
          <p:cNvPr id="415" name="Заголовок 2" descr=""/>
          <p:cNvPicPr/>
          <p:nvPr/>
        </p:nvPicPr>
        <p:blipFill>
          <a:blip r:embed="rId2"/>
          <a:stretch/>
        </p:blipFill>
        <p:spPr>
          <a:xfrm>
            <a:off x="6419880" y="420840"/>
            <a:ext cx="2663640" cy="52308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:\Documents and Settings\Admin\Рабочий стол\2.JPG"/>
          <p:cNvPicPr/>
          <p:nvPr/>
        </p:nvPicPr>
        <p:blipFill>
          <a:blip r:embed="rId3"/>
          <a:stretch/>
        </p:blipFill>
        <p:spPr>
          <a:xfrm>
            <a:off x="0" y="0"/>
            <a:ext cx="607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9" name="Picture 2" descr="C:\Documents and Settings\Admin\Рабочий стол\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357600" y="274680"/>
            <a:ext cx="232884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1" name="Picture 2" descr="C:\Documents and Settings\Admin\Рабочий стол\9.JPG"/>
          <p:cNvPicPr/>
          <p:nvPr/>
        </p:nvPicPr>
        <p:blipFill>
          <a:blip r:embed="rId1"/>
          <a:stretch/>
        </p:blipFill>
        <p:spPr>
          <a:xfrm>
            <a:off x="0" y="0"/>
            <a:ext cx="63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Admin\Рабочий стол\рабочий стол\видео о природе\животные\иолжд.gif"/>
          <p:cNvPicPr/>
          <p:nvPr/>
        </p:nvPicPr>
        <p:blipFill>
          <a:blip r:embed="rId2"/>
          <a:stretch/>
        </p:blipFill>
        <p:spPr>
          <a:xfrm>
            <a:off x="1643040" y="1214280"/>
            <a:ext cx="6858000" cy="50007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4"/>
          <p:cNvSpPr/>
          <p:nvPr/>
        </p:nvSpPr>
        <p:spPr>
          <a:xfrm>
            <a:off x="3160800" y="6000840"/>
            <a:ext cx="33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аграф № 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А.. В. С. на стр. 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Рисунок 3" descr="верблюд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 flipV="1" rot="10203000">
            <a:off x="570600" y="22968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Monotype Corsiva"/>
              </a:rPr>
              <a:t>КОРАБЛЬ ПУСТЫ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5638680" y="268200"/>
            <a:ext cx="3054600" cy="6308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Documents and Settings\Admin\Рабочий стол\7.JPG"/>
          <p:cNvPicPr/>
          <p:nvPr/>
        </p:nvPicPr>
        <p:blipFill>
          <a:blip r:embed="rId2"/>
          <a:stretch/>
        </p:blipFill>
        <p:spPr>
          <a:xfrm>
            <a:off x="0" y="0"/>
            <a:ext cx="564372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5"/>
          <p:cNvSpPr/>
          <p:nvPr/>
        </p:nvSpPr>
        <p:spPr>
          <a:xfrm>
            <a:off x="5643720" y="714240"/>
            <a:ext cx="3500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« У КОГО ЕСТЬ ВЕРБЛЮД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ТОГО ОБЕРЕГАЮТ ДУХ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«НЕ  ИЗБЕГАЙ    ТОЩЕГО ВЕРБЛЮДА-   ЭТО   ТВОЯ   УДАЧ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НЕ  ОТКАЗЫВАЙСЯ  ОТ БРЫКЛИВОЙ  ЛОШАДИ-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ТВОИ     КРЫЛЬЯ»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ТАК   ГЛА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НАРОДНАЯ   МУДР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5" name="Picture 3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0" y="285840"/>
            <a:ext cx="3643200" cy="61912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3714480" y="213840"/>
            <a:ext cx="49719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ЕДКОМ ДОМАШНИХ ВЕРБЛЮДОВ ЯВЛЯЕТСЯ ДИКИЙ ВЕРБЛЮД . ОН БЫЛ ПРИРУЧЕН БОЛЕЕ 5000 ЛЕТ НАЗАД В ЦЕНТРАЛЬНОЙ И МАЛОЙ АЗИИ.СЕЙЧАС ВСТРЕЧАЕТСЯ (БАКТИРИАН) НЕБОЛЬШИМИ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ТАДАМИ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 ПУСТЫНЕ ГОБИ . ОТКРЫТ Н.М. ПРИЖЕВАЛЬСКИМ 1877 году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-360" y="285840"/>
            <a:ext cx="40719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Царство: Животн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Тип: Хордов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Класс: Млекопитающи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Инфракласс: Плацентарн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тряд: Парнокопытн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дотряд: Мозоленоги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емейство: Верблюдов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од: Верблюды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Живут  30-35 лет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од Верблюды – объединяет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редних и крупных копытных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 длиной тела 220-340 см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длиной хвоста 55-75 с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ысотой в холке 180-210 см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86160" y="274680"/>
            <a:ext cx="440064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9" name="Picture 7" descr="C:\Documents and Settings\Admin\Рабочий стол\8.JPG"/>
          <p:cNvPicPr/>
          <p:nvPr/>
        </p:nvPicPr>
        <p:blipFill>
          <a:blip r:embed="rId1"/>
          <a:stretch/>
        </p:blipFill>
        <p:spPr>
          <a:xfrm>
            <a:off x="4214880" y="533520"/>
            <a:ext cx="4471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6010200" y="268200"/>
            <a:ext cx="2755800" cy="58834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7429680" y="3571920"/>
            <a:ext cx="12571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5114880" y="-6480"/>
            <a:ext cx="4138560" cy="687096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TextBox 5"/>
          <p:cNvSpPr/>
          <p:nvPr/>
        </p:nvSpPr>
        <p:spPr>
          <a:xfrm>
            <a:off x="1000080" y="5357880"/>
            <a:ext cx="756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5529240" y="-19080"/>
            <a:ext cx="3213000" cy="6170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C:\Documents and Settings\Admin\Рабочий стол\5.JPG"/>
          <p:cNvPicPr/>
          <p:nvPr/>
        </p:nvPicPr>
        <p:blipFill>
          <a:blip r:embed="rId2"/>
          <a:stretch/>
        </p:blipFill>
        <p:spPr>
          <a:xfrm>
            <a:off x="0" y="0"/>
            <a:ext cx="55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0" name="Picture 2" descr="C:\Documents and Settings\Admin\Рабочий стол\верблюды\000151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35788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3"/>
          <p:cNvSpPr/>
          <p:nvPr/>
        </p:nvSpPr>
        <p:spPr>
          <a:xfrm flipV="1" rot="10800000">
            <a:off x="4142880" y="5373720"/>
            <a:ext cx="5000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едение верблюдов очень выгодная отрасль экономики в животноводстве. Круглый год верблюды кормятся на пастбищах, а в зимнее время их кормят сеном. Но, а во время спаривания, подкармливают концентрированным кормом. Пить верблюдам дают всего раз в сутки зимой и два раза в сутки л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7:38:55Z</dcterms:created>
  <dc:creator>User</dc:creator>
  <dc:description/>
  <dc:language>en-US</dc:language>
  <cp:lastModifiedBy>Николай</cp:lastModifiedBy>
  <dcterms:modified xsi:type="dcterms:W3CDTF">2013-01-19T08:25:43Z</dcterms:modified>
  <cp:revision>52</cp:revision>
  <dc:subject/>
  <dc:title>Слайд 1</dc:title>
</cp:coreProperties>
</file>