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gif" ContentType="image/gif"/>
  <Override PartName="/ppt/media/image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6B8-D53E-4955-8981-8DAC7C3B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B86-F2D5-4E9F-AD72-1E4DDB60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DF7-9C39-44BC-AED9-3DF60125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02A-ABD0-4F59-8945-5C69B9F5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D2F-DD7C-4BE6-BAEB-73A7CA58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36A-E2CB-4259-B218-F56A8A08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EF15-6AD6-458D-92F4-FD1EA3F4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4FA-7427-4037-8AC4-86BE3100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0CC-777A-419B-8E3A-69EB9124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E5F-75BE-4AB3-8676-725E05C8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06D9-B614-4AAF-B5FB-BA2460C5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FA4-B251-496F-8E9D-33DA5188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97A6-8B7C-47D7-8439-EA3BAEBFC9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3640" y="2344320"/>
            <a:ext cx="5100840" cy="12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00"/>
                </a:solidFill>
                <a:latin typeface="Arial"/>
              </a:rPr>
              <a:t>Валеология</a:t>
            </a:r>
            <a:br>
              <a:rPr sz="5400"/>
            </a:br>
            <a:r>
              <a:rPr b="0" lang="ru-RU" sz="5400" spc="-1" strike="noStrike">
                <a:solidFill>
                  <a:srgbClr val="ff6600"/>
                </a:solidFill>
                <a:latin typeface="Arial"/>
              </a:rPr>
              <a:t>урок </a:t>
            </a:r>
            <a:br>
              <a:rPr sz="5400"/>
            </a:br>
            <a:r>
              <a:rPr b="0" lang="ru-RU" sz="5400" spc="-1" strike="noStrike">
                <a:solidFill>
                  <a:srgbClr val="ff6600"/>
                </a:solidFill>
                <a:latin typeface="Arial"/>
              </a:rPr>
              <a:t>по</a:t>
            </a:r>
            <a:br>
              <a:rPr sz="5400"/>
            </a:br>
            <a:r>
              <a:rPr b="0" lang="ru-RU" sz="5400" spc="-1" strike="noStrike">
                <a:solidFill>
                  <a:srgbClr val="ff6600"/>
                </a:solidFill>
                <a:latin typeface="Arial"/>
              </a:rPr>
              <a:t>ОБ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26920" y="5038200"/>
            <a:ext cx="424980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9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ественное и индивидуальное 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7" descr="sportwoom[1]"/>
          <p:cNvPicPr/>
          <p:nvPr/>
        </p:nvPicPr>
        <p:blipFill>
          <a:blip r:embed="rId1"/>
          <a:stretch/>
        </p:blipFill>
        <p:spPr>
          <a:xfrm>
            <a:off x="539640" y="1846440"/>
            <a:ext cx="3600720" cy="36241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бщественное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это здоровье группы людей или всего населения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Индивидуальн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о здоровье одного конкретного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ественное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В России общественное здоровье вызывает тревогу, т. к. у нас средняя продолжительность жизни меньше, чем в развитых странах из-за высокой смер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Факторы влияющие на здоровь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   природный 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рплата, условия труда, бытовые условия и 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ровень образования и медиц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I226025"/>
          <p:cNvPicPr/>
          <p:nvPr/>
        </p:nvPicPr>
        <p:blipFill>
          <a:blip r:embed="rId1"/>
          <a:stretch/>
        </p:blipFill>
        <p:spPr>
          <a:xfrm>
            <a:off x="1763640" y="3940200"/>
            <a:ext cx="5184720" cy="218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68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68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6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видуальное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673160"/>
            <a:ext cx="822960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доровый образ жизни является универсальным средством профилактики заболеваний, укрепления и сохранения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4259160" cy="2435400"/>
        </p:xfrm>
        <a:graphic>
          <a:graphicData uri="http://schemas.openxmlformats.org/drawingml/2006/table">
            <a:tbl>
              <a:tblPr/>
              <a:tblGrid>
                <a:gridCol w="2130480"/>
                <a:gridCol w="21286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Фун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Биолог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Размно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Физиолог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Дыхание, питание, кровообра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мять, мыш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Социа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Трудоспособ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 txBox="1"/>
          <p:nvPr/>
        </p:nvSpPr>
        <p:spPr>
          <a:xfrm>
            <a:off x="4932000" y="1599840"/>
            <a:ext cx="375444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Индивидуальный образ жизни – 5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99"/>
                </a:solidFill>
                <a:latin typeface="Arial"/>
              </a:rPr>
              <a:t>Биологический – 2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ff"/>
                </a:solidFill>
                <a:latin typeface="Arial"/>
              </a:rPr>
              <a:t>Окружающая среда – 2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Здравоохранение – 1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7[1]"/>
          <p:cNvPicPr/>
          <p:nvPr/>
        </p:nvPicPr>
        <p:blipFill>
          <a:blip r:embed="rId1"/>
          <a:stretch/>
        </p:blipFill>
        <p:spPr>
          <a:xfrm>
            <a:off x="468360" y="333360"/>
            <a:ext cx="8064360" cy="60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1258920" y="1557360"/>
          <a:ext cx="6329160" cy="455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557360"/>
                    <a:ext cx="632916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2700360" y="33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План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79280" y="981000"/>
            <a:ext cx="7848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алеология – определение и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ЗОЖ – определение и 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Основные составляющие ЗО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cc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Arial"/>
              </a:rPr>
              <a:t>Пути достижения ЗО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оциальное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физическое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 и духовное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бщественное 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ивидуальное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1360" y="299520"/>
            <a:ext cx="76345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алеология – определение и знач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905120"/>
            <a:ext cx="49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-  это учение о здоровом образе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-  это не просто уникальная наука о здоровом образе жизни, но и наука, охватывающая все известные сферы человеческого бытия – социальную, духовную и физическую, общественную и индивидуальну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поможет понять, Вам как ваше окружение влияет на ваш организ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изучает, прежде всего "здоровье в гармонии", изучает принцип работы вашей нервной систе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отите правильно организовать свою сексуальную жизнь, избавиться от вредных привычек и овладеть совершенно новой, оригинальной оздоровительной системой? Тогда валеология - это наука для вас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ествует три завета, данные нам тысячи лет назад Библией, Талмудом, Кораном и другими священными книг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-  это люб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-  это здоровь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-  это довер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I225000"/>
          <p:cNvPicPr/>
          <p:nvPr/>
        </p:nvPicPr>
        <p:blipFill>
          <a:blip r:embed="rId1"/>
          <a:stretch/>
        </p:blipFill>
        <p:spPr>
          <a:xfrm>
            <a:off x="5219640" y="1916280"/>
            <a:ext cx="3672000" cy="26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ЗОЖ - определение и компон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Здоровь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отсутствие болезней и физических дефектов, полное состояние физического, духовного и социального благополу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н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Двигательная 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Закал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Рациональное 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Режим 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Личная гиги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Отказ от вредных привы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457200" y="4819680"/>
          <a:ext cx="822960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19680"/>
                    <a:ext cx="82296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8" descr="f1"/>
          <p:cNvPicPr/>
          <p:nvPr/>
        </p:nvPicPr>
        <p:blipFill>
          <a:blip r:embed="rId3"/>
          <a:stretch/>
        </p:blipFill>
        <p:spPr>
          <a:xfrm>
            <a:off x="6012000" y="3573360"/>
            <a:ext cx="1081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Пути достижения ЗО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Иметь цель в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Соблюдать режим двигательной а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Дышать чистым возду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Правильно пит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Уметь отдых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Закали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Соблюдать личную гиги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Отказаться от вредных привы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35"/>
          <p:cNvPicPr/>
          <p:nvPr/>
        </p:nvPicPr>
        <p:blipFill>
          <a:blip r:embed="rId1"/>
          <a:stretch/>
        </p:blipFill>
        <p:spPr>
          <a:xfrm>
            <a:off x="971640" y="1268280"/>
            <a:ext cx="2736720" cy="201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i[17]"/>
          <p:cNvPicPr/>
          <p:nvPr/>
        </p:nvPicPr>
        <p:blipFill>
          <a:blip r:embed="rId2"/>
          <a:stretch/>
        </p:blipFill>
        <p:spPr>
          <a:xfrm>
            <a:off x="971640" y="3586320"/>
            <a:ext cx="2736720" cy="217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ое, физическое и духовное 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Социа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 уверен в своём завтрашнем д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Физическ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доровье нашего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Духов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доровье нашего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f4"/>
          <p:cNvPicPr/>
          <p:nvPr/>
        </p:nvPicPr>
        <p:blipFill>
          <a:blip r:embed="rId1"/>
          <a:stretch/>
        </p:blipFill>
        <p:spPr>
          <a:xfrm>
            <a:off x="6296040" y="2276640"/>
            <a:ext cx="743040" cy="833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I226015"/>
          <p:cNvPicPr/>
          <p:nvPr/>
        </p:nvPicPr>
        <p:blipFill>
          <a:blip r:embed="rId2"/>
          <a:stretch/>
        </p:blipFill>
        <p:spPr>
          <a:xfrm>
            <a:off x="4643280" y="3933720"/>
            <a:ext cx="3256200" cy="2171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циальное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меет жиль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ышать качеств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стойную заработную пл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зможность отдых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держивать своих близ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увствует свою «нужность» общ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лагоприятные условия труда и б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Социальное здоровье тесно связано с духо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297[1]"/>
          <p:cNvPicPr/>
          <p:nvPr/>
        </p:nvPicPr>
        <p:blipFill>
          <a:blip r:embed="rId1"/>
          <a:stretch/>
        </p:blipFill>
        <p:spPr>
          <a:xfrm>
            <a:off x="5945040" y="1600200"/>
            <a:ext cx="144324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fitnes[1]"/>
          <p:cNvPicPr/>
          <p:nvPr/>
        </p:nvPicPr>
        <p:blipFill>
          <a:blip r:embed="rId2"/>
          <a:stretch/>
        </p:blipFill>
        <p:spPr>
          <a:xfrm>
            <a:off x="5319720" y="4092480"/>
            <a:ext cx="2695680" cy="1879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ое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37840" y="3924360"/>
            <a:ext cx="77058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Двигательная а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Рациональн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Закал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Лич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Умение отдых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Отказ от вредных привы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I226042"/>
          <p:cNvPicPr/>
          <p:nvPr/>
        </p:nvPicPr>
        <p:blipFill>
          <a:blip r:embed="rId1"/>
          <a:stretch/>
        </p:blipFill>
        <p:spPr>
          <a:xfrm>
            <a:off x="0" y="1341360"/>
            <a:ext cx="3384720" cy="243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news"/>
          <p:cNvPicPr/>
          <p:nvPr/>
        </p:nvPicPr>
        <p:blipFill>
          <a:blip r:embed="rId2"/>
          <a:stretch/>
        </p:blipFill>
        <p:spPr>
          <a:xfrm>
            <a:off x="4788000" y="1341360"/>
            <a:ext cx="338436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уховное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Зависит 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ы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мение определить своё положение в окружающей сре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Достигается ум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ть в согласии с со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нозировать ситуации влияющие на жиз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аботать модель своего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I225062"/>
          <p:cNvPicPr/>
          <p:nvPr/>
        </p:nvPicPr>
        <p:blipFill>
          <a:blip r:embed="rId1"/>
          <a:stretch/>
        </p:blipFill>
        <p:spPr>
          <a:xfrm>
            <a:off x="1835280" y="3940200"/>
            <a:ext cx="460836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05:48:21Z</dcterms:created>
  <dc:creator>test</dc:creator>
  <dc:description/>
  <dc:language>en-US</dc:language>
  <cp:lastModifiedBy>ZooM</cp:lastModifiedBy>
  <dcterms:modified xsi:type="dcterms:W3CDTF">2013-12-03T20:16:03Z</dcterms:modified>
  <cp:revision>36</cp:revision>
  <dc:subject/>
  <dc:title>Слайд 1</dc:title>
</cp:coreProperties>
</file>