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99E-99A7-42B8-AA28-15C42A62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E75-B228-45A6-ACDC-D5813E7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4E3-6D51-469D-BCFE-143CFB25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98E-51B8-48A5-A1FD-D6023907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328-45FA-4C0D-84EA-4CCF670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0F9-CD29-4409-AE5B-6D9795F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DAF-7D41-47C1-9423-F2255BC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3FD-4B08-4F08-B804-3B73307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17F-F836-4FEF-8250-046203A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D49-4E16-4DF2-AC71-280740C2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3E5-E7B0-47DE-BC46-1D7794F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F91-D564-45DA-9932-42F96E4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9EA7-AB38-441C-B7AD-9FFFD7B08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344320"/>
            <a:ext cx="510084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Валеология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урок 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по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ОБ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6920" y="5038200"/>
            <a:ext cx="42498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9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ственное и индивиду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sportwoom[1]"/>
          <p:cNvPicPr/>
          <p:nvPr/>
        </p:nvPicPr>
        <p:blipFill>
          <a:blip r:embed="rId1"/>
          <a:stretch/>
        </p:blipFill>
        <p:spPr>
          <a:xfrm>
            <a:off x="539640" y="1846440"/>
            <a:ext cx="36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бщественное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это здоровье группы людей или всего населен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ндивидуаль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здоровье одного конкретн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ствен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России общественное здоровье вызывает тревогу, т. к. у нас средняя продолжительность жизни меньше, чем в развитых странах из-за высокой сме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кторы влияющие на здоров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 природ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рплата, условия труда, бытовые условия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вень образования и меди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I226025"/>
          <p:cNvPicPr/>
          <p:nvPr/>
        </p:nvPicPr>
        <p:blipFill>
          <a:blip r:embed="rId1"/>
          <a:stretch/>
        </p:blipFill>
        <p:spPr>
          <a:xfrm>
            <a:off x="1763640" y="3940200"/>
            <a:ext cx="5184720" cy="21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67316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доровый образ жизни является универсальным средством профилактики заболеваний, укрепления и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4259160" cy="2435400"/>
        </p:xfrm>
        <a:graphic>
          <a:graphicData uri="http://schemas.openxmlformats.org/drawingml/2006/table">
            <a:tbl>
              <a:tblPr/>
              <a:tblGrid>
                <a:gridCol w="2130480"/>
                <a:gridCol w="2128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Б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Размн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Физ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ыхание, питание, кровооб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,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Социа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Трудоспосо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 txBox="1"/>
          <p:nvPr/>
        </p:nvSpPr>
        <p:spPr>
          <a:xfrm>
            <a:off x="4932000" y="1599840"/>
            <a:ext cx="375444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ндивидуальный образ жизни –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99"/>
                </a:solidFill>
                <a:latin typeface="Arial"/>
              </a:rPr>
              <a:t>Биологический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Окружающая среда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Здравоохранение – 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[1]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0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1258920" y="1557360"/>
          <a:ext cx="63291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3291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700360" y="33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79280" y="981000"/>
            <a:ext cx="7848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леология – определение и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ОЖ – определение и 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Основные составляющие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Пути достижения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циальн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физическ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и духов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ественное 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1360" y="299520"/>
            <a:ext cx="7634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алеология – определение и зна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49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учение о здоровом образе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не просто уникальная наука о здоровом образе жизни, но и наука, охватывающая все известные сферы человеческого бытия – социальную, духовную и физическую, общественную и индивидуальн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поможет понять, Вам как ваше окружение влияет на ваш орган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изучает, прежде всего "здоровье в гармонии", изучает принцип работы вашей нервной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ите правильно организовать свою сексуальную жизнь, избавиться от вредных привычек и овладеть совершенно новой, оригинальной оздоровительной системой? Тогда валеология - это наука для ва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три завета, данные нам тысячи лет назад Библией, Талмудом, Кораном и другими священными кни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люб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довер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I225000"/>
          <p:cNvPicPr/>
          <p:nvPr/>
        </p:nvPicPr>
        <p:blipFill>
          <a:blip r:embed="rId1"/>
          <a:stretch/>
        </p:blipFill>
        <p:spPr>
          <a:xfrm>
            <a:off x="5219640" y="1916280"/>
            <a:ext cx="367200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ЗОЖ - определение и компон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тсутствие болезней и физических дефектов, полное состояние физического, духовного и социального благополу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ежим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каз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4819680"/>
          <a:ext cx="82296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19680"/>
                    <a:ext cx="82296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8" descr="f1"/>
          <p:cNvPicPr/>
          <p:nvPr/>
        </p:nvPicPr>
        <p:blipFill>
          <a:blip r:embed="rId3"/>
          <a:stretch/>
        </p:blipFill>
        <p:spPr>
          <a:xfrm>
            <a:off x="6012000" y="3573360"/>
            <a:ext cx="108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Пути достижения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меть цель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режим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ышать чистым возду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авильно пит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ме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кал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личную гиги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тказаться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5"/>
          <p:cNvPicPr/>
          <p:nvPr/>
        </p:nvPicPr>
        <p:blipFill>
          <a:blip r:embed="rId1"/>
          <a:stretch/>
        </p:blipFill>
        <p:spPr>
          <a:xfrm>
            <a:off x="971640" y="1268280"/>
            <a:ext cx="273672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[17]"/>
          <p:cNvPicPr/>
          <p:nvPr/>
        </p:nvPicPr>
        <p:blipFill>
          <a:blip r:embed="rId2"/>
          <a:stretch/>
        </p:blipFill>
        <p:spPr>
          <a:xfrm>
            <a:off x="971640" y="3586320"/>
            <a:ext cx="2736720" cy="21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е, физическое и духов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уверен в своём завтрашнем д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Физ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Духов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f4"/>
          <p:cNvPicPr/>
          <p:nvPr/>
        </p:nvPicPr>
        <p:blipFill>
          <a:blip r:embed="rId1"/>
          <a:stretch/>
        </p:blipFill>
        <p:spPr>
          <a:xfrm>
            <a:off x="6296040" y="2276640"/>
            <a:ext cx="743040" cy="83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226015"/>
          <p:cNvPicPr/>
          <p:nvPr/>
        </p:nvPicPr>
        <p:blipFill>
          <a:blip r:embed="rId2"/>
          <a:stretch/>
        </p:blipFill>
        <p:spPr>
          <a:xfrm>
            <a:off x="4643280" y="3933720"/>
            <a:ext cx="3256200" cy="2171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ет жиль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ать качеств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стойную заработную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можнос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держивать сво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увствует свою «нужность»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гоприятные условия труда и б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 здоровье тесно связано с духо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297[1]"/>
          <p:cNvPicPr/>
          <p:nvPr/>
        </p:nvPicPr>
        <p:blipFill>
          <a:blip r:embed="rId1"/>
          <a:stretch/>
        </p:blipFill>
        <p:spPr>
          <a:xfrm>
            <a:off x="5945040" y="1600200"/>
            <a:ext cx="14432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fitnes[1]"/>
          <p:cNvPicPr/>
          <p:nvPr/>
        </p:nvPicPr>
        <p:blipFill>
          <a:blip r:embed="rId2"/>
          <a:stretch/>
        </p:blipFill>
        <p:spPr>
          <a:xfrm>
            <a:off x="5319720" y="4092480"/>
            <a:ext cx="269568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7840" y="3924360"/>
            <a:ext cx="77058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Рациональ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Умение отдых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тказ от вред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226042"/>
          <p:cNvPicPr/>
          <p:nvPr/>
        </p:nvPicPr>
        <p:blipFill>
          <a:blip r:embed="rId1"/>
          <a:stretch/>
        </p:blipFill>
        <p:spPr>
          <a:xfrm>
            <a:off x="0" y="1341360"/>
            <a:ext cx="3384720" cy="243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ews"/>
          <p:cNvPicPr/>
          <p:nvPr/>
        </p:nvPicPr>
        <p:blipFill>
          <a:blip r:embed="rId2"/>
          <a:stretch/>
        </p:blipFill>
        <p:spPr>
          <a:xfrm>
            <a:off x="4788000" y="134136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е определить своё положение в окружающе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Достигается ум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ь в согласии с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зировать ситуации влияющие на жи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ать модель свое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225062"/>
          <p:cNvPicPr/>
          <p:nvPr/>
        </p:nvPicPr>
        <p:blipFill>
          <a:blip r:embed="rId1"/>
          <a:stretch/>
        </p:blipFill>
        <p:spPr>
          <a:xfrm>
            <a:off x="1835280" y="3940200"/>
            <a:ext cx="460836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5:48:21Z</dcterms:created>
  <dc:creator>test</dc:creator>
  <dc:description/>
  <dc:language>en-US</dc:language>
  <cp:lastModifiedBy>ZooM</cp:lastModifiedBy>
  <dcterms:modified xsi:type="dcterms:W3CDTF">2013-12-03T20:16:03Z</dcterms:modified>
  <cp:revision>36</cp:revision>
  <dc:subject/>
  <dc:title>Слайд 1</dc:title>
</cp:coreProperties>
</file>