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6452-383C-49E5-8231-7DC85CC23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2DF3-9C25-498B-9DCC-0A1F38C8B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EFD9-E5C5-432E-9634-F28BE7679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8813-1EB9-40E9-9B93-B2194BFB3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7CF7-30AE-47CA-88FB-C218C69D85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B8C9-FE63-4F36-96DB-820EF6C491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EAF4-4537-4C8B-94D1-59FC966FAF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7DED-F484-40BA-9049-C5F2AEDD7A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E997-3E9E-472B-B6ED-9D81B2F7D1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CC3A-99AD-48B5-9A9C-793A35BD35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7786-8896-476E-98C2-A3A3BAF90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7B23-B47B-4C40-B388-B54169B7D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2527-392F-43CF-8D3E-1AA2CF0CB8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523A-5EAA-4C04-8733-FD1CE6E4B1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28E2-CD9F-494F-BBFD-CE46B50E9A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3A70-FE0A-48C1-84B3-61B11A3758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EC18-C175-4D9E-9F31-5187071B05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F7F-301C-47D6-AEF0-D098643068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175-0BAF-48EA-9B74-D03393550A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AF0-78D3-43FE-9334-C00D5A4764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06F-9C75-4DD0-A4B9-61CD3FC0AF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831-F2B4-4FED-B18A-663DFDA83B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8784-4A39-4BC9-BE32-FA86943783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73D-6B97-4A67-A2DB-56C0660ABE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672-1351-48FD-9CF5-EF9CAAE20D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3F5-0342-44F9-8295-A74D0566EF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738-0633-467E-8586-A1A80AE86A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481-6B2F-41D6-B488-ACB092A90B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A42-76AC-4CE4-AB6C-9B2B91653B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CE3-BE71-4AC6-8192-8C926FF81D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67CF1-E88A-4A9A-A7DC-B9BCEEBFDB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ADF3E-CC78-443A-A154-22DE2074EF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38339-2F12-4A5E-9D36-2042DA7A4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FFD9-F8CB-4783-828B-F21F85B593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0E7D7-24B2-4891-973B-829BFF5F81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28205-8BC5-40A2-B966-35FBB0BDA3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2BA4C-D8A8-4CE1-BE8E-FCFD98EDD3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A0A26-E6FF-4C97-A446-369D02F905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07B29-F9C6-4DF3-AB69-0FF1571A45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F8203-8DCC-41D5-9CEE-EA655525AF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D7ECF-40B8-4BA2-AA3B-77F061A837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A04C6-B18D-4555-98F0-4753EA8B6C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D9EF4-A103-4B7F-94DE-EC1309DCFF8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0E438-BA88-4432-A8FA-2E0B672BF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CD96-2A6F-4D70-B641-8B374727240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53568-53AC-4E16-8DE5-CF3FE81F12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ED96D-EF20-4FFC-9062-65E0A0D145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001F9-1CDB-4775-9400-3D35454862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4B773-B526-4BB7-A834-CE130B72B2A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7A039-091C-482F-B642-014D79929A9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749D1-D565-4DAF-9ECC-18C245AB3C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F22A0-C3B6-475A-995A-1B76F6E0530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65B40-892B-49D5-9744-E07FFECAC75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8A873-5D1A-4AEB-AFEA-B1FD59B565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96DDD-642D-4CCA-88F9-42E11A8D8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6771-4C57-4222-9F4E-743CBCD7633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28824-C354-4A48-8EDB-3B82997090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00A0-80F2-4ED0-AB18-C502BB6AF0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31BB-A05B-4E6B-AEC6-5C6CDA44921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1F1C-53DB-4542-8706-81DF5ED7CC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5AA1-AE28-4021-B2CD-AED38FED79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FB58-F92A-4CA3-899D-E7BA7032CFD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07F6-CC39-41DD-98EB-998A8A1B8AC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323D-F6D6-4147-BD30-6FF91D99E96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304A-EA22-4979-B80B-88BC08C13DA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F252-2227-4614-B6E6-C11292ED7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66AC-AD77-436D-8A11-543DAC8424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EFCA-BDBF-4C7B-AC53-A60B6025D63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7366-FCCB-430A-8651-550CAC6437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CFF3-A0E1-4D62-A910-D95CF3D7DD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7BEE7F-8DE1-4A14-8C6D-E16A3AEEF48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C21961-F212-4968-8754-1B6A0F47AB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50444-196D-4442-B5F2-FEDA1C2305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8E61F1-ADB0-43AD-A4F1-9B01B7E8A5F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3B3FF2-AE9A-4E0F-B59C-ECB70DA3307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52A34-6E03-4E5B-9277-8B679C336A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11BD64-BA6C-49FA-8F15-F55B66A19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5E03-F475-44DD-906E-894ABC3D03E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EA6DB-F299-414D-BB3F-1A45A6537A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50866-2CA9-4AF9-B922-DEB025D4F33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AF6A3-6055-4996-8112-31F3928E8F2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75A9B-D9B5-4E8B-A05B-19E2F9CAAE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8D8E3-E382-4143-8932-55300BD399F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E74D4-B40A-46BD-8C9E-6ADB80FB811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49629-2FB8-4125-A5BE-E90E470E8FC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2F921-F02B-4E77-961E-04632BF4A76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3B0EA-6EE6-4CD9-8151-D8432EDA7DB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A2061-A67D-4DEF-BA32-6CB312240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9E34-6B48-4D06-B06A-9A29FC9C69E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1CA6D-FBEE-4477-966F-08A184285E8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4200E-E581-41EC-A0B7-E21C523C82C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2E910-BB44-4699-A81C-E9B22B6128A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488BA-F621-43DA-883B-62A321C87B7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43298-DA26-4335-AB75-C5A3103A5F5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1E05E-FAAB-4EB0-B941-4E86493E9A8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6211B-EAE6-4777-9246-124716436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7F6FB3-27F1-4C39-9699-DFC573109F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71600" y="60120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D8FD15-6925-4D83-B01F-90D32CACEE16}" type="slidenum">
              <a: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791240" y="6321600"/>
            <a:ext cx="2133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394DDD-B10F-45DB-9AEE-375F9E4A78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7040" y="7560"/>
            <a:ext cx="2676600" cy="190332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4680"/>
            <a:ext cx="9137520" cy="68486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56280" y="6321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8449920" y="809280"/>
            <a:ext cx="501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6F4D57-FD7A-4C5A-90AC-11B0219972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5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814E08-5341-4E72-BB21-E1459AA5C3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91240" y="6323040"/>
            <a:ext cx="2130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7589520" y="648324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6A0277-8035-4034-9F44-40B596480A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278400" y="639756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7"/>
          </p:nvPr>
        </p:nvSpPr>
        <p:spPr>
          <a:xfrm>
            <a:off x="8410320" y="655632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C1084B-CAF9-4EBA-A345-84C813D1B513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108840" y="6397560"/>
            <a:ext cx="2101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8"/>
          </p:nvPr>
        </p:nvSpPr>
        <p:spPr>
          <a:xfrm>
            <a:off x="8217000" y="6556320"/>
            <a:ext cx="3650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D33C1D-3714-485A-99FD-7C2C8C56E3AF}" type="slidenum">
              <a: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071440" y="22860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ыполнила: Попрядухина Елена Васильев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еподаватель – организатор ОБЖ МОУ СОШ № 30 г. Курск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-285840" y="2714760"/>
            <a:ext cx="7000920" cy="5175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"/>
          <p:cNvGrpSpPr/>
          <p:nvPr/>
        </p:nvGrpSpPr>
        <p:grpSpPr>
          <a:xfrm>
            <a:off x="500040" y="285840"/>
            <a:ext cx="8143920" cy="1642680"/>
            <a:chOff x="500040" y="285840"/>
            <a:chExt cx="8143920" cy="1642680"/>
          </a:xfrm>
        </p:grpSpPr>
        <p:pic>
          <p:nvPicPr>
            <p:cNvPr id="348" name="Picture 3" descr=""/>
            <p:cNvPicPr/>
            <p:nvPr/>
          </p:nvPicPr>
          <p:blipFill>
            <a:blip r:embed="rId2"/>
            <a:stretch/>
          </p:blipFill>
          <p:spPr>
            <a:xfrm>
              <a:off x="500040" y="285840"/>
              <a:ext cx="814392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4"/>
            <p:cNvSpPr/>
            <p:nvPr/>
          </p:nvSpPr>
          <p:spPr>
            <a:xfrm>
              <a:off x="500040" y="285840"/>
              <a:ext cx="814392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500040" y="428760"/>
            <a:ext cx="81867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3.При пыльной буре закройте лицо марлевой повязкой, платком, куском ткани, а глаза оч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571760" y="3571920"/>
            <a:ext cx="5715000" cy="3000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85480" y="285840"/>
            <a:ext cx="84294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При поступлении сигнала о приближении смерча необходимо немедленно спуститься в укрытие, подвал дома или погреб, либо укрыться под кроватью и другой прочной мебелью. Если смерч застает Вас на открытой местности, укрывайтесь на дне дорожного кювета, в ямах, рвах, узких оврагах, плотно прижимаясь к земле, закрыв голову одеждой или ветками деревьев. Не оставайтесь в автомобиле, выходите из него и укрывайтесь, как указано выше</a:t>
            </a:r>
            <a:r>
              <a:rPr b="0" lang="en-GB" sz="1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3929040" y="4357800"/>
            <a:ext cx="3301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Алгоритм действий при заблаговременном оповещении об угрозе ураганов, бурь, смерче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Picture 5" descr="{9B611EF1-2301-49CC-A55C-57264CFE7DEC}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 u="sng">
                <a:solidFill>
                  <a:srgbClr val="ff5c9c"/>
                </a:solidFill>
                <a:uFillTx/>
                <a:latin typeface="Times New Roman"/>
              </a:rPr>
              <a:t>Алгоритм действий в случае внезапного возникновения урагана, бури, смерча</a:t>
            </a:r>
            <a:endParaRPr b="0" lang="en-US" sz="3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401" name="Picture 6" descr="{A090355C-74DC-4219-952C-EB831C46561E}"/>
          <p:cNvPicPr/>
          <p:nvPr/>
        </p:nvPicPr>
        <p:blipFill>
          <a:blip r:embed="rId1"/>
          <a:stretch/>
        </p:blipFill>
        <p:spPr>
          <a:xfrm>
            <a:off x="1523880" y="1882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1"/>
          <p:cNvGrpSpPr/>
          <p:nvPr/>
        </p:nvGrpSpPr>
        <p:grpSpPr>
          <a:xfrm>
            <a:off x="1143000" y="357120"/>
            <a:ext cx="6500880" cy="857160"/>
            <a:chOff x="1143000" y="357120"/>
            <a:chExt cx="6500880" cy="857160"/>
          </a:xfrm>
        </p:grpSpPr>
        <p:pic>
          <p:nvPicPr>
            <p:cNvPr id="403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357120"/>
              <a:ext cx="6500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3"/>
            <p:cNvSpPr/>
            <p:nvPr/>
          </p:nvSpPr>
          <p:spPr>
            <a:xfrm>
              <a:off x="1143000" y="357120"/>
              <a:ext cx="6500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Text Box 4"/>
          <p:cNvSpPr/>
          <p:nvPr/>
        </p:nvSpPr>
        <p:spPr>
          <a:xfrm>
            <a:off x="500040" y="1143000"/>
            <a:ext cx="81867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 какой скоростью движется ураг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10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10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20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2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2786040" y="2308320"/>
            <a:ext cx="5786640" cy="390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45720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корость песчаной бури составля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олее 2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3643200" y="2286000"/>
            <a:ext cx="5246640" cy="4173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324000" y="692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зовите правильное действие, которое нужно выполнить во время урагана, бури или смер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Спуститься в укр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ыйти на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варить 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Молиться бо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3305160" y="2714760"/>
            <a:ext cx="5195880" cy="37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68360" y="620640"/>
            <a:ext cx="82296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кажите правильное утвер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снежной бури лучше укры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 зд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 сугро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крыв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 я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57560" cy="4062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68360" y="549360"/>
            <a:ext cx="822960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С чем перемещается облак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месте с дом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месте с обла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Вместе с дож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месте с мус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3357720" y="257184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2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5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692280"/>
            <a:ext cx="822960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УРАГАН – это атмосферный вихрь больших размеров со скоростью ветра до 120 км/ч, а в приземном слое – до 200 км/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91040" cy="4222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ураганов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Ураган (115-14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Сильный ураган (140-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Жестокий ураган (более 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5" descr="http://etotornado.ru/collapse/uraganiivetra/foto/small/2.jpg"/>
          <p:cNvPicPr/>
          <p:nvPr/>
        </p:nvPicPr>
        <p:blipFill>
          <a:blip r:embed="rId1"/>
          <a:stretch/>
        </p:blipFill>
        <p:spPr>
          <a:xfrm>
            <a:off x="539640" y="3716280"/>
            <a:ext cx="3816360" cy="2854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201188_main"/>
          <p:cNvPicPr/>
          <p:nvPr/>
        </p:nvPicPr>
        <p:blipFill>
          <a:blip r:embed="rId2"/>
          <a:stretch/>
        </p:blipFill>
        <p:spPr>
          <a:xfrm>
            <a:off x="4788000" y="371628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468360" y="47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УРЯ – длительный, очень сильный ветер со скоростью более 20 м/с, наблюдается обычно при прохождении циклона и сопровождается сильным волнением на море и разрушениями на су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6961320" cy="3972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бури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468360" y="1341360"/>
            <a:ext cx="25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61128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По сост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154764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203640" y="1341360"/>
            <a:ext cx="2376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3205080" y="143676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По скорос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вет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3"/>
          <p:cNvSpPr/>
          <p:nvPr/>
        </p:nvSpPr>
        <p:spPr>
          <a:xfrm>
            <a:off x="4211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3564000" y="386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843280" y="3500280"/>
            <a:ext cx="2952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Бури (20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ильные бури (28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Жестокие бури (30,5м/с и боле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5867280" y="1341360"/>
            <a:ext cx="2376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6013800" y="1554120"/>
            <a:ext cx="213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По окрас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част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7020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6227640" y="3500280"/>
            <a:ext cx="237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Че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Желто-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Бе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395280" y="3500280"/>
            <a:ext cx="201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есча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ы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н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1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50920" y="642960"/>
            <a:ext cx="396396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СМЕРЧ – атмосферный вихрь, возникающий в грозовом облаке и распространяющийся вниз, часто до самой поверхности Земли в виде темного облачного рукава или хобота диаметром в десятки и сотни метров.</a:t>
            </a:r>
            <a:r>
              <a:rPr b="1" i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Существует недолго, перемещаясь вместе с обла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18160" cy="5572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Times New Roman"/>
              </a:rPr>
              <a:t>Виды смерчей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50920" y="1268280"/>
            <a:ext cx="2736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348000" y="1268280"/>
            <a:ext cx="244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156360" y="1268280"/>
            <a:ext cx="2592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250920" y="1484280"/>
            <a:ext cx="29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300" spc="-1" strike="noStrike">
                <a:solidFill>
                  <a:srgbClr val="00cc99"/>
                </a:solidFill>
                <a:latin typeface="Times New Roman"/>
              </a:rPr>
              <a:t>По происхождению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565800" y="14842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стро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6227640" y="1341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врем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54764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7308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96360" y="3141720"/>
            <a:ext cx="25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Невид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Водя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Огн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3132000" y="3068640"/>
            <a:ext cx="325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Пл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Расплывчат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6443640" y="3068640"/>
            <a:ext cx="2700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Кротк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Длинн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Ураганные вих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7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450720" y="262080"/>
            <a:ext cx="8240760" cy="809640"/>
            <a:chOff x="450720" y="262080"/>
            <a:chExt cx="8240760" cy="809640"/>
          </a:xfrm>
        </p:grpSpPr>
        <p:pic>
          <p:nvPicPr>
            <p:cNvPr id="38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3"/>
            <p:cNvSpPr/>
            <p:nvPr/>
          </p:nvSpPr>
          <p:spPr>
            <a:xfrm>
              <a:off x="450720" y="262080"/>
              <a:ext cx="82407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Text Box 4"/>
          <p:cNvSpPr/>
          <p:nvPr/>
        </p:nvSpPr>
        <p:spPr>
          <a:xfrm>
            <a:off x="428760" y="857160"/>
            <a:ext cx="82152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. </a:t>
            </a: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отойдите от окон и займите безопасное место у стен внутренних помещений, в коридоре, у встроенных шкафов, в ванных комнатах, туалете, кладовых, в прочных шкафах, под сто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2"/>
          <a:stretch/>
        </p:blipFill>
        <p:spPr>
          <a:xfrm>
            <a:off x="1928880" y="2928960"/>
            <a:ext cx="5705280" cy="3533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357120" y="357120"/>
            <a:ext cx="83296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2.При снежной буре укрывайтесь в зданиях. Если Вы оказались в поле или на проселочной дороге, выходите на магистральные дороги, которые периодически расчищаются и где большая вероятность оказания Вам помощ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1928880" y="2600280"/>
            <a:ext cx="5857920" cy="39718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9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КарМаН</cp:lastModifiedBy>
  <dcterms:modified xsi:type="dcterms:W3CDTF">2011-03-18T12:13:54Z</dcterms:modified>
  <cp:revision>17</cp:revision>
  <dc:subject/>
  <dc:title>Ураганы, бури, смерчи!!!</dc:title>
</cp:coreProperties>
</file>