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0.png" ContentType="image/png"/>
  <Override PartName="/ppt/media/image6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5F89F-66D2-4A71-9206-71D7DB9BF7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7509C-932E-483B-A1BB-7F6D599E33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73D08-CA34-4D42-88DA-73E6C8C703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84C05-CC06-456F-8A0C-62611DFB57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EE86C-D08A-4B9F-8B67-BFA042FD1F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9E3CC-E24C-4096-95B2-E2073DDBCB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77EF9-97AA-4CD8-8FB7-66AF39B0E9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8305D-6CE8-4035-BDCB-8136A9A39B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C2076-7BCD-4E7A-98DF-910D24930C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D7DFA-5AEF-4238-AFC7-8008DA7E02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B4B62-FB94-4DF7-BA25-F35C3D7BD9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83965-3386-4790-B0AA-71F57B6AF2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DC399-408D-4263-A2F2-E0B8347BDC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CD44B-96F4-4F01-B398-BAB2EA67A5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C076D-25D2-4359-8702-EE0F8EE651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1DBDD-E648-4919-83F7-516F5EE39A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50B92-6D4E-4493-B975-494C960F060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1B93-41B3-427B-8EEA-3F61623B4C2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21E9-A2EB-4AE3-BBCE-8FC75CF5D33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6093-0973-4703-B560-74FFC18944E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9CA8-A4E1-4F44-AD43-353DF85B51F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35EC-B946-44F5-8112-D84A475456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91231-4734-4E2B-82F5-0D8CBF5876C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EA46-F811-487D-86B6-426650E37E5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FCAF-C64F-47F3-AC39-899C0D7E775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F571-25D2-49CC-B329-E5B8714A97E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A64D-BF5F-4D33-8F39-D31B0F6FF6E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9436-D78E-47B9-9CC9-F26D0E79EED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2A7C-C849-45DD-B35D-009B45817CB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A8A1-8716-449C-8536-8EBA3F1DD62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95636-B531-483B-A1B7-F356927C2FD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6B51C-0C68-4998-911C-7F1933BDE21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57459-DA7C-4F50-98DD-6E33DA6998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7D88B-9323-44C6-B296-3E61A9388A1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AAAB03-EE34-4B4A-9963-40A73255A67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E4211-D8B9-4FF8-9394-6A125C88F48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A2EA0-4DE3-4037-8990-2BD4162BE33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E96E9D-4E8F-473D-80C6-0F74B549055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19642-AA22-4CAD-A2E2-EF546F669E5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45673-FCB7-4E03-942C-5102AB2856E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1A429-FC92-44BD-8A6B-3733299990E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8DF77-99CB-4244-835B-A65B870F8C2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A3122-9388-4331-A6A1-5DB3680594F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BD491-E728-4CFC-AE94-ABF2885B6B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5FAF2-2535-43E5-BA9F-7309852D0A8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AE06A-802B-4DFA-85FA-228006E4883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76DEE-0376-4F8D-98BA-A041FAAFB78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C0B72-3140-490A-B9B4-F77A3D6BFDE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CE569-83CE-4FE3-A498-50AD28F4E9E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7BC8F-08F6-48DA-9ECA-706B2D02103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3B2EA-9865-427D-BF1E-9C936B63484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DEB71-822D-47FF-9309-85C0705B9A6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E42E5-A63E-4470-ACDB-E7EEFABA368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DAFC0-72FA-4D15-A192-B21E06A9056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564FE-C74B-4F93-B647-67FB359FC4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72189-B612-44A5-B095-D2BC5350786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36CB6-DBA8-486B-A9B6-D42193F2210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0E72-D8AC-4E58-941F-EC3477695AF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FADC-5021-46A4-B7AB-D811E974AB4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201B-9F18-42B3-8E29-90BB7F8A1E0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4A24-C9A6-4A6B-A8E1-33E68760C7C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B7A6-A14C-41BD-92DE-0CF4DAEB5C1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B4D1-C192-47E0-8BA0-161D6AEE296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AC27-4701-445E-88AA-E0DBED3055E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B091-A5F9-478D-9BAE-812141BC884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10BB-EA32-44C2-B2C0-957B1DEE25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F7712-0C7D-4379-8E42-FBB652D8CF0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B742-5062-4069-AAEB-FFCEE3A0326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A58A-9AE8-4914-8E38-46DCCC6C4E8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8787-D731-4DB3-9BAB-F673D8342D0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F34CC7-0E43-4F42-8639-2FDDD3A412B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297F9A-4AD7-4830-A483-09E4B15BBCC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8D066C-1768-4FFB-884D-0FAF661882B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3449BD-D27A-4A3D-A84C-DC6419EE7B3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FDB47A-B1CB-4069-A5B6-FA1E766570C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EAF191-EF97-4AE9-A566-20DBE3AAC3B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5EE8B2-D4AA-4347-80D0-E770273B3A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F7DB1-7FDA-4FB4-AAE3-C238F0E127B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EF54C9-A38F-4D4C-AE26-933CBBF6B7A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4044DC-3F7C-4306-9B23-659E2EFA4E8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024FA5-3349-4A01-A877-68E5A814335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04D2DB-B6AE-4813-86B6-CC5677E908C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064700-96D5-4C5F-B1D0-A2BA755A443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1E8B3E-CB23-4AD2-8829-A18F86ACC5C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5DE284-D53C-4D46-92A5-6EC31B94B3F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239601-D9B4-481A-8A49-486CB3349EE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2E3BC8-B4A4-476F-8248-88DD4B3B18C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BE5720-004A-4608-B83C-5761A34E51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BA039-2349-4F65-B74E-6F43ADC889A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9BD840-AE66-4B43-B0CF-4B03BF1CA76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65112E-FFDA-431B-9046-47461C9E51E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21244F-5786-4588-91F5-0F22B3912BA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C7E8D6-1ED6-490E-9129-61274CA101D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75918B-47A4-452E-9C87-317903E1826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34F795-2722-40B8-9F0F-3B8554E32AD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66EB6D-B313-416B-B8A8-1B8B88274F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Line 3"/>
          <p:cNvSpPr/>
          <p:nvPr/>
        </p:nvSpPr>
        <p:spPr>
          <a:xfrm flipH="1">
            <a:off x="6467040" y="4948200"/>
            <a:ext cx="267660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4791240" y="6323040"/>
            <a:ext cx="2133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457200" y="6323040"/>
            <a:ext cx="4259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7589520" y="6481440"/>
            <a:ext cx="5014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2B01936-A2B0-4BDE-A098-9660EC37BD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Line 3"/>
          <p:cNvSpPr/>
          <p:nvPr/>
        </p:nvSpPr>
        <p:spPr>
          <a:xfrm flipH="1">
            <a:off x="6467040" y="4948200"/>
            <a:ext cx="267660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 rot="16200000">
            <a:off x="7553160" y="525564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ff69a4"/>
              </a:gs>
              <a:gs pos="100000">
                <a:srgbClr val="b6004a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371600" y="6012000"/>
            <a:ext cx="5791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371600" y="5648400"/>
            <a:ext cx="5791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2"/>
          </p:nvPr>
        </p:nvSpPr>
        <p:spPr>
          <a:xfrm>
            <a:off x="8391240" y="5753160"/>
            <a:ext cx="5014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1A185C0-80C8-4F81-9E10-AF277E11D9E0}" type="slidenum">
              <a:rPr b="0" lang="en-US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 flipH="1">
            <a:off x="6467040" y="4948200"/>
            <a:ext cx="267660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791240" y="6321600"/>
            <a:ext cx="2133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57200" y="6321600"/>
            <a:ext cx="4259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3"/>
          </p:nvPr>
        </p:nvSpPr>
        <p:spPr>
          <a:xfrm>
            <a:off x="7589520" y="6481440"/>
            <a:ext cx="5014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86F509D-57C0-4654-8B77-FEE43C4E6F5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1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2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ff69a4"/>
              </a:gs>
              <a:gs pos="100000">
                <a:srgbClr val="b6004a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3"/>
          <p:cNvSpPr/>
          <p:nvPr/>
        </p:nvSpPr>
        <p:spPr>
          <a:xfrm flipH="1" flipV="1">
            <a:off x="6467040" y="7560"/>
            <a:ext cx="2676600" cy="190332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 flipV="1">
            <a:off x="0" y="4680"/>
            <a:ext cx="9137520" cy="68486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6956280" y="6321600"/>
            <a:ext cx="2133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2619360" y="6321600"/>
            <a:ext cx="4260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Num" idx="4"/>
          </p:nvPr>
        </p:nvSpPr>
        <p:spPr>
          <a:xfrm>
            <a:off x="8449920" y="809280"/>
            <a:ext cx="501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3581F0C-001F-487D-BE81-96BD56E6C17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3"/>
          <p:cNvSpPr/>
          <p:nvPr/>
        </p:nvSpPr>
        <p:spPr>
          <a:xfrm flipH="1">
            <a:off x="6467040" y="4948200"/>
            <a:ext cx="267660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4791240" y="6323040"/>
            <a:ext cx="2133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457200" y="6323040"/>
            <a:ext cx="4259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5"/>
          </p:nvPr>
        </p:nvSpPr>
        <p:spPr>
          <a:xfrm>
            <a:off x="7589520" y="6481440"/>
            <a:ext cx="5014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4E5E0CE-7877-44A7-BF89-81C9D0157C1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4791240" y="6323040"/>
            <a:ext cx="2130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457200" y="6323040"/>
            <a:ext cx="4260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6"/>
          </p:nvPr>
        </p:nvSpPr>
        <p:spPr>
          <a:xfrm>
            <a:off x="7589520" y="6483240"/>
            <a:ext cx="50148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C9254BC-EE34-463A-952B-74D61411A4B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6278400" y="639756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135080" y="6397560"/>
            <a:ext cx="5143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7"/>
          </p:nvPr>
        </p:nvSpPr>
        <p:spPr>
          <a:xfrm>
            <a:off x="8410320" y="6556320"/>
            <a:ext cx="50148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81A69DF-4B29-4044-9BB7-BA37AFAE11D3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6108840" y="6397560"/>
            <a:ext cx="2101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1170000" y="6399360"/>
            <a:ext cx="49482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Num" idx="8"/>
          </p:nvPr>
        </p:nvSpPr>
        <p:spPr>
          <a:xfrm>
            <a:off x="8217000" y="6556320"/>
            <a:ext cx="36504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9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950A5C9-19D2-4026-890C-618D4C0608F9}" type="slidenum">
              <a:rPr b="0" lang="en-GB" sz="9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2071440" y="2286000"/>
            <a:ext cx="64292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ыполнила: Попрядухина Елена Васильевн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реподаватель – организатор ОБЖ МОУ СОШ № 30 г. Курск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6" name="Picture 1" descr=""/>
          <p:cNvPicPr/>
          <p:nvPr/>
        </p:nvPicPr>
        <p:blipFill>
          <a:blip r:embed="rId1"/>
          <a:stretch/>
        </p:blipFill>
        <p:spPr>
          <a:xfrm>
            <a:off x="-285840" y="2714760"/>
            <a:ext cx="7000920" cy="5175000"/>
          </a:xfrm>
          <a:prstGeom prst="rect">
            <a:avLst/>
          </a:prstGeom>
          <a:ln w="0">
            <a:noFill/>
          </a:ln>
        </p:spPr>
      </p:pic>
      <p:grpSp>
        <p:nvGrpSpPr>
          <p:cNvPr id="347" name="Group 2"/>
          <p:cNvGrpSpPr/>
          <p:nvPr/>
        </p:nvGrpSpPr>
        <p:grpSpPr>
          <a:xfrm>
            <a:off x="500040" y="285840"/>
            <a:ext cx="8143920" cy="1642680"/>
            <a:chOff x="500040" y="285840"/>
            <a:chExt cx="8143920" cy="1642680"/>
          </a:xfrm>
        </p:grpSpPr>
        <p:pic>
          <p:nvPicPr>
            <p:cNvPr id="348" name="Picture 3" descr=""/>
            <p:cNvPicPr/>
            <p:nvPr/>
          </p:nvPicPr>
          <p:blipFill>
            <a:blip r:embed="rId2"/>
            <a:stretch/>
          </p:blipFill>
          <p:spPr>
            <a:xfrm>
              <a:off x="500040" y="285840"/>
              <a:ext cx="8143920" cy="16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Text Box 4"/>
            <p:cNvSpPr/>
            <p:nvPr/>
          </p:nvSpPr>
          <p:spPr>
            <a:xfrm>
              <a:off x="500040" y="285840"/>
              <a:ext cx="8143920" cy="164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1"/>
          <p:cNvSpPr/>
          <p:nvPr/>
        </p:nvSpPr>
        <p:spPr>
          <a:xfrm>
            <a:off x="500040" y="428760"/>
            <a:ext cx="818676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3.При пыльной буре закройте лицо марлевой повязкой, платком, куском ткани, а глаза очк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571760" y="3571920"/>
            <a:ext cx="5715000" cy="300024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1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285480" y="285840"/>
            <a:ext cx="84294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При поступлении сигнала о приближении смерча необходимо немедленно спуститься в укрытие, подвал дома или погреб, либо укрыться под кроватью и другой прочной мебелью. Если смерч застает Вас на открытой местности, укрывайтесь на дне дорожного кювета, в ямах, рвах, узких оврагах, плотно прижимаясь к земле, закрыв голову одеждой или ветками деревьев. Не оставайтесь в автомобиле, выходите из него и укрывайтесь, как указано выше</a:t>
            </a:r>
            <a:r>
              <a:rPr b="0" lang="en-GB" sz="1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3929040" y="4357800"/>
            <a:ext cx="3301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6836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 u="sng">
                <a:solidFill>
                  <a:srgbClr val="00cc99"/>
                </a:solidFill>
                <a:uFillTx/>
                <a:latin typeface="Times New Roman"/>
              </a:rPr>
              <a:t>Алгоритм действий при заблаговременном оповещении об угрозе ураганов, бурь, смерчей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9" name="Picture 5" descr="{9B611EF1-2301-49CC-A55C-57264CFE7DEC}"/>
          <p:cNvPicPr/>
          <p:nvPr/>
        </p:nvPicPr>
        <p:blipFill>
          <a:blip r:embed="rId1"/>
          <a:stretch/>
        </p:blipFill>
        <p:spPr>
          <a:xfrm>
            <a:off x="1332000" y="1916280"/>
            <a:ext cx="6480000" cy="48607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2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2760" indent="0" algn="ctr">
              <a:lnSpc>
                <a:spcPct val="100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 u="sng">
                <a:solidFill>
                  <a:srgbClr val="ff5c9c"/>
                </a:solidFill>
                <a:uFillTx/>
                <a:latin typeface="Times New Roman"/>
              </a:rPr>
              <a:t>Алгоритм действий в случае внезапного возникновения урагана, бури, смерча</a:t>
            </a:r>
            <a:endParaRPr b="0" lang="en-US" sz="3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401" name="Picture 6" descr="{A090355C-74DC-4219-952C-EB831C46561E}"/>
          <p:cNvPicPr/>
          <p:nvPr/>
        </p:nvPicPr>
        <p:blipFill>
          <a:blip r:embed="rId1"/>
          <a:stretch/>
        </p:blipFill>
        <p:spPr>
          <a:xfrm>
            <a:off x="1523880" y="18828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1"/>
          <p:cNvGrpSpPr/>
          <p:nvPr/>
        </p:nvGrpSpPr>
        <p:grpSpPr>
          <a:xfrm>
            <a:off x="1143000" y="357120"/>
            <a:ext cx="6500880" cy="857160"/>
            <a:chOff x="1143000" y="357120"/>
            <a:chExt cx="6500880" cy="857160"/>
          </a:xfrm>
        </p:grpSpPr>
        <p:pic>
          <p:nvPicPr>
            <p:cNvPr id="403" name="Picture 2" descr=""/>
            <p:cNvPicPr/>
            <p:nvPr/>
          </p:nvPicPr>
          <p:blipFill>
            <a:blip r:embed="rId1"/>
            <a:stretch/>
          </p:blipFill>
          <p:spPr>
            <a:xfrm>
              <a:off x="1143000" y="357120"/>
              <a:ext cx="650088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Text Box 3"/>
            <p:cNvSpPr/>
            <p:nvPr/>
          </p:nvSpPr>
          <p:spPr>
            <a:xfrm>
              <a:off x="1143000" y="357120"/>
              <a:ext cx="650088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5" name="Text Box 4"/>
          <p:cNvSpPr/>
          <p:nvPr/>
        </p:nvSpPr>
        <p:spPr>
          <a:xfrm>
            <a:off x="500040" y="1143000"/>
            <a:ext cx="818676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С какой скоростью движется ураган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ианты ответ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А) 100 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) 100 к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В) 200 км/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Г) 20 к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6" descr=""/>
          <p:cNvPicPr/>
          <p:nvPr/>
        </p:nvPicPr>
        <p:blipFill>
          <a:blip r:embed="rId2"/>
          <a:stretch/>
        </p:blipFill>
        <p:spPr>
          <a:xfrm>
            <a:off x="2786040" y="2308320"/>
            <a:ext cx="5786640" cy="3906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9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"/>
          <p:cNvSpPr/>
          <p:nvPr/>
        </p:nvSpPr>
        <p:spPr>
          <a:xfrm>
            <a:off x="457200" y="476280"/>
            <a:ext cx="8229600" cy="56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Скорость песчаной бури составля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ианты ответ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Times New Roman"/>
              <a:buAutoNum type="arabicPeriod"/>
              <a:tabLst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10 км/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Times New Roman"/>
              <a:buAutoNum type="arabicPeriod"/>
              <a:tabLst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10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Times New Roman"/>
              <a:buAutoNum type="arabicPeriod"/>
              <a:tabLst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100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Times New Roman"/>
              <a:buAutoNum type="arabicPeriod"/>
              <a:tabLst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олее 20 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3" descr=""/>
          <p:cNvPicPr/>
          <p:nvPr/>
        </p:nvPicPr>
        <p:blipFill>
          <a:blip r:embed="rId1"/>
          <a:stretch/>
        </p:blipFill>
        <p:spPr>
          <a:xfrm>
            <a:off x="3643200" y="2286000"/>
            <a:ext cx="5246640" cy="41734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1"/>
          <p:cNvSpPr/>
          <p:nvPr/>
        </p:nvSpPr>
        <p:spPr>
          <a:xfrm>
            <a:off x="324000" y="6922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Назовите правильное действие, которое нужно выполнить во время урагана, бури или смерч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А) Спуститься в укрыт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) Выйти на улиц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В) Заварить ча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Г) Молиться бог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1"/>
          <a:stretch/>
        </p:blipFill>
        <p:spPr>
          <a:xfrm>
            <a:off x="3305160" y="2714760"/>
            <a:ext cx="5195880" cy="3719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1"/>
          <p:cNvSpPr/>
          <p:nvPr/>
        </p:nvSpPr>
        <p:spPr>
          <a:xfrm>
            <a:off x="468360" y="620640"/>
            <a:ext cx="822960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Укажите правильное утвержд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снежной бури лучше укрывать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А) В зд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) В сугроб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В) Закрыв гл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Г) В ям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2857680" y="2143080"/>
            <a:ext cx="5857560" cy="4062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468360" y="549360"/>
            <a:ext cx="8229600" cy="32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С чем перемещается облако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А) Вместе с дом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) Вместе с облак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В) Вместе с дожд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Г) Вместе с мусор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3" descr=""/>
          <p:cNvPicPr/>
          <p:nvPr/>
        </p:nvPicPr>
        <p:blipFill>
          <a:blip r:embed="rId1"/>
          <a:stretch/>
        </p:blipFill>
        <p:spPr>
          <a:xfrm>
            <a:off x="3357720" y="2571840"/>
            <a:ext cx="5429160" cy="3643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2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5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"/>
          <p:cNvSpPr/>
          <p:nvPr/>
        </p:nvSpPr>
        <p:spPr>
          <a:xfrm>
            <a:off x="457200" y="692280"/>
            <a:ext cx="8229600" cy="54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УРАГАН – это атмосферный вихрь больших размеров со скоростью ветра до 120 км/ч, а в приземном слое – до 200 км/ч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2857680" y="2143080"/>
            <a:ext cx="5891040" cy="42228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2760" indent="0" algn="ctr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200" spc="-1" strike="noStrike" u="sng">
                <a:solidFill>
                  <a:srgbClr val="ff5c9c"/>
                </a:solidFill>
                <a:uFillTx/>
                <a:latin typeface="Century Gothic"/>
              </a:rPr>
              <a:t>Виды ураганов: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ccccff"/>
                </a:solidFill>
                <a:latin typeface="Century Gothic"/>
              </a:rPr>
              <a:t>Ураган (115-140 км/час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ccccff"/>
                </a:solidFill>
                <a:latin typeface="Century Gothic"/>
              </a:rPr>
              <a:t>Сильный ураган (140-170 км/час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ccccff"/>
                </a:solidFill>
                <a:latin typeface="Century Gothic"/>
              </a:rPr>
              <a:t>Жестокий ураган (более 170 км/час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4" name="Picture 5" descr="http://etotornado.ru/collapse/uraganiivetra/foto/small/2.jpg"/>
          <p:cNvPicPr/>
          <p:nvPr/>
        </p:nvPicPr>
        <p:blipFill>
          <a:blip r:embed="rId1"/>
          <a:stretch/>
        </p:blipFill>
        <p:spPr>
          <a:xfrm>
            <a:off x="539640" y="3716280"/>
            <a:ext cx="3816360" cy="28544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201188_main"/>
          <p:cNvPicPr/>
          <p:nvPr/>
        </p:nvPicPr>
        <p:blipFill>
          <a:blip r:embed="rId2"/>
          <a:stretch/>
        </p:blipFill>
        <p:spPr>
          <a:xfrm>
            <a:off x="4788000" y="3716280"/>
            <a:ext cx="3744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2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"/>
          <p:cNvSpPr/>
          <p:nvPr/>
        </p:nvSpPr>
        <p:spPr>
          <a:xfrm>
            <a:off x="468360" y="4762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УРЯ – длительный, очень сильный ветер со скоростью более 20 м/с, наблюдается обычно при прохождении циклона и сопровождается сильным волнением на море и разрушениями на суш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1500120" y="2357280"/>
            <a:ext cx="6961320" cy="397224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2760" indent="0" algn="ctr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200" spc="-1" strike="noStrike" u="sng">
                <a:solidFill>
                  <a:srgbClr val="ff5c9c"/>
                </a:solidFill>
                <a:uFillTx/>
                <a:latin typeface="Century Gothic"/>
              </a:rPr>
              <a:t>Виды бури: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468360" y="1341360"/>
            <a:ext cx="252108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611280" y="1557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Times New Roman"/>
              </a:rPr>
              <a:t>По состав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6"/>
          <p:cNvSpPr/>
          <p:nvPr/>
        </p:nvSpPr>
        <p:spPr>
          <a:xfrm>
            <a:off x="1547640" y="2708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11"/>
          <p:cNvSpPr/>
          <p:nvPr/>
        </p:nvSpPr>
        <p:spPr>
          <a:xfrm>
            <a:off x="3203640" y="1341360"/>
            <a:ext cx="23763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12"/>
          <p:cNvSpPr/>
          <p:nvPr/>
        </p:nvSpPr>
        <p:spPr>
          <a:xfrm>
            <a:off x="3205080" y="1436760"/>
            <a:ext cx="2303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cc99"/>
                </a:solidFill>
                <a:latin typeface="Times New Roman"/>
              </a:rPr>
              <a:t>По скорост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cc99"/>
                </a:solidFill>
                <a:latin typeface="Times New Roman"/>
              </a:rPr>
              <a:t>ветр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13"/>
          <p:cNvSpPr/>
          <p:nvPr/>
        </p:nvSpPr>
        <p:spPr>
          <a:xfrm>
            <a:off x="4211640" y="2708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14"/>
          <p:cNvSpPr/>
          <p:nvPr/>
        </p:nvSpPr>
        <p:spPr>
          <a:xfrm>
            <a:off x="3564000" y="386064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15"/>
          <p:cNvSpPr/>
          <p:nvPr/>
        </p:nvSpPr>
        <p:spPr>
          <a:xfrm>
            <a:off x="2843280" y="3500280"/>
            <a:ext cx="29527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Бури (20м/с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Сильные бури (28м/с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Жестокие бури (30,5м/с и боле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16"/>
          <p:cNvSpPr/>
          <p:nvPr/>
        </p:nvSpPr>
        <p:spPr>
          <a:xfrm>
            <a:off x="5867280" y="1341360"/>
            <a:ext cx="237672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17"/>
          <p:cNvSpPr/>
          <p:nvPr/>
        </p:nvSpPr>
        <p:spPr>
          <a:xfrm>
            <a:off x="6013800" y="1554120"/>
            <a:ext cx="2133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cc99"/>
                </a:solidFill>
                <a:latin typeface="Times New Roman"/>
              </a:rPr>
              <a:t>По окраск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cc99"/>
                </a:solidFill>
                <a:latin typeface="Times New Roman"/>
              </a:rPr>
              <a:t>части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Line 18"/>
          <p:cNvSpPr/>
          <p:nvPr/>
        </p:nvSpPr>
        <p:spPr>
          <a:xfrm>
            <a:off x="7020000" y="2708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19"/>
          <p:cNvSpPr/>
          <p:nvPr/>
        </p:nvSpPr>
        <p:spPr>
          <a:xfrm>
            <a:off x="6227640" y="3500280"/>
            <a:ext cx="23767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Чер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Крас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Желто-крас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Бел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20"/>
          <p:cNvSpPr/>
          <p:nvPr/>
        </p:nvSpPr>
        <p:spPr>
          <a:xfrm>
            <a:off x="395280" y="3500280"/>
            <a:ext cx="2016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Песча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Пылев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Снеж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7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2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2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2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30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2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5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75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2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150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2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1"/>
          <p:cNvSpPr/>
          <p:nvPr/>
        </p:nvSpPr>
        <p:spPr>
          <a:xfrm>
            <a:off x="250920" y="642960"/>
            <a:ext cx="396396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СМЕРЧ – атмосферный вихрь, возникающий в грозовом облаке и распространяющийся вниз, часто до самой поверхности Земли в виде темного облачного рукава или хобота диаметром в десятки и сотни метров.</a:t>
            </a:r>
            <a:r>
              <a:rPr b="1" i="1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 Существует недолго, перемещаясь вместе с облак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4929120" y="571680"/>
            <a:ext cx="3818160" cy="55720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2760" indent="0" algn="ctr">
              <a:lnSpc>
                <a:spcPct val="100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200" spc="-1" strike="noStrike" u="sng">
                <a:solidFill>
                  <a:srgbClr val="ff5c9c"/>
                </a:solidFill>
                <a:uFillTx/>
                <a:latin typeface="Times New Roman"/>
              </a:rPr>
              <a:t>Виды смерчей: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250920" y="1268280"/>
            <a:ext cx="273672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3348000" y="1268280"/>
            <a:ext cx="24480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6156360" y="1268280"/>
            <a:ext cx="259236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7"/>
          <p:cNvSpPr/>
          <p:nvPr/>
        </p:nvSpPr>
        <p:spPr>
          <a:xfrm>
            <a:off x="250920" y="1484280"/>
            <a:ext cx="2957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300" spc="-1" strike="noStrike">
                <a:solidFill>
                  <a:srgbClr val="00cc99"/>
                </a:solidFill>
                <a:latin typeface="Times New Roman"/>
              </a:rPr>
              <a:t>По происхождению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3565800" y="1484280"/>
            <a:ext cx="19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По стро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9"/>
          <p:cNvSpPr/>
          <p:nvPr/>
        </p:nvSpPr>
        <p:spPr>
          <a:xfrm>
            <a:off x="6227640" y="1341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По времен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действ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10"/>
          <p:cNvSpPr/>
          <p:nvPr/>
        </p:nvSpPr>
        <p:spPr>
          <a:xfrm>
            <a:off x="1547640" y="24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1"/>
          <p:cNvSpPr/>
          <p:nvPr/>
        </p:nvSpPr>
        <p:spPr>
          <a:xfrm>
            <a:off x="4500720" y="2492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12"/>
          <p:cNvSpPr/>
          <p:nvPr/>
        </p:nvSpPr>
        <p:spPr>
          <a:xfrm>
            <a:off x="7308720" y="2492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13"/>
          <p:cNvSpPr/>
          <p:nvPr/>
        </p:nvSpPr>
        <p:spPr>
          <a:xfrm>
            <a:off x="396360" y="3141720"/>
            <a:ext cx="25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Невидим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Водя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Огнен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14"/>
          <p:cNvSpPr/>
          <p:nvPr/>
        </p:nvSpPr>
        <p:spPr>
          <a:xfrm>
            <a:off x="3132000" y="3068640"/>
            <a:ext cx="3254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Плот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Расплывчаты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15"/>
          <p:cNvSpPr/>
          <p:nvPr/>
        </p:nvSpPr>
        <p:spPr>
          <a:xfrm>
            <a:off x="6443640" y="3068640"/>
            <a:ext cx="270036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Кроткого действ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Длинного действ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Ураганные вих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50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5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75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2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95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2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45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55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2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7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20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9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500"/>
                            </p:stCondLst>
                            <p:childTnLst>
                              <p:par>
                                <p:cTn id="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2500"/>
                            </p:stCondLst>
                            <p:childTnLst>
                              <p:par>
                                <p:cTn id="2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2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4500"/>
                            </p:stCondLst>
                            <p:childTnLst>
                              <p:par>
                                <p:cTn id="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2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750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20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950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20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1"/>
          <p:cNvGrpSpPr/>
          <p:nvPr/>
        </p:nvGrpSpPr>
        <p:grpSpPr>
          <a:xfrm>
            <a:off x="450720" y="262080"/>
            <a:ext cx="8240760" cy="809640"/>
            <a:chOff x="450720" y="262080"/>
            <a:chExt cx="8240760" cy="809640"/>
          </a:xfrm>
        </p:grpSpPr>
        <p:pic>
          <p:nvPicPr>
            <p:cNvPr id="388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262080"/>
              <a:ext cx="824076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 Box 3"/>
            <p:cNvSpPr/>
            <p:nvPr/>
          </p:nvSpPr>
          <p:spPr>
            <a:xfrm>
              <a:off x="450720" y="262080"/>
              <a:ext cx="824076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Text Box 4"/>
          <p:cNvSpPr/>
          <p:nvPr/>
        </p:nvSpPr>
        <p:spPr>
          <a:xfrm>
            <a:off x="428760" y="857160"/>
            <a:ext cx="821520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1. </a:t>
            </a:r>
            <a:r>
              <a:rPr b="0" lang="en-GB" sz="28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отойдите от окон и займите безопасное место у стен внутренних помещений, в коридоре, у встроенных шкафов, в ванных комнатах, туалете, кладовых, в прочных шкафах, под стол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Picture 6" descr=""/>
          <p:cNvPicPr/>
          <p:nvPr/>
        </p:nvPicPr>
        <p:blipFill>
          <a:blip r:embed="rId2"/>
          <a:stretch/>
        </p:blipFill>
        <p:spPr>
          <a:xfrm>
            <a:off x="1928880" y="2928960"/>
            <a:ext cx="5705280" cy="35337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"/>
          <p:cNvSpPr/>
          <p:nvPr/>
        </p:nvSpPr>
        <p:spPr>
          <a:xfrm>
            <a:off x="357120" y="357120"/>
            <a:ext cx="832968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2.При снежной буре укрывайтесь в зданиях. Если Вы оказались в поле или на проселочной дороге, выходите на магистральные дороги, которые периодически расчищаются и где большая вероятность оказания Вам помощ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Picture 3" descr=""/>
          <p:cNvPicPr/>
          <p:nvPr/>
        </p:nvPicPr>
        <p:blipFill>
          <a:blip r:embed="rId1"/>
          <a:stretch/>
        </p:blipFill>
        <p:spPr>
          <a:xfrm>
            <a:off x="1928880" y="2600280"/>
            <a:ext cx="5857920" cy="39718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19" dur="2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еник</dc:creator>
  <dc:description/>
  <dc:language>en-US</dc:language>
  <cp:lastModifiedBy>КарМаН</cp:lastModifiedBy>
  <dcterms:modified xsi:type="dcterms:W3CDTF">2011-03-18T12:13:54Z</dcterms:modified>
  <cp:revision>17</cp:revision>
  <dc:subject/>
  <dc:title>Ураганы, бури, смерчи!!!</dc:title>
</cp:coreProperties>
</file>