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1A9-3F81-49C0-B5E6-A8884AEBC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54C-B6B4-40E2-9EA3-D0A5E3074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BCE-D872-4EB1-9405-A6FEEABE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EF3-2810-42BF-B388-2F3C7C9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822-2A0B-4F8E-82CD-68541D1D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696-C5F5-49AC-9D45-BF011723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101-4844-4697-9589-CEBBA38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11D-A7AA-4F84-A938-0C28D7C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EAA-EE2A-444C-8A88-3D23942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50A-51E9-4971-92F3-9CBF5356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08E-CAC6-4CE6-8E7D-913D04A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6D9-EC2C-489D-B54C-282A4FF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958-F78C-458A-BC23-68AFD2A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3B8-4832-4E42-8BF2-622AA70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F4D-4D58-4DB5-93BB-A666B4C625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261B-B851-4442-B1DA-AA7D1BB5C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21444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к-сказка «Колоб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15360" y="3552480"/>
            <a:ext cx="214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3"/>
          <p:cNvGrpSpPr/>
          <p:nvPr/>
        </p:nvGrpSpPr>
        <p:grpSpPr>
          <a:xfrm>
            <a:off x="3724200" y="457200"/>
            <a:ext cx="1139760" cy="1023840"/>
            <a:chOff x="3724200" y="457200"/>
            <a:chExt cx="1139760" cy="1023840"/>
          </a:xfrm>
        </p:grpSpPr>
        <p:pic>
          <p:nvPicPr>
            <p:cNvPr id="59" name="Овал 3" descr=""/>
            <p:cNvPicPr/>
            <p:nvPr/>
          </p:nvPicPr>
          <p:blipFill>
            <a:blip r:embed="rId1"/>
            <a:stretch/>
          </p:blipFill>
          <p:spPr>
            <a:xfrm>
              <a:off x="3724200" y="4572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Овал 17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8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1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2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3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Овал 25"/>
          <p:cNvGrpSpPr/>
          <p:nvPr/>
        </p:nvGrpSpPr>
        <p:grpSpPr>
          <a:xfrm>
            <a:off x="1011240" y="817560"/>
            <a:ext cx="1135080" cy="1017720"/>
            <a:chOff x="1011240" y="817560"/>
            <a:chExt cx="1135080" cy="1017720"/>
          </a:xfrm>
        </p:grpSpPr>
        <p:pic>
          <p:nvPicPr>
            <p:cNvPr id="70" name="Овал 25" descr=""/>
            <p:cNvPicPr/>
            <p:nvPr/>
          </p:nvPicPr>
          <p:blipFill>
            <a:blip r:embed="rId2"/>
            <a:stretch/>
          </p:blipFill>
          <p:spPr>
            <a:xfrm>
              <a:off x="1011240" y="817560"/>
              <a:ext cx="11350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Овал 26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7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8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9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0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1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2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3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34"/>
          <p:cNvGrpSpPr/>
          <p:nvPr/>
        </p:nvGrpSpPr>
        <p:grpSpPr>
          <a:xfrm>
            <a:off x="7699320" y="1420920"/>
            <a:ext cx="1139760" cy="1023840"/>
            <a:chOff x="7699320" y="1420920"/>
            <a:chExt cx="1139760" cy="1023840"/>
          </a:xfrm>
        </p:grpSpPr>
        <p:pic>
          <p:nvPicPr>
            <p:cNvPr id="81" name="Овал 34" descr=""/>
            <p:cNvPicPr/>
            <p:nvPr/>
          </p:nvPicPr>
          <p:blipFill>
            <a:blip r:embed="rId3"/>
            <a:stretch/>
          </p:blipFill>
          <p:spPr>
            <a:xfrm>
              <a:off x="7699320" y="142092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Овал 35"/>
          <p:cNvSpPr/>
          <p:nvPr/>
        </p:nvSpPr>
        <p:spPr>
          <a:xfrm rot="2585400">
            <a:off x="6339960" y="76788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>
            <a:off x="6357960" y="9288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7"/>
          <p:cNvSpPr/>
          <p:nvPr/>
        </p:nvSpPr>
        <p:spPr>
          <a:xfrm rot="19933200">
            <a:off x="6692760" y="770040"/>
            <a:ext cx="46080" cy="33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8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9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0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1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3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4"/>
          <p:cNvSpPr/>
          <p:nvPr/>
        </p:nvSpPr>
        <p:spPr>
          <a:xfrm rot="2585400">
            <a:off x="2634840" y="3380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5"/>
          <p:cNvSpPr/>
          <p:nvPr/>
        </p:nvSpPr>
        <p:spPr>
          <a:xfrm>
            <a:off x="2652840" y="4986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6"/>
          <p:cNvSpPr/>
          <p:nvPr/>
        </p:nvSpPr>
        <p:spPr>
          <a:xfrm rot="19933200">
            <a:off x="2989080" y="3380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7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8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9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0"/>
          <p:cNvSpPr/>
          <p:nvPr/>
        </p:nvSpPr>
        <p:spPr>
          <a:xfrm rot="2585400">
            <a:off x="8670600" y="909360"/>
            <a:ext cx="169920" cy="4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1"/>
          <p:cNvSpPr/>
          <p:nvPr/>
        </p:nvSpPr>
        <p:spPr>
          <a:xfrm>
            <a:off x="8688240" y="1069920"/>
            <a:ext cx="46080" cy="246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2"/>
          <p:cNvSpPr/>
          <p:nvPr/>
        </p:nvSpPr>
        <p:spPr>
          <a:xfrm rot="19933200">
            <a:off x="9023400" y="909720"/>
            <a:ext cx="46080" cy="331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3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4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5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6"/>
          <p:cNvSpPr/>
          <p:nvPr/>
        </p:nvSpPr>
        <p:spPr>
          <a:xfrm flipH="1" rot="19222200">
            <a:off x="7980120" y="444600"/>
            <a:ext cx="455400" cy="8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7"/>
          <p:cNvSpPr/>
          <p:nvPr/>
        </p:nvSpPr>
        <p:spPr>
          <a:xfrm flipH="1" rot="2353200">
            <a:off x="7897320" y="1360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8"/>
          <p:cNvSpPr/>
          <p:nvPr/>
        </p:nvSpPr>
        <p:spPr>
          <a:xfrm>
            <a:off x="836460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9"/>
          <p:cNvSpPr/>
          <p:nvPr/>
        </p:nvSpPr>
        <p:spPr>
          <a:xfrm>
            <a:off x="8292960" y="5238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0"/>
          <p:cNvSpPr/>
          <p:nvPr/>
        </p:nvSpPr>
        <p:spPr>
          <a:xfrm>
            <a:off x="8292960" y="237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1"/>
          <p:cNvSpPr/>
          <p:nvPr/>
        </p:nvSpPr>
        <p:spPr>
          <a:xfrm>
            <a:off x="786456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2"/>
          <p:cNvSpPr/>
          <p:nvPr/>
        </p:nvSpPr>
        <p:spPr>
          <a:xfrm flipH="1" rot="19222200">
            <a:off x="115920" y="444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3"/>
          <p:cNvSpPr/>
          <p:nvPr/>
        </p:nvSpPr>
        <p:spPr>
          <a:xfrm flipH="1" rot="2353200">
            <a:off x="33480" y="136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4"/>
          <p:cNvSpPr/>
          <p:nvPr/>
        </p:nvSpPr>
        <p:spPr>
          <a:xfrm>
            <a:off x="50004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5"/>
          <p:cNvSpPr/>
          <p:nvPr/>
        </p:nvSpPr>
        <p:spPr>
          <a:xfrm>
            <a:off x="428760" y="523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6"/>
          <p:cNvSpPr/>
          <p:nvPr/>
        </p:nvSpPr>
        <p:spPr>
          <a:xfrm>
            <a:off x="428760" y="23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7"/>
          <p:cNvSpPr/>
          <p:nvPr/>
        </p:nvSpPr>
        <p:spPr>
          <a:xfrm>
            <a:off x="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8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9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0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1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2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3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4"/>
          <p:cNvSpPr/>
          <p:nvPr/>
        </p:nvSpPr>
        <p:spPr>
          <a:xfrm flipH="1" rot="19222200">
            <a:off x="4979520" y="275760"/>
            <a:ext cx="455760" cy="87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5"/>
          <p:cNvSpPr/>
          <p:nvPr/>
        </p:nvSpPr>
        <p:spPr>
          <a:xfrm flipH="1" rot="2353200">
            <a:off x="4897080" y="-3168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6"/>
          <p:cNvSpPr/>
          <p:nvPr/>
        </p:nvSpPr>
        <p:spPr>
          <a:xfrm>
            <a:off x="536400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7"/>
          <p:cNvSpPr/>
          <p:nvPr/>
        </p:nvSpPr>
        <p:spPr>
          <a:xfrm>
            <a:off x="5292720" y="3556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8"/>
          <p:cNvSpPr/>
          <p:nvPr/>
        </p:nvSpPr>
        <p:spPr>
          <a:xfrm>
            <a:off x="5292720" y="-144360"/>
            <a:ext cx="71280" cy="285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9"/>
          <p:cNvSpPr/>
          <p:nvPr/>
        </p:nvSpPr>
        <p:spPr>
          <a:xfrm>
            <a:off x="486396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0"/>
          <p:cNvSpPr/>
          <p:nvPr/>
        </p:nvSpPr>
        <p:spPr>
          <a:xfrm>
            <a:off x="6620040" y="4932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1"/>
          <p:cNvSpPr/>
          <p:nvPr/>
        </p:nvSpPr>
        <p:spPr>
          <a:xfrm>
            <a:off x="6643800" y="71424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2"/>
          <p:cNvSpPr/>
          <p:nvPr/>
        </p:nvSpPr>
        <p:spPr>
          <a:xfrm>
            <a:off x="5929200" y="71424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3"/>
          <p:cNvSpPr/>
          <p:nvPr/>
        </p:nvSpPr>
        <p:spPr>
          <a:xfrm>
            <a:off x="5929200" y="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4"/>
          <p:cNvSpPr/>
          <p:nvPr/>
        </p:nvSpPr>
        <p:spPr>
          <a:xfrm>
            <a:off x="67150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5"/>
          <p:cNvSpPr/>
          <p:nvPr/>
        </p:nvSpPr>
        <p:spPr>
          <a:xfrm>
            <a:off x="57862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6"/>
          <p:cNvSpPr/>
          <p:nvPr/>
        </p:nvSpPr>
        <p:spPr>
          <a:xfrm>
            <a:off x="6286680" y="85716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7"/>
          <p:cNvSpPr/>
          <p:nvPr/>
        </p:nvSpPr>
        <p:spPr>
          <a:xfrm>
            <a:off x="6286680" y="-142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88"/>
          <p:cNvGrpSpPr/>
          <p:nvPr/>
        </p:nvGrpSpPr>
        <p:grpSpPr>
          <a:xfrm>
            <a:off x="5913360" y="60480"/>
            <a:ext cx="1139760" cy="1025280"/>
            <a:chOff x="5913360" y="60480"/>
            <a:chExt cx="1139760" cy="1025280"/>
          </a:xfrm>
        </p:grpSpPr>
        <p:pic>
          <p:nvPicPr>
            <p:cNvPr id="137" name="Овал 88" descr=""/>
            <p:cNvPicPr/>
            <p:nvPr/>
          </p:nvPicPr>
          <p:blipFill>
            <a:blip r:embed="rId4"/>
            <a:stretch/>
          </p:blipFill>
          <p:spPr>
            <a:xfrm>
              <a:off x="5913360" y="60480"/>
              <a:ext cx="113976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86600" y="328680"/>
              <a:ext cx="557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89"/>
          <p:cNvSpPr/>
          <p:nvPr/>
        </p:nvSpPr>
        <p:spPr>
          <a:xfrm>
            <a:off x="7143840" y="1071720"/>
            <a:ext cx="46080" cy="2473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0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91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92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3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4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5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6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7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Овал 98"/>
          <p:cNvGrpSpPr/>
          <p:nvPr/>
        </p:nvGrpSpPr>
        <p:grpSpPr>
          <a:xfrm>
            <a:off x="128520" y="2206800"/>
            <a:ext cx="1139760" cy="1023840"/>
            <a:chOff x="128520" y="2206800"/>
            <a:chExt cx="1139760" cy="1023840"/>
          </a:xfrm>
        </p:grpSpPr>
        <p:pic>
          <p:nvPicPr>
            <p:cNvPr id="149" name="Овал 98" descr=""/>
            <p:cNvPicPr/>
            <p:nvPr/>
          </p:nvPicPr>
          <p:blipFill>
            <a:blip r:embed="rId5"/>
            <a:stretch/>
          </p:blipFill>
          <p:spPr>
            <a:xfrm>
              <a:off x="128520" y="22068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Овал 99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0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1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2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3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4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5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6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7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8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9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0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1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2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3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4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5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6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7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8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9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20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1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2"/>
          <p:cNvSpPr/>
          <p:nvPr/>
        </p:nvSpPr>
        <p:spPr>
          <a:xfrm flipH="1" rot="6882600">
            <a:off x="1787760" y="3970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3"/>
          <p:cNvSpPr/>
          <p:nvPr/>
        </p:nvSpPr>
        <p:spPr>
          <a:xfrm rot="4529400">
            <a:off x="225540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4"/>
          <p:cNvSpPr/>
          <p:nvPr/>
        </p:nvSpPr>
        <p:spPr>
          <a:xfrm>
            <a:off x="2149560" y="5238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25"/>
          <p:cNvSpPr/>
          <p:nvPr/>
        </p:nvSpPr>
        <p:spPr>
          <a:xfrm rot="4529400">
            <a:off x="2183760" y="2847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6"/>
          <p:cNvSpPr/>
          <p:nvPr/>
        </p:nvSpPr>
        <p:spPr>
          <a:xfrm rot="4529400">
            <a:off x="175536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Овал 127"/>
          <p:cNvGrpSpPr/>
          <p:nvPr/>
        </p:nvGrpSpPr>
        <p:grpSpPr>
          <a:xfrm>
            <a:off x="6437160" y="1676520"/>
            <a:ext cx="549360" cy="554040"/>
            <a:chOff x="6437160" y="1676520"/>
            <a:chExt cx="549360" cy="554040"/>
          </a:xfrm>
        </p:grpSpPr>
        <p:pic>
          <p:nvPicPr>
            <p:cNvPr id="180" name="Овал 127" descr=""/>
            <p:cNvPicPr/>
            <p:nvPr/>
          </p:nvPicPr>
          <p:blipFill>
            <a:blip r:embed="rId6"/>
            <a:stretch/>
          </p:blipFill>
          <p:spPr>
            <a:xfrm>
              <a:off x="6437160" y="1676520"/>
              <a:ext cx="549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56424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8"/>
          <p:cNvGrpSpPr/>
          <p:nvPr/>
        </p:nvGrpSpPr>
        <p:grpSpPr>
          <a:xfrm>
            <a:off x="3797280" y="2109960"/>
            <a:ext cx="542880" cy="547560"/>
            <a:chOff x="3797280" y="2109960"/>
            <a:chExt cx="542880" cy="547560"/>
          </a:xfrm>
        </p:grpSpPr>
        <p:pic>
          <p:nvPicPr>
            <p:cNvPr id="183" name="Овал 128" descr=""/>
            <p:cNvPicPr/>
            <p:nvPr/>
          </p:nvPicPr>
          <p:blipFill>
            <a:blip r:embed="rId7"/>
            <a:stretch/>
          </p:blipFill>
          <p:spPr>
            <a:xfrm>
              <a:off x="3797280" y="210996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921120" y="220680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9"/>
          <p:cNvGrpSpPr/>
          <p:nvPr/>
        </p:nvGrpSpPr>
        <p:grpSpPr>
          <a:xfrm>
            <a:off x="-60480" y="890640"/>
            <a:ext cx="541440" cy="554040"/>
            <a:chOff x="-60480" y="890640"/>
            <a:chExt cx="541440" cy="554040"/>
          </a:xfrm>
        </p:grpSpPr>
        <p:pic>
          <p:nvPicPr>
            <p:cNvPr id="186" name="Овал 129" descr=""/>
            <p:cNvPicPr/>
            <p:nvPr/>
          </p:nvPicPr>
          <p:blipFill>
            <a:blip r:embed="rId8"/>
            <a:stretch/>
          </p:blipFill>
          <p:spPr>
            <a:xfrm>
              <a:off x="-60480" y="890640"/>
              <a:ext cx="541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360" y="9921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130"/>
          <p:cNvGrpSpPr/>
          <p:nvPr/>
        </p:nvGrpSpPr>
        <p:grpSpPr>
          <a:xfrm>
            <a:off x="3084480" y="-36360"/>
            <a:ext cx="542880" cy="549000"/>
            <a:chOff x="3084480" y="-36360"/>
            <a:chExt cx="542880" cy="549000"/>
          </a:xfrm>
        </p:grpSpPr>
        <p:pic>
          <p:nvPicPr>
            <p:cNvPr id="189" name="Овал 130" descr=""/>
            <p:cNvPicPr/>
            <p:nvPr/>
          </p:nvPicPr>
          <p:blipFill>
            <a:blip r:embed="rId9"/>
            <a:stretch/>
          </p:blipFill>
          <p:spPr>
            <a:xfrm>
              <a:off x="30844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206880" y="633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31"/>
          <p:cNvGrpSpPr/>
          <p:nvPr/>
        </p:nvGrpSpPr>
        <p:grpSpPr>
          <a:xfrm>
            <a:off x="7010280" y="-36360"/>
            <a:ext cx="542880" cy="549000"/>
            <a:chOff x="7010280" y="-36360"/>
            <a:chExt cx="542880" cy="549000"/>
          </a:xfrm>
        </p:grpSpPr>
        <p:pic>
          <p:nvPicPr>
            <p:cNvPr id="192" name="Овал 131" descr=""/>
            <p:cNvPicPr/>
            <p:nvPr/>
          </p:nvPicPr>
          <p:blipFill>
            <a:blip r:embed="rId10"/>
            <a:stretch/>
          </p:blipFill>
          <p:spPr>
            <a:xfrm>
              <a:off x="70102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135920" y="63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32"/>
          <p:cNvGrpSpPr/>
          <p:nvPr/>
        </p:nvGrpSpPr>
        <p:grpSpPr>
          <a:xfrm>
            <a:off x="2084400" y="1822320"/>
            <a:ext cx="542880" cy="549360"/>
            <a:chOff x="2084400" y="1822320"/>
            <a:chExt cx="542880" cy="549360"/>
          </a:xfrm>
        </p:grpSpPr>
        <p:pic>
          <p:nvPicPr>
            <p:cNvPr id="195" name="Овал 132" descr=""/>
            <p:cNvPicPr/>
            <p:nvPr/>
          </p:nvPicPr>
          <p:blipFill>
            <a:blip r:embed="rId11"/>
            <a:stretch/>
          </p:blipFill>
          <p:spPr>
            <a:xfrm>
              <a:off x="2084400" y="182232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06800" y="19209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Прямоугольник 133"/>
          <p:cNvSpPr/>
          <p:nvPr/>
        </p:nvSpPr>
        <p:spPr>
          <a:xfrm>
            <a:off x="2643120" y="2357280"/>
            <a:ext cx="3571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4"/>
          <p:cNvSpPr/>
          <p:nvPr/>
        </p:nvSpPr>
        <p:spPr>
          <a:xfrm>
            <a:off x="5929200" y="2357280"/>
            <a:ext cx="357480" cy="35748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5"/>
          <p:cNvSpPr/>
          <p:nvPr/>
        </p:nvSpPr>
        <p:spPr>
          <a:xfrm>
            <a:off x="321480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36"/>
          <p:cNvSpPr/>
          <p:nvPr/>
        </p:nvSpPr>
        <p:spPr>
          <a:xfrm>
            <a:off x="1000080" y="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37"/>
          <p:cNvSpPr/>
          <p:nvPr/>
        </p:nvSpPr>
        <p:spPr>
          <a:xfrm>
            <a:off x="7643880" y="714240"/>
            <a:ext cx="357120" cy="35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7760" y="1785600"/>
            <a:ext cx="49003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задач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0CB-289C-4F0B-8FA2-54287F0D0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2951280" cy="208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0501200" y="1356840"/>
            <a:ext cx="285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и видят все во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ам видеть всё да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окно, а где ки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ляжу на мир во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-785880" y="6643800"/>
            <a:ext cx="716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495-6A67-40E2-BF1C-282BE7A1F3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04E-707A-4D26-8D2E-2C5490AA7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5786280" y="2071800"/>
            <a:ext cx="2071800" cy="1714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7572240" y="928800"/>
            <a:ext cx="785880" cy="785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5643720" y="4500720"/>
            <a:ext cx="214308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14560" y="1643040"/>
            <a:ext cx="275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020-6298-4358-8E26-E57A9FAC4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78424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856880" y="1600200"/>
            <a:ext cx="5286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5, №6 (столбик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69B-F014-48E1-8C86-789F4B585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5643720" y="3214800"/>
            <a:ext cx="942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2071800" y="2500200"/>
            <a:ext cx="1409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3571920" y="235728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Оргмомен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Дата 3"/>
          <p:cNvSpPr/>
          <p:nvPr/>
        </p:nvSpPr>
        <p:spPr>
          <a:xfrm flipV="1">
            <a:off x="-1143000" y="6811920"/>
            <a:ext cx="142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9F3-C21C-4B8D-B92A-3A9FE4E2EE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741-CAD6-4ACB-8E0E-1838F5497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5286240" y="2286000"/>
            <a:ext cx="2471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читайте по 2 до 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3 до 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10+15+12         6+5+20+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+2+2+2           17+6+3+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-857160" y="6643800"/>
            <a:ext cx="7128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844-3ABD-440B-8B16-11C22486A1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FED-4216-4FB8-93FE-C4EE69016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857920" y="185724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500120"/>
            <a:ext cx="41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рит бабушка лис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ём внучатам рукав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о вам на зиму, вну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авичек по 2 шт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Дата 4"/>
          <p:cNvSpPr/>
          <p:nvPr/>
        </p:nvSpPr>
        <p:spPr>
          <a:xfrm flipH="1" flipV="1">
            <a:off x="-1286640" y="6720840"/>
            <a:ext cx="142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13BE-3E8C-46B9-AB3E-665A45C402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419-161E-40E8-B35B-AFD084746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1857600" cy="19288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314316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шка зёрна собир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ва зёрнышка тас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есла уж 9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 мышкин стал зап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1919160" cy="23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286680" y="3286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4"/>
          <a:stretch/>
        </p:blipFill>
        <p:spPr>
          <a:xfrm>
            <a:off x="7572240" y="32148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5"/>
          <a:stretch/>
        </p:blipFill>
        <p:spPr>
          <a:xfrm>
            <a:off x="6929280" y="4500720"/>
            <a:ext cx="9525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40920" y="-61869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428400"/>
            <a:ext cx="36860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есёлые марты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ть ходили кни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купили книг по п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было что 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642960"/>
            <a:ext cx="4038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емь пар танцуют поль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сех танцоров скольк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Дата 4"/>
          <p:cNvSpPr/>
          <p:nvPr/>
        </p:nvSpPr>
        <p:spPr>
          <a:xfrm flipH="1" flipV="1">
            <a:off x="-1143000" y="6720840"/>
            <a:ext cx="28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244-38C5-45DA-B9FF-F8C009F2F8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DBC-00B6-49E0-8B0C-C512B463A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0" y="2214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2214720" y="4214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4"/>
          <a:stretch/>
        </p:blipFill>
        <p:spPr>
          <a:xfrm>
            <a:off x="5429160" y="2143080"/>
            <a:ext cx="2181240" cy="219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5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14360"/>
            <a:ext cx="8043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умножить на 6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7 взять 2 раза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6 раздел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ножитель 2, второй 4. Найдите произведение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жды два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произведение 2 и 9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частное 8 и 2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умнож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мое 4, делитель 2, найдите частное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572840" y="3143160"/>
            <a:ext cx="4284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Дата 4"/>
          <p:cNvSpPr/>
          <p:nvPr/>
        </p:nvSpPr>
        <p:spPr>
          <a:xfrm flipH="1" flipV="1">
            <a:off x="-1000080" y="6811920"/>
            <a:ext cx="71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5D1-4E83-4F8D-91D1-14482A1EFE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0F3A-FC68-4716-8E05-B0AEC593C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2424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87040" y="-1876680"/>
            <a:ext cx="6429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440-5991-4EDD-9AA0-2897738B2B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2F9-427A-4558-B8FD-C40B2F75E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1397160"/>
          <a:ext cx="6096240" cy="16747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Дата 4"/>
          <p:cNvSpPr/>
          <p:nvPr/>
        </p:nvSpPr>
        <p:spPr>
          <a:xfrm flipV="1">
            <a:off x="-1214280" y="6811920"/>
            <a:ext cx="428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657-DA92-418F-BF8A-4B8A44541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857240" y="1643040"/>
          <a:ext cx="5857920" cy="164304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857160"/>
            <a:ext cx="45435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хлопай, хлоп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топай, топа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 улыбнис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потян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око поп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жками под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кнули «Привет» друг д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нулися по к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право, влево наклонил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уг другу поклонил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теперь коленки вмес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ем бег на 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ыстро, быстро побеж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сё, закончили. Уста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Дата 4"/>
          <p:cNvSpPr/>
          <p:nvPr/>
        </p:nvSpPr>
        <p:spPr>
          <a:xfrm flipV="1">
            <a:off x="-928800" y="6811920"/>
            <a:ext cx="428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92BB-0A7E-4E94-B962-2D8758D954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10001160" y="6643800"/>
            <a:ext cx="14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D7C-83C1-47B8-815E-698F5DB92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4429080" y="2714760"/>
            <a:ext cx="1592280" cy="2411280"/>
          </a:xfrm>
          <a:prstGeom prst="rect">
            <a:avLst/>
          </a:prstGeom>
          <a:ln w="0">
            <a:noFill/>
          </a:ln>
        </p:spPr>
      </p:pic>
      <p:pic>
        <p:nvPicPr>
          <p:cNvPr id="251" name="Studiya+detskogo+prazdnika+quot.mp3" descr=""/>
          <p:cNvPicPr/>
          <p:nvPr/>
        </p:nvPicPr>
        <p:blipFill>
          <a:blip r:embed="rId2"/>
          <a:stretch/>
        </p:blipFill>
        <p:spPr>
          <a:xfrm>
            <a:off x="7358040" y="5000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6643800" y="571680"/>
            <a:ext cx="1655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667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7:39:30Z</dcterms:created>
  <dc:creator>Александрова З.В. (Aida_Alex)</dc:creator>
  <dc:description>http://aida.ucoz.ru</dc:description>
  <dc:language>en-US</dc:language>
  <cp:lastModifiedBy>Customer</cp:lastModifiedBy>
  <dcterms:modified xsi:type="dcterms:W3CDTF">2013-05-21T14:50:06Z</dcterms:modified>
  <cp:revision>43</cp:revision>
  <dc:subject/>
  <dc:title>нач.шк. математика</dc:title>
</cp:coreProperties>
</file>