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D078-1C92-466C-B098-498EF2A1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B512-A874-42F2-933B-7957B577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7D1B-91FA-4C75-8BD5-2B16FEACB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FBFB-A537-4C8E-BC4F-B17ADD181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42FE-1411-43B4-AC04-10D14C0E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DADE-297E-451E-9DF7-35A29859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8A25-17E7-4C45-AB12-A6C94B3D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1561-0ECC-4836-907C-96B01E9F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4BB5-A178-472A-8190-BFBF5A2B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7296-72DD-40A6-A893-A9742867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E399-2584-42F3-B3EB-E9979328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EB16-F5D2-47D5-8E67-53F9A045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D392-86D7-4936-84BA-54FC48BD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6E9E-03C1-4313-AEAC-9C829245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1A23-69B2-492D-85D5-9DD09E0A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1351-BE04-4DC8-B4DA-25D1D45C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5DF4-82EC-4FA1-84AA-F9D8FB82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9A79-177A-4E38-8866-62CDAFE1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CEBD-673D-46E8-98E6-106EA0A0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9536-5630-4834-89B8-E6B9B153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DF52-D12F-44E8-9C5E-550E41BC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B0B6-46A3-40AA-A0E6-E48AD4E5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69CE-E973-42DC-AFEE-AF32F523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32F1-ED1C-4A0C-A0A8-70B970FC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B0D1-BC5F-4ED0-80F0-578BEB08DAD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F4D3-F9E1-4630-82D7-13EDB8BED88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800080"/>
                </a:solidFill>
                <a:latin typeface="AngsanaUPC"/>
              </a:rPr>
              <a:t>Уголовная ответственность несовершеннолетних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0328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полнил: преподаватель ОБ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авустяненко Виктор Николаеви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.Новочеркасс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БОУСОШ №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556000" y="2205000"/>
            <a:ext cx="403200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042920" y="907920"/>
            <a:ext cx="68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Лишению свободы несовершеннолетние осужденные подвергаются на срок не свыше 10 лет; наказание  отбывается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есовершеннолетними мужского пола , приговоренными впервые к лишению свободы , а также несовершеннолетними женского пола – в воспитательных  колониях общего режим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есовершеннолетними мужского пола , ранее отбывающими наказание в виде лишения свободы, - в воспитательных колониях усиленного режим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2565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60093"/>
                </a:solidFill>
                <a:latin typeface="Arial"/>
              </a:rPr>
              <a:t>Конец презентаци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 1 января 1997 года введен новый Уголовный кодекс РФ, в котором есть специальный раздел, посвященный уголовной ответственности несовершеннолетни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2484360" y="3284640"/>
            <a:ext cx="42800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т. 20, ч. 1 УК РФ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Уголовной ответственности подлежит  лицо, достигшее ко времени совершения преступления шестнадцатилетнего возраст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2556000" y="3789360"/>
            <a:ext cx="3744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705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УК предусмотрены следующие виды наказаний, назначаемые несовершеннолетним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а) Штраф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б) Лишение права заниматься определенной деятельностью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) Обязательные работ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г) Исправительные работ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д) Арест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е) Лишение свободы на определенный срок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406760" cy="41767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5148360" y="2277000"/>
            <a:ext cx="356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56 статья  уголовного кодекса предусматривает уголовную ответственность за неисполнение обязанностей по воспитанию несовершеннолетнего, если это деяние соединено с жестоким обращением с несовершеннолетни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7993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250920" y="1628640"/>
            <a:ext cx="812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 истекшем году на территории области несовершеннолетними, не достигшими возраста уголовной ответственности, совершено 203 общественно-опасных деяния, в которых приняли участие 267 подростков, 154 из которых не достигли возрас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476360" y="3068640"/>
            <a:ext cx="51116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есовершеннолетнему могут быть назначены следующие принудительные меры воспитательного воздействия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а) предупреждение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б) передача под надзор родителей, лиц, их заменяющих, либо специализированного государственного орган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) возложение обязанности загладить причиненный вред 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г) ограничение досуга и установление особых требований к поведению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4T13:38:18Z</dcterms:created>
  <dc:creator>Анна</dc:creator>
  <dc:description/>
  <dc:language>en-US</dc:language>
  <cp:lastModifiedBy>Пользователь</cp:lastModifiedBy>
  <dcterms:modified xsi:type="dcterms:W3CDTF">2011-10-26T09:48:07Z</dcterms:modified>
  <cp:revision>4</cp:revision>
  <dc:subject/>
  <dc:title>Уголовная ответственность несовершеннолетних</dc:title>
</cp:coreProperties>
</file>