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0AE-0B9D-46A3-9320-E716D73F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5A3B-2386-4F9C-AF9F-DA1EE58C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5B0-AD13-4431-9B05-32C13312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E7CF-0AF3-45D0-AF8B-658D6FA0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DD54-CF15-4628-B7AE-00C55B41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FB4A-2880-435D-A8B2-E37A1BFE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5A55-FD9F-4573-B370-317132E4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9308-8ECB-48E2-80DE-A05E7072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CF9C-7227-4E57-8769-24501648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DB87-4E9C-4AA9-AA6E-551D3A40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47A6-D4E9-4B42-8879-FF0F71ED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FE3-CAC8-4837-BD87-FE48B4CF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E647-EAE4-4292-8BED-379527AB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81BF-53D1-4B17-AFD5-4804646B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D638-252A-4C8B-8021-CE60A51F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72AA-5360-4F90-9DDE-E83B0828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0C54-015B-42E0-9E77-7488866E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2370-4C31-4E30-A034-BBC74364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404-D2DE-4001-9F44-BA06CD90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57C-3B68-40AC-96B4-631E8B65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5BB-4E52-40F3-8343-B220F68D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DDF0-B603-4DED-8280-24E80EA1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C680-FA1D-4883-8990-A9AC5625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9409-5B49-4A71-960B-88585FD7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A332-91EC-4C2B-815E-DA7FBB92953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8598-9381-4F0F-9060-50E3899A8D8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800080"/>
                </a:solidFill>
                <a:latin typeface="AngsanaUPC"/>
              </a:rPr>
              <a:t>Уголовная ответственность несовершеннолетних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полнил: преподаватель ОБ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авустяненко Виктор Николаеви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.Новочеркасс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БОУСОШ №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403200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68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Лишению свободы несовершеннолетние осужденные подвергаются на срок не свыше 10 лет; наказание  отбывается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есовершеннолетними мужского пола , приговоренными впервые к лишению свободы , а также несовершеннолетними женского пола – в воспитательных  колониях общего режим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есовершеннолетними мужского пола , ранее отбывающими наказание в виде лишения свободы, - в воспитательных колониях усиленного режим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60093"/>
                </a:solidFill>
                <a:latin typeface="Arial"/>
              </a:rPr>
              <a:t>Конец презентаци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 1 января 1997 года введен новый Уголовный кодекс РФ, в котором есть специальный раздел, посвященный уголовной ответственности несовершеннолетни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484360" y="3284640"/>
            <a:ext cx="42800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т. 20, ч. 1 УК РФ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головной ответственности подлежит  лицо, достигшее ко времени совершения преступления шестнадцатилетнего возраст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374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705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К предусмотрены следующие виды наказаний, назначаемые несовершеннолетним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) Штраф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) Лишение права заниматься определенной деятельностью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) Обязательные работ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) Исправительные работ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д) Арест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е) Лишение свободы на определенный срок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406760" cy="4176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148360" y="2277000"/>
            <a:ext cx="356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6 статья  уголовного кодекса предусматривает уголовную ответственность за неисполнение обязанностей по воспитанию несовершеннолетнего, если это деяние соединено с жестоким обращением с несовершеннолетн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993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250920" y="1628640"/>
            <a:ext cx="812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 истекшем году на территории области несовершеннолетними, не достигшими возраста уголовной ответственности, совершено 203 общественно-опасных деяния, в которых приняли участие 267 подростков, 154 из которых не достигли возра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476360" y="3068640"/>
            <a:ext cx="5111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есовершеннолетнему могут быть назначены следующие принудительные меры воспитательного воздействия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) предупреждени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) передача под надзор родителей, лиц, их заменяющих, либо специализированного государственного орган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) возложение обязанности загладить причиненный вред 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) ограничение досуга и установление особых требований к поведению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4T13:38:18Z</dcterms:created>
  <dc:creator>Анна</dc:creator>
  <dc:description/>
  <dc:language>en-US</dc:language>
  <cp:lastModifiedBy>Пользователь</cp:lastModifiedBy>
  <dcterms:modified xsi:type="dcterms:W3CDTF">2011-10-26T09:48:07Z</dcterms:modified>
  <cp:revision>4</cp:revision>
  <dc:subject/>
  <dc:title>Уголовная ответственность несовершеннолетних</dc:title>
</cp:coreProperties>
</file>