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6BE-D7E8-461F-8C93-7B7E04F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14E-0046-4BD8-8151-11B1129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F8E-8377-4042-B758-99CDA42C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237-02FC-4A8F-94BB-8ACB5697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C9D6-3276-4890-81A1-6242601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A983-A415-41C3-98E0-5756AB67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946-792F-441A-B4CA-ACB5911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5694-4FAC-4D14-A601-4CF0649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3C83-FBC4-408D-99B5-AA4104B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B5C5-722A-4B24-A841-96DF770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C6A-E9FE-429B-911E-EF52DAE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AAB-6563-417D-9096-54D2FE6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CBB5-E2CD-478E-A703-72E958B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EF55-74B6-415E-B808-3C48E244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B4AD-094C-4CE3-86EA-BE3EF159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CD84-A524-43EF-B50D-10A32071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B677-4B2E-49EB-B97B-1BFEFC22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786-E843-4767-904E-401B4148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A5A-4FBF-42A0-B5A5-40D6E6E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5F8E-F195-47AD-8988-D7FF889C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447-B0E1-4957-87CE-3728610C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E2E-4386-4564-8397-587FC5F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01E-A161-4D89-BE12-03F2204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40E-C536-4344-901F-C559368F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51D9-A7D1-4E38-A5AA-C41BF95F54B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67B-0B9A-480C-81E2-711DA4B18E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800080"/>
                </a:solidFill>
                <a:latin typeface="AngsanaUPC"/>
              </a:rPr>
              <a:t>Уголо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: преподаватель ОБ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вустяненко Виктор Николаеви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Новочеркасс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ОУСОШ №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03200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8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шению свободы несовершеннолетние осужденные подвергаются на срок не свыше 10 лет; наказание  отбывае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приговоренными впервые к лишению свободы , а также несовершеннолетними женского пола – в воспитательных  колониях общего режим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ими мужского пола , ранее отбывающими наказание в виде лишения свободы, - в воспитательных колониях усиленного режим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4280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т. 20, ч. 1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К предусмотрены следующие виды наказаний, назначаемые несовершеннолетни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406760" cy="4176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148360" y="2277000"/>
            <a:ext cx="35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 статья  уголовного кодекса предусматривает уголовную ответственность за неисполнение обязанностей по воспитанию несовершеннолетнего, если это деяние соединено с жестоким обращением с несовершеннолетн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628640"/>
            <a:ext cx="812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 истекшем году на территории области несовершеннолетними, не достигшими возраста уголовной ответственности, совершено 203 общественно-опасных деяния, в которых приняли участие 267 подростков, 154 из которых не достигли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51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есовершеннолетнему могут быть назначены следующие принудительные меры воспитательного воздействи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, лиц, их заменяющих, либо специализированного государственного орган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38:18Z</dcterms:created>
  <dc:creator>Анна</dc:creator>
  <dc:description/>
  <dc:language>en-US</dc:language>
  <cp:lastModifiedBy>Пользователь</cp:lastModifiedBy>
  <dcterms:modified xsi:type="dcterms:W3CDTF">2011-10-26T09:48:07Z</dcterms:modified>
  <cp:revision>4</cp:revision>
  <dc:subject/>
  <dc:title>Уголовная ответственность несовершеннолетних</dc:title>
</cp:coreProperties>
</file>