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2.jpeg" ContentType="image/jpeg"/>
  <Override PartName="/ppt/media/push.wav" ContentType="audio/x-wav"/>
  <Override PartName="/ppt/media/image3.jpeg" ContentType="image/jpeg"/>
  <Override PartName="/ppt/media/voltage.wav" ContentType="audio/x-wav"/>
  <Override PartName="/ppt/media/image7.jpeg" ContentType="image/jpeg"/>
  <Override PartName="/ppt/media/image4.jpeg" ContentType="image/jpeg"/>
  <Override PartName="/ppt/media/suction.wav" ContentType="audio/x-wav"/>
  <Override PartName="/ppt/media/image6.jpeg" ContentType="image/jpeg"/>
  <Override PartName="/ppt/media/type.wav" ContentType="audio/x-wav"/>
  <Override PartName="/ppt/media/arrow.wav" ContentType="audio/x-wav"/>
  <Override PartName="/ppt/media/bomb.wav" ContentType="audio/x-wav"/>
  <Override PartName="/ppt/media/click.wav" ContentType="audio/x-wav"/>
  <Override PartName="/ppt/media/image10.png" ContentType="image/png"/>
  <Override PartName="/ppt/media/image1.jpeg" ContentType="image/jpeg"/>
  <Override PartName="/ppt/media/breeze.wav" ContentType="audio/x-wav"/>
  <Override PartName="/ppt/media/camera.wav" ContentType="audio/x-wav"/>
  <Override PartName="/ppt/media/%D0%B8%D0%B3%D0%B3%D0%B8.wav" ContentType="audio/x-wav"/>
  <Override PartName="/ppt/media/%D0%BD%D0%BE%D1%80%D0%B5.wav" ContentType="audio/x-wav"/>
  <Override PartName="/ppt/media/cashreg.wav" ContentType="audio/x-wav"/>
  <Override PartName="/ppt/media/chimes.wav" ContentType="audio/x-wav"/>
  <Override PartName="/ppt/media/wind.wav" ContentType="audio/x-wav"/>
  <Override PartName="/ppt/media/%D0%9C%D0%95%D0%A2%D0%90%D0%9B%D0%9B%D0%98%D0%9A%D0%90.wav" ContentType="audio/x-wav"/>
  <Override PartName="/ppt/media/coin.wav" ContentType="audio/x-wav"/>
  <Override PartName="/ppt/media/image9.jpeg" ContentType="image/jpeg"/>
  <Override PartName="/ppt/media/laser.wav" ContentType="audio/x-wav"/>
  <Override PartName="/ppt/media/image11.wmf" ContentType="image/x-wmf"/>
  <Override PartName="/ppt/media/image5.jpeg" ContentType="image/jpe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4C1-5791-4527-B592-7FFADCD9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759-8A37-4FD6-86B9-9DEDEEA6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518-CF7E-4286-99AE-3007FE4A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580-6CEF-4443-9591-5423A8CC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C057-3161-43AD-AF85-98DDF5F7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EB42-627E-4994-82E3-1D006F8C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8CD1-0E4C-42D7-85C6-303A312A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9E7F-F763-4961-A6E9-FDB2DAE6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926A-8D21-4682-88C0-3ECF2C9C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A202-1376-4DAA-9A5D-BEF811FC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AA08-3A62-4545-99E5-BD5114E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BD3-EC8B-4992-AC6F-FC83A8CC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1FC5-2034-4937-8495-C5AA41B8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A26E-9742-44CD-AD31-00A4347C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8DF0-7127-4805-B245-D19DE02B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57D5-AA8E-4FEE-AFD6-38D2EF59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6092-C10F-426F-ADAF-23486F37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6C9-D23F-4D39-8499-26E48F4C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ACF-1454-4C31-8941-7DC91CBB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1AD-30D9-4829-9922-FCE54C9C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6FA-3D41-4F86-8416-FA9EE3FC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DA1-201B-4F2B-9809-6B016503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D64-8EAE-447F-8521-0CA42698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E87-A2B9-4B37-AD01-B62EAA7D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A3CF-5797-4B79-85F3-4E8D1A9E2A0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D842-EEF8-43EF-8ADC-F108E0D811B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laser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voltage.wav"/><Relationship Id="rId13" Type="http://schemas.openxmlformats.org/officeDocument/2006/relationships/audio" Target="../media/click.wav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suction.wav"/><Relationship Id="rId4" Type="http://schemas.openxmlformats.org/officeDocument/2006/relationships/audio" Target="../media/cashreg.wav"/><Relationship Id="rId5" Type="http://schemas.openxmlformats.org/officeDocument/2006/relationships/audio" Target="../media/arrow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&#1052;&#1045;&#1058;&#1040;&#1051;&#1051;&#1048;&#1050;&#1040;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&#1085;&#1086;&#1088;&#1077;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&#1080;&#1075;&#1075;&#1080;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audio" Target="../media/click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reeze.wav"/><Relationship Id="rId3" Type="http://schemas.openxmlformats.org/officeDocument/2006/relationships/audio" Target="../media/click.wav"/><Relationship Id="rId4" Type="http://schemas.openxmlformats.org/officeDocument/2006/relationships/audio" Target="../media/voltage.wav"/><Relationship Id="rId5" Type="http://schemas.openxmlformats.org/officeDocument/2006/relationships/audio" Target="../media/pu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644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Трансгенные продукты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57560" cy="345600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362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смотря на все положительные аргументы у новой технологии нашлось немало противников, считающих, что её нельзя уподоблять ни одному из предыдущих вмешательств в природное устройство живых организмов, в том числе и скрещиванию. Основная причина в том, что генно-инженерные манипуляции перемещают гены от одних видов в другие и нарушают все установленные природой границы между живыми организмами. Учёные считают: сюрпризы, которые могут преподнести изменённые гены, попав в человеческий организм, предугадать и просчитать невозможно. Вот только некоторые «сценарии» их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92360" y="404640"/>
            <a:ext cx="2592360" cy="1638360"/>
            <a:chOff x="3492360" y="404640"/>
            <a:chExt cx="2592360" cy="16383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635280" y="404640"/>
              <a:ext cx="23814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492360" y="1268280"/>
              <a:ext cx="259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елёные давно уже выступаю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тив ГМ-продукт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ществует опасность влияния на микрофлору кишечника, то есть чужеродный ген может внедриться в полезные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рансгенной еды может подавлять иммунитет человека, вызвав мутации болезнетворных бак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опасность при введении генов в трансгенное растение внести ген устойчивости к антибиотикам, в результате чего все известные препараты окажутся бессильными против микробов-мута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продукты могут стать причиной накопления в организме токси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вероятность, что внедрение чужеродных генов в растение может вызвать аллергические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продукты могут повлиять на генетический материал, и последствия их употребления проявятся у потом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171960" cy="352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4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4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4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4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4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4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3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3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6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49" nodeType="afterEffect" fill="hold" presetClass="emph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5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000"/>
                            </p:stCondLst>
                            <p:childTnLst>
                              <p:par>
                                <p:cTn id="46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же отличить трансгенные продукты?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вкус и цвет этого не сделаешь. В 2002 г. Минздрав России ввел обязательную маркировку тех продуктов, в которых содержится более 5% ГМ-сырья. Но по данным мониторинга, проводимого Госсанэпидслужбой России, в настоящее время производители часто используют генетически модифицированное продовольственное сырье в рецептурах в количестве менее 5%. А удельный вес пищевых продуктов, содержащих ГМИ более 1%, составляет более 80%. Впрочем, даже если товар честно маркирован, несведущий человек просто не поймёт, что держит в руках трансгенный продукт. Вся информация такого рода закодирована. Кто догадается, что значо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DEX F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начает присутствие концентрата соевого бел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2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200"/>
                            </p:stCondLst>
                            <p:childTnLst>
                              <p:par>
                                <p:cTn id="49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Что думают покупатели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04840" y="177948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77948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643280" y="1557360"/>
          <a:ext cx="4038840" cy="2190600"/>
        </p:xfrm>
        <a:graphic>
          <a:graphicData uri="http://schemas.openxmlformats.org/drawingml/2006/table">
            <a:tbl>
              <a:tblPr/>
              <a:tblGrid>
                <a:gridCol w="2737080"/>
                <a:gridCol w="130176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 согласен употреблять трансгенные продук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    (2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    (4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в чем проблем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    (1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трудняюсь сказ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    (13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 отв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     (1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</a:tbl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можно видеть, среди опрошенных преобладает негативное отношение к трансгенным продуктам. Почти половина отказываются вводить их в свой рацион (45%), тогда как готовы употреблять их только четверть ответивших (26%). Относительно велика оказалась зона неосведомленности и неопределенности: более четверти опрошенных (28%) либо затруднились с ответом, либо не считают вопрос проблем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айте "Интер-Сои" проводился опрос по актуальной сегодня теме — генетически модифицированным продуктам питания. Посетителям предлагалось ответить на вопрос о готовности употреблять трансгенные продукты в пищ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ТРАНСГЕННЫЕ ПРОДУКТЫ: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Рог Изобилия или 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ища Франкенштейна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6520" y="1652760"/>
            <a:ext cx="3341880" cy="3109680"/>
            <a:chOff x="56520" y="1652760"/>
            <a:chExt cx="3341880" cy="3109680"/>
          </a:xfrm>
        </p:grpSpPr>
        <p:pic>
          <p:nvPicPr>
            <p:cNvPr id="102" name="" descr="ЧТО ТАКОЕ ТРАНСГЕННЫЕ ПРОДУКТЫ?"/>
            <p:cNvPicPr/>
            <p:nvPr/>
          </p:nvPicPr>
          <p:blipFill>
            <a:blip r:embed="rId1"/>
            <a:stretch/>
          </p:blipFill>
          <p:spPr>
            <a:xfrm rot="20019600">
              <a:off x="395280" y="2131920"/>
              <a:ext cx="266400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20166600">
              <a:off x="1173240" y="265500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cc"/>
                  </a:solidFill>
                  <a:uFillTx/>
                  <a:latin typeface="Arial"/>
                  <a:hlinkClick r:id="rId2" action="ppaction://hlinksldjump"/>
                </a:rPr>
                <a:t>ЧТО ТАКОЕ ТРАНСГЕННЫЕ ПРОДУКТЫ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343920" y="1688400"/>
            <a:ext cx="2731320" cy="3147480"/>
            <a:chOff x="6343920" y="1688400"/>
            <a:chExt cx="2731320" cy="314748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 rot="909600">
              <a:off x="6659280" y="1915920"/>
              <a:ext cx="2100240" cy="26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909600">
              <a:off x="6712200" y="2767320"/>
              <a:ext cx="194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Что же вызывает опасения?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42040" y="4455720"/>
            <a:ext cx="2740320" cy="2279880"/>
            <a:chOff x="5342040" y="4455720"/>
            <a:chExt cx="2740320" cy="227988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 rot="699000">
              <a:off x="5501520" y="4681080"/>
              <a:ext cx="2421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751800">
              <a:off x="5402520" y="5840280"/>
              <a:ext cx="23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cc"/>
                  </a:solidFill>
                  <a:uFillTx/>
                  <a:latin typeface="Arial"/>
                  <a:hlinkClick r:id="rId5" action="ppaction://hlinksldjump"/>
                </a:rPr>
                <a:t>Покупать или не покупать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35280" y="1844640"/>
            <a:ext cx="2625840" cy="1917720"/>
            <a:chOff x="3635280" y="1844640"/>
            <a:chExt cx="2625840" cy="1917720"/>
          </a:xfrm>
        </p:grpSpPr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3635280" y="1844640"/>
              <a:ext cx="2625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708360" y="2492280"/>
              <a:ext cx="230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рансгенные продукт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пасут миллионы голодающих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79640" y="3988080"/>
            <a:ext cx="3025440" cy="2795040"/>
            <a:chOff x="1979640" y="3988080"/>
            <a:chExt cx="3025440" cy="2795040"/>
          </a:xfrm>
        </p:grpSpPr>
        <p:pic>
          <p:nvPicPr>
            <p:cNvPr id="114" name="" descr=""/>
            <p:cNvPicPr/>
            <p:nvPr/>
          </p:nvPicPr>
          <p:blipFill>
            <a:blip r:embed="rId7"/>
            <a:stretch/>
          </p:blipFill>
          <p:spPr>
            <a:xfrm rot="20309400">
              <a:off x="2268000" y="4365720"/>
              <a:ext cx="2448000" cy="20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20242800">
              <a:off x="2268360" y="494136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ак же отличить ГМ-продукты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16951" y="10800"/>
                </a:moveTo>
                <a:lnTo>
                  <a:pt x="6446" y="17806"/>
                </a:lnTo>
                <a:lnTo>
                  <a:pt x="6446" y="3794"/>
                </a:lnTo>
                <a:close/>
              </a:path>
              <a:path fill="darken" w="26905" h="21600">
                <a:moveTo>
                  <a:pt x="18796" y="3794"/>
                </a:moveTo>
                <a:lnTo>
                  <a:pt x="18796" y="17806"/>
                </a:lnTo>
                <a:lnTo>
                  <a:pt x="20459" y="17806"/>
                </a:lnTo>
                <a:lnTo>
                  <a:pt x="20459" y="3794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3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8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3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8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3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ая опасность ГМ-продуктов может проявиться, а может оказаться сильно преувеличенной. В любом случае каждому человеку следует подумать о возможных непредсказуемых последствиях и самому принять решение: употреблять трансгенную пищу или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19640" y="4365720"/>
            <a:ext cx="2808000" cy="2149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908000" y="2276640"/>
            <a:ext cx="5183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C%D0%95%D0%A2%D0%90%D0%9B%D0%9B%D0%98%D0%9A%D0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 ТАКОЕ ТРАНСГЕННЫЕ ПРОДУКТ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47640" y="1844280"/>
            <a:ext cx="5194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растения, в ДНК которых введен ген, не данный им природой, ген из другого организма. Он наделяет своего «хозяина» новыми свойствами: высокая урожайность, пищевая и вкусовая ценность, устойчивость к болезням, пестицидам, выносливость и др.  Встраиваются гены не только растений, но и  бактерий , вирусов, рыб, млекопитающих и даже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519280" cy="18889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6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6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BD%D0%BE%D1%80%D0%B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160"/>
                            </p:stCondLst>
                            <p:childTnLst>
                              <p:par>
                                <p:cTn id="1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История ГМ-продукт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8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институте растениеводства г. Кельн получено первое растение с чужеродным ге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итае стали выращивать генетически модифицированный та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прилавках супермаркетов США появился первый коммерческий трансген – помидор сорт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Flavr Savr”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 встроенным геном арктической камб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чато коммерческое выращивание ГМ-со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лучен «золотой» рис, обогащенный карот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50"/>
                            </p:stCondLst>
                            <p:childTnLst>
                              <p:par>
                                <p:cTn id="12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50"/>
                            </p:stCondLst>
                            <p:childTnLst>
                              <p:par>
                                <p:cTn id="13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250"/>
                            </p:stCondLst>
                            <p:childTnLst>
                              <p:par>
                                <p:cTn id="14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150"/>
                            </p:stCondLst>
                            <p:childTnLst>
                              <p:par>
                                <p:cTn id="1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Список компаний, которые используют Гм-компоненты в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своей продукции, подготовлен специалистами 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Greenpeace.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 В него вошли изделия компаний:</a:t>
            </a:r>
            <a:br>
              <a:rPr sz="2200"/>
            </a:br>
            <a:endParaRPr b="0" lang="en-US" sz="2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shey's Cadbury (Fruit&amp;N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 (M&amp;M, Snickers, Milky W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-cola (Coca-cola, Spr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siCo (Pepsi, 7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to-Lay (Lays, Cheet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stle (Nesqui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gley’s (Orb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orol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6108"/>
          <a:stretch/>
        </p:blipFill>
        <p:spPr>
          <a:xfrm>
            <a:off x="4716360" y="3933720"/>
            <a:ext cx="3816360" cy="23702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65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65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65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65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65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65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65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65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65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65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65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650"/>
                            </p:stCondLst>
                            <p:childTnLst>
                              <p:par>
                                <p:cTn id="236" nodeType="after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B8%D0%B3%D0%B3%D0%B8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7" dur="3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2150"/>
                            </p:stCondLst>
                            <p:childTnLst>
                              <p:par>
                                <p:cTn id="23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4650"/>
                            </p:stCondLst>
                            <p:childTnLst>
                              <p:par>
                                <p:cTn id="24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Блестящие перспективы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генные культуры дают высокие урожа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 выдерживать самые неблагоприятные 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культуры не нуждаются в пестицидах, следовательно, являются более экологически чист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овершенные по вкусовым качествам продукты с минимальным содержанием вре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сть создания «съедобных» лекарств и вакц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гащение продуктов всеми необходимыми  витаминами и минера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Главное преимущество ГМ-продуктов – решение продовольственной проблемы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енетически модифицированные зерновые культуры могут спасти миллионы жителей развивающихся стран, умирающих от голода. В последнем отчете экспертов ООН подчеркивается, что необходимо значительное увеличение финансирования генетических исследований и совместная работа ученых многих стран в этом направлении. Генные технологии позволяют повысить урожаи в два раза, а созревают новые сорта на 30-50 дней раньше. Они богаче белком и более устойчивы к вредителям. Важно и то, что они хорошо растут без удобрений и гербицидов, которые зачастую слишком дороги для фермеров в бедных странах.  По мнению авторов отчета, польза от генетически измененных продуктов значительно перевешивает опасения по поводу их возможного вреда для здоров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240000" cy="23652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980"/>
                            </p:stCondLst>
                            <p:childTnLst>
                              <p:par>
                                <p:cTn id="3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Чем опасны трансгенные продукты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71280" y="1599840"/>
            <a:ext cx="6048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смотря на то что на мировом рынке всё больше появляется продуктов, полученных с использованием генетически модифицированных источников, потребители относятся к ним по крайней мере подозрительно. Почему же бьют тревогу «зелёные», что так заботит общественност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1916280" cy="27367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49">
                                  <p:stCondLst>
                                    <p:cond delay="3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xit" presetID="49">
                                  <p:stCondLst>
                                    <p:cond delay="3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900"/>
                            </p:stCondLst>
                            <p:childTnLst>
                              <p:par>
                                <p:cTn id="3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0:36:45Z</dcterms:created>
  <dc:creator>User</dc:creator>
  <dc:description/>
  <dc:language>en-US</dc:language>
  <cp:lastModifiedBy>Анютка</cp:lastModifiedBy>
  <dcterms:modified xsi:type="dcterms:W3CDTF">2006-05-10T06:17:49Z</dcterms:modified>
  <cp:revision>10</cp:revision>
  <dc:subject/>
  <dc:title>Трансгенные продукты</dc:title>
</cp:coreProperties>
</file>