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2.jpeg" ContentType="image/jpeg"/>
  <Override PartName="/ppt/media/push.wav" ContentType="audio/x-wav"/>
  <Override PartName="/ppt/media/image3.jpeg" ContentType="image/jpeg"/>
  <Override PartName="/ppt/media/voltage.wav" ContentType="audio/x-wav"/>
  <Override PartName="/ppt/media/image7.jpeg" ContentType="image/jpeg"/>
  <Override PartName="/ppt/media/image4.jpeg" ContentType="image/jpeg"/>
  <Override PartName="/ppt/media/suction.wav" ContentType="audio/x-wav"/>
  <Override PartName="/ppt/media/image6.jpeg" ContentType="image/jpeg"/>
  <Override PartName="/ppt/media/type.wav" ContentType="audio/x-wav"/>
  <Override PartName="/ppt/media/arrow.wav" ContentType="audio/x-wav"/>
  <Override PartName="/ppt/media/bomb.wav" ContentType="audio/x-wav"/>
  <Override PartName="/ppt/media/click.wav" ContentType="audio/x-wav"/>
  <Override PartName="/ppt/media/image10.png" ContentType="image/png"/>
  <Override PartName="/ppt/media/image1.jpeg" ContentType="image/jpeg"/>
  <Override PartName="/ppt/media/breeze.wav" ContentType="audio/x-wav"/>
  <Override PartName="/ppt/media/camera.wav" ContentType="audio/x-wav"/>
  <Override PartName="/ppt/media/%D0%B8%D0%B3%D0%B3%D0%B8.wav" ContentType="audio/x-wav"/>
  <Override PartName="/ppt/media/%D0%BD%D0%BE%D1%80%D0%B5.wav" ContentType="audio/x-wav"/>
  <Override PartName="/ppt/media/cashreg.wav" ContentType="audio/x-wav"/>
  <Override PartName="/ppt/media/chimes.wav" ContentType="audio/x-wav"/>
  <Override PartName="/ppt/media/wind.wav" ContentType="audio/x-wav"/>
  <Override PartName="/ppt/media/%D0%9C%D0%95%D0%A2%D0%90%D0%9B%D0%9B%D0%98%D0%9A%D0%90.wav" ContentType="audio/x-wav"/>
  <Override PartName="/ppt/media/coin.wav" ContentType="audio/x-wav"/>
  <Override PartName="/ppt/media/image9.jpeg" ContentType="image/jpeg"/>
  <Override PartName="/ppt/media/laser.wav" ContentType="audio/x-wav"/>
  <Override PartName="/ppt/media/image11.wmf" ContentType="image/x-wmf"/>
  <Override PartName="/ppt/media/image5.jpeg" ContentType="image/jpeg"/>
  <Override PartName="/ppt/media/explod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958-5562-432F-8B28-1EC2ED4E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0D7-7E39-4E72-A543-C3B73AC7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C79-E035-4BC1-9504-1F9E8E14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6C4-BE48-48CF-9B61-7BA2115C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A486-B612-426E-9A32-7699062A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BE1F-E8D5-448A-97D5-58A6421E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1610-360C-4672-BCD2-BCD2B1F2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745C-B67D-40A3-A8F2-CFE4C874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89AB-79E7-4526-A082-1969F56A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163B-C669-4D33-9C49-4FD1C0D2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E75E-8CBB-4EDF-821B-35CDF349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8C7-8CB4-48DF-A4D3-AB789AC0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EB88-7F14-4EB7-BEB2-80C11407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8034-E390-4E9C-89DF-F6D60E85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53E9-56EC-4E82-8EF2-78414DA2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C9C8-416F-409A-98FB-EA8A2D39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5ED0-B7A4-4244-B8C9-94C6196D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466-B140-4667-91A9-B9A55FB7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F73-7D1C-4B74-A7A4-E2281633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794-0938-4A51-B7C1-B8ADB0BA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46A-91AD-4CC4-8DA5-278B5174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92E-4F6A-4751-8E72-3D0671C1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E98-50E3-4B0C-B9C7-CDB6FC58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358A-CB8E-46FC-B161-D574A29D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984A-FCC7-4C5A-B017-D9C5E5A49F3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EAD7-5303-4B57-8B51-7DEA0F4F802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laser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voltage.wav"/><Relationship Id="rId12" Type="http://schemas.openxmlformats.org/officeDocument/2006/relationships/audio" Target="../media/voltage.wav"/><Relationship Id="rId13" Type="http://schemas.openxmlformats.org/officeDocument/2006/relationships/audio" Target="../media/click.wav"/><Relationship Id="rId14" Type="http://schemas.openxmlformats.org/officeDocument/2006/relationships/audio" Target="../media/explode.wav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suction.wav"/><Relationship Id="rId4" Type="http://schemas.openxmlformats.org/officeDocument/2006/relationships/audio" Target="../media/cashreg.wav"/><Relationship Id="rId5" Type="http://schemas.openxmlformats.org/officeDocument/2006/relationships/audio" Target="../media/arrow.wav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" Target="slide13.xm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audio" Target="../media/bomb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&#1052;&#1045;&#1058;&#1040;&#1051;&#1051;&#1048;&#1050;&#1040;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&#1085;&#1086;&#1088;&#1077;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&#1080;&#1075;&#1075;&#1080;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audio" Target="../media/click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reeze.wav"/><Relationship Id="rId3" Type="http://schemas.openxmlformats.org/officeDocument/2006/relationships/audio" Target="../media/click.wav"/><Relationship Id="rId4" Type="http://schemas.openxmlformats.org/officeDocument/2006/relationships/audio" Target="../media/voltage.wav"/><Relationship Id="rId5" Type="http://schemas.openxmlformats.org/officeDocument/2006/relationships/audio" Target="../media/pu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644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Трансгенные продукты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2257560" cy="345600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362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смотря на все положительные аргументы у новой технологии нашлось немало противников, считающих, что её нельзя уподоблять ни одному из предыдущих вмешательств в природное устройство живых организмов, в том числе и скрещиванию. Основная причина в том, что генно-инженерные манипуляции перемещают гены от одних видов в другие и нарушают все установленные природой границы между живыми организмами. Учёные считают: сюрпризы, которые могут преподнести изменённые гены, попав в человеческий организм, предугадать и просчитать невозможно. Вот только некоторые «сценарии» их п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492360" y="404640"/>
            <a:ext cx="2592360" cy="1638360"/>
            <a:chOff x="3492360" y="404640"/>
            <a:chExt cx="2592360" cy="16383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3635280" y="404640"/>
              <a:ext cx="238140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492360" y="1268280"/>
              <a:ext cx="259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елёные давно уже выступаю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тив ГМ-продукт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ществует опасность влияния на микрофлору кишечника, то есть чужеродный ген может внедриться в полезные бак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требление трансгенной еды может подавлять иммунитет человека, вызвав мутации болезнетворных бакте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опасность при введении генов в трансгенное растение внести ген устойчивости к антибиотикам, в результате чего все известные препараты окажутся бессильными против микробов-мута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М-продукты могут стать причиной накопления в организме токси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вероятность, что внедрение чужеродных генов в растение может вызвать аллергические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М-продукты могут повлиять на генетический материал, и последствия их употребления проявятся у потом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3171960" cy="3529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4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4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4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4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4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4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3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3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40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43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46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49" nodeType="afterEffect" fill="hold" presetClass="emph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5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9000"/>
                            </p:stCondLst>
                            <p:childTnLst>
                              <p:par>
                                <p:cTn id="46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ак же отличить трансгенные продукты?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вкус и цвет этого не сделаешь. В 2002 г. Минздрав России ввел обязательную маркировку тех продуктов, в которых содержится более 5% ГМ-сырья. Но по данным мониторинга, проводимого Госсанэпидслужбой России, в настоящее время производители часто используют генетически модифицированное продовольственное сырье в рецептурах в количестве менее 5%. А удельный вес пищевых продуктов, содержащих ГМИ более 1%, составляет более 80%. Впрочем, даже если товар честно маркирован, несведущий человек просто не поймёт, что держит в руках трансгенный продукт. Вся информация такого рода закодирована. Кто догадается, что значо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DEX F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значает присутствие концентрата соевого бел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2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200"/>
                            </p:stCondLst>
                            <p:childTnLst>
                              <p:par>
                                <p:cTn id="49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Что думают покупатели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04840" y="177948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77948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643280" y="1557360"/>
          <a:ext cx="4038840" cy="2190600"/>
        </p:xfrm>
        <a:graphic>
          <a:graphicData uri="http://schemas.openxmlformats.org/drawingml/2006/table">
            <a:tbl>
              <a:tblPr/>
              <a:tblGrid>
                <a:gridCol w="2737080"/>
                <a:gridCol w="130176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 согласен употреблять трансгенные продук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    (2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9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    (45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9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в чем проблем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    (15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трудняюсь сказ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9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    (13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9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 отв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     (1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</a:tr>
            </a:tbl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можно видеть, среди опрошенных преобладает негативное отношение к трансгенным продуктам. Почти половина отказываются вводить их в свой рацион (45%), тогда как готовы употреблять их только четверть ответивших (26%). Относительно велика оказалась зона неосведомленности и неопределенности: более четверти опрошенных (28%) либо затруднились с ответом, либо не считают вопрос проблем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айте "Интер-Сои" проводился опрос по актуальной сегодня теме — генетически модифицированным продуктам питания. Посетителям предлагалось ответить на вопрос о готовности употреблять трансгенные продукты в пищ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ТРАНСГЕННЫЕ ПРОДУКТЫ: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Рог Изобилия или 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ища Франкенштейна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6520" y="1652760"/>
            <a:ext cx="3341880" cy="3109680"/>
            <a:chOff x="56520" y="1652760"/>
            <a:chExt cx="3341880" cy="3109680"/>
          </a:xfrm>
        </p:grpSpPr>
        <p:pic>
          <p:nvPicPr>
            <p:cNvPr id="102" name="" descr="ЧТО ТАКОЕ ТРАНСГЕННЫЕ ПРОДУКТЫ?"/>
            <p:cNvPicPr/>
            <p:nvPr/>
          </p:nvPicPr>
          <p:blipFill>
            <a:blip r:embed="rId1"/>
            <a:stretch/>
          </p:blipFill>
          <p:spPr>
            <a:xfrm rot="20019600">
              <a:off x="395280" y="2131920"/>
              <a:ext cx="266400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rot="20166600">
              <a:off x="1173240" y="265500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cc"/>
                  </a:solidFill>
                  <a:uFillTx/>
                  <a:latin typeface="Arial"/>
                  <a:hlinkClick r:id="rId2" action="ppaction://hlinksldjump"/>
                </a:rPr>
                <a:t>ЧТО ТАКОЕ ТРАНСГЕННЫЕ ПРОДУКТЫ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343920" y="1688400"/>
            <a:ext cx="2731320" cy="3147480"/>
            <a:chOff x="6343920" y="1688400"/>
            <a:chExt cx="2731320" cy="314748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 rot="909600">
              <a:off x="6659280" y="1915920"/>
              <a:ext cx="2100240" cy="26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909600">
              <a:off x="6712200" y="2767320"/>
              <a:ext cx="194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Что же вызывает опасения?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342040" y="4455720"/>
            <a:ext cx="2740320" cy="2279880"/>
            <a:chOff x="5342040" y="4455720"/>
            <a:chExt cx="2740320" cy="227988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 rot="699000">
              <a:off x="5501520" y="4681080"/>
              <a:ext cx="2421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751800">
              <a:off x="5402520" y="5840280"/>
              <a:ext cx="234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cc"/>
                  </a:solidFill>
                  <a:uFillTx/>
                  <a:latin typeface="Arial"/>
                  <a:hlinkClick r:id="rId5" action="ppaction://hlinksldjump"/>
                </a:rPr>
                <a:t>Покупать или не покупать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35280" y="1844640"/>
            <a:ext cx="2625840" cy="1917720"/>
            <a:chOff x="3635280" y="1844640"/>
            <a:chExt cx="2625840" cy="1917720"/>
          </a:xfrm>
        </p:grpSpPr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3635280" y="1844640"/>
              <a:ext cx="262584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708360" y="2492280"/>
              <a:ext cx="230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рансгенные продукт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пасут миллионы голодающих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979640" y="3988080"/>
            <a:ext cx="3025440" cy="2795040"/>
            <a:chOff x="1979640" y="3988080"/>
            <a:chExt cx="3025440" cy="2795040"/>
          </a:xfrm>
        </p:grpSpPr>
        <p:pic>
          <p:nvPicPr>
            <p:cNvPr id="114" name="" descr=""/>
            <p:cNvPicPr/>
            <p:nvPr/>
          </p:nvPicPr>
          <p:blipFill>
            <a:blip r:embed="rId7"/>
            <a:stretch/>
          </p:blipFill>
          <p:spPr>
            <a:xfrm rot="20309400">
              <a:off x="2268000" y="4365720"/>
              <a:ext cx="2448000" cy="20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20242800">
              <a:off x="2268360" y="494136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Как же отличить ГМ-продукты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16951" y="10800"/>
                </a:moveTo>
                <a:lnTo>
                  <a:pt x="6446" y="17806"/>
                </a:lnTo>
                <a:lnTo>
                  <a:pt x="6446" y="3794"/>
                </a:lnTo>
                <a:close/>
              </a:path>
              <a:path fill="darken" w="26905" h="21600">
                <a:moveTo>
                  <a:pt x="18796" y="3794"/>
                </a:moveTo>
                <a:lnTo>
                  <a:pt x="18796" y="17806"/>
                </a:lnTo>
                <a:lnTo>
                  <a:pt x="20459" y="17806"/>
                </a:lnTo>
                <a:lnTo>
                  <a:pt x="20459" y="3794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3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8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3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8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3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можная опасность ГМ-продуктов может проявиться, а может оказаться сильно преувеличенной. В любом случае каждому человеку следует подумать о возможных непредсказуемых последствиях и самому принять решение: употреблять трансгенную пищу или 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19640" y="4365720"/>
            <a:ext cx="2808000" cy="2149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908000" y="2276640"/>
            <a:ext cx="5183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0800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C%D0%95%D0%A2%D0%90%D0%9B%D0%9B%D0%98%D0%9A%D0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 ТАКОЕ ТРАНСГЕННЫЕ ПРОДУКТЫ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47640" y="1844280"/>
            <a:ext cx="5194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растения, в ДНК которых введен ген, не данный им природой, ген из другого организма. Он наделяет своего «хозяина» новыми свойствами: высокая урожайность, пищевая и вкусовая ценность, устойчивость к болезням, пестицидам, выносливость и др.  Встраиваются гены не только растений, но и  бактерий , вирусов, рыб, млекопитающих и даже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519280" cy="188892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60"/>
                            </p:stCondLst>
                            <p:childTnLst>
                              <p:par>
                                <p:cTn id="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6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BD%D0%BE%D1%80%D0%B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160"/>
                            </p:stCondLst>
                            <p:childTnLst>
                              <p:par>
                                <p:cTn id="10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История ГМ-продукт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8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институте растениеводства г. Кельн получено первое растение с чужеродным ге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9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Китае стали выращивать генетически модифицированный та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9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прилавках супермаркетов США появился первый коммерческий трансген – помидор сорт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Flavr Savr”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 встроенным геном арктической камба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9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чато коммерческое выращивание ГМ-со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9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лучен «золотой» рис, обогащенный карот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00"/>
                            </p:stCondLst>
                            <p:childTnLst>
                              <p:par>
                                <p:cTn id="11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00"/>
                            </p:stCondLst>
                            <p:childTnLst>
                              <p:par>
                                <p:cTn id="12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50"/>
                            </p:stCondLst>
                            <p:childTnLst>
                              <p:par>
                                <p:cTn id="12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50"/>
                            </p:stCondLst>
                            <p:childTnLst>
                              <p:par>
                                <p:cTn id="13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250"/>
                            </p:stCondLst>
                            <p:childTnLst>
                              <p:par>
                                <p:cTn id="14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150"/>
                            </p:stCondLst>
                            <p:childTnLst>
                              <p:par>
                                <p:cTn id="1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Список компаний, которые используют Гм-компоненты в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своей продукции, подготовлен специалистами 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Greenpeace.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 В него вошли изделия компаний:</a:t>
            </a:r>
            <a:br>
              <a:rPr sz="2200"/>
            </a:br>
            <a:endParaRPr b="0" lang="en-US" sz="2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shey's Cadbury (Fruit&amp;Nu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 (M&amp;M, Snickers, Milky W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-cola (Coca-cola, Spri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psiCo (Pepsi, 7-U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ito-Lay (Lays, Cheet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stle (Nesqui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p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gley’s (Orb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orol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6108"/>
          <a:stretch/>
        </p:blipFill>
        <p:spPr>
          <a:xfrm>
            <a:off x="4716360" y="3933720"/>
            <a:ext cx="3816360" cy="23702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65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65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65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65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65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65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165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65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65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465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65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6650"/>
                            </p:stCondLst>
                            <p:childTnLst>
                              <p:par>
                                <p:cTn id="236" nodeType="after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B8%D0%B3%D0%B3%D0%B8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7" dur="3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2150"/>
                            </p:stCondLst>
                            <p:childTnLst>
                              <p:par>
                                <p:cTn id="23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4650"/>
                            </p:stCondLst>
                            <p:childTnLst>
                              <p:par>
                                <p:cTn id="24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Блестящие перспективы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нсгенные культуры дают высокие урожа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сть выдерживать самые неблагоприятные усло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М-культуры не нуждаются в пестицидах, следовательно, являются более экологически чист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совершенные по вкусовым качествам продукты с минимальным содержанием вре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можность создания «съедобных» лекарств и вакц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гащение продуктов всеми необходимыми  витаминами и минерал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Главное преимущество ГМ-продуктов – решение продовольственной проблемы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енетически модифицированные зерновые культуры могут спасти миллионы жителей развивающихся стран, умирающих от голода. В последнем отчете экспертов ООН подчеркивается, что необходимо значительное увеличение финансирования генетических исследований и совместная работа ученых многих стран в этом направлении. Генные технологии позволяют повысить урожаи в два раза, а созревают новые сорта на 30-50 дней раньше. Они богаче белком и более устойчивы к вредителям. Важно и то, что они хорошо растут без удобрений и гербицидов, которые зачастую слишком дороги для фермеров в бедных странах.  По мнению авторов отчета, польза от генетически измененных продуктов значительно перевешивает опасения по поводу их возможного вреда для здоровь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240000" cy="236520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980"/>
                            </p:stCondLst>
                            <p:childTnLst>
                              <p:par>
                                <p:cTn id="3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Чем опасны трансгенные продукты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71280" y="1599840"/>
            <a:ext cx="60483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смотря на то что на мировом рынке всё больше появляется продуктов, полученных с использованием генетически модифицированных источников, потребители относятся к ним по крайней мере подозрительно. Почему же бьют тревогу «зелёные», что так заботит общественност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1916280" cy="27367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49">
                                  <p:stCondLst>
                                    <p:cond delay="3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5" nodeType="afterEffect" fill="hold" presetClass="exit" presetID="49">
                                  <p:stCondLst>
                                    <p:cond delay="3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3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900"/>
                            </p:stCondLst>
                            <p:childTnLst>
                              <p:par>
                                <p:cTn id="35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0:36:45Z</dcterms:created>
  <dc:creator>User</dc:creator>
  <dc:description/>
  <dc:language>en-US</dc:language>
  <cp:lastModifiedBy>Анютка</cp:lastModifiedBy>
  <dcterms:modified xsi:type="dcterms:W3CDTF">2006-05-10T06:17:49Z</dcterms:modified>
  <cp:revision>10</cp:revision>
  <dc:subject/>
  <dc:title>Трансгенные продукты</dc:title>
</cp:coreProperties>
</file>