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C41-1769-4C7E-AED8-1584D923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E12-3B0E-445B-95C9-61F0E98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53B-0DAB-4FB6-972F-D8F8C73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BC8-CBBF-4B58-B1AF-4F21D7BE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4DAC-32EF-444E-BCC8-9F55F7BF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5F31-F10B-414D-A8D1-43BF1D9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52ED-A673-41D3-AD6C-FA25ED0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15AC-3C43-4A57-AAE6-F574CDFD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E483-97D5-4FE9-8B05-A3E30A47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BB27-0E11-41CB-955A-C285CCF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4B4-437D-4A43-9D80-2EB88BE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256-EAE5-4D04-9C2A-EE1F785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121C-1A85-466A-AF4C-D18E5BC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DB4-96E2-4E46-9135-A4DA740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04FB-9F02-4FA9-B589-6994112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01C2-A861-49C1-A606-D4A0F0A9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51D7-D2BA-4DFF-B039-5F4C903B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9B3-D1D2-4AE4-8C85-D61D4696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44A-3D44-42A4-A090-880FECF1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ABE-AD50-4CE0-AA63-84E0B36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771-917A-404B-AA14-05732A6B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4F3-95B8-411B-9A81-04B2A92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A99-00EA-46D2-975A-E3E35B6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722-254D-46EF-9496-9AB6772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B41-A00C-4816-AFF1-9FF625581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B27-AC78-4193-97D8-40AD7AFD82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Конкурс на лучшую учебную презентацию — 2012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Хорошавина Яна Александро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МАОУ лицей «Синтон»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г. Чайковский Пермский кра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учитель физической культур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5" descr="00045317"/>
          <p:cNvPicPr/>
          <p:nvPr/>
        </p:nvPicPr>
        <p:blipFill>
          <a:blip r:embed="rId1"/>
          <a:stretch/>
        </p:blipFill>
        <p:spPr>
          <a:xfrm>
            <a:off x="6089760" y="2276640"/>
            <a:ext cx="305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5" descr="neft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untitled"/>
          <p:cNvPicPr/>
          <p:nvPr/>
        </p:nvPicPr>
        <p:blipFill>
          <a:blip r:embed="rId1"/>
          <a:stretch/>
        </p:blipFill>
        <p:spPr>
          <a:xfrm>
            <a:off x="5749920" y="1773360"/>
            <a:ext cx="3394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посмотреть, нет ли людей в 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5" descr="IMG_0036_01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.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IMG_0029_01"/>
          <p:cNvPicPr/>
          <p:nvPr/>
        </p:nvPicPr>
        <p:blipFill>
          <a:blip r:embed="rId1"/>
          <a:stretch/>
        </p:blipFill>
        <p:spPr>
          <a:xfrm>
            <a:off x="5815080" y="1844640"/>
            <a:ext cx="3328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 метательные 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5" descr="p16_imga1268"/>
          <p:cNvPicPr/>
          <p:nvPr/>
        </p:nvPicPr>
        <p:blipFill>
          <a:blip r:embed="rId1"/>
          <a:stretch/>
        </p:blipFill>
        <p:spPr>
          <a:xfrm>
            <a:off x="5805360" y="1844640"/>
            <a:ext cx="3338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11" descr="IMG_0046_01"/>
          <p:cNvPicPr/>
          <p:nvPr/>
        </p:nvPicPr>
        <p:blipFill>
          <a:blip r:embed="rId1"/>
          <a:stretch/>
        </p:blipFill>
        <p:spPr>
          <a:xfrm>
            <a:off x="5958000" y="2060640"/>
            <a:ext cx="3186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127039_image_large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1" descr="tanci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00045188"/>
          <p:cNvPicPr/>
          <p:nvPr/>
        </p:nvPicPr>
        <p:blipFill>
          <a:blip r:embed="rId1"/>
          <a:stretch/>
        </p:blipFill>
        <p:spPr>
          <a:xfrm>
            <a:off x="5770440" y="1844640"/>
            <a:ext cx="3373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Николай</cp:lastModifiedBy>
  <dcterms:modified xsi:type="dcterms:W3CDTF">2013-04-29T08:47:2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