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170-FB42-420C-9342-5F06BE94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213-DDFA-4CF8-9ECA-7910E285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A9B-0A2E-4A6A-8EC7-B6574D38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6DE-151F-468D-BE45-CF914A66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6B5C-C400-4D24-A783-9BD37E91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C651-E23A-4448-8122-C7BAEBCA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850F-58B6-4A91-B845-E3208F77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DBFF-9705-4FF4-A458-1B6DE449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7314-3218-4AE1-A583-615BBB90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C728-1366-4B20-A2DB-A1E7723A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DA36-19A7-4E17-8897-D1B97241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98F-8B21-47EB-A3BB-D3C888AF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BEE9-3EBA-43FF-A7C2-2D0B968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1892-9309-4690-91CB-5E5D603A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E3F5-4CF4-44F2-8E94-072DE2DB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217A-E513-4BF3-BCC9-C5FD1095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7A25-1778-4D03-8BC9-4990A6DC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FB7-3C1D-4BCC-B5B1-96EF190E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84D-F98A-49B7-AA1D-6F49FF56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BAD-DF86-4700-AC72-CA2D2CDE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EB8-53FA-44F5-834F-14FA9CBA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A01-B0BF-49BA-A8A6-0DEB7438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4B7-0AE7-42D3-95A9-88A247F1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FAD-72E2-4655-949E-FAB246F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6A07-9803-4743-B9C6-515BA801F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C1D8-7B40-4498-BEE7-291DABDE7D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385120" cy="20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Конкурс на лучшую учебную презентацию — 2012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Хорошавина Яна Александровна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МАОУ лицей «Синтон»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г. Чайковский Пермский кра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учитель физической культуры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8. Не допускать стопорящей (резкой) остановки после финиш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5" descr="00044968"/>
          <p:cNvPicPr/>
          <p:nvPr/>
        </p:nvPicPr>
        <p:blipFill>
          <a:blip r:embed="rId1"/>
          <a:stretch/>
        </p:blipFill>
        <p:spPr>
          <a:xfrm>
            <a:off x="5457960" y="1844640"/>
            <a:ext cx="3686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9. Не перебегать (пересекать) дорожку во время бега «соревнующихся»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0. При групповом старте не толкаться локтями, не наступать на пятки впереди бегущего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5" descr="00045000"/>
          <p:cNvPicPr/>
          <p:nvPr/>
        </p:nvPicPr>
        <p:blipFill>
          <a:blip r:embed="rId1"/>
          <a:stretch/>
        </p:blipFill>
        <p:spPr>
          <a:xfrm>
            <a:off x="1476360" y="1828800"/>
            <a:ext cx="766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1. Во время бега на длинные дистанции уметь правильно распределять силы по дистанции (не начинать быстро)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5" descr="00045317"/>
          <p:cNvPicPr/>
          <p:nvPr/>
        </p:nvPicPr>
        <p:blipFill>
          <a:blip r:embed="rId1"/>
          <a:stretch/>
        </p:blipFill>
        <p:spPr>
          <a:xfrm>
            <a:off x="6089760" y="2276640"/>
            <a:ext cx="3054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75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2. После финиша следует перейти на ходьбу до полного восстановления дыхания, нельзя резко останавливаться, садиться или ложитьс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5" descr="00044998"/>
          <p:cNvPicPr/>
          <p:nvPr/>
        </p:nvPicPr>
        <p:blipFill>
          <a:blip r:embed="rId1"/>
          <a:stretch/>
        </p:blipFill>
        <p:spPr>
          <a:xfrm>
            <a:off x="3492360" y="3125880"/>
            <a:ext cx="5651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3. Не выполнять прыжки на неровный, рыхлый или скользкий грунт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5" descr="07272006132401"/>
          <p:cNvPicPr/>
          <p:nvPr/>
        </p:nvPicPr>
        <p:blipFill>
          <a:blip r:embed="rId1"/>
          <a:stretch/>
        </p:blipFill>
        <p:spPr>
          <a:xfrm>
            <a:off x="4064040" y="3048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4. Соблюдать очередность выполнения попыток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5" descr="neft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5. Не переходить места, на которых проводятся занятия по метан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5" descr="big_1219130183"/>
          <p:cNvPicPr/>
          <p:nvPr/>
        </p:nvPicPr>
        <p:blipFill>
          <a:blip r:embed="rId1"/>
          <a:stretch/>
        </p:blipFill>
        <p:spPr>
          <a:xfrm>
            <a:off x="2484360" y="186372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6. Выполнять метания только по команде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5" descr="untitled"/>
          <p:cNvPicPr/>
          <p:nvPr/>
        </p:nvPicPr>
        <p:blipFill>
          <a:blip r:embed="rId1"/>
          <a:stretch/>
        </p:blipFill>
        <p:spPr>
          <a:xfrm>
            <a:off x="5749920" y="1773360"/>
            <a:ext cx="3394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7. Перед выполнением метания посмотреть, нет ли людей в зоне приземления снаряд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5" descr="IMG_0036_01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385120" cy="200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Техника безопасности при занятиях легкой атлетикой.</a:t>
            </a:r>
            <a:r>
              <a:rPr b="1" lang="ru-RU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Picture 3" descr="00045099"/>
          <p:cNvPicPr/>
          <p:nvPr/>
        </p:nvPicPr>
        <p:blipFill>
          <a:blip r:embed="rId1"/>
          <a:stretch/>
        </p:blipFill>
        <p:spPr>
          <a:xfrm>
            <a:off x="0" y="3645000"/>
            <a:ext cx="2141640" cy="321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39937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230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6000"/>
          </a:solidFill>
          <a:ln w="38160">
            <a:solidFill>
              <a:srgbClr val="f0ffc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8. Не стоять рядом с метающи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IMG_0029_01"/>
          <p:cNvPicPr/>
          <p:nvPr/>
        </p:nvPicPr>
        <p:blipFill>
          <a:blip r:embed="rId1"/>
          <a:stretch/>
        </p:blipFill>
        <p:spPr>
          <a:xfrm>
            <a:off x="5815080" y="1844640"/>
            <a:ext cx="33289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19. Не стоять в поле (коридоре), где приземляются метательные снаряд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5" descr="29791"/>
          <p:cNvPicPr/>
          <p:nvPr/>
        </p:nvPicPr>
        <p:blipFill>
          <a:blip r:embed="rId1"/>
          <a:stretch/>
        </p:blipFill>
        <p:spPr>
          <a:xfrm>
            <a:off x="3564000" y="1849320"/>
            <a:ext cx="5580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0. Не ловить метательные снаряд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5" descr="B-sp-005-vl"/>
          <p:cNvPicPr/>
          <p:nvPr/>
        </p:nvPicPr>
        <p:blipFill>
          <a:blip r:embed="rId1"/>
          <a:stretch/>
        </p:blipFill>
        <p:spPr>
          <a:xfrm>
            <a:off x="2987640" y="1933560"/>
            <a:ext cx="6156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1. Не передавать метательные снаряды броско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5" descr="p16_imga1268"/>
          <p:cNvPicPr/>
          <p:nvPr/>
        </p:nvPicPr>
        <p:blipFill>
          <a:blip r:embed="rId1"/>
          <a:stretch/>
        </p:blipFill>
        <p:spPr>
          <a:xfrm>
            <a:off x="5805360" y="1844640"/>
            <a:ext cx="3338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2. Не выходить в поле (коридор) за метательными снарядами без разрешения учител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11" descr="IMG_0046_01"/>
          <p:cNvPicPr/>
          <p:nvPr/>
        </p:nvPicPr>
        <p:blipFill>
          <a:blip r:embed="rId1"/>
          <a:stretch/>
        </p:blipFill>
        <p:spPr>
          <a:xfrm>
            <a:off x="5958000" y="2060640"/>
            <a:ext cx="3186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3. При падении сгруппироваться во избежание получения травм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5" descr="foto"/>
          <p:cNvPicPr/>
          <p:nvPr/>
        </p:nvPicPr>
        <p:blipFill>
          <a:blip r:embed="rId1"/>
          <a:stretch/>
        </p:blipFill>
        <p:spPr>
          <a:xfrm>
            <a:off x="5830920" y="1916280"/>
            <a:ext cx="3313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24. При плохом самочувствии или травме немедленно сообщить учител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Picture 10" descr="00045020"/>
          <p:cNvPicPr/>
          <p:nvPr/>
        </p:nvPicPr>
        <p:blipFill>
          <a:blip r:embed="rId1"/>
          <a:stretch/>
        </p:blipFill>
        <p:spPr>
          <a:xfrm>
            <a:off x="0" y="3760920"/>
            <a:ext cx="4572000" cy="30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15183"/>
          <p:cNvPicPr/>
          <p:nvPr/>
        </p:nvPicPr>
        <p:blipFill>
          <a:blip r:embed="rId2"/>
          <a:stretch/>
        </p:blipFill>
        <p:spPr>
          <a:xfrm>
            <a:off x="5076720" y="1628640"/>
            <a:ext cx="392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1. Соблюдать дисциплину в ходе занятий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Picture 8" descr="25202"/>
          <p:cNvPicPr/>
          <p:nvPr/>
        </p:nvPicPr>
        <p:blipFill>
          <a:blip r:embed="rId1"/>
          <a:stretch/>
        </p:blipFill>
        <p:spPr>
          <a:xfrm>
            <a:off x="4000680" y="3000240"/>
            <a:ext cx="5143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2. Заниматься в спортивной обуви и форме, соответствующей погодным условиям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15" descr="00045450"/>
          <p:cNvPicPr/>
          <p:nvPr/>
        </p:nvPicPr>
        <p:blipFill>
          <a:blip r:embed="rId1"/>
          <a:stretch/>
        </p:blipFill>
        <p:spPr>
          <a:xfrm>
            <a:off x="5769000" y="1844640"/>
            <a:ext cx="337500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3. Заниматься легкой атлетикой только в местах, названных учителем, в поле его зрения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5" descr="127039_image_large"/>
          <p:cNvPicPr/>
          <p:nvPr/>
        </p:nvPicPr>
        <p:blipFill>
          <a:blip r:embed="rId1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1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4. Приступать к выполнению легкоатлетических упражнений только после разминк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11" descr="tanci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5. Не бежать навстречу общему движению учащихся на беговой дорожке (бег по кругу стадиона осуществлять только в направлении против часовой стрелк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5" descr="1022533_1198833106"/>
          <p:cNvPicPr/>
          <p:nvPr/>
        </p:nvPicPr>
        <p:blipFill>
          <a:blip r:embed="rId1"/>
          <a:stretch/>
        </p:blipFill>
        <p:spPr>
          <a:xfrm>
            <a:off x="414036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Comic Sans MS"/>
              </a:rPr>
              <a:t>6. Бежать короткие (спринтерские дистанции) только по своей дорожке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5" descr="00045132"/>
          <p:cNvPicPr/>
          <p:nvPr/>
        </p:nvPicPr>
        <p:blipFill>
          <a:blip r:embed="rId1"/>
          <a:stretch/>
        </p:blipFill>
        <p:spPr>
          <a:xfrm>
            <a:off x="5813280" y="1844640"/>
            <a:ext cx="333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Comic Sans MS"/>
              </a:rPr>
              <a:t>7. Во время бега не смотреть под ноги, на своего соперник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5" descr="00045188"/>
          <p:cNvPicPr/>
          <p:nvPr/>
        </p:nvPicPr>
        <p:blipFill>
          <a:blip r:embed="rId1"/>
          <a:stretch/>
        </p:blipFill>
        <p:spPr>
          <a:xfrm>
            <a:off x="5770440" y="1844640"/>
            <a:ext cx="3373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2:42:24Z</dcterms:created>
  <dc:creator>user</dc:creator>
  <dc:description/>
  <dc:language>en-US</dc:language>
  <cp:lastModifiedBy>Николай</cp:lastModifiedBy>
  <dcterms:modified xsi:type="dcterms:W3CDTF">2013-04-29T08:47:26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c0000000000010250300207f7000400038000</vt:lpwstr>
  </property>
</Properties>
</file>