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9742-DE42-4E97-B585-488228914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513D-9C6E-40AC-80A3-71B98255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C9B7-7E2A-47BF-A639-017154977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A251-A0D7-4E91-B1BE-78E2218C4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D271-4FEE-486A-8AEC-3F747420B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3006-445C-4824-A221-5C79AF1E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C82E-B6FD-4AEE-9333-FE8E3128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D6CD-4752-4F1A-A963-140D51E0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A11D-B483-4243-8B79-8AA44AB0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BA23-6FA5-47F5-B644-82D05A51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E963-4632-47FC-99FF-167C0937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8271-C720-4FD6-A3FC-8EE25C8E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FE59-A3C1-4335-BD69-422542D3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8CD84-53E2-40F5-8C5B-828E3D45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5473-DFA5-4D77-9762-E43B9057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C9E8-BE3B-4719-B272-8C385EF9E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769F-7D1F-46AE-A7F5-2BD35BD60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E276-AF23-47BD-AD6B-742C5375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CCD5-837C-446B-9F6A-40A8C2FE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1A3B-9D7D-4FEE-AF04-497C8DD5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21FD-7C58-415F-9C92-CBF58133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9E13-AE98-4F83-B96D-7749DBDE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E553-97F6-4D97-A3BA-159F504B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B961-4A57-4C67-9CA5-34DDFD06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9AD1-FD51-4C4A-B4EE-D41F7C169A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DBD8-1D92-464F-B0CC-2BD5C64B21C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1988640"/>
            <a:ext cx="8385120" cy="200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Конкурс на лучшую учебную презентацию — 2012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Хорошавина Яна Александровна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МАОУ лицей «Синтон» 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г. Чайковский Пермский край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учитель физической культуры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8. Не допускать стопорящей (резкой) остановки после финиша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Picture 5" descr="00044968"/>
          <p:cNvPicPr/>
          <p:nvPr/>
        </p:nvPicPr>
        <p:blipFill>
          <a:blip r:embed="rId1"/>
          <a:stretch/>
        </p:blipFill>
        <p:spPr>
          <a:xfrm>
            <a:off x="5457960" y="1844640"/>
            <a:ext cx="368604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Comic Sans MS"/>
              </a:rPr>
              <a:t>9. Не перебегать (пересекать) дорожку во время бега «соревнующихся»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Comic Sans MS"/>
              </a:rPr>
              <a:t>10. При групповом старте не толкаться локтями, не наступать на пятки впереди бегущего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Picture 5" descr="00045000"/>
          <p:cNvPicPr/>
          <p:nvPr/>
        </p:nvPicPr>
        <p:blipFill>
          <a:blip r:embed="rId1"/>
          <a:stretch/>
        </p:blipFill>
        <p:spPr>
          <a:xfrm>
            <a:off x="1476360" y="1828800"/>
            <a:ext cx="7667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3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1. Во время бега на длинные дистанции уметь правильно распределять силы по дистанции (не начинать быстро)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Picture 5" descr="00045317"/>
          <p:cNvPicPr/>
          <p:nvPr/>
        </p:nvPicPr>
        <p:blipFill>
          <a:blip r:embed="rId1"/>
          <a:stretch/>
        </p:blipFill>
        <p:spPr>
          <a:xfrm>
            <a:off x="6089760" y="2276640"/>
            <a:ext cx="305424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75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2. После финиша следует перейти на ходьбу до полного восстановления дыхания, нельзя резко останавливаться, садиться или ложиться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5" name="Picture 5" descr="00044998"/>
          <p:cNvPicPr/>
          <p:nvPr/>
        </p:nvPicPr>
        <p:blipFill>
          <a:blip r:embed="rId1"/>
          <a:stretch/>
        </p:blipFill>
        <p:spPr>
          <a:xfrm>
            <a:off x="3492360" y="3125880"/>
            <a:ext cx="565164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3. Не выполнять прыжки на неровный, рыхлый или скользкий грунт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7" name="Picture 5" descr="07272006132401"/>
          <p:cNvPicPr/>
          <p:nvPr/>
        </p:nvPicPr>
        <p:blipFill>
          <a:blip r:embed="rId1"/>
          <a:stretch/>
        </p:blipFill>
        <p:spPr>
          <a:xfrm>
            <a:off x="4064040" y="304812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4. Соблюдать очередность выполнения попыток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9" name="Picture 5" descr="neft"/>
          <p:cNvPicPr/>
          <p:nvPr/>
        </p:nvPicPr>
        <p:blipFill>
          <a:blip r:embed="rId1"/>
          <a:stretch/>
        </p:blipFill>
        <p:spPr>
          <a:xfrm>
            <a:off x="2484360" y="1863720"/>
            <a:ext cx="665964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Comic Sans MS"/>
              </a:rPr>
              <a:t>15. Не переходить места, на которых проводятся занятия по метанию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Picture 5" descr="big_1219130183"/>
          <p:cNvPicPr/>
          <p:nvPr/>
        </p:nvPicPr>
        <p:blipFill>
          <a:blip r:embed="rId1"/>
          <a:stretch/>
        </p:blipFill>
        <p:spPr>
          <a:xfrm>
            <a:off x="2484360" y="1863720"/>
            <a:ext cx="665964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6. Выполнять метания только по команде учителя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Picture 5" descr="untitled"/>
          <p:cNvPicPr/>
          <p:nvPr/>
        </p:nvPicPr>
        <p:blipFill>
          <a:blip r:embed="rId1"/>
          <a:stretch/>
        </p:blipFill>
        <p:spPr>
          <a:xfrm>
            <a:off x="5749920" y="1773360"/>
            <a:ext cx="33940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0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7. Перед выполнением метания посмотреть, нет ли людей в зоне приземления снаряда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5" name="Picture 5" descr="IMG_0036_01"/>
          <p:cNvPicPr/>
          <p:nvPr/>
        </p:nvPicPr>
        <p:blipFill>
          <a:blip r:embed="rId1"/>
          <a:stretch/>
        </p:blipFill>
        <p:spPr>
          <a:xfrm>
            <a:off x="5813280" y="1844640"/>
            <a:ext cx="33307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1988640"/>
            <a:ext cx="8385120" cy="200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Comic Sans MS"/>
              </a:rPr>
              <a:t>Техника безопасности при занятиях легкой атлетикой.</a:t>
            </a:r>
            <a:r>
              <a:rPr b="1" lang="ru-RU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0" name="Picture 3" descr="00045099"/>
          <p:cNvPicPr/>
          <p:nvPr/>
        </p:nvPicPr>
        <p:blipFill>
          <a:blip r:embed="rId1"/>
          <a:stretch/>
        </p:blipFill>
        <p:spPr>
          <a:xfrm>
            <a:off x="0" y="3645000"/>
            <a:ext cx="2141640" cy="3213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39937"/>
          <p:cNvPicPr/>
          <p:nvPr/>
        </p:nvPicPr>
        <p:blipFill>
          <a:blip r:embed="rId2"/>
          <a:stretch/>
        </p:blipFill>
        <p:spPr>
          <a:xfrm>
            <a:off x="6095880" y="0"/>
            <a:ext cx="3048120" cy="223056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6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006000"/>
          </a:solidFill>
          <a:ln w="38160">
            <a:solidFill>
              <a:srgbClr val="f0ffc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Prezentacii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8. Не стоять рядом с метающим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7" name="Picture 5" descr="IMG_0029_01"/>
          <p:cNvPicPr/>
          <p:nvPr/>
        </p:nvPicPr>
        <p:blipFill>
          <a:blip r:embed="rId1"/>
          <a:stretch/>
        </p:blipFill>
        <p:spPr>
          <a:xfrm>
            <a:off x="5815080" y="1844640"/>
            <a:ext cx="33289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Comic Sans MS"/>
              </a:rPr>
              <a:t>19. Не стоять в поле (коридоре), где приземляются метательные снаряды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9" name="Picture 5" descr="29791"/>
          <p:cNvPicPr/>
          <p:nvPr/>
        </p:nvPicPr>
        <p:blipFill>
          <a:blip r:embed="rId1"/>
          <a:stretch/>
        </p:blipFill>
        <p:spPr>
          <a:xfrm>
            <a:off x="3564000" y="1849320"/>
            <a:ext cx="558000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20. Не ловить метательные снаряды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1" name="Picture 5" descr="B-sp-005-vl"/>
          <p:cNvPicPr/>
          <p:nvPr/>
        </p:nvPicPr>
        <p:blipFill>
          <a:blip r:embed="rId1"/>
          <a:stretch/>
        </p:blipFill>
        <p:spPr>
          <a:xfrm>
            <a:off x="2987640" y="1933560"/>
            <a:ext cx="615636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21. Не передавать метательные снаряды броском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3" name="Picture 5" descr="p16_imga1268"/>
          <p:cNvPicPr/>
          <p:nvPr/>
        </p:nvPicPr>
        <p:blipFill>
          <a:blip r:embed="rId1"/>
          <a:stretch/>
        </p:blipFill>
        <p:spPr>
          <a:xfrm>
            <a:off x="5805360" y="1844640"/>
            <a:ext cx="333864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7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22. Не выходить в поле (коридор) за метательными снарядами без разрешения учителя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5" name="Picture 11" descr="IMG_0046_01"/>
          <p:cNvPicPr/>
          <p:nvPr/>
        </p:nvPicPr>
        <p:blipFill>
          <a:blip r:embed="rId1"/>
          <a:stretch/>
        </p:blipFill>
        <p:spPr>
          <a:xfrm>
            <a:off x="5958000" y="2060640"/>
            <a:ext cx="31860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23. При падении сгруппироваться во избежание получения травмы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Picture 5" descr="foto"/>
          <p:cNvPicPr/>
          <p:nvPr/>
        </p:nvPicPr>
        <p:blipFill>
          <a:blip r:embed="rId1"/>
          <a:stretch/>
        </p:blipFill>
        <p:spPr>
          <a:xfrm>
            <a:off x="5830920" y="1916280"/>
            <a:ext cx="331308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Comic Sans MS"/>
              </a:rPr>
              <a:t>24. При плохом самочувствии или травме немедленно сообщить учителю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9" name="Picture 10" descr="00045020"/>
          <p:cNvPicPr/>
          <p:nvPr/>
        </p:nvPicPr>
        <p:blipFill>
          <a:blip r:embed="rId1"/>
          <a:stretch/>
        </p:blipFill>
        <p:spPr>
          <a:xfrm>
            <a:off x="0" y="3760920"/>
            <a:ext cx="4572000" cy="309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15183"/>
          <p:cNvPicPr/>
          <p:nvPr/>
        </p:nvPicPr>
        <p:blipFill>
          <a:blip r:embed="rId2"/>
          <a:stretch/>
        </p:blipFill>
        <p:spPr>
          <a:xfrm>
            <a:off x="5076720" y="1628640"/>
            <a:ext cx="392760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. Соблюдать дисциплину в ходе занятий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Picture 8" descr="25202"/>
          <p:cNvPicPr/>
          <p:nvPr/>
        </p:nvPicPr>
        <p:blipFill>
          <a:blip r:embed="rId1"/>
          <a:stretch/>
        </p:blipFill>
        <p:spPr>
          <a:xfrm>
            <a:off x="4000680" y="3000240"/>
            <a:ext cx="51433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0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2. Заниматься в спортивной обуви и форме, соответствующей погодным условиям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6" name="Picture 15" descr="00045450"/>
          <p:cNvPicPr/>
          <p:nvPr/>
        </p:nvPicPr>
        <p:blipFill>
          <a:blip r:embed="rId1"/>
          <a:stretch/>
        </p:blipFill>
        <p:spPr>
          <a:xfrm>
            <a:off x="5769000" y="1844640"/>
            <a:ext cx="3375000" cy="50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3. Заниматься легкой атлетикой только в местах, названных учителем, в поле его зрения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Picture 5" descr="127039_image_large"/>
          <p:cNvPicPr/>
          <p:nvPr/>
        </p:nvPicPr>
        <p:blipFill>
          <a:blip r:embed="rId1"/>
          <a:stretch/>
        </p:blipFill>
        <p:spPr>
          <a:xfrm>
            <a:off x="3429000" y="304812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21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4. Приступать к выполнению легкоатлетических упражнений только после разминки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Picture 11" descr="tanci"/>
          <p:cNvPicPr/>
          <p:nvPr/>
        </p:nvPicPr>
        <p:blipFill>
          <a:blip r:embed="rId1"/>
          <a:stretch/>
        </p:blipFill>
        <p:spPr>
          <a:xfrm>
            <a:off x="2987640" y="2239920"/>
            <a:ext cx="615636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82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Comic Sans MS"/>
              </a:rPr>
              <a:t>5. Не бежать навстречу общему движению учащихся на беговой дорожке (бег по кругу стадиона осуществлять только в направлении против часовой стрелки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Picture 5" descr="1022533_1198833106"/>
          <p:cNvPicPr/>
          <p:nvPr/>
        </p:nvPicPr>
        <p:blipFill>
          <a:blip r:embed="rId1"/>
          <a:stretch/>
        </p:blipFill>
        <p:spPr>
          <a:xfrm>
            <a:off x="4140360" y="3105000"/>
            <a:ext cx="50036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Comic Sans MS"/>
              </a:rPr>
              <a:t>6. Бежать короткие (спринтерские дистанции) только по своей дорожке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Picture 5" descr="00045132"/>
          <p:cNvPicPr/>
          <p:nvPr/>
        </p:nvPicPr>
        <p:blipFill>
          <a:blip r:embed="rId1"/>
          <a:stretch/>
        </p:blipFill>
        <p:spPr>
          <a:xfrm>
            <a:off x="5813280" y="1844640"/>
            <a:ext cx="33307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7. Во время бега не смотреть под ноги, на своего соперника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Picture 5" descr="00045188"/>
          <p:cNvPicPr/>
          <p:nvPr/>
        </p:nvPicPr>
        <p:blipFill>
          <a:blip r:embed="rId1"/>
          <a:stretch/>
        </p:blipFill>
        <p:spPr>
          <a:xfrm>
            <a:off x="5770440" y="1844640"/>
            <a:ext cx="33735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2:42:24Z</dcterms:created>
  <dc:creator>user</dc:creator>
  <dc:description/>
  <dc:language>en-US</dc:language>
  <cp:lastModifiedBy>Николай</cp:lastModifiedBy>
  <dcterms:modified xsi:type="dcterms:W3CDTF">2013-04-29T08:47:26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c0c0000000000010250300207f7000400038000</vt:lpwstr>
  </property>
</Properties>
</file>