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3BC-238E-4752-BBEB-B17A5D3D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4C1-EC44-4989-9C39-F7BF1174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B1C7-D2CA-4821-8E3F-3695B25C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443-D76F-4474-94A1-2C356C28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4DF2-80C7-48FE-9123-48520E3B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C8E0-8172-434B-A80D-DC50BC06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4264-B60E-44B4-9F78-B2E3A800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9A22-64CF-4C3E-B3A7-DA764CDF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A0FC-C0A5-489C-9B0F-9748042E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6941-4F72-4018-BF71-E222043C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A6F8-F9AC-4296-A91D-8A3FFE26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525-E05B-47D4-AC93-F341EFB9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7D6A-9DF3-4989-A04F-87158EE3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4C6A-C744-4ECA-9484-95944DD2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4245-5028-48B2-B570-BB0A3CCF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B439-2043-4638-AF58-91895309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A1BE-F862-4A60-B7EC-68F4CD36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8F4-7C0B-4987-9EDE-D0DD5BD3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9864-AAFC-468F-9CFF-B5C75E80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49A-61EC-40D7-95DC-19A46181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C7CF-EEC9-4CB4-9846-61DC74BE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AD0-283C-430B-A305-79987C50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B68-B58A-4DEC-A489-F884C326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C53-83C8-4010-8482-0A0E3829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CCC6-DE01-4EF5-B279-EE911B6E4B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9180-DE09-431F-ADF9-3A6B0B72AA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96000" y="-3380040"/>
            <a:ext cx="14436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0" y="6308280"/>
            <a:ext cx="698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601640"/>
            <a:ext cx="7920000" cy="377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зентация к уроку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луховой анализатор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гиена слуха.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19280" y="476280"/>
            <a:ext cx="5049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иология 8 клас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4437000"/>
            <a:ext cx="460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лена учителем биологии МО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Ш д.Городище Нем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ов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ссихиной Татьяной Александр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40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Строение и функции отделов ух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4360" y="1484280"/>
          <a:ext cx="7924680" cy="4343400"/>
        </p:xfrm>
        <a:graphic>
          <a:graphicData uri="http://schemas.openxmlformats.org/drawingml/2006/table">
            <a:tbl>
              <a:tblPr/>
              <a:tblGrid>
                <a:gridCol w="2057040"/>
                <a:gridCol w="3011760"/>
                <a:gridCol w="2855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 у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ж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шная раковина, наруж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ховой проход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анчивающий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абанной перепон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(выделение сер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авливание и проведение зву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ховые косточк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олоточ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коваль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тремеч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стахиева тру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06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очки проводят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06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вают звуков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06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ебания в 50 р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06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стахиева труба –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06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внивание давления 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06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 ух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еннее ухо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двер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вальное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е окна)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ит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ховые рецепторы улит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разуют звуков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ы в нерв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ульсы, которые идут 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ховую зону КБ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Гигиена органов слуха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09480" y="1600200"/>
          <a:ext cx="3886200" cy="36036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реждение слухового нер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серной проб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резкие звуки (взры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е громкие шу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родные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генные микроорганиз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648320" y="1600200"/>
          <a:ext cx="3886200" cy="39528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643280" y="1989000"/>
          <a:ext cx="3889440" cy="719280"/>
        </p:xfrm>
        <a:graphic>
          <a:graphicData uri="http://schemas.openxmlformats.org/drawingml/2006/table">
            <a:tbl>
              <a:tblPr/>
              <a:tblGrid>
                <a:gridCol w="388944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передачи импульсов в слуховую зону КБ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643280" y="2708280"/>
          <a:ext cx="3886200" cy="5796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передачи звуковых колебаний к внутреннему ух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643280" y="3284640"/>
          <a:ext cx="3886200" cy="43164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ыв барабанной перепо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643280" y="3716280"/>
          <a:ext cx="3886200" cy="5796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ижение эластичности барабанной перепо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643280" y="4292640"/>
          <a:ext cx="3886200" cy="9367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ек среднего у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аление среднего уха (оти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ит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48040" y="66600"/>
            <a:ext cx="709596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Вредное влияние шума на слух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рабанная перепонка постепенно теряет свою эластичность, развивается глухо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ум вызывает торможение в клетках коры головного моз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ум может вызывать разнообразные физиологические (усиленное сердцебиение, повышение давления) и психические (ослабление внимания, нервозность) нару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0" y="-3739680"/>
            <a:ext cx="10800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56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К правому уху испытуемого, который сидит с закрытыми глазами, приближают наручные часы. Фиксируется расстояние, на котором тиканье часов он услыш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Аналогичный опыт проводится с левым ухом. (Нормальным считается расстояние 10-15 см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осле прослушивания громкой музыки в течение 2 мин., а затем опыт повтор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равнить полученные результаты работы и объяснить их. Сделайте 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89000"/>
            <a:ext cx="8138880" cy="96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Лабораторная работа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" Воздействие шума на остроту слуха"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Проверка первичного усвоения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39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авьте в текст пропущенные слова: “Каждое ух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оит из трех отделов: ……., ……., …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жное ухо заканчивается …….  ……… В средн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хе находятся … …. Они передают звук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ебания … … … внутреннего уха. Внутреннее ух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тличие от предыдущих отделов, заполнено……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внутреннем ухе находится преддверие, улит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 Окончательный анализ звуковых раздра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исходит в ………... зоне коры больших полушар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анный человек не станет громко ……..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ственных мес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дведем итог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так, орган слуха предназначен для восприятия звуковых раздражителей. В библии в «Притче о сеятеле» есть такая фраза: «Кто имеет уши слышать, да слышат!» Каков смысл этого выра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акова же роль слухового анализатора (ушей) в общении люд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Что понимают под понятием «слышать»? Всегда ли мы «слышим» друг друга? Что нужно, чтобы один человек мог услышать друг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дведем итог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Все ли свои цели, поставленные на урок, вы реализов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54, стр.80-82 учеб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думайте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меры вы можете предложить, чтобы уменьшить воздействие шума на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а ухода за уш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Проверка первичного усво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проведении опыта со взрывом водорода рекомендуют открывать рот.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05560" y="4581360"/>
            <a:ext cx="144324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0" y="-3666960"/>
            <a:ext cx="10800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99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«Самая большая роскошь на земле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роскошь человеческого общ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3200" spc="-1" strike="noStrike">
                <a:solidFill>
                  <a:srgbClr val="6666cc"/>
                </a:solidFill>
                <a:latin typeface="Arial"/>
              </a:rPr>
              <a:t>Антуан де Сент-Экзюпер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спользованные ресурс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агомилов А.Г., Маш Р.Д .Биология: Человек: Учебник для учащихся 8 класса общеобразовательных учреждений. - 2-е изд., переработ. - М.: Вентана-Граф, 2005. - 272 с.: 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ции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иск: Просвещение  Биология. 9 класс Анатомия и физиология человека/ мультимедийное учебное пособие нового образца.- М., Просвещение-МЕДИА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что бы вы хотели узн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чему бы вы хотели на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зачем вам это на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58920" y="333360"/>
            <a:ext cx="56894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овы ваши цели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56360" y="4365720"/>
            <a:ext cx="187164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468000" y="1557360"/>
            <a:ext cx="28872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Что такое анализато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Из чего он состои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акие части образуют зрительный анализат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7280" y="260280"/>
            <a:ext cx="575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ы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34280" y="4005360"/>
            <a:ext cx="160164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2845080" cy="3600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Какое значение в жизни человека имеют слух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465880" y="981000"/>
            <a:ext cx="3678120" cy="5516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19280" y="3997440"/>
            <a:ext cx="4248000" cy="2860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слух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лух способствует эстетическому воспитанию челове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является каналом общ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участвует в передаче и накоплении знаний, накопленных челове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997360"/>
            <a:ext cx="5148360" cy="3657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33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Строение слухового анализатора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68360" y="1413000"/>
            <a:ext cx="7777080" cy="3146400"/>
            <a:chOff x="468360" y="1413000"/>
            <a:chExt cx="7777080" cy="3146400"/>
          </a:xfrm>
        </p:grpSpPr>
        <p:sp>
          <p:nvSpPr>
            <p:cNvPr id="114" name=""/>
            <p:cNvSpPr/>
            <p:nvPr/>
          </p:nvSpPr>
          <p:spPr>
            <a:xfrm>
              <a:off x="468360" y="1413000"/>
              <a:ext cx="2952720" cy="914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565720"/>
              <a:ext cx="2305080" cy="914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53080" y="3645000"/>
              <a:ext cx="2592360" cy="914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2720" y="162900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луховой рецепто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49800" y="2710080"/>
              <a:ext cx="208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водящий пу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26160" y="37897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увствительная  зона  КБ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3132720" y="1918800"/>
              <a:ext cx="865080" cy="43164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5364720" y="2998440"/>
              <a:ext cx="865080" cy="43164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троение ух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19080" y="1247760"/>
            <a:ext cx="91630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Строение и функции отделов ух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: Пользуясь учебником Драгомилов А.Г., Маш Р.Д. на стр. 203 -204 и рисунком форзаца учебника, заполните табл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11280" y="3573360"/>
          <a:ext cx="7924680" cy="2098800"/>
        </p:xfrm>
        <a:graphic>
          <a:graphicData uri="http://schemas.openxmlformats.org/drawingml/2006/table">
            <a:tbl>
              <a:tblPr/>
              <a:tblGrid>
                <a:gridCol w="2057040"/>
                <a:gridCol w="3011760"/>
                <a:gridCol w="285588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 у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0003"/>
                      </a:solidFill>
                    </a:lnL>
                    <a:lnR w="5760">
                      <a:solidFill>
                        <a:srgbClr val="400003"/>
                      </a:solidFill>
                    </a:lnR>
                    <a:lnT w="5760">
                      <a:solidFill>
                        <a:srgbClr val="400003"/>
                      </a:solidFill>
                    </a:lnT>
                    <a:lnB w="5760">
                      <a:solidFill>
                        <a:srgbClr val="40000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7T14:03:00Z</dcterms:created>
  <dc:creator>Белоногов</dc:creator>
  <dc:description/>
  <dc:language>en-US</dc:language>
  <cp:lastModifiedBy>КарМаН</cp:lastModifiedBy>
  <dcterms:modified xsi:type="dcterms:W3CDTF">2011-05-11T11:26:30Z</dcterms:modified>
  <cp:revision>26</cp:revision>
  <dc:subject/>
  <dc:title>Слайд 1</dc:title>
</cp:coreProperties>
</file>