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143-E8DF-4C37-BCCB-A09781D6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2FE-586B-4994-BD8C-30F1E8E8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F8A-10BA-4B6F-AFA6-6707429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46F-F46D-4974-A20A-5A55589C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0DE5-A64D-42C0-8B28-464A6E0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B54-7687-492F-B870-5BA0DD71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CE8-F9ED-4E92-8924-5A339F3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997-1C49-4B54-A34B-C41F7E0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396C-BA06-4B60-A1D4-0C4EC3C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5181-C831-4CDB-99E4-435B3BE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E370-0646-4B7F-BC0C-C351978F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8D7-CC3C-43B9-85BD-6BA48B2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412E-A881-4783-BDEC-2824C5F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A82D-1801-4847-BF35-39A0354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79AE-02B3-4FDB-A8A1-BFED5B2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B16-748D-48D0-B03E-88B15EE3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A42-59A2-4E61-A28E-8D1AB2FD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B66-1689-4E39-9874-D7887257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8A5-D7C1-4635-A870-88190E5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49E-A646-4B64-84F5-03C95ED9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7C2-54EA-4BA7-9886-DD81547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828-9627-410D-8B05-CF0A707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189-1581-4E58-BDBC-3655C44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242-A1B1-4BEF-BFA3-20AE1D1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148-236E-477B-B829-8839126F4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0E0B-08BD-43C0-81EF-0063E3E75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96000" y="-3380040"/>
            <a:ext cx="1443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01640"/>
            <a:ext cx="792000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к урок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луховой анализато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гиена слуха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19280" y="476280"/>
            <a:ext cx="504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логия 8 клас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437000"/>
            <a:ext cx="460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а учителем биологии М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 д.Городище Нем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сихиной Татьяной Александ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484280"/>
          <a:ext cx="7924680" cy="43434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ная раковина, наруж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ой проход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нчивающий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ой перепон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(выделение с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вливание и проведение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косточ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лот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оваль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емеч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очки проводят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ва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бания в 50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внивание давления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ух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ух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двер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вально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е окна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т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рецепторы ули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у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ы в нер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ы, которые идут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Гигиена органов слух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600200"/>
          <a:ext cx="3886200" cy="3603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ждение слухового нер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серной про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резкие звуки (взры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громкие шу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родные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генные микроорганиз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1600200"/>
          <a:ext cx="3886200" cy="3952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3280" y="1989000"/>
          <a:ext cx="3889440" cy="71928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импульсов в 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43280" y="2708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звуковых колебаний к внутреннему у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643280" y="3284640"/>
          <a:ext cx="3886200" cy="4316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643280" y="3716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эластичности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43280" y="4292640"/>
          <a:ext cx="3886200" cy="936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к среднего 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реднего уха (от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и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48040" y="66600"/>
            <a:ext cx="7095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Вредное влияние шума на слух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абанная перепонка постепенно теряет свою эластичность, развивается глух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вызывает торможение в клетках коры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может вызывать разнообразные физиологические (усиленное сердцебиение, повышение давления) и психические (ослабление внимания, нервозность) нару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0" y="-373968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 правому уху испытуемого, который сидит с закрытыми глазами, приближают наручные часы. Фиксируется расстояние, на котором тиканье часов он услыш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налогичный опыт проводится с левым ухом. (Нормальным считается расстояние 10-15 с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ле прослушивания громкой музыки в течение 2 мин., а затем опыт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равнить полученные результаты работы и объяснить их. Сделай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89000"/>
            <a:ext cx="81388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Лабораторная раб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 Воздействие шума на остроту слух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те в текст пропущенные слова: “Каждое ух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оит из трех отделов: ……., ……., 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ое ухо заканчивается …….  ……… В сре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хе находятся … …. Они передают зву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бания … … … внутреннего уха. Внутреннее ух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личие от предыдущих отделов, заполнено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нутреннем ухе находится преддверие, улит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Окончательный анализ звуковых разд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сходит в ………... зоне коры больших полуша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ный человек не станет громко …….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х ме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к, орган слуха предназначен для восприятия звуковых раздражителей. В библии в «Притче о сеятеле» есть такая фраза: «Кто имеет уши слышать, да слышат!» Каков смысл этого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ова же роль слухового анализатора (ушей) в общении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то понимают под понятием «слышать»? Всегда ли мы «слышим» друг друга? Что нужно, чтобы один человек мог услышать друг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се ли свои цели, поставленные на урок, вы реализо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54, стр.80-82 учеб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умайте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ры вы можете предложить, чтобы уменьшить воздействие шума на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ухода за уш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ведении опыта со взрывом водорода рекомендуют открывать рот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05560" y="4581360"/>
            <a:ext cx="14432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0" y="-366696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«Самая большая роскошь на земл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роскошь человеческого общ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Антуан де Сент-Экзюпе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гомилов А.Г., Маш Р.Д .Биология: Человек: Учебник для учащихся 8 класса общеобразовательных учреждений. - 2-е изд., переработ. - М.: Вентана-Граф, 2005. - 272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ск: Просвещение  Биология. 9 класс Анатомия и физиология человека/ мультимедийное учебное пособие нового образца.- М., Просвещение-МЕДИА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то бы вы хотели у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ему бы вы хотели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чем вам это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333360"/>
            <a:ext cx="568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вы ваши цел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8000" y="1557360"/>
            <a:ext cx="288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Что такое анализа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з чего он состо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ие части образуют зрительный анализа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260280"/>
            <a:ext cx="57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4005360"/>
            <a:ext cx="16016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8450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ое значение в жизни человека имеют слух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65880" y="981000"/>
            <a:ext cx="3678120" cy="551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19280" y="3997440"/>
            <a:ext cx="4248000" cy="2860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слух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лух способствует эстетическому воспитанию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является каналом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участвует в передаче и накоплении знаний, накопленных челове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слухового анализатор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8360" y="1413000"/>
            <a:ext cx="7777080" cy="3146400"/>
            <a:chOff x="468360" y="1413000"/>
            <a:chExt cx="7777080" cy="3146400"/>
          </a:xfrm>
        </p:grpSpPr>
        <p:sp>
          <p:nvSpPr>
            <p:cNvPr id="114" name=""/>
            <p:cNvSpPr/>
            <p:nvPr/>
          </p:nvSpPr>
          <p:spPr>
            <a:xfrm>
              <a:off x="468360" y="1413000"/>
              <a:ext cx="295272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565720"/>
              <a:ext cx="230508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53080" y="3645000"/>
              <a:ext cx="259236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1629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луховой рецепт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9800" y="27100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одящий пу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37897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увствительная  зона  КБ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132720" y="191880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5364720" y="299844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ух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80" y="1247760"/>
            <a:ext cx="9163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ользуясь учебником Драгомилов А.Г., Маш Р.Д. на стр. 203 -204 и рисунком форзаца учебника, заполните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3573360"/>
          <a:ext cx="7924680" cy="20988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4:03:00Z</dcterms:created>
  <dc:creator>Белоногов</dc:creator>
  <dc:description/>
  <dc:language>en-US</dc:language>
  <cp:lastModifiedBy>КарМаН</cp:lastModifiedBy>
  <dcterms:modified xsi:type="dcterms:W3CDTF">2011-05-11T11:26:30Z</dcterms:modified>
  <cp:revision>26</cp:revision>
  <dc:subject/>
  <dc:title>Слайд 1</dc:title>
</cp:coreProperties>
</file>