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6.png" ContentType="image/png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png" ContentType="image/pn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9730-3047-44A7-9631-DBB5A2713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B613-B3C6-4911-A201-90FCA52F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C36F-C7C7-4473-8348-FE5878B5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B9BB-F397-4FFC-ADDD-AB08F5912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904C-FC17-4DB4-A7B5-694EC1216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FEA1-D898-4061-AFC0-098A786B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AB16-852E-42EC-A095-36CF5ECD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1B2C-E60C-495C-ACCB-05B21DE3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90D1-0A60-42F7-BF75-C2DD39D5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7C6E-52CA-441D-8ED6-5DFF0457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6E66-B824-4C29-A99F-C5201DE4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E516-4E98-4D72-8362-4EF2D65B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86E3-43A0-4D3A-990C-9CFB6BE7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F730-B1D7-4C7A-B250-A74E78F2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7633-4817-4FBA-AE85-E5D12459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740A-44F1-4699-B8A6-2C58B8F9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CBD9-D513-4244-A708-BDE011DE0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A9FF-0DDE-47BE-835E-364F5873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0B9D-0A94-4A65-8850-E6640203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F722-CDB3-422C-B0BD-39AC21DD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B723-CEC1-4609-A740-71E06BB8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60CA-8A8A-455F-B2A4-9F6B9333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BEA2-FBB9-453A-ADAA-9BF76F2D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35B6-CCAC-4ABC-A420-F46E6082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4295-7B20-482E-A2AB-2B4399EAC0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F420-1F26-45BB-BAB7-BF318D95FD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396000" y="-3380040"/>
            <a:ext cx="14436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0" y="6308280"/>
            <a:ext cx="6984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601640"/>
            <a:ext cx="7920000" cy="377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зентация к уроку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Слуховой анализатор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игиена слуха.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619280" y="476280"/>
            <a:ext cx="5049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иология 8 клас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4360" y="4437000"/>
            <a:ext cx="4608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лена учителем биологии МО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Ш д.Городище Немского рай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ровск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ссихиной Татьяной Александро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40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Строение и функции отделов ух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84360" y="1484280"/>
          <a:ext cx="7924680" cy="4343400"/>
        </p:xfrm>
        <a:graphic>
          <a:graphicData uri="http://schemas.openxmlformats.org/drawingml/2006/table">
            <a:tbl>
              <a:tblPr/>
              <a:tblGrid>
                <a:gridCol w="2057040"/>
                <a:gridCol w="3011760"/>
                <a:gridCol w="2855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и у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  <a:tr h="1067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ж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шная раковина, наруж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ховой проход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анчивающий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абанной перепон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щита (выделение сер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авливание и проведение зву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ховые косточк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олоточ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коваль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тремеч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встахиева труб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067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очки проводят 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067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иливают звуков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067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ебания в 50 ра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067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встахиева труба –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067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внивание давления 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067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м ух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еннее ухо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двер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овальное 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е окна)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ит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ховые рецепторы улит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образуют звуков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гналы в нервн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пульсы, которые идут 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ховую зону КБ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Гигиена органов слуха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09480" y="1600200"/>
          <a:ext cx="3886200" cy="360360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  <a:tr h="71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реждение слухового нер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 серной проб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ые резкие звуки (взры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е громкие шу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родные т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генные микроорганиз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648320" y="1600200"/>
          <a:ext cx="3886200" cy="39528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643280" y="1989000"/>
          <a:ext cx="3889440" cy="719280"/>
        </p:xfrm>
        <a:graphic>
          <a:graphicData uri="http://schemas.openxmlformats.org/drawingml/2006/table">
            <a:tbl>
              <a:tblPr/>
              <a:tblGrid>
                <a:gridCol w="388944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передачи импульсов в слуховую зону КБ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643280" y="2708280"/>
          <a:ext cx="3886200" cy="57960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передачи звуковых колебаний к внутреннему ух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643280" y="3284640"/>
          <a:ext cx="3886200" cy="43164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ыв барабанной перепон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643280" y="3716280"/>
          <a:ext cx="3886200" cy="57960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ижение эластичности барабанной перепон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643280" y="4292640"/>
          <a:ext cx="3886200" cy="93672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ек среднего ух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аление среднего уха (оти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ит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048040" y="66600"/>
            <a:ext cx="709596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Вредное влияние шума на слух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рабанная перепонка постепенно теряет свою эластичность, развивается глухо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ум вызывает торможение в клетках коры головного мозг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ум может вызывать разнообразные физиологические (усиленное сердцебиение, повышение давления) и психические (ослабление внимания, нервозность) наруш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0" y="-3739680"/>
            <a:ext cx="10800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569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К правому уху испытуемого, который сидит с закрытыми глазами, приближают наручные часы. Фиксируется расстояние, на котором тиканье часов он услыш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Аналогичный опыт проводится с левым ухом. (Нормальным считается расстояние 10-15 см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После прослушивания громкой музыки в течение 2 мин., а затем опыт повтор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Сравнить полученные результаты работы и объяснить их. Сделайте выв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0920" y="189000"/>
            <a:ext cx="8138880" cy="96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Лабораторная работа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" Воздействие шума на остроту слуха"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9528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Проверка первичного усвоения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39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тавьте в текст пропущенные слова: “Каждое ух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оит из трех отделов: ……., ……., ……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жное ухо заканчивается …….  ……… В средн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хе находятся … …. Они передают звуков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ебания … … … внутреннего уха. Внутреннее ух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тличие от предыдущих отделов, заполнено………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внутреннем ухе находится преддверие, улитк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 Окончательный анализ звуковых раздраж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исходит в ………... зоне коры больших полушар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спитанный человек не станет громко ……..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ственных мес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дведем итог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так, орган слуха предназначен для восприятия звуковых раздражителей. В библии в «Притче о сеятеле» есть такая фраза: «Кто имеет уши слышать, да слышат!» Каков смысл этого выраж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Какова же роль слухового анализатора (ушей) в общении люд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Что понимают под понятием «слышать»? Всегда ли мы «слышим» друг друга? Что нужно, чтобы один человек мог услышать друго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дведем итог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Все ли свои цели, поставленные на урок, вы реализов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граф 54, стр.80-82 учеб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одумайте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меры вы можете предложить, чтобы уменьшить воздействие шума на челов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ила ухода за уш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Проверка первичного усвоени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проведении опыта со взрывом водорода рекомендуют открывать рот.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05560" y="4581360"/>
            <a:ext cx="144324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0" y="-3666960"/>
            <a:ext cx="10800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99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«Самая большая роскошь на земле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роскошь человеческого общ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3200" spc="-1" strike="noStrike">
                <a:solidFill>
                  <a:srgbClr val="6666cc"/>
                </a:solidFill>
                <a:latin typeface="Arial"/>
              </a:rPr>
              <a:t>Антуан де Сент-Экзюпер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Использованные ресурс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агомилов А.Г., Маш Р.Д .Биология: Человек: Учебник для учащихся 8 класса общеобразовательных учреждений. - 2-е изд., переработ. - М.: Вентана-Граф, 2005. - 272 с.: 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люстрации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иск: Просвещение  Биология. 9 класс Анатомия и физиология человека/ мультимедийное учебное пособие нового образца.- М., Просвещение-МЕДИА,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что бы вы хотели узн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чему бы вы хотели науч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зачем вам это над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58920" y="333360"/>
            <a:ext cx="56894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ковы ваши цели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56360" y="4365720"/>
            <a:ext cx="187164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468000" y="1557360"/>
            <a:ext cx="28872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Что такое анализато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Из чего он состои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Какие части образуют зрительный анализато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7280" y="260280"/>
            <a:ext cx="5759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ы</a:t>
            </a:r>
            <a:endParaRPr b="0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434280" y="4005360"/>
            <a:ext cx="160164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2845080" cy="36003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Какое значение в жизни человека имеют слух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465880" y="981000"/>
            <a:ext cx="3678120" cy="5516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619280" y="3997440"/>
            <a:ext cx="4248000" cy="2860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начение слуха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слух способствует эстетическому воспитанию челове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является каналом общ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участвует в передаче и накоплении знаний, накопленных челове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997360"/>
            <a:ext cx="5148360" cy="36576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337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Строение слухового анализатора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68360" y="1413000"/>
            <a:ext cx="7777080" cy="3146400"/>
            <a:chOff x="468360" y="1413000"/>
            <a:chExt cx="7777080" cy="3146400"/>
          </a:xfrm>
        </p:grpSpPr>
        <p:sp>
          <p:nvSpPr>
            <p:cNvPr id="114" name=""/>
            <p:cNvSpPr/>
            <p:nvPr/>
          </p:nvSpPr>
          <p:spPr>
            <a:xfrm>
              <a:off x="468360" y="1413000"/>
              <a:ext cx="2952720" cy="9144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565720"/>
              <a:ext cx="2305080" cy="9144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53080" y="3645000"/>
              <a:ext cx="2592360" cy="9144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2720" y="1629000"/>
              <a:ext cx="25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луховой рецепто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49800" y="2710080"/>
              <a:ext cx="208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роводящий пу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26160" y="3789720"/>
              <a:ext cx="230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Чувствительная  зона  КБ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3132720" y="1918800"/>
              <a:ext cx="865080" cy="431640"/>
            </a:xfrm>
            <a:custGeom>
              <a:avLst/>
              <a:gdLst>
                <a:gd name="textAreaLeft" fmla="*/ 0 w 865080"/>
                <a:gd name="textAreaRight" fmla="*/ 865440 w 8650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5364720" y="2998440"/>
              <a:ext cx="865080" cy="431640"/>
            </a:xfrm>
            <a:custGeom>
              <a:avLst/>
              <a:gdLst>
                <a:gd name="textAreaLeft" fmla="*/ 0 w 865080"/>
                <a:gd name="textAreaRight" fmla="*/ 865440 w 8650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троение ух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19080" y="1247760"/>
            <a:ext cx="916308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26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Строение и функции отделов ух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: Пользуясь учебником Драгомилов А.Г., Маш Р.Д. на стр. 203 -204 и рисунком форзаца учебника, заполните табли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11280" y="3573360"/>
          <a:ext cx="7924680" cy="2098800"/>
        </p:xfrm>
        <a:graphic>
          <a:graphicData uri="http://schemas.openxmlformats.org/drawingml/2006/table">
            <a:tbl>
              <a:tblPr/>
              <a:tblGrid>
                <a:gridCol w="2057040"/>
                <a:gridCol w="3011760"/>
                <a:gridCol w="2855880"/>
              </a:tblGrid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и у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  <a:tr h="14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7T14:03:00Z</dcterms:created>
  <dc:creator>Белоногов</dc:creator>
  <dc:description/>
  <dc:language>en-US</dc:language>
  <cp:lastModifiedBy>КарМаН</cp:lastModifiedBy>
  <dcterms:modified xsi:type="dcterms:W3CDTF">2011-05-11T11:26:30Z</dcterms:modified>
  <cp:revision>26</cp:revision>
  <dc:subject/>
  <dc:title>Слайд 1</dc:title>
</cp:coreProperties>
</file>