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65C-403E-4A9E-8E02-E44754F4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040-9849-44C1-945B-3E611236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4D5-0E89-4311-B1BF-F223CF71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401-19D5-4268-B9D3-EC81408D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AE3-BE79-4A34-9E63-93E02591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4E67-448F-4A93-90A8-BEC873A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059-686C-4B03-9BE6-9B36B3BE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C582-3961-4629-A970-8CADEA8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43E1-3375-44BB-9776-095FA87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B547-9657-4E06-9348-EFC763A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51A-C75E-45CB-8B6E-7987B52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691-C368-44CB-83BA-8A7A9AF7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F65-8D5B-4AD6-B6E5-3BC41CD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268-570A-4319-801C-B35FD48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2C93-0B55-42F2-AEAA-A39024FB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A45A-1206-43D6-9FC4-3D86D5E6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801B-3479-4814-A694-C8A814D1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856-5DD4-4F59-8CA7-E64A339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7B7-FAD7-417C-90FF-CE2244E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6F2-2CEA-4FB2-B197-0D00FAA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1EA-BD5D-49B8-9F98-887A4E2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CB0-718A-409D-B826-AB39700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30F-10D1-434F-989D-1BA1586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F1D-1542-4FEE-A992-55821DA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A5DA37-D3FA-43BF-AE41-56CB279946B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56F2CE-5F70-4771-8E85-4545EA60475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04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cap="all">
                <a:solidFill>
                  <a:srgbClr val="ffff00"/>
                </a:solidFill>
                <a:latin typeface="Times New Roman"/>
              </a:rPr>
              <a:t>Ситуация успеха на уроках математики как средство повышения качества образования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80240" y="5358600"/>
            <a:ext cx="640044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chemeClr val="accent3"/>
                </a:solidFill>
                <a:latin typeface="Times New Roman"/>
              </a:rPr>
              <a:t>Меняются времена, но не меняются задачи учителя: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78652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0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ать учащимся прочные и глубокие знания по предмету; </a:t>
            </a:r>
            <a:br>
              <a:rPr sz="3200"/>
            </a:br>
            <a:r>
              <a:rPr b="0" lang="ru-RU" sz="3200" spc="-1" strike="noStrike">
                <a:solidFill>
                  <a:srgbClr val="3ede5c"/>
                </a:solidFill>
                <a:latin typeface="Times New Roman"/>
              </a:rPr>
              <a:t>• содействовать творческому развитию каждого ученика как на уроке, так и вне урока; </a:t>
            </a:r>
            <a:br>
              <a:rPr sz="3200"/>
            </a:br>
            <a:r>
              <a:rPr b="0" lang="ru-RU" sz="3200" spc="-1" strike="noStrike">
                <a:solidFill>
                  <a:schemeClr val="accent5"/>
                </a:solidFill>
                <a:latin typeface="Times New Roman"/>
              </a:rPr>
              <a:t>• вызвать у ребенка интерес к знаниям, научить его иметь собственное мнение; </a:t>
            </a: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• воспитывать у детей самостоятельность, любознательность, честность, личную инициативу, веру в себя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стать им другом, раскрыть богатство их душ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00" strike="noStrike">
                <a:solidFill>
                  <a:srgbClr val="00b0f0"/>
                </a:solidFill>
                <a:latin typeface="Monotype Corsiva"/>
              </a:rPr>
              <a:t>Спасибо за внимание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0" name="Рисунок 3" descr="44"/>
          <p:cNvPicPr/>
          <p:nvPr/>
        </p:nvPicPr>
        <p:blipFill>
          <a:blip r:embed="rId1"/>
          <a:stretch/>
        </p:blipFill>
        <p:spPr>
          <a:xfrm>
            <a:off x="428760" y="4929120"/>
            <a:ext cx="8714880" cy="1257120"/>
          </a:xfrm>
          <a:prstGeom prst="rect">
            <a:avLst/>
          </a:prstGeom>
          <a:ln w="9525">
            <a:noFill/>
          </a:ln>
        </p:spPr>
      </p:pic>
      <p:pic>
        <p:nvPicPr>
          <p:cNvPr id="131" name="Содержимое 5" descr="44"/>
          <p:cNvPicPr/>
          <p:nvPr/>
        </p:nvPicPr>
        <p:blipFill>
          <a:blip r:embed="rId2"/>
          <a:stretch/>
        </p:blipFill>
        <p:spPr>
          <a:xfrm>
            <a:off x="1500120" y="3214800"/>
            <a:ext cx="692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132" name="Рисунок 14" descr="44"/>
          <p:cNvPicPr/>
          <p:nvPr/>
        </p:nvPicPr>
        <p:blipFill>
          <a:blip r:embed="rId3"/>
          <a:stretch/>
        </p:blipFill>
        <p:spPr>
          <a:xfrm>
            <a:off x="2428920" y="1928880"/>
            <a:ext cx="4357440" cy="42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00" strike="noStrike">
                <a:solidFill>
                  <a:schemeClr val="accent2"/>
                </a:solidFill>
                <a:latin typeface="Times New Roman"/>
              </a:rPr>
              <a:t>Формы обучения: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714240"/>
            <a:ext cx="7772040" cy="56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ешние формы организации обучени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ции, семинары, практикумы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утренние формы организации обучения –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, занятие по углублению и совершенствованию ЗУН, практическое занятие, занятие по обобщению и систематизации знаний, занятие по контролю ЗУН, комбинированная форма организации обучения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общие формы организации обучения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ое  взаимодействие  «учитель – ученик», «ученик – ученик», фронтальная, групповая и индивидуальная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ffff00"/>
                </a:solidFill>
                <a:latin typeface="Times New Roman"/>
              </a:rPr>
              <a:t>Задачи,  стоящие  перед  учителем математики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04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йти от перегрузки учащихся, особенно в старших классах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овысить качество усвоения изучаемого материал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3000" spc="-1" strike="noStrike">
                <a:solidFill>
                  <a:schemeClr val="accent2"/>
                </a:solidFill>
                <a:latin typeface="Times New Roman"/>
              </a:rPr>
              <a:t>на каждом уроке создавать ситуацию успеха для каждого ученик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развивать логическое мышление и грамотную математическую речь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силить практическую ориентацию школьных знаний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готовить учащихся к жизни и работе в коллективе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риобщить детей к здоровому образу жизни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148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000" spc="-100" strike="noStrike">
                <a:solidFill>
                  <a:srgbClr val="d6ecff"/>
                </a:solidFill>
                <a:latin typeface="Times New Roman"/>
              </a:rPr>
              <a:t>С педагогической точки зрения </a:t>
            </a:r>
            <a:r>
              <a:rPr b="1" i="1" lang="ru-RU" sz="4400" spc="-100" strike="noStrike">
                <a:solidFill>
                  <a:srgbClr val="d6ecff"/>
                </a:solidFill>
                <a:latin typeface="Times New Roman"/>
              </a:rPr>
              <a:t>ситуация успеха</a:t>
            </a:r>
            <a:endParaRPr b="0" lang="ru-RU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такое целенаправленное, организованное сочетание условий, при которых создается возможность достичь значительных результатов в деятельности как отдельно взятой личности, так и коллектива в целом.  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Лестница Успеха</a:t>
            </a: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1b6ff"/>
                </a:solidFill>
                <a:latin typeface="Times New Roman"/>
              </a:rPr>
              <a:t>потребность – мотив – цель – действие – рефлексия.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cc00ff"/>
                </a:solidFill>
                <a:latin typeface="Times New Roman"/>
              </a:rPr>
              <a:t>Элементы успеха:</a:t>
            </a:r>
            <a:br>
              <a:rPr sz="4000"/>
            </a:b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7148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d9d9d9"/>
                </a:solidFill>
                <a:latin typeface="Times New Roman"/>
              </a:rPr>
              <a:t>охрана физического и психологического здоровья ребенка, его  психологическая защита, создание комфорта и удовлетворение потребности в эмоциональном общении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4bcca"/>
                </a:solidFill>
                <a:latin typeface="Times New Roman"/>
              </a:rPr>
              <a:t>направленность педагогического процесса на интеллектуальное, личностное развитие в зависимости от возрастных особенностей и индивидуальных склонностей и способностей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fbfbf"/>
                </a:solidFill>
                <a:latin typeface="Times New Roman"/>
              </a:rPr>
              <a:t>развитие базиса личностной культуры, основанной на общечеловеческих духовных ценностях, уважении прав и свобод других людей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bfbfbf"/>
                </a:solidFill>
                <a:latin typeface="Times New Roman"/>
              </a:rPr>
              <a:t>Атмосфера урока: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714880" cy="59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73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заинтересованность каждого ученика в учебном процессе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озможность высказываться на уроке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ыбирать собственный путь при решении  математической задачи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меть отбирать наиболее оптимальные пути решения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чить творчеству, выбору разнообразных видов деятельности.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007eea"/>
                </a:solidFill>
                <a:latin typeface="Times New Roman"/>
              </a:rPr>
              <a:t>Способы оживления урока: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57232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увлеченное преподавание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новизна учебного материала, историзм, связь знаний с судьбами людей, их открывшимис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показ практического применения знаний; 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использование новых и нетрадиционных форм обучени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чередования форм и методов обучения, проблемное  обучение, эвристическое,  обучение с компьютерной поддержкой; взаимообучение (в парах, микрогруппах)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тестирование знаний, умений, показ достижений обучаемых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создание ситуаций успеха, соревнование (с товарищами по классу, самим собой), создание положительного микроклимата в классе, доверие к обучаемому, педагогический такт и мастерство педагога, отношение педагога к своему предмету, к обучаемым и т.д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0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66ff33"/>
                </a:solidFill>
                <a:latin typeface="Times New Roman"/>
              </a:rPr>
              <a:t>Создание ситуации успеха на уроке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3577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Первое обязательное условие –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атмосфера доброжелательно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лассе на протяжении всего урока. (Слагаемые доброжелательности: улыбка, добрый взгляд, внимание к друг другу, интерес к каждому, приветливость, расположенность, мягкие жесты.)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торое условие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нятие страх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авансирование детей перед тем, как они приступят к реализации поставленной задачи. Авансировать успех - значит объявить о положительных результатах до того, как они получены.  Данная операция увеличивает меру уверенности в себе ребенка, повышает активность и его свободу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Ключевой момент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высокая мотивация предлагаемых действ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о имя чего? Ради чего? Зачем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nsolas"/>
              </a:rPr>
              <a:t>4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. </a:t>
            </a:r>
            <a:r>
              <a:rPr b="0" lang="ru-RU" sz="2800" spc="-100" strike="noStrike">
                <a:solidFill>
                  <a:srgbClr val="cc00ff"/>
                </a:solidFill>
                <a:latin typeface="Times New Roman"/>
              </a:rPr>
              <a:t>Реальная помощь в продвижении к успеху — </a:t>
            </a:r>
            <a:r>
              <a:rPr b="0" lang="ru-RU" sz="2800" spc="-100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Times New Roman"/>
              </a:rPr>
              <a:t>скрытая инструкция деятельности, 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посылаемая субъекту для инициирования мыслительного образа предстоящей деятельности и пути ее выполнения.</a:t>
            </a:r>
            <a:br>
              <a:rPr sz="2400"/>
            </a:b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428920"/>
            <a:ext cx="777204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5. Краткое экспрессивное воздействие —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ое внушение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,  собранное в яркий фокус.  (За дело!  Приступаем!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ая поддержка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в процессе выполнения работы (краткие реплики или мимические жесты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  Оценивание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— оценка не производится в целом, она не произносится «сверху», она ставит акцент на деталях выполненной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387</TotalTime>
  <Application>LibreOffice/7.4.7.2$Linux_X86_64 LibreOffice_project/40$Build-2</Application>
  <AppVersion>15.0000</AppVersion>
  <Words>56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5:49:19Z</dcterms:modified>
  <cp:revision>42</cp:revision>
  <dc:subject/>
  <dc:title>«Ситуация успеха на уроках математики как средство повышения качества образован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