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7DA-C8E6-4033-9836-CBF4FEBF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2DF-905A-4D80-ABBB-15C4D31D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401-E298-44D9-A49E-A9626BB1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42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7004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14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542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7004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947-2C38-446F-9422-7BE98434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7A5D-D955-4D7C-92C9-7018AC04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C551-6983-4EA1-BC0E-5802F822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A1F1-36BE-4988-8FEC-804C63DC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C665-FFC2-43E9-A434-A58E4D9F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DB63-A9D9-45A0-AC89-19092443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1920"/>
            <a:ext cx="7772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91B8-3A73-4E86-90BF-91FADEB3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BDB4-52CD-4D43-8554-E8AB9ACE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753-46F9-4030-ABAC-0ED2E84A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D04C-B4AD-40FF-A1D9-69EEA1F1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9347-6073-4B61-A02C-863DB0EE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D00F-E648-4930-B81F-5C2E6D1B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E170-6EF4-46DF-9BC9-125424C9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0D8D-F688-41C6-A6C3-729391A6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2F6-7681-4A4B-9D1A-419C7746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87D-BEBF-4B23-BDFF-8C74FEF0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C60E-CFB3-413B-809F-2495960B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14400" y="511920"/>
            <a:ext cx="7772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CE1-3765-4000-89A9-15003AA2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E67-16C5-448E-8F6F-09A1987F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7DC-417C-43D8-B6C9-8D92C0CE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FE9-A4AE-462D-91FF-8E2B5D70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 hidden="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" name="Прямоугольник 7" hidden="1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" name="Прямоугольник 8" hidden="1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" name="Прямоугольник 10" hidden="1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" name="Прямоугольник 11" hidden="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" name="Прямоугольник 14" hidden="1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7" name="Прямоугольник 15" hidden="1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8" name="Прямоугольник 16" hidden="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70C2280-F614-4600-B416-29B224CA663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Прямоугольник 3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3" name="Прямоугольник 38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4" name="Прямоугольник 39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5" name="Прямоугольник 40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6" name="Прямоугольник 4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0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Прямоугольник 55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9" name="Прямоугольник 64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0" name="Прямоугольник 65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1" name="Прямоугольник 66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6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5" name="Прямоугольник 14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6" name="Прямоугольник 15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7" name="Прямоугольник 16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740520" indent="-285840">
              <a:lnSpc>
                <a:spcPct val="100000"/>
              </a:lnSpc>
              <a:spcBef>
                <a:spcPts val="519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lnSpc>
                <a:spcPct val="100000"/>
              </a:lnSpc>
              <a:spcBef>
                <a:spcPts val="479"/>
              </a:spcBef>
              <a:buClr>
                <a:srgbClr val="ea157a"/>
              </a:buClr>
              <a:buFont typeface="Wingdings 2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3" marL="1261800" indent="-228600">
              <a:lnSpc>
                <a:spcPct val="100000"/>
              </a:lnSpc>
              <a:spcBef>
                <a:spcPts val="439"/>
              </a:spcBef>
              <a:buClr>
                <a:srgbClr val="feb80a"/>
              </a:buClr>
              <a:buFont typeface="Wingdings 3" charset="2"/>
              <a:buChar char="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4" marL="1481400" indent="-21024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6CB035D-ACDB-4815-830E-67354DD9560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040" cy="42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 cap="all">
                <a:solidFill>
                  <a:srgbClr val="ffff00"/>
                </a:solidFill>
                <a:latin typeface="Times New Roman"/>
              </a:rPr>
              <a:t>Ситуация успеха на уроках математики как средство повышения качества образования</a:t>
            </a:r>
            <a:endParaRPr b="0" lang="ru-RU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80240" y="5358600"/>
            <a:ext cx="640044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5000" anchor="b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04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00" strike="noStrike">
                <a:solidFill>
                  <a:schemeClr val="accent3"/>
                </a:solidFill>
                <a:latin typeface="Times New Roman"/>
              </a:rPr>
              <a:t>Меняются времена, но не меняются задачи учителя: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786520" cy="514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40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дать учащимся прочные и глубокие знания по предмету; </a:t>
            </a:r>
            <a:br>
              <a:rPr sz="3200"/>
            </a:br>
            <a:r>
              <a:rPr b="0" lang="ru-RU" sz="3200" spc="-1" strike="noStrike">
                <a:solidFill>
                  <a:srgbClr val="3ede5c"/>
                </a:solidFill>
                <a:latin typeface="Times New Roman"/>
              </a:rPr>
              <a:t>• содействовать творческому развитию каждого ученика как на уроке, так и вне урока; </a:t>
            </a:r>
            <a:br>
              <a:rPr sz="3200"/>
            </a:br>
            <a:r>
              <a:rPr b="0" lang="ru-RU" sz="3200" spc="-1" strike="noStrike">
                <a:solidFill>
                  <a:schemeClr val="accent5"/>
                </a:solidFill>
                <a:latin typeface="Times New Roman"/>
              </a:rPr>
              <a:t>• вызвать у ребенка интерес к знаниям, научить его иметь собственное мнение; </a:t>
            </a:r>
            <a:br>
              <a:rPr sz="3200"/>
            </a:b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• воспитывать у детей самостоятельность, любознательность, честность, личную инициативу, веру в себя;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стать им другом, раскрыть богатство их душ.</a:t>
            </a: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6000" spc="-100" strike="noStrike">
                <a:solidFill>
                  <a:srgbClr val="00b0f0"/>
                </a:solidFill>
                <a:latin typeface="Monotype Corsiva"/>
              </a:rPr>
              <a:t>Спасибо за внимание</a:t>
            </a:r>
            <a:endParaRPr b="0" lang="ru-RU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0" name="Рисунок 3" descr="44"/>
          <p:cNvPicPr/>
          <p:nvPr/>
        </p:nvPicPr>
        <p:blipFill>
          <a:blip r:embed="rId1"/>
          <a:stretch/>
        </p:blipFill>
        <p:spPr>
          <a:xfrm>
            <a:off x="428760" y="4929120"/>
            <a:ext cx="8714880" cy="1257120"/>
          </a:xfrm>
          <a:prstGeom prst="rect">
            <a:avLst/>
          </a:prstGeom>
          <a:ln w="9525">
            <a:noFill/>
          </a:ln>
        </p:spPr>
      </p:pic>
      <p:pic>
        <p:nvPicPr>
          <p:cNvPr id="131" name="Содержимое 5" descr="44"/>
          <p:cNvPicPr/>
          <p:nvPr/>
        </p:nvPicPr>
        <p:blipFill>
          <a:blip r:embed="rId2"/>
          <a:stretch/>
        </p:blipFill>
        <p:spPr>
          <a:xfrm>
            <a:off x="1500120" y="3214800"/>
            <a:ext cx="6929280" cy="920520"/>
          </a:xfrm>
          <a:prstGeom prst="rect">
            <a:avLst/>
          </a:prstGeom>
          <a:ln w="9525">
            <a:noFill/>
          </a:ln>
        </p:spPr>
      </p:pic>
      <p:pic>
        <p:nvPicPr>
          <p:cNvPr id="132" name="Рисунок 14" descr="44"/>
          <p:cNvPicPr/>
          <p:nvPr/>
        </p:nvPicPr>
        <p:blipFill>
          <a:blip r:embed="rId3"/>
          <a:stretch/>
        </p:blipFill>
        <p:spPr>
          <a:xfrm>
            <a:off x="2428920" y="1928880"/>
            <a:ext cx="4357440" cy="428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00" strike="noStrike">
                <a:solidFill>
                  <a:schemeClr val="accent2"/>
                </a:solidFill>
                <a:latin typeface="Times New Roman"/>
              </a:rPr>
              <a:t>Формы обучения:</a:t>
            </a:r>
            <a:endParaRPr b="0" lang="ru-RU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714240"/>
            <a:ext cx="7772040" cy="56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внешние формы организации обучения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кции, семинары, практикумы;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внутренние формы организации обучения –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водное занятие, занятие по углублению и совершенствованию ЗУН, практическое занятие, занятие по обобщению и систематизации знаний, занятие по контролю ЗУН, комбинированная форма организации обучения;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общие формы организации обучения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муникативное  взаимодействие  «учитель – ученик», «ученик – ученик», фронтальная, групповая и индивидуальная работы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00" strike="noStrike">
                <a:solidFill>
                  <a:srgbClr val="ffff00"/>
                </a:solidFill>
                <a:latin typeface="Times New Roman"/>
              </a:rPr>
              <a:t>Задачи,  стоящие  перед  учителем математики: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214280"/>
            <a:ext cx="7772040" cy="514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уйти от перегрузки учащихся, особенно в старших классах,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повысить качество усвоения изучаемого материала,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1" lang="ru-RU" sz="3000" spc="-1" strike="noStrike">
                <a:solidFill>
                  <a:schemeClr val="accent2"/>
                </a:solidFill>
                <a:latin typeface="Times New Roman"/>
              </a:rPr>
              <a:t>на каждом уроке создавать ситуацию успеха для каждого ученика,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развивать логическое мышление и грамотную математическую речь,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усилить практическую ориентацию школьных знаний,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готовить учащихся к жизни и работе в коллективе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приобщить детей к здоровому образу жизни.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14840" cy="13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000" spc="-100" strike="noStrike">
                <a:solidFill>
                  <a:srgbClr val="d6ecff"/>
                </a:solidFill>
                <a:latin typeface="Times New Roman"/>
              </a:rPr>
              <a:t>С педагогической точки зрения </a:t>
            </a:r>
            <a:r>
              <a:rPr b="1" i="1" lang="ru-RU" sz="4400" spc="-100" strike="noStrike">
                <a:solidFill>
                  <a:srgbClr val="d6ecff"/>
                </a:solidFill>
                <a:latin typeface="Times New Roman"/>
              </a:rPr>
              <a:t>ситуация успеха</a:t>
            </a:r>
            <a:endParaRPr b="0" lang="ru-RU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320" y="1500120"/>
            <a:ext cx="83577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это такое целенаправленное, организованное сочетание условий, при которых создается возможность достичь значительных результатов в деятельности как отдельно взятой личности, так и коллектива в целом.  </a:t>
            </a: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  <a:p>
            <a:pPr marL="411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Times New Roman"/>
              </a:rPr>
              <a:t>Лестница Успеха</a:t>
            </a:r>
            <a:r>
              <a:rPr b="0" lang="ru-RU" sz="3600" spc="-1" strike="noStrike">
                <a:solidFill>
                  <a:srgbClr val="cc00ff"/>
                </a:solidFill>
                <a:latin typeface="Times New Roman"/>
              </a:rPr>
              <a:t>:</a:t>
            </a: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  <a:p>
            <a:pPr marL="411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1b6ff"/>
                </a:solidFill>
                <a:latin typeface="Times New Roman"/>
              </a:rPr>
              <a:t>потребность – мотив – цель – действие – рефлексия.</a:t>
            </a: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00" strike="noStrike">
                <a:solidFill>
                  <a:srgbClr val="cc00ff"/>
                </a:solidFill>
                <a:latin typeface="Times New Roman"/>
              </a:rPr>
              <a:t>Элементы успеха:</a:t>
            </a:r>
            <a:br>
              <a:rPr sz="4000"/>
            </a:br>
            <a:endParaRPr b="0" lang="ru-RU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71488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413280" indent="-344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</a:pPr>
            <a:r>
              <a:rPr b="0" lang="ru-RU" sz="3200" spc="-1" strike="noStrike">
                <a:solidFill>
                  <a:srgbClr val="d9d9d9"/>
                </a:solidFill>
                <a:latin typeface="Times New Roman"/>
              </a:rPr>
              <a:t>охрана физического и психологического здоровья ребенка, его  психологическая защита, создание комфорта и удовлетворение потребности в эмоциональном общении;</a:t>
            </a: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  <a:p>
            <a:pPr marL="413280" indent="-344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</a:pPr>
            <a:r>
              <a:rPr b="0" lang="ru-RU" sz="3200" spc="-1" strike="noStrike">
                <a:solidFill>
                  <a:srgbClr val="b4bcca"/>
                </a:solidFill>
                <a:latin typeface="Times New Roman"/>
              </a:rPr>
              <a:t>направленность педагогического процесса на интеллектуальное, личностное развитие в зависимости от возрастных особенностей и индивидуальных склонностей и способностей;</a:t>
            </a: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  <a:p>
            <a:pPr marL="413280" indent="-344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</a:pPr>
            <a:r>
              <a:rPr b="0" lang="ru-RU" sz="3200" spc="-1" strike="noStrike">
                <a:solidFill>
                  <a:srgbClr val="bfbfbf"/>
                </a:solidFill>
                <a:latin typeface="Times New Roman"/>
              </a:rPr>
              <a:t>развитие базиса личностной культуры, основанной на общечеловеческих духовных ценностях, уважении прав и свобод других людей.</a:t>
            </a: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9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00" strike="noStrike">
                <a:solidFill>
                  <a:srgbClr val="bfbfbf"/>
                </a:solidFill>
                <a:latin typeface="Times New Roman"/>
              </a:rPr>
              <a:t>Атмосфера урока:</a:t>
            </a:r>
            <a:endParaRPr b="0" lang="ru-RU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760" y="642960"/>
            <a:ext cx="8714880" cy="59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73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3320" indent="-311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заинтересованность каждого ученика в учебном процессе, </a:t>
            </a:r>
            <a:endParaRPr b="0" lang="ru-RU" sz="4300" spc="-1" strike="noStrike">
              <a:solidFill>
                <a:srgbClr val="ffffff"/>
              </a:solidFill>
              <a:latin typeface="Corbel"/>
            </a:endParaRPr>
          </a:p>
          <a:p>
            <a:pPr marL="373320" indent="-311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возможность высказываться на уроке,</a:t>
            </a:r>
            <a:endParaRPr b="0" lang="ru-RU" sz="4300" spc="-1" strike="noStrike">
              <a:solidFill>
                <a:srgbClr val="ffffff"/>
              </a:solidFill>
              <a:latin typeface="Corbel"/>
            </a:endParaRPr>
          </a:p>
          <a:p>
            <a:pPr marL="373320" indent="-311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 </a:t>
            </a: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выбирать собственный путь при решении  математической задачи, </a:t>
            </a:r>
            <a:endParaRPr b="0" lang="ru-RU" sz="4300" spc="-1" strike="noStrike">
              <a:solidFill>
                <a:srgbClr val="ffffff"/>
              </a:solidFill>
              <a:latin typeface="Corbel"/>
            </a:endParaRPr>
          </a:p>
          <a:p>
            <a:pPr marL="373320" indent="-311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уметь отбирать наиболее оптимальные пути решения,</a:t>
            </a:r>
            <a:endParaRPr b="0" lang="ru-RU" sz="4300" spc="-1" strike="noStrike">
              <a:solidFill>
                <a:srgbClr val="ffffff"/>
              </a:solidFill>
              <a:latin typeface="Corbel"/>
            </a:endParaRPr>
          </a:p>
          <a:p>
            <a:pPr marL="373320" indent="-311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 </a:t>
            </a: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учить творчеству, выбору разнообразных видов деятельности. </a:t>
            </a:r>
            <a:endParaRPr b="0" lang="ru-RU" sz="4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00" strike="noStrike">
                <a:solidFill>
                  <a:srgbClr val="007eea"/>
                </a:solidFill>
                <a:latin typeface="Times New Roman"/>
              </a:rPr>
              <a:t>Способы оживления урока:</a:t>
            </a:r>
            <a:br>
              <a:rPr sz="4000"/>
            </a:b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8760" y="642960"/>
            <a:ext cx="857232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увлеченное преподавание;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</a:rPr>
              <a:t>новизна учебного материала, историзм, связь знаний с судьбами людей, их открывшимися;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показ практического применения знаний; 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</a:rPr>
              <a:t>использование новых и нетрадиционных форм обучения;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чередования форм и методов обучения, проблемное  обучение, эвристическое,  обучение с компьютерной поддержкой; взаимообучение (в парах, микрогруппах);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</a:rPr>
              <a:t>тестирование знаний, умений, показ достижений обучаемых;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создание ситуаций успеха, соревнование (с товарищами по классу, самим собой), создание положительного микроклимата в классе, доверие к обучаемому, педагогический такт и мастерство педагога, отношение педагога к своему предмету, к обучаемым и т.д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50068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00" strike="noStrike">
                <a:solidFill>
                  <a:srgbClr val="66ff33"/>
                </a:solidFill>
                <a:latin typeface="Times New Roman"/>
              </a:rPr>
              <a:t>Создание ситуации успеха на уроке: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3577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Первое обязательное условие –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 атмосфера доброжелательност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лассе на протяжении всего урока. (Слагаемые доброжелательности: улыбка, добрый взгляд, внимание к друг другу, интерес к каждому, приветливость, расположенность, мягкие жесты.)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Второе условие — 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снятие страха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— авансирование детей перед тем, как они приступят к реализации поставленной задачи. Авансировать успех - значит объявить о положительных результатах до того, как они получены.  Данная операция увеличивает меру уверенности в себе ребенка, повышает активность и его свободу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Ключевой момент — 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высокая мотивация предлагаемых действ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во имя чего? Ради чего? Зачем?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00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Consolas"/>
              </a:rPr>
              <a:t>4</a:t>
            </a:r>
            <a:r>
              <a:rPr b="0" lang="ru-RU" sz="2800" spc="-100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. </a:t>
            </a:r>
            <a:r>
              <a:rPr b="0" lang="ru-RU" sz="2800" spc="-100" strike="noStrike">
                <a:solidFill>
                  <a:srgbClr val="cc00ff"/>
                </a:solidFill>
                <a:latin typeface="Times New Roman"/>
              </a:rPr>
              <a:t>Реальная помощь в продвижении к успеху — </a:t>
            </a:r>
            <a:r>
              <a:rPr b="0" lang="ru-RU" sz="2800" spc="-100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Times New Roman"/>
              </a:rPr>
              <a:t>скрытая инструкция деятельности, </a:t>
            </a:r>
            <a:r>
              <a:rPr b="0" lang="ru-RU" sz="2800" spc="-100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посылаемая субъекту для инициирования мыслительного образа предстоящей деятельности и пути ее выполнения.</a:t>
            </a:r>
            <a:br>
              <a:rPr sz="2400"/>
            </a:b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428920"/>
            <a:ext cx="777204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42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5. Краткое экспрессивное воздействие —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педагогическое внушение</a:t>
            </a: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,  собранное в яркий фокус.  (За дело!  Приступаем!)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2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6.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Педагогическая поддержка </a:t>
            </a: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в процессе выполнения работы (краткие реплики или мимические жесты)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2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7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.  Оценивание </a:t>
            </a: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— оценка не производится в целом, она не произносится «сверху», она ставит акцент на деталях выполненной работы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tro</Template>
  <TotalTime>387</TotalTime>
  <Application>LibreOffice/7.4.7.2$Linux_X86_64 LibreOffice_project/40$Build-2</Application>
  <AppVersion>15.0000</AppVersion>
  <Words>565</Words>
  <Paragraphs>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0T05:49:19Z</dcterms:modified>
  <cp:revision>42</cp:revision>
  <dc:subject/>
  <dc:title>«Ситуация успеха на уроках математики как средство повышения качества образования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