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B217-64D2-4D31-9DFD-1C8532E76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914400" y="417168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A5DD-F18B-47DB-9E1F-0A87F2B7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914400" y="4171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897080" y="4171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015F-A987-42A0-AD05-C3961B608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42400" y="1783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170040" y="1783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914400" y="41716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542400" y="41716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170040" y="41716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745F-4C5F-4F27-9352-5EA62C644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0D3E-1184-44D9-9C33-4FAAFEDCB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914400" y="17834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C9F4-7F63-4C77-A6E4-9A5D9FD7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E7231-70F2-4CE7-AF32-D6C69337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EFF8-D4C5-4D22-962B-8C8DA515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418A-85AB-4330-AF05-F9300557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914400" y="511920"/>
            <a:ext cx="77720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2203-DD0A-4826-9CA2-A304F31A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400" y="4171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B732-4A79-425D-BF57-3E60405D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914400" y="17834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778E-95B8-41B4-BB2D-28DB3287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897080" y="4171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02BB8-1987-43CF-9712-17EE79BE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14400" y="417168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41DD-F5FA-4427-B5C5-78A4AF39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914400" y="417168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D651-C6B0-4567-A4FA-03B15B4A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14400" y="4171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897080" y="4171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75808-4429-4919-9ADF-D173511E6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542400" y="1783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70040" y="1783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914400" y="41716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542400" y="41716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70040" y="41716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09B2-365E-4E16-94CC-0062EAB13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8FC5-6B57-4F0C-9A02-E603FAD3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2EFE-021E-4708-8555-89DC1D87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D11C-55AB-411A-8BE0-D7442593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914400" y="511920"/>
            <a:ext cx="77720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F52B-6F8E-4AF5-9986-D02D4F39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4171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785E-3CD6-4994-95C3-5C2DDDC5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897080" y="4171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5A65-4B07-47D7-9A79-85BA0497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914400" y="417168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0DB9-6B4F-4A8F-949B-5B7426FC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65000">
              <a:srgbClr val="000000"/>
            </a:gs>
            <a:gs pos="100000">
              <a:srgbClr val="5b77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 hidden="1"/>
          <p:cNvSpPr/>
          <p:nvPr/>
        </p:nvSpPr>
        <p:spPr>
          <a:xfrm>
            <a:off x="0" y="0"/>
            <a:ext cx="365400" cy="685404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" name="Прямоугольник 7" hidden="1"/>
          <p:cNvSpPr/>
          <p:nvPr/>
        </p:nvSpPr>
        <p:spPr>
          <a:xfrm>
            <a:off x="255240" y="5047560"/>
            <a:ext cx="72720" cy="16912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2" name="Прямоугольник 8" hidden="1"/>
          <p:cNvSpPr/>
          <p:nvPr/>
        </p:nvSpPr>
        <p:spPr>
          <a:xfrm>
            <a:off x="255240" y="4796640"/>
            <a:ext cx="72720" cy="228240"/>
          </a:xfrm>
          <a:prstGeom prst="rect">
            <a:avLst/>
          </a:prstGeom>
          <a:solidFill>
            <a:schemeClr val="accent3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3" name="Прямоугольник 9" hidden="1"/>
          <p:cNvSpPr/>
          <p:nvPr/>
        </p:nvSpPr>
        <p:spPr>
          <a:xfrm>
            <a:off x="255240" y="4637520"/>
            <a:ext cx="72720" cy="136800"/>
          </a:xfrm>
          <a:prstGeom prst="rect">
            <a:avLst/>
          </a:prstGeom>
          <a:solidFill>
            <a:schemeClr val="bg2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" name="Прямоугольник 10" hidden="1"/>
          <p:cNvSpPr/>
          <p:nvPr/>
        </p:nvSpPr>
        <p:spPr>
          <a:xfrm>
            <a:off x="255240" y="4542480"/>
            <a:ext cx="72720" cy="72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5" name="Прямоугольник 11" hidden="1"/>
          <p:cNvSpPr/>
          <p:nvPr/>
        </p:nvSpPr>
        <p:spPr>
          <a:xfrm>
            <a:off x="309600" y="680400"/>
            <a:ext cx="4536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" name="Прямоугольник 14" hidden="1"/>
          <p:cNvSpPr/>
          <p:nvPr/>
        </p:nvSpPr>
        <p:spPr>
          <a:xfrm>
            <a:off x="268920" y="680400"/>
            <a:ext cx="2700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7" name="Прямоугольник 15" hidden="1"/>
          <p:cNvSpPr/>
          <p:nvPr/>
        </p:nvSpPr>
        <p:spPr>
          <a:xfrm>
            <a:off x="25020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8" name="Прямоугольник 16" hidden="1"/>
          <p:cNvSpPr/>
          <p:nvPr/>
        </p:nvSpPr>
        <p:spPr>
          <a:xfrm>
            <a:off x="22176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FBE97B6-B6FD-4643-8BE4-89DE40535045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Прямоугольник 31"/>
          <p:cNvSpPr/>
          <p:nvPr/>
        </p:nvSpPr>
        <p:spPr>
          <a:xfrm>
            <a:off x="0" y="0"/>
            <a:ext cx="365400" cy="685404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3" name="Прямоугольник 38"/>
          <p:cNvSpPr/>
          <p:nvPr/>
        </p:nvSpPr>
        <p:spPr>
          <a:xfrm>
            <a:off x="309600" y="680400"/>
            <a:ext cx="4536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4" name="Прямоугольник 39"/>
          <p:cNvSpPr/>
          <p:nvPr/>
        </p:nvSpPr>
        <p:spPr>
          <a:xfrm>
            <a:off x="268920" y="680400"/>
            <a:ext cx="2700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5" name="Прямоугольник 40"/>
          <p:cNvSpPr/>
          <p:nvPr/>
        </p:nvSpPr>
        <p:spPr>
          <a:xfrm>
            <a:off x="25020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6" name="Прямоугольник 41"/>
          <p:cNvSpPr/>
          <p:nvPr/>
        </p:nvSpPr>
        <p:spPr>
          <a:xfrm>
            <a:off x="22176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title"/>
          </p:nvPr>
        </p:nvSpPr>
        <p:spPr>
          <a:xfrm>
            <a:off x="914400" y="4343400"/>
            <a:ext cx="777204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 cap="all">
                <a:solidFill>
                  <a:srgbClr val="d6ecff"/>
                </a:solidFill>
                <a:latin typeface="Consolas"/>
              </a:rPr>
              <a:t>Образец заголовка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Прямоугольник 55"/>
          <p:cNvSpPr/>
          <p:nvPr/>
        </p:nvSpPr>
        <p:spPr>
          <a:xfrm>
            <a:off x="255240" y="5047560"/>
            <a:ext cx="72720" cy="16912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9" name="Прямоугольник 64"/>
          <p:cNvSpPr/>
          <p:nvPr/>
        </p:nvSpPr>
        <p:spPr>
          <a:xfrm>
            <a:off x="255240" y="4796640"/>
            <a:ext cx="72720" cy="228240"/>
          </a:xfrm>
          <a:prstGeom prst="rect">
            <a:avLst/>
          </a:prstGeom>
          <a:solidFill>
            <a:schemeClr val="accent3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20" name="Прямоугольник 65"/>
          <p:cNvSpPr/>
          <p:nvPr/>
        </p:nvSpPr>
        <p:spPr>
          <a:xfrm>
            <a:off x="255240" y="4637520"/>
            <a:ext cx="72720" cy="136800"/>
          </a:xfrm>
          <a:prstGeom prst="rect">
            <a:avLst/>
          </a:prstGeom>
          <a:solidFill>
            <a:schemeClr val="bg2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21" name="Прямоугольник 66"/>
          <p:cNvSpPr/>
          <p:nvPr/>
        </p:nvSpPr>
        <p:spPr>
          <a:xfrm>
            <a:off x="255240" y="4542480"/>
            <a:ext cx="72720" cy="72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2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65000">
              <a:srgbClr val="000000"/>
            </a:gs>
            <a:gs pos="100000">
              <a:srgbClr val="5b77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6"/>
          <p:cNvSpPr/>
          <p:nvPr/>
        </p:nvSpPr>
        <p:spPr>
          <a:xfrm>
            <a:off x="0" y="0"/>
            <a:ext cx="365400" cy="685404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0" name="Прямоугольник 7"/>
          <p:cNvSpPr/>
          <p:nvPr/>
        </p:nvSpPr>
        <p:spPr>
          <a:xfrm>
            <a:off x="255240" y="5047560"/>
            <a:ext cx="72720" cy="16912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1" name="Прямоугольник 8"/>
          <p:cNvSpPr/>
          <p:nvPr/>
        </p:nvSpPr>
        <p:spPr>
          <a:xfrm>
            <a:off x="255240" y="4796640"/>
            <a:ext cx="72720" cy="228240"/>
          </a:xfrm>
          <a:prstGeom prst="rect">
            <a:avLst/>
          </a:prstGeom>
          <a:solidFill>
            <a:schemeClr val="accent3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255240" y="4637520"/>
            <a:ext cx="72720" cy="136800"/>
          </a:xfrm>
          <a:prstGeom prst="rect">
            <a:avLst/>
          </a:prstGeom>
          <a:solidFill>
            <a:schemeClr val="bg2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3" name="Прямоугольник 10"/>
          <p:cNvSpPr/>
          <p:nvPr/>
        </p:nvSpPr>
        <p:spPr>
          <a:xfrm>
            <a:off x="255240" y="4542480"/>
            <a:ext cx="72720" cy="72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4" name="Прямоугольник 11"/>
          <p:cNvSpPr/>
          <p:nvPr/>
        </p:nvSpPr>
        <p:spPr>
          <a:xfrm>
            <a:off x="309600" y="680400"/>
            <a:ext cx="4536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5" name="Прямоугольник 14"/>
          <p:cNvSpPr/>
          <p:nvPr/>
        </p:nvSpPr>
        <p:spPr>
          <a:xfrm>
            <a:off x="268920" y="680400"/>
            <a:ext cx="2700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6" name="Прямоугольник 15"/>
          <p:cNvSpPr/>
          <p:nvPr/>
        </p:nvSpPr>
        <p:spPr>
          <a:xfrm>
            <a:off x="25020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7" name="Прямоугольник 16"/>
          <p:cNvSpPr/>
          <p:nvPr/>
        </p:nvSpPr>
        <p:spPr>
          <a:xfrm>
            <a:off x="22176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00" strike="noStrike">
                <a:solidFill>
                  <a:srgbClr val="d6ecff"/>
                </a:solidFill>
                <a:latin typeface="Consolas"/>
              </a:rPr>
              <a:t>Образец заголовка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17834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114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Образец текста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  <a:p>
            <a:pPr lvl="1" marL="740520" indent="-285840">
              <a:lnSpc>
                <a:spcPct val="100000"/>
              </a:lnSpc>
              <a:spcBef>
                <a:spcPts val="519"/>
              </a:spcBef>
              <a:buClr>
                <a:srgbClr val="ea157a"/>
              </a:buClr>
              <a:buSzPct val="90000"/>
              <a:buFont typeface="Wingdings" charset="2"/>
              <a:buChar char=""/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Второй уровень</a:t>
            </a:r>
            <a:endParaRPr b="0" lang="ru-RU" sz="2600" spc="-1" strike="noStrike">
              <a:solidFill>
                <a:srgbClr val="ffffff"/>
              </a:solidFill>
              <a:latin typeface="Corbel"/>
            </a:endParaRPr>
          </a:p>
          <a:p>
            <a:pPr lvl="2" marL="996840" indent="-228600">
              <a:lnSpc>
                <a:spcPct val="100000"/>
              </a:lnSpc>
              <a:spcBef>
                <a:spcPts val="479"/>
              </a:spcBef>
              <a:buClr>
                <a:srgbClr val="ea157a"/>
              </a:buClr>
              <a:buFont typeface="Wingdings 2" charset="2"/>
              <a:buChar char=""/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lvl="3" marL="1261800" indent="-228600">
              <a:lnSpc>
                <a:spcPct val="100000"/>
              </a:lnSpc>
              <a:spcBef>
                <a:spcPts val="439"/>
              </a:spcBef>
              <a:buClr>
                <a:srgbClr val="feb80a"/>
              </a:buClr>
              <a:buFont typeface="Wingdings 3" charset="2"/>
              <a:buChar char="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Четвертый уровень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lvl="4" marL="1481400" indent="-21024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32E71C2-01F5-4CD2-B8EC-E58AC32A714D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85880"/>
            <a:ext cx="7772040" cy="42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5400" spc="-1" strike="noStrike" cap="all">
                <a:solidFill>
                  <a:srgbClr val="ffff00"/>
                </a:solidFill>
                <a:latin typeface="Times New Roman"/>
              </a:rPr>
              <a:t>Ситуация успеха на уроках математики как средство повышения качества образования</a:t>
            </a:r>
            <a:endParaRPr b="0" lang="ru-RU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80240" y="5358600"/>
            <a:ext cx="6400440" cy="49896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5000" anchor="b">
            <a:norm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7772040" cy="128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000" spc="-100" strike="noStrike">
                <a:solidFill>
                  <a:schemeClr val="accent3"/>
                </a:solidFill>
                <a:latin typeface="Times New Roman"/>
              </a:rPr>
              <a:t>Меняются времена, но не меняются задачи учителя: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57120" y="1214280"/>
            <a:ext cx="8786520" cy="514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407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•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дать учащимся прочные и глубокие знания по предмету; </a:t>
            </a:r>
            <a:br>
              <a:rPr sz="3200"/>
            </a:br>
            <a:r>
              <a:rPr b="0" lang="ru-RU" sz="3200" spc="-1" strike="noStrike">
                <a:solidFill>
                  <a:srgbClr val="3ede5c"/>
                </a:solidFill>
                <a:latin typeface="Times New Roman"/>
              </a:rPr>
              <a:t>• содействовать творческому развитию каждого ученика как на уроке, так и вне урока; </a:t>
            </a:r>
            <a:br>
              <a:rPr sz="3200"/>
            </a:br>
            <a:r>
              <a:rPr b="0" lang="ru-RU" sz="3200" spc="-1" strike="noStrike">
                <a:solidFill>
                  <a:schemeClr val="accent5"/>
                </a:solidFill>
                <a:latin typeface="Times New Roman"/>
              </a:rPr>
              <a:t>• вызвать у ребенка интерес к знаниям, научить его иметь собственное мнение; </a:t>
            </a:r>
            <a:br>
              <a:rPr sz="3200"/>
            </a:br>
            <a:r>
              <a:rPr b="0" lang="ru-RU" sz="3200" spc="-1" strike="noStrike">
                <a:solidFill>
                  <a:srgbClr val="cc00ff"/>
                </a:solidFill>
                <a:latin typeface="Times New Roman"/>
              </a:rPr>
              <a:t>• воспитывать у детей самостоятельность, любознательность, честность, личную инициативу, веру в себя;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32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Times New Roman"/>
              </a:rPr>
              <a:t>стать им другом, раскрыть богатство их душ.</a:t>
            </a:r>
            <a:endParaRPr b="0" lang="ru-RU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6000" spc="-100" strike="noStrike">
                <a:solidFill>
                  <a:srgbClr val="00b0f0"/>
                </a:solidFill>
                <a:latin typeface="Monotype Corsiva"/>
              </a:rPr>
              <a:t>Спасибо за внимание</a:t>
            </a:r>
            <a:endParaRPr b="0" lang="ru-RU" sz="6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30" name="Рисунок 3" descr="44"/>
          <p:cNvPicPr/>
          <p:nvPr/>
        </p:nvPicPr>
        <p:blipFill>
          <a:blip r:embed="rId1"/>
          <a:stretch/>
        </p:blipFill>
        <p:spPr>
          <a:xfrm>
            <a:off x="428760" y="4929120"/>
            <a:ext cx="8714880" cy="1257120"/>
          </a:xfrm>
          <a:prstGeom prst="rect">
            <a:avLst/>
          </a:prstGeom>
          <a:ln w="9525">
            <a:noFill/>
          </a:ln>
        </p:spPr>
      </p:pic>
      <p:pic>
        <p:nvPicPr>
          <p:cNvPr id="131" name="Содержимое 5" descr="44"/>
          <p:cNvPicPr/>
          <p:nvPr/>
        </p:nvPicPr>
        <p:blipFill>
          <a:blip r:embed="rId2"/>
          <a:stretch/>
        </p:blipFill>
        <p:spPr>
          <a:xfrm>
            <a:off x="1500120" y="3214800"/>
            <a:ext cx="6929280" cy="920520"/>
          </a:xfrm>
          <a:prstGeom prst="rect">
            <a:avLst/>
          </a:prstGeom>
          <a:ln w="9525">
            <a:noFill/>
          </a:ln>
        </p:spPr>
      </p:pic>
      <p:pic>
        <p:nvPicPr>
          <p:cNvPr id="132" name="Рисунок 14" descr="44"/>
          <p:cNvPicPr/>
          <p:nvPr/>
        </p:nvPicPr>
        <p:blipFill>
          <a:blip r:embed="rId3"/>
          <a:stretch/>
        </p:blipFill>
        <p:spPr>
          <a:xfrm>
            <a:off x="2428920" y="1928880"/>
            <a:ext cx="4357440" cy="4284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04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800" spc="-100" strike="noStrike">
                <a:solidFill>
                  <a:schemeClr val="accent2"/>
                </a:solidFill>
                <a:latin typeface="Times New Roman"/>
              </a:rPr>
              <a:t>Формы обучения:</a:t>
            </a:r>
            <a:endParaRPr b="0" lang="ru-RU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714240"/>
            <a:ext cx="7772040" cy="56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114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cc00ff"/>
                </a:solidFill>
                <a:latin typeface="Times New Roman"/>
              </a:rPr>
              <a:t>внешние формы организации обучения –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екции, семинары, практикумы;</a:t>
            </a:r>
            <a:endParaRPr b="0" lang="ru-RU" sz="2800" spc="-1" strike="noStrike">
              <a:solidFill>
                <a:srgbClr val="ffffff"/>
              </a:solidFill>
              <a:latin typeface="Corbel"/>
            </a:endParaRPr>
          </a:p>
          <a:p>
            <a:pPr marL="4114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1" lang="ru-RU" sz="2800" spc="-1" strike="noStrike">
                <a:solidFill>
                  <a:srgbClr val="cc00ff"/>
                </a:solidFill>
                <a:latin typeface="Times New Roman"/>
              </a:rPr>
              <a:t>внутренние формы организации обучения –</a:t>
            </a: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водное занятие, занятие по углублению и совершенствованию ЗУН, практическое занятие, занятие по обобщению и систематизации знаний, занятие по контролю ЗУН, комбинированная форма организации обучения;</a:t>
            </a:r>
            <a:endParaRPr b="0" lang="ru-RU" sz="2800" spc="-1" strike="noStrike">
              <a:solidFill>
                <a:srgbClr val="ffffff"/>
              </a:solidFill>
              <a:latin typeface="Corbel"/>
            </a:endParaRPr>
          </a:p>
          <a:p>
            <a:pPr marL="4114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1" lang="ru-RU" sz="2800" spc="-1" strike="noStrike">
                <a:solidFill>
                  <a:srgbClr val="cc00ff"/>
                </a:solidFill>
                <a:latin typeface="Times New Roman"/>
              </a:rPr>
              <a:t>общие формы организации обучения</a:t>
            </a: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ммуникативное  взаимодействие  «учитель – ученик», «ученик – ученик», фронтальная, групповая и индивидуальная работы.</a:t>
            </a:r>
            <a:endParaRPr b="0" lang="ru-RU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04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000" spc="-100" strike="noStrike">
                <a:solidFill>
                  <a:srgbClr val="ffff00"/>
                </a:solidFill>
                <a:latin typeface="Times New Roman"/>
              </a:rPr>
              <a:t>Задачи,  стоящие  перед  учителем математики:</a:t>
            </a:r>
            <a:br>
              <a:rPr sz="4000"/>
            </a:b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214280"/>
            <a:ext cx="7772040" cy="514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marL="377640" indent="-3150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ru-RU" sz="30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Times New Roman"/>
              </a:rPr>
              <a:t>уйти от перегрузки учащихся, особенно в старших классах,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  <a:p>
            <a:pPr marL="377640" indent="-3150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ru-RU" sz="30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Times New Roman"/>
              </a:rPr>
              <a:t>повысить качество усвоения изучаемого материала,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  <a:p>
            <a:pPr marL="377640" indent="-3150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1" lang="ru-RU" sz="3000" spc="-1" strike="noStrike">
                <a:solidFill>
                  <a:schemeClr val="accent2"/>
                </a:solidFill>
                <a:latin typeface="Times New Roman"/>
              </a:rPr>
              <a:t>на каждом уроке создавать ситуацию успеха для каждого ученика,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  <a:p>
            <a:pPr marL="377640" indent="-3150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ru-RU" sz="30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Times New Roman"/>
              </a:rPr>
              <a:t>развивать логическое мышление и грамотную математическую речь,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  <a:p>
            <a:pPr marL="377640" indent="-3150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ru-RU" sz="30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Times New Roman"/>
              </a:rPr>
              <a:t>усилить практическую ориентацию школьных знаний,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  <a:p>
            <a:pPr marL="377640" indent="-3150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ru-RU" sz="30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Times New Roman"/>
              </a:rPr>
              <a:t>готовить учащихся к жизни и работе в коллективе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  <a:p>
            <a:pPr marL="377640" indent="-3150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ru-RU" sz="30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Times New Roman"/>
              </a:rPr>
              <a:t>приобщить детей к здоровому образу жизни.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8214840" cy="13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4000" spc="-100" strike="noStrike">
                <a:solidFill>
                  <a:srgbClr val="d6ecff"/>
                </a:solidFill>
                <a:latin typeface="Times New Roman"/>
              </a:rPr>
              <a:t>С педагогической точки зрения </a:t>
            </a:r>
            <a:r>
              <a:rPr b="1" i="1" lang="ru-RU" sz="4400" spc="-100" strike="noStrike">
                <a:solidFill>
                  <a:srgbClr val="d6ecff"/>
                </a:solidFill>
                <a:latin typeface="Times New Roman"/>
              </a:rPr>
              <a:t>ситуация успеха</a:t>
            </a:r>
            <a:endParaRPr b="0" lang="ru-RU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71320" y="1500120"/>
            <a:ext cx="835776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11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это такое целенаправленное, организованное сочетание условий, при которых создается возможность достичь значительных результатов в деятельности как отдельно взятой личности, так и коллектива в целом.  </a:t>
            </a:r>
            <a:endParaRPr b="0" lang="ru-RU" sz="3600" spc="-1" strike="noStrike">
              <a:solidFill>
                <a:srgbClr val="ffffff"/>
              </a:solidFill>
              <a:latin typeface="Corbel"/>
            </a:endParaRPr>
          </a:p>
          <a:p>
            <a:pPr marL="411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cc00ff"/>
                </a:solidFill>
                <a:latin typeface="Times New Roman"/>
              </a:rPr>
              <a:t>Лестница Успеха</a:t>
            </a:r>
            <a:r>
              <a:rPr b="0" lang="ru-RU" sz="3600" spc="-1" strike="noStrike">
                <a:solidFill>
                  <a:srgbClr val="cc00ff"/>
                </a:solidFill>
                <a:latin typeface="Times New Roman"/>
              </a:rPr>
              <a:t>:</a:t>
            </a:r>
            <a:endParaRPr b="0" lang="ru-RU" sz="3600" spc="-1" strike="noStrike">
              <a:solidFill>
                <a:srgbClr val="ffffff"/>
              </a:solidFill>
              <a:latin typeface="Corbel"/>
            </a:endParaRPr>
          </a:p>
          <a:p>
            <a:pPr marL="411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61b6ff"/>
                </a:solidFill>
                <a:latin typeface="Times New Roman"/>
              </a:rPr>
              <a:t>потребность – мотив – цель – действие – рефлексия.</a:t>
            </a:r>
            <a:endParaRPr b="0" lang="ru-RU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040" cy="8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5400" spc="-100" strike="noStrike">
                <a:solidFill>
                  <a:srgbClr val="cc00ff"/>
                </a:solidFill>
                <a:latin typeface="Times New Roman"/>
              </a:rPr>
              <a:t>Элементы успеха:</a:t>
            </a:r>
            <a:br>
              <a:rPr sz="4000"/>
            </a:br>
            <a:endParaRPr b="0" lang="ru-RU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28760" y="857160"/>
            <a:ext cx="871488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marL="413280" indent="-3445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</a:pPr>
            <a:r>
              <a:rPr b="0" lang="ru-RU" sz="3200" spc="-1" strike="noStrike">
                <a:solidFill>
                  <a:srgbClr val="d9d9d9"/>
                </a:solidFill>
                <a:latin typeface="Times New Roman"/>
              </a:rPr>
              <a:t>охрана физического и психологического здоровья ребенка, его  психологическая защита, создание комфорта и удовлетворение потребности в эмоциональном общении;</a:t>
            </a:r>
            <a:endParaRPr b="0" lang="ru-RU" sz="3200" spc="-1" strike="noStrike">
              <a:solidFill>
                <a:srgbClr val="ffffff"/>
              </a:solidFill>
              <a:latin typeface="Corbel"/>
            </a:endParaRPr>
          </a:p>
          <a:p>
            <a:pPr marL="413280" indent="-3445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</a:pPr>
            <a:r>
              <a:rPr b="0" lang="ru-RU" sz="3200" spc="-1" strike="noStrike">
                <a:solidFill>
                  <a:srgbClr val="b4bcca"/>
                </a:solidFill>
                <a:latin typeface="Times New Roman"/>
              </a:rPr>
              <a:t>направленность педагогического процесса на интеллектуальное, личностное развитие в зависимости от возрастных особенностей и индивидуальных склонностей и способностей;</a:t>
            </a:r>
            <a:endParaRPr b="0" lang="ru-RU" sz="3200" spc="-1" strike="noStrike">
              <a:solidFill>
                <a:srgbClr val="ffffff"/>
              </a:solidFill>
              <a:latin typeface="Corbel"/>
            </a:endParaRPr>
          </a:p>
          <a:p>
            <a:pPr marL="413280" indent="-3445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</a:pPr>
            <a:r>
              <a:rPr b="0" lang="ru-RU" sz="3200" spc="-1" strike="noStrike">
                <a:solidFill>
                  <a:srgbClr val="bfbfbf"/>
                </a:solidFill>
                <a:latin typeface="Times New Roman"/>
              </a:rPr>
              <a:t>развитие базиса личностной культуры, основанной на общечеловеческих духовных ценностях, уважении прав и свобод других людей.</a:t>
            </a:r>
            <a:endParaRPr b="0" lang="ru-RU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040" cy="9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5400" spc="-100" strike="noStrike">
                <a:solidFill>
                  <a:srgbClr val="bfbfbf"/>
                </a:solidFill>
                <a:latin typeface="Times New Roman"/>
              </a:rPr>
              <a:t>Атмосфера урока:</a:t>
            </a:r>
            <a:endParaRPr b="0" lang="ru-RU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28760" y="642960"/>
            <a:ext cx="8714880" cy="59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373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  <a:p>
            <a:pPr marL="373320" indent="-3114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0"/>
              </a:tabLst>
            </a:pPr>
            <a:r>
              <a:rPr b="0" lang="ru-RU" sz="43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Times New Roman"/>
              </a:rPr>
              <a:t>заинтересованность каждого ученика в учебном процессе, </a:t>
            </a:r>
            <a:endParaRPr b="0" lang="ru-RU" sz="4300" spc="-1" strike="noStrike">
              <a:solidFill>
                <a:srgbClr val="ffffff"/>
              </a:solidFill>
              <a:latin typeface="Corbel"/>
            </a:endParaRPr>
          </a:p>
          <a:p>
            <a:pPr marL="373320" indent="-3114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0"/>
              </a:tabLst>
            </a:pPr>
            <a:r>
              <a:rPr b="0" lang="ru-RU" sz="43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Times New Roman"/>
              </a:rPr>
              <a:t>возможность высказываться на уроке,</a:t>
            </a:r>
            <a:endParaRPr b="0" lang="ru-RU" sz="4300" spc="-1" strike="noStrike">
              <a:solidFill>
                <a:srgbClr val="ffffff"/>
              </a:solidFill>
              <a:latin typeface="Corbel"/>
            </a:endParaRPr>
          </a:p>
          <a:p>
            <a:pPr marL="373320" indent="-3114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0"/>
              </a:tabLst>
            </a:pPr>
            <a:r>
              <a:rPr b="0" lang="ru-RU" sz="43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Times New Roman"/>
              </a:rPr>
              <a:t> </a:t>
            </a:r>
            <a:r>
              <a:rPr b="0" lang="ru-RU" sz="43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Times New Roman"/>
              </a:rPr>
              <a:t>выбирать собственный путь при решении  математической задачи, </a:t>
            </a:r>
            <a:endParaRPr b="0" lang="ru-RU" sz="4300" spc="-1" strike="noStrike">
              <a:solidFill>
                <a:srgbClr val="ffffff"/>
              </a:solidFill>
              <a:latin typeface="Corbel"/>
            </a:endParaRPr>
          </a:p>
          <a:p>
            <a:pPr marL="373320" indent="-3114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0"/>
              </a:tabLst>
            </a:pPr>
            <a:r>
              <a:rPr b="0" lang="ru-RU" sz="43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Times New Roman"/>
              </a:rPr>
              <a:t>уметь отбирать наиболее оптимальные пути решения,</a:t>
            </a:r>
            <a:endParaRPr b="0" lang="ru-RU" sz="4300" spc="-1" strike="noStrike">
              <a:solidFill>
                <a:srgbClr val="ffffff"/>
              </a:solidFill>
              <a:latin typeface="Corbel"/>
            </a:endParaRPr>
          </a:p>
          <a:p>
            <a:pPr marL="373320" indent="-3114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0"/>
              </a:tabLst>
            </a:pPr>
            <a:r>
              <a:rPr b="0" lang="ru-RU" sz="43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Times New Roman"/>
              </a:rPr>
              <a:t> </a:t>
            </a:r>
            <a:r>
              <a:rPr b="0" lang="ru-RU" sz="43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Times New Roman"/>
              </a:rPr>
              <a:t>учить творчеству, выбору разнообразных видов деятельности. </a:t>
            </a:r>
            <a:endParaRPr b="0" lang="ru-RU" sz="4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04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000" spc="-100" strike="noStrike">
                <a:solidFill>
                  <a:srgbClr val="007eea"/>
                </a:solidFill>
                <a:latin typeface="Times New Roman"/>
              </a:rPr>
              <a:t>Способы оживления урока:</a:t>
            </a:r>
            <a:br>
              <a:rPr sz="4000"/>
            </a:br>
            <a:br>
              <a:rPr sz="4000"/>
            </a:b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28760" y="642960"/>
            <a:ext cx="8572320" cy="60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114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увлеченное преподавание; 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marL="4114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ru-RU" sz="2400" spc="-1" strike="noStrike">
                <a:solidFill>
                  <a:srgbClr val="00b050"/>
                </a:solidFill>
                <a:latin typeface="Times New Roman"/>
              </a:rPr>
              <a:t>новизна учебного материала, историзм, связь знаний с судьбами людей, их открывшимися;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marL="4114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показ практического применения знаний;  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marL="4114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ru-RU" sz="2400" spc="-1" strike="noStrike">
                <a:solidFill>
                  <a:srgbClr val="00b050"/>
                </a:solidFill>
                <a:latin typeface="Times New Roman"/>
              </a:rPr>
              <a:t>использование новых и нетрадиционных форм обучения;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marL="4114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чередования форм и методов обучения, проблемное  обучение, эвристическое,  обучение с компьютерной поддержкой; взаимообучение (в парах, микрогруппах); 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marL="4114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ru-RU" sz="2400" spc="-1" strike="noStrike">
                <a:solidFill>
                  <a:srgbClr val="00b05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b050"/>
                </a:solidFill>
                <a:latin typeface="Times New Roman"/>
              </a:rPr>
              <a:t>тестирование знаний, умений, показ достижений обучаемых; 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marL="4114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создание ситуаций успеха, соревнование (с товарищами по классу, самим собой), создание положительного микроклимата в классе, доверие к обучаемому, педагогический такт и мастерство педагога, отношение педагога к своему предмету, к обучаемым и т.д.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50068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000" spc="-100" strike="noStrike">
                <a:solidFill>
                  <a:srgbClr val="66ff33"/>
                </a:solidFill>
                <a:latin typeface="Times New Roman"/>
              </a:rPr>
              <a:t>Создание ситуации успеха на уроке:</a:t>
            </a:r>
            <a:br>
              <a:rPr sz="4000"/>
            </a:b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71320" y="928800"/>
            <a:ext cx="835776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11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Первое обязательное условие –</a:t>
            </a:r>
            <a:r>
              <a:rPr b="0" lang="ru-RU" sz="2400" spc="-1" strike="noStrike">
                <a:solidFill>
                  <a:srgbClr val="cc00ff"/>
                </a:solidFill>
                <a:latin typeface="Times New Roman"/>
              </a:rPr>
              <a:t> атмосфера доброжелательности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классе на протяжении всего урока. (Слагаемые доброжелательности: улыбка, добрый взгляд, внимание к друг другу, интерес к каждому, приветливость, расположенность, мягкие жесты.)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marL="411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Второе условие — </a:t>
            </a:r>
            <a:r>
              <a:rPr b="0" lang="ru-RU" sz="2400" spc="-1" strike="noStrike">
                <a:solidFill>
                  <a:srgbClr val="cc00ff"/>
                </a:solidFill>
                <a:latin typeface="Times New Roman"/>
              </a:rPr>
              <a:t>снятие страха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— авансирование детей перед тем, как они приступят к реализации поставленной задачи. Авансировать успех - значит объявить о положительных результатах до того, как они получены.  Данная операция увеличивает меру уверенности в себе ребенка, повышает активность и его свободу.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marL="411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Ключевой момент — </a:t>
            </a:r>
            <a:r>
              <a:rPr b="0" lang="ru-RU" sz="2400" spc="-1" strike="noStrike">
                <a:solidFill>
                  <a:srgbClr val="cc00ff"/>
                </a:solidFill>
                <a:latin typeface="Times New Roman"/>
              </a:rPr>
              <a:t>высокая мотивация предлагаемых действи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 во имя чего? Ради чего? Зачем?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15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00" strike="noStrike">
                <a:solidFill>
                  <a:schemeClr val="accent6">
                    <a:lumMod val="40000"/>
                    <a:lumOff val="60000"/>
                  </a:schemeClr>
                </a:solidFill>
                <a:latin typeface="Consolas"/>
              </a:rPr>
              <a:t>4</a:t>
            </a:r>
            <a:r>
              <a:rPr b="0" lang="ru-RU" sz="2800" spc="-100" strike="noStrike">
                <a:solidFill>
                  <a:schemeClr val="accent6">
                    <a:lumMod val="40000"/>
                    <a:lumOff val="60000"/>
                  </a:schemeClr>
                </a:solidFill>
                <a:latin typeface="Times New Roman"/>
              </a:rPr>
              <a:t>. </a:t>
            </a:r>
            <a:r>
              <a:rPr b="0" lang="ru-RU" sz="2800" spc="-100" strike="noStrike">
                <a:solidFill>
                  <a:srgbClr val="cc00ff"/>
                </a:solidFill>
                <a:latin typeface="Times New Roman"/>
              </a:rPr>
              <a:t>Реальная помощь в продвижении к успеху — </a:t>
            </a:r>
            <a:r>
              <a:rPr b="0" lang="ru-RU" sz="2800" spc="-100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Times New Roman"/>
              </a:rPr>
              <a:t>скрытая инструкция деятельности, </a:t>
            </a:r>
            <a:r>
              <a:rPr b="0" lang="ru-RU" sz="2800" spc="-100" strike="noStrike">
                <a:solidFill>
                  <a:schemeClr val="accent6">
                    <a:lumMod val="40000"/>
                    <a:lumOff val="60000"/>
                  </a:schemeClr>
                </a:solidFill>
                <a:latin typeface="Times New Roman"/>
              </a:rPr>
              <a:t>посылаемая субъекту для инициирования мыслительного образа предстоящей деятельности и пути ее выполнения.</a:t>
            </a:r>
            <a:br>
              <a:rPr sz="2400"/>
            </a:br>
            <a:endParaRPr b="0" lang="ru-RU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2428920"/>
            <a:ext cx="777204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422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chemeClr val="accent6">
                    <a:lumMod val="40000"/>
                    <a:lumOff val="60000"/>
                  </a:schemeClr>
                </a:solidFill>
                <a:latin typeface="Times New Roman"/>
              </a:rPr>
              <a:t>5. Краткое экспрессивное воздействие — </a:t>
            </a: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педагогическое внушение</a:t>
            </a:r>
            <a:r>
              <a:rPr b="0" lang="ru-RU" sz="2800" spc="-1" strike="noStrike">
                <a:solidFill>
                  <a:schemeClr val="accent6">
                    <a:lumMod val="40000"/>
                    <a:lumOff val="60000"/>
                  </a:schemeClr>
                </a:solidFill>
                <a:latin typeface="Times New Roman"/>
              </a:rPr>
              <a:t>,  собранное в яркий фокус.  (За дело!  Приступаем!)</a:t>
            </a:r>
            <a:endParaRPr b="0" lang="ru-RU" sz="2800" spc="-1" strike="noStrike">
              <a:solidFill>
                <a:srgbClr val="ffffff"/>
              </a:solidFill>
              <a:latin typeface="Corbel"/>
            </a:endParaRPr>
          </a:p>
          <a:p>
            <a:pPr marL="422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chemeClr val="accent6">
                    <a:lumMod val="40000"/>
                    <a:lumOff val="60000"/>
                  </a:schemeClr>
                </a:solidFill>
                <a:latin typeface="Times New Roman"/>
              </a:rPr>
              <a:t>6. </a:t>
            </a: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Педагогическая поддержка </a:t>
            </a:r>
            <a:r>
              <a:rPr b="0" lang="ru-RU" sz="2800" spc="-1" strike="noStrike">
                <a:solidFill>
                  <a:schemeClr val="accent6">
                    <a:lumMod val="40000"/>
                    <a:lumOff val="60000"/>
                  </a:schemeClr>
                </a:solidFill>
                <a:latin typeface="Times New Roman"/>
              </a:rPr>
              <a:t>в процессе выполнения работы (краткие реплики или мимические жесты)</a:t>
            </a:r>
            <a:endParaRPr b="0" lang="ru-RU" sz="2800" spc="-1" strike="noStrike">
              <a:solidFill>
                <a:srgbClr val="ffffff"/>
              </a:solidFill>
              <a:latin typeface="Corbel"/>
            </a:endParaRPr>
          </a:p>
          <a:p>
            <a:pPr marL="422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chemeClr val="accent6">
                    <a:lumMod val="40000"/>
                    <a:lumOff val="60000"/>
                  </a:schemeClr>
                </a:solidFill>
                <a:latin typeface="Times New Roman"/>
              </a:rPr>
              <a:t>7</a:t>
            </a: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.  Оценивание </a:t>
            </a:r>
            <a:r>
              <a:rPr b="0" lang="ru-RU" sz="2800" spc="-1" strike="noStrike">
                <a:solidFill>
                  <a:schemeClr val="accent6">
                    <a:lumMod val="40000"/>
                    <a:lumOff val="60000"/>
                  </a:schemeClr>
                </a:solidFill>
                <a:latin typeface="Times New Roman"/>
              </a:rPr>
              <a:t>— оценка не производится в целом, она не произносится «сверху», она ставит акцент на деталях выполненной работы.</a:t>
            </a:r>
            <a:endParaRPr b="0" lang="ru-RU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9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2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5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Метро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Метро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Metro</Template>
  <TotalTime>387</TotalTime>
  <Application>LibreOffice/7.4.7.2$Linux_X86_64 LibreOffice_project/40$Build-2</Application>
  <AppVersion>15.0000</AppVersion>
  <Words>565</Words>
  <Paragraphs>4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2-10T05:49:19Z</dcterms:modified>
  <cp:revision>42</cp:revision>
  <dc:subject/>
  <dc:title>«Ситуация успеха на уроках математики как средство повышения качества образования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1</vt:r8>
  </property>
</Properties>
</file>