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1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EFDF-D494-42EA-9F90-0000C3406B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705F-4E78-4F43-95BE-AED5F4169F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щелчок левой кнопкой мыши в любом месте, следующая картинка, или тек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дро) -  щелчок левой кнопкой мыши по ссыл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,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зад),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 - щелчок левой кнопкой мыши по соответствующей управляющей кноп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5A1F-DBE4-4C2D-8D7D-895BB3CC82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уоли (по латыни "вакуус"- пустой) - это полости, которые содержат клеточный сок - водный раствор различных питательных и минеральных веществ. Клеточный сок в вакуолях может иметь разный ц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лодых клетках растения вакуоли небольш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роста клетки растут и вакуо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епенно они могут оттеснить цитоплазму с органоидами и ядро к клеточной оболоч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4913-E2E0-4321-870E-3376217A55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итоплазме клеток разных частей растений могут содержаться различные пластиды: хромопласты, хлоропласты, лейкопласты. В каждой клетке одновременно могут находиться пластиды только одного 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итоплазме клетки листа зеленого растения хорошо заметны овальные органоиды зеленого цвета - это хлоропла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хлоропластов в разных частях растений могут содержаться хромопласты, придающие разные оттенки желтого и красного ц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от в неокрашенных частях растения находятся бесцветные пластиды, которые называются лейкоплас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6412-7B95-4B56-AC70-F8CA14F05C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ы клеток растений в определенных условиях способны к взаимопревращ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ходилось пи тебе когда-нибудь наблюдать, как зеленый помидор постепенно краснеет, если его положить в теплой комнате, а забытая на окне картофелина начинает постепенно зелене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уж как листья осенью из зеленых превращаются в желтые, оранжевые, красные, тебе, конечно, довелось видеть не раз. Почему это происходит? Оказывается, пластиды могут превращаться друг в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 или ВС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D6AB-9383-44E3-85B2-5BF81F7D3C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урок приоткроет перед тобой тайну растительной клетки. С помощью микроскопа тебе удастся не только взглянуть на клетки разных растений, но и проникнуть под их оболочку. Ты увидишь, что внутри клетки есть мельчайшие частички - органоиды, которые обеспечивают ее жизнь и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бе, наверное, приходилось видеть, как на пустыре вырастает новый дом. Его строят люди из кирпича или бетона, толстых деревянных бревен или тонких дос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отом, когда строители уходят, завершив свою работу, рядом с домом вырастают деревья. Их сажают совсем маленькими (так они лучше приживаются). Год от года деревья вырастают все больше. Из чего же "построены" деревья, кустарники, цветы, трав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0DA9-3997-491D-A6FA-FDE595A133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ным-давно англичанин Роберт Гук изобрел микроскоп, с помощью которого сумел впервые рассмотреть под увеличительными стеклами (линзами) маленькие кусочки различных растений. Он первым ответил на вопрос: "Из чего же они построены?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икроскопом Роберт Гук увидел, что любые части растений состоят из ячеек, отделенных друг от друга перегородками. Каждая такая ячейка получила название - кле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ты видишь, что все растения состоят из клеток. Клетка - это самая простая единица строения любого растения. Клетки разных растений отличаются по форме и цвету и многим другим призна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7F27-A210-41D9-9911-173263EA1A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простенький микроскоп Роберта Гука не давал возможности изучить строение кл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а появились мощные световые микроскоп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и электронные. Благодаря им, удалось изучить внутреннее строение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7B69-8AD6-4379-9F07-BC57ABAEB5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и ты можешь взглянуть на внутреннее строение растительной клетки с помощью современного микроско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клетки покрыты клеточной оболочкой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олоч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ссмотрели клеточную оболочку. А что же находится под н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олочной находится цитоплазма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итопла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итоплазме любой клетки находятся различные частицы – клеточные органоиды. Органоиды в клетке выполняют различные функции - так же, как разные органы в твоем организм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тим, что в цитоплазме находятся также крупные и мелкие "пузыри". Как они называются и чем наполнены? Это вакуоли, они содержат различные вещества, которые вырабатывает клетка.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акуо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 клеток растения содержит различные пластиды: хлоропласты, хромопласты, лейкопласты. 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ласт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B044-7D4E-4EEA-A950-BA638FDA4C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олочке клеток есть мельчайшие отверст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Wingdings 2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ы, через которые клетки общаются между со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Wingdings 2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7D59-E36D-4F3E-A7F5-3B2C0D51D4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лочки клеток разных растений имеют разную толщину, а, значит, и разную проч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 прочность оболочек разных клеток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кожицы лу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кор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мякоти ли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л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1F66-DFFF-4DC6-95C5-7C028ACA5C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и древесины, например, имеют очень толстые оболочки, содержащие целлюлозу, которая делает древесину очень прочной. В спиленных и срубленных стволах деревьев живые клетки погибают, а их толстые оболочки остаются невредимы и еще долго служат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ревесины люди делают множество нужных и полезных предметов и материалов, например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скозные нитки и ткани, бумагу, а из нее -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C4F3-AF67-4C20-934E-7EAC20AD6E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й настроим наш микроскоп так, чтобы удалось заглянуть внутрь, и рассмотрим клетку... ну, например, комнатного растения - традеск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отри! Под клеточной оболочкой медленно и лениво движется густая прозрачная жидкость - цитоплазма. Вместе с ней по клетке перетекают какие-то мелкие частицы различной величины и формы. Среди них самая крупная - ядро клетки. Оно выполняет очень важные функции, о которых мы поговорим поз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язкая бесцветная жидкость, заполняющая клетку, называется цитоплазмой (по греч. "цитос" - вместилище, клетка; "плазмос" - вылепленна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AEB-48AA-4454-8ADE-A5AC7361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F93-0482-41B5-83E8-8BE2EC10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EF1-3D4B-4D2C-A1D4-8F600D96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06C-E925-4EB5-B4DF-AEFF489D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347-9C8D-4987-BED7-32D6EFE7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636-A31D-4618-9642-783B1597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B0A-5745-4B16-BBF1-894035F3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C1D-0753-4F8A-86CD-4B0D6750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9A5-10F4-42B7-9252-5102064D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171-1555-4523-954A-A3D9531A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3F1-D5F4-475B-87C9-2C96FB7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5F7-92AD-4AC4-B1A2-0075895D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007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490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У школа-интернат V-VI вида Костромской об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6020-A1D8-468F-8D5A-AA340F9FB0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5.xm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Растительная клет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куоли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Picture 10" descr="Клетка молодая"/>
          <p:cNvPicPr/>
          <p:nvPr/>
        </p:nvPicPr>
        <p:blipFill>
          <a:blip r:embed="rId1"/>
          <a:stretch/>
        </p:blipFill>
        <p:spPr>
          <a:xfrm>
            <a:off x="351000" y="2484360"/>
            <a:ext cx="2328840" cy="2362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Клетка средняя"/>
          <p:cNvPicPr/>
          <p:nvPr/>
        </p:nvPicPr>
        <p:blipFill>
          <a:blip r:embed="rId2"/>
          <a:stretch/>
        </p:blipFill>
        <p:spPr>
          <a:xfrm>
            <a:off x="3030480" y="1960560"/>
            <a:ext cx="2722680" cy="3411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Клетка старая"/>
          <p:cNvPicPr/>
          <p:nvPr/>
        </p:nvPicPr>
        <p:blipFill>
          <a:blip r:embed="rId3"/>
          <a:stretch/>
        </p:blipFill>
        <p:spPr>
          <a:xfrm>
            <a:off x="6103800" y="1305000"/>
            <a:ext cx="2689200" cy="47210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3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стид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1" name="Picture 10" descr="пластиды 0"/>
          <p:cNvPicPr/>
          <p:nvPr/>
        </p:nvPicPr>
        <p:blipFill>
          <a:blip r:embed="rId1"/>
          <a:stretch/>
        </p:blipFill>
        <p:spPr>
          <a:xfrm>
            <a:off x="544680" y="1523880"/>
            <a:ext cx="1280880" cy="45342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9"/>
          <p:cNvGrpSpPr/>
          <p:nvPr/>
        </p:nvGrpSpPr>
        <p:grpSpPr>
          <a:xfrm>
            <a:off x="1584360" y="1160640"/>
            <a:ext cx="7014960" cy="2172960"/>
            <a:chOff x="1584360" y="1160640"/>
            <a:chExt cx="7014960" cy="2172960"/>
          </a:xfrm>
        </p:grpSpPr>
        <p:pic>
          <p:nvPicPr>
            <p:cNvPr id="113" name="Picture 13" descr="пластиды 3"/>
            <p:cNvPicPr/>
            <p:nvPr/>
          </p:nvPicPr>
          <p:blipFill>
            <a:blip r:embed="rId2"/>
            <a:stretch/>
          </p:blipFill>
          <p:spPr>
            <a:xfrm>
              <a:off x="6413400" y="1160640"/>
              <a:ext cx="2185920" cy="21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Line 17"/>
            <p:cNvSpPr/>
            <p:nvPr/>
          </p:nvSpPr>
          <p:spPr>
            <a:xfrm flipV="1">
              <a:off x="1584360" y="2060640"/>
              <a:ext cx="47880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1150920" y="4267080"/>
            <a:ext cx="3405240" cy="2186280"/>
            <a:chOff x="1150920" y="4267080"/>
            <a:chExt cx="3405240" cy="2186280"/>
          </a:xfrm>
        </p:grpSpPr>
        <p:pic>
          <p:nvPicPr>
            <p:cNvPr id="116" name="Picture 11" descr="пластиды 1"/>
            <p:cNvPicPr/>
            <p:nvPr/>
          </p:nvPicPr>
          <p:blipFill>
            <a:blip r:embed="rId3"/>
            <a:stretch/>
          </p:blipFill>
          <p:spPr>
            <a:xfrm>
              <a:off x="2370240" y="4267080"/>
              <a:ext cx="2185920" cy="21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5"/>
            <p:cNvSpPr/>
            <p:nvPr/>
          </p:nvSpPr>
          <p:spPr>
            <a:xfrm flipV="1">
              <a:off x="1150920" y="5265720"/>
              <a:ext cx="1225440" cy="179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18"/>
          <p:cNvGrpSpPr/>
          <p:nvPr/>
        </p:nvGrpSpPr>
        <p:grpSpPr>
          <a:xfrm>
            <a:off x="1763640" y="2701800"/>
            <a:ext cx="4815000" cy="2198880"/>
            <a:chOff x="1763640" y="2701800"/>
            <a:chExt cx="4815000" cy="2198880"/>
          </a:xfrm>
        </p:grpSpPr>
        <p:pic>
          <p:nvPicPr>
            <p:cNvPr id="119" name="Picture 12" descr="пластиды 2"/>
            <p:cNvPicPr/>
            <p:nvPr/>
          </p:nvPicPr>
          <p:blipFill>
            <a:blip r:embed="rId4"/>
            <a:stretch/>
          </p:blipFill>
          <p:spPr>
            <a:xfrm>
              <a:off x="4392720" y="2701800"/>
              <a:ext cx="21859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Line 16"/>
            <p:cNvSpPr/>
            <p:nvPr/>
          </p:nvSpPr>
          <p:spPr>
            <a:xfrm flipV="1">
              <a:off x="1763640" y="3715920"/>
              <a:ext cx="262908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AutoShape 21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2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стид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>
            <a:hlinkClick r:id="" action="ppaction://hlinkshowjump?jump=previousslide"/>
          </p:cNvPr>
          <p:cNvSpPr/>
          <p:nvPr/>
        </p:nvSpPr>
        <p:spPr>
          <a:xfrm>
            <a:off x="324000" y="6381720"/>
            <a:ext cx="468000" cy="287280"/>
          </a:xfrm>
          <a:custGeom>
            <a:avLst/>
            <a:gdLst>
              <a:gd name="textAreaLeft" fmla="*/ 18360 w 468000"/>
              <a:gd name="textAreaRight" fmla="*/ 449640 w 46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71" h="21600">
                <a:moveTo>
                  <a:pt x="0" y="0"/>
                </a:moveTo>
                <a:lnTo>
                  <a:pt x="35171" y="0"/>
                </a:lnTo>
                <a:lnTo>
                  <a:pt x="35171" y="21600"/>
                </a:lnTo>
                <a:lnTo>
                  <a:pt x="0" y="21600"/>
                </a:lnTo>
                <a:close/>
              </a:path>
              <a:path fill="lightenLess" w="35171" h="21600">
                <a:moveTo>
                  <a:pt x="0" y="0"/>
                </a:moveTo>
                <a:lnTo>
                  <a:pt x="35171" y="0"/>
                </a:lnTo>
                <a:lnTo>
                  <a:pt x="33771" y="1400"/>
                </a:lnTo>
                <a:lnTo>
                  <a:pt x="1400" y="1400"/>
                </a:lnTo>
                <a:close/>
              </a:path>
              <a:path fill="darken" w="35171" h="21600">
                <a:moveTo>
                  <a:pt x="35171" y="0"/>
                </a:moveTo>
                <a:lnTo>
                  <a:pt x="35171" y="21600"/>
                </a:lnTo>
                <a:lnTo>
                  <a:pt x="33771" y="20200"/>
                </a:lnTo>
                <a:lnTo>
                  <a:pt x="33771" y="1400"/>
                </a:lnTo>
                <a:close/>
              </a:path>
              <a:path fill="darkenLess" w="35171" h="21600">
                <a:moveTo>
                  <a:pt x="3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71" y="20200"/>
                </a:lnTo>
                <a:close/>
              </a:path>
              <a:path fill="lighten" w="3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71" h="21600">
                <a:moveTo>
                  <a:pt x="10579" y="10800"/>
                </a:moveTo>
                <a:lnTo>
                  <a:pt x="24592" y="3794"/>
                </a:lnTo>
                <a:lnTo>
                  <a:pt x="2459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помидор"/>
          <p:cNvPicPr/>
          <p:nvPr/>
        </p:nvPicPr>
        <p:blipFill>
          <a:blip r:embed="rId1"/>
          <a:stretch/>
        </p:blipFill>
        <p:spPr>
          <a:xfrm>
            <a:off x="355680" y="1522440"/>
            <a:ext cx="4038480" cy="452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осень"/>
          <p:cNvPicPr/>
          <p:nvPr/>
        </p:nvPicPr>
        <p:blipFill>
          <a:blip r:embed="rId2"/>
          <a:stretch/>
        </p:blipFill>
        <p:spPr>
          <a:xfrm>
            <a:off x="4749840" y="1521000"/>
            <a:ext cx="40384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Растительная клет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т урок приоткроет перед тобой тайну растительной клет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Открытие микроскоп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Picture 14" descr="Микроскоп Гука"/>
          <p:cNvPicPr/>
          <p:nvPr/>
        </p:nvPicPr>
        <p:blipFill>
          <a:blip r:embed="rId1"/>
          <a:stretch/>
        </p:blipFill>
        <p:spPr>
          <a:xfrm>
            <a:off x="420840" y="1600200"/>
            <a:ext cx="3840120" cy="452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клетка Гука"/>
          <p:cNvPicPr/>
          <p:nvPr/>
        </p:nvPicPr>
        <p:blipFill>
          <a:blip r:embed="rId2"/>
          <a:stretch/>
        </p:blipFill>
        <p:spPr>
          <a:xfrm>
            <a:off x="5029200" y="2197080"/>
            <a:ext cx="3049560" cy="30322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6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Увеличительные прибор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Picture 10" descr="Микроскоп Световой"/>
          <p:cNvPicPr/>
          <p:nvPr/>
        </p:nvPicPr>
        <p:blipFill>
          <a:blip r:embed="rId1"/>
          <a:stretch/>
        </p:blipFill>
        <p:spPr>
          <a:xfrm>
            <a:off x="870120" y="2209680"/>
            <a:ext cx="329724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Микроскоп Электронный"/>
          <p:cNvPicPr/>
          <p:nvPr/>
        </p:nvPicPr>
        <p:blipFill>
          <a:blip r:embed="rId2"/>
          <a:stretch/>
        </p:blipFill>
        <p:spPr>
          <a:xfrm>
            <a:off x="5038560" y="1568520"/>
            <a:ext cx="3235320" cy="4527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2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Рисунок. Строение клетки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3" descr="Растительная клетка 2"/>
          <p:cNvPicPr/>
          <p:nvPr/>
        </p:nvPicPr>
        <p:blipFill>
          <a:blip r:embed="rId1"/>
          <a:stretch/>
        </p:blipFill>
        <p:spPr>
          <a:xfrm>
            <a:off x="533520" y="1752480"/>
            <a:ext cx="4170240" cy="45291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23"/>
          <p:cNvGrpSpPr/>
          <p:nvPr/>
        </p:nvGrpSpPr>
        <p:grpSpPr>
          <a:xfrm>
            <a:off x="4190760" y="3525840"/>
            <a:ext cx="4584960" cy="737640"/>
            <a:chOff x="4190760" y="3525840"/>
            <a:chExt cx="4584960" cy="737640"/>
          </a:xfrm>
        </p:grpSpPr>
        <p:sp>
          <p:nvSpPr>
            <p:cNvPr id="62" name="Line 5"/>
            <p:cNvSpPr/>
            <p:nvPr/>
          </p:nvSpPr>
          <p:spPr>
            <a:xfrm flipH="1" flipV="1">
              <a:off x="4190760" y="3733560"/>
              <a:ext cx="1447560" cy="96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6">
              <a:hlinkClick r:id="rId2" action="ppaction://hlinksldjump"/>
            </p:cNvPr>
            <p:cNvSpPr/>
            <p:nvPr/>
          </p:nvSpPr>
          <p:spPr>
            <a:xfrm>
              <a:off x="5522760" y="3525840"/>
              <a:ext cx="3252960" cy="737640"/>
            </a:xfrm>
            <a:custGeom>
              <a:avLst/>
              <a:gdLst>
                <a:gd name="textAreaLeft" fmla="*/ 47520 w 3252960"/>
                <a:gd name="textAreaRight" fmla="*/ 3205440 w 32529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5219" h="21600">
                  <a:moveTo>
                    <a:pt x="0" y="0"/>
                  </a:moveTo>
                  <a:lnTo>
                    <a:pt x="95219" y="0"/>
                  </a:lnTo>
                  <a:lnTo>
                    <a:pt x="95219" y="21600"/>
                  </a:lnTo>
                  <a:lnTo>
                    <a:pt x="0" y="21600"/>
                  </a:lnTo>
                  <a:close/>
                </a:path>
                <a:path fill="lightenLess" w="95219" h="21600">
                  <a:moveTo>
                    <a:pt x="0" y="0"/>
                  </a:moveTo>
                  <a:lnTo>
                    <a:pt x="95219" y="0"/>
                  </a:lnTo>
                  <a:lnTo>
                    <a:pt x="93819" y="1400"/>
                  </a:lnTo>
                  <a:lnTo>
                    <a:pt x="1400" y="1400"/>
                  </a:lnTo>
                  <a:close/>
                </a:path>
                <a:path fill="darken" w="95219" h="21600">
                  <a:moveTo>
                    <a:pt x="95219" y="0"/>
                  </a:moveTo>
                  <a:lnTo>
                    <a:pt x="95219" y="21600"/>
                  </a:lnTo>
                  <a:lnTo>
                    <a:pt x="93819" y="20200"/>
                  </a:lnTo>
                  <a:lnTo>
                    <a:pt x="93819" y="1400"/>
                  </a:lnTo>
                  <a:close/>
                </a:path>
                <a:path fill="darkenLess" w="95219" h="21600">
                  <a:moveTo>
                    <a:pt x="9521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819" y="20200"/>
                  </a:lnTo>
                  <a:close/>
                </a:path>
                <a:path fill="lighten" w="9521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пластиды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3429000" y="5415120"/>
            <a:ext cx="5334120" cy="737640"/>
            <a:chOff x="3429000" y="5415120"/>
            <a:chExt cx="5334120" cy="737640"/>
          </a:xfrm>
        </p:grpSpPr>
        <p:sp>
          <p:nvSpPr>
            <p:cNvPr id="65" name="Line 8"/>
            <p:cNvSpPr/>
            <p:nvPr/>
          </p:nvSpPr>
          <p:spPr>
            <a:xfrm flipH="1" flipV="1">
              <a:off x="3429000" y="5562360"/>
              <a:ext cx="228600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9">
              <a:hlinkClick r:id="rId3" action="ppaction://hlinksldjump"/>
            </p:cNvPr>
            <p:cNvSpPr/>
            <p:nvPr/>
          </p:nvSpPr>
          <p:spPr>
            <a:xfrm>
              <a:off x="5522760" y="541512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цитоплазм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2971440" y="4470480"/>
            <a:ext cx="5791680" cy="737640"/>
            <a:chOff x="2971440" y="4470480"/>
            <a:chExt cx="5791680" cy="737640"/>
          </a:xfrm>
        </p:grpSpPr>
        <p:sp>
          <p:nvSpPr>
            <p:cNvPr id="68" name="Line 11"/>
            <p:cNvSpPr/>
            <p:nvPr/>
          </p:nvSpPr>
          <p:spPr>
            <a:xfrm flipH="1" flipV="1">
              <a:off x="2971440" y="4659120"/>
              <a:ext cx="297180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>
              <a:hlinkClick r:id="rId4" action="ppaction://hlinksldjump"/>
            </p:cNvPr>
            <p:cNvSpPr/>
            <p:nvPr/>
          </p:nvSpPr>
          <p:spPr>
            <a:xfrm>
              <a:off x="5522760" y="447048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вакуол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3886200" y="1371600"/>
            <a:ext cx="4876920" cy="990720"/>
            <a:chOff x="3886200" y="1371600"/>
            <a:chExt cx="4876920" cy="990720"/>
          </a:xfrm>
        </p:grpSpPr>
        <p:sp>
          <p:nvSpPr>
            <p:cNvPr id="71" name="Line 14"/>
            <p:cNvSpPr/>
            <p:nvPr/>
          </p:nvSpPr>
          <p:spPr>
            <a:xfrm flipH="1">
              <a:off x="3886200" y="1716120"/>
              <a:ext cx="17524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15">
              <a:hlinkClick r:id="rId5" action="ppaction://hlinksldjump"/>
            </p:cNvPr>
            <p:cNvSpPr/>
            <p:nvPr/>
          </p:nvSpPr>
          <p:spPr>
            <a:xfrm>
              <a:off x="5522760" y="137160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оболочк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Group 22"/>
          <p:cNvGrpSpPr/>
          <p:nvPr/>
        </p:nvGrpSpPr>
        <p:grpSpPr>
          <a:xfrm>
            <a:off x="3657600" y="2448000"/>
            <a:ext cx="5105520" cy="752400"/>
            <a:chOff x="3657600" y="2448000"/>
            <a:chExt cx="5105520" cy="752400"/>
          </a:xfrm>
        </p:grpSpPr>
        <p:sp>
          <p:nvSpPr>
            <p:cNvPr id="74" name="Line 17"/>
            <p:cNvSpPr/>
            <p:nvPr/>
          </p:nvSpPr>
          <p:spPr>
            <a:xfrm flipH="1">
              <a:off x="3657600" y="2792520"/>
              <a:ext cx="1905120" cy="407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18">
              <a:hlinkClick r:id="rId6" action="ppaction://hlinksldjump"/>
            </p:cNvPr>
            <p:cNvSpPr/>
            <p:nvPr/>
          </p:nvSpPr>
          <p:spPr>
            <a:xfrm>
              <a:off x="5522760" y="2448000"/>
              <a:ext cx="3240360" cy="737640"/>
            </a:xfrm>
            <a:custGeom>
              <a:avLst/>
              <a:gdLst>
                <a:gd name="textAreaLeft" fmla="*/ 47520 w 3240360"/>
                <a:gd name="textAreaRight" fmla="*/ 3192840 w 3240360"/>
                <a:gd name="textAreaTop" fmla="*/ 47520 h 737640"/>
                <a:gd name="textAreaBottom" fmla="*/ 690120 h 737640"/>
              </a:gdLst>
              <a:ahLst/>
              <a:rect l="textAreaLeft" t="textAreaTop" r="textAreaRight" b="textAreaBottom"/>
              <a:pathLst>
                <a:path w="94850" h="21600">
                  <a:moveTo>
                    <a:pt x="0" y="0"/>
                  </a:moveTo>
                  <a:lnTo>
                    <a:pt x="94850" y="0"/>
                  </a:lnTo>
                  <a:lnTo>
                    <a:pt x="94850" y="21600"/>
                  </a:lnTo>
                  <a:lnTo>
                    <a:pt x="0" y="21600"/>
                  </a:lnTo>
                  <a:close/>
                </a:path>
                <a:path fill="lightenLess" w="94850" h="21600">
                  <a:moveTo>
                    <a:pt x="0" y="0"/>
                  </a:moveTo>
                  <a:lnTo>
                    <a:pt x="94850" y="0"/>
                  </a:lnTo>
                  <a:lnTo>
                    <a:pt x="93450" y="1400"/>
                  </a:lnTo>
                  <a:lnTo>
                    <a:pt x="1400" y="1400"/>
                  </a:lnTo>
                  <a:close/>
                </a:path>
                <a:path fill="darken" w="94850" h="21600">
                  <a:moveTo>
                    <a:pt x="94850" y="0"/>
                  </a:moveTo>
                  <a:lnTo>
                    <a:pt x="94850" y="21600"/>
                  </a:lnTo>
                  <a:lnTo>
                    <a:pt x="93450" y="20200"/>
                  </a:lnTo>
                  <a:lnTo>
                    <a:pt x="93450" y="1400"/>
                  </a:lnTo>
                  <a:close/>
                </a:path>
                <a:path fill="darkenLess" w="94850" h="21600">
                  <a:moveTo>
                    <a:pt x="948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3450" y="20200"/>
                  </a:lnTo>
                  <a:close/>
                </a:path>
                <a:path fill="lighten" w="948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ядро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2" descr="Растительная клетка 4"/>
          <p:cNvPicPr/>
          <p:nvPr/>
        </p:nvPicPr>
        <p:blipFill>
          <a:blip r:embed="rId1"/>
          <a:stretch/>
        </p:blipFill>
        <p:spPr>
          <a:xfrm>
            <a:off x="1042920" y="1341360"/>
            <a:ext cx="4284720" cy="4668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олочка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 flipV="1">
            <a:off x="2592000" y="3789000"/>
            <a:ext cx="3808440" cy="96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 flipH="1">
            <a:off x="4392720" y="3886200"/>
            <a:ext cx="2008080" cy="87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7"/>
          <p:cNvSpPr/>
          <p:nvPr/>
        </p:nvSpPr>
        <p:spPr>
          <a:xfrm flipH="1" flipV="1">
            <a:off x="3780000" y="1952280"/>
            <a:ext cx="2620800" cy="1933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432480" y="3542400"/>
            <a:ext cx="1600200" cy="642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8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9">
            <a:hlinkClick r:id="rId2" action="ppaction://hlinksldjump"/>
          </p:cNvPr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олоч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AutoShape 11">
            <a:hlinkClick r:id="rId1" action="ppaction://hlinksldjump"/>
          </p:cNvPr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>
            <a:hlinkClick r:id="" action="ppaction://hlinkshowjump?jump=previousslide"/>
          </p:cNvPr>
          <p:cNvSpPr/>
          <p:nvPr/>
        </p:nvSpPr>
        <p:spPr>
          <a:xfrm>
            <a:off x="324000" y="6381720"/>
            <a:ext cx="468000" cy="287280"/>
          </a:xfrm>
          <a:custGeom>
            <a:avLst/>
            <a:gdLst>
              <a:gd name="textAreaLeft" fmla="*/ 18360 w 468000"/>
              <a:gd name="textAreaRight" fmla="*/ 449640 w 46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71" h="21600">
                <a:moveTo>
                  <a:pt x="0" y="0"/>
                </a:moveTo>
                <a:lnTo>
                  <a:pt x="35171" y="0"/>
                </a:lnTo>
                <a:lnTo>
                  <a:pt x="35171" y="21600"/>
                </a:lnTo>
                <a:lnTo>
                  <a:pt x="0" y="21600"/>
                </a:lnTo>
                <a:close/>
              </a:path>
              <a:path fill="lightenLess" w="35171" h="21600">
                <a:moveTo>
                  <a:pt x="0" y="0"/>
                </a:moveTo>
                <a:lnTo>
                  <a:pt x="35171" y="0"/>
                </a:lnTo>
                <a:lnTo>
                  <a:pt x="33771" y="1400"/>
                </a:lnTo>
                <a:lnTo>
                  <a:pt x="1400" y="1400"/>
                </a:lnTo>
                <a:close/>
              </a:path>
              <a:path fill="darken" w="35171" h="21600">
                <a:moveTo>
                  <a:pt x="35171" y="0"/>
                </a:moveTo>
                <a:lnTo>
                  <a:pt x="35171" y="21600"/>
                </a:lnTo>
                <a:lnTo>
                  <a:pt x="33771" y="20200"/>
                </a:lnTo>
                <a:lnTo>
                  <a:pt x="33771" y="1400"/>
                </a:lnTo>
                <a:close/>
              </a:path>
              <a:path fill="darkenLess" w="35171" h="21600">
                <a:moveTo>
                  <a:pt x="3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71" y="20200"/>
                </a:lnTo>
                <a:close/>
              </a:path>
              <a:path fill="lighten" w="3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71" h="21600">
                <a:moveTo>
                  <a:pt x="10579" y="10800"/>
                </a:moveTo>
                <a:lnTo>
                  <a:pt x="24592" y="3794"/>
                </a:lnTo>
                <a:lnTo>
                  <a:pt x="2459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3">
            <a:hlinkClick r:id="" action="ppaction://hlinkshowjump?jump=nextslide"/>
          </p:cNvPr>
          <p:cNvSpPr/>
          <p:nvPr/>
        </p:nvSpPr>
        <p:spPr>
          <a:xfrm>
            <a:off x="14749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8" descr="клетки кожицы лука"/>
          <p:cNvPicPr/>
          <p:nvPr/>
        </p:nvPicPr>
        <p:blipFill>
          <a:blip r:embed="rId2"/>
          <a:stretch/>
        </p:blipFill>
        <p:spPr>
          <a:xfrm>
            <a:off x="355680" y="143496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Клетки мякоти листа"/>
          <p:cNvPicPr/>
          <p:nvPr/>
        </p:nvPicPr>
        <p:blipFill>
          <a:blip r:embed="rId3"/>
          <a:stretch/>
        </p:blipFill>
        <p:spPr>
          <a:xfrm>
            <a:off x="395280" y="390060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j0282178"/>
          <p:cNvPicPr/>
          <p:nvPr/>
        </p:nvPicPr>
        <p:blipFill>
          <a:blip r:embed="rId4"/>
          <a:stretch/>
        </p:blipFill>
        <p:spPr>
          <a:xfrm>
            <a:off x="5819760" y="3898800"/>
            <a:ext cx="190008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клетки корня копия"/>
          <p:cNvPicPr/>
          <p:nvPr/>
        </p:nvPicPr>
        <p:blipFill>
          <a:blip r:embed="rId5"/>
          <a:stretch/>
        </p:blipFill>
        <p:spPr>
          <a:xfrm>
            <a:off x="4749840" y="1449360"/>
            <a:ext cx="403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олоч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Picture 5" descr="оболочка древеситы"/>
          <p:cNvPicPr/>
          <p:nvPr/>
        </p:nvPicPr>
        <p:blipFill>
          <a:blip r:embed="rId1"/>
          <a:stretch/>
        </p:blipFill>
        <p:spPr>
          <a:xfrm>
            <a:off x="355680" y="1389240"/>
            <a:ext cx="4038480" cy="2184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177860"/>
          <p:cNvPicPr/>
          <p:nvPr/>
        </p:nvPicPr>
        <p:blipFill>
          <a:blip r:embed="rId2"/>
          <a:stretch/>
        </p:blipFill>
        <p:spPr>
          <a:xfrm>
            <a:off x="4749840" y="1389240"/>
            <a:ext cx="4038480" cy="21841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7">
            <a:hlinkClick r:id="rId3" action="ppaction://hlinksldjump"/>
          </p:cNvPr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8">
            <a:hlinkClick r:id="" action="ppaction://hlinkshowjump?jump=previousslide"/>
          </p:cNvPr>
          <p:cNvSpPr/>
          <p:nvPr/>
        </p:nvSpPr>
        <p:spPr>
          <a:xfrm>
            <a:off x="324000" y="6381720"/>
            <a:ext cx="468000" cy="287280"/>
          </a:xfrm>
          <a:custGeom>
            <a:avLst/>
            <a:gdLst>
              <a:gd name="textAreaLeft" fmla="*/ 18360 w 468000"/>
              <a:gd name="textAreaRight" fmla="*/ 449640 w 46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71" h="21600">
                <a:moveTo>
                  <a:pt x="0" y="0"/>
                </a:moveTo>
                <a:lnTo>
                  <a:pt x="35171" y="0"/>
                </a:lnTo>
                <a:lnTo>
                  <a:pt x="35171" y="21600"/>
                </a:lnTo>
                <a:lnTo>
                  <a:pt x="0" y="21600"/>
                </a:lnTo>
                <a:close/>
              </a:path>
              <a:path fill="lightenLess" w="35171" h="21600">
                <a:moveTo>
                  <a:pt x="0" y="0"/>
                </a:moveTo>
                <a:lnTo>
                  <a:pt x="35171" y="0"/>
                </a:lnTo>
                <a:lnTo>
                  <a:pt x="33771" y="1400"/>
                </a:lnTo>
                <a:lnTo>
                  <a:pt x="1400" y="1400"/>
                </a:lnTo>
                <a:close/>
              </a:path>
              <a:path fill="darken" w="35171" h="21600">
                <a:moveTo>
                  <a:pt x="35171" y="0"/>
                </a:moveTo>
                <a:lnTo>
                  <a:pt x="35171" y="21600"/>
                </a:lnTo>
                <a:lnTo>
                  <a:pt x="33771" y="20200"/>
                </a:lnTo>
                <a:lnTo>
                  <a:pt x="33771" y="1400"/>
                </a:lnTo>
                <a:close/>
              </a:path>
              <a:path fill="darkenLess" w="35171" h="21600">
                <a:moveTo>
                  <a:pt x="3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71" y="20200"/>
                </a:lnTo>
                <a:close/>
              </a:path>
              <a:path fill="lighten" w="3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71" h="21600">
                <a:moveTo>
                  <a:pt x="10579" y="10800"/>
                </a:moveTo>
                <a:lnTo>
                  <a:pt x="24592" y="3794"/>
                </a:lnTo>
                <a:lnTo>
                  <a:pt x="2459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9" descr="icon"/>
          <p:cNvPicPr/>
          <p:nvPr/>
        </p:nvPicPr>
        <p:blipFill>
          <a:blip r:embed="rId4"/>
          <a:stretch/>
        </p:blipFill>
        <p:spPr>
          <a:xfrm>
            <a:off x="355680" y="3908520"/>
            <a:ext cx="4038480" cy="218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proizvodstvo-tkaney-v-chernigove"/>
          <p:cNvPicPr/>
          <p:nvPr/>
        </p:nvPicPr>
        <p:blipFill>
          <a:blip r:embed="rId5"/>
          <a:stretch/>
        </p:blipFill>
        <p:spPr>
          <a:xfrm>
            <a:off x="4749840" y="3908520"/>
            <a:ext cx="40384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традесканция"/>
          <p:cNvPicPr/>
          <p:nvPr/>
        </p:nvPicPr>
        <p:blipFill>
          <a:blip r:embed="rId1"/>
          <a:stretch/>
        </p:blipFill>
        <p:spPr>
          <a:xfrm>
            <a:off x="457200" y="1341360"/>
            <a:ext cx="8231040" cy="4716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итоплазма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898560" y="638028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3"/>
          <p:cNvGrpSpPr/>
          <p:nvPr/>
        </p:nvGrpSpPr>
        <p:grpSpPr>
          <a:xfrm>
            <a:off x="4643280" y="1592280"/>
            <a:ext cx="3528720" cy="3392280"/>
            <a:chOff x="4643280" y="1592280"/>
            <a:chExt cx="3528720" cy="3392280"/>
          </a:xfrm>
        </p:grpSpPr>
        <p:pic>
          <p:nvPicPr>
            <p:cNvPr id="103" name="Picture 3" descr="Движение-цмтоплазмы"/>
            <p:cNvPicPr/>
            <p:nvPr/>
          </p:nvPicPr>
          <p:blipFill>
            <a:blip r:embed="rId2"/>
            <a:stretch/>
          </p:blipFill>
          <p:spPr>
            <a:xfrm>
              <a:off x="4782600" y="1639440"/>
              <a:ext cx="3297600" cy="32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AutoShape 12"/>
            <p:cNvSpPr/>
            <p:nvPr/>
          </p:nvSpPr>
          <p:spPr>
            <a:xfrm>
              <a:off x="4643280" y="1592280"/>
              <a:ext cx="3528720" cy="3392280"/>
            </a:xfrm>
            <a:custGeom>
              <a:avLst/>
              <a:gdLst>
                <a:gd name="textAreaLeft" fmla="*/ 515880 w 3528720"/>
                <a:gd name="textAreaRight" fmla="*/ 3012840 w 3528720"/>
                <a:gd name="textAreaTop" fmla="*/ 495720 h 3392280"/>
                <a:gd name="textAreaBottom" fmla="*/ 2896560 h 33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47" y="10800"/>
                  </a:moveTo>
                  <a:cubicBezTo>
                    <a:pt x="1047" y="16186"/>
                    <a:pt x="5414" y="20553"/>
                    <a:pt x="10800" y="20553"/>
                  </a:cubicBezTo>
                  <a:cubicBezTo>
                    <a:pt x="16186" y="20553"/>
                    <a:pt x="20553" y="16186"/>
                    <a:pt x="20553" y="10800"/>
                  </a:cubicBezTo>
                  <a:cubicBezTo>
                    <a:pt x="20553" y="5414"/>
                    <a:pt x="16186" y="1047"/>
                    <a:pt x="10800" y="1047"/>
                  </a:cubicBezTo>
                  <a:cubicBezTo>
                    <a:pt x="5414" y="1047"/>
                    <a:pt x="1047" y="5414"/>
                    <a:pt x="1047" y="10800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бедев Сергей Николаевич</dc:creator>
  <dc:description/>
  <dc:language>en-US</dc:language>
  <cp:lastModifiedBy>Admin</cp:lastModifiedBy>
  <dcterms:modified xsi:type="dcterms:W3CDTF">2011-01-17T13:03:36Z</dcterms:modified>
  <cp:revision>16</cp:revision>
  <dc:subject/>
  <dc:title>Растительная клет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