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52E-DFB3-42DA-9105-20343A0A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C4A-C500-4406-A8A8-F9B6FF09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CBE-683F-469E-B023-FB0952E3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C8F-74D1-43B7-8575-4A3DF6E0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F0CC-42F2-4923-8EA3-A9039478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00AF-2917-49B6-9309-8C312AAF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4234-7A4A-4F9B-9021-8C04F611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EB9F-1E6C-44A0-A640-8A16B8F2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E264-5043-4B07-8AEF-8FC9624F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A2C7-E2D0-4BD9-AD64-527A0346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93F-4229-42B6-B906-C01CD07D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5B4-C91B-4D33-BF93-CF713DA7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E972-324A-4CD8-ACF1-C814A51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71FB-D2D9-4689-AA07-AB531D77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6CB3-AF18-4B44-83D3-C86D14CA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ACE6-838E-4F42-8703-FDE86CA6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6290-301F-414D-BD83-12CE5A7B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C87-075B-4EE0-9C3C-0950E788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DB0-AFEE-4DC7-92B5-DA6C1EC0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DFF-5662-4EAC-A550-84AEA702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850-2D78-480E-B16B-29095EEF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444-26E6-4BF3-89CB-1169C6CD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B1D-0FFB-408D-A679-0AC17D9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542-4CBD-43CB-B8E0-D8799151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CD08-6D1C-4C49-AB23-E50EBB7A61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C8AB-024B-46EC-BB9E-31B2A77C1B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inenews.ru/uploads/posts/2008-09/1220387076_1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Радиация вокруг нас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х В.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Бочанихинская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иды излучений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5" name="Рисунок 5" descr=""/>
          <p:cNvPicPr/>
          <p:nvPr/>
        </p:nvPicPr>
        <p:blipFill>
          <a:blip r:embed="rId1"/>
          <a:srcRect l="0" t="5731" r="-49" b="11934"/>
          <a:stretch/>
        </p:blipFill>
        <p:spPr>
          <a:xfrm>
            <a:off x="990720" y="12952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7" name="Схема 3" descr=""/>
          <p:cNvPicPr/>
          <p:nvPr/>
        </p:nvPicPr>
        <p:blipFill>
          <a:blip r:embed="rId1"/>
          <a:stretch/>
        </p:blipFill>
        <p:spPr>
          <a:xfrm>
            <a:off x="212760" y="1432080"/>
            <a:ext cx="8798040" cy="40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10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Характеристика степени опасности излучени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из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) – количество энергии ионизирующего излучения, поглощаемое 1 г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об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э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эр = 1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2. ИСТОЧНИКИ ИОНИЗИРУЮЩИХ ИЗЛУЧЕНИЙ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21" name="Group 13"/>
          <p:cNvGrpSpPr/>
          <p:nvPr/>
        </p:nvGrpSpPr>
        <p:grpSpPr>
          <a:xfrm>
            <a:off x="1143000" y="1600200"/>
            <a:ext cx="6477120" cy="837720"/>
            <a:chOff x="1143000" y="1600200"/>
            <a:chExt cx="6477120" cy="837720"/>
          </a:xfrm>
        </p:grpSpPr>
        <p:sp>
          <p:nvSpPr>
            <p:cNvPr id="122" name="AutoShape 16"/>
            <p:cNvSpPr/>
            <p:nvPr/>
          </p:nvSpPr>
          <p:spPr>
            <a:xfrm>
              <a:off x="1143000" y="1600200"/>
              <a:ext cx="647712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 flipH="1">
              <a:off x="2894760" y="1768680"/>
              <a:ext cx="106668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4877280" y="1768680"/>
              <a:ext cx="99036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"/>
          <p:cNvGrpSpPr/>
          <p:nvPr/>
        </p:nvGrpSpPr>
        <p:grpSpPr>
          <a:xfrm>
            <a:off x="0" y="2743200"/>
            <a:ext cx="8305920" cy="3886200"/>
            <a:chOff x="0" y="2743200"/>
            <a:chExt cx="8305920" cy="3886200"/>
          </a:xfrm>
        </p:grpSpPr>
        <p:sp>
          <p:nvSpPr>
            <p:cNvPr id="126" name="AutoShape 12"/>
            <p:cNvSpPr/>
            <p:nvPr/>
          </p:nvSpPr>
          <p:spPr>
            <a:xfrm>
              <a:off x="0" y="2743200"/>
              <a:ext cx="83059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5178600" y="2743200"/>
              <a:ext cx="3126960" cy="365688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ИСКУС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е произво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томные электро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-энергетические устано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ециальные военные 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дицинская рентгеновская аппа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ытовые излуч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2540160" y="3657240"/>
              <a:ext cx="2248200" cy="21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ЗЕМ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стественные радиоактивные вещества (радон и др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949320" y="2753640"/>
              <a:ext cx="2708640" cy="50796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ЕСТЕ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97920" y="3701880"/>
              <a:ext cx="2247120" cy="21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КОСМ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вездные взрыв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нечные вспыш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H="1">
              <a:off x="1270080" y="3314520"/>
              <a:ext cx="58608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2736360" y="3314520"/>
              <a:ext cx="78084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8"/>
          <p:cNvSpPr/>
          <p:nvPr/>
        </p:nvSpPr>
        <p:spPr>
          <a:xfrm>
            <a:off x="18288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304920" y="1752480"/>
            <a:ext cx="8381880" cy="3885840"/>
            <a:chOff x="304920" y="1752480"/>
            <a:chExt cx="8381880" cy="3885840"/>
          </a:xfrm>
        </p:grpSpPr>
        <p:sp>
          <p:nvSpPr>
            <p:cNvPr id="135" name="AutoShape 10"/>
            <p:cNvSpPr/>
            <p:nvPr/>
          </p:nvSpPr>
          <p:spPr>
            <a:xfrm>
              <a:off x="304920" y="2057400"/>
              <a:ext cx="8381880" cy="35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1980720" y="1752480"/>
              <a:ext cx="1523880" cy="60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629680" y="2555280"/>
              <a:ext cx="28206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УТРЕН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"/>
            <p:cNvSpPr/>
            <p:nvPr/>
          </p:nvSpPr>
          <p:spPr>
            <a:xfrm>
              <a:off x="600480" y="2555280"/>
              <a:ext cx="28602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ЕШ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403560" y="3151800"/>
              <a:ext cx="3548160" cy="14911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е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м выше над уровнем моря, тем выше ради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4840560" y="3151800"/>
              <a:ext cx="3845880" cy="24865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утри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дыхательные пути (пыль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ищеварительный тракт (пища, вода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оврежденную кож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Line 11"/>
          <p:cNvSpPr/>
          <p:nvPr/>
        </p:nvSpPr>
        <p:spPr>
          <a:xfrm>
            <a:off x="5410080" y="1752480"/>
            <a:ext cx="15242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600200" y="823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3. ОБЛУЧЕНИЕ 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0" y="510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286000" y="4952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7668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4. Нормы радиационной безопасност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2514600"/>
          <a:ext cx="7848360" cy="3124080"/>
        </p:xfrm>
        <a:graphic>
          <a:graphicData uri="http://schemas.openxmlformats.org/drawingml/2006/table">
            <a:tbl>
              <a:tblPr/>
              <a:tblGrid>
                <a:gridCol w="3603600"/>
                <a:gridCol w="42447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 до 12 мкР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радиационный ф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– 100 мбэр (0,03 -0,1 бэ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доза обл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мбэ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ое облучение за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43"/>
          <p:cNvSpPr/>
          <p:nvPr/>
        </p:nvSpPr>
        <p:spPr>
          <a:xfrm>
            <a:off x="0" y="397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Пенкина.FB141FE2CCDD411\Мои документы\Пенкина О.В\ФотоОБЖ\ЧС техног\Аварии на РОО\{1050A855-ED3A-4226-A7EA-7DBDCEBF61EA}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иды излучения вы теперь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из них самое опас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единицах измеряется доза:                а) излучения, б)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н – это искусственный или естественный источник из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 больше облучается:                                  а) живущие на равнине, б) живущие в го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годовая доза естественного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роверим себя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ьфа, бета, гамма – из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мма-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ентген, б) 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енный 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-100 м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4.1. перес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 кроссворд или  ребус из опорных слов (не менее 10), которые есть на схе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«Балаково – город энергетиков, химиков и строителей»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ОО «Химволок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ОО «Балаковские минеральные удобр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О «Балаковорезинотех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Documents and Settings\ПЕНКИН\Мои документы\Ольга\Работа школа\фото ОБЖ\IMG0257A.jpg"/>
          <p:cNvPicPr/>
          <p:nvPr/>
        </p:nvPicPr>
        <p:blipFill>
          <a:blip r:embed="rId1"/>
          <a:srcRect l="0" t="16411" r="0" b="28204"/>
          <a:stretch/>
        </p:blipFill>
        <p:spPr>
          <a:xfrm>
            <a:off x="2057400" y="3809880"/>
            <a:ext cx="5686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"/>
          <p:cNvSpPr txBox="1"/>
          <p:nvPr/>
        </p:nvSpPr>
        <p:spPr>
          <a:xfrm>
            <a:off x="1447920" y="1752480"/>
            <a:ext cx="64767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6600"/>
                </a:solidFill>
                <a:uFillTx/>
                <a:latin typeface="Arial"/>
              </a:rPr>
              <a:t>Игра «Лови ошибку»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известно, что стюардессы очень красивы и молоды. Среди них нет пожилых женщин, так как они уходят на пенсию в 35 лет. Это связано с тем, что авиакомпании не хотят нанимать уже не молодых жен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Используемые источник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2b00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Город энергетиков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88" name="Diagram 5"/>
          <p:cNvGrpSpPr/>
          <p:nvPr/>
        </p:nvGrpSpPr>
        <p:grpSpPr>
          <a:xfrm>
            <a:off x="1288080" y="1719720"/>
            <a:ext cx="6567480" cy="3773160"/>
            <a:chOff x="1288080" y="1719720"/>
            <a:chExt cx="6567480" cy="3773160"/>
          </a:xfrm>
        </p:grpSpPr>
        <p:sp>
          <p:nvSpPr>
            <p:cNvPr id="89" name="_s1028"/>
            <p:cNvSpPr/>
            <p:nvPr/>
          </p:nvSpPr>
          <p:spPr>
            <a:xfrm>
              <a:off x="3684600" y="2390400"/>
              <a:ext cx="1775880" cy="19148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9"/>
            <p:cNvSpPr/>
            <p:nvPr/>
          </p:nvSpPr>
          <p:spPr>
            <a:xfrm>
              <a:off x="3684600" y="1719720"/>
              <a:ext cx="177588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ГЭ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0"/>
            <p:cNvSpPr/>
            <p:nvPr/>
          </p:nvSpPr>
          <p:spPr>
            <a:xfrm>
              <a:off x="4269240" y="3484800"/>
              <a:ext cx="1775880" cy="19148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1"/>
            <p:cNvSpPr/>
            <p:nvPr/>
          </p:nvSpPr>
          <p:spPr>
            <a:xfrm>
              <a:off x="6079320" y="5014800"/>
              <a:ext cx="17762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АЭ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2"/>
            <p:cNvSpPr/>
            <p:nvPr/>
          </p:nvSpPr>
          <p:spPr>
            <a:xfrm>
              <a:off x="3098160" y="3482640"/>
              <a:ext cx="1775880" cy="19148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3"/>
            <p:cNvSpPr/>
            <p:nvPr/>
          </p:nvSpPr>
          <p:spPr>
            <a:xfrm>
              <a:off x="1288080" y="5014800"/>
              <a:ext cx="17762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ТЭ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Как работает атомная электростанция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С использует энергию атома, которая нагревает воду, превращая ее в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 вращает тур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низирующее излучение и его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излучений (естественные и искусствен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е и внешнее облучение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радиационной безопас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4920" y="220968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на не слышна, не видна, не пахнет, не дымит. Определяется только приборами. Не безобидн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4" descr=""/>
          <p:cNvPicPr/>
          <p:nvPr/>
        </p:nvPicPr>
        <p:blipFill>
          <a:blip r:embed="rId1"/>
          <a:stretch/>
        </p:blipFill>
        <p:spPr>
          <a:xfrm>
            <a:off x="4827600" y="4280040"/>
            <a:ext cx="4249800" cy="114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Что общего между этими тремя датами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и 9 августа 1945 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 апреля 198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росима и Нагасак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бы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Картинка 48 из 10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523880"/>
            <a:ext cx="3581640" cy="2640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5410080" y="43434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1. Ионизирующее излуч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5 г. – В.Рентг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6 г. – А.Бекке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8 г. – М.Кюри и П.Кю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1986120" cy="221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086600" y="2451240"/>
            <a:ext cx="1638360" cy="239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5638680" y="4489560"/>
            <a:ext cx="175284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ирующее изл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токи заряженных и нейтральных частиц, а также электромагнитных во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хождении через вещество вызывают в н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евращение нейтральных атомов и молекул в электрически заряженные неустойчивые части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27T03:19:3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