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2F27-F22A-4D2A-9691-C0D9544B8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647E-7A44-4D69-B36A-B35FCF62C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0C11-21A7-4890-90A9-445212AC1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926C-D0D3-4670-93D5-D675B0EA2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E8F24-FD56-4418-A8FD-C37CB7AE6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FD9F1-E2D5-4A97-94A8-1F621FE76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C10C4-FA59-4D3D-A0C5-1CFE83190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459EB-F35E-4858-B15C-6351A1EDD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2438A-7154-4812-A50B-FEB246AAC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8A13A-961D-4E24-BDF6-F5E35A88C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B44CB-B90C-4728-9168-1580B992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4483-BE2C-4D27-9078-1D64DF9AF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52E76-5938-471D-8A0E-9A1ED2F1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7E389-4F73-457A-B635-04FE5565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250D1-5E8C-4C01-8A0B-CDAEFD071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3CFAA-D61E-487B-A84B-9B2BE0678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81D2E-B193-47AC-8EAA-6804CD1C3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6749-AA6D-4B3F-A963-C60636A13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9C56-80C3-4E32-A81A-A5EFE2DD3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1419-B5B5-4209-A2A6-5E7A8DDE0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2347-EEB2-4CD6-947F-48791D548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37E9-9BD9-4CDF-84A8-868AE748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5C06-B04B-4E96-B5AD-23FEA992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9E01-83D9-496D-A652-BE87C9F6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40712-FF5A-4200-B905-1280DFA1594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EDC59-1CAB-4648-A311-6D4D8B9A545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mages.yandex.ru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linenews.ru/uploads/posts/2008-09/1220387076_1.jpg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Радиация вокруг нас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ОБ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ях В.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У Бочанихинская О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Виды излучений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15" name="Рисунок 5" descr=""/>
          <p:cNvPicPr/>
          <p:nvPr/>
        </p:nvPicPr>
        <p:blipFill>
          <a:blip r:embed="rId1"/>
          <a:srcRect l="0" t="5731" r="-49" b="11934"/>
          <a:stretch/>
        </p:blipFill>
        <p:spPr>
          <a:xfrm>
            <a:off x="990720" y="1295280"/>
            <a:ext cx="7467480" cy="510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17" name="Схема 3" descr=""/>
          <p:cNvPicPr/>
          <p:nvPr/>
        </p:nvPicPr>
        <p:blipFill>
          <a:blip r:embed="rId1"/>
          <a:stretch/>
        </p:blipFill>
        <p:spPr>
          <a:xfrm>
            <a:off x="212760" y="1432080"/>
            <a:ext cx="8798040" cy="409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6" dur="1000" autoRev="1" fill="hold"/>
                                        <p:tgtEl>
                                          <p:spTgt spid="1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6600"/>
                </a:solidFill>
                <a:latin typeface="Arial"/>
              </a:rPr>
              <a:t>Характеристика степени опасности излучения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680" y="1980720"/>
            <a:ext cx="8540640" cy="41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оза излуче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Р) – количество энергии ионизирующего излучения, поглощаемое 1 г вещ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оза облуче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бэр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бэр = 1 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"/>
              </a:rPr>
              <a:t>2. ИСТОЧНИКИ ИОНИЗИРУЮЩИХ ИЗЛУЧЕНИЙ</a:t>
            </a: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21" name="Group 13"/>
          <p:cNvGrpSpPr/>
          <p:nvPr/>
        </p:nvGrpSpPr>
        <p:grpSpPr>
          <a:xfrm>
            <a:off x="1143000" y="1600200"/>
            <a:ext cx="6477120" cy="837720"/>
            <a:chOff x="1143000" y="1600200"/>
            <a:chExt cx="6477120" cy="837720"/>
          </a:xfrm>
        </p:grpSpPr>
        <p:sp>
          <p:nvSpPr>
            <p:cNvPr id="122" name="AutoShape 16"/>
            <p:cNvSpPr/>
            <p:nvPr/>
          </p:nvSpPr>
          <p:spPr>
            <a:xfrm>
              <a:off x="1143000" y="1600200"/>
              <a:ext cx="6477120" cy="83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5"/>
            <p:cNvSpPr/>
            <p:nvPr/>
          </p:nvSpPr>
          <p:spPr>
            <a:xfrm flipH="1">
              <a:off x="2894760" y="1768680"/>
              <a:ext cx="1066680" cy="669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4"/>
            <p:cNvSpPr/>
            <p:nvPr/>
          </p:nvSpPr>
          <p:spPr>
            <a:xfrm>
              <a:off x="4877280" y="1768680"/>
              <a:ext cx="990360" cy="669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5"/>
          <p:cNvGrpSpPr/>
          <p:nvPr/>
        </p:nvGrpSpPr>
        <p:grpSpPr>
          <a:xfrm>
            <a:off x="0" y="2743200"/>
            <a:ext cx="8305920" cy="3886200"/>
            <a:chOff x="0" y="2743200"/>
            <a:chExt cx="8305920" cy="3886200"/>
          </a:xfrm>
        </p:grpSpPr>
        <p:sp>
          <p:nvSpPr>
            <p:cNvPr id="126" name="AutoShape 12"/>
            <p:cNvSpPr/>
            <p:nvPr/>
          </p:nvSpPr>
          <p:spPr>
            <a:xfrm>
              <a:off x="0" y="2743200"/>
              <a:ext cx="8305920" cy="38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1"/>
            <p:cNvSpPr/>
            <p:nvPr/>
          </p:nvSpPr>
          <p:spPr>
            <a:xfrm>
              <a:off x="5178600" y="2743200"/>
              <a:ext cx="3126960" cy="3656880"/>
            </a:xfrm>
            <a:prstGeom prst="rect">
              <a:avLst/>
            </a:prstGeom>
            <a:solidFill>
              <a:srgbClr val="fbee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u="sng">
                  <a:solidFill>
                    <a:srgbClr val="0000ff"/>
                  </a:solidFill>
                  <a:uFillTx/>
                  <a:latin typeface="Arial"/>
                  <a:ea typeface="Times New Roman"/>
                </a:rPr>
                <a:t>ИСКУССТВЕННО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Ядерное производств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Атомные электростан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Ядерно-энергетические установ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пециальные военные объек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Медицинская рентгеновская аппаратур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Бытовые излучател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10"/>
            <p:cNvSpPr/>
            <p:nvPr/>
          </p:nvSpPr>
          <p:spPr>
            <a:xfrm>
              <a:off x="2540160" y="3657240"/>
              <a:ext cx="2248200" cy="2173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 u="sng">
                  <a:solidFill>
                    <a:srgbClr val="003300"/>
                  </a:solidFill>
                  <a:uFillTx/>
                  <a:latin typeface="Arial"/>
                  <a:ea typeface="Times New Roman"/>
                </a:rPr>
                <a:t>ЗЕМНО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Естественные радиоактивные вещества (радон и др.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9"/>
            <p:cNvSpPr/>
            <p:nvPr/>
          </p:nvSpPr>
          <p:spPr>
            <a:xfrm>
              <a:off x="949320" y="2753640"/>
              <a:ext cx="2708640" cy="507960"/>
            </a:xfrm>
            <a:prstGeom prst="rect">
              <a:avLst/>
            </a:prstGeom>
            <a:solidFill>
              <a:srgbClr val="fbee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u="sng">
                  <a:solidFill>
                    <a:srgbClr val="0000ff"/>
                  </a:solidFill>
                  <a:uFillTx/>
                  <a:latin typeface="Arial"/>
                  <a:ea typeface="Times New Roman"/>
                </a:rPr>
                <a:t>ЕСТЕСТВЕННО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8"/>
            <p:cNvSpPr/>
            <p:nvPr/>
          </p:nvSpPr>
          <p:spPr>
            <a:xfrm>
              <a:off x="97920" y="3701880"/>
              <a:ext cx="2247120" cy="212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 u="sng">
                  <a:solidFill>
                    <a:srgbClr val="003300"/>
                  </a:solidFill>
                  <a:uFillTx/>
                  <a:latin typeface="Arial"/>
                  <a:ea typeface="Times New Roman"/>
                </a:rPr>
                <a:t>КОСМИЧЕСКО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Звездные взрыв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олнечные вспыш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7"/>
            <p:cNvSpPr/>
            <p:nvPr/>
          </p:nvSpPr>
          <p:spPr>
            <a:xfrm flipH="1">
              <a:off x="1270080" y="3314520"/>
              <a:ext cx="586080" cy="342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6"/>
            <p:cNvSpPr/>
            <p:nvPr/>
          </p:nvSpPr>
          <p:spPr>
            <a:xfrm>
              <a:off x="2736360" y="3314520"/>
              <a:ext cx="780840" cy="342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Rectangle 18"/>
          <p:cNvSpPr/>
          <p:nvPr/>
        </p:nvSpPr>
        <p:spPr>
          <a:xfrm>
            <a:off x="1828800" y="2637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4"/>
          <p:cNvGrpSpPr/>
          <p:nvPr/>
        </p:nvGrpSpPr>
        <p:grpSpPr>
          <a:xfrm>
            <a:off x="304920" y="1752480"/>
            <a:ext cx="8381880" cy="3885840"/>
            <a:chOff x="304920" y="1752480"/>
            <a:chExt cx="8381880" cy="3885840"/>
          </a:xfrm>
        </p:grpSpPr>
        <p:sp>
          <p:nvSpPr>
            <p:cNvPr id="135" name="AutoShape 10"/>
            <p:cNvSpPr/>
            <p:nvPr/>
          </p:nvSpPr>
          <p:spPr>
            <a:xfrm>
              <a:off x="304920" y="2057400"/>
              <a:ext cx="8381880" cy="358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9"/>
            <p:cNvSpPr/>
            <p:nvPr/>
          </p:nvSpPr>
          <p:spPr>
            <a:xfrm flipH="1">
              <a:off x="1980720" y="1752480"/>
              <a:ext cx="1523880" cy="60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8"/>
            <p:cNvSpPr/>
            <p:nvPr/>
          </p:nvSpPr>
          <p:spPr>
            <a:xfrm>
              <a:off x="5629680" y="2555280"/>
              <a:ext cx="2820600" cy="496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ВНУТРЕННЕ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7"/>
            <p:cNvSpPr/>
            <p:nvPr/>
          </p:nvSpPr>
          <p:spPr>
            <a:xfrm>
              <a:off x="600480" y="2555280"/>
              <a:ext cx="2860200" cy="496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ВНЕШНЕ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6"/>
            <p:cNvSpPr/>
            <p:nvPr/>
          </p:nvSpPr>
          <p:spPr>
            <a:xfrm>
              <a:off x="403560" y="3151800"/>
              <a:ext cx="3548160" cy="1491120"/>
            </a:xfrm>
            <a:prstGeom prst="rect">
              <a:avLst/>
            </a:prstGeom>
            <a:solidFill>
              <a:srgbClr val="ecd04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Источник – </a:t>
              </a:r>
              <a:r>
                <a:rPr b="1" lang="ru-RU" sz="2000" spc="-1" strike="noStrike" u="sng">
                  <a:solidFill>
                    <a:srgbClr val="003300"/>
                  </a:solidFill>
                  <a:uFillTx/>
                  <a:latin typeface="Arial"/>
                  <a:ea typeface="Times New Roman"/>
                </a:rPr>
                <a:t>вне</a:t>
              </a:r>
              <a:r>
                <a:rPr b="0" lang="ru-RU" sz="2000" spc="-1" strike="noStrike" u="sng">
                  <a:solidFill>
                    <a:srgbClr val="ff9900"/>
                  </a:solidFill>
                  <a:uFillTx/>
                  <a:latin typeface="Arial"/>
                  <a:ea typeface="Times New Roman"/>
                </a:rPr>
                <a:t> </a:t>
              </a:r>
              <a:r>
                <a:rPr b="0" lang="ru-RU" sz="20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организма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Чем выше над уровнем моря, тем выше радиац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5"/>
            <p:cNvSpPr/>
            <p:nvPr/>
          </p:nvSpPr>
          <p:spPr>
            <a:xfrm>
              <a:off x="4840560" y="3151800"/>
              <a:ext cx="3845880" cy="2486520"/>
            </a:xfrm>
            <a:prstGeom prst="rect">
              <a:avLst/>
            </a:prstGeom>
            <a:solidFill>
              <a:srgbClr val="ecd04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Источник – </a:t>
              </a:r>
              <a:r>
                <a:rPr b="1" lang="ru-RU" sz="2000" spc="-1" strike="noStrike" u="sng">
                  <a:solidFill>
                    <a:srgbClr val="003300"/>
                  </a:solidFill>
                  <a:uFillTx/>
                  <a:latin typeface="Arial"/>
                  <a:ea typeface="Times New Roman"/>
                </a:rPr>
                <a:t>внутри</a:t>
              </a:r>
              <a:r>
                <a:rPr b="0" lang="ru-RU" sz="2000" spc="-1" strike="noStrike" u="sng">
                  <a:solidFill>
                    <a:srgbClr val="ff9900"/>
                  </a:solidFill>
                  <a:uFillTx/>
                  <a:latin typeface="Arial"/>
                  <a:ea typeface="Times New Roman"/>
                </a:rPr>
                <a:t> </a:t>
              </a:r>
              <a:r>
                <a:rPr b="0" lang="ru-RU" sz="20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организм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Через дыхательные пути (пыль)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Через пищеварительный тракт (пища, вода)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Через поврежденную кожу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Line 11"/>
          <p:cNvSpPr/>
          <p:nvPr/>
        </p:nvSpPr>
        <p:spPr>
          <a:xfrm>
            <a:off x="5410080" y="1752480"/>
            <a:ext cx="152424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1600200" y="823320"/>
            <a:ext cx="609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3. ОБЛУЧЕНИЕ 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0" y="16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8"/>
          <p:cNvSpPr/>
          <p:nvPr/>
        </p:nvSpPr>
        <p:spPr>
          <a:xfrm>
            <a:off x="0" y="510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2286000" y="4952880"/>
            <a:ext cx="2133720" cy="16066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"/>
          <p:cNvPicPr/>
          <p:nvPr/>
        </p:nvPicPr>
        <p:blipFill>
          <a:blip r:embed="rId2"/>
          <a:stretch/>
        </p:blipFill>
        <p:spPr>
          <a:xfrm>
            <a:off x="228600" y="4800600"/>
            <a:ext cx="1766880" cy="129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6600"/>
                </a:solidFill>
                <a:latin typeface="Arial"/>
              </a:rPr>
              <a:t>4. Нормы радиационной безопасности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533520" y="2514600"/>
          <a:ext cx="7848360" cy="3124080"/>
        </p:xfrm>
        <a:graphic>
          <a:graphicData uri="http://schemas.openxmlformats.org/drawingml/2006/table">
            <a:tbl>
              <a:tblPr/>
              <a:tblGrid>
                <a:gridCol w="3603600"/>
                <a:gridCol w="4244760"/>
              </a:tblGrid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4 до 12 мкР/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ественный радиационный ф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– 100 мбэр (0,03 -0,1 бэр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овая доза облуч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 мбэ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устимое облучение за г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Rectangle 43"/>
          <p:cNvSpPr/>
          <p:nvPr/>
        </p:nvSpPr>
        <p:spPr>
          <a:xfrm>
            <a:off x="0" y="397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C:\Documents and Settings\Пенкина.FB141FE2CCDD411\Мои документы\Пенкина О.В\ФотоОБЖ\ЧС техног\Аварии на РОО\{1050A855-ED3A-4226-A7EA-7DBDCEBF61EA}.jpg"/>
          <p:cNvPicPr/>
          <p:nvPr/>
        </p:nvPicPr>
        <p:blipFill>
          <a:blip r:embed="rId1"/>
          <a:stretch/>
        </p:blipFill>
        <p:spPr>
          <a:xfrm>
            <a:off x="-103320" y="0"/>
            <a:ext cx="9247320" cy="693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Закрепление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е виды излучения вы теперь знает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е из них самое опасно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каких единицах измеряется доза:                а) излучения, б) облуч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дон – это искусственный или естественный источник излуч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то  больше облучается:                                  а) живущие на равнине, б) живущие в гора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ва годовая доза естественного облуч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Проверим себя!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льфа, бета, гамма – изуч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амма-излуч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Рентген, б) бэ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тественный источ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0-100 мбэ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§ 4.1. переск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ить  кроссворд или  ребус из опорных слов (не менее 10), которые есть на схем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6600"/>
                </a:solidFill>
                <a:latin typeface="Arial"/>
              </a:rPr>
              <a:t>«Балаково – город энергетиков, химиков и строителей»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ОО «Химволокно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ОО «Балаковские минеральные удобрени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АО «Балаковорезинотехни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C:\Documents and Settings\ПЕНКИН\Мои документы\Ольга\Работа школа\фото ОБЖ\IMG0257A.jpg"/>
          <p:cNvPicPr/>
          <p:nvPr/>
        </p:nvPicPr>
        <p:blipFill>
          <a:blip r:embed="rId1"/>
          <a:srcRect l="0" t="16411" r="0" b="28204"/>
          <a:stretch/>
        </p:blipFill>
        <p:spPr>
          <a:xfrm>
            <a:off x="2057400" y="3809880"/>
            <a:ext cx="5686560" cy="236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WordArt 2"/>
          <p:cNvSpPr txBox="1"/>
          <p:nvPr/>
        </p:nvSpPr>
        <p:spPr>
          <a:xfrm>
            <a:off x="1447920" y="1752480"/>
            <a:ext cx="647676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лодцы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c6600"/>
                </a:solidFill>
                <a:uFillTx/>
                <a:latin typeface="Arial"/>
              </a:rPr>
              <a:t>Игра «Лови ошибку»</a:t>
            </a:r>
            <a:br>
              <a:rPr sz="4000"/>
            </a:b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м известно, что стюардессы очень красивы и молоды. Среди них нет пожилых женщин, так как они уходят на пенсию в 35 лет. Это связано с тем, что авиакомпании не хотят нанимать уже не молодых женщ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Используемые источники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42b00"/>
                </a:solidFill>
                <a:uFillTx/>
                <a:latin typeface="Arial"/>
                <a:hlinkClick r:id="rId1"/>
              </a:rPr>
              <a:t>http://images.yandex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Город энергетиков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88" name="Diagram 5"/>
          <p:cNvGrpSpPr/>
          <p:nvPr/>
        </p:nvGrpSpPr>
        <p:grpSpPr>
          <a:xfrm>
            <a:off x="1288080" y="1719720"/>
            <a:ext cx="6567480" cy="3773160"/>
            <a:chOff x="1288080" y="1719720"/>
            <a:chExt cx="6567480" cy="3773160"/>
          </a:xfrm>
        </p:grpSpPr>
        <p:sp>
          <p:nvSpPr>
            <p:cNvPr id="89" name="_s1028"/>
            <p:cNvSpPr/>
            <p:nvPr/>
          </p:nvSpPr>
          <p:spPr>
            <a:xfrm>
              <a:off x="3684600" y="2390400"/>
              <a:ext cx="1775880" cy="1914840"/>
            </a:xfrm>
            <a:prstGeom prst="ellipse">
              <a:avLst/>
            </a:prstGeom>
            <a:solidFill>
              <a:srgbClr val="0399ff">
                <a:alpha val="50000"/>
              </a:srgbClr>
            </a:solidFill>
            <a:ln w="936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1029"/>
            <p:cNvSpPr/>
            <p:nvPr/>
          </p:nvSpPr>
          <p:spPr>
            <a:xfrm>
              <a:off x="3684600" y="1719720"/>
              <a:ext cx="1775880" cy="47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ГЭ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1030"/>
            <p:cNvSpPr/>
            <p:nvPr/>
          </p:nvSpPr>
          <p:spPr>
            <a:xfrm>
              <a:off x="4269240" y="3484800"/>
              <a:ext cx="1775880" cy="1914840"/>
            </a:xfrm>
            <a:prstGeom prst="ellipse">
              <a:avLst/>
            </a:prstGeom>
            <a:solidFill>
              <a:srgbClr val="f60802">
                <a:alpha val="50000"/>
              </a:srgbClr>
            </a:solidFill>
            <a:ln w="9360">
              <a:solidFill>
                <a:srgbClr val="f6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031"/>
            <p:cNvSpPr/>
            <p:nvPr/>
          </p:nvSpPr>
          <p:spPr>
            <a:xfrm>
              <a:off x="6079320" y="5014800"/>
              <a:ext cx="1776240" cy="47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АЭ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032"/>
            <p:cNvSpPr/>
            <p:nvPr/>
          </p:nvSpPr>
          <p:spPr>
            <a:xfrm>
              <a:off x="3098160" y="3482640"/>
              <a:ext cx="1775880" cy="1914840"/>
            </a:xfrm>
            <a:prstGeom prst="ellipse">
              <a:avLst/>
            </a:prstGeom>
            <a:solidFill>
              <a:srgbClr val="f1fd09">
                <a:alpha val="50000"/>
              </a:srgbClr>
            </a:solidFill>
            <a:ln w="9360">
              <a:solidFill>
                <a:srgbClr val="f1f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033"/>
            <p:cNvSpPr/>
            <p:nvPr/>
          </p:nvSpPr>
          <p:spPr>
            <a:xfrm>
              <a:off x="1288080" y="5014800"/>
              <a:ext cx="1776240" cy="47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ТЭЦ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6600"/>
                </a:solidFill>
                <a:latin typeface="Arial"/>
              </a:rPr>
              <a:t>Как работает атомная электростанция?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55656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ЭС использует энергию атома, которая нагревает воду, превращая ее в па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 вращает турби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5715000" y="1752480"/>
            <a:ext cx="304812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8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План урока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онизирующее излучение и его ви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чники излучений (естественные и искусственны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утреннее и внешнее облучение организ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рмы радиационной безопасности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Что это?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94920" y="2209680"/>
            <a:ext cx="723924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Она не слышна, не видна, не пахнет, не дымит. Определяется только приборами. Не безобидна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Прямоугольник 4" descr=""/>
          <p:cNvPicPr/>
          <p:nvPr/>
        </p:nvPicPr>
        <p:blipFill>
          <a:blip r:embed="rId1"/>
          <a:stretch/>
        </p:blipFill>
        <p:spPr>
          <a:xfrm>
            <a:off x="4827600" y="4280040"/>
            <a:ext cx="4249800" cy="114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6600"/>
                </a:solidFill>
                <a:latin typeface="Arial"/>
              </a:rPr>
              <a:t>Что общего между этими тремя датами?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 и 9 августа 1945 г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6 апреля 1986 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иросима и Нагасаки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рнобы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Картинка 48 из 10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81480" y="1523880"/>
            <a:ext cx="3581640" cy="26402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"/>
          <p:cNvPicPr/>
          <p:nvPr/>
        </p:nvPicPr>
        <p:blipFill>
          <a:blip r:embed="rId3"/>
          <a:stretch/>
        </p:blipFill>
        <p:spPr>
          <a:xfrm>
            <a:off x="5410080" y="4343400"/>
            <a:ext cx="2971800" cy="222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1. Ионизирующее излучение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895 г. – В.Рентге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896 г. – А.Беккер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898 г. – М.Кюри и П.Кю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4724280" y="1295280"/>
            <a:ext cx="1986120" cy="22100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7086600" y="2451240"/>
            <a:ext cx="1638360" cy="23907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3"/>
          <a:stretch/>
        </p:blipFill>
        <p:spPr>
          <a:xfrm>
            <a:off x="5638680" y="4489560"/>
            <a:ext cx="1752840" cy="236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Ионизирующее излуч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потоки заряженных и нейтральных частиц, а также электромагнитных вол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прохождении через вещество вызывают в нем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ионизаци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превращение нейтральных атомов и молекул в электрически заряженные неустойчивые частиц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1-27T03:19:38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