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6AD-4B2C-45A8-BC21-59AFEBB6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ECC-57BB-49E5-BCD6-64860AA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E35-BA57-4C90-AACF-3F9DC992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039-9EB3-42D6-AE93-8EE03693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6DAE-CD79-4F13-8866-167062CE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211-36F5-4A12-A63A-AD908E13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A59F-78BE-4A75-A948-91E751C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4FDC-BDB9-402D-BCCE-A604CAEF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C237-E75C-4484-84D5-41D3717B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7EFC-4AD3-47FF-8B4A-1A0C8E70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26F2-220C-445E-9C95-5D1A82C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66C-2B19-4989-A015-579C7CF3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427A-429C-404E-81CE-6F1D3BD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F26-CF5E-4808-8B4D-A8106A70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8510-913D-478D-ADA6-B8E039AC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6C3-05F6-4F85-A954-95F9E45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6FA9-AFDB-42E8-9F7D-64BF113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A3D-DAA1-4FE2-9CB9-188283FB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683-8D2B-405E-A5A7-80FAF454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9F4-D2C0-4CCE-BB86-3C63740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06D-BBE7-4216-90D7-33DF2A3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768-B6BC-4437-B2F7-2757353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70E-940F-4998-8F25-FC0A427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31-5187-4615-A790-994CBCF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D73-C025-4D14-AD74-BFCF342C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37F-DED1-4D80-880E-8B51677D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«Куровская  средняя  общеобразовательная  школа  № 6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 учителя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шуровой Т.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00000" y="1989000"/>
            <a:ext cx="7532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к новым берегам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692280"/>
            <a:ext cx="3240360" cy="30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124000" y="549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50920" y="1916280"/>
            <a:ext cx="57600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419640" y="1628640"/>
            <a:ext cx="64908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84360" y="3357720"/>
            <a:ext cx="502920" cy="502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57680" y="2643120"/>
            <a:ext cx="410364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627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627280" y="3068640"/>
            <a:ext cx="50652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2987640" y="2492280"/>
            <a:ext cx="57636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843280" y="3789360"/>
            <a:ext cx="865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3780000" y="2708280"/>
            <a:ext cx="0" cy="1081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059280" y="3573360"/>
            <a:ext cx="5047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8"/>
          <p:cNvSpPr/>
          <p:nvPr/>
        </p:nvSpPr>
        <p:spPr>
          <a:xfrm>
            <a:off x="3635280" y="2997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ю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364000" y="2565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932360" y="4221000"/>
            <a:ext cx="3168720" cy="235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948360" y="4292640"/>
            <a:ext cx="0" cy="1152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4932360" y="5445000"/>
            <a:ext cx="1944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6588000" y="2997360"/>
            <a:ext cx="50508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4"/>
          <p:cNvSpPr/>
          <p:nvPr/>
        </p:nvSpPr>
        <p:spPr>
          <a:xfrm>
            <a:off x="6659640" y="4581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5580000" y="3860640"/>
            <a:ext cx="576360" cy="482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4643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5580000" y="5229360"/>
            <a:ext cx="64764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3635280" y="5084640"/>
            <a:ext cx="50508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7308720" y="3933720"/>
            <a:ext cx="576360" cy="505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7812000" y="5229360"/>
            <a:ext cx="64764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6588000" y="6165720"/>
            <a:ext cx="64800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4572000" y="5734080"/>
            <a:ext cx="647640" cy="62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5000"/>
          </a:bodyPr>
          <a:p>
            <a:pPr marL="48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й класс голосеменных имеет наибольшее чис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идов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Чем представлены листья хвойных растений?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Из чего развиваются семена хвойных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Сколько лет живут листья у лиственниц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Что получают из древесины сосны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Как называются летучие вещества хвойных деревье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Как называется смола хвойных деревьев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Где расположены женские шишки у сосны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 Где располагаются мужские шишки у сосн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Спорофит или гаметофит преобладает в жизненном   цикле 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4000" y="357120"/>
            <a:ext cx="777708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ган    ВОПРОСОВ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d7f4fd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Растение –кустар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иголками колюч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ягодами син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Но вовсе не съедобно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олотая к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еленые кудряш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Шишки вкусные всег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Для белки и для дятла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Зелена зимой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летом и весн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В Новый год меня нарядя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подарки принес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берегах Тавриды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Мы увидели пирами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е простые –каменистые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А зеленые – деревянист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Стоят как на страж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И нет их кра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Шишки треснут, семя разлети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земле Тавриды, ….  родится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Два листа у нее , два лис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Почему же растет сотни ле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Очень жаркие там ме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И дождей то все нет и 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Иголки у него, а не елк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«Ягоды» красные, не виш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Что же это вышло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42960" y="642960"/>
            <a:ext cx="81360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НЕОБИТАЕМОМ ОСТРОВЕ</a:t>
            </a:r>
            <a:endParaRPr b="1" lang="en-US" sz="24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Picture 5" descr="img058"/>
          <p:cNvPicPr/>
          <p:nvPr/>
        </p:nvPicPr>
        <p:blipFill>
          <a:blip r:embed="rId1"/>
          <a:stretch/>
        </p:blipFill>
        <p:spPr>
          <a:xfrm>
            <a:off x="857160" y="1571760"/>
            <a:ext cx="681984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4" descr="img198"/>
          <p:cNvPicPr/>
          <p:nvPr/>
        </p:nvPicPr>
        <p:blipFill>
          <a:blip r:embed="rId1"/>
          <a:stretch/>
        </p:blipFill>
        <p:spPr>
          <a:xfrm>
            <a:off x="1547640" y="1628640"/>
            <a:ext cx="5329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4" descr="img195"/>
          <p:cNvPicPr/>
          <p:nvPr/>
        </p:nvPicPr>
        <p:blipFill>
          <a:blip r:embed="rId1"/>
          <a:stretch/>
        </p:blipFill>
        <p:spPr>
          <a:xfrm>
            <a:off x="2571840" y="928800"/>
            <a:ext cx="4032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4" descr="img203"/>
          <p:cNvPicPr/>
          <p:nvPr/>
        </p:nvPicPr>
        <p:blipFill>
          <a:blip r:embed="rId1"/>
          <a:stretch/>
        </p:blipFill>
        <p:spPr>
          <a:xfrm>
            <a:off x="2268360" y="571680"/>
            <a:ext cx="388800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1" name="Picture 4" descr="img199"/>
          <p:cNvPicPr/>
          <p:nvPr/>
        </p:nvPicPr>
        <p:blipFill>
          <a:blip r:embed="rId1"/>
          <a:stretch/>
        </p:blipFill>
        <p:spPr>
          <a:xfrm>
            <a:off x="1403280" y="928800"/>
            <a:ext cx="525780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4" descr="img196"/>
          <p:cNvPicPr/>
          <p:nvPr/>
        </p:nvPicPr>
        <p:blipFill>
          <a:blip r:embed="rId1"/>
          <a:stretch/>
        </p:blipFill>
        <p:spPr>
          <a:xfrm>
            <a:off x="571680" y="642960"/>
            <a:ext cx="820728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 Сумасшествие ехать по океану, не зная дороги, по океану, по которому никто не ездил, плыть в страну, существование которой вопрос!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.Н. Толс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4" descr="img190"/>
          <p:cNvPicPr/>
          <p:nvPr/>
        </p:nvPicPr>
        <p:blipFill>
          <a:blip r:embed="rId1"/>
          <a:stretch/>
        </p:blipFill>
        <p:spPr>
          <a:xfrm>
            <a:off x="857160" y="1285920"/>
            <a:ext cx="7143840" cy="50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11280" y="571680"/>
            <a:ext cx="77770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ПЕРЕДИ - РИФ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9" name="Picture 5" descr="VLADIVOSTOK 230"/>
          <p:cNvPicPr/>
          <p:nvPr/>
        </p:nvPicPr>
        <p:blipFill>
          <a:blip r:embed="rId3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 команде  « 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Гинкго появились 250 млн лет назад , современники динозавров?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о время сильных бурь сосны ломаются под ветром, а ели выкорчевываются?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У голосеменных образуются плоды с семенами.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Среди голосеменных есть растения очень похожие на пальм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Хвоинки у ели опадают каждый год.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WordArt 5"/>
          <p:cNvSpPr txBox="1"/>
          <p:nvPr/>
        </p:nvSpPr>
        <p:spPr>
          <a:xfrm rot="10800000">
            <a:off x="8286480" y="1071720"/>
            <a:ext cx="8001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Сос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Если у пихты прижать нижние ветки к почве , то они укореняются и образуют новые побеги.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У гинкго шишки называют «серебряным абрикосом»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 народе эфедру называется «степной малиной», и из нее делают препарат эфедрин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У лиственницы хвоинки собраны по 2 штуки .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Шишки у можжевельника созревают в первый же го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68360" y="1428840"/>
            <a:ext cx="8062920" cy="1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Лиственниц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У ели хвоя живет 7-9 лет, у некоторых видов    даже 13.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Сосны, ели , пихты и другие хвойные живут 10-30- лет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Вельвичия живет в пустыне и влагу берет из туманов.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Для оплодотворения голосеменных обязательно нужна вод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У сосны шишки созревают в этот же год после опы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500040" y="333360"/>
            <a:ext cx="8175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777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onstantia"/>
              </a:rPr>
              <a:t>Во время шторма сорвало подписи к картинам.  Определить названия изображенных картин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WordArt 6"/>
          <p:cNvSpPr txBox="1"/>
          <p:nvPr/>
        </p:nvSpPr>
        <p:spPr>
          <a:xfrm rot="5400000">
            <a:off x="-2485080" y="3069360"/>
            <a:ext cx="648180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ртинная галерея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Picture 8" descr="img191"/>
          <p:cNvPicPr/>
          <p:nvPr/>
        </p:nvPicPr>
        <p:blipFill>
          <a:blip r:embed="rId1"/>
          <a:stretch/>
        </p:blipFill>
        <p:spPr>
          <a:xfrm>
            <a:off x="1619280" y="1413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mg194"/>
          <p:cNvPicPr/>
          <p:nvPr/>
        </p:nvPicPr>
        <p:blipFill>
          <a:blip r:embed="rId2"/>
          <a:stretch/>
        </p:blipFill>
        <p:spPr>
          <a:xfrm>
            <a:off x="5940360" y="1628640"/>
            <a:ext cx="2519280" cy="1513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 flipV="1">
            <a:off x="9144000" y="2492280"/>
            <a:ext cx="69840" cy="23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img192"/>
          <p:cNvPicPr/>
          <p:nvPr/>
        </p:nvPicPr>
        <p:blipFill>
          <a:blip r:embed="rId3"/>
          <a:stretch/>
        </p:blipFill>
        <p:spPr>
          <a:xfrm>
            <a:off x="1403280" y="3716280"/>
            <a:ext cx="2808360" cy="258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g193"/>
          <p:cNvPicPr/>
          <p:nvPr/>
        </p:nvPicPr>
        <p:blipFill>
          <a:blip r:embed="rId4"/>
          <a:stretch/>
        </p:blipFill>
        <p:spPr>
          <a:xfrm>
            <a:off x="6300720" y="3284640"/>
            <a:ext cx="2328840" cy="33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mg204"/>
          <p:cNvPicPr/>
          <p:nvPr/>
        </p:nvPicPr>
        <p:blipFill>
          <a:blip r:embed="rId5"/>
          <a:stretch/>
        </p:blipFill>
        <p:spPr>
          <a:xfrm>
            <a:off x="4140360" y="342900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img197"/>
          <p:cNvPicPr/>
          <p:nvPr/>
        </p:nvPicPr>
        <p:blipFill>
          <a:blip r:embed="rId6"/>
          <a:stretch/>
        </p:blipFill>
        <p:spPr>
          <a:xfrm>
            <a:off x="3492360" y="1413000"/>
            <a:ext cx="25196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>
              <a:alpha val="8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5" descr="img194"/>
          <p:cNvPicPr/>
          <p:nvPr/>
        </p:nvPicPr>
        <p:blipFill>
          <a:blip r:embed="rId1"/>
          <a:stretch/>
        </p:blipFill>
        <p:spPr>
          <a:xfrm>
            <a:off x="2071800" y="2143080"/>
            <a:ext cx="453708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4" descr="img191"/>
          <p:cNvPicPr/>
          <p:nvPr/>
        </p:nvPicPr>
        <p:blipFill>
          <a:blip r:embed="rId1"/>
          <a:stretch/>
        </p:blipFill>
        <p:spPr>
          <a:xfrm>
            <a:off x="1785960" y="1738440"/>
            <a:ext cx="557208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4" descr="img192"/>
          <p:cNvPicPr/>
          <p:nvPr/>
        </p:nvPicPr>
        <p:blipFill>
          <a:blip r:embed="rId1"/>
          <a:stretch/>
        </p:blipFill>
        <p:spPr>
          <a:xfrm>
            <a:off x="2286000" y="552600"/>
            <a:ext cx="457200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Picture 4" descr="img193"/>
          <p:cNvPicPr/>
          <p:nvPr/>
        </p:nvPicPr>
        <p:blipFill>
          <a:blip r:embed="rId1"/>
          <a:stretch/>
        </p:blipFill>
        <p:spPr>
          <a:xfrm>
            <a:off x="1019160" y="571680"/>
            <a:ext cx="710568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Каравелл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Сосн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Лиственница»                                  «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4" descr="img096"/>
          <p:cNvPicPr/>
          <p:nvPr/>
        </p:nvPicPr>
        <p:blipFill>
          <a:blip r:embed="rId1"/>
          <a:stretch/>
        </p:blipFill>
        <p:spPr>
          <a:xfrm>
            <a:off x="3286080" y="3643200"/>
            <a:ext cx="2786040" cy="292896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258920" y="333360"/>
            <a:ext cx="645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 ЭКСПЕДИЦИ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img201"/>
          <p:cNvPicPr/>
          <p:nvPr/>
        </p:nvPicPr>
        <p:blipFill>
          <a:blip r:embed="rId2"/>
          <a:stretch/>
        </p:blipFill>
        <p:spPr>
          <a:xfrm>
            <a:off x="6072120" y="121428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200"/>
          <p:cNvPicPr/>
          <p:nvPr/>
        </p:nvPicPr>
        <p:blipFill>
          <a:blip r:embed="rId3"/>
          <a:stretch/>
        </p:blipFill>
        <p:spPr>
          <a:xfrm>
            <a:off x="0" y="1285920"/>
            <a:ext cx="3071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mg204"/>
          <p:cNvPicPr/>
          <p:nvPr/>
        </p:nvPicPr>
        <p:blipFill>
          <a:blip r:embed="rId1"/>
          <a:stretch/>
        </p:blipFill>
        <p:spPr>
          <a:xfrm>
            <a:off x="1214280" y="642960"/>
            <a:ext cx="70390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Picture 4" descr="img197"/>
          <p:cNvPicPr/>
          <p:nvPr/>
        </p:nvPicPr>
        <p:blipFill>
          <a:blip r:embed="rId1"/>
          <a:stretch/>
        </p:blipFill>
        <p:spPr>
          <a:xfrm>
            <a:off x="1500120" y="571680"/>
            <a:ext cx="62866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Picture 4" descr="VLADIVOSTOK 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4" descr="IMG_0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4" descr="IMG_1019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IMG_1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Constanti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611280" y="33336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О ПОЖАЛОВАТ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179280" y="2349360"/>
            <a:ext cx="885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страну    цветковых        растен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8" descr="img085"/>
          <p:cNvPicPr/>
          <p:nvPr/>
        </p:nvPicPr>
        <p:blipFill>
          <a:blip r:embed="rId1"/>
          <a:stretch/>
        </p:blipFill>
        <p:spPr>
          <a:xfrm>
            <a:off x="2987640" y="4365720"/>
            <a:ext cx="25210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ВОПРОСЫ КОМАНДЕ «СОСН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Сосна принадлежит к классу …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По отношению к свету сосна растение…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Хвоинки покрыты …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Хвоинки расположены по 2 на…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На песчаных почвах у сосны хорошо развит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9540720" y="1052640"/>
            <a:ext cx="513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latin typeface="Arial"/>
              </a:rPr>
              <a:t>ВОПРОСЫ КОМАНДА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   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anchor="t">
            <a:normAutofit fontScale="92000"/>
          </a:bodyPr>
          <a:p>
            <a:pPr lvl="4" marL="189252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 ЕЛЬ»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ЕЛЬ ПРИНАДЛЕЖИТ КЛАС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У ЕЛИ ШИШКИ КОЖИСТЫЕ,….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ЛАТИНСКОЕ НАЗВАНИЕ «ПИЦЕА», ЧТО ЗНАЧИТ….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ИЗ ДРЕВЕСИНЫ ЕЛИ ПОЛУЧАЮТСЯ САМЫЕ ЛУЧШИЕ .….ИНСТРУМЕНТЫ.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У ЕЛИ ОДИНОЧНЫЕ ХВОИНКИ ОБЫЧНО ….ФОРМЫ.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Лиственница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ЛИСТВЕННИЦА ПЕРЕНОСИТ ГОРОДСКИЕ УСЛОВИЯ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ОСЕНЬЮ ЕЕ ХВОИНКИ …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НА УКОРОЧЕННЫХ ПОБЕГАХ ХВОЯ РАСПОЛОЖЕНА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ШИШКИ МЕЛКИЕ, СОЗРЕВАЮТ В ТЕЧЕНИИ ГОДА, А  ДЕРЖАТСЯ…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ЛИСТВЕННИЦА, РАСТЕНИЕ ПО ОТНОШЕНИЮ К ОСВЕЩЕННОСТИ,- 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702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g211"/>
          <p:cNvPicPr/>
          <p:nvPr/>
        </p:nvPicPr>
        <p:blipFill>
          <a:blip r:embed="rId2"/>
          <a:stretch/>
        </p:blipFill>
        <p:spPr>
          <a:xfrm>
            <a:off x="2071800" y="114300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42920" y="2133720"/>
          <a:ext cx="7201080" cy="409572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199880"/>
                <a:gridCol w="1200240"/>
                <a:gridCol w="1200240"/>
                <a:gridCol w="120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WordArt 63"/>
          <p:cNvSpPr txBox="1"/>
          <p:nvPr/>
        </p:nvSpPr>
        <p:spPr>
          <a:xfrm>
            <a:off x="857160" y="428760"/>
            <a:ext cx="72867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головоломк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adde1"/>
          </a:solidFill>
          <a:ln w="936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5229360"/>
            <a:ext cx="8207280" cy="842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www_creep_ru_0741"/>
          <p:cNvPicPr/>
          <p:nvPr/>
        </p:nvPicPr>
        <p:blipFill>
          <a:blip r:embed="rId1"/>
          <a:stretch/>
        </p:blipFill>
        <p:spPr>
          <a:xfrm>
            <a:off x="214200" y="928800"/>
            <a:ext cx="3889440" cy="38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11"/>
          <p:cNvPicPr/>
          <p:nvPr/>
        </p:nvPicPr>
        <p:blipFill>
          <a:blip r:embed="rId2"/>
          <a:stretch/>
        </p:blipFill>
        <p:spPr>
          <a:xfrm>
            <a:off x="5214960" y="928800"/>
            <a:ext cx="3024000" cy="364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9:56Z</dcterms:created>
  <dc:creator>Bashurov</dc:creator>
  <dc:description/>
  <dc:language>en-US</dc:language>
  <cp:lastModifiedBy>Василий</cp:lastModifiedBy>
  <dcterms:modified xsi:type="dcterms:W3CDTF">2012-02-01T15:26:25Z</dcterms:modified>
  <cp:revision>72</cp:revision>
  <dc:subject/>
  <dc:title>Путешествие к новым берегам.</dc:title>
</cp:coreProperties>
</file>