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885-4DB8-4058-B4EC-7E2233E7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71D-2057-48C5-B602-42ACD316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B16-498A-4D75-AA22-50D11895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61D-F96E-47D0-9CE2-E3D4E53D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61FB-59FF-480F-B5C4-D2980562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EADF-5D37-4118-B18F-0FC3B752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D2DF-AE1D-445C-ADCC-74B1C814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D31E-87B3-4A93-9564-608DFA20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5588-2397-4BE6-8138-74E19432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4B12-CF5F-4716-8044-4BBE531E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E94E-C0FC-4587-8F2E-7F8F5B87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808-518F-4791-A9C6-BC0BB2C8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6DD4-5F26-4302-B5FF-FDF7F1F2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B02A-F22F-4C0A-991C-EBCB6359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FF8A-AF96-404A-A1BA-5EFD76A2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67C6-5CB7-4758-B516-6EAAF47D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BF39-B27C-4F80-9BE1-D31B6F58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BFF-4CD5-46BC-B23F-F9A4A8D5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9674-426A-475B-A550-4B0E45EC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02E-3079-4958-960F-6BC71A03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571-2508-46B8-9230-3E8EAF73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446-69C3-4D0F-BC63-D444E2A6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B2F-6805-46A6-8F5D-A9673F4E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C36-F10C-42F9-ADA4-A05B9D06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4ED7-BBB3-4994-87C8-E2236F707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18BE-BEC4-4F28-837B-E478CA869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У «Куровская  средняя  общеобразовательная  школа  № 6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ка  учителя би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шуровой Т.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900000" y="1989000"/>
            <a:ext cx="7532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тешествие к новым берегам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539640" y="692280"/>
            <a:ext cx="3240360" cy="309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2124000" y="549360"/>
            <a:ext cx="576360" cy="431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250920" y="1916280"/>
            <a:ext cx="576000" cy="57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3419640" y="1628640"/>
            <a:ext cx="649080" cy="576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684360" y="3357720"/>
            <a:ext cx="502920" cy="5029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857680" y="2643120"/>
            <a:ext cx="4103640" cy="252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627280" y="4653000"/>
            <a:ext cx="576360" cy="50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2627280" y="3068640"/>
            <a:ext cx="506520" cy="431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2987640" y="2492280"/>
            <a:ext cx="576360" cy="503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2843280" y="3789360"/>
            <a:ext cx="865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3780000" y="2708280"/>
            <a:ext cx="0" cy="1081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7"/>
          <p:cNvSpPr/>
          <p:nvPr/>
        </p:nvSpPr>
        <p:spPr>
          <a:xfrm>
            <a:off x="3059280" y="3573360"/>
            <a:ext cx="50472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8"/>
          <p:cNvSpPr/>
          <p:nvPr/>
        </p:nvSpPr>
        <p:spPr>
          <a:xfrm>
            <a:off x="3635280" y="2997360"/>
            <a:ext cx="576360" cy="431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ю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5364000" y="2565360"/>
            <a:ext cx="576360" cy="432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4932360" y="4221000"/>
            <a:ext cx="3168720" cy="235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6948360" y="4292640"/>
            <a:ext cx="0" cy="1152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2"/>
          <p:cNvSpPr/>
          <p:nvPr/>
        </p:nvSpPr>
        <p:spPr>
          <a:xfrm>
            <a:off x="4932360" y="5445000"/>
            <a:ext cx="1944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23"/>
          <p:cNvSpPr/>
          <p:nvPr/>
        </p:nvSpPr>
        <p:spPr>
          <a:xfrm>
            <a:off x="6588000" y="2997360"/>
            <a:ext cx="505080" cy="431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24"/>
          <p:cNvSpPr/>
          <p:nvPr/>
        </p:nvSpPr>
        <p:spPr>
          <a:xfrm>
            <a:off x="6659640" y="4581360"/>
            <a:ext cx="576360" cy="432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25"/>
          <p:cNvSpPr/>
          <p:nvPr/>
        </p:nvSpPr>
        <p:spPr>
          <a:xfrm>
            <a:off x="5580000" y="3860640"/>
            <a:ext cx="576360" cy="4827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26"/>
          <p:cNvSpPr/>
          <p:nvPr/>
        </p:nvSpPr>
        <p:spPr>
          <a:xfrm>
            <a:off x="4643280" y="4653000"/>
            <a:ext cx="576360" cy="50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27"/>
          <p:cNvSpPr/>
          <p:nvPr/>
        </p:nvSpPr>
        <p:spPr>
          <a:xfrm>
            <a:off x="5580000" y="5229360"/>
            <a:ext cx="647640" cy="50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28"/>
          <p:cNvSpPr/>
          <p:nvPr/>
        </p:nvSpPr>
        <p:spPr>
          <a:xfrm>
            <a:off x="3635280" y="5084640"/>
            <a:ext cx="505080" cy="503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29"/>
          <p:cNvSpPr/>
          <p:nvPr/>
        </p:nvSpPr>
        <p:spPr>
          <a:xfrm>
            <a:off x="7308720" y="3933720"/>
            <a:ext cx="576360" cy="5050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30"/>
          <p:cNvSpPr/>
          <p:nvPr/>
        </p:nvSpPr>
        <p:spPr>
          <a:xfrm>
            <a:off x="7812000" y="5229360"/>
            <a:ext cx="647640" cy="57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31"/>
          <p:cNvSpPr/>
          <p:nvPr/>
        </p:nvSpPr>
        <p:spPr>
          <a:xfrm>
            <a:off x="6588000" y="6165720"/>
            <a:ext cx="648000" cy="576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32"/>
          <p:cNvSpPr/>
          <p:nvPr/>
        </p:nvSpPr>
        <p:spPr>
          <a:xfrm>
            <a:off x="4572000" y="5734080"/>
            <a:ext cx="647640" cy="6253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     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 fontScale="95000"/>
          </a:bodyPr>
          <a:p>
            <a:pPr marL="48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акой класс голосеменных имеет наибольшее чис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идов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Чем представлены листья хвойных растений?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Из чего развиваются семена хвойных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Сколько лет живут листья у лиственницы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Что получают из древесины сосны?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Как называются летучие вещества хвойных деревьев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 Как называется смола хвойных деревьев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 Где расположены женские шишки у сосны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 Где располагаются мужские шишки у сосны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Спорофит или гаметофит преобладает в жизненном   цикле 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324000" y="357120"/>
            <a:ext cx="777708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</a:t>
            </a: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ган    ВОПРОСОВ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solidFill>
            <a:srgbClr val="d7f4fd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5000"/>
          </a:bodyPr>
          <a:p>
            <a:pPr lvl="3" marL="151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Растение –кустарни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51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С иголками колючим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51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С ягодами синим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51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Но вовсе не съедобное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Золотая кор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Зеленые кудряш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Шишки вкусные всегд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Для белки и для дятла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Зелена зимой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И летом и весно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В Новый год меня нарядя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И подарки принесу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На берегах Тавриды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Мы увидели пирамид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Не простые –каменистые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А зеленые – деревянисты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Стоят как на страж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И нет их краш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Шишки треснут, семя разлетится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На земле Тавриды, ….  родится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Два листа у нее , два лис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Почему же растет сотни лет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Очень жаркие там мес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И дождей то все нет и 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Иголки у него, а не елка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«Ягоды» красные, не виш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Что же это вышло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9144000" cy="5357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642960" y="642960"/>
            <a:ext cx="8136000" cy="62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7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НЕОБИТАЕМОМ ОСТРОВЕ</a:t>
            </a:r>
            <a:endParaRPr b="1" lang="en-US" sz="2400" spc="1" strike="noStrike">
              <a:ln w="0">
                <a:noFill/>
              </a:ln>
              <a:solidFill>
                <a:srgbClr val="007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3" name="Picture 5" descr="img058"/>
          <p:cNvPicPr/>
          <p:nvPr/>
        </p:nvPicPr>
        <p:blipFill>
          <a:blip r:embed="rId1"/>
          <a:stretch/>
        </p:blipFill>
        <p:spPr>
          <a:xfrm>
            <a:off x="857160" y="1571760"/>
            <a:ext cx="6819840" cy="50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5" name="Picture 4" descr="img198"/>
          <p:cNvPicPr/>
          <p:nvPr/>
        </p:nvPicPr>
        <p:blipFill>
          <a:blip r:embed="rId1"/>
          <a:stretch/>
        </p:blipFill>
        <p:spPr>
          <a:xfrm>
            <a:off x="1547640" y="1628640"/>
            <a:ext cx="5329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f4f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7" name="Picture 4" descr="img195"/>
          <p:cNvPicPr/>
          <p:nvPr/>
        </p:nvPicPr>
        <p:blipFill>
          <a:blip r:embed="rId1"/>
          <a:stretch/>
        </p:blipFill>
        <p:spPr>
          <a:xfrm>
            <a:off x="2571840" y="928800"/>
            <a:ext cx="403200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9" name="Picture 4" descr="img203"/>
          <p:cNvPicPr/>
          <p:nvPr/>
        </p:nvPicPr>
        <p:blipFill>
          <a:blip r:embed="rId1"/>
          <a:stretch/>
        </p:blipFill>
        <p:spPr>
          <a:xfrm>
            <a:off x="2268360" y="571680"/>
            <a:ext cx="3888000" cy="58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f4f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1" name="Picture 4" descr="img199"/>
          <p:cNvPicPr/>
          <p:nvPr/>
        </p:nvPicPr>
        <p:blipFill>
          <a:blip r:embed="rId1"/>
          <a:stretch/>
        </p:blipFill>
        <p:spPr>
          <a:xfrm>
            <a:off x="1403280" y="928800"/>
            <a:ext cx="5257800" cy="52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3" name="Picture 4" descr="img196"/>
          <p:cNvPicPr/>
          <p:nvPr/>
        </p:nvPicPr>
        <p:blipFill>
          <a:blip r:embed="rId1"/>
          <a:stretch/>
        </p:blipFill>
        <p:spPr>
          <a:xfrm>
            <a:off x="571680" y="642960"/>
            <a:ext cx="820728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« Сумасшествие ехать по океану, не зная дороги, по океану, по которому никто не ездил, плыть в страну, существование которой вопрос!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.Н. Толст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5" name="Picture 4" descr="img190"/>
          <p:cNvPicPr/>
          <p:nvPr/>
        </p:nvPicPr>
        <p:blipFill>
          <a:blip r:embed="rId1"/>
          <a:stretch/>
        </p:blipFill>
        <p:spPr>
          <a:xfrm>
            <a:off x="857160" y="1285920"/>
            <a:ext cx="7143840" cy="50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00120"/>
          </a:xfrm>
          <a:prstGeom prst="rect">
            <a:avLst/>
          </a:prstGeom>
          <a:solidFill>
            <a:srgbClr val="d7f4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611280" y="571680"/>
            <a:ext cx="7777080" cy="78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ПЕРЕДИ - РИФ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59" name="Picture 5" descr="VLADIVOSTOK 230"/>
          <p:cNvPicPr/>
          <p:nvPr/>
        </p:nvPicPr>
        <p:blipFill>
          <a:blip r:embed="rId3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         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Вопросы  команде  « Ель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Гинкго появились 250 млн лет назад , современники динозавров?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Во время сильных бурь сосны ломаются под ветром, а ели выкорчевываются?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У голосеменных образуются плоды с семенами.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Среди голосеменных есть растения очень похожие на пальму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Хвоинки у ели опадают каждый год.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WordArt 5"/>
          <p:cNvSpPr txBox="1"/>
          <p:nvPr/>
        </p:nvSpPr>
        <p:spPr>
          <a:xfrm rot="10800000">
            <a:off x="8286480" y="1071720"/>
            <a:ext cx="8001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62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       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Вопросы команде «Сосн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Если у пихты прижать нижние ветки к почве , то они укореняются и образуют новые побеги.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У гинкго шишки называют «серебряным абрикосом»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В народе эфедру называется «степной малиной», и из нее делают препарат эфедрин.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У лиственницы хвоинки собраны по 2 штуки .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Шишки у можжевельника созревают в первый же год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468360" y="1428840"/>
            <a:ext cx="8062920" cy="1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          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Вопросы команде «Лиственница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У ели хвоя живет 7-9 лет, у некоторых видов    даже 13.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Сосны, ели , пихты и другие хвойные живут 10-30- лет.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Вельвичия живет в пустыне и влагу берет из туманов.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Для оплодотворения голосеменных обязательно нужна вод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У сосны шишки созревают в этот же год после опыле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500040" y="333360"/>
            <a:ext cx="81756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777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Constantia"/>
              </a:rPr>
              <a:t>Во время шторма сорвало подписи к картинам.  Определить названия изображенных картин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WordArt 6"/>
          <p:cNvSpPr txBox="1"/>
          <p:nvPr/>
        </p:nvSpPr>
        <p:spPr>
          <a:xfrm rot="5400000">
            <a:off x="-2485080" y="3069360"/>
            <a:ext cx="6481800" cy="86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ртинная галерея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9" name="Picture 8" descr="img191"/>
          <p:cNvPicPr/>
          <p:nvPr/>
        </p:nvPicPr>
        <p:blipFill>
          <a:blip r:embed="rId1"/>
          <a:stretch/>
        </p:blipFill>
        <p:spPr>
          <a:xfrm>
            <a:off x="1619280" y="1413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img194"/>
          <p:cNvPicPr/>
          <p:nvPr/>
        </p:nvPicPr>
        <p:blipFill>
          <a:blip r:embed="rId2"/>
          <a:stretch/>
        </p:blipFill>
        <p:spPr>
          <a:xfrm>
            <a:off x="5940360" y="1628640"/>
            <a:ext cx="2519280" cy="15130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 flipV="1">
            <a:off x="9144000" y="2492280"/>
            <a:ext cx="69840" cy="23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1" descr="img192"/>
          <p:cNvPicPr/>
          <p:nvPr/>
        </p:nvPicPr>
        <p:blipFill>
          <a:blip r:embed="rId3"/>
          <a:stretch/>
        </p:blipFill>
        <p:spPr>
          <a:xfrm>
            <a:off x="1403280" y="3716280"/>
            <a:ext cx="2808360" cy="2589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img193"/>
          <p:cNvPicPr/>
          <p:nvPr/>
        </p:nvPicPr>
        <p:blipFill>
          <a:blip r:embed="rId4"/>
          <a:stretch/>
        </p:blipFill>
        <p:spPr>
          <a:xfrm>
            <a:off x="6300720" y="3284640"/>
            <a:ext cx="2328840" cy="338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img204"/>
          <p:cNvPicPr/>
          <p:nvPr/>
        </p:nvPicPr>
        <p:blipFill>
          <a:blip r:embed="rId5"/>
          <a:stretch/>
        </p:blipFill>
        <p:spPr>
          <a:xfrm>
            <a:off x="4140360" y="342900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img197"/>
          <p:cNvPicPr/>
          <p:nvPr/>
        </p:nvPicPr>
        <p:blipFill>
          <a:blip r:embed="rId6"/>
          <a:stretch/>
        </p:blipFill>
        <p:spPr>
          <a:xfrm>
            <a:off x="3492360" y="1413000"/>
            <a:ext cx="251964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>
              <a:alpha val="8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7" name="Picture 5" descr="img194"/>
          <p:cNvPicPr/>
          <p:nvPr/>
        </p:nvPicPr>
        <p:blipFill>
          <a:blip r:embed="rId1"/>
          <a:stretch/>
        </p:blipFill>
        <p:spPr>
          <a:xfrm>
            <a:off x="2071800" y="2143080"/>
            <a:ext cx="453708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4" descr="img191"/>
          <p:cNvPicPr/>
          <p:nvPr/>
        </p:nvPicPr>
        <p:blipFill>
          <a:blip r:embed="rId1"/>
          <a:stretch/>
        </p:blipFill>
        <p:spPr>
          <a:xfrm>
            <a:off x="1785960" y="1738440"/>
            <a:ext cx="5572080" cy="33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1" name="Picture 4" descr="img192"/>
          <p:cNvPicPr/>
          <p:nvPr/>
        </p:nvPicPr>
        <p:blipFill>
          <a:blip r:embed="rId1"/>
          <a:stretch/>
        </p:blipFill>
        <p:spPr>
          <a:xfrm>
            <a:off x="2286000" y="552600"/>
            <a:ext cx="457200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3" name="Picture 4" descr="img193"/>
          <p:cNvPicPr/>
          <p:nvPr/>
        </p:nvPicPr>
        <p:blipFill>
          <a:blip r:embed="rId1"/>
          <a:stretch/>
        </p:blipFill>
        <p:spPr>
          <a:xfrm>
            <a:off x="1019160" y="571680"/>
            <a:ext cx="7105680" cy="58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Каравеллы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«Сосна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«Лиственница»                                  «Ель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7" name="Picture 4" descr="img096"/>
          <p:cNvPicPr/>
          <p:nvPr/>
        </p:nvPicPr>
        <p:blipFill>
          <a:blip r:embed="rId1"/>
          <a:stretch/>
        </p:blipFill>
        <p:spPr>
          <a:xfrm>
            <a:off x="3286080" y="3643200"/>
            <a:ext cx="2786040" cy="292896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1258920" y="333360"/>
            <a:ext cx="6456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СТАВ ЭКСПЕДИЦИИ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5" descr="img201"/>
          <p:cNvPicPr/>
          <p:nvPr/>
        </p:nvPicPr>
        <p:blipFill>
          <a:blip r:embed="rId2"/>
          <a:stretch/>
        </p:blipFill>
        <p:spPr>
          <a:xfrm>
            <a:off x="6072120" y="1214280"/>
            <a:ext cx="2857680" cy="3229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mg200"/>
          <p:cNvPicPr/>
          <p:nvPr/>
        </p:nvPicPr>
        <p:blipFill>
          <a:blip r:embed="rId3"/>
          <a:stretch/>
        </p:blipFill>
        <p:spPr>
          <a:xfrm>
            <a:off x="0" y="1285920"/>
            <a:ext cx="30718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5" name="Picture 4" descr="img204"/>
          <p:cNvPicPr/>
          <p:nvPr/>
        </p:nvPicPr>
        <p:blipFill>
          <a:blip r:embed="rId1"/>
          <a:stretch/>
        </p:blipFill>
        <p:spPr>
          <a:xfrm>
            <a:off x="1214280" y="642960"/>
            <a:ext cx="7039080" cy="60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7" name="Picture 4" descr="img197"/>
          <p:cNvPicPr/>
          <p:nvPr/>
        </p:nvPicPr>
        <p:blipFill>
          <a:blip r:embed="rId1"/>
          <a:stretch/>
        </p:blipFill>
        <p:spPr>
          <a:xfrm>
            <a:off x="1500120" y="571680"/>
            <a:ext cx="628668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0" name="Picture 4" descr="VLADIVOSTOK 1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2" name="Picture 4" descr="IMG_0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4" name="Picture 4" descr="IMG_1019"/>
          <p:cNvPicPr/>
          <p:nvPr/>
        </p:nvPicPr>
        <p:blipFill>
          <a:blip r:embed="rId1"/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4" descr="IMG_1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Constantia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611280" y="333360"/>
            <a:ext cx="8064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БРО ПОЖАЛОВАТЬ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WordArt 7"/>
          <p:cNvSpPr txBox="1"/>
          <p:nvPr/>
        </p:nvSpPr>
        <p:spPr>
          <a:xfrm>
            <a:off x="179280" y="2349360"/>
            <a:ext cx="8856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 страну    цветковых        растений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8" descr="img085"/>
          <p:cNvPicPr/>
          <p:nvPr/>
        </p:nvPicPr>
        <p:blipFill>
          <a:blip r:embed="rId1"/>
          <a:stretch/>
        </p:blipFill>
        <p:spPr>
          <a:xfrm>
            <a:off x="2987640" y="4365720"/>
            <a:ext cx="252108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856800"/>
            <a:ext cx="9144000" cy="60008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ВОПРОСЫ КОМАНДЕ «СОСНА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Сосна принадлежит к классу …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По отношению к свету сосна растение…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Хвоинки покрыты …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Хвоинки расположены по 2 на…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На песчаных почвах у сосны хорошо развит…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9540720" y="1052640"/>
            <a:ext cx="5133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00">
                    <a:alpha val="50000"/>
                  </a:srgbClr>
                </a:solidFill>
                <a:latin typeface="Arial"/>
              </a:rPr>
              <a:t>ВОПРОСЫ КОМАНДАМ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cc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         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f4fd"/>
          </a:solidFill>
          <a:ln w="0">
            <a:noFill/>
          </a:ln>
        </p:spPr>
        <p:txBody>
          <a:bodyPr anchor="t">
            <a:normAutofit fontScale="92000"/>
          </a:bodyPr>
          <a:p>
            <a:pPr lvl="4" marL="1892520" indent="-21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ВОПРОСЫ КОМАНДЕ « ЕЛЬ»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ЕЛЬ ПРИНАДЛЕЖИТ КЛАСС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У ЕЛИ ШИШКИ КОЖИСТЫЕ,….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ЛАТИНСКОЕ НАЗВАНИЕ «ПИЦЕА», ЧТО ЗНАЧИТ….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ИЗ ДРЕВЕСИНЫ ЕЛИ ПОЛУЧАЮТСЯ САМЫЕ ЛУЧШИЕ .….ИНСТРУМЕНТЫ.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У ЕЛИ ОДИНОЧНЫЕ ХВОИНКИ ОБЫЧНО ….ФОРМЫ.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aede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 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Вопросы команде «Лиственница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ЛИСТВЕННИЦА ПЕРЕНОСИТ ГОРОДСКИЕ УСЛОВИЯ …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ОСЕНЬЮ ЕЕ ХВОИНКИ …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НА УКОРОЧЕННЫХ ПОБЕГАХ ХВОЯ РАСПОЛОЖЕНА …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ШИШКИ МЕЛКИЕ, СОЗРЕВАЮТ В ТЕЧЕНИИ ГОДА, А  ДЕРЖАТСЯ…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ЛИСТВЕННИЦА, РАСТЕНИЕ ПО ОТНОШЕНИЮ К ОСВЕЩЕННОСТИ,- …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3" descr=""/>
          <p:cNvPicPr/>
          <p:nvPr/>
        </p:nvPicPr>
        <p:blipFill>
          <a:blip r:embed="rId1"/>
          <a:stretch/>
        </p:blipFill>
        <p:spPr>
          <a:xfrm>
            <a:off x="-6480" y="-165240"/>
            <a:ext cx="9156960" cy="702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mg211"/>
          <p:cNvPicPr/>
          <p:nvPr/>
        </p:nvPicPr>
        <p:blipFill>
          <a:blip r:embed="rId2"/>
          <a:stretch/>
        </p:blipFill>
        <p:spPr>
          <a:xfrm>
            <a:off x="2071800" y="1143000"/>
            <a:ext cx="42861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42920" y="2133720"/>
          <a:ext cx="7201080" cy="4095720"/>
        </p:xfrm>
        <a:graphic>
          <a:graphicData uri="http://schemas.openxmlformats.org/drawingml/2006/table">
            <a:tbl>
              <a:tblPr/>
              <a:tblGrid>
                <a:gridCol w="1200240"/>
                <a:gridCol w="1200240"/>
                <a:gridCol w="1199880"/>
                <a:gridCol w="1200240"/>
                <a:gridCol w="1200240"/>
                <a:gridCol w="1200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b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b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WordArt 63"/>
          <p:cNvSpPr txBox="1"/>
          <p:nvPr/>
        </p:nvSpPr>
        <p:spPr>
          <a:xfrm>
            <a:off x="857160" y="428760"/>
            <a:ext cx="728676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и головоломку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adde1"/>
          </a:solidFill>
          <a:ln w="9360">
            <a:solidFill>
              <a:srgbClr val="cc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1" lang="en-US" sz="66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5229360"/>
            <a:ext cx="8207280" cy="842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www_creep_ru_0741"/>
          <p:cNvPicPr/>
          <p:nvPr/>
        </p:nvPicPr>
        <p:blipFill>
          <a:blip r:embed="rId1"/>
          <a:stretch/>
        </p:blipFill>
        <p:spPr>
          <a:xfrm>
            <a:off x="214200" y="928800"/>
            <a:ext cx="3889440" cy="385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011"/>
          <p:cNvPicPr/>
          <p:nvPr/>
        </p:nvPicPr>
        <p:blipFill>
          <a:blip r:embed="rId2"/>
          <a:stretch/>
        </p:blipFill>
        <p:spPr>
          <a:xfrm>
            <a:off x="5214960" y="928800"/>
            <a:ext cx="3024000" cy="364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5:59:56Z</dcterms:created>
  <dc:creator>Bashurov</dc:creator>
  <dc:description/>
  <dc:language>en-US</dc:language>
  <cp:lastModifiedBy>Василий</cp:lastModifiedBy>
  <dcterms:modified xsi:type="dcterms:W3CDTF">2012-02-01T15:26:25Z</dcterms:modified>
  <cp:revision>72</cp:revision>
  <dc:subject/>
  <dc:title>Путешествие к новым берегам.</dc:title>
</cp:coreProperties>
</file>