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5.jpeg" ContentType="image/jpeg"/>
  <Override PartName="/ppt/media/image32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6.png" ContentType="image/png"/>
  <Override PartName="/ppt/media/image12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010C-2963-414E-9291-30815062F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A229-E472-4EE1-A81C-19777907A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07D2-EA5B-4FB7-964B-ADA49BAC8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721F-BDD7-4F09-9C29-724D9C379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2351B-6914-4FFC-8493-6F8B3C9DD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FA3C3-9C4F-46C1-89B9-07222B09A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E48B5-9DD0-43C3-AF99-3049B3333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D7E38-E9DD-4427-B43D-B98550981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D2E8D-4FF9-4B18-97F4-20C386EB8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1A1B2-5FE4-4D2E-B7CB-0E5709742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A0909-F35A-4767-8397-5F27C2F11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A205-4D9A-4378-8F86-1E0A1ADCA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8A74B-CC47-4CB4-8D1B-E419DC095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A5C5A-FB22-4779-9E3F-FDC71226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52435-6527-47B4-B8EE-4164D8E35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CF1CE-14AE-4B1D-B558-E991C83AF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27425-D1B4-4586-9219-8CCC2D27F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837F-EE03-4DCF-BEAD-EC550FD14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6E9F-B10F-437B-A098-EED7E2220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D6C7-E28E-437F-9608-9CA9D1ADE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C2AA-5872-4DEF-8F71-23F9A61BE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9D2C-26AA-4AAB-94AD-57140774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30FF-4D6E-42F2-89E7-EA267AB7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939C-72DB-4BD1-B354-C733E72A4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EE14D-7E66-4772-B962-18D64F0A57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48E15-60A8-4963-AEAC-F2B0C69959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ОУ «Куровская  средняя  общеобразовательная  школа  № 6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зработка  учителя биолог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ашуровой Т.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WordArt 4"/>
          <p:cNvSpPr txBox="1"/>
          <p:nvPr/>
        </p:nvSpPr>
        <p:spPr>
          <a:xfrm>
            <a:off x="900000" y="1989000"/>
            <a:ext cx="75326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утешествие к новым берегам</a:t>
            </a:r>
            <a:endParaRPr b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ee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539640" y="692280"/>
            <a:ext cx="3240360" cy="309708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Oval 6"/>
          <p:cNvSpPr/>
          <p:nvPr/>
        </p:nvSpPr>
        <p:spPr>
          <a:xfrm>
            <a:off x="2124000" y="549360"/>
            <a:ext cx="576360" cy="431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Oval 7"/>
          <p:cNvSpPr/>
          <p:nvPr/>
        </p:nvSpPr>
        <p:spPr>
          <a:xfrm>
            <a:off x="250920" y="1916280"/>
            <a:ext cx="576000" cy="5760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Oval 8"/>
          <p:cNvSpPr/>
          <p:nvPr/>
        </p:nvSpPr>
        <p:spPr>
          <a:xfrm>
            <a:off x="3419640" y="1628640"/>
            <a:ext cx="649080" cy="5763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е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Oval 9"/>
          <p:cNvSpPr/>
          <p:nvPr/>
        </p:nvSpPr>
        <p:spPr>
          <a:xfrm>
            <a:off x="684360" y="3357720"/>
            <a:ext cx="502920" cy="50292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о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10"/>
          <p:cNvSpPr/>
          <p:nvPr/>
        </p:nvSpPr>
        <p:spPr>
          <a:xfrm>
            <a:off x="2857680" y="2643120"/>
            <a:ext cx="4103640" cy="252108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11"/>
          <p:cNvSpPr/>
          <p:nvPr/>
        </p:nvSpPr>
        <p:spPr>
          <a:xfrm>
            <a:off x="2627280" y="4653000"/>
            <a:ext cx="576360" cy="50472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в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Oval 12"/>
          <p:cNvSpPr/>
          <p:nvPr/>
        </p:nvSpPr>
        <p:spPr>
          <a:xfrm>
            <a:off x="2627280" y="3068640"/>
            <a:ext cx="506520" cy="431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ы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13"/>
          <p:cNvSpPr/>
          <p:nvPr/>
        </p:nvSpPr>
        <p:spPr>
          <a:xfrm>
            <a:off x="2987640" y="2492280"/>
            <a:ext cx="576360" cy="503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по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Line 14"/>
          <p:cNvSpPr/>
          <p:nvPr/>
        </p:nvSpPr>
        <p:spPr>
          <a:xfrm>
            <a:off x="2843280" y="3789360"/>
            <a:ext cx="8650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Line 16"/>
          <p:cNvSpPr/>
          <p:nvPr/>
        </p:nvSpPr>
        <p:spPr>
          <a:xfrm>
            <a:off x="3780000" y="2708280"/>
            <a:ext cx="0" cy="1081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Oval 17"/>
          <p:cNvSpPr/>
          <p:nvPr/>
        </p:nvSpPr>
        <p:spPr>
          <a:xfrm>
            <a:off x="3059280" y="3573360"/>
            <a:ext cx="504720" cy="3603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Oval 18"/>
          <p:cNvSpPr/>
          <p:nvPr/>
        </p:nvSpPr>
        <p:spPr>
          <a:xfrm>
            <a:off x="3635280" y="2997360"/>
            <a:ext cx="576360" cy="431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ю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Oval 19"/>
          <p:cNvSpPr/>
          <p:nvPr/>
        </p:nvSpPr>
        <p:spPr>
          <a:xfrm>
            <a:off x="5364000" y="2565360"/>
            <a:ext cx="576360" cy="4320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20"/>
          <p:cNvSpPr/>
          <p:nvPr/>
        </p:nvSpPr>
        <p:spPr>
          <a:xfrm>
            <a:off x="4932360" y="4221000"/>
            <a:ext cx="3168720" cy="23544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21"/>
          <p:cNvSpPr/>
          <p:nvPr/>
        </p:nvSpPr>
        <p:spPr>
          <a:xfrm>
            <a:off x="6948360" y="4292640"/>
            <a:ext cx="0" cy="11523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Line 22"/>
          <p:cNvSpPr/>
          <p:nvPr/>
        </p:nvSpPr>
        <p:spPr>
          <a:xfrm>
            <a:off x="4932360" y="5445000"/>
            <a:ext cx="19447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Oval 23"/>
          <p:cNvSpPr/>
          <p:nvPr/>
        </p:nvSpPr>
        <p:spPr>
          <a:xfrm>
            <a:off x="6588000" y="2997360"/>
            <a:ext cx="505080" cy="431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Oval 24"/>
          <p:cNvSpPr/>
          <p:nvPr/>
        </p:nvSpPr>
        <p:spPr>
          <a:xfrm>
            <a:off x="6659640" y="4581360"/>
            <a:ext cx="576360" cy="4320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Oval 25"/>
          <p:cNvSpPr/>
          <p:nvPr/>
        </p:nvSpPr>
        <p:spPr>
          <a:xfrm>
            <a:off x="5580000" y="3860640"/>
            <a:ext cx="576360" cy="4827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Oval 26"/>
          <p:cNvSpPr/>
          <p:nvPr/>
        </p:nvSpPr>
        <p:spPr>
          <a:xfrm>
            <a:off x="4643280" y="4653000"/>
            <a:ext cx="576360" cy="50472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Oval 27"/>
          <p:cNvSpPr/>
          <p:nvPr/>
        </p:nvSpPr>
        <p:spPr>
          <a:xfrm>
            <a:off x="5580000" y="5229360"/>
            <a:ext cx="647640" cy="50472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Oval 28"/>
          <p:cNvSpPr/>
          <p:nvPr/>
        </p:nvSpPr>
        <p:spPr>
          <a:xfrm>
            <a:off x="3635280" y="5084640"/>
            <a:ext cx="505080" cy="503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Oval 29"/>
          <p:cNvSpPr/>
          <p:nvPr/>
        </p:nvSpPr>
        <p:spPr>
          <a:xfrm>
            <a:off x="7308720" y="3933720"/>
            <a:ext cx="576360" cy="5050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н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Oval 30"/>
          <p:cNvSpPr/>
          <p:nvPr/>
        </p:nvSpPr>
        <p:spPr>
          <a:xfrm>
            <a:off x="7812000" y="5229360"/>
            <a:ext cx="647640" cy="5760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ы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Oval 31"/>
          <p:cNvSpPr/>
          <p:nvPr/>
        </p:nvSpPr>
        <p:spPr>
          <a:xfrm>
            <a:off x="6588000" y="6165720"/>
            <a:ext cx="648000" cy="5763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Oval 32"/>
          <p:cNvSpPr/>
          <p:nvPr/>
        </p:nvSpPr>
        <p:spPr>
          <a:xfrm>
            <a:off x="4572000" y="5734080"/>
            <a:ext cx="647640" cy="62532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е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С                      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071360"/>
            <a:ext cx="9144000" cy="5786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t">
            <a:normAutofit fontScale="95000"/>
          </a:bodyPr>
          <a:p>
            <a:pPr marL="48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8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Какой класс голосеменных имеет наибольшее числ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видов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8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 Чем представлены листья хвойных растений?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8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 Из чего развиваются семена хвойных?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8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. Сколько лет живут листья у лиственницы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8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. Что получают из древесины сосны?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8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. Как называются летучие вещества хвойных деревьев?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8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7. Как называется смола хвойных деревьев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8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8. Где расположены женские шишки у сосны?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8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9. Где располагаются мужские шишки у сосны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8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0.Спорофит или гаметофит преобладает в жизненном   цикле ?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WordArt 4"/>
          <p:cNvSpPr txBox="1"/>
          <p:nvPr/>
        </p:nvSpPr>
        <p:spPr>
          <a:xfrm>
            <a:off x="324000" y="357120"/>
            <a:ext cx="7777080" cy="83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      </a:t>
            </a:r>
            <a:r>
              <a:rPr b="1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Ураган    ВОПРОСОВ</a:t>
            </a:r>
            <a:endParaRPr b="1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Rectangle 2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115884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1071360"/>
            <a:ext cx="9144000" cy="5786280"/>
          </a:xfrm>
          <a:prstGeom prst="rect">
            <a:avLst/>
          </a:prstGeom>
          <a:solidFill>
            <a:srgbClr val="d7f4fd"/>
          </a:solidFill>
          <a:ln w="9360">
            <a:solidFill>
              <a:srgbClr val="009999"/>
            </a:solidFill>
            <a:miter/>
          </a:ln>
        </p:spPr>
        <p:txBody>
          <a:bodyPr anchor="t">
            <a:normAutofit fontScale="95000"/>
          </a:bodyPr>
          <a:p>
            <a:pPr lvl="3" marL="1519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1" lang="en-US" sz="2800" spc="-1" strike="noStrike">
                <a:solidFill>
                  <a:srgbClr val="00cc00"/>
                </a:solidFill>
                <a:latin typeface="Arial"/>
                <a:ea typeface="Arial"/>
              </a:rPr>
              <a:t>Растение –кустарник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3" marL="1519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  <a:ea typeface="Arial"/>
              </a:rPr>
              <a:t>            </a:t>
            </a:r>
            <a:r>
              <a:rPr b="1" lang="en-US" sz="2800" spc="-1" strike="noStrike">
                <a:solidFill>
                  <a:srgbClr val="00cc00"/>
                </a:solidFill>
                <a:latin typeface="Arial"/>
                <a:ea typeface="Arial"/>
              </a:rPr>
              <a:t>С иголками колючими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3" marL="1519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  <a:ea typeface="Arial"/>
              </a:rPr>
              <a:t>            </a:t>
            </a:r>
            <a:r>
              <a:rPr b="1" lang="en-US" sz="2800" spc="-1" strike="noStrike">
                <a:solidFill>
                  <a:srgbClr val="00cc00"/>
                </a:solidFill>
                <a:latin typeface="Arial"/>
                <a:ea typeface="Arial"/>
              </a:rPr>
              <a:t>С ягодами синими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3" marL="1519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  <a:ea typeface="Arial"/>
              </a:rPr>
              <a:t>            </a:t>
            </a:r>
            <a:r>
              <a:rPr b="1" lang="en-US" sz="2800" spc="-1" strike="noStrike">
                <a:solidFill>
                  <a:srgbClr val="00cc00"/>
                </a:solidFill>
                <a:latin typeface="Arial"/>
                <a:ea typeface="Arial"/>
              </a:rPr>
              <a:t>Но вовсе не съедобное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Золотая кор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Зеленые кудряшк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Шишки вкусные всегд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Для белки и для дятла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  <a:ea typeface="Arial"/>
              </a:rPr>
              <a:t>                       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  <a:ea typeface="Arial"/>
              </a:rPr>
              <a:t>Зелена зимой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  <a:ea typeface="Arial"/>
              </a:rPr>
              <a:t>                       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  <a:ea typeface="Arial"/>
              </a:rPr>
              <a:t>И летом и весной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  <a:ea typeface="Arial"/>
              </a:rPr>
              <a:t>                       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  <a:ea typeface="Arial"/>
              </a:rPr>
              <a:t>В Новый год меня нарядят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  <a:ea typeface="Arial"/>
              </a:rPr>
              <a:t>                   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  <a:ea typeface="Arial"/>
              </a:rPr>
              <a:t>И подарки принесут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WordArt 4"/>
          <p:cNvSpPr txBox="1"/>
          <p:nvPr/>
        </p:nvSpPr>
        <p:spPr>
          <a:xfrm>
            <a:off x="0" y="0"/>
            <a:ext cx="9144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-4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На берегах Тавриды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Мы увидели пирамиды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Не простые –каменистые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А зеленые – деревянистые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Стоят как на страж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И нет их краше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Шишки треснут, семя разлетится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На земле Тавриды, ….  родится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  <a:ea typeface="Arial"/>
              </a:rPr>
              <a:t>Два листа у нее , два лист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Arial"/>
                <a:ea typeface="Arial"/>
              </a:rPr>
              <a:t>                                     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  <a:ea typeface="Arial"/>
              </a:rPr>
              <a:t>Почему же растет сотни лет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Arial"/>
                <a:ea typeface="Arial"/>
              </a:rPr>
              <a:t>                                    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  <a:ea typeface="Arial"/>
              </a:rPr>
              <a:t>Очень жаркие там мест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Arial"/>
                <a:ea typeface="Arial"/>
              </a:rPr>
              <a:t>                                     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  <a:ea typeface="Arial"/>
              </a:rPr>
              <a:t>И дождей то все нет и нет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Иголки у него, а не елка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«Ягоды» красные, не вишня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      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Что же это вышло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1499760"/>
            <a:ext cx="9144000" cy="5357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WordArt 4"/>
          <p:cNvSpPr txBox="1"/>
          <p:nvPr/>
        </p:nvSpPr>
        <p:spPr>
          <a:xfrm>
            <a:off x="642960" y="642960"/>
            <a:ext cx="8136000" cy="62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70c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 НЕОБИТАЕМОМ ОСТРОВЕ</a:t>
            </a:r>
            <a:endParaRPr b="1" lang="en-US" sz="2400" spc="1" strike="noStrike">
              <a:ln w="0">
                <a:noFill/>
              </a:ln>
              <a:solidFill>
                <a:srgbClr val="0070c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43" name="Picture 5" descr="img058"/>
          <p:cNvPicPr/>
          <p:nvPr/>
        </p:nvPicPr>
        <p:blipFill>
          <a:blip r:embed="rId1"/>
          <a:stretch/>
        </p:blipFill>
        <p:spPr>
          <a:xfrm>
            <a:off x="857160" y="1571760"/>
            <a:ext cx="6819840" cy="502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45" name="Picture 4" descr="img198"/>
          <p:cNvPicPr/>
          <p:nvPr/>
        </p:nvPicPr>
        <p:blipFill>
          <a:blip r:embed="rId1"/>
          <a:stretch/>
        </p:blipFill>
        <p:spPr>
          <a:xfrm>
            <a:off x="1547640" y="1628640"/>
            <a:ext cx="532944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7f4f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47" name="Picture 4" descr="img195"/>
          <p:cNvPicPr/>
          <p:nvPr/>
        </p:nvPicPr>
        <p:blipFill>
          <a:blip r:embed="rId1"/>
          <a:stretch/>
        </p:blipFill>
        <p:spPr>
          <a:xfrm>
            <a:off x="2571840" y="928800"/>
            <a:ext cx="4032000" cy="530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49" name="Picture 4" descr="img203"/>
          <p:cNvPicPr/>
          <p:nvPr/>
        </p:nvPicPr>
        <p:blipFill>
          <a:blip r:embed="rId1"/>
          <a:stretch/>
        </p:blipFill>
        <p:spPr>
          <a:xfrm>
            <a:off x="2268360" y="571680"/>
            <a:ext cx="3888000" cy="588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7f4f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1" name="Picture 4" descr="img199"/>
          <p:cNvPicPr/>
          <p:nvPr/>
        </p:nvPicPr>
        <p:blipFill>
          <a:blip r:embed="rId1"/>
          <a:stretch/>
        </p:blipFill>
        <p:spPr>
          <a:xfrm>
            <a:off x="1403280" y="928800"/>
            <a:ext cx="5257800" cy="528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3" name="Picture 4" descr="img196"/>
          <p:cNvPicPr/>
          <p:nvPr/>
        </p:nvPicPr>
        <p:blipFill>
          <a:blip r:embed="rId1"/>
          <a:stretch/>
        </p:blipFill>
        <p:spPr>
          <a:xfrm>
            <a:off x="571680" y="642960"/>
            <a:ext cx="8207280" cy="59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« Сумасшествие ехать по океану, не зная дороги, по океану, по которому никто не ездил, плыть в страну, существование которой вопрос!»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Л.Н. Толсто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5" name="Picture 4" descr="img190"/>
          <p:cNvPicPr/>
          <p:nvPr/>
        </p:nvPicPr>
        <p:blipFill>
          <a:blip r:embed="rId1"/>
          <a:stretch/>
        </p:blipFill>
        <p:spPr>
          <a:xfrm>
            <a:off x="857160" y="1285920"/>
            <a:ext cx="7143840" cy="501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00120"/>
          </a:xfrm>
          <a:prstGeom prst="rect">
            <a:avLst/>
          </a:prstGeom>
          <a:solidFill>
            <a:srgbClr val="d7f4f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WordArt 4"/>
          <p:cNvSpPr txBox="1"/>
          <p:nvPr/>
        </p:nvSpPr>
        <p:spPr>
          <a:xfrm>
            <a:off x="611280" y="571680"/>
            <a:ext cx="7777080" cy="78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ВПЕРЕДИ - РИФЫ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159" name="Picture 5" descr="VLADIVOSTOK 230"/>
          <p:cNvPicPr/>
          <p:nvPr/>
        </p:nvPicPr>
        <p:blipFill>
          <a:blip r:embed="rId3"/>
          <a:stretch/>
        </p:blipFill>
        <p:spPr>
          <a:xfrm>
            <a:off x="0" y="1500120"/>
            <a:ext cx="91440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  <a:ea typeface="Arial"/>
              </a:rPr>
              <a:t>               </a:t>
            </a:r>
            <a:r>
              <a:rPr b="1" lang="ru-RU" sz="3200" spc="-1" strike="noStrike">
                <a:solidFill>
                  <a:srgbClr val="0070c0"/>
                </a:solidFill>
                <a:latin typeface="Arial"/>
                <a:ea typeface="Arial"/>
              </a:rPr>
              <a:t>Вопросы  команде  « Ель»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. Гинкго появились 250 млн лет назад , современники динозавров?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2. Во время сильных бурь сосны ломаются под ветром, а ели выкорчевываются?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3.У голосеменных образуются плоды с семенами.         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4.Среди голосеменных есть растения очень похожие на пальму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5.Хвоинки у ели опадают каждый год.     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WordArt 5"/>
          <p:cNvSpPr txBox="1"/>
          <p:nvPr/>
        </p:nvSpPr>
        <p:spPr>
          <a:xfrm rot="10800000">
            <a:off x="8286480" y="1071720"/>
            <a:ext cx="8001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162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162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  <a:ea typeface="Arial"/>
              </a:rPr>
              <a:t>             </a:t>
            </a:r>
            <a:r>
              <a:rPr b="1" lang="ru-RU" sz="3200" spc="-1" strike="noStrike">
                <a:solidFill>
                  <a:srgbClr val="0070c0"/>
                </a:solidFill>
                <a:latin typeface="Arial"/>
                <a:ea typeface="Arial"/>
              </a:rPr>
              <a:t>Вопросы команде «Сосн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.Если у пихты прижать нижние ветки к почве , то они укореняются и образуют новые побеги.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2. У гинкго шишки называют «серебряным абрикосом»      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3. В народе эфедру называется «степной малиной», и из нее делают препарат эфедрин.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4.У лиственницы хвоинки собраны по 2 штуки .       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5.Шишки у можжевельника созревают в первый же год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WordArt 7"/>
          <p:cNvSpPr txBox="1"/>
          <p:nvPr/>
        </p:nvSpPr>
        <p:spPr>
          <a:xfrm>
            <a:off x="468360" y="1428840"/>
            <a:ext cx="8062920" cy="1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89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  <a:ea typeface="Arial"/>
              </a:rPr>
              <a:t>           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  <a:ea typeface="Arial"/>
              </a:rPr>
              <a:t>Вопросы команде «Лиственница»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. У ели хвоя живет 7-9 лет, у некоторых видов    даже 13.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Сосны, ели , пихты и другие хвойные живут 10-30- лет.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Вельвичия живет в пустыне и влагу берет из туманов.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.Для оплодотворения голосеменных обязательно нужна вода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. У сосны шишки созревают в этот же год после опыления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WordArt 4"/>
          <p:cNvSpPr txBox="1"/>
          <p:nvPr/>
        </p:nvSpPr>
        <p:spPr>
          <a:xfrm>
            <a:off x="500040" y="333360"/>
            <a:ext cx="81756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1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77708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00"/>
                </a:solidFill>
                <a:latin typeface="Constantia"/>
              </a:rPr>
              <a:t>Во время шторма сорвало подписи к картинам.  Определить названия изображенных картин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WordArt 6"/>
          <p:cNvSpPr txBox="1"/>
          <p:nvPr/>
        </p:nvSpPr>
        <p:spPr>
          <a:xfrm rot="5400000">
            <a:off x="-2485080" y="3069360"/>
            <a:ext cx="6481800" cy="863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картинная галерея</a:t>
            </a:r>
            <a:endParaRPr b="1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9" name="Picture 8" descr="img191"/>
          <p:cNvPicPr/>
          <p:nvPr/>
        </p:nvPicPr>
        <p:blipFill>
          <a:blip r:embed="rId1"/>
          <a:stretch/>
        </p:blipFill>
        <p:spPr>
          <a:xfrm>
            <a:off x="1619280" y="1413000"/>
            <a:ext cx="1944720" cy="15112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img194"/>
          <p:cNvPicPr/>
          <p:nvPr/>
        </p:nvPicPr>
        <p:blipFill>
          <a:blip r:embed="rId2"/>
          <a:stretch/>
        </p:blipFill>
        <p:spPr>
          <a:xfrm>
            <a:off x="5940360" y="1628640"/>
            <a:ext cx="2519280" cy="151308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10"/>
          <p:cNvSpPr/>
          <p:nvPr/>
        </p:nvSpPr>
        <p:spPr>
          <a:xfrm flipV="1">
            <a:off x="9144000" y="2492280"/>
            <a:ext cx="69840" cy="237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11" descr="img192"/>
          <p:cNvPicPr/>
          <p:nvPr/>
        </p:nvPicPr>
        <p:blipFill>
          <a:blip r:embed="rId3"/>
          <a:stretch/>
        </p:blipFill>
        <p:spPr>
          <a:xfrm>
            <a:off x="1403280" y="3716280"/>
            <a:ext cx="2808360" cy="25891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2" descr="img193"/>
          <p:cNvPicPr/>
          <p:nvPr/>
        </p:nvPicPr>
        <p:blipFill>
          <a:blip r:embed="rId4"/>
          <a:stretch/>
        </p:blipFill>
        <p:spPr>
          <a:xfrm>
            <a:off x="6300720" y="3284640"/>
            <a:ext cx="2328840" cy="33843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3" descr="img204"/>
          <p:cNvPicPr/>
          <p:nvPr/>
        </p:nvPicPr>
        <p:blipFill>
          <a:blip r:embed="rId5"/>
          <a:stretch/>
        </p:blipFill>
        <p:spPr>
          <a:xfrm>
            <a:off x="4140360" y="3429000"/>
            <a:ext cx="2232000" cy="2808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4" descr="img197"/>
          <p:cNvPicPr/>
          <p:nvPr/>
        </p:nvPicPr>
        <p:blipFill>
          <a:blip r:embed="rId6"/>
          <a:stretch/>
        </p:blipFill>
        <p:spPr>
          <a:xfrm>
            <a:off x="3492360" y="1413000"/>
            <a:ext cx="2519640" cy="189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>
              <a:alpha val="88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7" name="Picture 5" descr="img194"/>
          <p:cNvPicPr/>
          <p:nvPr/>
        </p:nvPicPr>
        <p:blipFill>
          <a:blip r:embed="rId1"/>
          <a:stretch/>
        </p:blipFill>
        <p:spPr>
          <a:xfrm>
            <a:off x="2071800" y="2143080"/>
            <a:ext cx="4537080" cy="329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9" name="Picture 4" descr="img191"/>
          <p:cNvPicPr/>
          <p:nvPr/>
        </p:nvPicPr>
        <p:blipFill>
          <a:blip r:embed="rId1"/>
          <a:stretch/>
        </p:blipFill>
        <p:spPr>
          <a:xfrm>
            <a:off x="1785960" y="1738440"/>
            <a:ext cx="5572080" cy="338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81" name="Picture 4" descr="img192"/>
          <p:cNvPicPr/>
          <p:nvPr/>
        </p:nvPicPr>
        <p:blipFill>
          <a:blip r:embed="rId1"/>
          <a:stretch/>
        </p:blipFill>
        <p:spPr>
          <a:xfrm>
            <a:off x="2286000" y="552600"/>
            <a:ext cx="4572000" cy="575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83" name="Picture 4" descr="img193"/>
          <p:cNvPicPr/>
          <p:nvPr/>
        </p:nvPicPr>
        <p:blipFill>
          <a:blip r:embed="rId1"/>
          <a:stretch/>
        </p:blipFill>
        <p:spPr>
          <a:xfrm>
            <a:off x="1019160" y="571680"/>
            <a:ext cx="7105680" cy="588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1428480"/>
            <a:ext cx="9144000" cy="5429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Каравеллы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«Сосна»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«Лиственница»                                  «Ель»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7" name="Picture 4" descr="img096"/>
          <p:cNvPicPr/>
          <p:nvPr/>
        </p:nvPicPr>
        <p:blipFill>
          <a:blip r:embed="rId1"/>
          <a:stretch/>
        </p:blipFill>
        <p:spPr>
          <a:xfrm>
            <a:off x="3286080" y="3643200"/>
            <a:ext cx="2786040" cy="2928960"/>
          </a:xfrm>
          <a:prstGeom prst="rect">
            <a:avLst/>
          </a:prstGeom>
          <a:ln w="0">
            <a:noFill/>
          </a:ln>
        </p:spPr>
      </p:pic>
      <p:sp>
        <p:nvSpPr>
          <p:cNvPr id="88" name="WordArt 5"/>
          <p:cNvSpPr txBox="1"/>
          <p:nvPr/>
        </p:nvSpPr>
        <p:spPr>
          <a:xfrm>
            <a:off x="1258920" y="333360"/>
            <a:ext cx="6456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СТАВ ЭКСПЕДИЦИИ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9" name="Picture 5" descr="img201"/>
          <p:cNvPicPr/>
          <p:nvPr/>
        </p:nvPicPr>
        <p:blipFill>
          <a:blip r:embed="rId2"/>
          <a:stretch/>
        </p:blipFill>
        <p:spPr>
          <a:xfrm>
            <a:off x="6072120" y="1214280"/>
            <a:ext cx="2857680" cy="3229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img200"/>
          <p:cNvPicPr/>
          <p:nvPr/>
        </p:nvPicPr>
        <p:blipFill>
          <a:blip r:embed="rId3"/>
          <a:stretch/>
        </p:blipFill>
        <p:spPr>
          <a:xfrm>
            <a:off x="0" y="1285920"/>
            <a:ext cx="3071880" cy="35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85" name="Picture 4" descr="img204"/>
          <p:cNvPicPr/>
          <p:nvPr/>
        </p:nvPicPr>
        <p:blipFill>
          <a:blip r:embed="rId1"/>
          <a:stretch/>
        </p:blipFill>
        <p:spPr>
          <a:xfrm>
            <a:off x="1214280" y="642960"/>
            <a:ext cx="7039080" cy="605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87" name="Picture 4" descr="img197"/>
          <p:cNvPicPr/>
          <p:nvPr/>
        </p:nvPicPr>
        <p:blipFill>
          <a:blip r:embed="rId1"/>
          <a:stretch/>
        </p:blipFill>
        <p:spPr>
          <a:xfrm>
            <a:off x="1500120" y="571680"/>
            <a:ext cx="6286680" cy="542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0" name="Picture 4" descr="VLADIVOSTOK 1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2" name="Picture 4" descr="IMG_09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4" name="Picture 4" descr="IMG_1019"/>
          <p:cNvPicPr/>
          <p:nvPr/>
        </p:nvPicPr>
        <p:blipFill>
          <a:blip r:embed="rId1"/>
          <a:stretch/>
        </p:blipFill>
        <p:spPr>
          <a:xfrm>
            <a:off x="0" y="0"/>
            <a:ext cx="9144000" cy="676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6" name="Picture 4" descr="IMG_10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cc"/>
              </a:solidFill>
              <a:latin typeface="Constantia"/>
            </a:endParaRPr>
          </a:p>
        </p:txBody>
      </p:sp>
      <p:sp>
        <p:nvSpPr>
          <p:cNvPr id="199" name="WordArt 4"/>
          <p:cNvSpPr txBox="1"/>
          <p:nvPr/>
        </p:nvSpPr>
        <p:spPr>
          <a:xfrm>
            <a:off x="611280" y="333360"/>
            <a:ext cx="806436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ОБРО ПОЖАЛОВАТЬ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0" name="WordArt 7"/>
          <p:cNvSpPr txBox="1"/>
          <p:nvPr/>
        </p:nvSpPr>
        <p:spPr>
          <a:xfrm>
            <a:off x="179280" y="2349360"/>
            <a:ext cx="885672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10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  страну    цветковых        растений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1" name="Picture 8" descr="img085"/>
          <p:cNvPicPr/>
          <p:nvPr/>
        </p:nvPicPr>
        <p:blipFill>
          <a:blip r:embed="rId1"/>
          <a:stretch/>
        </p:blipFill>
        <p:spPr>
          <a:xfrm>
            <a:off x="2987640" y="4365720"/>
            <a:ext cx="2521080" cy="237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0" y="856800"/>
            <a:ext cx="9144000" cy="600084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2800" spc="-1" strike="noStrike">
                <a:solidFill>
                  <a:srgbClr val="00cc00"/>
                </a:solidFill>
                <a:latin typeface="Arial"/>
                <a:ea typeface="Arial"/>
              </a:rPr>
              <a:t>ВОПРОСЫ КОМАНДЕ «СОСНА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. Сосна принадлежит к классу …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 По отношению к свету сосна растение…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 Хвоинки покрыты …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. Хвоинки расположены по 2 на…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. На песчаных почвах у сосны хорошо развит…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WordArt 4"/>
          <p:cNvSpPr txBox="1"/>
          <p:nvPr/>
        </p:nvSpPr>
        <p:spPr>
          <a:xfrm>
            <a:off x="9540720" y="1052640"/>
            <a:ext cx="51339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cc00">
                    <a:alpha val="50000"/>
                  </a:srgbClr>
                </a:solidFill>
                <a:latin typeface="Arial"/>
              </a:rPr>
              <a:t>ВОПРОСЫ КОМАНДАМ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cc00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93" name="WordArt 6"/>
          <p:cNvSpPr txBox="1"/>
          <p:nvPr/>
        </p:nvSpPr>
        <p:spPr>
          <a:xfrm>
            <a:off x="0" y="0"/>
            <a:ext cx="9144000" cy="9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8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                         </a:t>
            </a:r>
            <a:endParaRPr b="1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7f4fd"/>
          </a:solidFill>
          <a:ln w="0">
            <a:noFill/>
          </a:ln>
        </p:spPr>
        <p:txBody>
          <a:bodyPr anchor="t">
            <a:normAutofit fontScale="92000"/>
          </a:bodyPr>
          <a:p>
            <a:pPr lvl="4" marL="1892520" indent="-2102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ВОПРОСЫ КОМАНДЕ « ЕЛЬ»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. ЕЛЬ ПРИНАДЛЕЖИТ КЛАССУ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…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У ЕЛИ ШИШКИ КОЖИСТЫЕ,….                     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ЛАТИНСКОЕ НАЗВАНИЕ «ПИЦЕА», ЧТО ЗНАЧИТ….     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. ИЗ ДРЕВЕСИНЫ ЕЛИ ПОЛУЧАЮТСЯ САМЫЕ ЛУЧШИЕ .….ИНСТРУМЕНТЫ.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.У ЕЛИ ОДИНОЧНЫЕ ХВОИНКИ ОБЫЧНО ….ФОРМЫ.                    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aede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                               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           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Вопросы команде «Лиственница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. ЛИСТВЕННИЦА ПЕРЕНОСИТ ГОРОДСКИЕ УСЛОВИЯ …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 ОСЕНЬЮ ЕЕ ХВОИНКИ …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 НА УКОРОЧЕННЫХ ПОБЕГАХ ХВОЯ РАСПОЛОЖЕНА …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. ШИШКИ МЕЛКИЕ, СОЗРЕВАЮТ В ТЕЧЕНИИ ГОДА, А  ДЕРЖАТСЯ…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. ЛИСТВЕННИЦА, РАСТЕНИЕ ПО ОТНОШЕНИЮ К ОСВЕЩЕННОСТИ,- …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Rectangle 3" descr=""/>
          <p:cNvPicPr/>
          <p:nvPr/>
        </p:nvPicPr>
        <p:blipFill>
          <a:blip r:embed="rId1"/>
          <a:stretch/>
        </p:blipFill>
        <p:spPr>
          <a:xfrm>
            <a:off x="-6480" y="-165240"/>
            <a:ext cx="9156960" cy="7029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img211"/>
          <p:cNvPicPr/>
          <p:nvPr/>
        </p:nvPicPr>
        <p:blipFill>
          <a:blip r:embed="rId2"/>
          <a:stretch/>
        </p:blipFill>
        <p:spPr>
          <a:xfrm>
            <a:off x="2071800" y="1143000"/>
            <a:ext cx="4286160" cy="521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1042920" y="2133720"/>
          <a:ext cx="7201080" cy="4095720"/>
        </p:xfrm>
        <a:graphic>
          <a:graphicData uri="http://schemas.openxmlformats.org/drawingml/2006/table">
            <a:tbl>
              <a:tblPr/>
              <a:tblGrid>
                <a:gridCol w="1200240"/>
                <a:gridCol w="1200240"/>
                <a:gridCol w="1199880"/>
                <a:gridCol w="1200240"/>
                <a:gridCol w="1200240"/>
                <a:gridCol w="12002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b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b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Ь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WordArt 63"/>
          <p:cNvSpPr txBox="1"/>
          <p:nvPr/>
        </p:nvSpPr>
        <p:spPr>
          <a:xfrm>
            <a:off x="857160" y="428760"/>
            <a:ext cx="7286760" cy="12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ши головоломку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adde1"/>
          </a:solidFill>
          <a:ln w="9360">
            <a:solidFill>
              <a:srgbClr val="ccffcc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   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                            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nstantia"/>
              </a:rPr>
              <a:t>                       </a:t>
            </a:r>
            <a:r>
              <a:rPr b="1" lang="en-US" sz="6600" spc="-1" strike="noStrike">
                <a:solidFill>
                  <a:srgbClr val="000000"/>
                </a:solidFill>
                <a:latin typeface="Constantia"/>
              </a:rPr>
              <a:t>= </a:t>
            </a:r>
            <a:r>
              <a:rPr b="0" lang="en-US" sz="6600" spc="-1" strike="noStrike">
                <a:solidFill>
                  <a:srgbClr val="000000"/>
                </a:solidFill>
                <a:latin typeface="Constantia"/>
              </a:rPr>
              <a:t>    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468360" y="5229360"/>
            <a:ext cx="8207280" cy="84276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5" descr="www_creep_ru_0741"/>
          <p:cNvPicPr/>
          <p:nvPr/>
        </p:nvPicPr>
        <p:blipFill>
          <a:blip r:embed="rId1"/>
          <a:stretch/>
        </p:blipFill>
        <p:spPr>
          <a:xfrm>
            <a:off x="214200" y="928800"/>
            <a:ext cx="3889440" cy="3857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011"/>
          <p:cNvPicPr/>
          <p:nvPr/>
        </p:nvPicPr>
        <p:blipFill>
          <a:blip r:embed="rId2"/>
          <a:stretch/>
        </p:blipFill>
        <p:spPr>
          <a:xfrm>
            <a:off x="5214960" y="928800"/>
            <a:ext cx="3024000" cy="3649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15:59:56Z</dcterms:created>
  <dc:creator>Bashurov</dc:creator>
  <dc:description/>
  <dc:language>en-US</dc:language>
  <cp:lastModifiedBy>Василий</cp:lastModifiedBy>
  <dcterms:modified xsi:type="dcterms:W3CDTF">2012-02-01T15:26:25Z</dcterms:modified>
  <cp:revision>72</cp:revision>
  <dc:subject/>
  <dc:title>Путешествие к новым берегам.</dc:title>
</cp:coreProperties>
</file>