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19C-B678-469E-84BA-F0B79D5B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4CB-E2F2-4851-901D-D76BE15C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588-886A-4173-9180-C2380416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22B-168A-4E1E-B45B-3734DECE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88C3-02CA-4335-81F1-23D247E1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A684-CFF0-4390-8D70-3E301FAD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F476-7FBA-417F-94FF-74DD4EE4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85BB-0F7C-470A-B0F1-43B6CEBC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8D50-EEAD-471B-B3B9-C904B58B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770F-81C1-44A3-8B3A-FD2F92D2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6B2F-4620-4871-9543-28D7D127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EAE-B2FD-44F4-9295-A5B2B99F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8545-2D29-4879-8A4C-A8A7073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6643-D500-45DA-919F-8F3AD7E2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D4C5-A1AA-40F8-8882-33452635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C6C8-92A0-430E-8CBF-9E8BB1F4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62F8-F831-4B66-8196-200D8A90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22E-C9B8-4AE5-B727-4822DD64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E44-94D2-4E66-932E-ABFD8309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8BD-E498-4AB3-98FE-12BF31F6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0EE-BBA7-41E9-9277-F2576304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F0C-6BCA-4A3F-B5CA-10AC2AD7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A0D-9606-48E3-BECE-24DF4AAE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AFC-E6E9-4854-90BF-498D116E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D0DE-C01F-408F-9982-2D1C8D36CA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0CC3-70E1-4904-923C-59694F1C41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orbel"/>
              </a:rPr>
              <a:t>Зимующие птицы</a:t>
            </a:r>
            <a:endParaRPr b="0" lang="en-US" sz="6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Автор презентации: Калмычкова Е.В., учитель начальных классов ГБОУ СОШ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mbria"/>
              </a:rPr>
              <a:t>1980 города Москвы.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84" name="Изображение 1" descr=""/>
          <p:cNvPicPr/>
          <p:nvPr/>
        </p:nvPicPr>
        <p:blipFill>
          <a:blip r:embed="rId1"/>
          <a:stretch/>
        </p:blipFill>
        <p:spPr>
          <a:xfrm>
            <a:off x="3290760" y="1916280"/>
            <a:ext cx="39020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ГРАЧ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ОЙ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Н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ЦАПЛЯ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ЛАСТОЧ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ПОПОЛЗЕНЬ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mbria"/>
              </a:rPr>
              <a:t>Игра «Третий лишний»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ЗИМУЮЩИ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ТРИЖ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ДЯТЕЛ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ИНИЦ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ПЕРЕЛЁТНЫЕ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УТКА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СКВОРЕЦ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endParaRPr b="0" lang="en-US" sz="48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КАКИЕ ПТИЧЬИ СЕКРЕТЫ  ВЫ УЗНАЛИ?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840" y="1484280"/>
            <a:ext cx="44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1.   Почему птицы улетают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440160" y="2133720"/>
            <a:ext cx="5673240" cy="52056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Зимой  не смогли бы прокорм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5640" y="2852640"/>
            <a:ext cx="69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2.   Как птицы узнают о приближении зи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157840" y="3429000"/>
            <a:ext cx="6948720" cy="520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тицы замечают, что дни становятся короч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0" y="4149720"/>
            <a:ext cx="56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d30ff"/>
                </a:solidFill>
                <a:latin typeface="Calibri"/>
              </a:rPr>
              <a:t>3.  Почему некоторые птицы не улетают зимо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203640" y="5229360"/>
            <a:ext cx="5940360" cy="13737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Они могут и зимой найти себе кор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которые птицы делают запасы с ос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Список используемых источников:</a:t>
            </a:r>
            <a:br>
              <a:rPr sz="3200"/>
            </a:b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24000" y="1268280"/>
            <a:ext cx="806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http://www.artap.ru/animal/animal26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http://www.bio.vsu.ru/oriolus/ris4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ru.wikipedia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puzzles.amparlius.ru/new/rdl_child.asp?id=183&amp;a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www.kinder-sad.ru/zagadki/o-ptichk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http://www.xrest.ru/images/collection/00616/981/original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initsa_bolshaya_-_Penie_(get-tune.net).mp3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6" name="Изображение 5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513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476360" y="2967120"/>
            <a:ext cx="69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835200" y="585720"/>
            <a:ext cx="73152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0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ВОРОБЕЙ</a:t>
            </a:r>
            <a:r>
              <a:rPr b="0" lang="ru-RU" sz="4400" spc="-1" strike="noStrike">
                <a:solidFill>
                  <a:srgbClr val="c0504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живёт повсюду, кроме Севера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0" name="Изображение 1" descr=""/>
          <p:cNvPicPr/>
          <p:nvPr/>
        </p:nvPicPr>
        <p:blipFill>
          <a:blip r:embed="rId1"/>
          <a:stretch/>
        </p:blipFill>
        <p:spPr>
          <a:xfrm>
            <a:off x="4057560" y="264960"/>
            <a:ext cx="5086440" cy="3373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9080" y="1484280"/>
            <a:ext cx="45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аленький мальчи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сером ярмячиш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дворам шныря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ошки собир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зображение 1" descr=""/>
          <p:cNvPicPr/>
          <p:nvPr/>
        </p:nvPicPr>
        <p:blipFill>
          <a:blip r:embed="rId1"/>
          <a:stretch/>
        </p:blipFill>
        <p:spPr>
          <a:xfrm>
            <a:off x="5626080" y="428760"/>
            <a:ext cx="3141720" cy="372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706320" y="765000"/>
            <a:ext cx="489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щит в дупла лип уп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ёлуди, орехи, зёр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аправский кладов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ойкий…………………..ямщ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468360" y="3645000"/>
            <a:ext cx="915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libri"/>
              </a:rPr>
              <a:t>ПОПОЛЗЕНЬ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умеет передвигаться по стволам вниз головой. Осенью запасает корм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830268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ДЯТЕЛ  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питается насекомыми , которых с помощью клюва добывает из-под коры деревьев</a:t>
            </a:r>
            <a:r>
              <a:rPr b="0" i="1" lang="ru-RU" sz="2900" spc="-1" strike="noStrike">
                <a:solidFill>
                  <a:srgbClr val="215968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6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50920" y="333360"/>
            <a:ext cx="3325680" cy="4199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619080" y="189000"/>
            <a:ext cx="54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лесу под щебет, звон и св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тучит лесной Телеграфис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Здорово, дрозд приятель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ставит подпись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" y="3573000"/>
            <a:ext cx="837252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ИНИЦА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-ловкая птичка, уничтожает вредителей не только летом, но и зимой</a:t>
            </a:r>
            <a:r>
              <a:rPr b="0" lang="ru-RU" sz="36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9" name="Изображение 1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365720" cy="3274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70360" y="692280"/>
            <a:ext cx="40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пинкою зеленова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Животиком желтов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Шапочка чёрненькая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полоской  шарф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83012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504d"/>
                </a:solidFill>
                <a:latin typeface="Cambria"/>
              </a:rPr>
              <a:t>СОЙКА</a:t>
            </a:r>
            <a:r>
              <a:rPr b="0" lang="ru-RU" sz="3200" spc="-1" strike="noStrike">
                <a:solidFill>
                  <a:srgbClr val="215968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Cambria"/>
              </a:rPr>
              <a:t>–очень нарядная птица. У встревоженной сойки на голове поднимается хохолок. Питается желудями и орехами, спрятанными с осени</a:t>
            </a:r>
            <a:r>
              <a:rPr b="0" i="1" lang="ru-RU" sz="32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2" name="Изображение 1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222800" cy="3168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680" y="549360"/>
            <a:ext cx="4923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иних крылышек кра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глядеть нельзя в лес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о сучкам порхает бой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 резким хриплым кр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то же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Cambria"/>
              </a:rPr>
              <a:t>ВОРОНА</a:t>
            </a:r>
            <a:r>
              <a:rPr b="0" lang="ru-RU" sz="2900" spc="-1" strike="noStrike">
                <a:solidFill>
                  <a:srgbClr val="215968"/>
                </a:solidFill>
                <a:latin typeface="Cambria"/>
              </a:rPr>
              <a:t>-</a:t>
            </a:r>
            <a:r>
              <a:rPr b="0" lang="ru-RU" sz="2900" spc="-1" strike="noStrike">
                <a:solidFill>
                  <a:srgbClr val="c0504d"/>
                </a:solidFill>
                <a:latin typeface="Cambria"/>
              </a:rPr>
              <a:t>крупная птица. Если вороны сидят на верхушках деревьев- будет мороз</a:t>
            </a:r>
            <a:r>
              <a:rPr b="0" i="1" lang="ru-RU" sz="2900" spc="-1" strike="noStrike">
                <a:solidFill>
                  <a:srgbClr val="c0504d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5" name="Изображение 1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276360" cy="3682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774360" y="549360"/>
            <a:ext cx="450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р! Кар! Кар!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ичит плутов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у и ловкая воров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се блестящие вещ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чень любит эта птиц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она вам всем знако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овут её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</cp:lastModifiedBy>
  <dcterms:modified xsi:type="dcterms:W3CDTF">2012-11-03T07:19:15Z</dcterms:modified>
  <cp:revision>28</cp:revision>
  <dc:subject/>
  <dc:title>Зимующие п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