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A449-E605-4C5F-AF25-053D416A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0F0C-86E9-4AD2-B360-E0EAC042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1B64-02CA-433C-BC55-D7A8A461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67D1-434C-4BDF-95FE-29CEB247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6E8E-3A83-41BC-B932-C8CA142F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26DA-A4B5-4F25-8681-EC78F3E9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C5FC-D526-41E0-8F69-2EDDEB60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17CF-86F6-4B73-916E-12E19D94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9873-5F67-46DE-8A84-B3648867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4970-62AA-478E-8A02-BCCBB062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32AE-93A1-4473-A81A-B7E635A0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AA20-B705-47A9-B7E7-6F0BAB4E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26DF-4B76-44EB-B412-9ACF8001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1C65-F4D3-406E-AF53-7F28B707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EF43-7F5F-4480-BCEC-748E1B6C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44A6-B681-49E1-A885-58F79EBE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3401-4439-4D11-847A-3B9BAFA54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F902-AAD8-4265-B221-2FC25406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1A47-BF4D-4E29-9CDF-C6E30F09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3C4F-E7EE-4D09-9D8E-864F6719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C82B-2676-43AA-BE25-6C64C127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A6DC-4EB0-4D3D-B7D5-29153EC0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FEB5-2069-4062-955A-5B81F54B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83B3-CEE8-49C5-8BDC-C9268BEB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2159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A1B4-7F32-46CE-87A0-05DF4F17F2C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2159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1BDF-D0F1-47B0-B16E-E3F36992712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Corbel"/>
              </a:rPr>
              <a:t>Зимующие птицы</a:t>
            </a:r>
            <a:endParaRPr b="0" lang="en-US" sz="60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11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mbria"/>
              </a:rPr>
              <a:t>Автор презентации: Калмычкова Е.В., учитель начальных классов ГБОУ СОШ 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mbria"/>
              </a:rPr>
              <a:t>1980 города Москвы.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84" name="Изображение 1" descr=""/>
          <p:cNvPicPr/>
          <p:nvPr/>
        </p:nvPicPr>
        <p:blipFill>
          <a:blip r:embed="rId1"/>
          <a:stretch/>
        </p:blipFill>
        <p:spPr>
          <a:xfrm>
            <a:off x="3290760" y="1916280"/>
            <a:ext cx="390204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ambria"/>
              </a:rPr>
              <a:t>Игра «Третий лишний»</a:t>
            </a:r>
            <a:endParaRPr b="0" lang="en-US" sz="40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ЗИМУЮЩИЕ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ГРАЧ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СОЙКА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ВОРОНА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ПЕРЕЛЁТНЫЕ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ЦАПЛЯ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ЛАСТОЧКА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ПОПОЛЗЕНЬ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ambria"/>
              </a:rPr>
              <a:t>Игра «Третий лишний»</a:t>
            </a:r>
            <a:endParaRPr b="0" lang="en-US" sz="40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ЗИМУЮЩИЕ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СТРИЖ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ДЯТЕЛ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СИНИЦА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ПЕРЕЛЁТНЫЕ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УТКА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СКВОРЕЦ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ВОРОБЕЙ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Cambria"/>
              </a:rPr>
              <a:t>КАКИЕ ПТИЧЬИ СЕКРЕТЫ  ВЫ УЗНАЛИ?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24840" y="1484280"/>
            <a:ext cx="44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1.   Почему птицы улетают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3440160" y="2133720"/>
            <a:ext cx="5673240" cy="52056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Зимой  не смогли бы прокорми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35640" y="2852640"/>
            <a:ext cx="69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2.   Как птицы узнают о приближении зим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2157840" y="3429000"/>
            <a:ext cx="6948720" cy="5205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Птицы замечают, что дни становятся короч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0" y="4149720"/>
            <a:ext cx="56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d30ff"/>
                </a:solidFill>
                <a:latin typeface="Calibri"/>
              </a:rPr>
              <a:t>3.  Почему некоторые птицы не улетают зимо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3203640" y="5229360"/>
            <a:ext cx="5940360" cy="13737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Они могут и зимой найти себе кор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Некоторые птицы делают запасы с осе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mbria"/>
              </a:rPr>
              <a:t>Список используемых источников:</a:t>
            </a:r>
            <a:br>
              <a:rPr sz="3200"/>
            </a:b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324000" y="1268280"/>
            <a:ext cx="8064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http://www.artap.ru/animal/animal26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http://www.artap.ru/animal/animal26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http://www.bio.vsu.ru/oriolus/ris43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http://ru.wikipedia.org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http://puzzles.amparlius.ru/new/rdl_child.asp?id=183&amp;a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http://www.kinder-sad.ru/zagadki/o-ptichk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http://www.xrest.ru/images/collection/00616/981/original.jp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initsa_bolshaya_-_Penie_(get-tune.net).mp3" descr=""/>
          <p:cNvPicPr/>
          <p:nvPr/>
        </p:nvPicPr>
        <p:blipFill>
          <a:blip r:embed="rId1"/>
          <a:stretch/>
        </p:blipFill>
        <p:spPr>
          <a:xfrm>
            <a:off x="7812000" y="54936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86" name="Изображение 5" descr=""/>
          <p:cNvPicPr/>
          <p:nvPr/>
        </p:nvPicPr>
        <p:blipFill>
          <a:blip r:embed="rId2"/>
          <a:stretch/>
        </p:blipFill>
        <p:spPr>
          <a:xfrm>
            <a:off x="1258920" y="1052640"/>
            <a:ext cx="6513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1476360" y="2967120"/>
            <a:ext cx="6983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Прямоугольник 4" descr=""/>
          <p:cNvPicPr/>
          <p:nvPr/>
        </p:nvPicPr>
        <p:blipFill>
          <a:blip r:embed="rId1"/>
          <a:stretch/>
        </p:blipFill>
        <p:spPr>
          <a:xfrm>
            <a:off x="835200" y="585720"/>
            <a:ext cx="73152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5373360"/>
            <a:ext cx="8220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504d"/>
                </a:solidFill>
                <a:latin typeface="Cambria"/>
              </a:rPr>
              <a:t>ВОРОБЕЙ</a:t>
            </a:r>
            <a:r>
              <a:rPr b="0" lang="ru-RU" sz="4400" spc="-1" strike="noStrike">
                <a:solidFill>
                  <a:srgbClr val="c0504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c0504d"/>
                </a:solidFill>
                <a:latin typeface="Cambria"/>
              </a:rPr>
              <a:t>живёт повсюду, кроме Севера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90" name="Изображение 1" descr=""/>
          <p:cNvPicPr/>
          <p:nvPr/>
        </p:nvPicPr>
        <p:blipFill>
          <a:blip r:embed="rId1"/>
          <a:stretch/>
        </p:blipFill>
        <p:spPr>
          <a:xfrm>
            <a:off x="4057560" y="264960"/>
            <a:ext cx="5086440" cy="337356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19080" y="1484280"/>
            <a:ext cx="4535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Маленький мальчи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 сером ярмячиш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По дворам шныряе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рошки собира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Изображение 1" descr=""/>
          <p:cNvPicPr/>
          <p:nvPr/>
        </p:nvPicPr>
        <p:blipFill>
          <a:blip r:embed="rId1"/>
          <a:stretch/>
        </p:blipFill>
        <p:spPr>
          <a:xfrm>
            <a:off x="5626080" y="428760"/>
            <a:ext cx="3141720" cy="372420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706320" y="765000"/>
            <a:ext cx="4892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Тащит в дупла лип упор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Жёлуди, орехи, зёр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ак заправский кладовщ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Бойкий…………………..ямщи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468360" y="3645000"/>
            <a:ext cx="9150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504d"/>
                </a:solidFill>
                <a:latin typeface="Calibri"/>
              </a:rPr>
              <a:t>ПОПОЛЗЕНЬ 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умеет передвигаться по стволам вниз головой. Осенью запасает корм</a:t>
            </a: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4653000"/>
            <a:ext cx="830268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504d"/>
                </a:solidFill>
                <a:latin typeface="Cambria"/>
              </a:rPr>
              <a:t>ДЯТЕЛ  </a:t>
            </a:r>
            <a:r>
              <a:rPr b="0" lang="ru-RU" sz="2900" spc="-1" strike="noStrike">
                <a:solidFill>
                  <a:srgbClr val="c0504d"/>
                </a:solidFill>
                <a:latin typeface="Cambria"/>
              </a:rPr>
              <a:t>питается насекомыми , которых с помощью клюва добывает из-под коры деревьев</a:t>
            </a:r>
            <a:r>
              <a:rPr b="0" i="1" lang="ru-RU" sz="2900" spc="-1" strike="noStrike">
                <a:solidFill>
                  <a:srgbClr val="215968"/>
                </a:solidFill>
                <a:latin typeface="Cambria"/>
              </a:rPr>
              <a:t>.</a:t>
            </a:r>
            <a:endParaRPr b="0" lang="en-US" sz="29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96" name="Изображение 2" descr="Снимок экрана 2012-10-21 в 22.31.57.png"/>
          <p:cNvPicPr/>
          <p:nvPr/>
        </p:nvPicPr>
        <p:blipFill>
          <a:blip r:embed="rId1"/>
          <a:stretch/>
        </p:blipFill>
        <p:spPr>
          <a:xfrm>
            <a:off x="250920" y="333360"/>
            <a:ext cx="3325680" cy="419904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3619080" y="189000"/>
            <a:ext cx="549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 лесу под щебет, звон и сви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тучит лесной Телеграфис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«Здорово, дрозд приятель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И ставит подпись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800" y="3573000"/>
            <a:ext cx="837252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504d"/>
                </a:solidFill>
                <a:latin typeface="Cambria"/>
              </a:rPr>
              <a:t>СИНИЦА</a:t>
            </a:r>
            <a:r>
              <a:rPr b="0" lang="ru-RU" sz="3200" spc="-1" strike="noStrike">
                <a:solidFill>
                  <a:srgbClr val="c0504d"/>
                </a:solidFill>
                <a:latin typeface="Cambria"/>
              </a:rPr>
              <a:t>-ловкая птичка, уничтожает вредителей не только летом, но и зимой</a:t>
            </a:r>
            <a:r>
              <a:rPr b="0" lang="ru-RU" sz="36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99" name="Изображение 1" descr=""/>
          <p:cNvPicPr/>
          <p:nvPr/>
        </p:nvPicPr>
        <p:blipFill>
          <a:blip r:embed="rId1"/>
          <a:stretch/>
        </p:blipFill>
        <p:spPr>
          <a:xfrm>
            <a:off x="4572000" y="620640"/>
            <a:ext cx="4365720" cy="32749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270360" y="692280"/>
            <a:ext cx="40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пинкою зеленова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Животиком желтов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Шапочка чёрненькая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И полоской  шарфи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3141360"/>
            <a:ext cx="830124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504d"/>
                </a:solidFill>
                <a:latin typeface="Cambria"/>
              </a:rPr>
              <a:t>СОЙКА</a:t>
            </a:r>
            <a:r>
              <a:rPr b="0" lang="ru-RU" sz="3200" spc="-1" strike="noStrike">
                <a:solidFill>
                  <a:srgbClr val="215968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c0504d"/>
                </a:solidFill>
                <a:latin typeface="Cambria"/>
              </a:rPr>
              <a:t>–очень нарядная птица. У встревоженной сойки на голове поднимается хохолок. Питается желудями и орехами, спрятанными с осени</a:t>
            </a:r>
            <a:r>
              <a:rPr b="0" i="1" lang="ru-RU" sz="3200" spc="-1" strike="noStrike">
                <a:solidFill>
                  <a:srgbClr val="c0504d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102" name="Изображение 1" descr=""/>
          <p:cNvPicPr/>
          <p:nvPr/>
        </p:nvPicPr>
        <p:blipFill>
          <a:blip r:embed="rId1"/>
          <a:stretch/>
        </p:blipFill>
        <p:spPr>
          <a:xfrm>
            <a:off x="4716360" y="189000"/>
            <a:ext cx="4222800" cy="31687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22680" y="549360"/>
            <a:ext cx="4923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иних крылышек кра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Разглядеть нельзя в лес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По сучкам порхает бой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 резким хриплым кри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то же эт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504d"/>
                </a:solidFill>
                <a:latin typeface="Cambria"/>
              </a:rPr>
              <a:t>ВОРОНА</a:t>
            </a:r>
            <a:r>
              <a:rPr b="0" lang="ru-RU" sz="2900" spc="-1" strike="noStrike">
                <a:solidFill>
                  <a:srgbClr val="215968"/>
                </a:solidFill>
                <a:latin typeface="Cambria"/>
              </a:rPr>
              <a:t>-</a:t>
            </a:r>
            <a:r>
              <a:rPr b="0" lang="ru-RU" sz="2900" spc="-1" strike="noStrike">
                <a:solidFill>
                  <a:srgbClr val="c0504d"/>
                </a:solidFill>
                <a:latin typeface="Cambria"/>
              </a:rPr>
              <a:t>крупная птица. Если вороны сидят на верхушках деревьев- будет мороз</a:t>
            </a:r>
            <a:r>
              <a:rPr b="0" i="1" lang="ru-RU" sz="2900" spc="-1" strike="noStrike">
                <a:solidFill>
                  <a:srgbClr val="c0504d"/>
                </a:solidFill>
                <a:latin typeface="Cambria"/>
              </a:rPr>
              <a:t>.</a:t>
            </a:r>
            <a:endParaRPr b="0" lang="en-US" sz="29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105" name="Изображение 1" descr=""/>
          <p:cNvPicPr/>
          <p:nvPr/>
        </p:nvPicPr>
        <p:blipFill>
          <a:blip r:embed="rId1"/>
          <a:stretch/>
        </p:blipFill>
        <p:spPr>
          <a:xfrm>
            <a:off x="5651640" y="476280"/>
            <a:ext cx="3276360" cy="36828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774360" y="549360"/>
            <a:ext cx="4509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ар! Кар! Кар!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ричит плутов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Ну и ловкая воровк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се блестящие вещи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Очень любит эта птиц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И она вам всем знаком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ак зовут её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</cp:lastModifiedBy>
  <dcterms:modified xsi:type="dcterms:W3CDTF">2012-11-03T07:19:15Z</dcterms:modified>
  <cp:revision>28</cp:revision>
  <dc:subject/>
  <dc:title>Зимующие птиц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899579990</vt:lpwstr>
  </property>
</Properties>
</file>