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656-90DE-4382-9B70-BA8B04D0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7BC-1618-4A1E-9292-6D1DE071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CCE-FC4B-43C5-9AA0-B1D5288E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6A1-E8E6-4B7A-9408-79D16E34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F64D-3946-4C55-AE7E-2E0ECE75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7A4-FB0E-4081-AEE0-D11D3A1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71E1-ACE0-42A5-84F3-693668B1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0879-7262-4645-8F88-187D612A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FDB-5241-48F2-92CA-493A1B13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003D-543D-4C1D-9C43-2326CEB2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7413-0FCC-4386-B062-B79735F8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BB1-D55F-40ED-84EF-7BB8FE6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0EA1-F166-4BF6-BF4B-329E493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9ABB-096E-4C9D-B008-B51A469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F67-00AE-49C0-9CA7-63178130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BD09-1FE7-456C-94DE-9259AA31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E81D-22C5-4F13-8A81-438BA767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679-B56A-4A9A-9633-EEFF0156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36D-8DCA-4879-B6CC-3EB4532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83E-72A9-4FF7-95AB-63C27F2A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BCC-FCCD-4535-B067-A88C7A0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37A-3731-474E-9BE2-70419ABC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28E-9681-4B44-97C3-55A33AB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924-495F-47D6-9666-D9E11B3F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1791-2EB1-495A-AFD4-7B0207EC22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22FC-3A9B-45B2-BF6B-4423A59B82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Зимующие птицы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Автор презентации: Калмычкова Е.В., учитель начальных классов ГБОУ СОШ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1980 города Москвы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4" name="Изображение 1" descr=""/>
          <p:cNvPicPr/>
          <p:nvPr/>
        </p:nvPicPr>
        <p:blipFill>
          <a:blip r:embed="rId1"/>
          <a:stretch/>
        </p:blipFill>
        <p:spPr>
          <a:xfrm>
            <a:off x="3290760" y="1916280"/>
            <a:ext cx="39020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ГРАЧ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ОЙ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Н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ЦАПЛЯ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ЛАСТОЧ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ПОПОЛЗЕНЬ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ТРИЖ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ДЯТЕЛ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ИНИЦ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УТ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КВОРЕЦ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КАКИЕ ПТИЧЬИ СЕКРЕТЫ  ВЫ УЗНАЛ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840" y="1484280"/>
            <a:ext cx="44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  Почему птицы улетают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40160" y="2133720"/>
            <a:ext cx="5673240" cy="52056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имой  не смогли бы прокорм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640" y="285264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  Как птицы узнают о приближении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157840" y="3429000"/>
            <a:ext cx="6948720" cy="520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тицы замечают, что дни становятся коро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4149720"/>
            <a:ext cx="56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d30ff"/>
                </a:solidFill>
                <a:latin typeface="Calibri"/>
              </a:rPr>
              <a:t>3.  Почему некоторые птицы не улетают зим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03640" y="5229360"/>
            <a:ext cx="5940360" cy="137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ни могут и зимой найти себе к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которые птицы делают запасы с ос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Список используемых источников: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24000" y="1268280"/>
            <a:ext cx="806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http://www.bio.vsu.ru/oriolus/ris4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puzzles.amparlius.ru/new/rdl_child.asp?id=183&amp;a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kinder-sad.ru/zagadki/o-ptichk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http://www.xrest.ru/images/collection/00616/981/original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initsa_bolshaya_-_Penie_(get-tune.net).mp3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Изображение 5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13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476360" y="2967120"/>
            <a:ext cx="69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585720"/>
            <a:ext cx="73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0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r>
              <a:rPr b="0" lang="ru-RU" sz="4400" spc="-1" strike="noStrike">
                <a:solidFill>
                  <a:srgbClr val="c0504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живёт повсюду, кроме Севера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0" name="Изображение 1" descr=""/>
          <p:cNvPicPr/>
          <p:nvPr/>
        </p:nvPicPr>
        <p:blipFill>
          <a:blip r:embed="rId1"/>
          <a:stretch/>
        </p:blipFill>
        <p:spPr>
          <a:xfrm>
            <a:off x="4057560" y="264960"/>
            <a:ext cx="5086440" cy="3373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9080" y="148428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аленький мальчи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ером ярмячи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дворам шныря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ошки собир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1" descr=""/>
          <p:cNvPicPr/>
          <p:nvPr/>
        </p:nvPicPr>
        <p:blipFill>
          <a:blip r:embed="rId1"/>
          <a:stretch/>
        </p:blipFill>
        <p:spPr>
          <a:xfrm>
            <a:off x="5626080" y="428760"/>
            <a:ext cx="3141720" cy="37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06320" y="765000"/>
            <a:ext cx="489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щит в дупла лип уп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ёлуди, орехи, зёр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аправский кладов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йкий…………………..ямщ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468360" y="3645000"/>
            <a:ext cx="915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libri"/>
              </a:rPr>
              <a:t>ПОПОЛЗЕНЬ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умеет передвигаться по стволам вниз головой. Осенью запасает корм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83026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ДЯТЕЛ  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питается насекомыми , которых с помощью клюва добывает из-под коры деревьев</a:t>
            </a:r>
            <a:r>
              <a:rPr b="0" i="1" lang="ru-RU" sz="2900" spc="-1" strike="noStrike">
                <a:solidFill>
                  <a:srgbClr val="215968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50920" y="333360"/>
            <a:ext cx="3325680" cy="4199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19080" y="189000"/>
            <a:ext cx="54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лесу под щебет, звон и св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тучит лесной Телеграфис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Здорово, дрозд приятел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ставит подпись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" y="3573000"/>
            <a:ext cx="837252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ИНИЦА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-ловкая птичка, уничтожает вредителей не только летом, но и зимой</a:t>
            </a:r>
            <a:r>
              <a:rPr b="0" lang="ru-RU" sz="36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Изображение 1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70360" y="692280"/>
            <a:ext cx="40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нкою зеленова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ивотиком желто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Шапочка чёрненькая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полоской  шарф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83012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ОЙКА</a:t>
            </a: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–очень нарядная птица. У встревоженной сойки на голове поднимается хохолок. Питается желудями и орехами, спрятанными с осени</a:t>
            </a:r>
            <a:r>
              <a:rPr b="0" i="1" lang="ru-RU" sz="32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Изображение 1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22800" cy="3168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680" y="549360"/>
            <a:ext cx="4923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их крылышек кр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глядеть нельзя в ле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сучкам порхает бой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 резким хриплым кр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ВОРОНА</a:t>
            </a:r>
            <a:r>
              <a:rPr b="0" lang="ru-RU" sz="2900" spc="-1" strike="noStrike">
                <a:solidFill>
                  <a:srgbClr val="215968"/>
                </a:solidFill>
                <a:latin typeface="Cambria"/>
              </a:rPr>
              <a:t>-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крупная птица. Если вороны сидят на верхушках деревьев- будет мороз</a:t>
            </a:r>
            <a:r>
              <a:rPr b="0" i="1" lang="ru-RU" sz="29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5" name="Изображение 1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76360" cy="3682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74360" y="549360"/>
            <a:ext cx="450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р! Кар! Кар!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ичит плуто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у и ловкая воров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се блестящие вещ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чень любит эта пт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она вам всем знако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ут её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</cp:lastModifiedBy>
  <dcterms:modified xsi:type="dcterms:W3CDTF">2012-11-03T07:19:15Z</dcterms:modified>
  <cp:revision>28</cp:revision>
  <dc:subject/>
  <dc:title>Зимующие п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