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183E-3AE1-4E10-9BDE-86319DCAB7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8360-5AD9-42B1-82D9-72289FBE9A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D22-9C26-442F-ABAE-217C8DCC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D3D-19A1-4A79-BB5A-4395905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ABA-70AB-4A19-BAF1-DCD9F438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0FA-8CAA-4D24-A265-52204419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A0C-DA92-480E-AE0A-347E62A0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4124-5B5E-4093-AA50-C1E2F7FE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8CAC-91E4-4B6D-A2F0-8CFE989D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4E83-4A6E-4032-99C0-3DCA73A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AA80-5688-46B3-B8E7-C258D47C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A85-DAD3-4D0F-95C5-9207CC9B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46BE-AEC9-45E0-8AB2-5A03F8C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5BC-066C-47CC-B424-F40BF278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41D2-FD06-4EB6-B6CA-721AADA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2588-F67A-4269-B8FF-7F2C1F1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A90-C31F-41F1-A2C4-A51ABB24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109F-6F5F-4AEE-A3DC-D8B1D83E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B538-B083-4850-B56A-2E400920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72814-B0D3-4558-AE89-220533AC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2780F-666B-4747-852B-6D7B5CB2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FD88B-44E7-4E97-B163-C4020E9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15A03-C354-413D-A160-C67D123F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DCF8E-7929-416C-9C05-7CD2C3E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E5B-FEAA-4F47-A82E-571BD267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51EFF-56C1-435B-A36A-8D6C7C61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9B72C-12FD-432E-8969-37C2FAE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3CE9D-8662-41ED-9E05-6457966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11518-A104-4E1D-A312-FEC16A3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1D2BA-D073-4396-818E-E7BAAEFF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6CD41-8057-445A-BC1E-5BD89170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C6E22-1515-4C43-9D44-8F40115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EACA-AF55-4228-B381-DC57C83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F8F5-54D6-4676-AF2E-F7EC90E4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47FD-C867-4C95-855F-965EEF0F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F0C-D68B-4650-9F3A-98943AB5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6339-28FC-4E60-AB72-E74191C7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DED9-6CCC-42CE-8A59-2BC95C49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BFD2-F314-4729-85C2-46CFE4F6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2AA9-09B4-449D-A3F5-7796DCAB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CBCC-1645-4B69-8282-5462038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997E-2F23-4047-A1EA-DF7745E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4C51-A17A-4BD1-83F1-E4AD2C79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90D6-404E-466B-9B69-E9641151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1EBE-45FF-4C8F-9B41-D80FED5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7663E-014F-45E7-AD03-D2E052A5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12E-8989-4EBE-9E6D-A56995D8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C9B7A-CDD7-4A20-BCBC-EA5CC977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46724-01CA-4A8D-992F-BD2CA43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3796E-7E98-4FE6-839F-74C81823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FCECF-D125-4E23-853A-88A37EB4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38A91-A910-4B57-A11D-2020278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68855-5212-409A-9915-AA1498B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63800-78CC-4C44-90BF-64AE1DF9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78750-E8CB-402B-A2DC-40912BE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DC2A6-319F-47B9-A38D-6CD94DB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F19B1-A330-4978-BD5B-31E07563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D5A-31C9-4D59-8028-43BDD5D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22C2F-53A5-4463-87E1-79527646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E683F-1EFB-42B6-B3B5-29E0EF66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F1C3F-9FBD-4356-9E24-F298468F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B07DB-79E3-408D-A03F-013578A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D20E9-9E11-40FB-BA89-7292A0F7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86012-239D-497F-89D9-15AD9276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9C6FF-2068-4479-B304-CFB63DF1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3CEF9-B324-4550-96BA-5666F9F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6A4C7-B99F-40EA-8550-D355AE1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90271-BD3A-49C7-8948-03251790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05B-588A-4CE4-8364-CEA31EF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8A24E-F836-4D0F-9DC9-0B739F67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1A338-7B1B-4161-8C19-7C4036FD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DDD90-1819-4FE6-B8B4-ED4A9645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D57A2-40A7-4C42-BC68-0C4CA8A0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A748D-5EEC-472D-860A-B0C8958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34812-F48D-439B-83C1-5E448BA1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EE7E1-9959-4C92-8CF5-9C445457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277C2-D461-495B-B31C-08584A34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D39E2-6893-477D-9C25-1779121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30998-BDBD-46CD-95CD-1544C29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08E-0A3E-4BDF-8336-8E20566C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BF875-4BDE-4D87-B60B-E794FCA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5A6E7-8858-45FE-95EA-FF05D0D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5EBF4-FED6-48A1-8E91-2015BEC3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02A40-3387-457B-9679-6A14D767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B7C85-DACA-4E5D-8927-66BC8E49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2E1-5F91-404C-A00E-8B6A8D2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F35D-3443-4FB9-BA86-D2FFD007B3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2FD-FC7C-412E-B13D-EFB9512AFD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7E09-3CAE-4513-A37A-CC7A84F584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0D1-E68E-4F99-ADB6-BF7810305C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B5FC-E026-4BC9-A565-80D3847707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D4F-F3B1-4408-9474-7AA1ECE4DC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D9A-5D1B-4B00-B177-3F0F470342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2730600"/>
            <a:ext cx="6441840" cy="197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АСТОЧ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C:\Documents and Settings\Admin\Рабочий стол\ПРЕЗЕНТАЦИИ НА УРОКИ\ПТИЦЫ\ласточка.jpg"/>
          <p:cNvPicPr/>
          <p:nvPr/>
        </p:nvPicPr>
        <p:blipFill>
          <a:blip r:embed="rId1"/>
          <a:stretch/>
        </p:blipFill>
        <p:spPr>
          <a:xfrm>
            <a:off x="357120" y="1417680"/>
            <a:ext cx="76438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АП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C:\Documents and Settings\Admin\Рабочий стол\ПРЕЗЕНТАЦИИ НА УРОКИ\ПТИЦЫ\цапля.jpg"/>
          <p:cNvPicPr/>
          <p:nvPr/>
        </p:nvPicPr>
        <p:blipFill>
          <a:blip r:embed="rId1"/>
          <a:stretch/>
        </p:blipFill>
        <p:spPr>
          <a:xfrm>
            <a:off x="941400" y="133200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РАЧ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ПРЕЗЕНТАЦИИ НА УРОКИ\ПТИЦЫ\грач.jpg"/>
          <p:cNvPicPr/>
          <p:nvPr/>
        </p:nvPicPr>
        <p:blipFill>
          <a:blip r:embed="rId1"/>
          <a:stretch/>
        </p:blipFill>
        <p:spPr>
          <a:xfrm>
            <a:off x="684360" y="1600200"/>
            <a:ext cx="7013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Admin\Рабочий стол\ПРЕЗЕНТАЦИИ НА УРОКИ\ПТИЦЫ\утка.jpg"/>
          <p:cNvPicPr/>
          <p:nvPr/>
        </p:nvPicPr>
        <p:blipFill>
          <a:blip r:embed="rId1"/>
          <a:stretch/>
        </p:blipFill>
        <p:spPr>
          <a:xfrm>
            <a:off x="642960" y="137628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ВОРЕ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C:\Documents and Settings\Admin\Рабочий стол\ПРЕЗЕНТАЦИИ НА УРОКИ\ПТИЦЫ\СКВОРЕЦ.jpg"/>
          <p:cNvPicPr/>
          <p:nvPr/>
        </p:nvPicPr>
        <p:blipFill>
          <a:blip r:embed="rId1"/>
          <a:stretch/>
        </p:blipFill>
        <p:spPr>
          <a:xfrm>
            <a:off x="157320" y="1500120"/>
            <a:ext cx="795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ИМУЮЩИЕ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ПОЛЗ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Documents and Settings\Admin\Рабочий стол\ПРЕЗЕНТАЦИИ НА УРОКИ\ПТИЦЫ\ПОПОЛЗЕНЬ.jpg"/>
          <p:cNvPicPr/>
          <p:nvPr/>
        </p:nvPicPr>
        <p:blipFill>
          <a:blip r:embed="rId1"/>
          <a:stretch/>
        </p:blipFill>
        <p:spPr>
          <a:xfrm>
            <a:off x="714240" y="1428840"/>
            <a:ext cx="7143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C:\Documents and Settings\Admin\Рабочий стол\ПРЕЗЕНТАЦИИ НА УРОКИ\ПТИЦЫ\СОЙКА.jpg"/>
          <p:cNvPicPr/>
          <p:nvPr/>
        </p:nvPicPr>
        <p:blipFill>
          <a:blip r:embed="rId1"/>
          <a:stretch/>
        </p:blipFill>
        <p:spPr>
          <a:xfrm>
            <a:off x="500040" y="1444680"/>
            <a:ext cx="7572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Documents and Settings\Admin\Рабочий стол\ПРЕЗЕНТАЦИИ НА УРОКИ\ПТИЦЫ\ВОРОНА.jpg"/>
          <p:cNvPicPr/>
          <p:nvPr/>
        </p:nvPicPr>
        <p:blipFill>
          <a:blip r:embed="rId1"/>
          <a:stretch/>
        </p:blipFill>
        <p:spPr>
          <a:xfrm>
            <a:off x="428760" y="1568520"/>
            <a:ext cx="76435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ИНИЦ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ПРЕЗЕНТАЦИИ НА УРОКИ\ПТИЦЫ\CИНИЦА.jpg"/>
          <p:cNvPicPr/>
          <p:nvPr/>
        </p:nvPicPr>
        <p:blipFill>
          <a:blip r:embed="rId1"/>
          <a:stretch/>
        </p:blipFill>
        <p:spPr>
          <a:xfrm>
            <a:off x="414360" y="1500120"/>
            <a:ext cx="7729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ЯТ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ПРЕЗЕНТАЦИИ НА УРОКИ\ПТИЦЫ\ДЯТЕЛ.jpg"/>
          <p:cNvPicPr/>
          <p:nvPr/>
        </p:nvPicPr>
        <p:blipFill>
          <a:blip r:embed="rId1"/>
          <a:stretch/>
        </p:blipFill>
        <p:spPr>
          <a:xfrm>
            <a:off x="714240" y="1428840"/>
            <a:ext cx="7072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400" y="164304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Куда улетают птицы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9440" y="6480"/>
            <a:ext cx="7834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Documents and Settings\Admin\Рабочий стол\ПРЕЗЕНТАЦИИ НА УРОКИ\ПТИЦЫ\ВОРОБЕЙ.jpg"/>
          <p:cNvPicPr/>
          <p:nvPr/>
        </p:nvPicPr>
        <p:blipFill>
          <a:blip r:embed="rId1"/>
          <a:stretch/>
        </p:blipFill>
        <p:spPr>
          <a:xfrm>
            <a:off x="642960" y="137628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4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480440" cy="123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уда от нас улетают птицы осенью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чему они от нас улетают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таких птиц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называют птиц, которые проводят зиму у нас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 мы должны помогать птицам перезимоват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Почему же птицы улетают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15920" y="19080"/>
            <a:ext cx="781524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Как птицы узнают о приближении трудного голодного времени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летят птицы\tema_ptizi7.jpg"/>
          <p:cNvPicPr/>
          <p:nvPr/>
        </p:nvPicPr>
        <p:blipFill>
          <a:blip r:embed="rId1"/>
          <a:stretch/>
        </p:blipFill>
        <p:spPr>
          <a:xfrm>
            <a:off x="1143000" y="114300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Какие особые хлопоты у птиц, которые помогают им выжить зимой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9200" y="19080"/>
            <a:ext cx="78328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«Сыта птаха – и тепло ей под пу-  хом  и перьями».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лётные:                         Зимующ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иж                                  -  дяте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сточка                            -  пополз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апля                                 -  ворона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ч                                     -  си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ка                                     -  вороб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ворец                              -  сой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ЕЛЕТНЫЕ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ИЖ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Admin\Рабочий стол\ПРЕЗЕНТАЦИИ НА УРОКИ\ПТИЦЫ\стриж.jpg"/>
          <p:cNvPicPr/>
          <p:nvPr/>
        </p:nvPicPr>
        <p:blipFill>
          <a:blip r:embed="rId1"/>
          <a:stretch/>
        </p:blipFill>
        <p:spPr>
          <a:xfrm>
            <a:off x="941400" y="1357200"/>
            <a:ext cx="73119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52:13Z</dcterms:created>
  <dc:creator>Admin</dc:creator>
  <dc:description/>
  <dc:language>en-US</dc:language>
  <cp:lastModifiedBy>Admin</cp:lastModifiedBy>
  <dcterms:modified xsi:type="dcterms:W3CDTF">2012-12-10T16:09:23Z</dcterms:modified>
  <cp:revision>24</cp:revision>
  <dc:subject/>
  <dc:title>Тема урока</dc:title>
</cp:coreProperties>
</file>