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C2C3-4F7F-4A7D-875A-1D39FA252F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BCFA-480D-4B1F-8644-C6D8376F94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D11E-439A-4992-B460-34F637344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FE57-0034-486C-81B0-CD0A5179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F30A-C8EE-43B3-ACF8-081FB978A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F05E-8E9D-4F34-A486-6534E3BD6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A714-62EB-4A19-85C9-1602AECBD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9D98-A0EB-4E2E-BF2B-8FA43D45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497B-7A88-4D27-B5E5-71F1652E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C9A5-B205-462E-8FDE-E461E899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9235-64CD-4A7E-ADCA-67268ED9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10B3-EED1-4248-A8A3-C5C111C9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DF7B-C118-40E7-A392-EAA3F753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B906-F821-4895-BF95-970CE0EA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A73E-039A-4875-8591-26ACAC5C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C679-E336-4F5A-8FA4-0634C218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9F4D-0128-4D3C-8E15-CF128935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EEFD-6928-4C7B-9A13-B7DBF9C41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20B6-7882-461D-A02E-D92D7F53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C9F648-E0BC-4333-9E55-7CFDC442F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9E79D0-272D-45DE-A648-5CBFD741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7C27DB-62B9-4B05-AC18-B29FCDD5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A461BE-0AF8-4F1C-B0D0-D27CF3D3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A62AFA-5B95-4714-B7E4-D345210B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362E-2EED-4E23-BB32-DBCA37AE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59E0FF-4DDA-425C-8F7B-1B126497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D33725-B9B3-4236-87E0-E810C8B8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097B20-B208-4A32-9ED4-3AC25F35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722DBF-1CC1-460D-BD75-62B30720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D33B60-407D-40BA-AD2B-322FF6F1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341FE4-56C5-4DCE-9C11-07DCB5F8C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889E1E-1F3C-4306-B41B-3CD0FCBAA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E4E03-8525-4B4E-83F7-78F50E55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CAC78-2D8B-4FAB-9648-82A2F4BB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5BCFD-4445-4D95-A4FA-6396F44C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13D1-B30C-40E6-8AC1-C67B6A14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AD7DA-C5FE-4EBD-8C54-F0FB4221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C08E6-4826-4301-A0E8-F85BAE84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BFD70-76E0-43E3-BFF6-426D1FDA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153EA-9E93-499D-83CC-D72A631E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66D26-14E9-47D8-8A1F-A138363E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2DEC9-4E24-46BF-AE95-3C632C69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187BF-350A-45ED-BA04-F8C2934B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5AF31-2BC8-49CB-A44A-6E924C55E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E3E9F-63F8-4C0B-BDBE-32C5F39F6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3F1F7D-C2F9-4258-AED8-E31CD650E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AFDF-4776-4BCC-80C2-F28EAA2B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EE788F-8027-45EE-9925-904BD788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BD17DA-CE5B-407A-8CC2-7994A584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E04426-8B2F-4DB4-808D-6674790C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D7318E-1638-48BA-A6F6-2D2193D3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AB1FAA-DB94-4D9A-B589-BB660A62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E06593-1310-4A9A-944D-2D1B32C8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3CCE69-5123-4C65-9DD2-41A4F71B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00E8A5-6FC8-4461-B251-B402738E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A1F317-89A2-4216-8ED4-17576586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AB370F-C2BC-4016-ADD3-B3C1E5405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B2A1-59B8-4E47-A362-5F05242A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53FBB6-F567-467C-AC18-ABAE3FB11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075EFD-4AB5-4E4B-83A0-F9B1C3082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95BE56-2278-4100-8AC8-B21B0DD1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768396-63C8-4306-830F-1DB4E51F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9D0D66-33A9-48DA-B069-8677A121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E183FA-3467-4365-831E-194993F8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AA85D1-ACF3-40A9-9AB9-EEE4A43F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B16E19-1845-4620-BB2E-EB006617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28D2AD-55BF-439B-8854-01FE09CC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438E78-7725-4388-864B-0E1FCAA5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5AB2-27F0-474A-8152-8DB85A89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6BC099-8AA7-405D-A8A0-FA2019CD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105ADC-973E-459A-9883-F43C8ADBB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461860-E90B-455D-9074-7E47395BB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8F84E4-F6BF-4324-9796-8FE2F4F0C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81CD8B-5ABC-4CA1-B7DB-8C9431FE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33E9F8-C826-4BFC-9BAA-9F7752DB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2DC60D-307F-450A-B098-749655A0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9586C3-9A24-49F0-B91E-9EEAA660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7FA943-D556-45A0-BBAF-22B08DDC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F19107-F616-4C42-B151-8430A205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9E07-1E74-47DD-B2B0-1A147850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97765F-7632-49D5-BF53-B244FACD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5C3DDB-FBD6-4244-8F1D-3183378C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6D8F60-B992-498C-ABD7-91F40E6B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201664-EE00-4A11-9FD8-C5352CD37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DED197-6FCE-4E07-856C-4E72D5D85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CA7E-A21C-4454-84FB-21F8A6FB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2C59-C2FE-4474-A807-14002C2473F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4694-6A81-4CED-B872-A0A230569D1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2025-E419-4994-A88A-9BD610FDC8A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C0B1-42FC-4940-973D-92E0719862A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DDFC-F8B3-49A7-B5F0-6FFF30D8AFF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A64C-B901-45D3-AC45-21DBAA46255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7842-2123-4E7D-88E3-BFF4CBBDDB3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77724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ТЕМА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Прямоугольник 7" descr=""/>
          <p:cNvPicPr/>
          <p:nvPr/>
        </p:nvPicPr>
        <p:blipFill>
          <a:blip r:embed="rId1"/>
          <a:stretch/>
        </p:blipFill>
        <p:spPr>
          <a:xfrm>
            <a:off x="1920960" y="2730600"/>
            <a:ext cx="6441840" cy="1974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ЛАСТОЧ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4" name="Picture 2" descr="C:\Documents and Settings\Admin\Рабочий стол\ПРЕЗЕНТАЦИИ НА УРОКИ\ПТИЦЫ\ласточка.jpg"/>
          <p:cNvPicPr/>
          <p:nvPr/>
        </p:nvPicPr>
        <p:blipFill>
          <a:blip r:embed="rId1"/>
          <a:stretch/>
        </p:blipFill>
        <p:spPr>
          <a:xfrm>
            <a:off x="357120" y="1417680"/>
            <a:ext cx="764388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ЦАПЛ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6" name="Picture 2" descr="C:\Documents and Settings\Admin\Рабочий стол\ПРЕЗЕНТАЦИИ НА УРОКИ\ПТИЦЫ\цапля.jpg"/>
          <p:cNvPicPr/>
          <p:nvPr/>
        </p:nvPicPr>
        <p:blipFill>
          <a:blip r:embed="rId1"/>
          <a:stretch/>
        </p:blipFill>
        <p:spPr>
          <a:xfrm>
            <a:off x="941400" y="1332000"/>
            <a:ext cx="720252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ГРАЧ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8" name="Picture 2" descr="C:\Documents and Settings\Admin\Рабочий стол\ПРЕЗЕНТАЦИИ НА УРОКИ\ПТИЦЫ\грач.jpg"/>
          <p:cNvPicPr/>
          <p:nvPr/>
        </p:nvPicPr>
        <p:blipFill>
          <a:blip r:embed="rId1"/>
          <a:stretch/>
        </p:blipFill>
        <p:spPr>
          <a:xfrm>
            <a:off x="684360" y="1600200"/>
            <a:ext cx="701352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УТ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0" name="Picture 2" descr="C:\Documents and Settings\Admin\Рабочий стол\ПРЕЗЕНТАЦИИ НА УРОКИ\ПТИЦЫ\утка.jpg"/>
          <p:cNvPicPr/>
          <p:nvPr/>
        </p:nvPicPr>
        <p:blipFill>
          <a:blip r:embed="rId1"/>
          <a:stretch/>
        </p:blipFill>
        <p:spPr>
          <a:xfrm>
            <a:off x="642960" y="1376280"/>
            <a:ext cx="70722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КВОРЕЦ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2" name="Picture 2" descr="C:\Documents and Settings\Admin\Рабочий стол\ПРЕЗЕНТАЦИИ НА УРОКИ\ПТИЦЫ\СКВОРЕЦ.jpg"/>
          <p:cNvPicPr/>
          <p:nvPr/>
        </p:nvPicPr>
        <p:blipFill>
          <a:blip r:embed="rId1"/>
          <a:stretch/>
        </p:blipFill>
        <p:spPr>
          <a:xfrm>
            <a:off x="157320" y="1500120"/>
            <a:ext cx="79516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ЗИМУЮЩИЕ</a:t>
            </a:r>
            <a:br>
              <a:rPr sz="3000"/>
            </a:b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ОПОЛЗЕН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4" name="Picture 2" descr="C:\Documents and Settings\Admin\Рабочий стол\ПРЕЗЕНТАЦИИ НА УРОКИ\ПТИЦЫ\ПОПОЛЗЕНЬ.jpg"/>
          <p:cNvPicPr/>
          <p:nvPr/>
        </p:nvPicPr>
        <p:blipFill>
          <a:blip r:embed="rId1"/>
          <a:stretch/>
        </p:blipFill>
        <p:spPr>
          <a:xfrm>
            <a:off x="714240" y="1428840"/>
            <a:ext cx="714384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ОЙ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6" name="Picture 2" descr="C:\Documents and Settings\Admin\Рабочий стол\ПРЕЗЕНТАЦИИ НА УРОКИ\ПТИЦЫ\СОЙКА.jpg"/>
          <p:cNvPicPr/>
          <p:nvPr/>
        </p:nvPicPr>
        <p:blipFill>
          <a:blip r:embed="rId1"/>
          <a:stretch/>
        </p:blipFill>
        <p:spPr>
          <a:xfrm>
            <a:off x="500040" y="1444680"/>
            <a:ext cx="7572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ОРОН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8" name="Picture 2" descr="C:\Documents and Settings\Admin\Рабочий стол\ПРЕЗЕНТАЦИИ НА УРОКИ\ПТИЦЫ\ВОРОНА.jpg"/>
          <p:cNvPicPr/>
          <p:nvPr/>
        </p:nvPicPr>
        <p:blipFill>
          <a:blip r:embed="rId1"/>
          <a:stretch/>
        </p:blipFill>
        <p:spPr>
          <a:xfrm>
            <a:off x="428760" y="1568520"/>
            <a:ext cx="764352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ИНИЦ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0" name="Picture 2" descr="C:\Documents and Settings\Admin\Рабочий стол\ПРЕЗЕНТАЦИИ НА УРОКИ\ПТИЦЫ\CИНИЦА.jpg"/>
          <p:cNvPicPr/>
          <p:nvPr/>
        </p:nvPicPr>
        <p:blipFill>
          <a:blip r:embed="rId1"/>
          <a:stretch/>
        </p:blipFill>
        <p:spPr>
          <a:xfrm>
            <a:off x="414360" y="1500120"/>
            <a:ext cx="772956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ДЯТЕ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2" name="Picture 2" descr="C:\Documents and Settings\Admin\Рабочий стол\ПРЕЗЕНТАЦИИ НА УРОКИ\ПТИЦЫ\ДЯТЕЛ.jpg"/>
          <p:cNvPicPr/>
          <p:nvPr/>
        </p:nvPicPr>
        <p:blipFill>
          <a:blip r:embed="rId1"/>
          <a:stretch/>
        </p:blipFill>
        <p:spPr>
          <a:xfrm>
            <a:off x="714240" y="1428840"/>
            <a:ext cx="707256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28400" y="1643040"/>
            <a:ext cx="746748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Куда улетают птицы?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Заголовок 1" descr=""/>
          <p:cNvPicPr/>
          <p:nvPr/>
        </p:nvPicPr>
        <p:blipFill>
          <a:blip r:embed="rId1"/>
          <a:stretch/>
        </p:blipFill>
        <p:spPr>
          <a:xfrm>
            <a:off x="109440" y="6480"/>
            <a:ext cx="783432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ОРОБЕЙ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4" name="Picture 2" descr="C:\Documents and Settings\Admin\Рабочий стол\ПРЕЗЕНТАЦИИ НА УРОКИ\ПТИЦЫ\ВОРОБЕЙ.jpg"/>
          <p:cNvPicPr/>
          <p:nvPr/>
        </p:nvPicPr>
        <p:blipFill>
          <a:blip r:embed="rId1"/>
          <a:stretch/>
        </p:blipFill>
        <p:spPr>
          <a:xfrm>
            <a:off x="642960" y="137628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Заголовок 4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7480440" cy="12380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Куда от нас улетают птицы осенью?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Почему они от нас улетают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Как называют таких птиц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Как называют птиц, которые проводят зиму у нас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Как мы должны помогать птицам перезимовать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entury Schoolbook"/>
              </a:rPr>
              <a:t>Почему же птицы улетают?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Заголовок 1" descr=""/>
          <p:cNvPicPr/>
          <p:nvPr/>
        </p:nvPicPr>
        <p:blipFill>
          <a:blip r:embed="rId1"/>
          <a:stretch/>
        </p:blipFill>
        <p:spPr>
          <a:xfrm>
            <a:off x="115920" y="19080"/>
            <a:ext cx="7815240" cy="140796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Как птицы узнают о приближении трудного голодного времени?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G:\летят птицы\tema_ptizi7.jpg"/>
          <p:cNvPicPr/>
          <p:nvPr/>
        </p:nvPicPr>
        <p:blipFill>
          <a:blip r:embed="rId1"/>
          <a:stretch/>
        </p:blipFill>
        <p:spPr>
          <a:xfrm>
            <a:off x="1143000" y="1143000"/>
            <a:ext cx="75009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Какие особые хлопоты у птиц, которые помогают им выжить зимой?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79200" y="19080"/>
            <a:ext cx="783288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Century Schoolbook"/>
              </a:rPr>
              <a:t>«Сыта птаха – и тепло ей под пу-  хом  и перьями».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релётные:                         Зимующие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триж                                  -  дяте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асточка                            -  поползен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цапля                                 -  ворона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рач                                     -  синиц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тка                                     -  воробе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кворец                              -  сой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ЕРЕЛЕТНЫЕ </a:t>
            </a:r>
            <a:br>
              <a:rPr sz="3000"/>
            </a:b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ТРИЖ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2" name="Picture 2" descr="C:\Documents and Settings\Admin\Рабочий стол\ПРЕЗЕНТАЦИИ НА УРОКИ\ПТИЦЫ\стриж.jpg"/>
          <p:cNvPicPr/>
          <p:nvPr/>
        </p:nvPicPr>
        <p:blipFill>
          <a:blip r:embed="rId1"/>
          <a:stretch/>
        </p:blipFill>
        <p:spPr>
          <a:xfrm>
            <a:off x="941400" y="1357200"/>
            <a:ext cx="731196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5:52:13Z</dcterms:created>
  <dc:creator>Admin</dc:creator>
  <dc:description/>
  <dc:language>en-US</dc:language>
  <cp:lastModifiedBy>Admin</cp:lastModifiedBy>
  <dcterms:modified xsi:type="dcterms:W3CDTF">2012-12-10T16:09:23Z</dcterms:modified>
  <cp:revision>24</cp:revision>
  <dc:subject/>
  <dc:title>Тема урока</dc:title>
</cp:coreProperties>
</file>