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311-DB90-4AE7-A66E-7F301FDB03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29B5-181C-4B95-9A21-BCFFF3DA90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51F-34C1-4492-8D96-601F563D4B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E97-1A97-4FFD-9546-1A6D6B1392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FAD1-F8C6-4C1D-AFC5-BB82913589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723-54ED-47DF-8724-E4E7454AAA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171E-6876-4E1E-B5C3-02218D1393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35C5-F045-4EA6-BB4D-5B763BE110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668-CD35-473F-BCB5-5FC5147A1A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BDDD-5DD2-488C-B7E4-830DB4B157A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F2E-1CAA-4C97-9AD2-39974F1393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764-D3BA-4F26-9476-8AB3E25393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5E6C-E62F-4C2A-A2D2-58A6731885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F62F-3B04-4335-8B40-5DF183A83C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327D-DA46-470D-87B8-523A213D0A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E87-27B3-40D0-9357-3847FEA27A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6D3B-850D-442F-AE5E-686409F1980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FF7-F5C3-44E7-B1D6-60D5C0A28D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A87F-250F-40DA-83A5-7074562699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FA05-003D-4949-863F-C5A0A73C70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39C6-EC56-4EE2-9788-63AD20F208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BF3-5106-400E-9541-14617891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0D5-3B91-4071-B323-23A0776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EED-3D66-4970-8A09-AD829DDE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2FE-D060-4732-A7F3-E3EE12F8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03B5-BECA-40D4-B436-AC0DE9C3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4D95-D321-4BD2-B884-0C9314F8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46D-639D-434C-BA32-17130113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29F6-8AAE-489D-9273-86C7512E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07DE-EB32-4468-9FD9-EF9B569C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0347-6985-4AE7-9341-E501C5E9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57E3-0A35-4CBA-9B9B-C16D7BB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081-FEBD-4BF4-B55A-810E260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9323-F11C-453D-A7D3-26C1E3A1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531A-3969-47EE-ACA4-3CB3876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D33-2833-4310-86DE-B2990E8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DFB-6C19-4456-A5C9-1785D087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585-EE4C-459C-BDA4-AE10D609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592-0EAA-4FFA-901B-304E3C7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E1F-91BD-42BA-9DCF-7244739B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3BF-CEB8-4529-AC83-EC16668A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4B5-ED70-4782-ACF6-A4A9BDB3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06E-27DB-4CA0-90AC-38ADF723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FF1-2183-4165-AACE-F188DDA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EBA-7723-4E9F-BD99-1391B6D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237-1FF1-4145-86B7-8DA1BA76B9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329-C86E-49EB-8120-7FD778C256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</a:t>
            </a:r>
            <a:endParaRPr b="0" lang="en-US" sz="88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32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5"/>
          <p:cNvSpPr/>
          <p:nvPr/>
        </p:nvSpPr>
        <p:spPr>
          <a:xfrm>
            <a:off x="2556000" y="530064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4000" y="458136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ж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2556000" y="270828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6227640" y="1700280"/>
            <a:ext cx="244980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х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</a:t>
            </a:r>
            <a:r>
              <a:rPr b="0" i="1" lang="en-US" sz="36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565164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255600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6804000" y="2852640"/>
            <a:ext cx="2016000" cy="505080"/>
          </a:xfrm>
          <a:prstGeom prst="wedgeRoundRectCallout">
            <a:avLst>
              <a:gd name="adj1" fmla="val -83305"/>
              <a:gd name="adj2" fmla="val 156287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492360" y="1557360"/>
            <a:ext cx="2340000" cy="504720"/>
          </a:xfrm>
          <a:prstGeom prst="wedgeRoundRectCallout">
            <a:avLst>
              <a:gd name="adj1" fmla="val -64245"/>
              <a:gd name="adj2" fmla="val 302828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Сторо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ребр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5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54"/>
          <p:cNvGrpSpPr/>
          <p:nvPr/>
        </p:nvGrpSpPr>
        <p:grpSpPr>
          <a:xfrm>
            <a:off x="2556000" y="2707920"/>
            <a:ext cx="3959280" cy="3457800"/>
            <a:chOff x="2556000" y="2707920"/>
            <a:chExt cx="3959280" cy="3457800"/>
          </a:xfrm>
        </p:grpSpPr>
        <p:sp>
          <p:nvSpPr>
            <p:cNvPr id="209" name="Rectangle 48"/>
            <p:cNvSpPr/>
            <p:nvPr/>
          </p:nvSpPr>
          <p:spPr>
            <a:xfrm>
              <a:off x="2556000" y="3573360"/>
              <a:ext cx="3097080" cy="259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9"/>
            <p:cNvSpPr/>
            <p:nvPr/>
          </p:nvSpPr>
          <p:spPr>
            <a:xfrm>
              <a:off x="2556000" y="357336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0"/>
            <p:cNvSpPr/>
            <p:nvPr/>
          </p:nvSpPr>
          <p:spPr>
            <a:xfrm>
              <a:off x="3419640" y="270828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Line 52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Line 53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имеет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4 равных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ребр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556000" y="3573360"/>
            <a:ext cx="30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Group 67"/>
          <p:cNvGrpSpPr/>
          <p:nvPr/>
        </p:nvGrpSpPr>
        <p:grpSpPr>
          <a:xfrm>
            <a:off x="2556000" y="2708280"/>
            <a:ext cx="3960720" cy="3457440"/>
            <a:chOff x="2556000" y="2708280"/>
            <a:chExt cx="3960720" cy="3457440"/>
          </a:xfrm>
        </p:grpSpPr>
        <p:sp>
          <p:nvSpPr>
            <p:cNvPr id="227" name="Line 68"/>
            <p:cNvSpPr/>
            <p:nvPr/>
          </p:nvSpPr>
          <p:spPr>
            <a:xfrm>
              <a:off x="255600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69"/>
            <p:cNvSpPr/>
            <p:nvPr/>
          </p:nvSpPr>
          <p:spPr>
            <a:xfrm>
              <a:off x="565164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70"/>
            <p:cNvSpPr/>
            <p:nvPr/>
          </p:nvSpPr>
          <p:spPr>
            <a:xfrm>
              <a:off x="651672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71"/>
            <p:cNvSpPr/>
            <p:nvPr/>
          </p:nvSpPr>
          <p:spPr>
            <a:xfrm>
              <a:off x="341964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72"/>
          <p:cNvGrpSpPr/>
          <p:nvPr/>
        </p:nvGrpSpPr>
        <p:grpSpPr>
          <a:xfrm>
            <a:off x="2556000" y="2707920"/>
            <a:ext cx="3959280" cy="3457440"/>
            <a:chOff x="2556000" y="2707920"/>
            <a:chExt cx="3959280" cy="3457440"/>
          </a:xfrm>
        </p:grpSpPr>
        <p:sp>
          <p:nvSpPr>
            <p:cNvPr id="232" name="Line 73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74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 flipV="1">
              <a:off x="565164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Line 87"/>
          <p:cNvSpPr/>
          <p:nvPr/>
        </p:nvSpPr>
        <p:spPr>
          <a:xfrm>
            <a:off x="2571840" y="3571920"/>
            <a:ext cx="3095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Верши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вершин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13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9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3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2411280" y="342900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3276720" y="515772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2411280" y="6021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6300720" y="515772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5508720" y="595008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6300720" y="2565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276720" y="256536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48"/>
          <p:cNvSpPr/>
          <p:nvPr/>
        </p:nvSpPr>
        <p:spPr>
          <a:xfrm>
            <a:off x="5508720" y="342900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я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 – д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 – ши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с – высота        с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</a:t>
            </a: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29040" y="357192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3929040" y="3571920"/>
            <a:ext cx="0" cy="257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3929040" y="6143760"/>
            <a:ext cx="30718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ая соединительная линия 12"/>
          <p:cNvSpPr/>
          <p:nvPr/>
        </p:nvSpPr>
        <p:spPr>
          <a:xfrm flipV="1">
            <a:off x="4000680" y="5285880"/>
            <a:ext cx="785520" cy="785880"/>
          </a:xfrm>
          <a:prstGeom prst="line">
            <a:avLst/>
          </a:prstGeom>
          <a:ln w="7632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, у которого всё ребра равны называется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У Б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грани куба – равные квадраты</a:t>
            </a:r>
            <a:r>
              <a:rPr b="0" i="1" lang="en-US" sz="36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74" name="Rectangle 48"/>
          <p:cNvSpPr/>
          <p:nvPr/>
        </p:nvSpPr>
        <p:spPr>
          <a:xfrm>
            <a:off x="2700360" y="3789360"/>
            <a:ext cx="2268360" cy="216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3789360"/>
            <a:ext cx="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5950080"/>
            <a:ext cx="21589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3789360"/>
            <a:ext cx="2232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789360"/>
            <a:ext cx="7128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5950080"/>
            <a:ext cx="1443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595008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ощади поверхности</a:t>
            </a:r>
            <a:br>
              <a:rPr sz="4400"/>
            </a:b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85840" y="20718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мерь длину, ширину и высоту модели и запиши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ычисли площадь каждой грани (помни, что противоположные грани равн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ычисли  площадь всей поверхности вашего прямоугольного параллелепипеда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(ав +ас +вс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9182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ммы длин всех рёбер 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кажите на модели равные рёб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 сколько равных рёбер имеет параллелепипед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ак определить сумму длин всех рёбер? Сделайте 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числи длину всех рёбер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ы в о д ы :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  имеет:</a:t>
            </a: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57120" y="2142720"/>
            <a:ext cx="8786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е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12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ёбер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8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ш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ни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и, квадр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571680" y="4000680"/>
            <a:ext cx="7858080" cy="703440"/>
          </a:xfrm>
          <a:prstGeom prst="rect">
            <a:avLst/>
          </a:prstGeom>
          <a:noFill/>
          <a:ln w="9360">
            <a:solidFill>
              <a:srgbClr val="a2a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 = 2(ав +ас +вс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143080" y="507204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познакомиться с прямоугольным параллелепипедом, кубом, их элемента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научиться чертить эти фигуры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 находить длину ребёр и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оверх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00000" y="5157720"/>
            <a:ext cx="2881440" cy="91440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372360" y="5084640"/>
            <a:ext cx="1214280" cy="1214640"/>
          </a:xfrm>
          <a:prstGeom prst="cube">
            <a:avLst>
              <a:gd name="adj" fmla="val 25000"/>
            </a:avLst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7240" y="317160"/>
            <a:ext cx="7769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 задание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16040" y="1626840"/>
            <a:ext cx="79279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ачертить в тетради прямоугольный параллелепипед, уметь показывать на модели грани, рёбра, верш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№ 7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79280" y="3429000"/>
            <a:ext cx="7105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 на уроке, ребята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52720" y="380880"/>
            <a:ext cx="9396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539640" y="4723920"/>
            <a:ext cx="0" cy="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484360" y="227664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51912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2205000"/>
          <a:ext cx="8712000" cy="2325600"/>
        </p:xfrm>
        <a:graphic>
          <a:graphicData uri="http://schemas.openxmlformats.org/drawingml/2006/table">
            <a:tbl>
              <a:tblPr/>
              <a:tblGrid>
                <a:gridCol w="869760"/>
                <a:gridCol w="873360"/>
                <a:gridCol w="869760"/>
                <a:gridCol w="700200"/>
                <a:gridCol w="1044360"/>
                <a:gridCol w="870120"/>
                <a:gridCol w="873000"/>
                <a:gridCol w="868320"/>
                <a:gridCol w="873360"/>
                <a:gridCol w="869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лоща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74320"/>
            <a:ext cx="77788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ш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13840" y="164304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ороб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 в нашей жизни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76" name="Picture 5" descr="J0205462"/>
          <p:cNvPicPr/>
          <p:nvPr/>
        </p:nvPicPr>
        <p:blipFill>
          <a:blip r:embed="rId1"/>
          <a:stretch/>
        </p:blipFill>
        <p:spPr>
          <a:xfrm>
            <a:off x="2143080" y="185724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177" name="tower"/>
          <p:cNvSpPr/>
          <p:nvPr/>
        </p:nvSpPr>
        <p:spPr>
          <a:xfrm>
            <a:off x="6588000" y="2060640"/>
            <a:ext cx="1265400" cy="2233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14200" y="42861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чечный коробок, кирпич, шкаф, чемодан, здания, системный блок компьютера дают представление о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ямоугольном параллелепип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3" descr="j0192475[1]"/>
          <p:cNvPicPr/>
          <p:nvPr/>
        </p:nvPicPr>
        <p:blipFill>
          <a:blip r:embed="rId2"/>
          <a:stretch/>
        </p:blipFill>
        <p:spPr>
          <a:xfrm>
            <a:off x="250920" y="1989000"/>
            <a:ext cx="1585800" cy="1978200"/>
          </a:xfrm>
          <a:prstGeom prst="rect">
            <a:avLst/>
          </a:prstGeom>
          <a:ln w="0">
            <a:noFill/>
          </a:ln>
        </p:spPr>
      </p:pic>
      <p:sp>
        <p:nvSpPr>
          <p:cNvPr id="180" name="Firewall"/>
          <p:cNvSpPr/>
          <p:nvPr/>
        </p:nvSpPr>
        <p:spPr>
          <a:xfrm>
            <a:off x="4286160" y="2428920"/>
            <a:ext cx="1809720" cy="8809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прямоугольников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43080" y="2071800"/>
            <a:ext cx="1800360" cy="1366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364000" y="5013360"/>
            <a:ext cx="1727280" cy="1297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332000" y="4869000"/>
            <a:ext cx="1800000" cy="129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012000" y="2205000"/>
            <a:ext cx="1944720" cy="1511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рямоугольников -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граней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419640" y="2637000"/>
            <a:ext cx="3168360" cy="26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443640" y="1773360"/>
            <a:ext cx="244944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0" y="386064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26:07Z</dcterms:created>
  <dc:creator>Valentina</dc:creator>
  <dc:description/>
  <dc:language>en-US</dc:language>
  <cp:lastModifiedBy>user</cp:lastModifiedBy>
  <dcterms:modified xsi:type="dcterms:W3CDTF">2009-12-09T14:07:16Z</dcterms:modified>
  <cp:revision>27</cp:revision>
  <dc:subject/>
  <dc:title>Прямоугольный параллелепидед</dc:title>
</cp:coreProperties>
</file>