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2C63-7A2A-430B-9804-79E5BF01CDF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4281-D740-4261-AC3B-555C4346D31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F92E-AD71-471D-85FD-792A1B1627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C319-922C-4247-AD1D-AFDC7D2EC4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F2E-02DB-4EAA-8824-E72B05328D4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368A-8FFD-44CC-92F3-27726E2A71C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D63-63F1-42E3-B3EF-4D1BE4CA7D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0238-C270-46B9-A029-AC0428C0367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C735-EBB2-4DFC-8ABB-4CA87100E0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FF2-0B88-4208-B26D-DF0E053EEEC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BF1F-9F4D-4D5E-9EFF-6025D545E5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6DA-1939-4BE1-B5E6-80AA99C139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7B86-C14B-483A-8041-BF954FDC3F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DE94-EEDB-494A-96B3-F7D1CCA7DD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5A6E-9802-434A-A2B5-D919FC193A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ECEF-F6DE-44AE-9B7A-4919C24EE4B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4241-440D-4228-AF61-B0F242C436F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5D47-49A6-4CCC-AB76-E3B70F94AEE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C256-2161-49B5-807A-D59BEFABE8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056B-14A4-4A88-8A31-0F65249AB5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2D9E-E4EF-42D4-8C25-78AD8B2D24D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561-3DF6-4A98-9419-EE236B20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4F1-F3C9-41E1-840D-273BE1E0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E6D-71AC-44AA-835A-A09460BF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685-3F5D-4B6D-9DFE-502C2B8D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6045-A15B-40D4-9E02-206170EE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B7D5-C0AC-4643-B0FE-1AA75F60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948E-BDA1-45E7-83E3-DA80E575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DA9A-71D1-4E6A-90EE-3BD0A883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8921-4403-4BBF-B9CD-34A5D6EC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9A84-047C-4A74-AB59-A1237A31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925F-3580-4B15-9AC0-DC8B702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700-634D-49EE-B67E-AAE71242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C471-ECBA-45F5-BB7D-B3C2D8A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4BE-FB7C-4EAB-B067-D302FAA3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1E0B-35BB-456D-9A00-B6E7750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6A3C-6CF6-4FC0-BCFC-99EE4C30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17C2-BE84-46F4-A0A6-F99D6D3A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0E7-B87D-4CF3-9A68-82FCAD91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553-7288-41F1-B7DD-8667A013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3E4-2C67-4730-B1AD-65999751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C8B-5FCE-48DE-885B-BB647955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87D-AD56-40EA-B4B3-9A34363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E89-5613-4148-B917-194A03E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1A3-4340-40E0-939F-D210FEB9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0680-98D7-479A-881A-FD14E6245A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FE37-2C46-4620-A999-F7B255B880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Times New Roman"/>
              </a:rPr>
              <a:t>Прямоугольный параллелепипед</a:t>
            </a:r>
            <a:endParaRPr b="0" lang="en-US" sz="88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3236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5"/>
          <p:cNvSpPr/>
          <p:nvPr/>
        </p:nvSpPr>
        <p:spPr>
          <a:xfrm>
            <a:off x="2556000" y="5300640"/>
            <a:ext cx="3960720" cy="865080"/>
          </a:xfrm>
          <a:prstGeom prst="pi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граней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324000" y="4581360"/>
            <a:ext cx="2340000" cy="505080"/>
          </a:xfrm>
          <a:prstGeom prst="wedgeRoundRectCallout">
            <a:avLst>
              <a:gd name="adj1" fmla="val 77407"/>
              <a:gd name="adj2" fmla="val 22169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ж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2556000" y="2708280"/>
            <a:ext cx="3960720" cy="865080"/>
          </a:xfrm>
          <a:prstGeom prst="pie">
            <a:avLst/>
          </a:prstGeom>
          <a:solidFill>
            <a:srgbClr val="00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6227640" y="1700280"/>
            <a:ext cx="2449800" cy="504720"/>
          </a:xfrm>
          <a:prstGeom prst="wedgeRoundRectCallout">
            <a:avLst>
              <a:gd name="adj1" fmla="val -92319"/>
              <a:gd name="adj2" fmla="val 192453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х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</a:t>
            </a:r>
            <a:r>
              <a:rPr b="0" i="1" lang="en-US" sz="36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граней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5651640" y="2708280"/>
            <a:ext cx="865080" cy="3457440"/>
          </a:xfrm>
          <a:prstGeom prst="pie">
            <a:avLst/>
          </a:prstGeom>
          <a:solidFill>
            <a:srgbClr val="fba3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2556000" y="2708280"/>
            <a:ext cx="865080" cy="3457440"/>
          </a:xfrm>
          <a:prstGeom prst="pie">
            <a:avLst/>
          </a:prstGeom>
          <a:solidFill>
            <a:srgbClr val="fba3e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6804000" y="2852640"/>
            <a:ext cx="2016000" cy="505080"/>
          </a:xfrm>
          <a:prstGeom prst="wedgeRoundRectCallout">
            <a:avLst>
              <a:gd name="adj1" fmla="val -83305"/>
              <a:gd name="adj2" fmla="val 156287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кова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3492360" y="1557360"/>
            <a:ext cx="2340000" cy="504720"/>
          </a:xfrm>
          <a:prstGeom prst="wedgeRoundRectCallout">
            <a:avLst>
              <a:gd name="adj1" fmla="val -64245"/>
              <a:gd name="adj2" fmla="val 302828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кова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Стороны граней называются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ребрами</a:t>
            </a:r>
            <a:r>
              <a:rPr b="1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5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8" name="Group 54"/>
          <p:cNvGrpSpPr/>
          <p:nvPr/>
        </p:nvGrpSpPr>
        <p:grpSpPr>
          <a:xfrm>
            <a:off x="2556000" y="2707920"/>
            <a:ext cx="3959280" cy="3457800"/>
            <a:chOff x="2556000" y="2707920"/>
            <a:chExt cx="3959280" cy="3457800"/>
          </a:xfrm>
        </p:grpSpPr>
        <p:sp>
          <p:nvSpPr>
            <p:cNvPr id="209" name="Rectangle 48"/>
            <p:cNvSpPr/>
            <p:nvPr/>
          </p:nvSpPr>
          <p:spPr>
            <a:xfrm>
              <a:off x="2556000" y="3573360"/>
              <a:ext cx="3097080" cy="259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49"/>
            <p:cNvSpPr/>
            <p:nvPr/>
          </p:nvSpPr>
          <p:spPr>
            <a:xfrm>
              <a:off x="2556000" y="3573360"/>
              <a:ext cx="309564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50"/>
            <p:cNvSpPr/>
            <p:nvPr/>
          </p:nvSpPr>
          <p:spPr>
            <a:xfrm>
              <a:off x="3419640" y="2708280"/>
              <a:ext cx="3095640" cy="259236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Line 51"/>
            <p:cNvSpPr/>
            <p:nvPr/>
          </p:nvSpPr>
          <p:spPr>
            <a:xfrm flipV="1">
              <a:off x="2556000" y="270792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Line 52"/>
            <p:cNvSpPr/>
            <p:nvPr/>
          </p:nvSpPr>
          <p:spPr>
            <a:xfrm flipV="1">
              <a:off x="5651640" y="270792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Line 53"/>
            <p:cNvSpPr/>
            <p:nvPr/>
          </p:nvSpPr>
          <p:spPr>
            <a:xfrm flipV="1">
              <a:off x="2556000" y="5300280"/>
              <a:ext cx="8636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имеет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4 равных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ребр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2556000" y="530028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556000" y="3573360"/>
            <a:ext cx="309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2556000" y="3573360"/>
            <a:ext cx="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Group 67"/>
          <p:cNvGrpSpPr/>
          <p:nvPr/>
        </p:nvGrpSpPr>
        <p:grpSpPr>
          <a:xfrm>
            <a:off x="2556000" y="2708280"/>
            <a:ext cx="3960720" cy="3457440"/>
            <a:chOff x="2556000" y="2708280"/>
            <a:chExt cx="3960720" cy="3457440"/>
          </a:xfrm>
        </p:grpSpPr>
        <p:sp>
          <p:nvSpPr>
            <p:cNvPr id="227" name="Line 68"/>
            <p:cNvSpPr/>
            <p:nvPr/>
          </p:nvSpPr>
          <p:spPr>
            <a:xfrm>
              <a:off x="2556000" y="357336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69"/>
            <p:cNvSpPr/>
            <p:nvPr/>
          </p:nvSpPr>
          <p:spPr>
            <a:xfrm>
              <a:off x="5651640" y="357336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70"/>
            <p:cNvSpPr/>
            <p:nvPr/>
          </p:nvSpPr>
          <p:spPr>
            <a:xfrm>
              <a:off x="6516720" y="270828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71"/>
            <p:cNvSpPr/>
            <p:nvPr/>
          </p:nvSpPr>
          <p:spPr>
            <a:xfrm>
              <a:off x="3419640" y="2708280"/>
              <a:ext cx="0" cy="2592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Group 72"/>
          <p:cNvGrpSpPr/>
          <p:nvPr/>
        </p:nvGrpSpPr>
        <p:grpSpPr>
          <a:xfrm>
            <a:off x="2556000" y="2707920"/>
            <a:ext cx="3959280" cy="3457440"/>
            <a:chOff x="2556000" y="2707920"/>
            <a:chExt cx="3959280" cy="3457440"/>
          </a:xfrm>
        </p:grpSpPr>
        <p:sp>
          <p:nvSpPr>
            <p:cNvPr id="232" name="Line 73"/>
            <p:cNvSpPr/>
            <p:nvPr/>
          </p:nvSpPr>
          <p:spPr>
            <a:xfrm flipV="1">
              <a:off x="2556000" y="270792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74"/>
            <p:cNvSpPr/>
            <p:nvPr/>
          </p:nvSpPr>
          <p:spPr>
            <a:xfrm flipV="1">
              <a:off x="5651640" y="270792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75"/>
            <p:cNvSpPr/>
            <p:nvPr/>
          </p:nvSpPr>
          <p:spPr>
            <a:xfrm flipV="1">
              <a:off x="5651640" y="530028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76"/>
            <p:cNvSpPr/>
            <p:nvPr/>
          </p:nvSpPr>
          <p:spPr>
            <a:xfrm flipV="1">
              <a:off x="2556000" y="5300280"/>
              <a:ext cx="863640" cy="8650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Line 87"/>
          <p:cNvSpPr/>
          <p:nvPr/>
        </p:nvSpPr>
        <p:spPr>
          <a:xfrm>
            <a:off x="2571840" y="3571920"/>
            <a:ext cx="3095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Вершины граней называются</a:t>
            </a:r>
            <a:r>
              <a:rPr b="0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вершинами</a:t>
            </a:r>
            <a:r>
              <a:rPr b="1" i="1" lang="en-US" sz="4000" spc="-1" strike="noStrike">
                <a:solidFill>
                  <a:srgbClr val="a2a4ac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араллелепипеда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8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V="1">
            <a:off x="5651640" y="530028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Line 13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7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2627280" y="5229000"/>
            <a:ext cx="86364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Line 19"/>
          <p:cNvSpPr/>
          <p:nvPr/>
        </p:nvSpPr>
        <p:spPr>
          <a:xfrm flipV="1">
            <a:off x="5651640" y="270792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2556000" y="3573360"/>
            <a:ext cx="3095640" cy="259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419640" y="2708280"/>
            <a:ext cx="3095640" cy="259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Line 22"/>
          <p:cNvSpPr/>
          <p:nvPr/>
        </p:nvSpPr>
        <p:spPr>
          <a:xfrm flipV="1">
            <a:off x="2556000" y="270792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3"/>
          <p:cNvSpPr/>
          <p:nvPr/>
        </p:nvSpPr>
        <p:spPr>
          <a:xfrm flipV="1">
            <a:off x="2556000" y="5300280"/>
            <a:ext cx="863640" cy="86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Oval 24"/>
          <p:cNvSpPr/>
          <p:nvPr/>
        </p:nvSpPr>
        <p:spPr>
          <a:xfrm>
            <a:off x="2411280" y="342900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3276720" y="515772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Oval 27"/>
          <p:cNvSpPr/>
          <p:nvPr/>
        </p:nvSpPr>
        <p:spPr>
          <a:xfrm>
            <a:off x="2411280" y="602136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6300720" y="515772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5508720" y="595008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6300720" y="2565360"/>
            <a:ext cx="28908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3276720" y="256536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48"/>
          <p:cNvSpPr/>
          <p:nvPr/>
        </p:nvSpPr>
        <p:spPr>
          <a:xfrm>
            <a:off x="5508720" y="3429000"/>
            <a:ext cx="288720" cy="287280"/>
          </a:xfrm>
          <a:prstGeom prst="ellipse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ения 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28760" y="200016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а – д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ffff"/>
                </a:solidFill>
                <a:latin typeface="Tahoma"/>
              </a:rPr>
              <a:t>в – ши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с – высота        с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</a:t>
            </a:r>
            <a:r>
              <a:rPr b="0" lang="en-US" sz="3200" spc="-1" strike="noStrike">
                <a:solidFill>
                  <a:srgbClr val="29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929040" y="3571920"/>
            <a:ext cx="3097080" cy="2592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3929040" y="3571920"/>
            <a:ext cx="0" cy="257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3929040" y="6143760"/>
            <a:ext cx="30718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ая соединительная линия 12"/>
          <p:cNvSpPr/>
          <p:nvPr/>
        </p:nvSpPr>
        <p:spPr>
          <a:xfrm flipV="1">
            <a:off x="4000680" y="5285880"/>
            <a:ext cx="785520" cy="785880"/>
          </a:xfrm>
          <a:prstGeom prst="line">
            <a:avLst/>
          </a:prstGeom>
          <a:ln w="76320">
            <a:solidFill>
              <a:srgbClr val="2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ый параллелепипед, у которого всё ребра равны называется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У Б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грани куба – равные квадраты</a:t>
            </a:r>
            <a:r>
              <a:rPr b="0" i="1" lang="en-US" sz="36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74" name="Rectangle 48"/>
          <p:cNvSpPr/>
          <p:nvPr/>
        </p:nvSpPr>
        <p:spPr>
          <a:xfrm>
            <a:off x="2700360" y="3789360"/>
            <a:ext cx="2268360" cy="216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3789360"/>
            <a:ext cx="0" cy="2160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5950080"/>
            <a:ext cx="21589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3789360"/>
            <a:ext cx="22320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3789360"/>
            <a:ext cx="71280" cy="2160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859280" y="5950080"/>
            <a:ext cx="1443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771640" y="595008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струкция по изучению </a:t>
            </a:r>
            <a:br>
              <a:rPr sz="4400"/>
            </a:b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лощади поверхности</a:t>
            </a:r>
            <a:br>
              <a:rPr sz="4400"/>
            </a:b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85840" y="207180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Измерь длину, ширину и высоту модели и запиши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ычисли площадь каждой грани (помни, что противоположные грани равн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ычисли  площадь всей поверхности вашего прямоугольного параллелепипеда по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ост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(ав +ас +вс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9182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нструкция по изучению </a:t>
            </a:r>
            <a:br>
              <a:rPr sz="4400"/>
            </a:b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уммы длин всех рёбер 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ямоугольного параллелепипеда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окажите на модели равные рёб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о сколько равных рёбер имеет параллелепипед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ак определить сумму длин всех рёбер? Сделайте вы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ычисли длину всех рёбер по форму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=4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+ 4в + 4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ы в о д ы :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ый параллелепипед  имеет:</a:t>
            </a: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57120" y="2142720"/>
            <a:ext cx="8786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ей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12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ёбер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8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ш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ни: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ики, квадра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571680" y="4000680"/>
            <a:ext cx="7858080" cy="703440"/>
          </a:xfrm>
          <a:prstGeom prst="rect">
            <a:avLst/>
          </a:prstGeom>
          <a:noFill/>
          <a:ln w="9360">
            <a:solidFill>
              <a:srgbClr val="a2a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рхности = 2(ав +ас +вс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Прямоугольник 4"/>
          <p:cNvSpPr/>
          <p:nvPr/>
        </p:nvSpPr>
        <p:spPr>
          <a:xfrm>
            <a:off x="2143080" y="5072040"/>
            <a:ext cx="473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=4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+ 4в + 4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познакомиться с прямоугольным параллелепипедом, кубом, их элементам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научиться чертить эти фигуры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- находить длину ребёр и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поверхн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00000" y="5157720"/>
            <a:ext cx="2881440" cy="914400"/>
          </a:xfrm>
          <a:prstGeom prst="rect">
            <a:avLst/>
          </a:prstGeom>
          <a:solidFill>
            <a:srgbClr val="fba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372360" y="5084640"/>
            <a:ext cx="1214280" cy="1214640"/>
          </a:xfrm>
          <a:prstGeom prst="cube">
            <a:avLst>
              <a:gd name="adj" fmla="val 25000"/>
            </a:avLst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7240" y="317160"/>
            <a:ext cx="7769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 задание: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16040" y="1626840"/>
            <a:ext cx="79279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Начертить в тетради прямоугольный параллелепипед, уметь показывать на модели грани, рёбра, верши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№ 7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79280" y="3429000"/>
            <a:ext cx="7105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 на уроке, ребята!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52720" y="380880"/>
            <a:ext cx="9396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7f4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539640" y="4723920"/>
            <a:ext cx="0" cy="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2484360" y="2276640"/>
            <a:ext cx="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51912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0920" y="2205000"/>
          <a:ext cx="8712000" cy="2325600"/>
        </p:xfrm>
        <a:graphic>
          <a:graphicData uri="http://schemas.openxmlformats.org/drawingml/2006/table">
            <a:tbl>
              <a:tblPr/>
              <a:tblGrid>
                <a:gridCol w="869760"/>
                <a:gridCol w="873360"/>
                <a:gridCol w="869760"/>
                <a:gridCol w="700200"/>
                <a:gridCol w="1044360"/>
                <a:gridCol w="870120"/>
                <a:gridCol w="873000"/>
                <a:gridCol w="868320"/>
                <a:gridCol w="873360"/>
                <a:gridCol w="869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=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·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м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0040" y="16426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площа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560" y="274320"/>
            <a:ext cx="77788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6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9680" y="15717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ш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Что лишнее?</a:t>
            </a:r>
            <a:endParaRPr b="0" lang="en-US" sz="66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13840" y="164304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треугольник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вадр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ороб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кру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прямоугольни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Прямоугольный параллелепипед в нашей жизни</a:t>
            </a:r>
            <a:endParaRPr b="0" lang="en-US" sz="4000" spc="-1" strike="noStrike">
              <a:solidFill>
                <a:srgbClr val="827f4c"/>
              </a:solidFill>
              <a:latin typeface="Arial"/>
            </a:endParaRPr>
          </a:p>
        </p:txBody>
      </p:sp>
      <p:pic>
        <p:nvPicPr>
          <p:cNvPr id="176" name="Picture 5" descr="J0205462"/>
          <p:cNvPicPr/>
          <p:nvPr/>
        </p:nvPicPr>
        <p:blipFill>
          <a:blip r:embed="rId1"/>
          <a:stretch/>
        </p:blipFill>
        <p:spPr>
          <a:xfrm>
            <a:off x="2143080" y="185724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177" name="tower"/>
          <p:cNvSpPr/>
          <p:nvPr/>
        </p:nvSpPr>
        <p:spPr>
          <a:xfrm>
            <a:off x="6588000" y="2060640"/>
            <a:ext cx="1265400" cy="2233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14200" y="42861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чечный коробок, кирпич, шкаф, чемодан, здания, системный блок компьютера дают представление о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ямоугольном параллелепипед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13" descr="j0192475[1]"/>
          <p:cNvPicPr/>
          <p:nvPr/>
        </p:nvPicPr>
        <p:blipFill>
          <a:blip r:embed="rId2"/>
          <a:stretch/>
        </p:blipFill>
        <p:spPr>
          <a:xfrm>
            <a:off x="250920" y="1989000"/>
            <a:ext cx="1585800" cy="1978200"/>
          </a:xfrm>
          <a:prstGeom prst="rect">
            <a:avLst/>
          </a:prstGeom>
          <a:ln w="0">
            <a:noFill/>
          </a:ln>
        </p:spPr>
      </p:pic>
      <p:sp>
        <p:nvSpPr>
          <p:cNvPr id="180" name="Firewall"/>
          <p:cNvSpPr/>
          <p:nvPr/>
        </p:nvSpPr>
        <p:spPr>
          <a:xfrm>
            <a:off x="4286160" y="2428920"/>
            <a:ext cx="1809720" cy="8809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прямоугольников</a:t>
            </a:r>
            <a:endParaRPr b="0" lang="en-US" sz="31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43080" y="2071800"/>
            <a:ext cx="1800360" cy="1366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364000" y="5013360"/>
            <a:ext cx="1727280" cy="12970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332000" y="4869000"/>
            <a:ext cx="1800000" cy="129528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012000" y="2205000"/>
            <a:ext cx="1944720" cy="1511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оверхность прямоугольного параллелепипеда состоит из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6 </a:t>
            </a:r>
            <a:r>
              <a:rPr b="0" i="1" lang="en-US" sz="3100" spc="-1" strike="noStrike">
                <a:solidFill>
                  <a:srgbClr val="ffffff"/>
                </a:solidFill>
                <a:latin typeface="Times New Roman"/>
              </a:rPr>
              <a:t>прямоугольников - </a:t>
            </a:r>
            <a:r>
              <a:rPr b="0" i="1" lang="en-US" sz="3100" spc="-1" strike="noStrike">
                <a:solidFill>
                  <a:srgbClr val="ff3300"/>
                </a:solidFill>
                <a:latin typeface="Times New Roman"/>
              </a:rPr>
              <a:t>граней</a:t>
            </a:r>
            <a:endParaRPr b="0" lang="en-US" sz="31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419640" y="2637000"/>
            <a:ext cx="3168360" cy="26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556000" y="3573360"/>
            <a:ext cx="3097080" cy="259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6443640" y="1773360"/>
            <a:ext cx="2449440" cy="504720"/>
          </a:xfrm>
          <a:prstGeom prst="wedgeRoundRectCallout">
            <a:avLst>
              <a:gd name="adj1" fmla="val -92319"/>
              <a:gd name="adj2" fmla="val 192453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0" y="3860640"/>
            <a:ext cx="2340000" cy="505080"/>
          </a:xfrm>
          <a:prstGeom prst="wedgeRoundRectCallout">
            <a:avLst>
              <a:gd name="adj1" fmla="val 77407"/>
              <a:gd name="adj2" fmla="val 221699"/>
              <a:gd name="adj3" fmla="val 16667"/>
            </a:avLst>
          </a:prstGeom>
          <a:solidFill>
            <a:srgbClr val="7c784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няя гра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26:07Z</dcterms:created>
  <dc:creator>Valentina</dc:creator>
  <dc:description/>
  <dc:language>en-US</dc:language>
  <cp:lastModifiedBy>user</cp:lastModifiedBy>
  <dcterms:modified xsi:type="dcterms:W3CDTF">2009-12-09T14:07:16Z</dcterms:modified>
  <cp:revision>27</cp:revision>
  <dc:subject/>
  <dc:title>Прямоугольный параллелепидед</dc:title>
</cp:coreProperties>
</file>