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9A1D-745A-4392-8AB0-F6E59A91169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E65E-5C07-4FD9-85D6-1A2634E4A51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78D3-A6ED-47C8-9282-D8ABAFEF4CF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A629-BFD0-4028-8897-FBE7F16A559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6517-01D8-4C3B-BF18-C603BA190A5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B24F-3225-4EFF-B3B9-5E993F8DDE3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89B4-4082-476F-A273-EB682543C61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6948-7E26-4946-8101-E3BEF7D9BBF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1AA2-EEBB-47D4-BDD5-B124633A6FC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BD83-E01F-4A8B-9295-FAC375E120F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B664-9EDE-4EC5-971A-1587284710E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C186-DA02-4CBA-B384-CDCA2322A58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A800-DD54-47A9-BF5B-F5EE0C28297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5436-DA58-4235-B903-A7E77EB2060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4CC2-3C6C-48F3-A29B-0FC6E146F1F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4BAB-CEE9-4F3C-89F3-A30B4A15C24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89CC-F366-45F0-8B50-CB316D73DED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DCC6-FA00-4FBE-9C85-47EAD7B8BAB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69BC-6B50-442C-B9DF-EC10A516A20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8B3A-7ED1-4627-A7AF-A0BC74CFF31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426E-D929-4262-810E-EBF7FF6C8D8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5F1-B427-4A22-9A2D-DAE3EF24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E67-54DA-46A0-9B4C-96A77617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E96-2A41-4813-98D7-3D0BA6FA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644-2AB6-4847-B25A-C7C4A3D4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AE06-0D3F-414C-AFB8-E5652573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55B6-8757-4DD3-9ECE-01F1C4E7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343D-2D7C-4A1C-9F9F-B1AA668B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78C6-39F5-42C7-B999-E3DB257A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A114-2887-4FF9-808B-350B76B7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2623-9FDC-45D8-8633-5C4F6AED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2B4F-548B-4357-B9D6-791E1B64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669-3155-4B16-9067-2F0A2AB8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20F0-D38F-4097-8918-5BD65EE9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880D-211E-4BD6-B5D2-EE5DF802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8D39-4D4E-4FE1-895D-24487269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5B62-E642-4EE1-B4E5-BAC1AFC7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5214-2EF9-4895-A454-7680070C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DD9-0C14-4A3E-87ED-7917F1D6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47A-61F6-4983-B058-B49DFE13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597-B174-4931-8E01-2D3E0E1D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F22F-9757-4DFC-AA7C-808957CA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9C4-9D97-4F34-A225-7F3AA773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F2F-E21B-4F70-B4B9-655052E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75F-4184-491B-B63A-014460F9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A243-E5C1-4DA4-AAF4-3445003837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8FE1-4AAA-4380-999B-00C6396612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ff"/>
                </a:solidFill>
                <a:latin typeface="Times New Roman"/>
              </a:rPr>
              <a:t>Прямоугольный параллелепипед</a:t>
            </a:r>
            <a:endParaRPr b="0" lang="en-US" sz="88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3236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5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5"/>
          <p:cNvSpPr/>
          <p:nvPr/>
        </p:nvSpPr>
        <p:spPr>
          <a:xfrm>
            <a:off x="2556000" y="5300640"/>
            <a:ext cx="3960720" cy="865080"/>
          </a:xfrm>
          <a:prstGeom prst="pie">
            <a:avLst/>
          </a:prstGeom>
          <a:solidFill>
            <a:srgbClr val="00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Поверхность прямоугольного параллелепипеда состоит из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граней</a:t>
            </a:r>
            <a:endParaRPr b="0" lang="en-US" sz="3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324000" y="4581360"/>
            <a:ext cx="2340000" cy="505080"/>
          </a:xfrm>
          <a:prstGeom prst="wedgeRoundRectCallout">
            <a:avLst>
              <a:gd name="adj1" fmla="val 77407"/>
              <a:gd name="adj2" fmla="val 221699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ижня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reeform 14"/>
          <p:cNvSpPr/>
          <p:nvPr/>
        </p:nvSpPr>
        <p:spPr>
          <a:xfrm>
            <a:off x="2556000" y="2708280"/>
            <a:ext cx="3960720" cy="865080"/>
          </a:xfrm>
          <a:prstGeom prst="pie">
            <a:avLst/>
          </a:prstGeom>
          <a:solidFill>
            <a:srgbClr val="00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6227640" y="1700280"/>
            <a:ext cx="2449800" cy="504720"/>
          </a:xfrm>
          <a:prstGeom prst="wedgeRoundRectCallout">
            <a:avLst>
              <a:gd name="adj1" fmla="val -92319"/>
              <a:gd name="adj2" fmla="val 192453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хня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Поверхность прямоугольного параллелепипеда состоит из</a:t>
            </a:r>
            <a:r>
              <a:rPr b="0" i="1" lang="en-US" sz="36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6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граней</a:t>
            </a:r>
            <a:endParaRPr b="0" lang="en-US" sz="3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99" name="Freeform 9"/>
          <p:cNvSpPr/>
          <p:nvPr/>
        </p:nvSpPr>
        <p:spPr>
          <a:xfrm>
            <a:off x="5651640" y="2708280"/>
            <a:ext cx="865080" cy="3457440"/>
          </a:xfrm>
          <a:prstGeom prst="pie">
            <a:avLst/>
          </a:prstGeom>
          <a:solidFill>
            <a:srgbClr val="fba3e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Freeform 10"/>
          <p:cNvSpPr/>
          <p:nvPr/>
        </p:nvSpPr>
        <p:spPr>
          <a:xfrm>
            <a:off x="2556000" y="2708280"/>
            <a:ext cx="865080" cy="3457440"/>
          </a:xfrm>
          <a:prstGeom prst="pie">
            <a:avLst/>
          </a:prstGeom>
          <a:solidFill>
            <a:srgbClr val="fba3e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6804000" y="2852640"/>
            <a:ext cx="2016000" cy="505080"/>
          </a:xfrm>
          <a:prstGeom prst="wedgeRoundRectCallout">
            <a:avLst>
              <a:gd name="adj1" fmla="val -83305"/>
              <a:gd name="adj2" fmla="val 156287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кова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3492360" y="1557360"/>
            <a:ext cx="2340000" cy="504720"/>
          </a:xfrm>
          <a:prstGeom prst="wedgeRoundRectCallout">
            <a:avLst>
              <a:gd name="adj1" fmla="val -64245"/>
              <a:gd name="adj2" fmla="val 302828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кова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Стороны граней называются</a:t>
            </a:r>
            <a:r>
              <a:rPr b="0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ребрами</a:t>
            </a:r>
            <a:r>
              <a:rPr b="1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араллелепипеда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40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45"/>
          <p:cNvSpPr/>
          <p:nvPr/>
        </p:nvSpPr>
        <p:spPr>
          <a:xfrm flipV="1">
            <a:off x="5651640" y="530028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8" name="Group 54"/>
          <p:cNvGrpSpPr/>
          <p:nvPr/>
        </p:nvGrpSpPr>
        <p:grpSpPr>
          <a:xfrm>
            <a:off x="2556000" y="2707920"/>
            <a:ext cx="3959280" cy="3457800"/>
            <a:chOff x="2556000" y="2707920"/>
            <a:chExt cx="3959280" cy="3457800"/>
          </a:xfrm>
        </p:grpSpPr>
        <p:sp>
          <p:nvSpPr>
            <p:cNvPr id="209" name="Rectangle 48"/>
            <p:cNvSpPr/>
            <p:nvPr/>
          </p:nvSpPr>
          <p:spPr>
            <a:xfrm>
              <a:off x="2556000" y="3573360"/>
              <a:ext cx="3097080" cy="259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49"/>
            <p:cNvSpPr/>
            <p:nvPr/>
          </p:nvSpPr>
          <p:spPr>
            <a:xfrm>
              <a:off x="2556000" y="3573360"/>
              <a:ext cx="3095640" cy="25923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50"/>
            <p:cNvSpPr/>
            <p:nvPr/>
          </p:nvSpPr>
          <p:spPr>
            <a:xfrm>
              <a:off x="3419640" y="2708280"/>
              <a:ext cx="3095640" cy="25923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Line 51"/>
            <p:cNvSpPr/>
            <p:nvPr/>
          </p:nvSpPr>
          <p:spPr>
            <a:xfrm flipV="1">
              <a:off x="2556000" y="2707920"/>
              <a:ext cx="86364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Line 52"/>
            <p:cNvSpPr/>
            <p:nvPr/>
          </p:nvSpPr>
          <p:spPr>
            <a:xfrm flipV="1">
              <a:off x="5651640" y="2707920"/>
              <a:ext cx="86364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Line 53"/>
            <p:cNvSpPr/>
            <p:nvPr/>
          </p:nvSpPr>
          <p:spPr>
            <a:xfrm flipV="1">
              <a:off x="2556000" y="5300280"/>
              <a:ext cx="86364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араллелепипед</a:t>
            </a:r>
            <a:r>
              <a:rPr b="0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имеет 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о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4 равных</a:t>
            </a:r>
            <a:r>
              <a:rPr b="0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ребра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6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7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 flipV="1">
            <a:off x="565164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5651640" y="530028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 flipV="1">
            <a:off x="2556000" y="530028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556000" y="3573360"/>
            <a:ext cx="3095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2556000" y="3573360"/>
            <a:ext cx="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6" name="Group 67"/>
          <p:cNvGrpSpPr/>
          <p:nvPr/>
        </p:nvGrpSpPr>
        <p:grpSpPr>
          <a:xfrm>
            <a:off x="2556000" y="2708280"/>
            <a:ext cx="3960720" cy="3457440"/>
            <a:chOff x="2556000" y="2708280"/>
            <a:chExt cx="3960720" cy="3457440"/>
          </a:xfrm>
        </p:grpSpPr>
        <p:sp>
          <p:nvSpPr>
            <p:cNvPr id="227" name="Line 68"/>
            <p:cNvSpPr/>
            <p:nvPr/>
          </p:nvSpPr>
          <p:spPr>
            <a:xfrm>
              <a:off x="2556000" y="3573360"/>
              <a:ext cx="0" cy="2592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Line 69"/>
            <p:cNvSpPr/>
            <p:nvPr/>
          </p:nvSpPr>
          <p:spPr>
            <a:xfrm>
              <a:off x="5651640" y="3573360"/>
              <a:ext cx="0" cy="2592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Line 70"/>
            <p:cNvSpPr/>
            <p:nvPr/>
          </p:nvSpPr>
          <p:spPr>
            <a:xfrm>
              <a:off x="6516720" y="2708280"/>
              <a:ext cx="0" cy="2592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71"/>
            <p:cNvSpPr/>
            <p:nvPr/>
          </p:nvSpPr>
          <p:spPr>
            <a:xfrm>
              <a:off x="3419640" y="2708280"/>
              <a:ext cx="0" cy="2592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1" name="Group 72"/>
          <p:cNvGrpSpPr/>
          <p:nvPr/>
        </p:nvGrpSpPr>
        <p:grpSpPr>
          <a:xfrm>
            <a:off x="2556000" y="2707920"/>
            <a:ext cx="3959280" cy="3457440"/>
            <a:chOff x="2556000" y="2707920"/>
            <a:chExt cx="3959280" cy="3457440"/>
          </a:xfrm>
        </p:grpSpPr>
        <p:sp>
          <p:nvSpPr>
            <p:cNvPr id="232" name="Line 73"/>
            <p:cNvSpPr/>
            <p:nvPr/>
          </p:nvSpPr>
          <p:spPr>
            <a:xfrm flipV="1">
              <a:off x="2556000" y="2707920"/>
              <a:ext cx="863640" cy="865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Line 74"/>
            <p:cNvSpPr/>
            <p:nvPr/>
          </p:nvSpPr>
          <p:spPr>
            <a:xfrm flipV="1">
              <a:off x="5651640" y="2707920"/>
              <a:ext cx="863640" cy="865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Line 75"/>
            <p:cNvSpPr/>
            <p:nvPr/>
          </p:nvSpPr>
          <p:spPr>
            <a:xfrm flipV="1">
              <a:off x="5651640" y="5300280"/>
              <a:ext cx="863640" cy="865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Line 76"/>
            <p:cNvSpPr/>
            <p:nvPr/>
          </p:nvSpPr>
          <p:spPr>
            <a:xfrm flipV="1">
              <a:off x="2556000" y="5300280"/>
              <a:ext cx="863640" cy="865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Line 87"/>
          <p:cNvSpPr/>
          <p:nvPr/>
        </p:nvSpPr>
        <p:spPr>
          <a:xfrm>
            <a:off x="2571840" y="3571920"/>
            <a:ext cx="3095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Вершины граней называются</a:t>
            </a:r>
            <a:r>
              <a:rPr b="0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вершинами</a:t>
            </a:r>
            <a:r>
              <a:rPr b="1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араллелепипеда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Line 7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Line 8"/>
          <p:cNvSpPr/>
          <p:nvPr/>
        </p:nvSpPr>
        <p:spPr>
          <a:xfrm flipV="1">
            <a:off x="565164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Line 9"/>
          <p:cNvSpPr/>
          <p:nvPr/>
        </p:nvSpPr>
        <p:spPr>
          <a:xfrm flipV="1">
            <a:off x="5651640" y="5300280"/>
            <a:ext cx="863640" cy="86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2627280" y="522900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13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Line 14"/>
          <p:cNvSpPr/>
          <p:nvPr/>
        </p:nvSpPr>
        <p:spPr>
          <a:xfrm flipV="1">
            <a:off x="2627280" y="522900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Line 17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Line 18"/>
          <p:cNvSpPr/>
          <p:nvPr/>
        </p:nvSpPr>
        <p:spPr>
          <a:xfrm flipV="1">
            <a:off x="2627280" y="522900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Line 19"/>
          <p:cNvSpPr/>
          <p:nvPr/>
        </p:nvSpPr>
        <p:spPr>
          <a:xfrm flipV="1">
            <a:off x="5651640" y="2707920"/>
            <a:ext cx="863640" cy="86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Line 22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23"/>
          <p:cNvSpPr/>
          <p:nvPr/>
        </p:nvSpPr>
        <p:spPr>
          <a:xfrm flipV="1">
            <a:off x="2556000" y="5300280"/>
            <a:ext cx="863640" cy="86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Oval 24"/>
          <p:cNvSpPr/>
          <p:nvPr/>
        </p:nvSpPr>
        <p:spPr>
          <a:xfrm>
            <a:off x="2411280" y="3429000"/>
            <a:ext cx="28908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Oval 26"/>
          <p:cNvSpPr/>
          <p:nvPr/>
        </p:nvSpPr>
        <p:spPr>
          <a:xfrm>
            <a:off x="3276720" y="5157720"/>
            <a:ext cx="28872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Oval 27"/>
          <p:cNvSpPr/>
          <p:nvPr/>
        </p:nvSpPr>
        <p:spPr>
          <a:xfrm>
            <a:off x="2411280" y="6021360"/>
            <a:ext cx="28908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Oval 28"/>
          <p:cNvSpPr/>
          <p:nvPr/>
        </p:nvSpPr>
        <p:spPr>
          <a:xfrm>
            <a:off x="6300720" y="5157720"/>
            <a:ext cx="28908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Oval 29"/>
          <p:cNvSpPr/>
          <p:nvPr/>
        </p:nvSpPr>
        <p:spPr>
          <a:xfrm>
            <a:off x="5508720" y="5950080"/>
            <a:ext cx="28872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Oval 30"/>
          <p:cNvSpPr/>
          <p:nvPr/>
        </p:nvSpPr>
        <p:spPr>
          <a:xfrm>
            <a:off x="6300720" y="2565360"/>
            <a:ext cx="28908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Oval 31"/>
          <p:cNvSpPr/>
          <p:nvPr/>
        </p:nvSpPr>
        <p:spPr>
          <a:xfrm>
            <a:off x="3276720" y="2565360"/>
            <a:ext cx="28872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Oval 48"/>
          <p:cNvSpPr/>
          <p:nvPr/>
        </p:nvSpPr>
        <p:spPr>
          <a:xfrm>
            <a:off x="5508720" y="3429000"/>
            <a:ext cx="28872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рения прямоугольного параллелепипеда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28760" y="2000160"/>
            <a:ext cx="828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а – дл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ffff"/>
                </a:solidFill>
                <a:latin typeface="Tahoma"/>
              </a:rPr>
              <a:t>в – ши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с – высота        с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                      </a:t>
            </a:r>
            <a:r>
              <a:rPr b="0" lang="en-US" sz="3200" spc="-1" strike="noStrike">
                <a:solidFill>
                  <a:srgbClr val="29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929040" y="357192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3929040" y="3571920"/>
            <a:ext cx="0" cy="2573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3929040" y="6143760"/>
            <a:ext cx="307188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рямая соединительная линия 12"/>
          <p:cNvSpPr/>
          <p:nvPr/>
        </p:nvSpPr>
        <p:spPr>
          <a:xfrm flipV="1">
            <a:off x="4000680" y="5285880"/>
            <a:ext cx="785520" cy="785880"/>
          </a:xfrm>
          <a:prstGeom prst="line">
            <a:avLst/>
          </a:prstGeom>
          <a:ln w="76320">
            <a:solidFill>
              <a:srgbClr val="2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угольный параллелепипед, у которого всё ребра равны называется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У Б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грани куба – равные квадраты</a:t>
            </a:r>
            <a:r>
              <a:rPr b="0" i="1" lang="en-US" sz="36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74" name="Rectangle 48"/>
          <p:cNvSpPr/>
          <p:nvPr/>
        </p:nvSpPr>
        <p:spPr>
          <a:xfrm>
            <a:off x="2700360" y="3789360"/>
            <a:ext cx="2268360" cy="216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2700360" y="3789360"/>
            <a:ext cx="0" cy="216072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5950080"/>
            <a:ext cx="21589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3789360"/>
            <a:ext cx="2232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932360" y="3789360"/>
            <a:ext cx="71280" cy="216072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859280" y="5950080"/>
            <a:ext cx="14436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771640" y="5950080"/>
            <a:ext cx="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Инструкция по изучению </a:t>
            </a:r>
            <a:br>
              <a:rPr sz="4400"/>
            </a:b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ощади поверхности</a:t>
            </a:r>
            <a:br>
              <a:rPr sz="4400"/>
            </a:b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прямоугольного параллелепипеда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285840" y="2071800"/>
            <a:ext cx="8572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Измерь длину, ширину и высоту модели и запиши 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ычисли площадь каждой грани (помни, что противоположные грани равн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Вычисли  площадь всей поверхности вашего прямоугольного параллелепипеда по форму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ерхност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(ав +ас +вс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9182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Инструкция по изучению </a:t>
            </a:r>
            <a:br>
              <a:rPr sz="4400"/>
            </a:b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уммы длин всех рёбер </a:t>
            </a: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ямоугольного параллелепипеда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Покажите на модели равные рёб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По сколько равных рёбер имеет параллелепипед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Как определить сумму длин всех рёбер? Сделайте выв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Вычисли длину всех рёбер по форму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=4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+ 4в + 4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 ы в о д ы :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угольный параллелепипед  имеет:</a:t>
            </a:r>
            <a:br>
              <a:rPr sz="4400"/>
            </a:b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57120" y="2142720"/>
            <a:ext cx="87868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ней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12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ёбер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8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ш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ни: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угольники, квадра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571680" y="4000680"/>
            <a:ext cx="7858080" cy="703440"/>
          </a:xfrm>
          <a:prstGeom prst="rect">
            <a:avLst/>
          </a:prstGeom>
          <a:noFill/>
          <a:ln w="9360">
            <a:solidFill>
              <a:srgbClr val="a2a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ерхности = 2(ав +ас +вс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Прямоугольник 4"/>
          <p:cNvSpPr/>
          <p:nvPr/>
        </p:nvSpPr>
        <p:spPr>
          <a:xfrm>
            <a:off x="2143080" y="5072040"/>
            <a:ext cx="473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=4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+ 4в + 4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-познакомиться с прямоугольным параллелепипедом, кубом, их элементами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-научиться чертить эти фигуры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- находить длину ребёр и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поверх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900000" y="5157720"/>
            <a:ext cx="2881440" cy="914400"/>
          </a:xfrm>
          <a:prstGeom prst="rect">
            <a:avLst/>
          </a:prstGeom>
          <a:solidFill>
            <a:srgbClr val="fba3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372360" y="5084640"/>
            <a:ext cx="1214280" cy="1214640"/>
          </a:xfrm>
          <a:prstGeom prst="cube">
            <a:avLst>
              <a:gd name="adj" fmla="val 25000"/>
            </a:avLst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7240" y="317160"/>
            <a:ext cx="7769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 задание: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716040" y="1626840"/>
            <a:ext cx="79279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Начертить в тетради прямоугольный параллелепипед, уметь показывать на модели грани, рёбра, верши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№ 79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79280" y="3429000"/>
            <a:ext cx="71056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работу на уроке, ребята!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252720" y="380880"/>
            <a:ext cx="9396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7f4c"/>
                </a:solidFill>
                <a:latin typeface="Arial"/>
              </a:rPr>
              <a:t>Устный счёт</a:t>
            </a:r>
            <a:endParaRPr b="0" lang="en-US" sz="3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V="1">
            <a:off x="539640" y="4723920"/>
            <a:ext cx="0" cy="7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2484360" y="2276640"/>
            <a:ext cx="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519120" y="26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0920" y="2205000"/>
          <a:ext cx="8712000" cy="2325600"/>
        </p:xfrm>
        <a:graphic>
          <a:graphicData uri="http://schemas.openxmlformats.org/drawingml/2006/table">
            <a:tbl>
              <a:tblPr/>
              <a:tblGrid>
                <a:gridCol w="869760"/>
                <a:gridCol w="873360"/>
                <a:gridCol w="869760"/>
                <a:gridCol w="700200"/>
                <a:gridCol w="1044360"/>
                <a:gridCol w="870120"/>
                <a:gridCol w="873000"/>
                <a:gridCol w="868320"/>
                <a:gridCol w="873360"/>
                <a:gridCol w="8697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=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·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Что лишнее?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0040" y="16426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треугольник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квадра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площад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круг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прямоугольни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274320"/>
            <a:ext cx="77788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Что лишнее?</a:t>
            </a:r>
            <a:endParaRPr b="0" lang="en-US" sz="6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9680" y="15717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треугольник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вадра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ру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ш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прямоугольн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Что лишнее?</a:t>
            </a:r>
            <a:endParaRPr b="0" lang="en-US" sz="6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13840" y="1643040"/>
            <a:ext cx="85726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треугольник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вадра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ороб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ру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прямоугольн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рямоугольный параллелепипед в нашей жизни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pic>
        <p:nvPicPr>
          <p:cNvPr id="176" name="Picture 5" descr="J0205462"/>
          <p:cNvPicPr/>
          <p:nvPr/>
        </p:nvPicPr>
        <p:blipFill>
          <a:blip r:embed="rId1"/>
          <a:stretch/>
        </p:blipFill>
        <p:spPr>
          <a:xfrm>
            <a:off x="2143080" y="185724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177" name="tower"/>
          <p:cNvSpPr/>
          <p:nvPr/>
        </p:nvSpPr>
        <p:spPr>
          <a:xfrm>
            <a:off x="6588000" y="2060640"/>
            <a:ext cx="1265400" cy="2233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14200" y="428616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чечный коробок, кирпич, шкаф, чемодан, здания, системный блок компьютера дают представление о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ямоугольном параллелепипед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13" descr="j0192475[1]"/>
          <p:cNvPicPr/>
          <p:nvPr/>
        </p:nvPicPr>
        <p:blipFill>
          <a:blip r:embed="rId2"/>
          <a:stretch/>
        </p:blipFill>
        <p:spPr>
          <a:xfrm>
            <a:off x="250920" y="1989000"/>
            <a:ext cx="1585800" cy="1978200"/>
          </a:xfrm>
          <a:prstGeom prst="rect">
            <a:avLst/>
          </a:prstGeom>
          <a:ln w="0">
            <a:noFill/>
          </a:ln>
        </p:spPr>
      </p:pic>
      <p:sp>
        <p:nvSpPr>
          <p:cNvPr id="180" name="Firewall"/>
          <p:cNvSpPr/>
          <p:nvPr/>
        </p:nvSpPr>
        <p:spPr>
          <a:xfrm>
            <a:off x="4286160" y="2428920"/>
            <a:ext cx="1809720" cy="88092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ff"/>
                </a:solidFill>
                <a:latin typeface="Times New Roman"/>
              </a:rPr>
              <a:t>Поверхность прямоугольного параллелепипеда состоит из </a:t>
            </a:r>
            <a:r>
              <a:rPr b="0" i="1" lang="en-US" sz="3100" spc="-1" strike="noStrike">
                <a:solidFill>
                  <a:srgbClr val="ff3300"/>
                </a:solidFill>
                <a:latin typeface="Times New Roman"/>
              </a:rPr>
              <a:t>прямоугольников</a:t>
            </a:r>
            <a:endParaRPr b="0" lang="en-US" sz="31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43080" y="2071800"/>
            <a:ext cx="1800360" cy="13665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5364000" y="5013360"/>
            <a:ext cx="1727280" cy="12970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1332000" y="4869000"/>
            <a:ext cx="1800000" cy="129528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6012000" y="2205000"/>
            <a:ext cx="1944720" cy="1511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ff"/>
                </a:solidFill>
                <a:latin typeface="Times New Roman"/>
              </a:rPr>
              <a:t>Поверхность прямоугольного параллелепипеда состоит из </a:t>
            </a:r>
            <a:r>
              <a:rPr b="0" i="1" lang="en-US" sz="3100" spc="-1" strike="noStrike">
                <a:solidFill>
                  <a:srgbClr val="ff3300"/>
                </a:solidFill>
                <a:latin typeface="Times New Roman"/>
              </a:rPr>
              <a:t>6 </a:t>
            </a:r>
            <a:r>
              <a:rPr b="0" i="1" lang="en-US" sz="3100" spc="-1" strike="noStrike">
                <a:solidFill>
                  <a:srgbClr val="ffffff"/>
                </a:solidFill>
                <a:latin typeface="Times New Roman"/>
              </a:rPr>
              <a:t>прямоугольников - </a:t>
            </a:r>
            <a:r>
              <a:rPr b="0" i="1" lang="en-US" sz="3100" spc="-1" strike="noStrike">
                <a:solidFill>
                  <a:srgbClr val="ff3300"/>
                </a:solidFill>
                <a:latin typeface="Times New Roman"/>
              </a:rPr>
              <a:t>граней</a:t>
            </a:r>
            <a:endParaRPr b="0" lang="en-US" sz="31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419640" y="2637000"/>
            <a:ext cx="3168360" cy="26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6443640" y="1773360"/>
            <a:ext cx="2449440" cy="504720"/>
          </a:xfrm>
          <a:prstGeom prst="wedgeRoundRectCallout">
            <a:avLst>
              <a:gd name="adj1" fmla="val -92319"/>
              <a:gd name="adj2" fmla="val 192453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ня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0" y="3860640"/>
            <a:ext cx="2340000" cy="505080"/>
          </a:xfrm>
          <a:prstGeom prst="wedgeRoundRectCallout">
            <a:avLst>
              <a:gd name="adj1" fmla="val 77407"/>
              <a:gd name="adj2" fmla="val 221699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дня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8:26:07Z</dcterms:created>
  <dc:creator>Valentina</dc:creator>
  <dc:description/>
  <dc:language>en-US</dc:language>
  <cp:lastModifiedBy>user</cp:lastModifiedBy>
  <dcterms:modified xsi:type="dcterms:W3CDTF">2009-12-09T14:07:16Z</dcterms:modified>
  <cp:revision>27</cp:revision>
  <dc:subject/>
  <dc:title>Прямоугольный параллелепидед</dc:title>
</cp:coreProperties>
</file>