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8A0-9AD3-4146-AA3B-1DC296CD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C31-DDF3-4905-9C67-B4732BE8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F53-D4C9-4F75-B36D-6A13F038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40C-6713-4949-AD05-27AB51E7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19C7-1511-4596-9CB6-A0F17171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BFC6-69B8-4233-B80B-CD1D1195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8669-7596-492C-A4F0-90B58F83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2C78-6B1D-44AA-8BD7-C14C1523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5AD9-88A6-470A-83CE-92209FAE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024B-D9CD-42E7-AAFF-DB6C4E44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6D27-CA51-45E4-9EC4-7CEE6942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340-6324-4DBF-9686-6D5DF24D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B6D5-F671-4CDE-AEE1-1794EAB9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463A-314B-4942-8802-411BD83F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EDC4-4B17-4C60-80A9-EED9913B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F419-24C8-4AEB-91F1-CC3FCFF0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009F-ADAF-4E79-BA62-B6823A6D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C20-8437-4563-84D1-21830480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5F6-F2AA-4BB1-A4B7-28A3C752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8E2-842F-4AB9-AEEA-1FB39FF8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344-BF3F-4702-A6D5-D60C93EF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F5F-1E35-4DE0-8A86-882F87AE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F8A-8C57-4CE7-AD3A-2DF5F791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B1E-8AD3-4E5C-9857-1457951C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A2DC-FE20-4A5C-AB00-E5E90153ED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B1EE-E668-4782-8106-163ABF49C6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Прямая пропорциональ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880" y="25909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7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20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ffeca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2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1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ffeca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2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1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ffeca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2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1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ffeca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2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1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ffeca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2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omic Sans MS"/>
              </a:rPr>
              <a:t>Диктант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omic Sans MS"/>
              </a:rPr>
              <a:t>оконче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План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зми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атематический дикт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Знакомство с прямой пропорциональност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ешение зада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сследовательск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дведение ито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57200" y="1600200"/>
          <a:ext cx="8229600" cy="3475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1 вариан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2 вариан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=x</a:t>
                      </a:r>
                      <a:r>
                        <a:rPr b="0" i="1" lang="en-US" sz="3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dada"/>
                      </a:solidFill>
                    </a:lnT>
                    <a:lnB>
                      <a:noFill/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  у = х + 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dada"/>
                      </a:solidFill>
                    </a:lnT>
                    <a:lnB>
                      <a:noFill/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 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=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 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= - 0,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 7/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 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= 2,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 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≠ 3, х ≠ -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 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– </a:t>
                      </a: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бое 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)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– </a:t>
                      </a: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бое 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)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≠ 2, х ≠ -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 этап –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РЯМАЯ ПРОПОРЦИОНАЛЬ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 = 4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80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= 10q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= 4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авая фигурная скобка 3"/>
          <p:cNvSpPr/>
          <p:nvPr/>
        </p:nvSpPr>
        <p:spPr>
          <a:xfrm>
            <a:off x="3352680" y="1676520"/>
            <a:ext cx="381240" cy="4419360"/>
          </a:xfrm>
          <a:custGeom>
            <a:avLst/>
            <a:gdLst>
              <a:gd name="textAreaLeft" fmla="*/ 0 w 381240"/>
              <a:gd name="textAreaRight" fmla="*/ 137520 w 381240"/>
              <a:gd name="textAreaTop" fmla="*/ 46800 h 4419360"/>
              <a:gd name="textAreaBottom" fmla="*/ 43725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7"/>
                  <a:pt x="10800" y="734"/>
                </a:cubicBezTo>
                <a:lnTo>
                  <a:pt x="10800" y="9917"/>
                </a:lnTo>
                <a:cubicBezTo>
                  <a:pt x="10800" y="10284"/>
                  <a:pt x="16200" y="10651"/>
                  <a:pt x="21600" y="10651"/>
                </a:cubicBezTo>
                <a:cubicBezTo>
                  <a:pt x="16200" y="10651"/>
                  <a:pt x="10800" y="11018"/>
                  <a:pt x="10800" y="11385"/>
                </a:cubicBezTo>
                <a:lnTo>
                  <a:pt x="10800" y="20866"/>
                </a:lnTo>
                <a:cubicBezTo>
                  <a:pt x="10800" y="21233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Горизонтальный свиток 4"/>
          <p:cNvSpPr/>
          <p:nvPr/>
        </p:nvSpPr>
        <p:spPr>
          <a:xfrm>
            <a:off x="3809880" y="1219320"/>
            <a:ext cx="5334120" cy="4419360"/>
          </a:xfrm>
          <a:prstGeom prst="horizontalScroll">
            <a:avLst>
              <a:gd name="adj" fmla="val 11833"/>
            </a:avLst>
          </a:prstGeom>
          <a:solidFill>
            <a:srgbClr val="35aeff"/>
          </a:solidFill>
          <a:ln w="11520">
            <a:solidFill>
              <a:srgbClr val="006f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ямая пропорциональность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 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k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≠ 0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эффициент пропорциональности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28600" y="4191120"/>
          <a:ext cx="3276720" cy="1218960"/>
        </p:xfrm>
        <a:graphic>
          <a:graphicData uri="http://schemas.openxmlformats.org/drawingml/2006/table">
            <a:tbl>
              <a:tblPr/>
              <a:tblGrid>
                <a:gridCol w="546120"/>
                <a:gridCol w="546120"/>
                <a:gridCol w="546120"/>
                <a:gridCol w="546120"/>
                <a:gridCol w="546120"/>
                <a:gridCol w="5461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28600" y="4191120"/>
          <a:ext cx="3276720" cy="1218960"/>
        </p:xfrm>
        <a:graphic>
          <a:graphicData uri="http://schemas.openxmlformats.org/drawingml/2006/table">
            <a:tbl>
              <a:tblPr/>
              <a:tblGrid>
                <a:gridCol w="546120"/>
                <a:gridCol w="546120"/>
                <a:gridCol w="546120"/>
                <a:gridCol w="546120"/>
                <a:gridCol w="546120"/>
                <a:gridCol w="5461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Comic Sans MS"/>
              </a:rPr>
              <a:t>4 этап – </a:t>
            </a:r>
            <a:r>
              <a:rPr b="0" lang="ru-RU" sz="3200" spc="-1" strike="noStrike">
                <a:solidFill>
                  <a:srgbClr val="b8ffff"/>
                </a:solidFill>
                <a:latin typeface="Comic Sans MS"/>
              </a:rPr>
              <a:t>РЕШЕНИЕ ЗАДАЧ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16"/>
          <p:cNvGrpSpPr/>
          <p:nvPr/>
        </p:nvGrpSpPr>
        <p:grpSpPr>
          <a:xfrm>
            <a:off x="-533520" y="1523880"/>
            <a:ext cx="7588080" cy="8773920"/>
            <a:chOff x="-533520" y="1523880"/>
            <a:chExt cx="7588080" cy="8773920"/>
          </a:xfrm>
        </p:grpSpPr>
        <p:sp>
          <p:nvSpPr>
            <p:cNvPr id="323" name="AutoShape 17"/>
            <p:cNvSpPr/>
            <p:nvPr/>
          </p:nvSpPr>
          <p:spPr>
            <a:xfrm>
              <a:off x="-533520" y="5954400"/>
              <a:ext cx="658008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8"/>
            <p:cNvSpPr/>
            <p:nvPr/>
          </p:nvSpPr>
          <p:spPr>
            <a:xfrm flipV="1">
              <a:off x="2062800" y="1710000"/>
              <a:ext cx="0" cy="173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9"/>
            <p:cNvSpPr/>
            <p:nvPr/>
          </p:nvSpPr>
          <p:spPr>
            <a:xfrm>
              <a:off x="2111040" y="1523880"/>
              <a:ext cx="22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Text Box 20"/>
            <p:cNvSpPr/>
            <p:nvPr/>
          </p:nvSpPr>
          <p:spPr>
            <a:xfrm>
              <a:off x="2880720" y="2445480"/>
              <a:ext cx="22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21"/>
            <p:cNvSpPr/>
            <p:nvPr/>
          </p:nvSpPr>
          <p:spPr>
            <a:xfrm>
              <a:off x="1860840" y="259344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2"/>
            <p:cNvSpPr/>
            <p:nvPr/>
          </p:nvSpPr>
          <p:spPr>
            <a:xfrm>
              <a:off x="2372400" y="2575440"/>
              <a:ext cx="0" cy="12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3"/>
            <p:cNvSpPr/>
            <p:nvPr/>
          </p:nvSpPr>
          <p:spPr>
            <a:xfrm flipH="1">
              <a:off x="2001240" y="2018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24"/>
            <p:cNvSpPr/>
            <p:nvPr/>
          </p:nvSpPr>
          <p:spPr>
            <a:xfrm>
              <a:off x="2249640" y="263736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815480" y="189540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6"/>
            <p:cNvSpPr/>
            <p:nvPr/>
          </p:nvSpPr>
          <p:spPr>
            <a:xfrm flipH="1">
              <a:off x="1751760" y="1839960"/>
              <a:ext cx="685800" cy="143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7"/>
            <p:cNvSpPr/>
            <p:nvPr/>
          </p:nvSpPr>
          <p:spPr>
            <a:xfrm>
              <a:off x="3203280" y="4572000"/>
              <a:ext cx="22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28"/>
            <p:cNvSpPr/>
            <p:nvPr/>
          </p:nvSpPr>
          <p:spPr>
            <a:xfrm>
              <a:off x="1860840" y="469584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9"/>
            <p:cNvSpPr/>
            <p:nvPr/>
          </p:nvSpPr>
          <p:spPr>
            <a:xfrm>
              <a:off x="1814760" y="4678200"/>
              <a:ext cx="0" cy="12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30"/>
            <p:cNvSpPr/>
            <p:nvPr/>
          </p:nvSpPr>
          <p:spPr>
            <a:xfrm flipH="1">
              <a:off x="2001240" y="4493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31"/>
            <p:cNvSpPr/>
            <p:nvPr/>
          </p:nvSpPr>
          <p:spPr>
            <a:xfrm>
              <a:off x="1570680" y="4739760"/>
              <a:ext cx="27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32"/>
            <p:cNvSpPr/>
            <p:nvPr/>
          </p:nvSpPr>
          <p:spPr>
            <a:xfrm>
              <a:off x="1754280" y="424440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33"/>
            <p:cNvSpPr/>
            <p:nvPr/>
          </p:nvSpPr>
          <p:spPr>
            <a:xfrm>
              <a:off x="1443600" y="4058640"/>
              <a:ext cx="1238040" cy="136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34"/>
            <p:cNvSpPr/>
            <p:nvPr/>
          </p:nvSpPr>
          <p:spPr>
            <a:xfrm>
              <a:off x="2063160" y="3688200"/>
              <a:ext cx="22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35"/>
            <p:cNvSpPr/>
            <p:nvPr/>
          </p:nvSpPr>
          <p:spPr>
            <a:xfrm flipV="1">
              <a:off x="5771880" y="1771560"/>
              <a:ext cx="0" cy="173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36"/>
            <p:cNvSpPr/>
            <p:nvPr/>
          </p:nvSpPr>
          <p:spPr>
            <a:xfrm>
              <a:off x="4782600" y="2698560"/>
              <a:ext cx="1916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 Box 37"/>
            <p:cNvSpPr/>
            <p:nvPr/>
          </p:nvSpPr>
          <p:spPr>
            <a:xfrm>
              <a:off x="5570280" y="265500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38"/>
            <p:cNvSpPr/>
            <p:nvPr/>
          </p:nvSpPr>
          <p:spPr>
            <a:xfrm>
              <a:off x="5031000" y="2637360"/>
              <a:ext cx="0" cy="12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39"/>
            <p:cNvSpPr/>
            <p:nvPr/>
          </p:nvSpPr>
          <p:spPr>
            <a:xfrm flipH="1">
              <a:off x="5710320" y="24519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Text Box 40"/>
            <p:cNvSpPr/>
            <p:nvPr/>
          </p:nvSpPr>
          <p:spPr>
            <a:xfrm>
              <a:off x="4847760" y="2698560"/>
              <a:ext cx="27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41"/>
            <p:cNvSpPr/>
            <p:nvPr/>
          </p:nvSpPr>
          <p:spPr>
            <a:xfrm>
              <a:off x="5836320" y="232740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42"/>
            <p:cNvSpPr/>
            <p:nvPr/>
          </p:nvSpPr>
          <p:spPr>
            <a:xfrm>
              <a:off x="4784040" y="2266200"/>
              <a:ext cx="1854000" cy="802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43"/>
            <p:cNvSpPr/>
            <p:nvPr/>
          </p:nvSpPr>
          <p:spPr>
            <a:xfrm>
              <a:off x="5772600" y="1647720"/>
              <a:ext cx="22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44"/>
            <p:cNvSpPr/>
            <p:nvPr/>
          </p:nvSpPr>
          <p:spPr>
            <a:xfrm>
              <a:off x="4800600" y="4721400"/>
              <a:ext cx="1915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45"/>
            <p:cNvSpPr/>
            <p:nvPr/>
          </p:nvSpPr>
          <p:spPr>
            <a:xfrm>
              <a:off x="6826680" y="4596120"/>
              <a:ext cx="22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46"/>
            <p:cNvSpPr/>
            <p:nvPr/>
          </p:nvSpPr>
          <p:spPr>
            <a:xfrm>
              <a:off x="5487480" y="480024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47"/>
            <p:cNvSpPr/>
            <p:nvPr/>
          </p:nvSpPr>
          <p:spPr>
            <a:xfrm>
              <a:off x="6516000" y="4678200"/>
              <a:ext cx="0" cy="12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48"/>
            <p:cNvSpPr/>
            <p:nvPr/>
          </p:nvSpPr>
          <p:spPr>
            <a:xfrm flipH="1">
              <a:off x="5728320" y="44748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49"/>
            <p:cNvSpPr/>
            <p:nvPr/>
          </p:nvSpPr>
          <p:spPr>
            <a:xfrm>
              <a:off x="6392160" y="480240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50"/>
            <p:cNvSpPr/>
            <p:nvPr/>
          </p:nvSpPr>
          <p:spPr>
            <a:xfrm>
              <a:off x="5853960" y="435096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1"/>
            <p:cNvSpPr/>
            <p:nvPr/>
          </p:nvSpPr>
          <p:spPr>
            <a:xfrm flipV="1">
              <a:off x="4845240" y="4430520"/>
              <a:ext cx="1916640" cy="53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52"/>
            <p:cNvSpPr/>
            <p:nvPr/>
          </p:nvSpPr>
          <p:spPr>
            <a:xfrm>
              <a:off x="5790600" y="3670560"/>
              <a:ext cx="22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53"/>
            <p:cNvSpPr/>
            <p:nvPr/>
          </p:nvSpPr>
          <p:spPr>
            <a:xfrm>
              <a:off x="1123560" y="1523880"/>
              <a:ext cx="28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а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4787640" y="3732480"/>
              <a:ext cx="25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г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Text Box 55"/>
            <p:cNvSpPr/>
            <p:nvPr/>
          </p:nvSpPr>
          <p:spPr>
            <a:xfrm>
              <a:off x="1049400" y="3607920"/>
              <a:ext cx="37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в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56"/>
            <p:cNvSpPr/>
            <p:nvPr/>
          </p:nvSpPr>
          <p:spPr>
            <a:xfrm>
              <a:off x="4664520" y="175392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б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57"/>
            <p:cNvSpPr/>
            <p:nvPr/>
          </p:nvSpPr>
          <p:spPr>
            <a:xfrm flipV="1">
              <a:off x="5735880" y="3821040"/>
              <a:ext cx="720" cy="1828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58"/>
            <p:cNvSpPr/>
            <p:nvPr/>
          </p:nvSpPr>
          <p:spPr>
            <a:xfrm>
              <a:off x="1049400" y="4735440"/>
              <a:ext cx="1888560" cy="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59"/>
            <p:cNvSpPr/>
            <p:nvPr/>
          </p:nvSpPr>
          <p:spPr>
            <a:xfrm flipV="1">
              <a:off x="2057400" y="3809520"/>
              <a:ext cx="360" cy="2015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Comic Sans MS"/>
              </a:rPr>
              <a:t>4 этап – </a:t>
            </a:r>
            <a:r>
              <a:rPr b="0" lang="ru-RU" sz="3200" spc="-1" strike="noStrike">
                <a:solidFill>
                  <a:srgbClr val="b8ffff"/>
                </a:solidFill>
                <a:latin typeface="Comic Sans MS"/>
              </a:rPr>
              <a:t>ИССЛЕДОВАТЕЛЬСКАЯ РАБОТ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8" name="Picture 7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2296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Line 4"/>
          <p:cNvSpPr/>
          <p:nvPr/>
        </p:nvSpPr>
        <p:spPr>
          <a:xfrm flipV="1">
            <a:off x="4140360" y="549360"/>
            <a:ext cx="0" cy="54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1042920" y="3284640"/>
            <a:ext cx="6050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414216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7166160" y="31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4213440" y="40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 flipH="1">
            <a:off x="2124000" y="765000"/>
            <a:ext cx="2519280" cy="3527640"/>
          </a:xfrm>
          <a:prstGeom prst="line">
            <a:avLst/>
          </a:prstGeom>
          <a:ln w="381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 flipH="1">
            <a:off x="2771280" y="1341360"/>
            <a:ext cx="2737080" cy="381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12"/>
          <p:cNvSpPr/>
          <p:nvPr/>
        </p:nvSpPr>
        <p:spPr>
          <a:xfrm flipH="1">
            <a:off x="3492000" y="1989000"/>
            <a:ext cx="2519640" cy="352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4194360" y="128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4121280" y="4384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4"/>
          <p:cNvSpPr/>
          <p:nvPr/>
        </p:nvSpPr>
        <p:spPr>
          <a:xfrm flipV="1">
            <a:off x="3851280" y="836280"/>
            <a:ext cx="0" cy="482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1692360" y="3213000"/>
            <a:ext cx="475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3925800" y="62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6445080" y="299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3544560" y="321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3708360" y="2852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 flipV="1">
            <a:off x="4211640" y="3068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2"/>
          <p:cNvSpPr/>
          <p:nvPr/>
        </p:nvSpPr>
        <p:spPr>
          <a:xfrm>
            <a:off x="4194000" y="3282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3"/>
          <p:cNvSpPr/>
          <p:nvPr/>
        </p:nvSpPr>
        <p:spPr>
          <a:xfrm>
            <a:off x="3493800" y="2708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4"/>
          <p:cNvSpPr/>
          <p:nvPr/>
        </p:nvSpPr>
        <p:spPr>
          <a:xfrm flipH="1">
            <a:off x="2556000" y="1268280"/>
            <a:ext cx="2736720" cy="367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5"/>
          <p:cNvSpPr/>
          <p:nvPr/>
        </p:nvSpPr>
        <p:spPr>
          <a:xfrm flipH="1">
            <a:off x="3058920" y="1197000"/>
            <a:ext cx="1657080" cy="3889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6"/>
          <p:cNvSpPr/>
          <p:nvPr/>
        </p:nvSpPr>
        <p:spPr>
          <a:xfrm>
            <a:off x="3419640" y="1268280"/>
            <a:ext cx="863280" cy="38894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7"/>
          <p:cNvSpPr/>
          <p:nvPr/>
        </p:nvSpPr>
        <p:spPr>
          <a:xfrm>
            <a:off x="5202000" y="123984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Y=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3997080" y="112536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Arial"/>
              </a:rPr>
              <a:t>Y=4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2558160" y="134136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8e4"/>
                </a:solidFill>
                <a:latin typeface="Arial"/>
              </a:rPr>
              <a:t>Y= -3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Comic Sans MS"/>
              </a:rPr>
              <a:t>Задание на дом: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90720" y="21337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ма: § 35; № 910, 914,916, 92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1316160"/>
            <a:ext cx="72122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 этап – размин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наете ли вы эти понятия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УН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ЭФИЦ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РАФ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РДИН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БЦ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РДИН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ЛАСТЬ ОПРЕДИЛЕНИЯ  ФУН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 этап – размин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наете ли вы эти понят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533520" y="2133720"/>
            <a:ext cx="8305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УН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К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ЭФ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Ф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Ц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РАФ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ДИН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Б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ЦИС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ДИН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ЛАСТЬ ОПРЕД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ЛЕНИЯ  ФУН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К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ЦИ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2. Зависимости заданы граф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акие из них являются фу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ция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 этап – разми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ыполните зад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1"/>
          <p:cNvGrpSpPr/>
          <p:nvPr/>
        </p:nvGrpSpPr>
        <p:grpSpPr>
          <a:xfrm>
            <a:off x="457200" y="2895120"/>
            <a:ext cx="2011320" cy="2133720"/>
            <a:chOff x="457200" y="2895120"/>
            <a:chExt cx="2011320" cy="2133720"/>
          </a:xfrm>
        </p:grpSpPr>
        <p:sp>
          <p:nvSpPr>
            <p:cNvPr id="226" name="AutoShape 5"/>
            <p:cNvSpPr/>
            <p:nvPr/>
          </p:nvSpPr>
          <p:spPr>
            <a:xfrm>
              <a:off x="457200" y="2895480"/>
              <a:ext cx="201132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4"/>
            <p:cNvSpPr/>
            <p:nvPr/>
          </p:nvSpPr>
          <p:spPr>
            <a:xfrm>
              <a:off x="838800" y="3468240"/>
              <a:ext cx="1005840" cy="1049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3"/>
            <p:cNvSpPr/>
            <p:nvPr/>
          </p:nvSpPr>
          <p:spPr>
            <a:xfrm>
              <a:off x="533520" y="4041360"/>
              <a:ext cx="178236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2"/>
            <p:cNvSpPr/>
            <p:nvPr/>
          </p:nvSpPr>
          <p:spPr>
            <a:xfrm flipV="1">
              <a:off x="1295280" y="2895120"/>
              <a:ext cx="53280" cy="213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Group 7"/>
          <p:cNvGrpSpPr/>
          <p:nvPr/>
        </p:nvGrpSpPr>
        <p:grpSpPr>
          <a:xfrm>
            <a:off x="2362320" y="2895480"/>
            <a:ext cx="2027160" cy="2057400"/>
            <a:chOff x="2362320" y="2895480"/>
            <a:chExt cx="2027160" cy="2057400"/>
          </a:xfrm>
        </p:grpSpPr>
        <p:sp>
          <p:nvSpPr>
            <p:cNvPr id="232" name="AutoShape 11"/>
            <p:cNvSpPr/>
            <p:nvPr/>
          </p:nvSpPr>
          <p:spPr>
            <a:xfrm>
              <a:off x="2362320" y="2895480"/>
              <a:ext cx="202716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0"/>
            <p:cNvSpPr/>
            <p:nvPr/>
          </p:nvSpPr>
          <p:spPr>
            <a:xfrm>
              <a:off x="2408040" y="4038120"/>
              <a:ext cx="178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9"/>
            <p:cNvSpPr/>
            <p:nvPr/>
          </p:nvSpPr>
          <p:spPr>
            <a:xfrm flipV="1">
              <a:off x="3246120" y="3009240"/>
              <a:ext cx="0" cy="19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8"/>
            <p:cNvSpPr/>
            <p:nvPr/>
          </p:nvSpPr>
          <p:spPr>
            <a:xfrm flipV="1">
              <a:off x="2560320" y="3009240"/>
              <a:ext cx="1249920" cy="1714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Group 13"/>
          <p:cNvGrpSpPr/>
          <p:nvPr/>
        </p:nvGrpSpPr>
        <p:grpSpPr>
          <a:xfrm>
            <a:off x="4267080" y="2590920"/>
            <a:ext cx="2575080" cy="2743200"/>
            <a:chOff x="4267080" y="2590920"/>
            <a:chExt cx="2575080" cy="2743200"/>
          </a:xfrm>
        </p:grpSpPr>
        <p:sp>
          <p:nvSpPr>
            <p:cNvPr id="238" name="AutoShape 17"/>
            <p:cNvSpPr/>
            <p:nvPr/>
          </p:nvSpPr>
          <p:spPr>
            <a:xfrm>
              <a:off x="4267080" y="2590920"/>
              <a:ext cx="257508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6"/>
            <p:cNvSpPr/>
            <p:nvPr/>
          </p:nvSpPr>
          <p:spPr>
            <a:xfrm flipH="1" flipV="1">
              <a:off x="5470560" y="2895480"/>
              <a:ext cx="45720" cy="220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>
              <a:off x="4343400" y="4076640"/>
              <a:ext cx="233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4"/>
            <p:cNvSpPr/>
            <p:nvPr/>
          </p:nvSpPr>
          <p:spPr>
            <a:xfrm>
              <a:off x="4952520" y="2972160"/>
              <a:ext cx="995040" cy="1828080"/>
            </a:xfrm>
            <a:custGeom>
              <a:avLst/>
              <a:gdLst>
                <a:gd name="textAreaLeft" fmla="*/ 0 w 995040"/>
                <a:gd name="textAreaRight" fmla="*/ 995400 w 995040"/>
                <a:gd name="textAreaTop" fmla="*/ 0 h 1828080"/>
                <a:gd name="textAreaBottom" fmla="*/ 1828440 h 1828080"/>
              </a:gdLst>
              <a:ahLst/>
              <a:rect l="textAreaLeft" t="textAreaTop" r="textAreaRight" b="textAreaBottom"/>
              <a:pathLst>
                <a:path w="1472" h="2700">
                  <a:moveTo>
                    <a:pt x="0" y="300"/>
                  </a:moveTo>
                  <a:cubicBezTo>
                    <a:pt x="36" y="585"/>
                    <a:pt x="72" y="870"/>
                    <a:pt x="144" y="1200"/>
                  </a:cubicBezTo>
                  <a:cubicBezTo>
                    <a:pt x="216" y="1530"/>
                    <a:pt x="344" y="2040"/>
                    <a:pt x="432" y="2280"/>
                  </a:cubicBezTo>
                  <a:cubicBezTo>
                    <a:pt x="520" y="2520"/>
                    <a:pt x="608" y="2580"/>
                    <a:pt x="672" y="2640"/>
                  </a:cubicBezTo>
                  <a:cubicBezTo>
                    <a:pt x="736" y="2700"/>
                    <a:pt x="756" y="2670"/>
                    <a:pt x="816" y="2640"/>
                  </a:cubicBezTo>
                  <a:cubicBezTo>
                    <a:pt x="876" y="2610"/>
                    <a:pt x="960" y="2610"/>
                    <a:pt x="1032" y="2460"/>
                  </a:cubicBezTo>
                  <a:cubicBezTo>
                    <a:pt x="1104" y="2310"/>
                    <a:pt x="1188" y="1980"/>
                    <a:pt x="1248" y="1740"/>
                  </a:cubicBezTo>
                  <a:cubicBezTo>
                    <a:pt x="1308" y="1500"/>
                    <a:pt x="1356" y="1290"/>
                    <a:pt x="1392" y="1020"/>
                  </a:cubicBezTo>
                  <a:cubicBezTo>
                    <a:pt x="1428" y="750"/>
                    <a:pt x="1456" y="240"/>
                    <a:pt x="1464" y="120"/>
                  </a:cubicBezTo>
                  <a:cubicBezTo>
                    <a:pt x="1472" y="0"/>
                    <a:pt x="1456" y="150"/>
                    <a:pt x="1440" y="3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19"/>
          <p:cNvGrpSpPr/>
          <p:nvPr/>
        </p:nvGrpSpPr>
        <p:grpSpPr>
          <a:xfrm>
            <a:off x="6705720" y="2590920"/>
            <a:ext cx="2666880" cy="2743200"/>
            <a:chOff x="6705720" y="2590920"/>
            <a:chExt cx="2666880" cy="2743200"/>
          </a:xfrm>
        </p:grpSpPr>
        <p:sp>
          <p:nvSpPr>
            <p:cNvPr id="244" name="AutoShape 24"/>
            <p:cNvSpPr/>
            <p:nvPr/>
          </p:nvSpPr>
          <p:spPr>
            <a:xfrm>
              <a:off x="6705720" y="2590920"/>
              <a:ext cx="266688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6827040" y="4077000"/>
              <a:ext cx="2316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22"/>
            <p:cNvSpPr/>
            <p:nvPr/>
          </p:nvSpPr>
          <p:spPr>
            <a:xfrm flipV="1">
              <a:off x="7817760" y="2704680"/>
              <a:ext cx="45720" cy="2400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 flipV="1">
              <a:off x="6933960" y="3391200"/>
              <a:ext cx="1661400" cy="125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20"/>
            <p:cNvSpPr/>
            <p:nvPr/>
          </p:nvSpPr>
          <p:spPr>
            <a:xfrm flipH="1">
              <a:off x="6995520" y="3391200"/>
              <a:ext cx="1599840" cy="113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37"/>
          <p:cNvSpPr/>
          <p:nvPr/>
        </p:nvSpPr>
        <p:spPr>
          <a:xfrm>
            <a:off x="7620120" y="5257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38"/>
          <p:cNvSpPr/>
          <p:nvPr/>
        </p:nvSpPr>
        <p:spPr>
          <a:xfrm>
            <a:off x="3124080" y="5257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9"/>
          <p:cNvSpPr/>
          <p:nvPr/>
        </p:nvSpPr>
        <p:spPr>
          <a:xfrm>
            <a:off x="5410080" y="5257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40"/>
          <p:cNvSpPr/>
          <p:nvPr/>
        </p:nvSpPr>
        <p:spPr>
          <a:xfrm>
            <a:off x="1066680" y="5257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41"/>
          <p:cNvSpPr/>
          <p:nvPr/>
        </p:nvSpPr>
        <p:spPr>
          <a:xfrm>
            <a:off x="1066680" y="2819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42"/>
          <p:cNvSpPr/>
          <p:nvPr/>
        </p:nvSpPr>
        <p:spPr>
          <a:xfrm>
            <a:off x="1981080" y="3657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43"/>
          <p:cNvSpPr/>
          <p:nvPr/>
        </p:nvSpPr>
        <p:spPr>
          <a:xfrm>
            <a:off x="5105520" y="373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44"/>
          <p:cNvSpPr/>
          <p:nvPr/>
        </p:nvSpPr>
        <p:spPr>
          <a:xfrm>
            <a:off x="2971800" y="2895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45"/>
          <p:cNvSpPr/>
          <p:nvPr/>
        </p:nvSpPr>
        <p:spPr>
          <a:xfrm>
            <a:off x="5105520" y="2819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46"/>
          <p:cNvSpPr/>
          <p:nvPr/>
        </p:nvSpPr>
        <p:spPr>
          <a:xfrm>
            <a:off x="75438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47"/>
          <p:cNvSpPr/>
          <p:nvPr/>
        </p:nvSpPr>
        <p:spPr>
          <a:xfrm>
            <a:off x="3809880" y="3657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48"/>
          <p:cNvSpPr/>
          <p:nvPr/>
        </p:nvSpPr>
        <p:spPr>
          <a:xfrm>
            <a:off x="6172200" y="373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49"/>
          <p:cNvSpPr/>
          <p:nvPr/>
        </p:nvSpPr>
        <p:spPr>
          <a:xfrm>
            <a:off x="8534520" y="373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50"/>
          <p:cNvSpPr/>
          <p:nvPr/>
        </p:nvSpPr>
        <p:spPr>
          <a:xfrm>
            <a:off x="320040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51"/>
          <p:cNvSpPr/>
          <p:nvPr/>
        </p:nvSpPr>
        <p:spPr>
          <a:xfrm>
            <a:off x="914400" y="373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777240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1"/>
          <p:cNvSpPr/>
          <p:nvPr/>
        </p:nvSpPr>
        <p:spPr>
          <a:xfrm>
            <a:off x="533520" y="1981080"/>
            <a:ext cx="815328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533520" y="1219320"/>
            <a:ext cx="8153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. Найдите область определения функ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457200" y="304920"/>
            <a:ext cx="822960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 этап – разминк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ыполните задани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8"/>
              <p:cNvSpPr txBox="1"/>
              <p:nvPr/>
            </p:nvSpPr>
            <p:spPr>
              <a:xfrm>
                <a:off x="533520" y="2514600"/>
                <a:ext cx="25365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2"/>
              <p:cNvSpPr txBox="1"/>
              <p:nvPr/>
            </p:nvSpPr>
            <p:spPr>
              <a:xfrm>
                <a:off x="533520" y="3276720"/>
                <a:ext cx="249696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3"/>
              <p:cNvSpPr txBox="1"/>
              <p:nvPr/>
            </p:nvSpPr>
            <p:spPr>
              <a:xfrm>
                <a:off x="533520" y="4724280"/>
                <a:ext cx="3886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4"/>
              <p:cNvSpPr txBox="1"/>
              <p:nvPr/>
            </p:nvSpPr>
            <p:spPr>
              <a:xfrm>
                <a:off x="4114800" y="2362320"/>
                <a:ext cx="40734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5"/>
              <p:cNvSpPr txBox="1"/>
              <p:nvPr/>
            </p:nvSpPr>
            <p:spPr>
              <a:xfrm>
                <a:off x="4267080" y="3962520"/>
                <a:ext cx="285444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0"/>
              <p:cNvSpPr txBox="1"/>
              <p:nvPr/>
            </p:nvSpPr>
            <p:spPr>
              <a:xfrm>
                <a:off x="7086600" y="4038480"/>
                <a:ext cx="134604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х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 этап – разминка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51920" y="30456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4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Придумайте функцию, областью определения которой явля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ножество всех чисел, кроме 2 и -2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5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Функция задана формулой </a:t>
            </a:r>
            <a:r>
              <a:rPr b="0" i="1" lang="en-US" sz="3200" spc="-1" strike="noStrike" u="sng">
                <a:solidFill>
                  <a:srgbClr val="ffccff"/>
                </a:solidFill>
                <a:uFillTx/>
                <a:latin typeface="Comic Sans MS"/>
              </a:rPr>
              <a:t>y = 2x + 1</a:t>
            </a:r>
            <a:r>
              <a:rPr b="0" i="1" lang="ru-RU" sz="3200" spc="-1" strike="noStrike" u="sng">
                <a:solidFill>
                  <a:srgbClr val="ffccff"/>
                </a:solidFill>
                <a:uFillTx/>
                <a:latin typeface="Comic Sans MS"/>
              </a:rPr>
              <a:t>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Найдит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)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начение функции, соответствующее значению аргумента, равному 1; 5; -15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б)  значение аргумента, которому соответствует значение функции, равное 1; -21; 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Comic Sans MS"/>
              </a:rPr>
              <a:t>2 этап -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математический диктант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440" y="19047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9" name="Прямоугольник 6" descr=""/>
          <p:cNvPicPr/>
          <p:nvPr/>
        </p:nvPicPr>
        <p:blipFill>
          <a:blip r:embed="rId1"/>
          <a:stretch/>
        </p:blipFill>
        <p:spPr>
          <a:xfrm>
            <a:off x="1000080" y="-426960"/>
            <a:ext cx="713736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1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</dc:creator>
  <dc:description/>
  <dc:language>en-US</dc:language>
  <cp:lastModifiedBy>R</cp:lastModifiedBy>
  <dcterms:modified xsi:type="dcterms:W3CDTF">2014-02-17T07:56:27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