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26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8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0.png" ContentType="image/png"/>
  <Override PartName="/ppt/media/image37.jpeg" ContentType="image/jpeg"/>
  <Override PartName="/ppt/media/image39.gif" ContentType="image/gif"/>
  <Override PartName="/ppt/media/image42.gif" ContentType="image/gif"/>
  <Override PartName="/ppt/media/image35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BCF-8128-4879-8214-AA3AAAE2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85B-0F5C-457E-A66A-D7CFBBA6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F4F-C4CE-4269-B3BB-2145298A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D65-9079-425A-BE40-D44ECC9C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7EE-9526-4115-BD07-491DEFCC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337-D63B-40B6-BAB8-D74EB4F7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783-71C0-4696-83D6-2F354D29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1CF-98D0-4A08-B466-7A5C5FCA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E53-78F1-43E9-BA55-450B7B22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408-80E4-41C9-96B6-C1739ABF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F9F-9247-400D-B0CD-0DC78085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675-AC90-48FB-8410-4FA0EA5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40E7-120A-45C4-AA16-5870FAF59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hyperlink" Target="http://www.in-media.ru/picsr/371_1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26640" y="765000"/>
            <a:ext cx="68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Курить или жи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1R1"/>
          <p:cNvPicPr/>
          <p:nvPr/>
        </p:nvPicPr>
        <p:blipFill>
          <a:blip r:embed="rId1"/>
          <a:stretch/>
        </p:blipFill>
        <p:spPr>
          <a:xfrm>
            <a:off x="395280" y="3716280"/>
            <a:ext cx="4608360" cy="27669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1427040" y="1700280"/>
            <a:ext cx="771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«Табак приносит вред телу, разрушает разу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упляет целые н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норе де Бальз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2" descr="&quot;Петр первый&quot; Копия в авторской переработке. Автор, художник Петербурга  Константинов Константин Константинович. Те кто заказывал эту картину, звонили четыре раза выражая свою благодарность, говоря так &quot;Ах какие цвета, ах как написаны руки, сам Петр первый был бы рад такому портрету&quot;. За что мы признательны им не меньше."/>
          <p:cNvPicPr/>
          <p:nvPr/>
        </p:nvPicPr>
        <p:blipFill>
          <a:blip r:embed="rId1"/>
          <a:stretch/>
        </p:blipFill>
        <p:spPr>
          <a:xfrm>
            <a:off x="395280" y="907920"/>
            <a:ext cx="3772080" cy="4762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284720" y="8366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торговля табаком и курение были разрешены в 1697 году в царствование Петра I, который сам стал заядлым курильщиком после посещения Голланд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того, он всячески склонял к курению своих приближенных и разрешил свободный ввоз табака из-за границы, наложив, правда, на него высокую пош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1128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Narrow"/>
              </a:rPr>
              <a:t>Горящая сигаре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95280" y="1916280"/>
            <a:ext cx="83170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то химическая фабрика, продуцирующая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00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соединений, в их числе более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анцерогенов и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12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каканцерог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АНЦЕРОГЕН - ракообразовывающ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ОКАКАНЦЕРОГЕН – вещество, усиливающее воз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804000" y="3141720"/>
            <a:ext cx="20098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684360" y="0"/>
            <a:ext cx="7715160" cy="6369120"/>
            <a:chOff x="684360" y="0"/>
            <a:chExt cx="7715160" cy="6369120"/>
          </a:xfrm>
        </p:grpSpPr>
        <p:sp>
          <p:nvSpPr>
            <p:cNvPr id="77" name="Rectangle 2"/>
            <p:cNvSpPr/>
            <p:nvPr/>
          </p:nvSpPr>
          <p:spPr>
            <a:xfrm>
              <a:off x="684360" y="0"/>
              <a:ext cx="7619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93300"/>
                  </a:solidFill>
                  <a:latin typeface="Arial Narrow"/>
                </a:rPr>
                <a:t>Что содержится в сигарете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"/>
            <p:cNvSpPr/>
            <p:nvPr/>
          </p:nvSpPr>
          <p:spPr>
            <a:xfrm>
              <a:off x="703440" y="1263600"/>
              <a:ext cx="769608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В дыме </a:t>
              </a: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одной сигареты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 содержитс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9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6 мг никотина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1,6 мг аммиака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25 мг угарного газа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0,03 мг синильной кислоты,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0,5 мг пиридина, формальдегид,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 Narrow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700" spc="-1" strike="noStrike">
                  <a:solidFill>
                    <a:srgbClr val="000000"/>
                  </a:solidFill>
                  <a:latin typeface="Arial Narrow"/>
                </a:rPr>
                <a:t>радиактивные вещества: полоний, свинец, висмут, смолы и деготь и др.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Значительная часть уходит в окружающую среду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Дым сигарет вреден окружающим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Каждая сигарета отнимает </a:t>
              </a: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от 5 до 15 минут жизн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20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 ежедневно выкуриваемых сигарет сокращает жизнь на </a:t>
              </a:r>
              <a:r>
                <a:rPr b="1" i="1" lang="ru-RU" sz="2800" spc="-1" strike="noStrike">
                  <a:solidFill>
                    <a:srgbClr val="993300"/>
                  </a:solidFill>
                  <a:latin typeface="Arial Narrow"/>
                </a:rPr>
                <a:t>8-12 лет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8004240" cy="1133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19040" y="1611360"/>
            <a:ext cx="83041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0424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7451640" y="181080"/>
            <a:ext cx="88416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79441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539640" y="836640"/>
            <a:ext cx="8001000" cy="5025960"/>
            <a:chOff x="539640" y="836640"/>
            <a:chExt cx="8001000" cy="5025960"/>
          </a:xfrm>
        </p:grpSpPr>
        <p:sp>
          <p:nvSpPr>
            <p:cNvPr id="85" name="Rectangle 3"/>
            <p:cNvSpPr/>
            <p:nvPr/>
          </p:nvSpPr>
          <p:spPr>
            <a:xfrm>
              <a:off x="539640" y="1671840"/>
              <a:ext cx="8001000" cy="41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Никотин в первой короткой фазе расширяет сосуды мозга (создает обманчивое впечатление улучшения умственной деятельности), затем резко сужают их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Отравляет клетки мозга (нервными, рассеянными, ленивыми, грубыми и недисциплинированным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Arial Narrow"/>
                </a:rPr>
                <a:t>Развиваются нервные заболевания – невралгии, невриты, плекситы (заболевания нервных узлов – сплетений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"/>
            <p:cNvSpPr/>
            <p:nvPr/>
          </p:nvSpPr>
          <p:spPr>
            <a:xfrm>
              <a:off x="1096920" y="836640"/>
              <a:ext cx="69944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993300"/>
                  </a:solidFill>
                  <a:latin typeface="Arial Narrow"/>
                </a:rPr>
                <a:t>Нервная систем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5"/>
          <p:cNvSpPr/>
          <p:nvPr/>
        </p:nvSpPr>
        <p:spPr>
          <a:xfrm>
            <a:off x="900000" y="260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3300"/>
                </a:solidFill>
                <a:latin typeface="Arial Narrow"/>
              </a:rPr>
              <a:t>ВЛИЯНИЕ НИКОТИНА НА ЧЕЛОВЕ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M00350_"/>
          <p:cNvPicPr/>
          <p:nvPr/>
        </p:nvPicPr>
        <p:blipFill>
          <a:blip r:embed="rId1"/>
          <a:stretch/>
        </p:blipFill>
        <p:spPr>
          <a:xfrm>
            <a:off x="3564000" y="5734080"/>
            <a:ext cx="1295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736560" y="711360"/>
            <a:ext cx="7669080" cy="5438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4356000" y="4941720"/>
            <a:ext cx="121932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95280" y="369720"/>
            <a:ext cx="8352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ОПОРНО-ДВИГАТЕЛЬ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14400" y="1011240"/>
            <a:ext cx="777240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Ухудшение кровоснабжения из–за спазма кровеносных  сосудов приводит к снижению работоспособности мышц (может привести к самопроизвольной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гангрене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нечнос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Эндартериит 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- перемежающая хромота, часто требующая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ампутации но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Никотин действует как яд курара, парализующий мышечную систему (страдает каждый 7 курильщик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PE01080_"/>
          <p:cNvPicPr/>
          <p:nvPr/>
        </p:nvPicPr>
        <p:blipFill>
          <a:blip r:embed="rId1"/>
          <a:stretch/>
        </p:blipFill>
        <p:spPr>
          <a:xfrm>
            <a:off x="3809880" y="5446800"/>
            <a:ext cx="1284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2195640" y="333360"/>
            <a:ext cx="388764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татис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47640" y="1916280"/>
          <a:ext cx="6554880" cy="4502160"/>
        </p:xfrm>
        <a:graphic>
          <a:graphicData uri="http://schemas.openxmlformats.org/drawingml/2006/table">
            <a:tbl>
              <a:tblPr/>
              <a:tblGrid>
                <a:gridCol w="1630440"/>
                <a:gridCol w="1930320"/>
                <a:gridCol w="2994120"/>
              </a:tblGrid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курильщ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курильщ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19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уш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– 30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уш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ло 7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3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762120" y="457200"/>
            <a:ext cx="8076960" cy="6019920"/>
          </a:xfrm>
          <a:prstGeom prst="verticalScroll">
            <a:avLst>
              <a:gd name="adj" fmla="val 70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Курильщик впускает в свои уста вра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который похищает моз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(английская народная поговор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От курения тупеешь, оно несовместимо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творческой работ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И.Г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«Табак … неизбежно ослабляет энерг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Оноре де Бальз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57200" y="765000"/>
          <a:ext cx="8229600" cy="5919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077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69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лет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69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лет и стар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ух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 легк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ечно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удис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238"/>
          <p:cNvSpPr/>
          <p:nvPr/>
        </p:nvSpPr>
        <p:spPr>
          <a:xfrm>
            <a:off x="517320" y="-31320"/>
            <a:ext cx="77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смертных случаев, связанных с курени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сновным причинам 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69880" y="504720"/>
            <a:ext cx="8004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69880" y="290520"/>
            <a:ext cx="800424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92040" y="465120"/>
            <a:ext cx="83581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50920" y="1981080"/>
            <a:ext cx="3816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мый больш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ед кур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носит дет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нутриутроб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звит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250920" y="189000"/>
            <a:ext cx="85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и - заложники никот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i-main-pic" descr="Картинка 4 из 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676520"/>
            <a:ext cx="3932280" cy="48956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4572000" y="57862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http://www.generation.uz/userfiles/1(9).jpg"/>
          <p:cNvPicPr/>
          <p:nvPr/>
        </p:nvPicPr>
        <p:blipFill>
          <a:blip r:embed="rId1"/>
          <a:stretch/>
        </p:blipFill>
        <p:spPr>
          <a:xfrm>
            <a:off x="324000" y="549360"/>
            <a:ext cx="4429080" cy="4390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4932360" y="549360"/>
            <a:ext cx="3754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Большинств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детей, рожденны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курильщицами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появляют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на све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с низким весом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часто болеют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развивают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медленнее, чем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их сверстники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чаще умираю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в детстве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50720" y="388800"/>
            <a:ext cx="824256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971640" y="260280"/>
            <a:ext cx="705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ahoma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ahoma"/>
              </a:rPr>
              <a:t>Расщелина 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pic>
        <p:nvPicPr>
          <p:cNvPr id="111" name="Picture 7" descr="http://im8-tub.yandex.net/i?id=39711072&amp;tov=8"/>
          <p:cNvPicPr/>
          <p:nvPr/>
        </p:nvPicPr>
        <p:blipFill>
          <a:blip r:embed="rId1"/>
          <a:stretch/>
        </p:blipFill>
        <p:spPr>
          <a:xfrm>
            <a:off x="2214720" y="1643040"/>
            <a:ext cx="4714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3"/>
          <p:cNvSpPr txBox="1"/>
          <p:nvPr/>
        </p:nvSpPr>
        <p:spPr>
          <a:xfrm>
            <a:off x="1042920" y="260280"/>
            <a:ext cx="6913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Волчья паст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3" name="Picture 4" descr="волчья пасть"/>
          <p:cNvPicPr/>
          <p:nvPr/>
        </p:nvPicPr>
        <p:blipFill>
          <a:blip r:embed="rId1"/>
          <a:stretch/>
        </p:blipFill>
        <p:spPr>
          <a:xfrm>
            <a:off x="2071800" y="1714680"/>
            <a:ext cx="4752720" cy="48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3"/>
          <p:cNvSpPr txBox="1"/>
          <p:nvPr/>
        </p:nvSpPr>
        <p:spPr>
          <a:xfrm>
            <a:off x="1116000" y="189000"/>
            <a:ext cx="669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Заячья губ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5" name="Picture 4" descr="заячья губа"/>
          <p:cNvPicPr/>
          <p:nvPr/>
        </p:nvPicPr>
        <p:blipFill>
          <a:blip r:embed="rId1"/>
          <a:stretch/>
        </p:blipFill>
        <p:spPr>
          <a:xfrm>
            <a:off x="2143080" y="1571760"/>
            <a:ext cx="4896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World_fiz1"/>
          <p:cNvPicPr/>
          <p:nvPr/>
        </p:nvPicPr>
        <p:blipFill>
          <a:blip r:embed="rId1"/>
          <a:stretch/>
        </p:blipFill>
        <p:spPr>
          <a:xfrm>
            <a:off x="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Oval 5"/>
          <p:cNvSpPr/>
          <p:nvPr/>
        </p:nvSpPr>
        <p:spPr>
          <a:xfrm>
            <a:off x="1523880" y="685800"/>
            <a:ext cx="1676520" cy="1523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1219320" y="2438280"/>
            <a:ext cx="678168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на таб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Oval 6"/>
          <p:cNvSpPr/>
          <p:nvPr/>
        </p:nvSpPr>
        <p:spPr>
          <a:xfrm>
            <a:off x="2286000" y="3048120"/>
            <a:ext cx="1676520" cy="1523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492360" y="260280"/>
            <a:ext cx="4753080" cy="2081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ои   аргументы   против  кур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0" y="1628640"/>
            <a:ext cx="60120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урение  приводит    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еизлечимым болезн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Курение  разрушает  орган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. Курение снижает физическую акти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4. Курение  портит  цвет  ко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5.Никотин   забирает  своб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6. Человек    становится  его  ра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468360" y="260280"/>
            <a:ext cx="2879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мя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9" descr="11R2"/>
          <p:cNvPicPr/>
          <p:nvPr/>
        </p:nvPicPr>
        <p:blipFill>
          <a:blip r:embed="rId3"/>
          <a:stretch/>
        </p:blipFill>
        <p:spPr>
          <a:xfrm>
            <a:off x="5364000" y="1700280"/>
            <a:ext cx="3456000" cy="4465440"/>
          </a:xfrm>
          <a:prstGeom prst="rect">
            <a:avLst/>
          </a:prstGeom>
          <a:ln w="0">
            <a:noFill/>
          </a:ln>
        </p:spPr>
      </p:pic>
      <p:sp>
        <p:nvSpPr>
          <p:cNvPr id="120" name="Line 10"/>
          <p:cNvSpPr/>
          <p:nvPr/>
        </p:nvSpPr>
        <p:spPr>
          <a:xfrm>
            <a:off x="5364000" y="1700280"/>
            <a:ext cx="3456000" cy="44654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 flipV="1">
            <a:off x="5364000" y="1700280"/>
            <a:ext cx="3456000" cy="44654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609480" y="1127160"/>
            <a:ext cx="7925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pokurim6"/>
          <p:cNvPicPr/>
          <p:nvPr/>
        </p:nvPicPr>
        <p:blipFill>
          <a:blip r:embed="rId1"/>
          <a:stretch/>
        </p:blipFill>
        <p:spPr>
          <a:xfrm>
            <a:off x="0" y="-298440"/>
            <a:ext cx="9325080" cy="7156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79280" y="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Хочешь жить –   бросай кури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J0189242"/>
          <p:cNvPicPr/>
          <p:nvPr/>
        </p:nvPicPr>
        <p:blipFill>
          <a:blip r:embed="rId2"/>
          <a:stretch/>
        </p:blipFill>
        <p:spPr>
          <a:xfrm>
            <a:off x="4643280" y="2349360"/>
            <a:ext cx="2919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5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24000" y="212616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4360" y="18900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24000" y="981000"/>
            <a:ext cx="8569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 октября 1492 года Х.Колумбом была открыта неведомая доселе земля, которой он дал название Сан-Сальвадор. В числе подарков местные жители поднесли Колумбу сушёные листья растения «петум»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и курили эти подсушенные на солнце листья, свернутые в трубочки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ие матросы и сам адмирал втянулись в это за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j0182437"/>
          <p:cNvPicPr/>
          <p:nvPr/>
        </p:nvPicPr>
        <p:blipFill>
          <a:blip r:embed="rId1"/>
          <a:stretch/>
        </p:blipFill>
        <p:spPr>
          <a:xfrm>
            <a:off x="2994120" y="4149720"/>
            <a:ext cx="6149880" cy="2462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mage494"/>
          <p:cNvPicPr/>
          <p:nvPr/>
        </p:nvPicPr>
        <p:blipFill>
          <a:blip r:embed="rId2"/>
          <a:stretch/>
        </p:blipFill>
        <p:spPr>
          <a:xfrm>
            <a:off x="250920" y="3860640"/>
            <a:ext cx="2270160" cy="2737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611280" y="189000"/>
            <a:ext cx="792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Подарок" Христофора Колум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Прямоугольник 10"/>
          <p:cNvSpPr/>
          <p:nvPr/>
        </p:nvSpPr>
        <p:spPr>
          <a:xfrm flipV="1" rot="10800000">
            <a:off x="0" y="6142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68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18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50px-Colombo"/>
          <p:cNvPicPr/>
          <p:nvPr/>
        </p:nvPicPr>
        <p:blipFill>
          <a:blip r:embed="rId1"/>
          <a:stretch/>
        </p:blipFill>
        <p:spPr>
          <a:xfrm>
            <a:off x="395280" y="692280"/>
            <a:ext cx="2878200" cy="353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91025"/>
          <p:cNvPicPr/>
          <p:nvPr/>
        </p:nvPicPr>
        <p:blipFill>
          <a:blip r:embed="rId2"/>
          <a:stretch/>
        </p:blipFill>
        <p:spPr>
          <a:xfrm>
            <a:off x="3924360" y="765000"/>
            <a:ext cx="4753080" cy="3238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6480" y="4292640"/>
            <a:ext cx="36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истофор Колу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648680" y="40766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еплав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KARTA-1"/>
          <p:cNvPicPr/>
          <p:nvPr/>
        </p:nvPicPr>
        <p:blipFill>
          <a:blip r:embed="rId1"/>
          <a:stretch/>
        </p:blipFill>
        <p:spPr>
          <a:xfrm>
            <a:off x="533520" y="3276720"/>
            <a:ext cx="4114800" cy="308592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62" name="WordArt 5"/>
          <p:cNvSpPr txBox="1"/>
          <p:nvPr/>
        </p:nvSpPr>
        <p:spPr>
          <a:xfrm rot="20754600">
            <a:off x="837720" y="1219320"/>
            <a:ext cx="3733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к спустя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932360" y="476280"/>
            <a:ext cx="421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открытия Америки табак уже выращивали в Бельгии, Испании, Италии, Швейцарии и Англии. Благодаря расширению торговых связей, табак проник в Сибирь и другие регионы 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000" y="0"/>
            <a:ext cx="914652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строму распространению таб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ствовало, конечно, удивительное  е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о — привычная тяга к курению, с кото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очень трудно совладать челове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перь-то мы знаем о наркотических качеств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тина, но в те далекие вре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аку приписывали необыкновенные 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mokingclub2"/>
          <p:cNvPicPr/>
          <p:nvPr/>
        </p:nvPicPr>
        <p:blipFill>
          <a:blip r:embed="rId1"/>
          <a:stretch/>
        </p:blipFill>
        <p:spPr>
          <a:xfrm>
            <a:off x="1979640" y="3141720"/>
            <a:ext cx="464328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24000" y="1202760"/>
            <a:ext cx="5256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оссии царь Михаил Фёдорович издал свод законов, в которых говорилось, что курильщиков табака следует наказывать шестьюдесятью палочными ударами по подошвам ног. А торговцам табака «пороть ноздри», резать носы и ссылать в дальние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i(3)"/>
          <p:cNvPicPr/>
          <p:nvPr/>
        </p:nvPicPr>
        <p:blipFill>
          <a:blip r:embed="rId1"/>
          <a:stretch/>
        </p:blipFill>
        <p:spPr>
          <a:xfrm>
            <a:off x="5724360" y="1125360"/>
            <a:ext cx="3148200" cy="410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nakazanie_plet__mi"/>
          <p:cNvPicPr/>
          <p:nvPr/>
        </p:nvPicPr>
        <p:blipFill>
          <a:blip r:embed="rId2"/>
          <a:stretch/>
        </p:blipFill>
        <p:spPr>
          <a:xfrm>
            <a:off x="324000" y="476280"/>
            <a:ext cx="853272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4608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остранению табака в Старом Свете способствовали и уважаемые государственные деятели: в 1561 году посол Франции в Лиссабоне Жан Нико послал табак своей королеве, Екатерине Медичи, и порекомендовал его как прекрасное средство от мигрен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Даже такому теплолюбивому растению, как табак, после введения гена десатуразы холода будут не страшны (фото с сайта www.regals.net)"/>
          <p:cNvPicPr/>
          <p:nvPr/>
        </p:nvPicPr>
        <p:blipFill>
          <a:blip r:embed="rId1"/>
          <a:stretch/>
        </p:blipFill>
        <p:spPr>
          <a:xfrm>
            <a:off x="5203800" y="222120"/>
            <a:ext cx="33717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5:56:56Z</dcterms:created>
  <dc:creator>2331</dc:creator>
  <dc:description/>
  <dc:language>en-US</dc:language>
  <cp:lastModifiedBy>trenerskaya</cp:lastModifiedBy>
  <dcterms:modified xsi:type="dcterms:W3CDTF">2011-11-15T03:40:31Z</dcterms:modified>
  <cp:revision>27</cp:revision>
  <dc:subject/>
  <dc:title>Слайд 1</dc:title>
</cp:coreProperties>
</file>