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30.jpeg" ContentType="image/jpeg"/>
  <Override PartName="/ppt/media/image47.gif" ContentType="image/gif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44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6.png" ContentType="image/png"/>
  <Override PartName="/ppt/media/image19.jpeg" ContentType="image/jpeg"/>
  <Override PartName="/ppt/media/image43.jpeg" ContentType="image/jpeg"/>
  <Override PartName="/ppt/media/image45.gif" ContentType="image/gif"/>
  <Override PartName="/ppt/media/image8.jpeg" ContentType="image/jpeg"/>
  <Override PartName="/ppt/media/image39.jpeg" ContentType="image/jpeg"/>
  <Override PartName="/ppt/media/image11.png" ContentType="image/png"/>
  <Override PartName="/ppt/media/image9.jpeg" ContentType="image/jpeg"/>
  <Override PartName="/ppt/media/image6.png" ContentType="image/pn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422-1D9A-40FA-A8D9-6FD6ADEF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E09-5BAC-4CBB-826A-31A9F1C7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F8D-22B8-4E94-B66E-C6D904D6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6564-B11C-4385-BA4D-176E9079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FF77-B2F3-4D9D-8D44-CC6DE4A2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0B04-1F39-4FE1-8AEC-D3FB94B4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4A3C-FD47-4736-8707-12C2D19B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E650-C331-45AD-90FB-0238003E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433C-C21D-45FD-A0D7-66367D4F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58B2-C6DB-43A9-BFD0-4573556F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A484-558D-408E-920B-5EA0F2B9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9B8-9B13-459E-B733-AD2C2465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EC4C-A8D7-422F-BA82-AB64BF2D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D74C-BD15-4BBA-8AFC-976E3EDD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0009-0BEE-437B-AD44-D74D99ED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D5BE-F1C0-43AF-83EC-6A330678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EB9C-AF4C-4D11-9985-04280466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698A8-2F05-4BFE-990A-1CB6800E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5AF98-8BD9-46EC-A4E8-E6DE5A06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FE67F-D9AE-4ABD-965A-FDCF6E1B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18FF9-1559-4AA3-9981-3BFCD615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C332-C951-4B3E-A2FB-0432D19C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B583-34A0-4177-94C7-C4855E32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9BEC2-983E-4BD4-928D-A1DAEB85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EA7F7-D850-433E-BF6D-9BE359A2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2DCB2-1C81-48A9-B557-FCE80208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6A16B-C17D-4F5E-9016-EEE45C23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35502-8D62-4020-9028-5A640F19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16D31-2F0F-40BF-886F-AD9C3A5D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A8DD2-A0A3-4585-AAF9-6423574B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18915-C837-4757-9D7A-0551A44F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86AE7-7EEA-4BE8-AA51-FCEF9EAF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A1D27-52A0-412F-8606-78B6707B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99C-3F11-4F4B-AB93-89D45425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4751A-A5B1-413A-9B09-5B82538C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B73E4-6A2C-4670-88C1-016CC2B3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4A11F-CBCD-4D49-94A9-28D0D609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96527-32AA-4452-975F-A0550B8F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6E313-505C-4EBE-BA89-5BB33E42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C039A-21B8-4225-AE10-D185DA52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B222B-D221-4041-B8A9-BDA80BFA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E1B19-620C-4A31-B38F-5112D9B1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BB9A6-AFFF-4765-908E-2C913CD1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257A6-D357-40F3-BBBE-7E7BDC6C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B2FC-C563-40E4-9D80-AF7114B4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FD5EA-CEB5-44C1-AA7A-27A26009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EC2F5-7905-42D4-8E09-3CB56D27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CE167-CA09-41CC-BECF-75839485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2D21E-6E0A-4DE5-80C3-CB1DEB7A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A6357-AB6B-4345-8045-95E0CE18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79CE7-A941-4FCA-9C96-AA09421C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7D04A-3CB7-49B0-A33C-88D6032D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3DF9D-2F01-46AB-B427-02B9F96A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25F38-EEB9-49FE-B64A-B3134C71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E5D3E-6CAB-459D-B8CC-07548D57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CFB0-8F8D-4DE5-9432-143C32DD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132CB-FAA7-4055-AE63-5B2D620C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A9571-18D4-4B2E-9EFB-DB724571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E0CB9-8CD3-4293-A333-C797266A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6D952-BB86-4CD6-91AD-F7F28229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08B1B-48BD-47AA-B2AC-CE52BDF3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EE1B6-B8B3-48CE-988C-A3944F84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6CFB1-D198-42F6-A8C3-C955FCDD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C2078-9D7C-4793-A23E-F07BCBB4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34BE6-4213-49E9-A9D8-4BD877E4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CBFCD-7F4B-4761-903B-0B3967A6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09E-B479-4B61-908E-DF7A2838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947FC-D129-4452-8CAB-E9F98B89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B13E7-A287-4CAF-A59F-5124FAEC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6A487-DD73-48F0-9881-61F2A447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8CD-935C-483D-B80C-14FEC370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25D5-CFA9-4821-B14A-BCAC3DE3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0193-3413-45DC-AF14-75AD7218FB0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596C-95D7-4FBC-B256-598CCE18470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C35D-4C5A-45E2-901F-14646AD1993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C580-2354-49AF-BB58-7F2E541C18C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C9E4-B99A-4CEA-8D11-33D279D3993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3655-CA2E-4C02-AF79-29B41CE84BB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7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72240" y="4929120"/>
            <a:ext cx="5815080" cy="1656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: Залялова Аи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ца 11А класса МОУ «СОШ №8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ь: Москвина Светлана Олег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обществознания и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Заголовок 5" descr=""/>
          <p:cNvPicPr/>
          <p:nvPr/>
        </p:nvPicPr>
        <p:blipFill>
          <a:blip r:embed="rId1"/>
          <a:stretch/>
        </p:blipFill>
        <p:spPr>
          <a:xfrm>
            <a:off x="706320" y="317520"/>
            <a:ext cx="7583760" cy="2779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H:\Алкоголизм\872125040.jpg"/>
          <p:cNvPicPr/>
          <p:nvPr/>
        </p:nvPicPr>
        <p:blipFill>
          <a:blip r:embed="rId2"/>
          <a:stretch/>
        </p:blipFill>
        <p:spPr>
          <a:xfrm>
            <a:off x="0" y="3643200"/>
            <a:ext cx="3059280" cy="2040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H:\Алкоголизм\g47611.jpg"/>
          <p:cNvPicPr/>
          <p:nvPr/>
        </p:nvPicPr>
        <p:blipFill>
          <a:blip r:embed="rId3"/>
          <a:stretch/>
        </p:blipFill>
        <p:spPr>
          <a:xfrm>
            <a:off x="1928880" y="5262480"/>
            <a:ext cx="221940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циальные последствия алкоголизма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е круга общ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о отвергает алкоголиков и избегает и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интересно и не нужно обществ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ляц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социальных навык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друзей , довер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ушение отношений в семь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работы , учёб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ружающий мир воспринимается враждебн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358120" cy="1785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следствия на подсознательном уровне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28800" y="4929120"/>
            <a:ext cx="292896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36000"/>
          </a:bodyPr>
          <a:p>
            <a:pPr marL="123480" indent="-1234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разруш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3480" indent="-1234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сли и попытки суици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3480" indent="-1234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интереса к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3480" indent="-1234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гоцентриз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3480" indent="-1234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нев на Бо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3480" indent="-1234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нравственных ценнос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3480" indent="-1234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уничто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Объект 4" descr=""/>
          <p:cNvPicPr/>
          <p:nvPr/>
        </p:nvPicPr>
        <p:blipFill>
          <a:blip r:embed="rId1"/>
          <a:stretch/>
        </p:blipFill>
        <p:spPr>
          <a:xfrm>
            <a:off x="5334120" y="250020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5"/>
          <p:cNvSpPr/>
          <p:nvPr/>
        </p:nvSpPr>
        <p:spPr>
          <a:xfrm>
            <a:off x="0" y="428760"/>
            <a:ext cx="89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Употребление пива увеличивает риск развития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РАКА ГРУДИ</a:t>
            </a: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3" name="Picture 4" descr="рак гр"/>
          <p:cNvPicPr/>
          <p:nvPr/>
        </p:nvPicPr>
        <p:blipFill>
          <a:blip r:embed="rId1"/>
          <a:stretch/>
        </p:blipFill>
        <p:spPr>
          <a:xfrm>
            <a:off x="843120" y="2428920"/>
            <a:ext cx="3535200" cy="4124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так гр"/>
          <p:cNvPicPr/>
          <p:nvPr/>
        </p:nvPicPr>
        <p:blipFill>
          <a:blip r:embed="rId2"/>
          <a:stretch/>
        </p:blipFill>
        <p:spPr>
          <a:xfrm>
            <a:off x="4500720" y="2428920"/>
            <a:ext cx="32144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351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лазные болезни, спровоцированные </a:t>
            </a:r>
            <a:r>
              <a:rPr b="1" lang="ru-RU" sz="36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употреблением</a:t>
            </a: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пива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к развития катаракты и макулопатии увеличивается в 1.5-3 раза</a:t>
            </a:r>
            <a:br>
              <a:rPr sz="4800"/>
            </a:br>
            <a:br>
              <a:rPr sz="4800"/>
            </a:b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6" name="Picture 4" descr="4-15"/>
          <p:cNvPicPr/>
          <p:nvPr/>
        </p:nvPicPr>
        <p:blipFill>
          <a:blip r:embed="rId1"/>
          <a:stretch/>
        </p:blipFill>
        <p:spPr>
          <a:xfrm>
            <a:off x="4676760" y="2755800"/>
            <a:ext cx="3110040" cy="3870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katarakta"/>
          <p:cNvPicPr/>
          <p:nvPr/>
        </p:nvPicPr>
        <p:blipFill>
          <a:blip r:embed="rId2"/>
          <a:stretch/>
        </p:blipFill>
        <p:spPr>
          <a:xfrm>
            <a:off x="457200" y="2666880"/>
            <a:ext cx="3333600" cy="28558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6"/>
          <p:cNvSpPr/>
          <p:nvPr/>
        </p:nvSpPr>
        <p:spPr>
          <a:xfrm>
            <a:off x="4357800" y="5857920"/>
            <a:ext cx="4190760" cy="794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куло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офия желтого пятна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838080" y="5791320"/>
            <a:ext cx="2590920" cy="457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аракта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Алкоголизм\814_1.jpg"/>
          <p:cNvPicPr/>
          <p:nvPr/>
        </p:nvPicPr>
        <p:blipFill>
          <a:blip r:embed="rId1"/>
          <a:stretch/>
        </p:blipFill>
        <p:spPr>
          <a:xfrm>
            <a:off x="428760" y="142920"/>
            <a:ext cx="81439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only beer"/>
          <p:cNvPicPr/>
          <p:nvPr/>
        </p:nvPicPr>
        <p:blipFill>
          <a:blip r:embed="rId1"/>
          <a:stretch/>
        </p:blipFill>
        <p:spPr>
          <a:xfrm>
            <a:off x="0" y="1041480"/>
            <a:ext cx="9144000" cy="25239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154440" y="4572000"/>
            <a:ext cx="877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ПИВО — </a:t>
            </a:r>
            <a:r>
              <a:rPr b="1" lang="ru-RU" sz="4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наркотик для начинающих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5"/>
          <p:cNvSpPr/>
          <p:nvPr/>
        </p:nvSpPr>
        <p:spPr>
          <a:xfrm>
            <a:off x="5181480" y="533520"/>
            <a:ext cx="3581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ый санитарный врач РФ Геннадий Онищенко:</a:t>
            </a:r>
            <a:br>
              <a:rPr sz="31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5105520" y="3505320"/>
            <a:ext cx="374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СПИД, не туберкулез погубят Россию, а </a:t>
            </a: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ивной алкоголизм среди юного поколения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15" name="Picture 4" descr="KSP_006541_00074_1m"/>
          <p:cNvPicPr/>
          <p:nvPr/>
        </p:nvPicPr>
        <p:blipFill>
          <a:blip r:embed="rId1"/>
          <a:stretch/>
        </p:blipFill>
        <p:spPr>
          <a:xfrm>
            <a:off x="228600" y="228600"/>
            <a:ext cx="43257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1285560"/>
            <a:ext cx="60721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Подростковый возраст-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ершающий этап развития человека. Бывает трудно в одиночку справиться с подростковым алкоголизмом, в рамках семьи решать такие задачи. Те кто столкнулся с этой бедой, не должны бояться попросить помощи у специалис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Рисунок 5" descr="Картинка 18 из 60"/>
          <p:cNvPicPr/>
          <p:nvPr/>
        </p:nvPicPr>
        <p:blipFill>
          <a:blip r:embed="rId1"/>
          <a:stretch/>
        </p:blipFill>
        <p:spPr>
          <a:xfrm rot="435600">
            <a:off x="6036840" y="1464840"/>
            <a:ext cx="2981520" cy="218304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5" descr="Картинка 6 из 60"/>
          <p:cNvPicPr/>
          <p:nvPr/>
        </p:nvPicPr>
        <p:blipFill>
          <a:blip r:embed="rId2"/>
          <a:stretch/>
        </p:blipFill>
        <p:spPr>
          <a:xfrm rot="20292000">
            <a:off x="5785920" y="4428720"/>
            <a:ext cx="2511720" cy="1838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H:\Алкоголизм\resize.jpeg"/>
          <p:cNvPicPr/>
          <p:nvPr/>
        </p:nvPicPr>
        <p:blipFill>
          <a:blip r:embed="rId3"/>
          <a:stretch/>
        </p:blipFill>
        <p:spPr>
          <a:xfrm>
            <a:off x="1643040" y="4357800"/>
            <a:ext cx="27860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5" descr="Картинка 3 из 60"/>
          <p:cNvPicPr/>
          <p:nvPr/>
        </p:nvPicPr>
        <p:blipFill>
          <a:blip r:embed="rId1"/>
          <a:stretch/>
        </p:blipFill>
        <p:spPr>
          <a:xfrm rot="20776200">
            <a:off x="259920" y="380880"/>
            <a:ext cx="3524400" cy="261936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5" descr="Картинка 10 из 60"/>
          <p:cNvPicPr/>
          <p:nvPr/>
        </p:nvPicPr>
        <p:blipFill>
          <a:blip r:embed="rId2"/>
          <a:stretch/>
        </p:blipFill>
        <p:spPr>
          <a:xfrm rot="21007800">
            <a:off x="3658680" y="550800"/>
            <a:ext cx="2700360" cy="20383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"/>
          <p:cNvSpPr/>
          <p:nvPr/>
        </p:nvSpPr>
        <p:spPr>
          <a:xfrm>
            <a:off x="1857240" y="2658240"/>
            <a:ext cx="5214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е подросткового алкоголизма нужно уделять особое внимание, не пускать все на самотек.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ти –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удуще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ей страны, и если не обратить на это внимание сегодня, то завтра, возможно, будет уже поздно!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23" name="Picture 2" descr="H:\Алкоголизм\114-12-2.jpg"/>
          <p:cNvPicPr/>
          <p:nvPr/>
        </p:nvPicPr>
        <p:blipFill>
          <a:blip r:embed="rId3"/>
          <a:stretch/>
        </p:blipFill>
        <p:spPr>
          <a:xfrm rot="720000">
            <a:off x="6300360" y="1144080"/>
            <a:ext cx="22636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28400" y="642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ьянство или алкоголизм -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щь страшная. Из-за этой напасти тысячи здоровых подростков выбиты из колеи нормальной жизни. Но бороться с этим злом можно и нужно. Доведенные до отчаяния близкие алкоголика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огут помочь ем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4" descr="H:\Алкоголизм\alcohol.jpg"/>
          <p:cNvPicPr/>
          <p:nvPr/>
        </p:nvPicPr>
        <p:blipFill>
          <a:blip r:embed="rId1"/>
          <a:stretch/>
        </p:blipFill>
        <p:spPr>
          <a:xfrm>
            <a:off x="6286680" y="3714840"/>
            <a:ext cx="2190600" cy="21906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H:\Алкоголизм\1096154_20080908164708.jpeg"/>
          <p:cNvPicPr/>
          <p:nvPr/>
        </p:nvPicPr>
        <p:blipFill>
          <a:blip r:embed="rId2"/>
          <a:stretch/>
        </p:blipFill>
        <p:spPr>
          <a:xfrm>
            <a:off x="1500120" y="42148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лкоголизм</a:t>
            </a: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хроническое заболевание, развивающееся в результате систематического употребления спиртных напи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дростковый алкоголизм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проблема современной молодёж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4" descr="H:\Алкоголизм\ed3bf12d36ab.jpg"/>
          <p:cNvPicPr/>
          <p:nvPr/>
        </p:nvPicPr>
        <p:blipFill>
          <a:blip r:embed="rId1"/>
          <a:stretch/>
        </p:blipFill>
        <p:spPr>
          <a:xfrm rot="487200">
            <a:off x="5285880" y="4013280"/>
            <a:ext cx="3329280" cy="2496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H:\Алкоголизм\iam-_3_.jpg"/>
          <p:cNvPicPr/>
          <p:nvPr/>
        </p:nvPicPr>
        <p:blipFill>
          <a:blip r:embed="rId2"/>
          <a:stretch/>
        </p:blipFill>
        <p:spPr>
          <a:xfrm rot="20928600">
            <a:off x="857160" y="4142880"/>
            <a:ext cx="151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81"/>
          <p:cNvSpPr/>
          <p:nvPr/>
        </p:nvSpPr>
        <p:spPr>
          <a:xfrm>
            <a:off x="428760" y="2495520"/>
            <a:ext cx="6298920" cy="373320"/>
          </a:xfrm>
          <a:prstGeom prst="roundRect">
            <a:avLst>
              <a:gd name="adj" fmla="val 16667"/>
            </a:avLst>
          </a:prstGeom>
          <a:solidFill>
            <a:srgbClr val="00c8c3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еспечение и защита конституционных прав несовершеннолетних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8" name="AutoShape 82"/>
          <p:cNvSpPr/>
          <p:nvPr/>
        </p:nvSpPr>
        <p:spPr>
          <a:xfrm>
            <a:off x="428760" y="1962000"/>
            <a:ext cx="6621480" cy="373320"/>
          </a:xfrm>
          <a:prstGeom prst="roundRect">
            <a:avLst>
              <a:gd name="adj" fmla="val 16667"/>
            </a:avLst>
          </a:prstGeom>
          <a:solidFill>
            <a:srgbClr val="00c8c3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ыявление и пресечение случаев жестокого обращения с подростками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9" name="AutoShape 83"/>
          <p:cNvSpPr/>
          <p:nvPr/>
        </p:nvSpPr>
        <p:spPr>
          <a:xfrm>
            <a:off x="428760" y="1428840"/>
            <a:ext cx="6956280" cy="373320"/>
          </a:xfrm>
          <a:prstGeom prst="roundRect">
            <a:avLst>
              <a:gd name="adj" fmla="val 16667"/>
            </a:avLst>
          </a:prstGeom>
          <a:solidFill>
            <a:srgbClr val="00c8c3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казание помощи подросткам, оказавшимся в трудной жизненной ситуации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0" name="AutoShape 84"/>
          <p:cNvSpPr/>
          <p:nvPr/>
        </p:nvSpPr>
        <p:spPr>
          <a:xfrm>
            <a:off x="428760" y="3036960"/>
            <a:ext cx="5249880" cy="373320"/>
          </a:xfrm>
          <a:prstGeom prst="roundRect">
            <a:avLst>
              <a:gd name="adj" fmla="val 16667"/>
            </a:avLst>
          </a:prstGeom>
          <a:solidFill>
            <a:srgbClr val="00c8c3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казание помощи по предупреждению правонарушений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1" name="AutoShape 85"/>
          <p:cNvSpPr/>
          <p:nvPr/>
        </p:nvSpPr>
        <p:spPr>
          <a:xfrm>
            <a:off x="428760" y="3564000"/>
            <a:ext cx="3714480" cy="373320"/>
          </a:xfrm>
          <a:prstGeom prst="roundRect">
            <a:avLst>
              <a:gd name="adj" fmla="val 16667"/>
            </a:avLst>
          </a:prstGeom>
          <a:solidFill>
            <a:srgbClr val="00c8c3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филактическая работа с семьями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4357800" y="4000680"/>
            <a:ext cx="43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ТЕРЯЙТЕ НАДЕЖУ И ВСЕ БУДЕТ У ВАС ХОРОШО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едь они тоже люди не отворачивайтесь от них,им тяжело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33" name="Picture 3" descr="H:\Алкоголизм\p_img_57806184.jpg"/>
          <p:cNvPicPr/>
          <p:nvPr/>
        </p:nvPicPr>
        <p:blipFill>
          <a:blip r:embed="rId1"/>
          <a:stretch/>
        </p:blipFill>
        <p:spPr>
          <a:xfrm>
            <a:off x="642960" y="43578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80"/>
          <p:cNvSpPr/>
          <p:nvPr/>
        </p:nvSpPr>
        <p:spPr>
          <a:xfrm>
            <a:off x="2428920" y="357120"/>
            <a:ext cx="5943600" cy="441360"/>
          </a:xfrm>
          <a:prstGeom prst="roundRect">
            <a:avLst>
              <a:gd name="adj" fmla="val 16667"/>
            </a:avLst>
          </a:prstGeom>
          <a:solidFill>
            <a:srgbClr val="00c8c3"/>
          </a:soli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етоды профилактической работы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Горизонтальный свиток 3"/>
          <p:cNvSpPr/>
          <p:nvPr/>
        </p:nvSpPr>
        <p:spPr>
          <a:xfrm>
            <a:off x="857160" y="428760"/>
            <a:ext cx="7500960" cy="2000160"/>
          </a:xfrm>
          <a:prstGeom prst="horizontalScroll">
            <a:avLst>
              <a:gd name="adj" fmla="val 125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6" name="Rectangle 1"/>
          <p:cNvSpPr/>
          <p:nvPr/>
        </p:nvSpPr>
        <p:spPr>
          <a:xfrm>
            <a:off x="1857240" y="79380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ы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285840" y="3218400"/>
            <a:ext cx="578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ьянство распространено среди подростков, жизнь которых характеризуется трудовой, бытовой и семейной неустроенностью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38" name="Picture 3" descr="H:\Алкоголизм\080929_BEER_A.jpg"/>
          <p:cNvPicPr/>
          <p:nvPr/>
        </p:nvPicPr>
        <p:blipFill>
          <a:blip r:embed="rId1"/>
          <a:stretch/>
        </p:blipFill>
        <p:spPr>
          <a:xfrm>
            <a:off x="6143760" y="2428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5" descr="Картинка 2 из 60"/>
          <p:cNvPicPr/>
          <p:nvPr/>
        </p:nvPicPr>
        <p:blipFill>
          <a:blip r:embed="rId2"/>
          <a:stretch/>
        </p:blipFill>
        <p:spPr>
          <a:xfrm>
            <a:off x="4286160" y="4575240"/>
            <a:ext cx="30895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"/>
          <p:cNvSpPr/>
          <p:nvPr/>
        </p:nvSpPr>
        <p:spPr>
          <a:xfrm>
            <a:off x="4857840" y="2093400"/>
            <a:ext cx="36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ствия употребления алкоголя для ребёнка тяжёлые, прежде всего в эмоциональном плане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1" name="Рисунок 5" descr="Картинка 13 из 60"/>
          <p:cNvPicPr/>
          <p:nvPr/>
        </p:nvPicPr>
        <p:blipFill>
          <a:blip r:embed="rId1"/>
          <a:stretch/>
        </p:blipFill>
        <p:spPr>
          <a:xfrm rot="21033600">
            <a:off x="802800" y="722160"/>
            <a:ext cx="2889360" cy="2200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H:\Алкоголизм\1256732388_minnoe_pole_009.jpg"/>
          <p:cNvPicPr/>
          <p:nvPr/>
        </p:nvPicPr>
        <p:blipFill>
          <a:blip r:embed="rId2"/>
          <a:stretch/>
        </p:blipFill>
        <p:spPr>
          <a:xfrm>
            <a:off x="1643040" y="3429000"/>
            <a:ext cx="2333520" cy="29383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H:\Алкоголизм\20770_max.jpg"/>
          <p:cNvPicPr/>
          <p:nvPr/>
        </p:nvPicPr>
        <p:blipFill>
          <a:blip r:embed="rId3"/>
          <a:stretch/>
        </p:blipFill>
        <p:spPr>
          <a:xfrm rot="289200">
            <a:off x="6072120" y="3714480"/>
            <a:ext cx="22780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3357720" y="1455120"/>
            <a:ext cx="557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ростковый алкоголизма излечим. Для этого прежде всего важно участие самого ребенка, его желание избавиться от зависимости и продолжить счастливую жизнь без алкоголя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5" name="Picture 2" descr="H:\Алкоголизм\Alcoholism.jpg"/>
          <p:cNvPicPr/>
          <p:nvPr/>
        </p:nvPicPr>
        <p:blipFill>
          <a:blip r:embed="rId1"/>
          <a:stretch/>
        </p:blipFill>
        <p:spPr>
          <a:xfrm>
            <a:off x="285840" y="571680"/>
            <a:ext cx="3016080" cy="2259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H:\Алкоголизм\200909041630030.pivo1.jpg"/>
          <p:cNvPicPr/>
          <p:nvPr/>
        </p:nvPicPr>
        <p:blipFill>
          <a:blip r:embed="rId2"/>
          <a:stretch/>
        </p:blipFill>
        <p:spPr>
          <a:xfrm>
            <a:off x="5500800" y="3573360"/>
            <a:ext cx="3105000" cy="28940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H:\Алкоголизм\ni_1bb160c013a43d5739ab5d7e966647dc.jpg"/>
          <p:cNvPicPr/>
          <p:nvPr/>
        </p:nvPicPr>
        <p:blipFill>
          <a:blip r:embed="rId3"/>
          <a:stretch/>
        </p:blipFill>
        <p:spPr>
          <a:xfrm>
            <a:off x="785880" y="400068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"/>
          <p:cNvSpPr/>
          <p:nvPr/>
        </p:nvSpPr>
        <p:spPr>
          <a:xfrm>
            <a:off x="4286160" y="2005200"/>
            <a:ext cx="385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оровый образ жизни, внимание, истинный интерес к проблемам подростка - вот что поможет отвести беду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9" name="Picture 2" descr="H:\Алкоголизм\photo.jpg"/>
          <p:cNvPicPr/>
          <p:nvPr/>
        </p:nvPicPr>
        <p:blipFill>
          <a:blip r:embed="rId1"/>
          <a:stretch/>
        </p:blipFill>
        <p:spPr>
          <a:xfrm>
            <a:off x="4714920" y="4191120"/>
            <a:ext cx="4103640" cy="2666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H:\Алкоголизм\teenage-drinking.jpg"/>
          <p:cNvPicPr/>
          <p:nvPr/>
        </p:nvPicPr>
        <p:blipFill>
          <a:blip r:embed="rId2"/>
          <a:stretch/>
        </p:blipFill>
        <p:spPr>
          <a:xfrm>
            <a:off x="857160" y="1143000"/>
            <a:ext cx="25005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" descr="H:\Алкоголизм\ef43ff047936.jpg"/>
          <p:cNvPicPr/>
          <p:nvPr/>
        </p:nvPicPr>
        <p:blipFill>
          <a:blip r:embed="rId1"/>
          <a:stretch/>
        </p:blipFill>
        <p:spPr>
          <a:xfrm rot="285000">
            <a:off x="5587560" y="4400640"/>
            <a:ext cx="3351240" cy="229716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оугольник 7" descr=""/>
          <p:cNvPicPr/>
          <p:nvPr/>
        </p:nvPicPr>
        <p:blipFill>
          <a:blip r:embed="rId2"/>
          <a:stretch/>
        </p:blipFill>
        <p:spPr>
          <a:xfrm>
            <a:off x="480960" y="-208080"/>
            <a:ext cx="7834320" cy="2122560"/>
          </a:xfrm>
          <a:prstGeom prst="rect">
            <a:avLst/>
          </a:prstGeom>
          <a:ln w="0">
            <a:noFill/>
          </a:ln>
        </p:spPr>
      </p:pic>
      <p:sp>
        <p:nvSpPr>
          <p:cNvPr id="353" name="TextBox 8"/>
          <p:cNvSpPr/>
          <p:nvPr/>
        </p:nvSpPr>
        <p:spPr>
          <a:xfrm>
            <a:off x="214200" y="2571840"/>
            <a:ext cx="378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е будущее и будущее наших детей должно быть светлым и счастливым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жно не допустить ошибку и делать все для того, чтобы ребенок чувствовал себя любимым, и нужным в этом мире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54" name="Picture 7" descr="H:\Алкоголизм\i.jpegа.jpeg"/>
          <p:cNvPicPr/>
          <p:nvPr/>
        </p:nvPicPr>
        <p:blipFill>
          <a:blip r:embed="rId3"/>
          <a:stretch/>
        </p:blipFill>
        <p:spPr>
          <a:xfrm>
            <a:off x="6311880" y="2144880"/>
            <a:ext cx="2535120" cy="1688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H:\Алкоголизм\i.jpegап.jpeg"/>
          <p:cNvPicPr/>
          <p:nvPr/>
        </p:nvPicPr>
        <p:blipFill>
          <a:blip r:embed="rId4"/>
          <a:stretch/>
        </p:blipFill>
        <p:spPr>
          <a:xfrm rot="240600">
            <a:off x="3979440" y="2866680"/>
            <a:ext cx="235764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7" descr="моё настороение"/>
          <p:cNvPicPr/>
          <p:nvPr/>
        </p:nvPicPr>
        <p:blipFill>
          <a:blip r:embed="rId1"/>
          <a:stretch/>
        </p:blipFill>
        <p:spPr>
          <a:xfrm>
            <a:off x="2205000" y="333360"/>
            <a:ext cx="5246640" cy="4103640"/>
          </a:xfrm>
          <a:prstGeom prst="rect">
            <a:avLst/>
          </a:prstGeom>
          <a:ln w="0">
            <a:noFill/>
          </a:ln>
        </p:spPr>
      </p:pic>
      <p:sp>
        <p:nvSpPr>
          <p:cNvPr id="357" name="WordArt 5"/>
          <p:cNvSpPr txBox="1"/>
          <p:nvPr/>
        </p:nvSpPr>
        <p:spPr>
          <a:xfrm>
            <a:off x="3276720" y="3716280"/>
            <a:ext cx="4705200" cy="211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аше здоровье,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олько в ваших руках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8" name="Picture 6" descr="Сердце"/>
          <p:cNvPicPr/>
          <p:nvPr/>
        </p:nvPicPr>
        <p:blipFill>
          <a:blip r:embed="rId6"/>
          <a:stretch/>
        </p:blipFill>
        <p:spPr>
          <a:xfrm>
            <a:off x="179280" y="4797360"/>
            <a:ext cx="179568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4"/>
          <p:cNvSpPr/>
          <p:nvPr/>
        </p:nvSpPr>
        <p:spPr>
          <a:xfrm>
            <a:off x="2143080" y="285840"/>
            <a:ext cx="521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татистика подросткового алкоголизма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62" name="Диаграмма 1" descr=""/>
          <p:cNvPicPr/>
          <p:nvPr/>
        </p:nvPicPr>
        <p:blipFill>
          <a:blip r:embed="rId1"/>
          <a:srcRect l="-2225" t="-3006" r="-1935" b="-5121"/>
          <a:stretch/>
        </p:blipFill>
        <p:spPr>
          <a:xfrm>
            <a:off x="571680" y="1500120"/>
            <a:ext cx="80722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99680" y="1857240"/>
            <a:ext cx="7991640" cy="21434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ч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яснить причины подросткового алкогол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последствия употребления алкоголя подрост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ить разные точки зрения на излечимость детского алкогол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зать несовместимость алкоголизма и счастливого будуще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571680" y="285840"/>
            <a:ext cx="757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зать опасность подросткового алкоголизма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65" name="Picture 5" descr="H:\Алкоголизм\178333.jpg"/>
          <p:cNvPicPr/>
          <p:nvPr/>
        </p:nvPicPr>
        <p:blipFill>
          <a:blip r:embed="rId1"/>
          <a:stretch/>
        </p:blipFill>
        <p:spPr>
          <a:xfrm>
            <a:off x="5500800" y="4286160"/>
            <a:ext cx="2743200" cy="2239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H:\Алкоголизм\01212009140500.jpg"/>
          <p:cNvPicPr/>
          <p:nvPr/>
        </p:nvPicPr>
        <p:blipFill>
          <a:blip r:embed="rId2"/>
          <a:stretch/>
        </p:blipFill>
        <p:spPr>
          <a:xfrm>
            <a:off x="1214280" y="4143240"/>
            <a:ext cx="270036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5" descr="alk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632448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. 9"/>
          <p:cNvSpPr/>
          <p:nvPr/>
        </p:nvSpPr>
        <p:spPr>
          <a:xfrm>
            <a:off x="357120" y="3886200"/>
            <a:ext cx="3962520" cy="2971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2009 году на учёте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медучреждениях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орода Когалыма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ходились 42 подростка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 диагнозом алкоголизм.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Прямоуг. 8"/>
          <p:cNvSpPr/>
          <p:nvPr/>
        </p:nvSpPr>
        <p:spPr>
          <a:xfrm>
            <a:off x="4429080" y="3809880"/>
            <a:ext cx="4191120" cy="3048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России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егодня регулярно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потребляют алкогольные напитки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1,5 тысяч детей,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з них более 160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возрасте от 10 до 14 лет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ставлен диагноз «алкоголизм»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3"/>
          <p:cNvSpPr/>
          <p:nvPr/>
        </p:nvSpPr>
        <p:spPr>
          <a:xfrm>
            <a:off x="0" y="1428840"/>
            <a:ext cx="521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2f2f2"/>
                </a:solidFill>
                <a:uFillTx/>
                <a:latin typeface="Times New Roman"/>
                <a:ea typeface="Times New Roman"/>
              </a:rPr>
              <a:t>Особенности детского алкоголизма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ыстрое привыкание к спиртным напиткам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локачественное течение болезн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нятие больших доз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зкая эффективность лечения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3000240" y="3857760"/>
            <a:ext cx="4286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ричины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неблагополучие семь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озитивная реклама в СМ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незанятость свободного времен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тсутствие знаний о последствиях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самоутверждение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уход от окружающих проблем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72" name="Group 55"/>
          <p:cNvGrpSpPr/>
          <p:nvPr/>
        </p:nvGrpSpPr>
        <p:grpSpPr>
          <a:xfrm>
            <a:off x="428760" y="4357800"/>
            <a:ext cx="1070640" cy="2070720"/>
            <a:chOff x="428760" y="4357800"/>
            <a:chExt cx="1070640" cy="2070720"/>
          </a:xfrm>
        </p:grpSpPr>
        <p:grpSp>
          <p:nvGrpSpPr>
            <p:cNvPr id="273" name="Group 50"/>
            <p:cNvGrpSpPr/>
            <p:nvPr/>
          </p:nvGrpSpPr>
          <p:grpSpPr>
            <a:xfrm>
              <a:off x="428760" y="4357800"/>
              <a:ext cx="936360" cy="2070720"/>
              <a:chOff x="428760" y="4357800"/>
              <a:chExt cx="936360" cy="2070720"/>
            </a:xfrm>
          </p:grpSpPr>
          <p:sp>
            <p:nvSpPr>
              <p:cNvPr id="274" name="Rectangle 10"/>
              <p:cNvSpPr/>
              <p:nvPr/>
            </p:nvSpPr>
            <p:spPr>
              <a:xfrm>
                <a:off x="428760" y="5258160"/>
                <a:ext cx="936360" cy="1151640"/>
              </a:xfrm>
              <a:prstGeom prst="rect">
                <a:avLst/>
              </a:prstGeom>
              <a:solidFill>
                <a:srgbClr val="e3e8e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275" name="Group 8"/>
              <p:cNvGrpSpPr/>
              <p:nvPr/>
            </p:nvGrpSpPr>
            <p:grpSpPr>
              <a:xfrm>
                <a:off x="561960" y="4988160"/>
                <a:ext cx="250560" cy="1076400"/>
                <a:chOff x="561960" y="4988160"/>
                <a:chExt cx="250560" cy="1076400"/>
              </a:xfrm>
            </p:grpSpPr>
            <p:sp>
              <p:nvSpPr>
                <p:cNvPr id="276" name="Freeform 6"/>
                <p:cNvSpPr/>
                <p:nvPr/>
              </p:nvSpPr>
              <p:spPr>
                <a:xfrm>
                  <a:off x="561960" y="4988160"/>
                  <a:ext cx="250560" cy="241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7" name="Rectangle 7"/>
                <p:cNvSpPr/>
                <p:nvPr/>
              </p:nvSpPr>
              <p:spPr>
                <a:xfrm>
                  <a:off x="564840" y="5230080"/>
                  <a:ext cx="88920" cy="834480"/>
                </a:xfrm>
                <a:prstGeom prst="rect">
                  <a:avLst/>
                </a:prstGeom>
                <a:solidFill>
                  <a:srgbClr val="ffff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78" name="Group 44"/>
              <p:cNvGrpSpPr/>
              <p:nvPr/>
            </p:nvGrpSpPr>
            <p:grpSpPr>
              <a:xfrm>
                <a:off x="695880" y="4357800"/>
                <a:ext cx="401400" cy="90000"/>
                <a:chOff x="695880" y="4357800"/>
                <a:chExt cx="401400" cy="90000"/>
              </a:xfrm>
            </p:grpSpPr>
            <p:sp>
              <p:nvSpPr>
                <p:cNvPr id="279" name="Rectangle 42"/>
                <p:cNvSpPr/>
                <p:nvPr/>
              </p:nvSpPr>
              <p:spPr>
                <a:xfrm>
                  <a:off x="695880" y="4357800"/>
                  <a:ext cx="401400" cy="90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0" name="Rectangle 43"/>
                <p:cNvSpPr/>
                <p:nvPr/>
              </p:nvSpPr>
              <p:spPr>
                <a:xfrm>
                  <a:off x="716760" y="4359960"/>
                  <a:ext cx="28440" cy="81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81" name="Freeform 49"/>
              <p:cNvSpPr/>
              <p:nvPr/>
            </p:nvSpPr>
            <p:spPr>
              <a:xfrm>
                <a:off x="428760" y="4447800"/>
                <a:ext cx="936360" cy="19807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82" name="Rectangle 51"/>
            <p:cNvSpPr/>
            <p:nvPr/>
          </p:nvSpPr>
          <p:spPr>
            <a:xfrm>
              <a:off x="963720" y="5348160"/>
              <a:ext cx="401400" cy="72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3" name="Text Box 53"/>
            <p:cNvSpPr/>
            <p:nvPr/>
          </p:nvSpPr>
          <p:spPr>
            <a:xfrm>
              <a:off x="963720" y="5438520"/>
              <a:ext cx="535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fc0000"/>
                  </a:solidFill>
                  <a:latin typeface="Arial"/>
                </a:rPr>
                <a:t>вод</a:t>
              </a:r>
              <a:endParaRPr b="0" lang="en-US" sz="5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4" name="Text Box 54"/>
            <p:cNvSpPr/>
            <p:nvPr/>
          </p:nvSpPr>
          <p:spPr>
            <a:xfrm>
              <a:off x="963720" y="5708520"/>
              <a:ext cx="535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fc0000"/>
                  </a:solidFill>
                  <a:latin typeface="Arial"/>
                </a:rPr>
                <a:t>осо</a:t>
              </a:r>
              <a:endParaRPr b="0" lang="en-US" sz="5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pic>
        <p:nvPicPr>
          <p:cNvPr id="285" name="Picture 19" descr="H:\Алкоголизм\b1e06246176c94d466bf6ba59d1e1349.jpg"/>
          <p:cNvPicPr/>
          <p:nvPr/>
        </p:nvPicPr>
        <p:blipFill>
          <a:blip r:embed="rId1"/>
          <a:stretch/>
        </p:blipFill>
        <p:spPr>
          <a:xfrm>
            <a:off x="5214960" y="1214280"/>
            <a:ext cx="3708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отивы употребления алкоголя подростками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7" name="Диаграмма 3" descr=""/>
          <p:cNvPicPr/>
          <p:nvPr/>
        </p:nvPicPr>
        <p:blipFill>
          <a:blip r:embed="rId1"/>
          <a:srcRect l="-3128" t="-1944" r="-2005" b="-5341"/>
          <a:stretch/>
        </p:blipFill>
        <p:spPr>
          <a:xfrm>
            <a:off x="714240" y="1785960"/>
            <a:ext cx="80726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210440" cy="116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сихологические предпосылки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4357440" cy="37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зкая или наоборот, завышенная самооце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жности в обще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логические комплекс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мение справляться со своими чувств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кий уровень внутреннего напряжения, длительный стрес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лонность к рискованным ситуаци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Объект 4" descr=""/>
          <p:cNvPicPr/>
          <p:nvPr/>
        </p:nvPicPr>
        <p:blipFill>
          <a:blip r:embed="rId1"/>
          <a:stretch/>
        </p:blipFill>
        <p:spPr>
          <a:xfrm>
            <a:off x="5643720" y="17146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следствия алкоголизма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TextBox 6"/>
          <p:cNvSpPr/>
          <p:nvPr/>
        </p:nvSpPr>
        <p:spPr>
          <a:xfrm>
            <a:off x="214200" y="1357200"/>
            <a:ext cx="30006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ля пьющего: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рата самоконтроля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рессивность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частные случаи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равление алкоголем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яжелые заболевания внутренних органов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трудоспособности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няя смерть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убийство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6286680" y="1143000"/>
            <a:ext cx="25002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ля семьи: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ликты в семье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уважения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альные трудности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4572000" y="5214960"/>
            <a:ext cx="4357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ля общества: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ия общественного порядка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рожно-транспорные происшествия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улы в школе, институтах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95" name="Picture 2" descr="H:\Алкоголизм\alkogolizm_u_podrostkov2.jpg"/>
          <p:cNvPicPr/>
          <p:nvPr/>
        </p:nvPicPr>
        <p:blipFill>
          <a:blip r:embed="rId1"/>
          <a:stretch/>
        </p:blipFill>
        <p:spPr>
          <a:xfrm>
            <a:off x="4714920" y="2571840"/>
            <a:ext cx="2138400" cy="1428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H:\Алкоголизм\i.jpegг.jpeg"/>
          <p:cNvPicPr/>
          <p:nvPr/>
        </p:nvPicPr>
        <p:blipFill>
          <a:blip r:embed="rId2"/>
          <a:stretch/>
        </p:blipFill>
        <p:spPr>
          <a:xfrm>
            <a:off x="428760" y="4572000"/>
            <a:ext cx="23382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44:57Z</dcterms:created>
  <dc:creator>Admin</dc:creator>
  <dc:description/>
  <dc:language>en-US</dc:language>
  <cp:lastModifiedBy>Николай</cp:lastModifiedBy>
  <dcterms:modified xsi:type="dcterms:W3CDTF">2011-01-26T18:27:09Z</dcterms:modified>
  <cp:revision>61</cp:revision>
  <dc:subject/>
  <dc:title>     Проблема  подросткового алкоголизма</dc:title>
</cp:coreProperties>
</file>