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19.jpeg" ContentType="image/jpeg"/>
  <Override PartName="/ppt/media/image43.jpeg" ContentType="image/jpeg"/>
  <Override PartName="/ppt/media/image45.gif" ContentType="image/gif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6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5EB-B9C5-480C-BBFC-E03105D3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F87-DC20-4E12-80DF-7168B76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35C-415E-4F6A-8E66-A3B28BAB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FCB-3538-4599-A820-30E9D616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05F-5F6F-4140-8585-0DF4E927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BBA6-7A50-48B8-8CE1-32C7A216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2CD6-0112-4C6B-B681-23771A49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3E41-5A1B-4B5C-8660-80A02CE0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3CBE-94D1-4FD7-8410-B0BA7D3D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2C80-67F4-45A9-848B-8479E551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D26-BD7C-46E8-A876-05D9ADEC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4D5-3C24-49A5-BBA9-9C091C45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3D8-FC73-41D7-A053-D56D042D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B346-EA60-4698-B5A4-A42A1E4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6364-DCDF-446F-B70B-823EBCA8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1C39-C33B-4696-BF40-DF6DB5E8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A4CF-9C6B-464D-8905-C6B4691A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7D32-7034-4BAD-BF1D-234A04AB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53F9-60E1-4C78-91DE-22FB053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1826-BD31-4108-B145-CF36325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4805-69B6-4E59-99DC-A6D96AA9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C084-5147-4E25-A7EA-31F825D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370-7287-44EA-8FB1-CC6480A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221E-C50A-44A4-8A1B-13C0E755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0CAC-9913-4777-9183-E9EC90C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1D7E-24F6-43FD-9A67-AB951BB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EF97-AEC9-4122-AAAB-25587DDD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3CF4-0C31-4C7B-90F6-B87D441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C9396-356C-4B69-AC7A-B3866C19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3C04-2FBC-47FE-8A6E-BF26918B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9E19-E816-4C33-A144-66400BC9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170FF-D937-4145-93E8-FA7AC90E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483C-6F77-4C2D-9A7C-1A149D6C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A9B-E15A-4EC3-A882-1CB196D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19BF-F240-4743-9A05-D4F11CC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5C45-59AF-4E7B-A409-2D493C0E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8E87-D632-4224-8B7A-3F2E319E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BA4E-184A-461F-B11B-ADA0D46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1303-E597-47B2-870D-213BE1E0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2BB2-1060-42B1-BC88-696BE861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E98C-5247-497B-BD2E-70170E77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C4A1-0B57-4CB1-A67A-C38C5C28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5D57-491C-458F-B738-4A627245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25869-A1F9-437B-BFE4-8AE73308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FF5-2523-44C7-A472-0F98579A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268E5-E093-4FB3-BBFB-EA3352B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3CE55-AF51-46E5-98F9-D9EB6507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4D42-3C8C-4449-874E-21DF6FD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A2BB8-7BCE-4674-A677-A80E1872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8BB69-E366-42DD-95EA-CDE37592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C77B-3F4E-436F-82A3-A09F40F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D013-4781-42D4-847E-9E6CCC29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B1FD-6172-48B6-A66F-B202F43E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FF61-7ED0-4CEF-90D7-D8ADC94B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361C-9305-45C6-B45B-67CB321A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EDD-F4BF-4F6D-83C2-74EE28F6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1E61B-1866-4B5A-A712-1BE05C9C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980A-3BF8-4EC2-93A7-FF043DDD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1FF9-D08B-4606-8B8C-ECA0C2E3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D9471-C1D0-4E36-9D7A-FE0F0E1D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DDDE-0D6C-42B1-A159-05DA07B3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41B6B-0D00-413B-AE0E-E747D3FB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00914-323E-45EB-89EA-92FA0B1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11985-9EAC-4ECA-B375-948A1428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F590E-DE21-4175-A745-E8462493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B47C-177D-449C-8C52-A152D9C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446-6B16-4853-AC18-E997DB4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6AB5-8131-45C6-A281-41A0F6DB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CCF37-26E3-44F5-8D83-E476B02D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BB75-D171-4C7C-878A-F571B2CC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929-BCBF-4A77-AE15-4C7D6D6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729-9661-461F-8394-CFBF1FD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1123-6C93-454E-A2A0-89FCFAC7654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E6CC-CD2D-4730-A538-F04F424E899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294A-FEF7-4D09-B264-924B6D0B1C3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E8F2-8633-4504-9411-045F7B1BE04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1459-9CAA-4E87-8A20-ED7C7F42D25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DA80-3023-4DED-99F7-0D95CD80437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72240" y="4929120"/>
            <a:ext cx="5815080" cy="1656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Залялова А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11А класса МОУ «СОШ №8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Москвина Светлана Олег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обществознания и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Заголовок 5" descr=""/>
          <p:cNvPicPr/>
          <p:nvPr/>
        </p:nvPicPr>
        <p:blipFill>
          <a:blip r:embed="rId1"/>
          <a:stretch/>
        </p:blipFill>
        <p:spPr>
          <a:xfrm>
            <a:off x="706320" y="317520"/>
            <a:ext cx="7583760" cy="2779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:\Алкоголизм\872125040.jpg"/>
          <p:cNvPicPr/>
          <p:nvPr/>
        </p:nvPicPr>
        <p:blipFill>
          <a:blip r:embed="rId2"/>
          <a:stretch/>
        </p:blipFill>
        <p:spPr>
          <a:xfrm>
            <a:off x="0" y="3643200"/>
            <a:ext cx="3059280" cy="2040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:\Алкоголизм\g47611.jpg"/>
          <p:cNvPicPr/>
          <p:nvPr/>
        </p:nvPicPr>
        <p:blipFill>
          <a:blip r:embed="rId3"/>
          <a:stretch/>
        </p:blipFill>
        <p:spPr>
          <a:xfrm>
            <a:off x="1928880" y="5262480"/>
            <a:ext cx="22194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циальные последствия алкоголизма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круга общ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отвергает алкоголиков и избегает 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тересно и не нужно обществ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яц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социальных навык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друзей , довер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отношений в семь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работы , учёб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ающий мир воспринимается враждеб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5812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ствия на подсознательном уровне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28800" y="4929120"/>
            <a:ext cx="292896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36000"/>
          </a:bodyPr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азру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и и попытки суиц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интереса к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гоцентриз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ев на Б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нравственных це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ничт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Объект 4" descr=""/>
          <p:cNvPicPr/>
          <p:nvPr/>
        </p:nvPicPr>
        <p:blipFill>
          <a:blip r:embed="rId1"/>
          <a:stretch/>
        </p:blipFill>
        <p:spPr>
          <a:xfrm>
            <a:off x="5334120" y="25002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0" y="4287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потребление пива увеличивает риск развития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РАКА ГРУДИ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3" name="Picture 4" descr="рак гр"/>
          <p:cNvPicPr/>
          <p:nvPr/>
        </p:nvPicPr>
        <p:blipFill>
          <a:blip r:embed="rId1"/>
          <a:stretch/>
        </p:blipFill>
        <p:spPr>
          <a:xfrm>
            <a:off x="843120" y="2428920"/>
            <a:ext cx="3535200" cy="4124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так гр"/>
          <p:cNvPicPr/>
          <p:nvPr/>
        </p:nvPicPr>
        <p:blipFill>
          <a:blip r:embed="rId2"/>
          <a:stretch/>
        </p:blipFill>
        <p:spPr>
          <a:xfrm>
            <a:off x="4500720" y="2428920"/>
            <a:ext cx="3214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351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зные болезни, спровоцированные </a:t>
            </a: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потреблением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ив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к развития катаракты и макулопатии увеличивается в 1.5-3 раза</a:t>
            </a:r>
            <a:br>
              <a:rPr sz="4800"/>
            </a:br>
            <a:br>
              <a:rPr sz="48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6" name="Picture 4" descr="4-15"/>
          <p:cNvPicPr/>
          <p:nvPr/>
        </p:nvPicPr>
        <p:blipFill>
          <a:blip r:embed="rId1"/>
          <a:stretch/>
        </p:blipFill>
        <p:spPr>
          <a:xfrm>
            <a:off x="4676760" y="2755800"/>
            <a:ext cx="3110040" cy="387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katarakta"/>
          <p:cNvPicPr/>
          <p:nvPr/>
        </p:nvPicPr>
        <p:blipFill>
          <a:blip r:embed="rId2"/>
          <a:stretch/>
        </p:blipFill>
        <p:spPr>
          <a:xfrm>
            <a:off x="457200" y="2666880"/>
            <a:ext cx="3333600" cy="28558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4357800" y="5857920"/>
            <a:ext cx="4190760" cy="794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уло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я желтого пятн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838080" y="5791320"/>
            <a:ext cx="2590920" cy="457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аракт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Алкоголизм\814_1.jpg"/>
          <p:cNvPicPr/>
          <p:nvPr/>
        </p:nvPicPr>
        <p:blipFill>
          <a:blip r:embed="rId1"/>
          <a:stretch/>
        </p:blipFill>
        <p:spPr>
          <a:xfrm>
            <a:off x="428760" y="142920"/>
            <a:ext cx="81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only beer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25239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154440" y="4572000"/>
            <a:ext cx="87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ИВО — </a:t>
            </a:r>
            <a:r>
              <a:rPr b="1" lang="ru-RU" sz="4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ркотик для начинающих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5181480" y="533520"/>
            <a:ext cx="3581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й санитарный врач РФ Геннадий Онищенко:</a:t>
            </a:r>
            <a:br>
              <a:rPr sz="31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5105520" y="3505320"/>
            <a:ext cx="374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СПИД, не туберкулез погубят Россию, а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ивной алкоголизм среди юного поколени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5" name="Picture 4" descr="KSP_006541_00074_1m"/>
          <p:cNvPicPr/>
          <p:nvPr/>
        </p:nvPicPr>
        <p:blipFill>
          <a:blip r:embed="rId1"/>
          <a:stretch/>
        </p:blipFill>
        <p:spPr>
          <a:xfrm>
            <a:off x="228600" y="228600"/>
            <a:ext cx="4325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285560"/>
            <a:ext cx="6072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одростковый возраст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ершающий этап развития человека. Бывает трудно в одиночку справиться с подростковым алкоголизмом, в рамках семьи решать такие задачи. Те кто столкнулся с этой бедой, не должны бояться попросить помощи у специалис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5" descr="Картинка 18 из 60"/>
          <p:cNvPicPr/>
          <p:nvPr/>
        </p:nvPicPr>
        <p:blipFill>
          <a:blip r:embed="rId1"/>
          <a:stretch/>
        </p:blipFill>
        <p:spPr>
          <a:xfrm rot="435600">
            <a:off x="6036840" y="1464840"/>
            <a:ext cx="2981520" cy="21830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Картинка 6 из 60"/>
          <p:cNvPicPr/>
          <p:nvPr/>
        </p:nvPicPr>
        <p:blipFill>
          <a:blip r:embed="rId2"/>
          <a:stretch/>
        </p:blipFill>
        <p:spPr>
          <a:xfrm rot="20292000">
            <a:off x="5785920" y="4428720"/>
            <a:ext cx="2511720" cy="1838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H:\Алкоголизм\resize.jpeg"/>
          <p:cNvPicPr/>
          <p:nvPr/>
        </p:nvPicPr>
        <p:blipFill>
          <a:blip r:embed="rId3"/>
          <a:stretch/>
        </p:blipFill>
        <p:spPr>
          <a:xfrm>
            <a:off x="1643040" y="4357800"/>
            <a:ext cx="2786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5" descr="Картинка 3 из 60"/>
          <p:cNvPicPr/>
          <p:nvPr/>
        </p:nvPicPr>
        <p:blipFill>
          <a:blip r:embed="rId1"/>
          <a:stretch/>
        </p:blipFill>
        <p:spPr>
          <a:xfrm rot="20776200">
            <a:off x="259920" y="380880"/>
            <a:ext cx="3524400" cy="26193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Картинка 10 из 60"/>
          <p:cNvPicPr/>
          <p:nvPr/>
        </p:nvPicPr>
        <p:blipFill>
          <a:blip r:embed="rId2"/>
          <a:stretch/>
        </p:blipFill>
        <p:spPr>
          <a:xfrm rot="21007800">
            <a:off x="3658680" y="550800"/>
            <a:ext cx="2700360" cy="20383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"/>
          <p:cNvSpPr/>
          <p:nvPr/>
        </p:nvSpPr>
        <p:spPr>
          <a:xfrm>
            <a:off x="1857240" y="2658240"/>
            <a:ext cx="521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е подросткового алкоголизма нужно уделять особое внимание, не пускать все на самотек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удуще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ей страны, и если не обратить на это внимание сегодня, то завтра, возможно, будет уже поздно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23" name="Picture 2" descr="H:\Алкоголизм\114-12-2.jpg"/>
          <p:cNvPicPr/>
          <p:nvPr/>
        </p:nvPicPr>
        <p:blipFill>
          <a:blip r:embed="rId3"/>
          <a:stretch/>
        </p:blipFill>
        <p:spPr>
          <a:xfrm rot="720000">
            <a:off x="6300360" y="1144080"/>
            <a:ext cx="2263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28400" y="642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ьянство или алкоголизм 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ь страшная. Из-за этой напасти тысячи здоровых подростков выбиты из колеи нормальной жизни. Но бороться с этим злом можно и нужно. Доведенные до отчаяния близкие алкоголика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гут помочь ем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H:\Алкоголизм\alcohol.jpg"/>
          <p:cNvPicPr/>
          <p:nvPr/>
        </p:nvPicPr>
        <p:blipFill>
          <a:blip r:embed="rId1"/>
          <a:stretch/>
        </p:blipFill>
        <p:spPr>
          <a:xfrm>
            <a:off x="6286680" y="371484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H:\Алкоголизм\1096154_20080908164708.jpeg"/>
          <p:cNvPicPr/>
          <p:nvPr/>
        </p:nvPicPr>
        <p:blipFill>
          <a:blip r:embed="rId2"/>
          <a:stretch/>
        </p:blipFill>
        <p:spPr>
          <a:xfrm>
            <a:off x="1500120" y="4214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лкоголизм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хроническое заболевание, развивающееся в результате систематического употребления спиртных напи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ростковый алкоголизм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проблема современной молодё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H:\Алкоголизм\ed3bf12d36ab.jpg"/>
          <p:cNvPicPr/>
          <p:nvPr/>
        </p:nvPicPr>
        <p:blipFill>
          <a:blip r:embed="rId1"/>
          <a:stretch/>
        </p:blipFill>
        <p:spPr>
          <a:xfrm rot="487200">
            <a:off x="5285880" y="4013280"/>
            <a:ext cx="3329280" cy="2496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:\Алкоголизм\iam-_3_.jpg"/>
          <p:cNvPicPr/>
          <p:nvPr/>
        </p:nvPicPr>
        <p:blipFill>
          <a:blip r:embed="rId2"/>
          <a:stretch/>
        </p:blipFill>
        <p:spPr>
          <a:xfrm rot="20928600">
            <a:off x="857160" y="4142880"/>
            <a:ext cx="151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81"/>
          <p:cNvSpPr/>
          <p:nvPr/>
        </p:nvSpPr>
        <p:spPr>
          <a:xfrm>
            <a:off x="428760" y="2495520"/>
            <a:ext cx="629892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еспечение и защита конституционных прав несовершеннолетних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AutoShape 82"/>
          <p:cNvSpPr/>
          <p:nvPr/>
        </p:nvSpPr>
        <p:spPr>
          <a:xfrm>
            <a:off x="428760" y="1962000"/>
            <a:ext cx="66214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явление и пресечение случаев жестокого обращения с подростками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AutoShape 83"/>
          <p:cNvSpPr/>
          <p:nvPr/>
        </p:nvSpPr>
        <p:spPr>
          <a:xfrm>
            <a:off x="428760" y="1428840"/>
            <a:ext cx="69562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азание помощи подросткам, оказавшимся в трудной жизненной ситуации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AutoShape 84"/>
          <p:cNvSpPr/>
          <p:nvPr/>
        </p:nvSpPr>
        <p:spPr>
          <a:xfrm>
            <a:off x="428760" y="3036960"/>
            <a:ext cx="52498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азание помощи по предупреждению правонарушений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AutoShape 85"/>
          <p:cNvSpPr/>
          <p:nvPr/>
        </p:nvSpPr>
        <p:spPr>
          <a:xfrm>
            <a:off x="428760" y="3564000"/>
            <a:ext cx="37144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филактическая работа с семьями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4357800" y="4000680"/>
            <a:ext cx="43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ЕРЯЙТЕ НАДЕЖУ И ВСЕ БУДЕТ У ВАС ХОРОШ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едь они тоже люди не отворачивайтесь от них,им тяжело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33" name="Picture 3" descr="H:\Алкоголизм\p_img_57806184.jpg"/>
          <p:cNvPicPr/>
          <p:nvPr/>
        </p:nvPicPr>
        <p:blipFill>
          <a:blip r:embed="rId1"/>
          <a:stretch/>
        </p:blipFill>
        <p:spPr>
          <a:xfrm>
            <a:off x="642960" y="43578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80"/>
          <p:cNvSpPr/>
          <p:nvPr/>
        </p:nvSpPr>
        <p:spPr>
          <a:xfrm>
            <a:off x="2428920" y="357120"/>
            <a:ext cx="5943600" cy="44136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етоды профилактической работы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Горизонтальный свиток 3"/>
          <p:cNvSpPr/>
          <p:nvPr/>
        </p:nvSpPr>
        <p:spPr>
          <a:xfrm>
            <a:off x="857160" y="428760"/>
            <a:ext cx="7500960" cy="2000160"/>
          </a:xfrm>
          <a:prstGeom prst="horizontalScroll">
            <a:avLst>
              <a:gd name="adj" fmla="val 125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1857240" y="79380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285840" y="3218400"/>
            <a:ext cx="578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ьянство распространено среди подростков, жизнь которых характеризуется трудовой, бытовой и семейной неустроенностью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38" name="Picture 3" descr="H:\Алкоголизм\080929_BEER_A.jpg"/>
          <p:cNvPicPr/>
          <p:nvPr/>
        </p:nvPicPr>
        <p:blipFill>
          <a:blip r:embed="rId1"/>
          <a:stretch/>
        </p:blipFill>
        <p:spPr>
          <a:xfrm>
            <a:off x="6143760" y="2428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Картинка 2 из 60"/>
          <p:cNvPicPr/>
          <p:nvPr/>
        </p:nvPicPr>
        <p:blipFill>
          <a:blip r:embed="rId2"/>
          <a:stretch/>
        </p:blipFill>
        <p:spPr>
          <a:xfrm>
            <a:off x="4286160" y="4575240"/>
            <a:ext cx="3089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"/>
          <p:cNvSpPr/>
          <p:nvPr/>
        </p:nvSpPr>
        <p:spPr>
          <a:xfrm>
            <a:off x="4857840" y="2093400"/>
            <a:ext cx="36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ствия употребления алкоголя для ребёнка тяжёлые, прежде всего в эмоциональном плане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1" name="Рисунок 5" descr="Картинка 13 из 60"/>
          <p:cNvPicPr/>
          <p:nvPr/>
        </p:nvPicPr>
        <p:blipFill>
          <a:blip r:embed="rId1"/>
          <a:stretch/>
        </p:blipFill>
        <p:spPr>
          <a:xfrm rot="21033600">
            <a:off x="802800" y="722160"/>
            <a:ext cx="2889360" cy="2200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:\Алкоголизм\1256732388_minnoe_pole_009.jpg"/>
          <p:cNvPicPr/>
          <p:nvPr/>
        </p:nvPicPr>
        <p:blipFill>
          <a:blip r:embed="rId2"/>
          <a:stretch/>
        </p:blipFill>
        <p:spPr>
          <a:xfrm>
            <a:off x="1643040" y="3429000"/>
            <a:ext cx="2333520" cy="2938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:\Алкоголизм\20770_max.jpg"/>
          <p:cNvPicPr/>
          <p:nvPr/>
        </p:nvPicPr>
        <p:blipFill>
          <a:blip r:embed="rId3"/>
          <a:stretch/>
        </p:blipFill>
        <p:spPr>
          <a:xfrm rot="289200">
            <a:off x="6072120" y="3714480"/>
            <a:ext cx="2278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3357720" y="145512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ковый алкоголизма излечим. Для этого прежде всего важно участие самого ребенка, его желание избавиться от зависимости и продолжить счастливую жизнь без алкогол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5" name="Picture 2" descr="H:\Алкоголизм\Alcoholism.jpg"/>
          <p:cNvPicPr/>
          <p:nvPr/>
        </p:nvPicPr>
        <p:blipFill>
          <a:blip r:embed="rId1"/>
          <a:stretch/>
        </p:blipFill>
        <p:spPr>
          <a:xfrm>
            <a:off x="285840" y="571680"/>
            <a:ext cx="3016080" cy="2259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H:\Алкоголизм\200909041630030.pivo1.jpg"/>
          <p:cNvPicPr/>
          <p:nvPr/>
        </p:nvPicPr>
        <p:blipFill>
          <a:blip r:embed="rId2"/>
          <a:stretch/>
        </p:blipFill>
        <p:spPr>
          <a:xfrm>
            <a:off x="5500800" y="3573360"/>
            <a:ext cx="3105000" cy="2894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:\Алкоголизм\ni_1bb160c013a43d5739ab5d7e966647dc.jpg"/>
          <p:cNvPicPr/>
          <p:nvPr/>
        </p:nvPicPr>
        <p:blipFill>
          <a:blip r:embed="rId3"/>
          <a:stretch/>
        </p:blipFill>
        <p:spPr>
          <a:xfrm>
            <a:off x="785880" y="40006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4286160" y="200520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ый образ жизни, внимание, истинный интерес к проблемам подростка - вот что поможет отвести беду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9" name="Picture 2" descr="H:\Алкоголизм\photo.jpg"/>
          <p:cNvPicPr/>
          <p:nvPr/>
        </p:nvPicPr>
        <p:blipFill>
          <a:blip r:embed="rId1"/>
          <a:stretch/>
        </p:blipFill>
        <p:spPr>
          <a:xfrm>
            <a:off x="4714920" y="4191120"/>
            <a:ext cx="4103640" cy="2666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H:\Алкоголизм\teenage-drinking.jpg"/>
          <p:cNvPicPr/>
          <p:nvPr/>
        </p:nvPicPr>
        <p:blipFill>
          <a:blip r:embed="rId2"/>
          <a:stretch/>
        </p:blipFill>
        <p:spPr>
          <a:xfrm>
            <a:off x="857160" y="1143000"/>
            <a:ext cx="2500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H:\Алкоголизм\ef43ff047936.jpg"/>
          <p:cNvPicPr/>
          <p:nvPr/>
        </p:nvPicPr>
        <p:blipFill>
          <a:blip r:embed="rId1"/>
          <a:stretch/>
        </p:blipFill>
        <p:spPr>
          <a:xfrm rot="285000">
            <a:off x="5587560" y="4400640"/>
            <a:ext cx="3351240" cy="22971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7" descr=""/>
          <p:cNvPicPr/>
          <p:nvPr/>
        </p:nvPicPr>
        <p:blipFill>
          <a:blip r:embed="rId2"/>
          <a:stretch/>
        </p:blipFill>
        <p:spPr>
          <a:xfrm>
            <a:off x="480960" y="-208080"/>
            <a:ext cx="7834320" cy="21225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8"/>
          <p:cNvSpPr/>
          <p:nvPr/>
        </p:nvSpPr>
        <p:spPr>
          <a:xfrm>
            <a:off x="214200" y="2571840"/>
            <a:ext cx="37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е будущее и будущее наших детей должно быть светлым и счастливым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не допустить ошибку и делать все для того, чтобы ребенок чувствовал себя любимым, и нужным в этом мир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54" name="Picture 7" descr="H:\Алкоголизм\i.jpegа.jpeg"/>
          <p:cNvPicPr/>
          <p:nvPr/>
        </p:nvPicPr>
        <p:blipFill>
          <a:blip r:embed="rId3"/>
          <a:stretch/>
        </p:blipFill>
        <p:spPr>
          <a:xfrm>
            <a:off x="6311880" y="2144880"/>
            <a:ext cx="2535120" cy="1688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H:\Алкоголизм\i.jpegап.jpeg"/>
          <p:cNvPicPr/>
          <p:nvPr/>
        </p:nvPicPr>
        <p:blipFill>
          <a:blip r:embed="rId4"/>
          <a:stretch/>
        </p:blipFill>
        <p:spPr>
          <a:xfrm rot="240600">
            <a:off x="3979440" y="2866680"/>
            <a:ext cx="23576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моё настороение"/>
          <p:cNvPicPr/>
          <p:nvPr/>
        </p:nvPicPr>
        <p:blipFill>
          <a:blip r:embed="rId1"/>
          <a:stretch/>
        </p:blipFill>
        <p:spPr>
          <a:xfrm>
            <a:off x="2205000" y="333360"/>
            <a:ext cx="5246640" cy="4103640"/>
          </a:xfrm>
          <a:prstGeom prst="rect">
            <a:avLst/>
          </a:prstGeom>
          <a:ln w="0">
            <a:noFill/>
          </a:ln>
        </p:spPr>
      </p:pic>
      <p:sp>
        <p:nvSpPr>
          <p:cNvPr id="357" name="WordArt 5"/>
          <p:cNvSpPr txBox="1"/>
          <p:nvPr/>
        </p:nvSpPr>
        <p:spPr>
          <a:xfrm>
            <a:off x="3276720" y="3716280"/>
            <a:ext cx="4705200" cy="21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аше здоровье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лько в ваших руках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8" name="Picture 6" descr="Сердце"/>
          <p:cNvPicPr/>
          <p:nvPr/>
        </p:nvPicPr>
        <p:blipFill>
          <a:blip r:embed="rId6"/>
          <a:stretch/>
        </p:blipFill>
        <p:spPr>
          <a:xfrm>
            <a:off x="179280" y="4797360"/>
            <a:ext cx="17956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4"/>
          <p:cNvSpPr/>
          <p:nvPr/>
        </p:nvSpPr>
        <p:spPr>
          <a:xfrm>
            <a:off x="2143080" y="285840"/>
            <a:ext cx="52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атистика подросткового алкоголизма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2" name="Диаграмма 1" descr=""/>
          <p:cNvPicPr/>
          <p:nvPr/>
        </p:nvPicPr>
        <p:blipFill>
          <a:blip r:embed="rId1"/>
          <a:srcRect l="-2225" t="-3006" r="-1935" b="-5121"/>
          <a:stretch/>
        </p:blipFill>
        <p:spPr>
          <a:xfrm>
            <a:off x="571680" y="150012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99680" y="1857240"/>
            <a:ext cx="7991640" cy="2143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снить причины подросткового алкогол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последствия употребления алкоголя подрост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ь разные точки зрения на излечимость детского алкогол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несовместимость алкоголизма и счастливого будущ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71680" y="285840"/>
            <a:ext cx="757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опасность подросткового алкоголизм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5" name="Picture 5" descr="H:\Алкоголизм\178333.jpg"/>
          <p:cNvPicPr/>
          <p:nvPr/>
        </p:nvPicPr>
        <p:blipFill>
          <a:blip r:embed="rId1"/>
          <a:stretch/>
        </p:blipFill>
        <p:spPr>
          <a:xfrm>
            <a:off x="5500800" y="4286160"/>
            <a:ext cx="2743200" cy="2239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:\Алкоголизм\01212009140500.jpg"/>
          <p:cNvPicPr/>
          <p:nvPr/>
        </p:nvPicPr>
        <p:blipFill>
          <a:blip r:embed="rId2"/>
          <a:stretch/>
        </p:blipFill>
        <p:spPr>
          <a:xfrm>
            <a:off x="1214280" y="4143240"/>
            <a:ext cx="2700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5" descr="alk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3244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. 9"/>
          <p:cNvSpPr/>
          <p:nvPr/>
        </p:nvSpPr>
        <p:spPr>
          <a:xfrm>
            <a:off x="357120" y="3886200"/>
            <a:ext cx="396252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2009 году на учёт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едучреждениях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ода Когалым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ходились 42 подростка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диагнозом алкоголизм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Прямоуг. 8"/>
          <p:cNvSpPr/>
          <p:nvPr/>
        </p:nvSpPr>
        <p:spPr>
          <a:xfrm>
            <a:off x="4429080" y="3809880"/>
            <a:ext cx="419112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Росси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годня регулярно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отребляют алкогольные напитки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1,5 тысяч детей,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 них более 16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возрасте от 10 до 14 лет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ставлен диагноз «алкоголизм»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0" y="142884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2f2f2"/>
                </a:solidFill>
                <a:uFillTx/>
                <a:latin typeface="Times New Roman"/>
                <a:ea typeface="Times New Roman"/>
              </a:rPr>
              <a:t>Особенности детского алкоголизма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ыстрое привыкание к спиртным напитка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локачественное течение болезн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ятие больших доз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ая эффективность лечени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000240" y="3857760"/>
            <a:ext cx="4286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чины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благополучие семь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зитивная реклама в СМ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занятость свободного времен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тсутствие знаний о последствиях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амоутверждени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ход от окружающих пробле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428760" y="4357800"/>
            <a:ext cx="1070640" cy="2070720"/>
            <a:chOff x="428760" y="4357800"/>
            <a:chExt cx="1070640" cy="2070720"/>
          </a:xfrm>
        </p:grpSpPr>
        <p:grpSp>
          <p:nvGrpSpPr>
            <p:cNvPr id="273" name="Group 50"/>
            <p:cNvGrpSpPr/>
            <p:nvPr/>
          </p:nvGrpSpPr>
          <p:grpSpPr>
            <a:xfrm>
              <a:off x="428760" y="4357800"/>
              <a:ext cx="936360" cy="2070720"/>
              <a:chOff x="428760" y="4357800"/>
              <a:chExt cx="936360" cy="2070720"/>
            </a:xfrm>
          </p:grpSpPr>
          <p:sp>
            <p:nvSpPr>
              <p:cNvPr id="274" name="Rectangle 10"/>
              <p:cNvSpPr/>
              <p:nvPr/>
            </p:nvSpPr>
            <p:spPr>
              <a:xfrm>
                <a:off x="428760" y="5258160"/>
                <a:ext cx="936360" cy="1151640"/>
              </a:xfrm>
              <a:prstGeom prst="rect">
                <a:avLst/>
              </a:prstGeom>
              <a:solidFill>
                <a:srgbClr val="e3e8e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561960" y="4988160"/>
                <a:ext cx="250560" cy="1076400"/>
                <a:chOff x="561960" y="4988160"/>
                <a:chExt cx="250560" cy="1076400"/>
              </a:xfrm>
            </p:grpSpPr>
            <p:sp>
              <p:nvSpPr>
                <p:cNvPr id="276" name="Freeform 6"/>
                <p:cNvSpPr/>
                <p:nvPr/>
              </p:nvSpPr>
              <p:spPr>
                <a:xfrm>
                  <a:off x="561960" y="4988160"/>
                  <a:ext cx="250560" cy="241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Rectangle 7"/>
                <p:cNvSpPr/>
                <p:nvPr/>
              </p:nvSpPr>
              <p:spPr>
                <a:xfrm>
                  <a:off x="564840" y="5230080"/>
                  <a:ext cx="88920" cy="83448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78" name="Group 44"/>
              <p:cNvGrpSpPr/>
              <p:nvPr/>
            </p:nvGrpSpPr>
            <p:grpSpPr>
              <a:xfrm>
                <a:off x="695880" y="4357800"/>
                <a:ext cx="401400" cy="90000"/>
                <a:chOff x="695880" y="4357800"/>
                <a:chExt cx="401400" cy="90000"/>
              </a:xfrm>
            </p:grpSpPr>
            <p:sp>
              <p:nvSpPr>
                <p:cNvPr id="279" name="Rectangle 42"/>
                <p:cNvSpPr/>
                <p:nvPr/>
              </p:nvSpPr>
              <p:spPr>
                <a:xfrm>
                  <a:off x="695880" y="4357800"/>
                  <a:ext cx="401400" cy="90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Rectangle 43"/>
                <p:cNvSpPr/>
                <p:nvPr/>
              </p:nvSpPr>
              <p:spPr>
                <a:xfrm>
                  <a:off x="716760" y="4359960"/>
                  <a:ext cx="28440" cy="81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81" name="Freeform 49"/>
              <p:cNvSpPr/>
              <p:nvPr/>
            </p:nvSpPr>
            <p:spPr>
              <a:xfrm>
                <a:off x="428760" y="4447800"/>
                <a:ext cx="936360" cy="19807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82" name="Rectangle 51"/>
            <p:cNvSpPr/>
            <p:nvPr/>
          </p:nvSpPr>
          <p:spPr>
            <a:xfrm>
              <a:off x="963720" y="5348160"/>
              <a:ext cx="4014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Text Box 53"/>
            <p:cNvSpPr/>
            <p:nvPr/>
          </p:nvSpPr>
          <p:spPr>
            <a:xfrm>
              <a:off x="963720" y="5438520"/>
              <a:ext cx="535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fc0000"/>
                  </a:solidFill>
                  <a:latin typeface="Arial"/>
                </a:rPr>
                <a:t>вод</a:t>
              </a: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Text Box 54"/>
            <p:cNvSpPr/>
            <p:nvPr/>
          </p:nvSpPr>
          <p:spPr>
            <a:xfrm>
              <a:off x="963720" y="5708520"/>
              <a:ext cx="535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fc0000"/>
                  </a:solidFill>
                  <a:latin typeface="Arial"/>
                </a:rPr>
                <a:t>осо</a:t>
              </a: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85" name="Picture 19" descr="H:\Алкоголизм\b1e06246176c94d466bf6ba59d1e1349.jpg"/>
          <p:cNvPicPr/>
          <p:nvPr/>
        </p:nvPicPr>
        <p:blipFill>
          <a:blip r:embed="rId1"/>
          <a:stretch/>
        </p:blipFill>
        <p:spPr>
          <a:xfrm>
            <a:off x="5214960" y="1214280"/>
            <a:ext cx="3708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отивы употребления алкоголя подростками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Диаграмма 3" descr=""/>
          <p:cNvPicPr/>
          <p:nvPr/>
        </p:nvPicPr>
        <p:blipFill>
          <a:blip r:embed="rId1"/>
          <a:srcRect l="-3128" t="-1944" r="-2005" b="-5341"/>
          <a:stretch/>
        </p:blipFill>
        <p:spPr>
          <a:xfrm>
            <a:off x="714240" y="1785960"/>
            <a:ext cx="80726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210440" cy="116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сихологические предпосылки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35744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ая или наоборот, завышенная самооц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ости в общ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ие комплекс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мение справляться со своими чувст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й уровень внутреннего напряжения, длительный стре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лонность к рискованным ситуац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Объект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ствия алкоголизм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214200" y="1357200"/>
            <a:ext cx="3000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пьющего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рата самоконтрол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частные случа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авление алкоголем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яжелые заболевания внутренних органов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трудоспособност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няя смерть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бийство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286680" y="1143000"/>
            <a:ext cx="25002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семьи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ы в семье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уважени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ьные трудност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4572000" y="5214960"/>
            <a:ext cx="435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общества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я общественного порядка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ожно-транспорные происшестви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улы в школе, институтах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5" name="Picture 2" descr="H:\Алкоголизм\alkogolizm_u_podrostkov2.jpg"/>
          <p:cNvPicPr/>
          <p:nvPr/>
        </p:nvPicPr>
        <p:blipFill>
          <a:blip r:embed="rId1"/>
          <a:stretch/>
        </p:blipFill>
        <p:spPr>
          <a:xfrm>
            <a:off x="4714920" y="257184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H:\Алкоголизм\i.jpegг.jpeg"/>
          <p:cNvPicPr/>
          <p:nvPr/>
        </p:nvPicPr>
        <p:blipFill>
          <a:blip r:embed="rId2"/>
          <a:stretch/>
        </p:blipFill>
        <p:spPr>
          <a:xfrm>
            <a:off x="428760" y="4572000"/>
            <a:ext cx="23382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44:57Z</dcterms:created>
  <dc:creator>Admin</dc:creator>
  <dc:description/>
  <dc:language>en-US</dc:language>
  <cp:lastModifiedBy>Николай</cp:lastModifiedBy>
  <dcterms:modified xsi:type="dcterms:W3CDTF">2011-01-26T18:27:09Z</dcterms:modified>
  <cp:revision>61</cp:revision>
  <dc:subject/>
  <dc:title>     Проблема  подросткового алкоголизма</dc:title>
</cp:coreProperties>
</file>