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6.png" ContentType="image/png"/>
  <Override PartName="/ppt/media/image19.jpeg" ContentType="image/jpeg"/>
  <Override PartName="/ppt/media/image43.jpeg" ContentType="image/jpeg"/>
  <Override PartName="/ppt/media/image45.gif" ContentType="image/gif"/>
  <Override PartName="/ppt/media/image8.jpeg" ContentType="image/jpeg"/>
  <Override PartName="/ppt/media/image39.jpeg" ContentType="image/jpeg"/>
  <Override PartName="/ppt/media/image11.png" ContentType="image/png"/>
  <Override PartName="/ppt/media/image9.jpeg" ContentType="image/jpeg"/>
  <Override PartName="/ppt/media/image6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139-861F-44E8-A513-D20CBD16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B4D-3B73-464F-AE72-46ABE1A9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B80-B89D-4593-931C-9B7BE999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AA6-5D65-4A3C-B5F1-1AA893D9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D8DE-A41E-46EE-88B5-BC738E56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2073-943A-4E42-9F84-CADC3BC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6D78-C7C4-4AE9-B8BB-3AEECB97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ADC9-0FE0-4A59-A15A-09D874B9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4595-9213-4CBD-B2F2-09753B24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628B-793E-4AA2-B8C4-57549C38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39A4-D310-4981-8692-81A00BA0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311-2C53-4469-9C49-D4498C15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2D38-A381-401E-A9F8-911DE967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5A5A-CBF3-4A83-ADFE-CEDEFDBF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F1D6-FEA1-4D2D-8828-076C9AC6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C93C-7978-4E18-8438-A673A8D7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A29A-2CE9-4F5E-A964-C6B268A7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D76A-6D61-468A-B600-1C6CE3B1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7014-5450-41C7-8611-1AED422E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24CFC-2D15-4739-B92D-A3BBD585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835EE-FF66-4069-AB93-00EBE691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F28C-1922-4B70-B534-4483F3C5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1AD-1965-42DF-B544-3CAEF20F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192E5-FE56-4C90-9817-4829E10E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D693-2E89-4A2F-9AF0-8A4FC822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3BDD9-AF9C-47D0-86C7-DA04815E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CEF6-AA8D-4E6B-A909-5D2FC653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697E6-8023-47D0-B192-34D45EE3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C2EB8-6B7C-40B7-8334-52117D7A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F2D87-F543-462D-94EE-5908A5D5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A4071-AAE5-4C89-8F47-44AEBF3E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7623-7DE0-4746-B975-8C438C74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FBB1B-62E0-4367-A040-DE82C432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170-8C2B-4B71-B369-FA45FC70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23378-384A-4ABD-8655-6A9CB57C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43C8-8F29-4903-A80E-26C508B6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D2F12-8A7B-4E05-A68F-E487D516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A9498-F6A7-448C-9E07-48351C7A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F666-E28D-462E-871E-510C575B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9CCF-A776-4C8B-9E93-E05F26D7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B90F-F576-4915-B8A5-04979230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2944D-B89B-476F-9A60-DD4A7970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2BB4B-389D-45B3-9114-28AE227B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8C2BA-C69C-453A-BCDD-1081D1CE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7C2-A975-47D8-BA2E-E45962DE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15E6D-A962-42E8-A6B8-092CF174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065CC-74CE-488D-BAEA-63AA53E6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D6268-4BDE-41D8-8FBF-ED60C9DF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90383-0E88-4CD1-8E02-8040E211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06A3B-00F7-49BB-8E1D-09623531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4CDB2-63C4-4344-B27A-63FCD0B9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C1BC0-EC76-4B30-8E9B-A2A610AB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5753B-AC4F-4C92-822F-FC8A2DA8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EE7F8-EE96-40F2-9AC4-2838B804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A11E6-249D-4015-8AD4-278A0673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335-5B51-46E2-A972-3205E17D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4E45B-8D67-4F1E-8189-069191AD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D144F-9182-46B9-BEAE-4FEE4EC2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98B57-F5CF-423A-BA7A-E8B4C63D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EF82C-C6E6-4AF9-9BC7-740B537B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AD7DC-BC4A-45CE-B0DC-C39D4AFD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C9826-B5B5-4CD3-B1CF-2F35EFCA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2DF70-32CF-45AF-B009-BB64A601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377C5-FD0B-40EF-92CB-073268AB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E5BBA-3020-4E90-8AA1-67371C84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104E8-368E-4C12-80B6-450D1201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B33-9120-4693-BBF4-D465A77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2DA77-03D0-4A46-A3BF-D7514FEB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95171-4635-412A-B1D2-FEDBF4EA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8F4B4-D782-444B-A058-B92EEEEC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692-35F4-4C7B-B38F-9511668C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C74-960B-46F7-9695-DA9ADF8A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F493-3758-4CB4-BBA3-751FCD097FD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EF23-86B4-4D44-9F3A-EF8D3583536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2007-0534-47EB-84E4-CA580E0E178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9691-657F-481E-B72C-B23F09A57BD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5E2D-AF11-48F8-8D18-B1F4A4DAFBD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7FF3-955B-4AFB-B820-9F3EEC193BB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72240" y="4929120"/>
            <a:ext cx="5815080" cy="1656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Залялова А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ца 11А класса МОУ «СОШ №8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Москвина Светлана Олег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обществознания и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Заголовок 5" descr=""/>
          <p:cNvPicPr/>
          <p:nvPr/>
        </p:nvPicPr>
        <p:blipFill>
          <a:blip r:embed="rId1"/>
          <a:stretch/>
        </p:blipFill>
        <p:spPr>
          <a:xfrm>
            <a:off x="706320" y="317520"/>
            <a:ext cx="7583760" cy="2779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H:\Алкоголизм\872125040.jpg"/>
          <p:cNvPicPr/>
          <p:nvPr/>
        </p:nvPicPr>
        <p:blipFill>
          <a:blip r:embed="rId2"/>
          <a:stretch/>
        </p:blipFill>
        <p:spPr>
          <a:xfrm>
            <a:off x="0" y="3643200"/>
            <a:ext cx="3059280" cy="2040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:\Алкоголизм\g47611.jpg"/>
          <p:cNvPicPr/>
          <p:nvPr/>
        </p:nvPicPr>
        <p:blipFill>
          <a:blip r:embed="rId3"/>
          <a:stretch/>
        </p:blipFill>
        <p:spPr>
          <a:xfrm>
            <a:off x="1928880" y="5262480"/>
            <a:ext cx="22194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циальные последствия алкоголизма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е круга общ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 отвергает алкоголиков и избегает и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интересно и не нужно обществ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яц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социальных навык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друзей , довер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ушение отношений в семь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работы , учёб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жающий мир воспринимается враждеб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358120" cy="178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следствия на подсознательном уровне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28800" y="4929120"/>
            <a:ext cx="292896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36000"/>
          </a:bodyPr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разруш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сли и попытки суиц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интереса к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гоцентриз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нев на Б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нравственных ценн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3480" indent="-1234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ничт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Объект 4" descr=""/>
          <p:cNvPicPr/>
          <p:nvPr/>
        </p:nvPicPr>
        <p:blipFill>
          <a:blip r:embed="rId1"/>
          <a:stretch/>
        </p:blipFill>
        <p:spPr>
          <a:xfrm>
            <a:off x="5334120" y="250020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0" y="42876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Употребление пива увеличивает риск развития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РАКА ГРУДИ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3" name="Picture 4" descr="рак гр"/>
          <p:cNvPicPr/>
          <p:nvPr/>
        </p:nvPicPr>
        <p:blipFill>
          <a:blip r:embed="rId1"/>
          <a:stretch/>
        </p:blipFill>
        <p:spPr>
          <a:xfrm>
            <a:off x="843120" y="2428920"/>
            <a:ext cx="3535200" cy="4124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так гр"/>
          <p:cNvPicPr/>
          <p:nvPr/>
        </p:nvPicPr>
        <p:blipFill>
          <a:blip r:embed="rId2"/>
          <a:stretch/>
        </p:blipFill>
        <p:spPr>
          <a:xfrm>
            <a:off x="4500720" y="2428920"/>
            <a:ext cx="32144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351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лазные болезни, спровоцированные </a:t>
            </a: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употреблением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ива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к развития катаракты и макулопатии увеличивается в 1.5-3 раза</a:t>
            </a:r>
            <a:br>
              <a:rPr sz="4800"/>
            </a:br>
            <a:br>
              <a:rPr sz="4800"/>
            </a:b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6" name="Picture 4" descr="4-15"/>
          <p:cNvPicPr/>
          <p:nvPr/>
        </p:nvPicPr>
        <p:blipFill>
          <a:blip r:embed="rId1"/>
          <a:stretch/>
        </p:blipFill>
        <p:spPr>
          <a:xfrm>
            <a:off x="4676760" y="2755800"/>
            <a:ext cx="3110040" cy="3870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katarakta"/>
          <p:cNvPicPr/>
          <p:nvPr/>
        </p:nvPicPr>
        <p:blipFill>
          <a:blip r:embed="rId2"/>
          <a:stretch/>
        </p:blipFill>
        <p:spPr>
          <a:xfrm>
            <a:off x="457200" y="2666880"/>
            <a:ext cx="3333600" cy="28558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6"/>
          <p:cNvSpPr/>
          <p:nvPr/>
        </p:nvSpPr>
        <p:spPr>
          <a:xfrm>
            <a:off x="4357800" y="5857920"/>
            <a:ext cx="4190760" cy="794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кулопа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офия желтого пятна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838080" y="5791320"/>
            <a:ext cx="2590920" cy="457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аракта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Алкоголизм\814_1.jpg"/>
          <p:cNvPicPr/>
          <p:nvPr/>
        </p:nvPicPr>
        <p:blipFill>
          <a:blip r:embed="rId1"/>
          <a:stretch/>
        </p:blipFill>
        <p:spPr>
          <a:xfrm>
            <a:off x="428760" y="142920"/>
            <a:ext cx="81439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only beer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25239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154440" y="4572000"/>
            <a:ext cx="87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ИВО — </a:t>
            </a:r>
            <a:r>
              <a:rPr b="1" lang="ru-RU" sz="4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аркотик для начинающих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5181480" y="533520"/>
            <a:ext cx="3581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ый санитарный врач РФ Геннадий Онищенко:</a:t>
            </a:r>
            <a:br>
              <a:rPr sz="31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5105520" y="3505320"/>
            <a:ext cx="374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СПИД, не туберкулез погубят Россию, а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ивной алкоголизм среди юного поколения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15" name="Picture 4" descr="KSP_006541_00074_1m"/>
          <p:cNvPicPr/>
          <p:nvPr/>
        </p:nvPicPr>
        <p:blipFill>
          <a:blip r:embed="rId1"/>
          <a:stretch/>
        </p:blipFill>
        <p:spPr>
          <a:xfrm>
            <a:off x="228600" y="228600"/>
            <a:ext cx="43257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285560"/>
            <a:ext cx="60721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Подростковый возраст-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ершающий этап развития человека. Бывает трудно в одиночку справиться с подростковым алкоголизмом, в рамках семьи решать такие задачи. Те кто столкнулся с этой бедой, не должны бояться попросить помощи у специалис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Рисунок 5" descr="Картинка 18 из 60"/>
          <p:cNvPicPr/>
          <p:nvPr/>
        </p:nvPicPr>
        <p:blipFill>
          <a:blip r:embed="rId1"/>
          <a:stretch/>
        </p:blipFill>
        <p:spPr>
          <a:xfrm rot="435600">
            <a:off x="6036840" y="1464840"/>
            <a:ext cx="2981520" cy="218304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Картинка 6 из 60"/>
          <p:cNvPicPr/>
          <p:nvPr/>
        </p:nvPicPr>
        <p:blipFill>
          <a:blip r:embed="rId2"/>
          <a:stretch/>
        </p:blipFill>
        <p:spPr>
          <a:xfrm rot="20292000">
            <a:off x="5785920" y="4428720"/>
            <a:ext cx="2511720" cy="1838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H:\Алкоголизм\resize.jpeg"/>
          <p:cNvPicPr/>
          <p:nvPr/>
        </p:nvPicPr>
        <p:blipFill>
          <a:blip r:embed="rId3"/>
          <a:stretch/>
        </p:blipFill>
        <p:spPr>
          <a:xfrm>
            <a:off x="1643040" y="4357800"/>
            <a:ext cx="27860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5" descr="Картинка 3 из 60"/>
          <p:cNvPicPr/>
          <p:nvPr/>
        </p:nvPicPr>
        <p:blipFill>
          <a:blip r:embed="rId1"/>
          <a:stretch/>
        </p:blipFill>
        <p:spPr>
          <a:xfrm rot="20776200">
            <a:off x="259920" y="380880"/>
            <a:ext cx="3524400" cy="26193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" descr="Картинка 10 из 60"/>
          <p:cNvPicPr/>
          <p:nvPr/>
        </p:nvPicPr>
        <p:blipFill>
          <a:blip r:embed="rId2"/>
          <a:stretch/>
        </p:blipFill>
        <p:spPr>
          <a:xfrm rot="21007800">
            <a:off x="3658680" y="550800"/>
            <a:ext cx="2700360" cy="20383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"/>
          <p:cNvSpPr/>
          <p:nvPr/>
        </p:nvSpPr>
        <p:spPr>
          <a:xfrm>
            <a:off x="1857240" y="2658240"/>
            <a:ext cx="521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е подросткового алкоголизма нужно уделять особое внимание, не пускать все на самотек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и –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удуще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ей страны, и если не обратить на это внимание сегодня, то завтра, возможно, будет уже поздно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23" name="Picture 2" descr="H:\Алкоголизм\114-12-2.jpg"/>
          <p:cNvPicPr/>
          <p:nvPr/>
        </p:nvPicPr>
        <p:blipFill>
          <a:blip r:embed="rId3"/>
          <a:stretch/>
        </p:blipFill>
        <p:spPr>
          <a:xfrm rot="720000">
            <a:off x="6300360" y="1144080"/>
            <a:ext cx="22636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28400" y="642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ьянство или алкоголизм -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щь страшная. Из-за этой напасти тысячи здоровых подростков выбиты из колеи нормальной жизни. Но бороться с этим злом можно и нужно. Доведенные до отчаяния близкие алкоголика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огут помочь ем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H:\Алкоголизм\alcohol.jpg"/>
          <p:cNvPicPr/>
          <p:nvPr/>
        </p:nvPicPr>
        <p:blipFill>
          <a:blip r:embed="rId1"/>
          <a:stretch/>
        </p:blipFill>
        <p:spPr>
          <a:xfrm>
            <a:off x="6286680" y="3714840"/>
            <a:ext cx="2190600" cy="2190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H:\Алкоголизм\1096154_20080908164708.jpeg"/>
          <p:cNvPicPr/>
          <p:nvPr/>
        </p:nvPicPr>
        <p:blipFill>
          <a:blip r:embed="rId2"/>
          <a:stretch/>
        </p:blipFill>
        <p:spPr>
          <a:xfrm>
            <a:off x="1500120" y="4214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лкоголизм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хроническое заболевание, развивающееся в результате систематического употребления спиртных напи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ростковый алкоголизм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проблема современной молодё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H:\Алкоголизм\ed3bf12d36ab.jpg"/>
          <p:cNvPicPr/>
          <p:nvPr/>
        </p:nvPicPr>
        <p:blipFill>
          <a:blip r:embed="rId1"/>
          <a:stretch/>
        </p:blipFill>
        <p:spPr>
          <a:xfrm rot="487200">
            <a:off x="5285880" y="4013280"/>
            <a:ext cx="3329280" cy="2496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H:\Алкоголизм\iam-_3_.jpg"/>
          <p:cNvPicPr/>
          <p:nvPr/>
        </p:nvPicPr>
        <p:blipFill>
          <a:blip r:embed="rId2"/>
          <a:stretch/>
        </p:blipFill>
        <p:spPr>
          <a:xfrm rot="20928600">
            <a:off x="857160" y="4142880"/>
            <a:ext cx="151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81"/>
          <p:cNvSpPr/>
          <p:nvPr/>
        </p:nvSpPr>
        <p:spPr>
          <a:xfrm>
            <a:off x="428760" y="2495520"/>
            <a:ext cx="629892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еспечение и защита конституционных прав несовершеннолетних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AutoShape 82"/>
          <p:cNvSpPr/>
          <p:nvPr/>
        </p:nvSpPr>
        <p:spPr>
          <a:xfrm>
            <a:off x="428760" y="1962000"/>
            <a:ext cx="662148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явление и пресечение случаев жестокого обращения с подростками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9" name="AutoShape 83"/>
          <p:cNvSpPr/>
          <p:nvPr/>
        </p:nvSpPr>
        <p:spPr>
          <a:xfrm>
            <a:off x="428760" y="1428840"/>
            <a:ext cx="695628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азание помощи подросткам, оказавшимся в трудной жизненной ситуации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0" name="AutoShape 84"/>
          <p:cNvSpPr/>
          <p:nvPr/>
        </p:nvSpPr>
        <p:spPr>
          <a:xfrm>
            <a:off x="428760" y="3036960"/>
            <a:ext cx="524988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азание помощи по предупреждению правонарушений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1" name="AutoShape 85"/>
          <p:cNvSpPr/>
          <p:nvPr/>
        </p:nvSpPr>
        <p:spPr>
          <a:xfrm>
            <a:off x="428760" y="3564000"/>
            <a:ext cx="3714480" cy="37332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филактическая работа с семьями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4357800" y="4000680"/>
            <a:ext cx="43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ЕРЯЙТЕ НАДЕЖУ И ВСЕ БУДЕТ У ВАС ХОРОШО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едь они тоже люди не отворачивайтесь от них,им тяжело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33" name="Picture 3" descr="H:\Алкоголизм\p_img_57806184.jpg"/>
          <p:cNvPicPr/>
          <p:nvPr/>
        </p:nvPicPr>
        <p:blipFill>
          <a:blip r:embed="rId1"/>
          <a:stretch/>
        </p:blipFill>
        <p:spPr>
          <a:xfrm>
            <a:off x="642960" y="43578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80"/>
          <p:cNvSpPr/>
          <p:nvPr/>
        </p:nvSpPr>
        <p:spPr>
          <a:xfrm>
            <a:off x="2428920" y="357120"/>
            <a:ext cx="5943600" cy="441360"/>
          </a:xfrm>
          <a:prstGeom prst="roundRect">
            <a:avLst>
              <a:gd name="adj" fmla="val 16667"/>
            </a:avLst>
          </a:prstGeom>
          <a:solidFill>
            <a:srgbClr val="00c8c3"/>
          </a:soli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етоды профилактической работы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Горизонтальный свиток 3"/>
          <p:cNvSpPr/>
          <p:nvPr/>
        </p:nvSpPr>
        <p:spPr>
          <a:xfrm>
            <a:off x="857160" y="428760"/>
            <a:ext cx="7500960" cy="2000160"/>
          </a:xfrm>
          <a:prstGeom prst="horizontalScroll">
            <a:avLst>
              <a:gd name="adj" fmla="val 1250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1857240" y="79380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285840" y="3218400"/>
            <a:ext cx="578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ьянство распространено среди подростков, жизнь которых характеризуется трудовой, бытовой и семейной неустроенностью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38" name="Picture 3" descr="H:\Алкоголизм\080929_BEER_A.jpg"/>
          <p:cNvPicPr/>
          <p:nvPr/>
        </p:nvPicPr>
        <p:blipFill>
          <a:blip r:embed="rId1"/>
          <a:stretch/>
        </p:blipFill>
        <p:spPr>
          <a:xfrm>
            <a:off x="6143760" y="2428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5" descr="Картинка 2 из 60"/>
          <p:cNvPicPr/>
          <p:nvPr/>
        </p:nvPicPr>
        <p:blipFill>
          <a:blip r:embed="rId2"/>
          <a:stretch/>
        </p:blipFill>
        <p:spPr>
          <a:xfrm>
            <a:off x="4286160" y="4575240"/>
            <a:ext cx="3089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"/>
          <p:cNvSpPr/>
          <p:nvPr/>
        </p:nvSpPr>
        <p:spPr>
          <a:xfrm>
            <a:off x="4857840" y="2093400"/>
            <a:ext cx="36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ствия употребления алкоголя для ребёнка тяжёлые, прежде всего в эмоциональном плане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1" name="Рисунок 5" descr="Картинка 13 из 60"/>
          <p:cNvPicPr/>
          <p:nvPr/>
        </p:nvPicPr>
        <p:blipFill>
          <a:blip r:embed="rId1"/>
          <a:stretch/>
        </p:blipFill>
        <p:spPr>
          <a:xfrm rot="21033600">
            <a:off x="802800" y="722160"/>
            <a:ext cx="2889360" cy="2200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:\Алкоголизм\1256732388_minnoe_pole_009.jpg"/>
          <p:cNvPicPr/>
          <p:nvPr/>
        </p:nvPicPr>
        <p:blipFill>
          <a:blip r:embed="rId2"/>
          <a:stretch/>
        </p:blipFill>
        <p:spPr>
          <a:xfrm>
            <a:off x="1643040" y="3429000"/>
            <a:ext cx="2333520" cy="2938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H:\Алкоголизм\20770_max.jpg"/>
          <p:cNvPicPr/>
          <p:nvPr/>
        </p:nvPicPr>
        <p:blipFill>
          <a:blip r:embed="rId3"/>
          <a:stretch/>
        </p:blipFill>
        <p:spPr>
          <a:xfrm rot="289200">
            <a:off x="6072120" y="3714480"/>
            <a:ext cx="2278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3357720" y="145512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ковый алкоголизма излечим. Для этого прежде всего важно участие самого ребенка, его желание избавиться от зависимости и продолжить счастливую жизнь без алкоголя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5" name="Picture 2" descr="H:\Алкоголизм\Alcoholism.jpg"/>
          <p:cNvPicPr/>
          <p:nvPr/>
        </p:nvPicPr>
        <p:blipFill>
          <a:blip r:embed="rId1"/>
          <a:stretch/>
        </p:blipFill>
        <p:spPr>
          <a:xfrm>
            <a:off x="285840" y="571680"/>
            <a:ext cx="3016080" cy="2259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H:\Алкоголизм\200909041630030.pivo1.jpg"/>
          <p:cNvPicPr/>
          <p:nvPr/>
        </p:nvPicPr>
        <p:blipFill>
          <a:blip r:embed="rId2"/>
          <a:stretch/>
        </p:blipFill>
        <p:spPr>
          <a:xfrm>
            <a:off x="5500800" y="3573360"/>
            <a:ext cx="3105000" cy="2894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H:\Алкоголизм\ni_1bb160c013a43d5739ab5d7e966647dc.jpg"/>
          <p:cNvPicPr/>
          <p:nvPr/>
        </p:nvPicPr>
        <p:blipFill>
          <a:blip r:embed="rId3"/>
          <a:stretch/>
        </p:blipFill>
        <p:spPr>
          <a:xfrm>
            <a:off x="785880" y="400068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4286160" y="200520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оровый образ жизни, внимание, истинный интерес к проблемам подростка - вот что поможет отвести беду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9" name="Picture 2" descr="H:\Алкоголизм\photo.jpg"/>
          <p:cNvPicPr/>
          <p:nvPr/>
        </p:nvPicPr>
        <p:blipFill>
          <a:blip r:embed="rId1"/>
          <a:stretch/>
        </p:blipFill>
        <p:spPr>
          <a:xfrm>
            <a:off x="4714920" y="4191120"/>
            <a:ext cx="4103640" cy="2666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H:\Алкоголизм\teenage-drinking.jpg"/>
          <p:cNvPicPr/>
          <p:nvPr/>
        </p:nvPicPr>
        <p:blipFill>
          <a:blip r:embed="rId2"/>
          <a:stretch/>
        </p:blipFill>
        <p:spPr>
          <a:xfrm>
            <a:off x="857160" y="1143000"/>
            <a:ext cx="25005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H:\Алкоголизм\ef43ff047936.jpg"/>
          <p:cNvPicPr/>
          <p:nvPr/>
        </p:nvPicPr>
        <p:blipFill>
          <a:blip r:embed="rId1"/>
          <a:stretch/>
        </p:blipFill>
        <p:spPr>
          <a:xfrm rot="285000">
            <a:off x="5587560" y="4400640"/>
            <a:ext cx="3351240" cy="229716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7" descr=""/>
          <p:cNvPicPr/>
          <p:nvPr/>
        </p:nvPicPr>
        <p:blipFill>
          <a:blip r:embed="rId2"/>
          <a:stretch/>
        </p:blipFill>
        <p:spPr>
          <a:xfrm>
            <a:off x="480960" y="-208080"/>
            <a:ext cx="7834320" cy="21225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8"/>
          <p:cNvSpPr/>
          <p:nvPr/>
        </p:nvSpPr>
        <p:spPr>
          <a:xfrm>
            <a:off x="214200" y="2571840"/>
            <a:ext cx="37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е будущее и будущее наших детей должно быть светлым и счастливым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 не допустить ошибку и делать все для того, чтобы ребенок чувствовал себя любимым, и нужным в этом мир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54" name="Picture 7" descr="H:\Алкоголизм\i.jpegа.jpeg"/>
          <p:cNvPicPr/>
          <p:nvPr/>
        </p:nvPicPr>
        <p:blipFill>
          <a:blip r:embed="rId3"/>
          <a:stretch/>
        </p:blipFill>
        <p:spPr>
          <a:xfrm>
            <a:off x="6311880" y="2144880"/>
            <a:ext cx="2535120" cy="1688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H:\Алкоголизм\i.jpegап.jpeg"/>
          <p:cNvPicPr/>
          <p:nvPr/>
        </p:nvPicPr>
        <p:blipFill>
          <a:blip r:embed="rId4"/>
          <a:stretch/>
        </p:blipFill>
        <p:spPr>
          <a:xfrm rot="240600">
            <a:off x="3979440" y="2866680"/>
            <a:ext cx="235764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моё настороение"/>
          <p:cNvPicPr/>
          <p:nvPr/>
        </p:nvPicPr>
        <p:blipFill>
          <a:blip r:embed="rId1"/>
          <a:stretch/>
        </p:blipFill>
        <p:spPr>
          <a:xfrm>
            <a:off x="2205000" y="333360"/>
            <a:ext cx="5246640" cy="4103640"/>
          </a:xfrm>
          <a:prstGeom prst="rect">
            <a:avLst/>
          </a:prstGeom>
          <a:ln w="0">
            <a:noFill/>
          </a:ln>
        </p:spPr>
      </p:pic>
      <p:sp>
        <p:nvSpPr>
          <p:cNvPr id="357" name="WordArt 5"/>
          <p:cNvSpPr txBox="1"/>
          <p:nvPr/>
        </p:nvSpPr>
        <p:spPr>
          <a:xfrm>
            <a:off x="3276720" y="3716280"/>
            <a:ext cx="4705200" cy="21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аше здоровье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лько в ваших руках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8" name="Picture 6" descr="Сердце"/>
          <p:cNvPicPr/>
          <p:nvPr/>
        </p:nvPicPr>
        <p:blipFill>
          <a:blip r:embed="rId6"/>
          <a:stretch/>
        </p:blipFill>
        <p:spPr>
          <a:xfrm>
            <a:off x="179280" y="4797360"/>
            <a:ext cx="179568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4"/>
          <p:cNvSpPr/>
          <p:nvPr/>
        </p:nvSpPr>
        <p:spPr>
          <a:xfrm>
            <a:off x="2143080" y="285840"/>
            <a:ext cx="521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татистика подросткового алкоголизма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62" name="Диаграмма 1" descr=""/>
          <p:cNvPicPr/>
          <p:nvPr/>
        </p:nvPicPr>
        <p:blipFill>
          <a:blip r:embed="rId1"/>
          <a:srcRect l="-2225" t="-3006" r="-1935" b="-5121"/>
          <a:stretch/>
        </p:blipFill>
        <p:spPr>
          <a:xfrm>
            <a:off x="571680" y="1500120"/>
            <a:ext cx="80722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99680" y="1857240"/>
            <a:ext cx="7991640" cy="21434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ч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снить причины подросткового алкогол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последствия употребления алкоголя подрост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ить разные точки зрения на излечимость детского алкогол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ь несовместимость алкоголизма и счастливого будущ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571680" y="285840"/>
            <a:ext cx="757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зать опасность подросткового алкоголизма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65" name="Picture 5" descr="H:\Алкоголизм\178333.jpg"/>
          <p:cNvPicPr/>
          <p:nvPr/>
        </p:nvPicPr>
        <p:blipFill>
          <a:blip r:embed="rId1"/>
          <a:stretch/>
        </p:blipFill>
        <p:spPr>
          <a:xfrm>
            <a:off x="5500800" y="4286160"/>
            <a:ext cx="2743200" cy="2239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H:\Алкоголизм\01212009140500.jpg"/>
          <p:cNvPicPr/>
          <p:nvPr/>
        </p:nvPicPr>
        <p:blipFill>
          <a:blip r:embed="rId2"/>
          <a:stretch/>
        </p:blipFill>
        <p:spPr>
          <a:xfrm>
            <a:off x="1214280" y="4143240"/>
            <a:ext cx="27003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5" descr="alk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3244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. 9"/>
          <p:cNvSpPr/>
          <p:nvPr/>
        </p:nvSpPr>
        <p:spPr>
          <a:xfrm>
            <a:off x="357120" y="3886200"/>
            <a:ext cx="3962520" cy="2971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2009 году на учёте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медучреждениях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ода Когалыма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ходились 42 подростка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 диагнозом алкоголизм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Прямоуг. 8"/>
          <p:cNvSpPr/>
          <p:nvPr/>
        </p:nvSpPr>
        <p:spPr>
          <a:xfrm>
            <a:off x="4429080" y="3809880"/>
            <a:ext cx="4191120" cy="3048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России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егодня регулярно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потребляют алкогольные напитки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1,5 тысяч детей,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 них более 16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возрасте от 10 до 14 лет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ставлен диагноз «алкоголизм»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3"/>
          <p:cNvSpPr/>
          <p:nvPr/>
        </p:nvSpPr>
        <p:spPr>
          <a:xfrm>
            <a:off x="0" y="142884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2f2f2"/>
                </a:solidFill>
                <a:uFillTx/>
                <a:latin typeface="Times New Roman"/>
                <a:ea typeface="Times New Roman"/>
              </a:rPr>
              <a:t>Особенности детского алкоголизма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ыстрое привыкание к спиртным напиткам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локачественное течение болезн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ятие больших доз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зкая эффективность лечения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3000240" y="3857760"/>
            <a:ext cx="4286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ричины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еблагополучие семь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озитивная реклама в СМ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незанятость свободного времени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тсутствие знаний о последствиях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амоутверждение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2f2f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ход от окружающих проблем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72" name="Group 55"/>
          <p:cNvGrpSpPr/>
          <p:nvPr/>
        </p:nvGrpSpPr>
        <p:grpSpPr>
          <a:xfrm>
            <a:off x="428760" y="4357800"/>
            <a:ext cx="1070640" cy="2070720"/>
            <a:chOff x="428760" y="4357800"/>
            <a:chExt cx="1070640" cy="2070720"/>
          </a:xfrm>
        </p:grpSpPr>
        <p:grpSp>
          <p:nvGrpSpPr>
            <p:cNvPr id="273" name="Group 50"/>
            <p:cNvGrpSpPr/>
            <p:nvPr/>
          </p:nvGrpSpPr>
          <p:grpSpPr>
            <a:xfrm>
              <a:off x="428760" y="4357800"/>
              <a:ext cx="936360" cy="2070720"/>
              <a:chOff x="428760" y="4357800"/>
              <a:chExt cx="936360" cy="2070720"/>
            </a:xfrm>
          </p:grpSpPr>
          <p:sp>
            <p:nvSpPr>
              <p:cNvPr id="274" name="Rectangle 10"/>
              <p:cNvSpPr/>
              <p:nvPr/>
            </p:nvSpPr>
            <p:spPr>
              <a:xfrm>
                <a:off x="428760" y="5258160"/>
                <a:ext cx="936360" cy="1151640"/>
              </a:xfrm>
              <a:prstGeom prst="rect">
                <a:avLst/>
              </a:prstGeom>
              <a:solidFill>
                <a:srgbClr val="e3e8e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75" name="Group 8"/>
              <p:cNvGrpSpPr/>
              <p:nvPr/>
            </p:nvGrpSpPr>
            <p:grpSpPr>
              <a:xfrm>
                <a:off x="561960" y="4988160"/>
                <a:ext cx="250560" cy="1076400"/>
                <a:chOff x="561960" y="4988160"/>
                <a:chExt cx="250560" cy="1076400"/>
              </a:xfrm>
            </p:grpSpPr>
            <p:sp>
              <p:nvSpPr>
                <p:cNvPr id="276" name="Freeform 6"/>
                <p:cNvSpPr/>
                <p:nvPr/>
              </p:nvSpPr>
              <p:spPr>
                <a:xfrm>
                  <a:off x="561960" y="4988160"/>
                  <a:ext cx="250560" cy="241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77" name="Rectangle 7"/>
                <p:cNvSpPr/>
                <p:nvPr/>
              </p:nvSpPr>
              <p:spPr>
                <a:xfrm>
                  <a:off x="564840" y="5230080"/>
                  <a:ext cx="88920" cy="834480"/>
                </a:xfrm>
                <a:prstGeom prst="rect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78" name="Group 44"/>
              <p:cNvGrpSpPr/>
              <p:nvPr/>
            </p:nvGrpSpPr>
            <p:grpSpPr>
              <a:xfrm>
                <a:off x="695880" y="4357800"/>
                <a:ext cx="401400" cy="90000"/>
                <a:chOff x="695880" y="4357800"/>
                <a:chExt cx="401400" cy="90000"/>
              </a:xfrm>
            </p:grpSpPr>
            <p:sp>
              <p:nvSpPr>
                <p:cNvPr id="279" name="Rectangle 42"/>
                <p:cNvSpPr/>
                <p:nvPr/>
              </p:nvSpPr>
              <p:spPr>
                <a:xfrm>
                  <a:off x="695880" y="4357800"/>
                  <a:ext cx="401400" cy="90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80" name="Rectangle 43"/>
                <p:cNvSpPr/>
                <p:nvPr/>
              </p:nvSpPr>
              <p:spPr>
                <a:xfrm>
                  <a:off x="716760" y="4359960"/>
                  <a:ext cx="28440" cy="81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81" name="Freeform 49"/>
              <p:cNvSpPr/>
              <p:nvPr/>
            </p:nvSpPr>
            <p:spPr>
              <a:xfrm>
                <a:off x="428760" y="4447800"/>
                <a:ext cx="936360" cy="198072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82" name="Rectangle 51"/>
            <p:cNvSpPr/>
            <p:nvPr/>
          </p:nvSpPr>
          <p:spPr>
            <a:xfrm>
              <a:off x="963720" y="5348160"/>
              <a:ext cx="40140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Text Box 53"/>
            <p:cNvSpPr/>
            <p:nvPr/>
          </p:nvSpPr>
          <p:spPr>
            <a:xfrm>
              <a:off x="963720" y="5438520"/>
              <a:ext cx="535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fc0000"/>
                  </a:solidFill>
                  <a:latin typeface="Arial"/>
                </a:rPr>
                <a:t>вод</a:t>
              </a:r>
              <a:endParaRPr b="0" lang="en-US" sz="5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4" name="Text Box 54"/>
            <p:cNvSpPr/>
            <p:nvPr/>
          </p:nvSpPr>
          <p:spPr>
            <a:xfrm>
              <a:off x="963720" y="5708520"/>
              <a:ext cx="535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fc0000"/>
                  </a:solidFill>
                  <a:latin typeface="Arial"/>
                </a:rPr>
                <a:t>осо</a:t>
              </a:r>
              <a:endParaRPr b="0" lang="en-US" sz="5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285" name="Picture 19" descr="H:\Алкоголизм\b1e06246176c94d466bf6ba59d1e1349.jpg"/>
          <p:cNvPicPr/>
          <p:nvPr/>
        </p:nvPicPr>
        <p:blipFill>
          <a:blip r:embed="rId1"/>
          <a:stretch/>
        </p:blipFill>
        <p:spPr>
          <a:xfrm>
            <a:off x="5214960" y="1214280"/>
            <a:ext cx="3708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отивы употребления алкоголя подростками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Диаграмма 3" descr=""/>
          <p:cNvPicPr/>
          <p:nvPr/>
        </p:nvPicPr>
        <p:blipFill>
          <a:blip r:embed="rId1"/>
          <a:srcRect l="-3128" t="-1944" r="-2005" b="-5341"/>
          <a:stretch/>
        </p:blipFill>
        <p:spPr>
          <a:xfrm>
            <a:off x="714240" y="1785960"/>
            <a:ext cx="80726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210440" cy="116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сихологические предпосылки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435744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зкая или наоборот, завышенная самооц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ности в общ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логические комплекс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мение справляться со своими чувств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ий уровень внутреннего напряжения, длительный стрес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лонность к рискованным ситуаци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Объект 4" descr=""/>
          <p:cNvPicPr/>
          <p:nvPr/>
        </p:nvPicPr>
        <p:blipFill>
          <a:blip r:embed="rId1"/>
          <a:stretch/>
        </p:blipFill>
        <p:spPr>
          <a:xfrm>
            <a:off x="5643720" y="1714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следствия алкоголизма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214200" y="1357200"/>
            <a:ext cx="30006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пьющего: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рата самоконтроля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ессивность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частные случаи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авление алкоголем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яжелые заболевания внутренних органов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трудоспособности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няя смерть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бийство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6286680" y="1143000"/>
            <a:ext cx="25002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семьи: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ликты в семье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ря уважения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ьные трудности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4572000" y="5214960"/>
            <a:ext cx="4357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общества: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я общественного порядка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ожно-транспорные происшествия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улы в школе, институтах</a:t>
            </a:r>
            <a:endParaRPr b="0" lang="en-US" sz="19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95" name="Picture 2" descr="H:\Алкоголизм\alkogolizm_u_podrostkov2.jpg"/>
          <p:cNvPicPr/>
          <p:nvPr/>
        </p:nvPicPr>
        <p:blipFill>
          <a:blip r:embed="rId1"/>
          <a:stretch/>
        </p:blipFill>
        <p:spPr>
          <a:xfrm>
            <a:off x="4714920" y="2571840"/>
            <a:ext cx="2138400" cy="1428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H:\Алкоголизм\i.jpegг.jpeg"/>
          <p:cNvPicPr/>
          <p:nvPr/>
        </p:nvPicPr>
        <p:blipFill>
          <a:blip r:embed="rId2"/>
          <a:stretch/>
        </p:blipFill>
        <p:spPr>
          <a:xfrm>
            <a:off x="428760" y="4572000"/>
            <a:ext cx="23382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44:57Z</dcterms:created>
  <dc:creator>Admin</dc:creator>
  <dc:description/>
  <dc:language>en-US</dc:language>
  <cp:lastModifiedBy>Николай</cp:lastModifiedBy>
  <dcterms:modified xsi:type="dcterms:W3CDTF">2011-01-26T18:27:09Z</dcterms:modified>
  <cp:revision>61</cp:revision>
  <dc:subject/>
  <dc:title>     Проблема  подросткового алкоголизма</dc:title>
</cp:coreProperties>
</file>