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033-372F-4840-AEBE-CC6C7BEF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286-BB49-40D9-9699-9EAAB55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5B2-E9B2-4D70-89A0-09BED589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E56-45D4-4536-BADA-45DFE5E0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ADE6-5229-40D1-8B9B-776A867B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978D-3C1B-40C7-8750-7B8F5EF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028C-D266-4C5E-BEBD-D67DB344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A70-CE9E-4E49-B3E4-B91A5A21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DAA-B25D-4FEB-A0AC-BC78E18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533A-2CEE-4D09-937D-0E28441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978E-8E54-430B-AB48-25A367F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DBB-3D09-4BF5-A211-A8C8D1B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4DEA-4E89-4F8F-99B1-44F2C09A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841E-D2BE-49BA-B2FF-FC60389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04F0-C138-4642-AE86-33BEFE52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5DF3-DE17-4EC7-A42A-D8385FFC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3A3-F23B-4722-8731-876EC575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D042-36E7-4B14-9DA3-C551616A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B1B2-8D20-48C2-BD81-2C3CE80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47E7-75B0-45C8-BA36-C6DDC5C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CB7D-8F81-45D6-A695-5D9AD12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DE36-E5A7-43B6-B3CE-BAEEF1E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CE4-5BAC-4709-A041-34658BFE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80E4-3A85-4312-A314-2D43B8CE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2FAA-737A-4886-A735-406962E0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5A4E-1C32-44C8-8CE8-84B2AAB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D23D-5291-490C-A68F-3683F98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45A2-B841-4D89-ACFC-21DCB809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8285-E699-479D-917A-AC17C3D2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7693-C309-4CE0-8D65-A1903A46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DA9-B0FD-49ED-8D5E-988433D8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4C4-D884-4CA7-9088-98AC6A92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882-D88B-4010-9F93-8C9E343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397-3AC1-4300-B89A-C335BD0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366-D3B5-4B34-9C27-9C4ADBB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9D1-1844-437D-BEA3-2F3A68F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D401-50A3-4E10-BBE1-9FDF41D81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4FAC-C7F0-410B-B4FF-77F6B9C47C5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E62F-338B-4C0E-B21A-1C67FB29FC2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57320" y="3860640"/>
          <a:ext cx="3119400" cy="10810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BBOXC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979640" y="4941720"/>
          <a:ext cx="1368360" cy="1440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OM210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932360" y="3860640"/>
          <a:ext cx="4056120" cy="100836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BSKTBALL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2916360" y="3933720"/>
          <a:ext cx="3743280" cy="10796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BABYTOY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932360" y="5734080"/>
          <a:ext cx="4056120" cy="86364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7320" y="404640"/>
          <a:ext cx="2974680" cy="86364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FSTV094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062080"/>
            <a:ext cx="6400800" cy="316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116000" y="5373720"/>
            <a:ext cx="6400800" cy="107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FSTV094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6"/>
          <p:cNvSpPr/>
          <p:nvPr/>
        </p:nvSpPr>
        <p:spPr>
          <a:xfrm flipV="1" rot="2278200">
            <a:off x="1066680" y="2057040"/>
            <a:ext cx="290520" cy="298440"/>
          </a:xfrm>
          <a:custGeom>
            <a:avLst/>
            <a:gdLst>
              <a:gd name="textAreaLeft" fmla="*/ 0 w 290520"/>
              <a:gd name="textAreaRight" fmla="*/ 290880 w 29052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19437" h="20779">
                <a:moveTo>
                  <a:pt x="5899" y="0"/>
                </a:moveTo>
                <a:cubicBezTo>
                  <a:pt x="11825" y="1682"/>
                  <a:pt x="16750" y="5815"/>
                  <a:pt x="19437" y="11357"/>
                </a:cubicBezTo>
              </a:path>
              <a:path stroke="0" w="19437" h="20779">
                <a:moveTo>
                  <a:pt x="5899" y="0"/>
                </a:moveTo>
                <a:cubicBezTo>
                  <a:pt x="11825" y="1682"/>
                  <a:pt x="16750" y="5815"/>
                  <a:pt x="19437" y="11357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10"/>
          <p:cNvSpPr/>
          <p:nvPr/>
        </p:nvSpPr>
        <p:spPr>
          <a:xfrm flipV="1" rot="2821800">
            <a:off x="3192840" y="2672640"/>
            <a:ext cx="312840" cy="298440"/>
          </a:xfrm>
          <a:custGeom>
            <a:avLst/>
            <a:gdLst>
              <a:gd name="textAreaLeft" fmla="*/ 0 w 312840"/>
              <a:gd name="textAreaRight" fmla="*/ 313200 w 31284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</a:path>
              <a:path stroke="0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8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43"/>
          <p:cNvSpPr/>
          <p:nvPr/>
        </p:nvSpPr>
        <p:spPr>
          <a:xfrm flipV="1" rot="2361600">
            <a:off x="2438280" y="2208960"/>
            <a:ext cx="268560" cy="220680"/>
          </a:xfrm>
          <a:custGeom>
            <a:avLst/>
            <a:gdLst>
              <a:gd name="textAreaLeft" fmla="*/ 0 w 268560"/>
              <a:gd name="textAreaRight" fmla="*/ 268920 w 26856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fill="none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</a:path>
              <a:path stroke="0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  <a:lnTo>
                  <a:pt x="9357" y="21600"/>
                </a:lnTo>
                <a:lnTo>
                  <a:pt x="-1" y="2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44"/>
          <p:cNvSpPr/>
          <p:nvPr/>
        </p:nvSpPr>
        <p:spPr>
          <a:xfrm flipV="1" rot="3367200">
            <a:off x="3175200" y="1319760"/>
            <a:ext cx="1493640" cy="266220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2662200"/>
              <a:gd name="textAreaBottom" fmla="*/ 2662200 h 2662200"/>
            </a:gdLst>
            <a:ahLst/>
            <a:rect l="textAreaLeft" t="textAreaTop" r="textAreaRight" b="textAreaBottom"/>
            <a:pathLst>
              <a:path fill="none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</a:path>
              <a:path stroke="0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  <a:lnTo>
                  <a:pt x="8798" y="21600"/>
                </a:lnTo>
                <a:lnTo>
                  <a:pt x="-1" y="187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9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7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0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6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6"/>
          <p:cNvSpPr/>
          <p:nvPr/>
        </p:nvSpPr>
        <p:spPr>
          <a:xfrm flipV="1" rot="3505800">
            <a:off x="1095120" y="1952280"/>
            <a:ext cx="398520" cy="455760"/>
          </a:xfrm>
          <a:custGeom>
            <a:avLst/>
            <a:gdLst>
              <a:gd name="textAreaLeft" fmla="*/ 0 w 398520"/>
              <a:gd name="textAreaRight" fmla="*/ 398880 w 3985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fill="none" w="21600" h="25274">
                <a:moveTo>
                  <a:pt x="6223" y="0"/>
                </a:moveTo>
                <a:cubicBezTo>
                  <a:pt x="15351" y="2746"/>
                  <a:pt x="21600" y="11151"/>
                  <a:pt x="21600" y="20684"/>
                </a:cubicBezTo>
                <a:cubicBezTo>
                  <a:pt x="21600" y="22227"/>
                  <a:pt x="21434" y="23765"/>
                  <a:pt x="21106" y="25273"/>
                </a:cubicBezTo>
              </a:path>
              <a:path stroke="0" w="21600" h="25274">
                <a:moveTo>
                  <a:pt x="6223" y="0"/>
                </a:moveTo>
                <a:cubicBezTo>
                  <a:pt x="15351" y="2746"/>
                  <a:pt x="21600" y="11151"/>
                  <a:pt x="21600" y="20684"/>
                </a:cubicBezTo>
                <a:cubicBezTo>
                  <a:pt x="21600" y="22227"/>
                  <a:pt x="21434" y="23765"/>
                  <a:pt x="21106" y="25273"/>
                </a:cubicBezTo>
                <a:lnTo>
                  <a:pt x="0" y="20684"/>
                </a:lnTo>
                <a:lnTo>
                  <a:pt x="622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10"/>
          <p:cNvSpPr/>
          <p:nvPr/>
        </p:nvSpPr>
        <p:spPr>
          <a:xfrm flipV="1" rot="2821800">
            <a:off x="3193200" y="2597760"/>
            <a:ext cx="312480" cy="298440"/>
          </a:xfrm>
          <a:custGeom>
            <a:avLst/>
            <a:gdLst>
              <a:gd name="textAreaLeft" fmla="*/ 0 w 312480"/>
              <a:gd name="textAreaRight" fmla="*/ 312480 w 31248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</a:path>
              <a:path stroke="0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7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1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1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32"/>
          <p:cNvSpPr/>
          <p:nvPr/>
        </p:nvSpPr>
        <p:spPr>
          <a:xfrm flipV="1" rot="2361600">
            <a:off x="2133360" y="2209320"/>
            <a:ext cx="268200" cy="220320"/>
          </a:xfrm>
          <a:custGeom>
            <a:avLst/>
            <a:gdLst>
              <a:gd name="textAreaLeft" fmla="*/ 0 w 268200"/>
              <a:gd name="textAreaRight" fmla="*/ 268560 w 268200"/>
              <a:gd name="textAreaTop" fmla="*/ 360 h 220320"/>
              <a:gd name="textAreaBottom" fmla="*/ 221040 h 220320"/>
            </a:gdLst>
            <a:ahLst/>
            <a:rect l="textAreaLeft" t="textAreaTop" r="textAreaRight" b="textAreaBottom"/>
            <a:pathLst>
              <a:path fill="none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</a:path>
              <a:path stroke="0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  <a:lnTo>
                  <a:pt x="9357" y="21600"/>
                </a:lnTo>
                <a:lnTo>
                  <a:pt x="-1" y="2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3"/>
          <p:cNvSpPr/>
          <p:nvPr/>
        </p:nvSpPr>
        <p:spPr>
          <a:xfrm flipV="1" rot="3367200">
            <a:off x="2609640" y="1555200"/>
            <a:ext cx="1400040" cy="2028960"/>
          </a:xfrm>
          <a:custGeom>
            <a:avLst/>
            <a:gdLst>
              <a:gd name="textAreaLeft" fmla="*/ 0 w 1400040"/>
              <a:gd name="textAreaRight" fmla="*/ 1400400 w 1400040"/>
              <a:gd name="textAreaTop" fmla="*/ 360 h 2028960"/>
              <a:gd name="textAreaBottom" fmla="*/ 2029680 h 2028960"/>
            </a:gdLst>
            <a:ahLst/>
            <a:rect l="textAreaLeft" t="textAreaTop" r="textAreaRight" b="textAreaBottom"/>
            <a:pathLst>
              <a:path fill="none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</a:path>
              <a:path stroke="0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  <a:lnTo>
                  <a:pt x="8798" y="21600"/>
                </a:lnTo>
                <a:lnTo>
                  <a:pt x="-1" y="187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4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7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15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j0183290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3290"/>
          <p:cNvPicPr/>
          <p:nvPr/>
        </p:nvPicPr>
        <p:blipFill>
          <a:blip r:embed="rId1"/>
          <a:stretch/>
        </p:blipFill>
        <p:spPr>
          <a:xfrm>
            <a:off x="1187280" y="404640"/>
            <a:ext cx="561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68: 8 =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96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334:6=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38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67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9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9268:7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3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Picture 4" descr="EDCN001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400800" cy="787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47280" y="314136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403280" y="4508640"/>
            <a:ext cx="6400800" cy="16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Автор: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Гурьянова Мар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57320" y="549360"/>
          <a:ext cx="3119400" cy="15112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JACKNBOX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57320" y="2421000"/>
          <a:ext cx="2901960" cy="93672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57320" y="2924280"/>
          <a:ext cx="3190680" cy="100944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BACK168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Admin</cp:lastModifiedBy>
  <dcterms:modified xsi:type="dcterms:W3CDTF">2013-08-30T15:12:1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