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wmf" ContentType="image/x-wmf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ED5-83DF-44BD-B7A0-0D22C2ED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00E-00E6-4541-BADB-D493BE0E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220-9AAC-45FA-9540-D5B8AD15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846-500E-4D3D-B012-C8F1DF49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F33C-774A-4A33-BE82-80F9DCD3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6C80-EB1D-4FB7-8A09-DCD4F4DF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D4C0-482C-45B5-AE1A-9E95883B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5293-EF54-47EB-95F2-8C0A9C6C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BA7E-DBCC-4BDF-87CB-9D4FF71F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4290-E32A-4432-9CB8-D0E83997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8C0B-F09F-400F-AF61-5B5A0AB9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472-B85A-468E-9A32-0C314AA7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86B6-32C2-4AE9-9D5B-C528A733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3674-F334-4EC9-B85F-2A282DF1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500-B91F-4668-BB78-946913D2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6CCC-79D3-4490-A67D-11D186F3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1403-156F-412C-A1D6-A9476562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0472-ADE5-4849-8F47-A4FE88AB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A5B3-670E-4915-95F5-47B57DCA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0359-2FCD-4333-8EFC-58F36845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8FAB-FD14-4602-A3B5-5ECB8D7F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A0458-51AE-4C43-8E0C-F8A15819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0FD-0701-4A62-A16A-DF1B48E4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C6CB-0EA4-4938-B422-903A61BF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9639-D61D-4707-9C94-69B9343E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5431-A6E4-4ACE-AB5B-4CC4AAA5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39A2-AADB-4067-B332-EF792E13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DBCAD-5717-4806-A87D-77AEFAE3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90A8-FDAC-4C6F-A736-A8F8504D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33E2A-0CC3-42DD-879A-1162E668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ED4-2027-442A-82DF-4D20E046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702-2CB6-4322-A285-3409D6FF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13B-5903-473D-9F84-FAF6A4FC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9ED-C0B2-4C8F-ADAD-83E1233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CB0-DB5A-4D0D-8F92-37DA92D7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B39-3D16-42C7-8A9C-1CEA4A43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8228-5731-499F-BD63-E2F2F5B6F7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6BDE-6D29-418B-BDB3-C56F1F052A8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9510-EDFA-4289-B321-513622DD476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1066680" y="228600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ка – гимнастика у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57320" y="3860640"/>
          <a:ext cx="3119400" cy="108108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: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57320" y="3284640"/>
          <a:ext cx="3838320" cy="2665440"/>
        </p:xfrm>
        <a:graphic>
          <a:graphicData uri="http://schemas.openxmlformats.org/drawingml/2006/table">
            <a:tbl>
              <a:tblPr/>
              <a:tblGrid>
                <a:gridCol w="3838320"/>
              </a:tblGrid>
              <a:tr h="26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BBOXC"/>
          <p:cNvPicPr/>
          <p:nvPr/>
        </p:nvPicPr>
        <p:blipFill>
          <a:blip r:embed="rId2"/>
          <a:stretch/>
        </p:blipFill>
        <p:spPr>
          <a:xfrm>
            <a:off x="395280" y="3789360"/>
            <a:ext cx="16556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476360" y="5300640"/>
          <a:ext cx="4032360" cy="10810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979640" y="4941720"/>
          <a:ext cx="1368360" cy="1440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DOM210"/>
          <p:cNvPicPr/>
          <p:nvPr/>
        </p:nvPicPr>
        <p:blipFill>
          <a:blip r:embed="rId2"/>
          <a:stretch/>
        </p:blipFill>
        <p:spPr>
          <a:xfrm>
            <a:off x="2050920" y="558972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4932360" y="3860640"/>
          <a:ext cx="4056120" cy="100836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х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BSKTBALL"/>
          <p:cNvPicPr/>
          <p:nvPr/>
        </p:nvPicPr>
        <p:blipFill>
          <a:blip r:embed="rId2"/>
          <a:stretch/>
        </p:blipFill>
        <p:spPr>
          <a:xfrm>
            <a:off x="6804000" y="3716280"/>
            <a:ext cx="144000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2916360" y="3933720"/>
          <a:ext cx="3743280" cy="107964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 :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BABYTOY"/>
          <p:cNvPicPr/>
          <p:nvPr/>
        </p:nvPicPr>
        <p:blipFill>
          <a:blip r:embed="rId2"/>
          <a:stretch/>
        </p:blipFill>
        <p:spPr>
          <a:xfrm>
            <a:off x="3635280" y="4149720"/>
            <a:ext cx="25210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4932360" y="5734080"/>
          <a:ext cx="4056120" cy="86364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57320" y="404640"/>
          <a:ext cx="2974680" cy="863640"/>
        </p:xfrm>
        <a:graphic>
          <a:graphicData uri="http://schemas.openxmlformats.org/drawingml/2006/table">
            <a:tbl>
              <a:tblPr/>
              <a:tblGrid>
                <a:gridCol w="29746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FSTV094"/>
          <p:cNvPicPr/>
          <p:nvPr/>
        </p:nvPicPr>
        <p:blipFill>
          <a:blip r:embed="rId2"/>
          <a:stretch/>
        </p:blipFill>
        <p:spPr>
          <a:xfrm>
            <a:off x="5940360" y="5157720"/>
            <a:ext cx="28796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2062080"/>
            <a:ext cx="6400800" cy="3167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ием письменного деления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ногозначных чисел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 однознач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116000" y="5373720"/>
            <a:ext cx="6400800" cy="1077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FSTV094"/>
          <p:cNvPicPr/>
          <p:nvPr/>
        </p:nvPicPr>
        <p:blipFill>
          <a:blip r:embed="rId1"/>
          <a:stretch/>
        </p:blipFill>
        <p:spPr>
          <a:xfrm>
            <a:off x="1979640" y="1916280"/>
            <a:ext cx="51782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ческие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 flipH="1">
            <a:off x="2405520" y="1319760"/>
            <a:ext cx="751680" cy="7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4952880" y="1371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6002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6483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1178280" y="2560680"/>
            <a:ext cx="540720" cy="742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80880" y="3276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19810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733920" y="3276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6095880" y="251460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061720" y="2605320"/>
            <a:ext cx="570960" cy="723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2423160" y="2603880"/>
            <a:ext cx="1707120" cy="65952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2779920" y="2472120"/>
            <a:ext cx="3168360" cy="799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1329840" y="2419560"/>
            <a:ext cx="3426120" cy="877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6"/>
          <p:cNvSpPr/>
          <p:nvPr/>
        </p:nvSpPr>
        <p:spPr>
          <a:xfrm flipH="1">
            <a:off x="3085560" y="2493000"/>
            <a:ext cx="1908360" cy="802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 flipH="1">
            <a:off x="4800240" y="2514600"/>
            <a:ext cx="609480" cy="68580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541008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5105520" y="29718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ff"/>
                </a:solidFill>
                <a:latin typeface="Times New Roman"/>
              </a:rPr>
              <a:t>ДЕ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12303E-007 C -0.11285 -0.05227 -0.22518 -0.10407 -0.27084 -0.1265 E">
                                      <p:cBhvr>
                                        <p:cTn id="162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0948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ли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66688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20040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4864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594360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 flipH="1">
            <a:off x="2895480" y="2514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99072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2448 0.00879 C 0.03264 0.04695 0.0408 0.08534 -0.00902 0.10245 C -0.05868 0.1198 -0.22534 0.11101 -0.27309 0.11171 C -0.32083 0.1124 -0.3085 0.10939 -0.29583 0.10639 E">
                                      <p:cBhvr>
                                        <p:cTn id="214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6"/>
          <p:cNvSpPr/>
          <p:nvPr/>
        </p:nvSpPr>
        <p:spPr>
          <a:xfrm flipV="1" rot="2278200">
            <a:off x="1066680" y="2057040"/>
            <a:ext cx="290520" cy="298440"/>
          </a:xfrm>
          <a:custGeom>
            <a:avLst/>
            <a:gdLst>
              <a:gd name="textAreaLeft" fmla="*/ 0 w 290520"/>
              <a:gd name="textAreaRight" fmla="*/ 290880 w 290520"/>
              <a:gd name="textAreaTop" fmla="*/ -360 h 298440"/>
              <a:gd name="textAreaBottom" fmla="*/ 298440 h 298440"/>
            </a:gdLst>
            <a:ahLst/>
            <a:rect l="textAreaLeft" t="textAreaTop" r="textAreaRight" b="textAreaBottom"/>
            <a:pathLst>
              <a:path fill="none" w="19437" h="20779">
                <a:moveTo>
                  <a:pt x="5899" y="0"/>
                </a:moveTo>
                <a:cubicBezTo>
                  <a:pt x="11825" y="1682"/>
                  <a:pt x="16750" y="5815"/>
                  <a:pt x="19437" y="11357"/>
                </a:cubicBezTo>
              </a:path>
              <a:path stroke="0" w="19437" h="20779">
                <a:moveTo>
                  <a:pt x="5899" y="0"/>
                </a:moveTo>
                <a:cubicBezTo>
                  <a:pt x="11825" y="1682"/>
                  <a:pt x="16750" y="5815"/>
                  <a:pt x="19437" y="11357"/>
                </a:cubicBezTo>
                <a:lnTo>
                  <a:pt x="0" y="20779"/>
                </a:lnTo>
                <a:lnTo>
                  <a:pt x="58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10"/>
          <p:cNvSpPr/>
          <p:nvPr/>
        </p:nvSpPr>
        <p:spPr>
          <a:xfrm flipV="1" rot="2821800">
            <a:off x="3192840" y="2672640"/>
            <a:ext cx="312840" cy="298440"/>
          </a:xfrm>
          <a:custGeom>
            <a:avLst/>
            <a:gdLst>
              <a:gd name="textAreaLeft" fmla="*/ 0 w 312840"/>
              <a:gd name="textAreaRight" fmla="*/ 313200 w 312840"/>
              <a:gd name="textAreaTop" fmla="*/ -360 h 298440"/>
              <a:gd name="textAreaBottom" fmla="*/ 298440 h 298440"/>
            </a:gdLst>
            <a:ahLst/>
            <a:rect l="textAreaLeft" t="textAreaTop" r="textAreaRight" b="textAreaBottom"/>
            <a:pathLst>
              <a:path fill="none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</a:path>
              <a:path stroke="0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  <a:lnTo>
                  <a:pt x="0" y="20779"/>
                </a:lnTo>
                <a:lnTo>
                  <a:pt x="58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1337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14479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2193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765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1148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9625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4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5"/>
          <p:cNvSpPr/>
          <p:nvPr/>
        </p:nvSpPr>
        <p:spPr>
          <a:xfrm>
            <a:off x="45720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1911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44197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ок меньше делителя 5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1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"/>
          <p:cNvSpPr/>
          <p:nvPr/>
        </p:nvSpPr>
        <p:spPr>
          <a:xfrm>
            <a:off x="289548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11430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15238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2"/>
          <p:cNvSpPr/>
          <p:nvPr/>
        </p:nvSpPr>
        <p:spPr>
          <a:xfrm>
            <a:off x="18288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4"/>
          <p:cNvSpPr/>
          <p:nvPr/>
        </p:nvSpPr>
        <p:spPr>
          <a:xfrm>
            <a:off x="22860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8380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137160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1066680" y="32767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1219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5943600" y="1905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цифра неполного делимого меньше делителя, то в частном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16002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8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20574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41911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43"/>
          <p:cNvSpPr/>
          <p:nvPr/>
        </p:nvSpPr>
        <p:spPr>
          <a:xfrm flipV="1" rot="2361600">
            <a:off x="2438280" y="2208960"/>
            <a:ext cx="268560" cy="220680"/>
          </a:xfrm>
          <a:custGeom>
            <a:avLst/>
            <a:gdLst>
              <a:gd name="textAreaLeft" fmla="*/ 0 w 268560"/>
              <a:gd name="textAreaRight" fmla="*/ 268920 w 268560"/>
              <a:gd name="textAreaTop" fmla="*/ -360 h 220680"/>
              <a:gd name="textAreaBottom" fmla="*/ 220680 h 220680"/>
            </a:gdLst>
            <a:ahLst/>
            <a:rect l="textAreaLeft" t="textAreaTop" r="textAreaRight" b="textAreaBottom"/>
            <a:pathLst>
              <a:path fill="none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</a:path>
              <a:path stroke="0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  <a:lnTo>
                  <a:pt x="9357" y="21600"/>
                </a:lnTo>
                <a:lnTo>
                  <a:pt x="-1" y="213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44"/>
          <p:cNvSpPr/>
          <p:nvPr/>
        </p:nvSpPr>
        <p:spPr>
          <a:xfrm flipV="1" rot="3367200">
            <a:off x="3175200" y="1319760"/>
            <a:ext cx="1493640" cy="2662200"/>
          </a:xfrm>
          <a:custGeom>
            <a:avLst/>
            <a:gdLst>
              <a:gd name="textAreaLeft" fmla="*/ 0 w 1493640"/>
              <a:gd name="textAreaRight" fmla="*/ 1494000 w 1493640"/>
              <a:gd name="textAreaTop" fmla="*/ 0 h 2662200"/>
              <a:gd name="textAreaBottom" fmla="*/ 2662200 h 2662200"/>
            </a:gdLst>
            <a:ahLst/>
            <a:rect l="textAreaLeft" t="textAreaTop" r="textAreaRight" b="textAreaBottom"/>
            <a:pathLst>
              <a:path fill="none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</a:path>
              <a:path stroke="0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  <a:lnTo>
                  <a:pt x="8798" y="21600"/>
                </a:lnTo>
                <a:lnTo>
                  <a:pt x="-1" y="187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1828800" y="5181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2057400" y="5181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1600200" y="4876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9"/>
          <p:cNvSpPr/>
          <p:nvPr/>
        </p:nvSpPr>
        <p:spPr>
          <a:xfrm>
            <a:off x="19051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2057400" y="5638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571500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29741 E">
                                      <p:cBhvr>
                                        <p:cTn id="47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3025E-006 L 2.77556E-017 0.29741 E">
                                      <p:cBhvr>
                                        <p:cTn id="507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43062 E">
                                      <p:cBhvr>
                                        <p:cTn id="560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6"/>
          <p:cNvSpPr/>
          <p:nvPr/>
        </p:nvSpPr>
        <p:spPr>
          <a:xfrm flipV="1" rot="3505800">
            <a:off x="1095120" y="1952280"/>
            <a:ext cx="398520" cy="455760"/>
          </a:xfrm>
          <a:custGeom>
            <a:avLst/>
            <a:gdLst>
              <a:gd name="textAreaLeft" fmla="*/ 0 w 398520"/>
              <a:gd name="textAreaRight" fmla="*/ 398880 w 398520"/>
              <a:gd name="textAreaTop" fmla="*/ 360 h 455760"/>
              <a:gd name="textAreaBottom" fmla="*/ 456480 h 455760"/>
            </a:gdLst>
            <a:ahLst/>
            <a:rect l="textAreaLeft" t="textAreaTop" r="textAreaRight" b="textAreaBottom"/>
            <a:pathLst>
              <a:path fill="none" w="21600" h="25274">
                <a:moveTo>
                  <a:pt x="6223" y="0"/>
                </a:moveTo>
                <a:cubicBezTo>
                  <a:pt x="15351" y="2746"/>
                  <a:pt x="21600" y="11151"/>
                  <a:pt x="21600" y="20684"/>
                </a:cubicBezTo>
                <a:cubicBezTo>
                  <a:pt x="21600" y="22227"/>
                  <a:pt x="21434" y="23765"/>
                  <a:pt x="21106" y="25273"/>
                </a:cubicBezTo>
              </a:path>
              <a:path stroke="0" w="21600" h="25274">
                <a:moveTo>
                  <a:pt x="6223" y="0"/>
                </a:moveTo>
                <a:cubicBezTo>
                  <a:pt x="15351" y="2746"/>
                  <a:pt x="21600" y="11151"/>
                  <a:pt x="21600" y="20684"/>
                </a:cubicBezTo>
                <a:cubicBezTo>
                  <a:pt x="21600" y="22227"/>
                  <a:pt x="21434" y="23765"/>
                  <a:pt x="21106" y="25273"/>
                </a:cubicBezTo>
                <a:lnTo>
                  <a:pt x="0" y="20684"/>
                </a:lnTo>
                <a:lnTo>
                  <a:pt x="622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rc 10"/>
          <p:cNvSpPr/>
          <p:nvPr/>
        </p:nvSpPr>
        <p:spPr>
          <a:xfrm flipV="1" rot="2821800">
            <a:off x="3193200" y="2597760"/>
            <a:ext cx="312480" cy="298440"/>
          </a:xfrm>
          <a:custGeom>
            <a:avLst/>
            <a:gdLst>
              <a:gd name="textAreaLeft" fmla="*/ 0 w 312480"/>
              <a:gd name="textAreaRight" fmla="*/ 312480 w 312480"/>
              <a:gd name="textAreaTop" fmla="*/ -360 h 298440"/>
              <a:gd name="textAreaBottom" fmla="*/ 298440 h 298440"/>
            </a:gdLst>
            <a:ahLst/>
            <a:rect l="textAreaLeft" t="textAreaTop" r="textAreaRight" b="textAreaBottom"/>
            <a:pathLst>
              <a:path fill="none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</a:path>
              <a:path stroke="0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  <a:lnTo>
                  <a:pt x="0" y="20779"/>
                </a:lnTo>
                <a:lnTo>
                  <a:pt x="58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2209680" y="1752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6002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1295280" y="17524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7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9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1"/>
          <p:cNvSpPr/>
          <p:nvPr/>
        </p:nvSpPr>
        <p:spPr>
          <a:xfrm>
            <a:off x="4191120" y="2666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40384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9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3716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ок меньше делителя 9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"/>
          <p:cNvSpPr/>
          <p:nvPr/>
        </p:nvSpPr>
        <p:spPr>
          <a:xfrm>
            <a:off x="289548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9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6"/>
          <p:cNvSpPr/>
          <p:nvPr/>
        </p:nvSpPr>
        <p:spPr>
          <a:xfrm>
            <a:off x="11430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1828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0"/>
          <p:cNvSpPr/>
          <p:nvPr/>
        </p:nvSpPr>
        <p:spPr>
          <a:xfrm>
            <a:off x="10666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37160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3"/>
          <p:cNvSpPr/>
          <p:nvPr/>
        </p:nvSpPr>
        <p:spPr>
          <a:xfrm>
            <a:off x="14479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5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6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7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8"/>
          <p:cNvSpPr/>
          <p:nvPr/>
        </p:nvSpPr>
        <p:spPr>
          <a:xfrm>
            <a:off x="160020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0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1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rc 32"/>
          <p:cNvSpPr/>
          <p:nvPr/>
        </p:nvSpPr>
        <p:spPr>
          <a:xfrm flipV="1" rot="2361600">
            <a:off x="2133360" y="2209320"/>
            <a:ext cx="268200" cy="220320"/>
          </a:xfrm>
          <a:custGeom>
            <a:avLst/>
            <a:gdLst>
              <a:gd name="textAreaLeft" fmla="*/ 0 w 268200"/>
              <a:gd name="textAreaRight" fmla="*/ 268560 w 268200"/>
              <a:gd name="textAreaTop" fmla="*/ 360 h 220320"/>
              <a:gd name="textAreaBottom" fmla="*/ 221040 h 220320"/>
            </a:gdLst>
            <a:ahLst/>
            <a:rect l="textAreaLeft" t="textAreaTop" r="textAreaRight" b="textAreaBottom"/>
            <a:pathLst>
              <a:path fill="none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</a:path>
              <a:path stroke="0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  <a:lnTo>
                  <a:pt x="9357" y="21600"/>
                </a:lnTo>
                <a:lnTo>
                  <a:pt x="-1" y="213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33"/>
          <p:cNvSpPr/>
          <p:nvPr/>
        </p:nvSpPr>
        <p:spPr>
          <a:xfrm flipV="1" rot="3367200">
            <a:off x="2609640" y="1555200"/>
            <a:ext cx="1400040" cy="2028960"/>
          </a:xfrm>
          <a:custGeom>
            <a:avLst/>
            <a:gdLst>
              <a:gd name="textAreaLeft" fmla="*/ 0 w 1400040"/>
              <a:gd name="textAreaRight" fmla="*/ 1400400 w 1400040"/>
              <a:gd name="textAreaTop" fmla="*/ 360 h 2028960"/>
              <a:gd name="textAreaBottom" fmla="*/ 2029680 h 2028960"/>
            </a:gdLst>
            <a:ahLst/>
            <a:rect l="textAreaLeft" t="textAreaTop" r="textAreaRight" b="textAreaBottom"/>
            <a:pathLst>
              <a:path fill="none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</a:path>
              <a:path stroke="0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  <a:lnTo>
                  <a:pt x="8798" y="21600"/>
                </a:lnTo>
                <a:lnTo>
                  <a:pt x="-1" y="187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4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5"/>
          <p:cNvSpPr/>
          <p:nvPr/>
        </p:nvSpPr>
        <p:spPr>
          <a:xfrm>
            <a:off x="586728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4736E-006 L 0 0.14199 E">
                                      <p:cBhvr>
                                        <p:cTn id="779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84736E-006 L 2.77556E-017 0.2863 E">
                                      <p:cBhvr>
                                        <p:cTn id="815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j0183290"/>
          <p:cNvPicPr/>
          <p:nvPr/>
        </p:nvPicPr>
        <p:blipFill>
          <a:blip r:embed="rId1"/>
          <a:stretch/>
        </p:blipFill>
        <p:spPr>
          <a:xfrm>
            <a:off x="1219320" y="380880"/>
            <a:ext cx="5611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183290"/>
          <p:cNvPicPr/>
          <p:nvPr/>
        </p:nvPicPr>
        <p:blipFill>
          <a:blip r:embed="rId1"/>
          <a:stretch/>
        </p:blipFill>
        <p:spPr>
          <a:xfrm>
            <a:off x="1187280" y="404640"/>
            <a:ext cx="561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69192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836280"/>
            <a:ext cx="784692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68: 8 =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96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334:6=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38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367:3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789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9268:7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3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0" name="Picture 4" descr="EDCN001"/>
          <p:cNvPicPr/>
          <p:nvPr/>
        </p:nvPicPr>
        <p:blipFill>
          <a:blip r:embed="rId1"/>
          <a:stretch/>
        </p:blipFill>
        <p:spPr>
          <a:xfrm>
            <a:off x="1979640" y="321300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6400800" cy="787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асибо за урок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547280" y="3141360"/>
            <a:ext cx="6032520" cy="100332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 настроен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403280" y="4508640"/>
            <a:ext cx="6400800" cy="1652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Автор: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Гурьянова Мария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учитель начальных класс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рогие ребята!</a:t>
            </a:r>
            <a:br>
              <a:rPr sz="28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коро наступит самый любимый мой праздник- Новый год! Думаю, что и вы его очень любите. Я приготовил для вас сюрпризы. Хотите узнать какие? Выполните все мои задания. Желаю удачи!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До скорой встре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1992240" cy="269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57320" y="620640"/>
          <a:ext cx="2901960" cy="86364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х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157320" y="549360"/>
          <a:ext cx="3119400" cy="151128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1" descr="JACKNBOX"/>
          <p:cNvPicPr/>
          <p:nvPr/>
        </p:nvPicPr>
        <p:blipFill>
          <a:blip r:embed="rId2"/>
          <a:stretch/>
        </p:blipFill>
        <p:spPr>
          <a:xfrm>
            <a:off x="1116000" y="333360"/>
            <a:ext cx="1800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57320" y="2421000"/>
          <a:ext cx="2901960" cy="93672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 х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157320" y="2924280"/>
          <a:ext cx="3190680" cy="1009440"/>
        </p:xfrm>
        <a:graphic>
          <a:graphicData uri="http://schemas.openxmlformats.org/drawingml/2006/table">
            <a:tbl>
              <a:tblPr/>
              <a:tblGrid>
                <a:gridCol w="319068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BACK168"/>
          <p:cNvPicPr/>
          <p:nvPr/>
        </p:nvPicPr>
        <p:blipFill>
          <a:blip r:embed="rId2"/>
          <a:stretch/>
        </p:blipFill>
        <p:spPr>
          <a:xfrm flipH="1">
            <a:off x="2123640" y="2133720"/>
            <a:ext cx="15843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6:01:17Z</dcterms:created>
  <dc:creator>USER</dc:creator>
  <dc:description/>
  <dc:language>en-US</dc:language>
  <cp:lastModifiedBy>Admin</cp:lastModifiedBy>
  <dcterms:modified xsi:type="dcterms:W3CDTF">2013-08-30T15:12:16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