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15.wmf" ContentType="image/x-wmf"/>
  <Override PartName="/ppt/media/image1.wmf" ContentType="image/x-wmf"/>
  <Override PartName="/ppt/media/image2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8.png" ContentType="image/png"/>
  <Override PartName="/ppt/media/image12.png" ContentType="image/png"/>
  <Override PartName="/ppt/media/image7.wmf" ContentType="image/x-wmf"/>
  <Override PartName="/ppt/media/image3.png" ContentType="image/png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8234-6799-4AD2-A325-0F5F2C386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E236-320D-4B5B-BCD4-CD969D8B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0850-4CB3-4FB8-9CC9-BF3216DE8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62B4-6A84-4411-A724-A992F4B63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BD1C-1890-4C5A-95CE-E28C8873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4A6A-039F-4BB1-8986-82D14154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1918-F141-4A45-8B9D-E590DF43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123B-7180-4565-B814-175D1C43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A3AC-F6AC-45A7-A283-89AC8006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476D-6002-4322-9AA1-C1E4AA3E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8DE3-EF7A-462B-878B-F9F28385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4A3B-8A54-4161-A6A6-B88FE4BA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53AD-8E38-4E0B-8851-8F6006E8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6AC5-552B-4095-83A5-2D3815AD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DFC4-F2EA-418E-BBC7-D5361540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7B39-D513-4F3A-B6FF-B0858F095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A384-4ABE-424A-BC48-DE13816BF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A952E-C262-4EC2-B715-A032CBCFD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FF1A8-4524-4D73-8667-F050CCD8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B395F-1B02-459E-984A-BBE1185A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07C2A-8882-4A23-8C40-56CC404B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727DF-F2FF-48EE-8659-BF5EA9D5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8DD5-344F-483A-8290-3078081F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58532-7E97-4DE2-AD45-45289BE2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4C8BF-71F0-4167-9763-60BA60C9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5D156-583E-47E7-8063-F56BBF2C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B2C98-84AA-45C8-8690-BA711703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1EE22-2166-4ECD-A75B-62F176C6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80C3E-F9B1-4556-B6A8-D7C6D92E1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5E512-6622-4AAB-8FC9-5CBDAC241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B84D-B030-4BCE-AE54-4177B5A3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9D07-9918-4018-8A0C-C4DF066B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9BC4-2B9F-49BD-B80B-406FCAEE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5BAA-6BC6-4FFB-BB0B-D12DB969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A8FC-0E89-428C-AA0C-5BD64ACC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4FD0-0A0D-4695-8B1E-92EEC79B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4F3C-03C8-4148-9EB6-4F42B84E05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5D94-2478-496E-BDD8-C4935694D73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2B42-E03A-450A-9507-084B4D68457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WordArt 7"/>
          <p:cNvSpPr txBox="1"/>
          <p:nvPr/>
        </p:nvSpPr>
        <p:spPr>
          <a:xfrm>
            <a:off x="1066680" y="2286000"/>
            <a:ext cx="73152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атематика – гимнастика ум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157320" y="3860640"/>
          <a:ext cx="3119400" cy="1081080"/>
        </p:xfrm>
        <a:graphic>
          <a:graphicData uri="http://schemas.openxmlformats.org/drawingml/2006/table">
            <a:tbl>
              <a:tblPr/>
              <a:tblGrid>
                <a:gridCol w="311940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0: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0" name=""/>
          <p:cNvGraphicFramePr/>
          <p:nvPr/>
        </p:nvGraphicFramePr>
        <p:xfrm>
          <a:off x="157320" y="3284640"/>
          <a:ext cx="3838320" cy="2665440"/>
        </p:xfrm>
        <a:graphic>
          <a:graphicData uri="http://schemas.openxmlformats.org/drawingml/2006/table">
            <a:tbl>
              <a:tblPr/>
              <a:tblGrid>
                <a:gridCol w="3838320"/>
              </a:tblGrid>
              <a:tr h="26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1" descr="BBOXC"/>
          <p:cNvPicPr/>
          <p:nvPr/>
        </p:nvPicPr>
        <p:blipFill>
          <a:blip r:embed="rId2"/>
          <a:stretch/>
        </p:blipFill>
        <p:spPr>
          <a:xfrm>
            <a:off x="395280" y="3789360"/>
            <a:ext cx="165564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1476360" y="5300640"/>
          <a:ext cx="4032360" cy="108108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3 х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1979640" y="4941720"/>
          <a:ext cx="1368360" cy="1440000"/>
        </p:xfrm>
        <a:graphic>
          <a:graphicData uri="http://schemas.openxmlformats.org/drawingml/2006/table">
            <a:tbl>
              <a:tblPr/>
              <a:tblGrid>
                <a:gridCol w="136836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1" descr="DOM210"/>
          <p:cNvPicPr/>
          <p:nvPr/>
        </p:nvPicPr>
        <p:blipFill>
          <a:blip r:embed="rId2"/>
          <a:stretch/>
        </p:blipFill>
        <p:spPr>
          <a:xfrm>
            <a:off x="2050920" y="5589720"/>
            <a:ext cx="129708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"/>
          <p:cNvGraphicFramePr/>
          <p:nvPr/>
        </p:nvGraphicFramePr>
        <p:xfrm>
          <a:off x="4932360" y="3860640"/>
          <a:ext cx="4056120" cy="1008360"/>
        </p:xfrm>
        <a:graphic>
          <a:graphicData uri="http://schemas.openxmlformats.org/drawingml/2006/table">
            <a:tbl>
              <a:tblPr/>
              <a:tblGrid>
                <a:gridCol w="405612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 х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8" name=""/>
          <p:cNvGraphicFramePr/>
          <p:nvPr/>
        </p:nvGraphicFramePr>
        <p:xfrm>
          <a:off x="157320" y="1542960"/>
          <a:ext cx="8831160" cy="517680"/>
        </p:xfrm>
        <a:graphic>
          <a:graphicData uri="http://schemas.openxmlformats.org/drawingml/2006/table">
            <a:tbl>
              <a:tblPr/>
              <a:tblGrid>
                <a:gridCol w="8831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1" descr="BSKTBALL"/>
          <p:cNvPicPr/>
          <p:nvPr/>
        </p:nvPicPr>
        <p:blipFill>
          <a:blip r:embed="rId2"/>
          <a:stretch/>
        </p:blipFill>
        <p:spPr>
          <a:xfrm>
            <a:off x="6804000" y="3716280"/>
            <a:ext cx="1440000" cy="12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3" name=""/>
          <p:cNvGraphicFramePr/>
          <p:nvPr/>
        </p:nvGraphicFramePr>
        <p:xfrm>
          <a:off x="2916360" y="3933720"/>
          <a:ext cx="3743280" cy="1079640"/>
        </p:xfrm>
        <a:graphic>
          <a:graphicData uri="http://schemas.openxmlformats.org/drawingml/2006/table">
            <a:tbl>
              <a:tblPr/>
              <a:tblGrid>
                <a:gridCol w="374328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 :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"/>
          <p:cNvGraphicFramePr/>
          <p:nvPr/>
        </p:nvGraphicFramePr>
        <p:xfrm>
          <a:off x="157320" y="1542960"/>
          <a:ext cx="8831160" cy="517680"/>
        </p:xfrm>
        <a:graphic>
          <a:graphicData uri="http://schemas.openxmlformats.org/drawingml/2006/table">
            <a:tbl>
              <a:tblPr/>
              <a:tblGrid>
                <a:gridCol w="8831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1" descr="BABYTOY"/>
          <p:cNvPicPr/>
          <p:nvPr/>
        </p:nvPicPr>
        <p:blipFill>
          <a:blip r:embed="rId2"/>
          <a:stretch/>
        </p:blipFill>
        <p:spPr>
          <a:xfrm>
            <a:off x="3635280" y="4149720"/>
            <a:ext cx="252108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2" name=""/>
          <p:cNvGraphicFramePr/>
          <p:nvPr/>
        </p:nvGraphicFramePr>
        <p:xfrm>
          <a:off x="4932360" y="5734080"/>
          <a:ext cx="4056120" cy="863640"/>
        </p:xfrm>
        <a:graphic>
          <a:graphicData uri="http://schemas.openxmlformats.org/drawingml/2006/table">
            <a:tbl>
              <a:tblPr/>
              <a:tblGrid>
                <a:gridCol w="405612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 х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"/>
          <p:cNvGraphicFramePr/>
          <p:nvPr/>
        </p:nvGraphicFramePr>
        <p:xfrm>
          <a:off x="157320" y="404640"/>
          <a:ext cx="2974680" cy="863640"/>
        </p:xfrm>
        <a:graphic>
          <a:graphicData uri="http://schemas.openxmlformats.org/drawingml/2006/table">
            <a:tbl>
              <a:tblPr/>
              <a:tblGrid>
                <a:gridCol w="297468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1" descr="FSTV094"/>
          <p:cNvPicPr/>
          <p:nvPr/>
        </p:nvPicPr>
        <p:blipFill>
          <a:blip r:embed="rId2"/>
          <a:stretch/>
        </p:blipFill>
        <p:spPr>
          <a:xfrm>
            <a:off x="5940360" y="5157720"/>
            <a:ext cx="287964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600" y="2062080"/>
            <a:ext cx="6400800" cy="31672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ием письменного деления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ногозначных чисел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на однозначное числ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116000" y="5373720"/>
            <a:ext cx="6400800" cy="1077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3" descr="FSTV094"/>
          <p:cNvPicPr/>
          <p:nvPr/>
        </p:nvPicPr>
        <p:blipFill>
          <a:blip r:embed="rId1"/>
          <a:stretch/>
        </p:blipFill>
        <p:spPr>
          <a:xfrm>
            <a:off x="1979640" y="1916280"/>
            <a:ext cx="517824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98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тематические дейст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3"/>
          <p:cNvSpPr/>
          <p:nvPr/>
        </p:nvSpPr>
        <p:spPr>
          <a:xfrm flipH="1">
            <a:off x="2405520" y="1319760"/>
            <a:ext cx="751680" cy="7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"/>
          <p:cNvSpPr/>
          <p:nvPr/>
        </p:nvSpPr>
        <p:spPr>
          <a:xfrm>
            <a:off x="4952880" y="1371600"/>
            <a:ext cx="6098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160020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464832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сьм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7"/>
          <p:cNvSpPr/>
          <p:nvPr/>
        </p:nvSpPr>
        <p:spPr>
          <a:xfrm flipH="1">
            <a:off x="1178280" y="2560680"/>
            <a:ext cx="540720" cy="7426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380880" y="3276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198108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ыч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3733920" y="3276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умн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1"/>
          <p:cNvSpPr/>
          <p:nvPr/>
        </p:nvSpPr>
        <p:spPr>
          <a:xfrm>
            <a:off x="6095880" y="2514600"/>
            <a:ext cx="0" cy="6858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2"/>
          <p:cNvSpPr/>
          <p:nvPr/>
        </p:nvSpPr>
        <p:spPr>
          <a:xfrm>
            <a:off x="2061720" y="2605320"/>
            <a:ext cx="570960" cy="723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3"/>
          <p:cNvSpPr/>
          <p:nvPr/>
        </p:nvSpPr>
        <p:spPr>
          <a:xfrm>
            <a:off x="2423160" y="2603880"/>
            <a:ext cx="1707120" cy="659520"/>
          </a:xfrm>
          <a:prstGeom prst="line">
            <a:avLst/>
          </a:prstGeom>
          <a:ln w="93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4"/>
          <p:cNvSpPr/>
          <p:nvPr/>
        </p:nvSpPr>
        <p:spPr>
          <a:xfrm>
            <a:off x="2779920" y="2472120"/>
            <a:ext cx="3168360" cy="7992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5"/>
          <p:cNvSpPr/>
          <p:nvPr/>
        </p:nvSpPr>
        <p:spPr>
          <a:xfrm flipH="1">
            <a:off x="1329840" y="2419560"/>
            <a:ext cx="3426120" cy="8776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6"/>
          <p:cNvSpPr/>
          <p:nvPr/>
        </p:nvSpPr>
        <p:spPr>
          <a:xfrm flipH="1">
            <a:off x="3085560" y="2493000"/>
            <a:ext cx="1908360" cy="802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7"/>
          <p:cNvSpPr/>
          <p:nvPr/>
        </p:nvSpPr>
        <p:spPr>
          <a:xfrm flipH="1">
            <a:off x="4800240" y="2514600"/>
            <a:ext cx="609480" cy="685800"/>
          </a:xfrm>
          <a:prstGeom prst="line">
            <a:avLst/>
          </a:prstGeom>
          <a:ln w="93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8"/>
          <p:cNvSpPr/>
          <p:nvPr/>
        </p:nvSpPr>
        <p:spPr>
          <a:xfrm>
            <a:off x="5410080" y="3276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5105520" y="297180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ff"/>
                </a:solidFill>
                <a:latin typeface="Times New Roman"/>
              </a:rPr>
              <a:t>ДЕЛ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2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2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12303E-007 C -0.11285 -0.05227 -0.22518 -0.10407 -0.27084 -0.1265 E">
                                      <p:cBhvr>
                                        <p:cTn id="162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5684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609480" y="1752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лим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266688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3200400" y="17524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л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5486400" y="17524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5943600" y="17524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аст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8"/>
          <p:cNvSpPr/>
          <p:nvPr/>
        </p:nvSpPr>
        <p:spPr>
          <a:xfrm>
            <a:off x="289548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9"/>
          <p:cNvSpPr/>
          <p:nvPr/>
        </p:nvSpPr>
        <p:spPr>
          <a:xfrm flipH="1">
            <a:off x="2895480" y="25146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0"/>
          <p:cNvSpPr/>
          <p:nvPr/>
        </p:nvSpPr>
        <p:spPr>
          <a:xfrm>
            <a:off x="990720" y="17524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53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1"/>
          <p:cNvSpPr/>
          <p:nvPr/>
        </p:nvSpPr>
        <p:spPr>
          <a:xfrm>
            <a:off x="335268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18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2448 0.00879 C 0.03264 0.04695 0.0408 0.08534 -0.00902 0.10245 C -0.05868 0.1198 -0.22534 0.11101 -0.27309 0.11171 C -0.32083 0.1124 -0.3085 0.10939 -0.29583 0.10639 E">
                                      <p:cBhvr>
                                        <p:cTn id="214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9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289548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4"/>
          <p:cNvSpPr/>
          <p:nvPr/>
        </p:nvSpPr>
        <p:spPr>
          <a:xfrm flipH="1">
            <a:off x="2895480" y="23623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3276720" y="17524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rc 6"/>
          <p:cNvSpPr/>
          <p:nvPr/>
        </p:nvSpPr>
        <p:spPr>
          <a:xfrm flipV="1" rot="2278200">
            <a:off x="1066680" y="2057040"/>
            <a:ext cx="290520" cy="298440"/>
          </a:xfrm>
          <a:custGeom>
            <a:avLst/>
            <a:gdLst>
              <a:gd name="textAreaLeft" fmla="*/ 0 w 290520"/>
              <a:gd name="textAreaRight" fmla="*/ 290880 w 290520"/>
              <a:gd name="textAreaTop" fmla="*/ -360 h 298440"/>
              <a:gd name="textAreaBottom" fmla="*/ 298440 h 298440"/>
            </a:gdLst>
            <a:ahLst/>
            <a:rect l="textAreaLeft" t="textAreaTop" r="textAreaRight" b="textAreaBottom"/>
            <a:pathLst>
              <a:path fill="none" w="19437" h="20779">
                <a:moveTo>
                  <a:pt x="5899" y="0"/>
                </a:moveTo>
                <a:cubicBezTo>
                  <a:pt x="11825" y="1682"/>
                  <a:pt x="16750" y="5815"/>
                  <a:pt x="19437" y="11357"/>
                </a:cubicBezTo>
              </a:path>
              <a:path stroke="0" w="19437" h="20779">
                <a:moveTo>
                  <a:pt x="5899" y="0"/>
                </a:moveTo>
                <a:cubicBezTo>
                  <a:pt x="11825" y="1682"/>
                  <a:pt x="16750" y="5815"/>
                  <a:pt x="19437" y="11357"/>
                </a:cubicBezTo>
                <a:lnTo>
                  <a:pt x="0" y="20779"/>
                </a:lnTo>
                <a:lnTo>
                  <a:pt x="58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609480" y="2590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олное делим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8"/>
          <p:cNvSpPr/>
          <p:nvPr/>
        </p:nvSpPr>
        <p:spPr>
          <a:xfrm flipV="1">
            <a:off x="1066680" y="236196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3200400" y="2514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rc 10"/>
          <p:cNvSpPr/>
          <p:nvPr/>
        </p:nvSpPr>
        <p:spPr>
          <a:xfrm flipV="1" rot="2821800">
            <a:off x="3192840" y="2672640"/>
            <a:ext cx="312840" cy="298440"/>
          </a:xfrm>
          <a:custGeom>
            <a:avLst/>
            <a:gdLst>
              <a:gd name="textAreaLeft" fmla="*/ 0 w 312840"/>
              <a:gd name="textAreaRight" fmla="*/ 313200 w 312840"/>
              <a:gd name="textAreaTop" fmla="*/ -360 h 298440"/>
              <a:gd name="textAreaBottom" fmla="*/ 298440 h 298440"/>
            </a:gdLst>
            <a:ahLst/>
            <a:rect l="textAreaLeft" t="textAreaTop" r="textAreaRight" b="textAreaBottom"/>
            <a:pathLst>
              <a:path fill="none" w="20882" h="20779">
                <a:moveTo>
                  <a:pt x="5899" y="0"/>
                </a:moveTo>
                <a:cubicBezTo>
                  <a:pt x="13236" y="2083"/>
                  <a:pt x="18931" y="7881"/>
                  <a:pt x="20881" y="15255"/>
                </a:cubicBezTo>
              </a:path>
              <a:path stroke="0" w="20882" h="20779">
                <a:moveTo>
                  <a:pt x="5899" y="0"/>
                </a:moveTo>
                <a:cubicBezTo>
                  <a:pt x="13236" y="2083"/>
                  <a:pt x="18931" y="7881"/>
                  <a:pt x="20881" y="15255"/>
                </a:cubicBezTo>
                <a:lnTo>
                  <a:pt x="0" y="20779"/>
                </a:lnTo>
                <a:lnTo>
                  <a:pt x="58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905120" y="175248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2133720" y="175248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1447920" y="17524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99072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1219320" y="17524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1676520" y="175248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3733920" y="3581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8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9"/>
          <p:cNvSpPr/>
          <p:nvPr/>
        </p:nvSpPr>
        <p:spPr>
          <a:xfrm>
            <a:off x="388620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3429000" y="2514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3733920" y="2514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22"/>
          <p:cNvSpPr/>
          <p:nvPr/>
        </p:nvSpPr>
        <p:spPr>
          <a:xfrm>
            <a:off x="411480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3"/>
          <p:cNvSpPr/>
          <p:nvPr/>
        </p:nvSpPr>
        <p:spPr>
          <a:xfrm>
            <a:off x="3962520" y="2514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24"/>
          <p:cNvSpPr/>
          <p:nvPr/>
        </p:nvSpPr>
        <p:spPr>
          <a:xfrm>
            <a:off x="434340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25"/>
          <p:cNvSpPr/>
          <p:nvPr/>
        </p:nvSpPr>
        <p:spPr>
          <a:xfrm>
            <a:off x="457200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6"/>
          <p:cNvSpPr/>
          <p:nvPr/>
        </p:nvSpPr>
        <p:spPr>
          <a:xfrm>
            <a:off x="4191120" y="2514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7"/>
          <p:cNvSpPr/>
          <p:nvPr/>
        </p:nvSpPr>
        <p:spPr>
          <a:xfrm>
            <a:off x="4419720" y="2514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5684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3"/>
          <p:cNvSpPr/>
          <p:nvPr/>
        </p:nvSpPr>
        <p:spPr>
          <a:xfrm>
            <a:off x="289548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4"/>
          <p:cNvSpPr/>
          <p:nvPr/>
        </p:nvSpPr>
        <p:spPr>
          <a:xfrm flipH="1">
            <a:off x="2895480" y="24382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335268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3733920" y="3581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1066680" y="17524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3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2971800" y="24382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3505320" y="34290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0"/>
          <p:cNvSpPr/>
          <p:nvPr/>
        </p:nvSpPr>
        <p:spPr>
          <a:xfrm>
            <a:off x="3352680" y="3505320"/>
            <a:ext cx="60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33526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2"/>
          <p:cNvSpPr/>
          <p:nvPr/>
        </p:nvSpPr>
        <p:spPr>
          <a:xfrm>
            <a:off x="365760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39625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4"/>
          <p:cNvSpPr/>
          <p:nvPr/>
        </p:nvSpPr>
        <p:spPr>
          <a:xfrm>
            <a:off x="457200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5"/>
          <p:cNvSpPr/>
          <p:nvPr/>
        </p:nvSpPr>
        <p:spPr>
          <a:xfrm>
            <a:off x="42670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6"/>
          <p:cNvSpPr/>
          <p:nvPr/>
        </p:nvSpPr>
        <p:spPr>
          <a:xfrm>
            <a:off x="762120" y="19051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7"/>
          <p:cNvSpPr/>
          <p:nvPr/>
        </p:nvSpPr>
        <p:spPr>
          <a:xfrm>
            <a:off x="1066680" y="2209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8"/>
          <p:cNvSpPr/>
          <p:nvPr/>
        </p:nvSpPr>
        <p:spPr>
          <a:xfrm>
            <a:off x="11430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9"/>
          <p:cNvSpPr/>
          <p:nvPr/>
        </p:nvSpPr>
        <p:spPr>
          <a:xfrm>
            <a:off x="1066680" y="27432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0"/>
          <p:cNvSpPr/>
          <p:nvPr/>
        </p:nvSpPr>
        <p:spPr>
          <a:xfrm>
            <a:off x="6172200" y="220968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аток меньше делителя 5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1"/>
          <p:cNvSpPr/>
          <p:nvPr/>
        </p:nvSpPr>
        <p:spPr>
          <a:xfrm>
            <a:off x="30481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3"/>
          <p:cNvSpPr/>
          <p:nvPr/>
        </p:nvSpPr>
        <p:spPr>
          <a:xfrm>
            <a:off x="2895480" y="1828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4"/>
          <p:cNvSpPr/>
          <p:nvPr/>
        </p:nvSpPr>
        <p:spPr>
          <a:xfrm flipH="1">
            <a:off x="2895480" y="23623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335268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3733920" y="3581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1066680" y="17524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53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2971800" y="24382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3505320" y="34290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0"/>
          <p:cNvSpPr/>
          <p:nvPr/>
        </p:nvSpPr>
        <p:spPr>
          <a:xfrm>
            <a:off x="3352680" y="3505320"/>
            <a:ext cx="60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1"/>
          <p:cNvSpPr/>
          <p:nvPr/>
        </p:nvSpPr>
        <p:spPr>
          <a:xfrm>
            <a:off x="33526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365760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3"/>
          <p:cNvSpPr/>
          <p:nvPr/>
        </p:nvSpPr>
        <p:spPr>
          <a:xfrm>
            <a:off x="39625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4"/>
          <p:cNvSpPr/>
          <p:nvPr/>
        </p:nvSpPr>
        <p:spPr>
          <a:xfrm>
            <a:off x="457200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5"/>
          <p:cNvSpPr/>
          <p:nvPr/>
        </p:nvSpPr>
        <p:spPr>
          <a:xfrm>
            <a:off x="42670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762120" y="19051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7"/>
          <p:cNvSpPr/>
          <p:nvPr/>
        </p:nvSpPr>
        <p:spPr>
          <a:xfrm>
            <a:off x="1066680" y="2209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8"/>
          <p:cNvSpPr/>
          <p:nvPr/>
        </p:nvSpPr>
        <p:spPr>
          <a:xfrm>
            <a:off x="114300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9"/>
          <p:cNvSpPr/>
          <p:nvPr/>
        </p:nvSpPr>
        <p:spPr>
          <a:xfrm>
            <a:off x="1066680" y="27432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0"/>
          <p:cNvSpPr/>
          <p:nvPr/>
        </p:nvSpPr>
        <p:spPr>
          <a:xfrm>
            <a:off x="1523880" y="2286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1"/>
          <p:cNvSpPr/>
          <p:nvPr/>
        </p:nvSpPr>
        <p:spPr>
          <a:xfrm>
            <a:off x="327672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2"/>
          <p:cNvSpPr/>
          <p:nvPr/>
        </p:nvSpPr>
        <p:spPr>
          <a:xfrm>
            <a:off x="1828800" y="22860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3"/>
          <p:cNvSpPr/>
          <p:nvPr/>
        </p:nvSpPr>
        <p:spPr>
          <a:xfrm>
            <a:off x="2057400" y="22860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4"/>
          <p:cNvSpPr/>
          <p:nvPr/>
        </p:nvSpPr>
        <p:spPr>
          <a:xfrm>
            <a:off x="2286000" y="2286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5"/>
          <p:cNvSpPr/>
          <p:nvPr/>
        </p:nvSpPr>
        <p:spPr>
          <a:xfrm>
            <a:off x="838080" y="28954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6"/>
          <p:cNvSpPr/>
          <p:nvPr/>
        </p:nvSpPr>
        <p:spPr>
          <a:xfrm>
            <a:off x="137160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7"/>
          <p:cNvSpPr/>
          <p:nvPr/>
        </p:nvSpPr>
        <p:spPr>
          <a:xfrm>
            <a:off x="1371600" y="3276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8"/>
          <p:cNvSpPr/>
          <p:nvPr/>
        </p:nvSpPr>
        <p:spPr>
          <a:xfrm>
            <a:off x="1066680" y="327672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9"/>
          <p:cNvSpPr/>
          <p:nvPr/>
        </p:nvSpPr>
        <p:spPr>
          <a:xfrm>
            <a:off x="1219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1"/>
          <p:cNvSpPr/>
          <p:nvPr/>
        </p:nvSpPr>
        <p:spPr>
          <a:xfrm>
            <a:off x="160020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2"/>
          <p:cNvSpPr/>
          <p:nvPr/>
        </p:nvSpPr>
        <p:spPr>
          <a:xfrm>
            <a:off x="5943600" y="190512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цифра неполного делимого меньше делителя, то в частном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3"/>
          <p:cNvSpPr/>
          <p:nvPr/>
        </p:nvSpPr>
        <p:spPr>
          <a:xfrm>
            <a:off x="358128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4"/>
          <p:cNvSpPr/>
          <p:nvPr/>
        </p:nvSpPr>
        <p:spPr>
          <a:xfrm>
            <a:off x="182880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6"/>
          <p:cNvSpPr/>
          <p:nvPr/>
        </p:nvSpPr>
        <p:spPr>
          <a:xfrm>
            <a:off x="160020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7"/>
          <p:cNvSpPr/>
          <p:nvPr/>
        </p:nvSpPr>
        <p:spPr>
          <a:xfrm>
            <a:off x="182880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8"/>
          <p:cNvSpPr/>
          <p:nvPr/>
        </p:nvSpPr>
        <p:spPr>
          <a:xfrm>
            <a:off x="1752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9"/>
          <p:cNvSpPr/>
          <p:nvPr/>
        </p:nvSpPr>
        <p:spPr>
          <a:xfrm>
            <a:off x="1828800" y="47242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0"/>
          <p:cNvSpPr/>
          <p:nvPr/>
        </p:nvSpPr>
        <p:spPr>
          <a:xfrm>
            <a:off x="205740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1"/>
          <p:cNvSpPr/>
          <p:nvPr/>
        </p:nvSpPr>
        <p:spPr>
          <a:xfrm>
            <a:off x="38862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2"/>
          <p:cNvSpPr/>
          <p:nvPr/>
        </p:nvSpPr>
        <p:spPr>
          <a:xfrm>
            <a:off x="419112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rc 43"/>
          <p:cNvSpPr/>
          <p:nvPr/>
        </p:nvSpPr>
        <p:spPr>
          <a:xfrm flipV="1" rot="2361600">
            <a:off x="2438280" y="2208960"/>
            <a:ext cx="268560" cy="220680"/>
          </a:xfrm>
          <a:custGeom>
            <a:avLst/>
            <a:gdLst>
              <a:gd name="textAreaLeft" fmla="*/ 0 w 268560"/>
              <a:gd name="textAreaRight" fmla="*/ 268920 w 268560"/>
              <a:gd name="textAreaTop" fmla="*/ -360 h 220680"/>
              <a:gd name="textAreaBottom" fmla="*/ 220680 h 220680"/>
            </a:gdLst>
            <a:ahLst/>
            <a:rect l="textAreaLeft" t="textAreaTop" r="textAreaRight" b="textAreaBottom"/>
            <a:pathLst>
              <a:path fill="none" w="30957" h="27003">
                <a:moveTo>
                  <a:pt x="-1" y="2131"/>
                </a:moveTo>
                <a:cubicBezTo>
                  <a:pt x="2919" y="728"/>
                  <a:pt x="6117" y="-1"/>
                  <a:pt x="9357" y="0"/>
                </a:cubicBezTo>
                <a:cubicBezTo>
                  <a:pt x="21286" y="0"/>
                  <a:pt x="30957" y="9670"/>
                  <a:pt x="30957" y="21600"/>
                </a:cubicBezTo>
                <a:cubicBezTo>
                  <a:pt x="30957" y="23422"/>
                  <a:pt x="30726" y="25238"/>
                  <a:pt x="30270" y="27003"/>
                </a:cubicBezTo>
              </a:path>
              <a:path stroke="0" w="30957" h="27003">
                <a:moveTo>
                  <a:pt x="-1" y="2131"/>
                </a:moveTo>
                <a:cubicBezTo>
                  <a:pt x="2919" y="728"/>
                  <a:pt x="6117" y="-1"/>
                  <a:pt x="9357" y="0"/>
                </a:cubicBezTo>
                <a:cubicBezTo>
                  <a:pt x="21286" y="0"/>
                  <a:pt x="30957" y="9670"/>
                  <a:pt x="30957" y="21600"/>
                </a:cubicBezTo>
                <a:cubicBezTo>
                  <a:pt x="30957" y="23422"/>
                  <a:pt x="30726" y="25238"/>
                  <a:pt x="30270" y="27003"/>
                </a:cubicBezTo>
                <a:lnTo>
                  <a:pt x="9357" y="21600"/>
                </a:lnTo>
                <a:lnTo>
                  <a:pt x="-1" y="213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rc 44"/>
          <p:cNvSpPr/>
          <p:nvPr/>
        </p:nvSpPr>
        <p:spPr>
          <a:xfrm flipV="1" rot="3367200">
            <a:off x="3175200" y="1319760"/>
            <a:ext cx="1493640" cy="2662200"/>
          </a:xfrm>
          <a:custGeom>
            <a:avLst/>
            <a:gdLst>
              <a:gd name="textAreaLeft" fmla="*/ 0 w 1493640"/>
              <a:gd name="textAreaRight" fmla="*/ 1494000 w 1493640"/>
              <a:gd name="textAreaTop" fmla="*/ 0 h 2662200"/>
              <a:gd name="textAreaBottom" fmla="*/ 2662200 h 2662200"/>
            </a:gdLst>
            <a:ahLst/>
            <a:rect l="textAreaLeft" t="textAreaTop" r="textAreaRight" b="textAreaBottom"/>
            <a:pathLst>
              <a:path fill="none" w="28763" h="21600">
                <a:moveTo>
                  <a:pt x="-1" y="1872"/>
                </a:moveTo>
                <a:cubicBezTo>
                  <a:pt x="2768" y="638"/>
                  <a:pt x="5766" y="-1"/>
                  <a:pt x="8798" y="0"/>
                </a:cubicBezTo>
                <a:cubicBezTo>
                  <a:pt x="17543" y="0"/>
                  <a:pt x="25425" y="5272"/>
                  <a:pt x="28762" y="13356"/>
                </a:cubicBezTo>
              </a:path>
              <a:path stroke="0" w="28763" h="21600">
                <a:moveTo>
                  <a:pt x="-1" y="1872"/>
                </a:moveTo>
                <a:cubicBezTo>
                  <a:pt x="2768" y="638"/>
                  <a:pt x="5766" y="-1"/>
                  <a:pt x="8798" y="0"/>
                </a:cubicBezTo>
                <a:cubicBezTo>
                  <a:pt x="17543" y="0"/>
                  <a:pt x="25425" y="5272"/>
                  <a:pt x="28762" y="13356"/>
                </a:cubicBezTo>
                <a:lnTo>
                  <a:pt x="8798" y="21600"/>
                </a:lnTo>
                <a:lnTo>
                  <a:pt x="-1" y="1872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5"/>
          <p:cNvSpPr/>
          <p:nvPr/>
        </p:nvSpPr>
        <p:spPr>
          <a:xfrm>
            <a:off x="449568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6"/>
          <p:cNvSpPr/>
          <p:nvPr/>
        </p:nvSpPr>
        <p:spPr>
          <a:xfrm>
            <a:off x="1828800" y="51814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7"/>
          <p:cNvSpPr/>
          <p:nvPr/>
        </p:nvSpPr>
        <p:spPr>
          <a:xfrm>
            <a:off x="2057400" y="5181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8"/>
          <p:cNvSpPr/>
          <p:nvPr/>
        </p:nvSpPr>
        <p:spPr>
          <a:xfrm>
            <a:off x="1600200" y="487692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49"/>
          <p:cNvSpPr/>
          <p:nvPr/>
        </p:nvSpPr>
        <p:spPr>
          <a:xfrm>
            <a:off x="1905120" y="5715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0"/>
          <p:cNvSpPr/>
          <p:nvPr/>
        </p:nvSpPr>
        <p:spPr>
          <a:xfrm>
            <a:off x="2057400" y="5638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1"/>
          <p:cNvSpPr/>
          <p:nvPr/>
        </p:nvSpPr>
        <p:spPr>
          <a:xfrm>
            <a:off x="5715000" y="190512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новым неполным делимым является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его переписываем в част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47826E-006 L 0 0.29741 E">
                                      <p:cBhvr>
                                        <p:cTn id="476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3.3025E-006 L 2.77556E-017 0.29741 E">
                                      <p:cBhvr>
                                        <p:cTn id="507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1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47826E-006 L 0 0.43062 E">
                                      <p:cBhvr>
                                        <p:cTn id="560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"/>
          <p:cNvSpPr/>
          <p:nvPr/>
        </p:nvSpPr>
        <p:spPr>
          <a:xfrm>
            <a:off x="289548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4"/>
          <p:cNvSpPr/>
          <p:nvPr/>
        </p:nvSpPr>
        <p:spPr>
          <a:xfrm flipH="1">
            <a:off x="2895480" y="23623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3276720" y="17524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rc 6"/>
          <p:cNvSpPr/>
          <p:nvPr/>
        </p:nvSpPr>
        <p:spPr>
          <a:xfrm flipV="1" rot="3505800">
            <a:off x="1095120" y="1952280"/>
            <a:ext cx="398520" cy="455760"/>
          </a:xfrm>
          <a:custGeom>
            <a:avLst/>
            <a:gdLst>
              <a:gd name="textAreaLeft" fmla="*/ 0 w 398520"/>
              <a:gd name="textAreaRight" fmla="*/ 398880 w 398520"/>
              <a:gd name="textAreaTop" fmla="*/ 360 h 455760"/>
              <a:gd name="textAreaBottom" fmla="*/ 456480 h 455760"/>
            </a:gdLst>
            <a:ahLst/>
            <a:rect l="textAreaLeft" t="textAreaTop" r="textAreaRight" b="textAreaBottom"/>
            <a:pathLst>
              <a:path fill="none" w="21600" h="25274">
                <a:moveTo>
                  <a:pt x="6223" y="0"/>
                </a:moveTo>
                <a:cubicBezTo>
                  <a:pt x="15351" y="2746"/>
                  <a:pt x="21600" y="11151"/>
                  <a:pt x="21600" y="20684"/>
                </a:cubicBezTo>
                <a:cubicBezTo>
                  <a:pt x="21600" y="22227"/>
                  <a:pt x="21434" y="23765"/>
                  <a:pt x="21106" y="25273"/>
                </a:cubicBezTo>
              </a:path>
              <a:path stroke="0" w="21600" h="25274">
                <a:moveTo>
                  <a:pt x="6223" y="0"/>
                </a:moveTo>
                <a:cubicBezTo>
                  <a:pt x="15351" y="2746"/>
                  <a:pt x="21600" y="11151"/>
                  <a:pt x="21600" y="20684"/>
                </a:cubicBezTo>
                <a:cubicBezTo>
                  <a:pt x="21600" y="22227"/>
                  <a:pt x="21434" y="23765"/>
                  <a:pt x="21106" y="25273"/>
                </a:cubicBezTo>
                <a:lnTo>
                  <a:pt x="0" y="20684"/>
                </a:lnTo>
                <a:lnTo>
                  <a:pt x="6223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609480" y="2590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олное делим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8"/>
          <p:cNvSpPr/>
          <p:nvPr/>
        </p:nvSpPr>
        <p:spPr>
          <a:xfrm flipV="1">
            <a:off x="1066680" y="236196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3200400" y="2514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rc 10"/>
          <p:cNvSpPr/>
          <p:nvPr/>
        </p:nvSpPr>
        <p:spPr>
          <a:xfrm flipV="1" rot="2821800">
            <a:off x="3193200" y="2597760"/>
            <a:ext cx="312480" cy="298440"/>
          </a:xfrm>
          <a:custGeom>
            <a:avLst/>
            <a:gdLst>
              <a:gd name="textAreaLeft" fmla="*/ 0 w 312480"/>
              <a:gd name="textAreaRight" fmla="*/ 312480 w 312480"/>
              <a:gd name="textAreaTop" fmla="*/ -360 h 298440"/>
              <a:gd name="textAreaBottom" fmla="*/ 298440 h 298440"/>
            </a:gdLst>
            <a:ahLst/>
            <a:rect l="textAreaLeft" t="textAreaTop" r="textAreaRight" b="textAreaBottom"/>
            <a:pathLst>
              <a:path fill="none" w="20882" h="20779">
                <a:moveTo>
                  <a:pt x="5899" y="0"/>
                </a:moveTo>
                <a:cubicBezTo>
                  <a:pt x="13236" y="2083"/>
                  <a:pt x="18931" y="7881"/>
                  <a:pt x="20881" y="15255"/>
                </a:cubicBezTo>
              </a:path>
              <a:path stroke="0" w="20882" h="20779">
                <a:moveTo>
                  <a:pt x="5899" y="0"/>
                </a:moveTo>
                <a:cubicBezTo>
                  <a:pt x="13236" y="2083"/>
                  <a:pt x="18931" y="7881"/>
                  <a:pt x="20881" y="15255"/>
                </a:cubicBezTo>
                <a:lnTo>
                  <a:pt x="0" y="20779"/>
                </a:lnTo>
                <a:lnTo>
                  <a:pt x="58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2209680" y="17524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1600200" y="17524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99072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1295280" y="175248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1905120" y="175248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3733920" y="3581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17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3429000" y="2514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9"/>
          <p:cNvSpPr/>
          <p:nvPr/>
        </p:nvSpPr>
        <p:spPr>
          <a:xfrm>
            <a:off x="388620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0"/>
          <p:cNvSpPr/>
          <p:nvPr/>
        </p:nvSpPr>
        <p:spPr>
          <a:xfrm>
            <a:off x="3733920" y="2514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21"/>
          <p:cNvSpPr/>
          <p:nvPr/>
        </p:nvSpPr>
        <p:spPr>
          <a:xfrm>
            <a:off x="4191120" y="26668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2"/>
          <p:cNvSpPr/>
          <p:nvPr/>
        </p:nvSpPr>
        <p:spPr>
          <a:xfrm>
            <a:off x="4038480" y="2514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6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5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8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5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8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5684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3"/>
          <p:cNvSpPr/>
          <p:nvPr/>
        </p:nvSpPr>
        <p:spPr>
          <a:xfrm>
            <a:off x="289548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4"/>
          <p:cNvSpPr/>
          <p:nvPr/>
        </p:nvSpPr>
        <p:spPr>
          <a:xfrm flipH="1">
            <a:off x="2895480" y="24382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335268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3733920" y="3581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1066680" y="17524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89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2971800" y="24382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352680" y="3505320"/>
            <a:ext cx="60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33526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365760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39625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5"/>
          <p:cNvSpPr/>
          <p:nvPr/>
        </p:nvSpPr>
        <p:spPr>
          <a:xfrm>
            <a:off x="762120" y="19051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6"/>
          <p:cNvSpPr/>
          <p:nvPr/>
        </p:nvSpPr>
        <p:spPr>
          <a:xfrm>
            <a:off x="1066680" y="2209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7"/>
          <p:cNvSpPr/>
          <p:nvPr/>
        </p:nvSpPr>
        <p:spPr>
          <a:xfrm>
            <a:off x="11430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8"/>
          <p:cNvSpPr/>
          <p:nvPr/>
        </p:nvSpPr>
        <p:spPr>
          <a:xfrm>
            <a:off x="1371600" y="27432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9"/>
          <p:cNvSpPr/>
          <p:nvPr/>
        </p:nvSpPr>
        <p:spPr>
          <a:xfrm>
            <a:off x="6172200" y="220968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аток меньше делителя 9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0"/>
          <p:cNvSpPr/>
          <p:nvPr/>
        </p:nvSpPr>
        <p:spPr>
          <a:xfrm>
            <a:off x="30481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9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3"/>
          <p:cNvSpPr/>
          <p:nvPr/>
        </p:nvSpPr>
        <p:spPr>
          <a:xfrm>
            <a:off x="2895480" y="1828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4"/>
          <p:cNvSpPr/>
          <p:nvPr/>
        </p:nvSpPr>
        <p:spPr>
          <a:xfrm flipH="1">
            <a:off x="2895480" y="23623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"/>
          <p:cNvSpPr/>
          <p:nvPr/>
        </p:nvSpPr>
        <p:spPr>
          <a:xfrm>
            <a:off x="335268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3733920" y="3581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1066680" y="17524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891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2971800" y="24382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9"/>
          <p:cNvSpPr/>
          <p:nvPr/>
        </p:nvSpPr>
        <p:spPr>
          <a:xfrm>
            <a:off x="3505320" y="34290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0"/>
          <p:cNvSpPr/>
          <p:nvPr/>
        </p:nvSpPr>
        <p:spPr>
          <a:xfrm>
            <a:off x="3352680" y="3505320"/>
            <a:ext cx="60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1"/>
          <p:cNvSpPr/>
          <p:nvPr/>
        </p:nvSpPr>
        <p:spPr>
          <a:xfrm>
            <a:off x="33526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2"/>
          <p:cNvSpPr/>
          <p:nvPr/>
        </p:nvSpPr>
        <p:spPr>
          <a:xfrm>
            <a:off x="365760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3"/>
          <p:cNvSpPr/>
          <p:nvPr/>
        </p:nvSpPr>
        <p:spPr>
          <a:xfrm>
            <a:off x="39625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4"/>
          <p:cNvSpPr/>
          <p:nvPr/>
        </p:nvSpPr>
        <p:spPr>
          <a:xfrm>
            <a:off x="762120" y="19051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5"/>
          <p:cNvSpPr/>
          <p:nvPr/>
        </p:nvSpPr>
        <p:spPr>
          <a:xfrm>
            <a:off x="1066680" y="2209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6"/>
          <p:cNvSpPr/>
          <p:nvPr/>
        </p:nvSpPr>
        <p:spPr>
          <a:xfrm>
            <a:off x="1143000" y="2819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7"/>
          <p:cNvSpPr/>
          <p:nvPr/>
        </p:nvSpPr>
        <p:spPr>
          <a:xfrm>
            <a:off x="327672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8"/>
          <p:cNvSpPr/>
          <p:nvPr/>
        </p:nvSpPr>
        <p:spPr>
          <a:xfrm>
            <a:off x="1828800" y="2286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9"/>
          <p:cNvSpPr/>
          <p:nvPr/>
        </p:nvSpPr>
        <p:spPr>
          <a:xfrm>
            <a:off x="2057400" y="22860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0"/>
          <p:cNvSpPr/>
          <p:nvPr/>
        </p:nvSpPr>
        <p:spPr>
          <a:xfrm>
            <a:off x="1066680" y="28954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1"/>
          <p:cNvSpPr/>
          <p:nvPr/>
        </p:nvSpPr>
        <p:spPr>
          <a:xfrm>
            <a:off x="137160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2"/>
          <p:cNvSpPr/>
          <p:nvPr/>
        </p:nvSpPr>
        <p:spPr>
          <a:xfrm>
            <a:off x="1371600" y="3200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3"/>
          <p:cNvSpPr/>
          <p:nvPr/>
        </p:nvSpPr>
        <p:spPr>
          <a:xfrm>
            <a:off x="144792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5"/>
          <p:cNvSpPr/>
          <p:nvPr/>
        </p:nvSpPr>
        <p:spPr>
          <a:xfrm>
            <a:off x="160020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26"/>
          <p:cNvSpPr/>
          <p:nvPr/>
        </p:nvSpPr>
        <p:spPr>
          <a:xfrm>
            <a:off x="358128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27"/>
          <p:cNvSpPr/>
          <p:nvPr/>
        </p:nvSpPr>
        <p:spPr>
          <a:xfrm>
            <a:off x="182880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8"/>
          <p:cNvSpPr/>
          <p:nvPr/>
        </p:nvSpPr>
        <p:spPr>
          <a:xfrm>
            <a:off x="1600200" y="39625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9"/>
          <p:cNvSpPr/>
          <p:nvPr/>
        </p:nvSpPr>
        <p:spPr>
          <a:xfrm>
            <a:off x="182880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30"/>
          <p:cNvSpPr/>
          <p:nvPr/>
        </p:nvSpPr>
        <p:spPr>
          <a:xfrm>
            <a:off x="1752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31"/>
          <p:cNvSpPr/>
          <p:nvPr/>
        </p:nvSpPr>
        <p:spPr>
          <a:xfrm>
            <a:off x="1828800" y="47242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rc 32"/>
          <p:cNvSpPr/>
          <p:nvPr/>
        </p:nvSpPr>
        <p:spPr>
          <a:xfrm flipV="1" rot="2361600">
            <a:off x="2133360" y="2209320"/>
            <a:ext cx="268200" cy="220320"/>
          </a:xfrm>
          <a:custGeom>
            <a:avLst/>
            <a:gdLst>
              <a:gd name="textAreaLeft" fmla="*/ 0 w 268200"/>
              <a:gd name="textAreaRight" fmla="*/ 268560 w 268200"/>
              <a:gd name="textAreaTop" fmla="*/ 360 h 220320"/>
              <a:gd name="textAreaBottom" fmla="*/ 221040 h 220320"/>
            </a:gdLst>
            <a:ahLst/>
            <a:rect l="textAreaLeft" t="textAreaTop" r="textAreaRight" b="textAreaBottom"/>
            <a:pathLst>
              <a:path fill="none" w="30957" h="27003">
                <a:moveTo>
                  <a:pt x="-1" y="2131"/>
                </a:moveTo>
                <a:cubicBezTo>
                  <a:pt x="2919" y="728"/>
                  <a:pt x="6117" y="-1"/>
                  <a:pt x="9357" y="0"/>
                </a:cubicBezTo>
                <a:cubicBezTo>
                  <a:pt x="21286" y="0"/>
                  <a:pt x="30957" y="9670"/>
                  <a:pt x="30957" y="21600"/>
                </a:cubicBezTo>
                <a:cubicBezTo>
                  <a:pt x="30957" y="23422"/>
                  <a:pt x="30726" y="25238"/>
                  <a:pt x="30270" y="27003"/>
                </a:cubicBezTo>
              </a:path>
              <a:path stroke="0" w="30957" h="27003">
                <a:moveTo>
                  <a:pt x="-1" y="2131"/>
                </a:moveTo>
                <a:cubicBezTo>
                  <a:pt x="2919" y="728"/>
                  <a:pt x="6117" y="-1"/>
                  <a:pt x="9357" y="0"/>
                </a:cubicBezTo>
                <a:cubicBezTo>
                  <a:pt x="21286" y="0"/>
                  <a:pt x="30957" y="9670"/>
                  <a:pt x="30957" y="21600"/>
                </a:cubicBezTo>
                <a:cubicBezTo>
                  <a:pt x="30957" y="23422"/>
                  <a:pt x="30726" y="25238"/>
                  <a:pt x="30270" y="27003"/>
                </a:cubicBezTo>
                <a:lnTo>
                  <a:pt x="9357" y="21600"/>
                </a:lnTo>
                <a:lnTo>
                  <a:pt x="-1" y="213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rc 33"/>
          <p:cNvSpPr/>
          <p:nvPr/>
        </p:nvSpPr>
        <p:spPr>
          <a:xfrm flipV="1" rot="3367200">
            <a:off x="2609640" y="1555200"/>
            <a:ext cx="1400040" cy="2028960"/>
          </a:xfrm>
          <a:custGeom>
            <a:avLst/>
            <a:gdLst>
              <a:gd name="textAreaLeft" fmla="*/ 0 w 1400040"/>
              <a:gd name="textAreaRight" fmla="*/ 1400400 w 1400040"/>
              <a:gd name="textAreaTop" fmla="*/ 360 h 2028960"/>
              <a:gd name="textAreaBottom" fmla="*/ 2029680 h 2028960"/>
            </a:gdLst>
            <a:ahLst/>
            <a:rect l="textAreaLeft" t="textAreaTop" r="textAreaRight" b="textAreaBottom"/>
            <a:pathLst>
              <a:path fill="none" w="28763" h="21600">
                <a:moveTo>
                  <a:pt x="-1" y="1872"/>
                </a:moveTo>
                <a:cubicBezTo>
                  <a:pt x="2768" y="638"/>
                  <a:pt x="5766" y="-1"/>
                  <a:pt x="8798" y="0"/>
                </a:cubicBezTo>
                <a:cubicBezTo>
                  <a:pt x="17543" y="0"/>
                  <a:pt x="25425" y="5272"/>
                  <a:pt x="28762" y="13356"/>
                </a:cubicBezTo>
              </a:path>
              <a:path stroke="0" w="28763" h="21600">
                <a:moveTo>
                  <a:pt x="-1" y="1872"/>
                </a:moveTo>
                <a:cubicBezTo>
                  <a:pt x="2768" y="638"/>
                  <a:pt x="5766" y="-1"/>
                  <a:pt x="8798" y="0"/>
                </a:cubicBezTo>
                <a:cubicBezTo>
                  <a:pt x="17543" y="0"/>
                  <a:pt x="25425" y="5272"/>
                  <a:pt x="28762" y="13356"/>
                </a:cubicBezTo>
                <a:lnTo>
                  <a:pt x="8798" y="21600"/>
                </a:lnTo>
                <a:lnTo>
                  <a:pt x="-1" y="1872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34"/>
          <p:cNvSpPr/>
          <p:nvPr/>
        </p:nvSpPr>
        <p:spPr>
          <a:xfrm>
            <a:off x="38862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35"/>
          <p:cNvSpPr/>
          <p:nvPr/>
        </p:nvSpPr>
        <p:spPr>
          <a:xfrm>
            <a:off x="5867280" y="190512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новым неполным делимым является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его переписываем в част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4736E-006 L 0 0.14199 E">
                                      <p:cBhvr>
                                        <p:cTn id="779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2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4.84736E-006 L 2.77556E-017 0.2863 E">
                                      <p:cBhvr>
                                        <p:cTn id="815" dur="2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2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0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3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4" descr="j0183290"/>
          <p:cNvPicPr/>
          <p:nvPr/>
        </p:nvPicPr>
        <p:blipFill>
          <a:blip r:embed="rId1"/>
          <a:stretch/>
        </p:blipFill>
        <p:spPr>
          <a:xfrm>
            <a:off x="1219320" y="380880"/>
            <a:ext cx="56116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j0183290"/>
          <p:cNvPicPr/>
          <p:nvPr/>
        </p:nvPicPr>
        <p:blipFill>
          <a:blip r:embed="rId1"/>
          <a:stretch/>
        </p:blipFill>
        <p:spPr>
          <a:xfrm>
            <a:off x="1187280" y="404640"/>
            <a:ext cx="5612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691920"/>
            <a:ext cx="6870600" cy="106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440" y="-299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440" y="836280"/>
            <a:ext cx="784692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ариант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ариан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768: 8 = 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96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8334:6=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138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367:3=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789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9268:7=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132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0" name="Picture 4" descr="EDCN001"/>
          <p:cNvPicPr/>
          <p:nvPr/>
        </p:nvPicPr>
        <p:blipFill>
          <a:blip r:embed="rId1"/>
          <a:stretch/>
        </p:blipFill>
        <p:spPr>
          <a:xfrm>
            <a:off x="1979640" y="3213000"/>
            <a:ext cx="54007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03280" y="2133360"/>
            <a:ext cx="6400800" cy="7873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пасибо за урок!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1547280" y="3141360"/>
            <a:ext cx="6032520" cy="1003320"/>
          </a:xfrm>
          <a:prstGeom prst="rect">
            <a:avLst/>
          </a:prstGeom>
          <a:solidFill>
            <a:srgbClr val="00b2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ак настроение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1403280" y="4508640"/>
            <a:ext cx="6400800" cy="1652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Comic Sans MS"/>
              </a:rPr>
              <a:t>Автор: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Гурьянова Мария Юр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учитель начальных классов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0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орогие ребята!</a:t>
            </a:r>
            <a:br>
              <a:rPr sz="28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коро наступит самый любимый мой праздник- Новый год! Думаю, что и вы его очень любите. Я приготовил для вас сюрпризы. Хотите узнать какие? Выполните все мои задания. Желаю удачи!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До скорой встреч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6300720" y="4005360"/>
            <a:ext cx="1992240" cy="2695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"/>
          <p:cNvGraphicFramePr/>
          <p:nvPr/>
        </p:nvGraphicFramePr>
        <p:xfrm>
          <a:off x="157320" y="1542960"/>
          <a:ext cx="8831160" cy="517680"/>
        </p:xfrm>
        <a:graphic>
          <a:graphicData uri="http://schemas.openxmlformats.org/drawingml/2006/table">
            <a:tbl>
              <a:tblPr/>
              <a:tblGrid>
                <a:gridCol w="8831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" name=""/>
          <p:cNvGraphicFramePr/>
          <p:nvPr/>
        </p:nvGraphicFramePr>
        <p:xfrm>
          <a:off x="157320" y="620640"/>
          <a:ext cx="2901960" cy="863640"/>
        </p:xfrm>
        <a:graphic>
          <a:graphicData uri="http://schemas.openxmlformats.org/drawingml/2006/table">
            <a:tbl>
              <a:tblPr/>
              <a:tblGrid>
                <a:gridCol w="29019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 х 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" name=""/>
          <p:cNvGraphicFramePr/>
          <p:nvPr/>
        </p:nvGraphicFramePr>
        <p:xfrm>
          <a:off x="157320" y="549360"/>
          <a:ext cx="3119400" cy="1511280"/>
        </p:xfrm>
        <a:graphic>
          <a:graphicData uri="http://schemas.openxmlformats.org/drawingml/2006/table">
            <a:tbl>
              <a:tblPr/>
              <a:tblGrid>
                <a:gridCol w="3119400"/>
              </a:tblGrid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1" descr="JACKNBOX"/>
          <p:cNvPicPr/>
          <p:nvPr/>
        </p:nvPicPr>
        <p:blipFill>
          <a:blip r:embed="rId2"/>
          <a:stretch/>
        </p:blipFill>
        <p:spPr>
          <a:xfrm>
            <a:off x="1116000" y="333360"/>
            <a:ext cx="180036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157320" y="2421000"/>
          <a:ext cx="2901960" cy="936720"/>
        </p:xfrm>
        <a:graphic>
          <a:graphicData uri="http://schemas.openxmlformats.org/drawingml/2006/table">
            <a:tbl>
              <a:tblPr/>
              <a:tblGrid>
                <a:gridCol w="290196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1 х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157320" y="2924280"/>
          <a:ext cx="3190680" cy="1009440"/>
        </p:xfrm>
        <a:graphic>
          <a:graphicData uri="http://schemas.openxmlformats.org/drawingml/2006/table">
            <a:tbl>
              <a:tblPr/>
              <a:tblGrid>
                <a:gridCol w="3190680"/>
              </a:tblGrid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1" descr="BACK168"/>
          <p:cNvPicPr/>
          <p:nvPr/>
        </p:nvPicPr>
        <p:blipFill>
          <a:blip r:embed="rId2"/>
          <a:stretch/>
        </p:blipFill>
        <p:spPr>
          <a:xfrm flipH="1">
            <a:off x="2123640" y="2133720"/>
            <a:ext cx="1584360" cy="1600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06:01:17Z</dcterms:created>
  <dc:creator>USER</dc:creator>
  <dc:description/>
  <dc:language>en-US</dc:language>
  <cp:lastModifiedBy>Admin</cp:lastModifiedBy>
  <dcterms:modified xsi:type="dcterms:W3CDTF">2013-08-30T15:12:16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