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9176-3FE1-44B7-9D28-3E3BA76FC2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075B-83D0-403E-A734-4A70B9FE21F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8F23-3051-4EF4-AF4F-E340E92C3B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3F39-85B3-40B0-9C35-3622145D81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2F2C-B412-44AE-884E-871FE63487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B036-315D-419C-98B3-11F3AC265B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1AAF-687E-4ED8-91DF-767C2F71C2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FC8F-A04C-49D3-853B-C3C1FA51D6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9D9D-5CF9-458F-ACAD-5BD6682D5E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F1F0-CD89-424A-8D07-43FECD56BF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C45-AF63-4DED-870F-244A5021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D0B-3DAC-4297-BF6A-2CF98EB0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010-1F76-42E9-964B-1C618617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53F-7603-40D3-BDF2-610EFE4F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620B-BA6D-45FF-B362-5BDFA7C1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2CF6-6CC9-4127-AE11-12382F8B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2622-4518-4461-BDB3-0B88A71D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864A-04F7-41ED-AF4D-03A7B144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2E0A-124E-4BED-8C9F-737DCC59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9EA2-D8A5-4C6B-9487-EF712348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7221-E2BA-4DC5-849C-FA8E1714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84F-5B8F-4087-B813-6FCD1EB0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4335-0FDC-4E9F-AE04-D944BDD9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7A70-FD57-4D93-B221-BB3D2D5D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8628-1F70-4F66-9920-544D5A11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3CC3-3E46-49BC-8864-BE273AEA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B136-9AE2-46B9-A9C9-ECFAD924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286-2B3A-4C0E-A026-5D11F4D6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184-F8A1-42A6-BD0D-A580FB48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F91-D601-438D-BDBD-756C9E20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B20-B6B1-406D-8AE9-95DE4D06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2CC-7F3E-4276-94DA-0A763C96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B13-0262-4521-8515-D779A673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76D-40AE-44C7-9AF4-961DA754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F286-5523-405F-9184-E797271D23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3F7E-91F1-437B-8B3E-8ED0EB376B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</a:rPr>
              <a:t>Преступность в России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62520" y="2552760"/>
            <a:ext cx="4572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раткие данные за 2001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33"/>
                </a:solidFill>
                <a:latin typeface="Verdana"/>
                <a:ea typeface="Arial"/>
              </a:rPr>
              <a:t>Общий уровень преступности в регионах России различается в разы</a:t>
            </a:r>
            <a:br>
              <a:rPr sz="2000"/>
            </a:b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Рост регистрируемых преступлений в 2001 году был отмечен в 48 регионах-субъектах Российской Федерации, а снижение - в 41 регионе. В целом по России число зарегистрированных преступлений составило в 2001 году 2044 на 100 тысяч населения, увеличившись на 1,0% по сравнению с предшествующим годом. В отдельных регионах-субъектах Российской Федерации уровень преступности превышал среднероссийский уровень более чем в 1,5 раза (в первую очередь это относится к некоторым регионам Дальнего Востока и Сибири), в других же был ниже в 2-5 раз (рис. 2). Наиболее высоким уровень преступности в 2001 году был в Еврейской автономной области (3235), Курганской области (3165), Хабаровском крае (3153), Республике Бурятия (3098), наиболее низким - в республиках Ингушетии (378) и Дагестане (705). Москва и Московская область занимали, соответственно, 72-е и 71-е места среди 89 регионов-субъектов федерации, а Санкт-Петербург и Ленинградская область - 37-е и 11-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  <a:ea typeface="Arial"/>
              </a:rPr>
              <a:t>В 2001 году возобновился рост преступности в России</a:t>
            </a:r>
            <a:br>
              <a:rPr sz="2000"/>
            </a:b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Согласно опубликованным Госкомстатом России данным, предоставленным МВД России, для 90-х годов в целом было характерно быстрое повышение общего уровня преступности (рис. 1). Наиболее значительным оно было в периоды обострения кризисных явлений в социально-экономической жизни общества в 1990-1993 и 1998-1999 годы, а в периоды относительной стабилизации отмечались отклонения от общего тренда. После небольшого спада, наблюдавшегося в 2000 году, в России возобновилось повышение уровня преступности. За 2001 год зарегистрировано 2968,3 тысячи преступлений, что на 0,5% больше, чем за предыдущий год. В общем числе зарегистрированных преступлений по своему удельному весу выделяются кражи - их доля в начале 90-х годов составляла около 50%, к 1992 году поднялась до 60%, а затем постепенно снижалась, составив 42,9% в 2001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 advTm="3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имеры из жизн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дите пример из жизни или расскажите анекд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ыграйте аудитории, если сочтете нуж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Что все это значит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разите свое мнение по поводу этой 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ите ключевые моменты, которые должны остаться в памяти слуша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ледующие шаги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все действия, которые должны совершить слуша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свои последующие дей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08:59:28Z</dcterms:created>
  <dc:creator>Computer Centre</dc:creator>
  <dc:description/>
  <dc:language>en-US</dc:language>
  <cp:lastModifiedBy>Николай</cp:lastModifiedBy>
  <dcterms:modified xsi:type="dcterms:W3CDTF">2013-07-02T08:21:45Z</dcterms:modified>
  <cp:revision>3</cp:revision>
  <dc:subject/>
  <dc:title>Преступность в России</dc:title>
</cp:coreProperties>
</file>