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7F81-F1F9-4C9B-912F-D31345DF4D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5E3F-0913-4F97-82C0-FDBE47BA81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886B-5CC8-47EF-AB97-AF6A700180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0951-EBCC-44AD-BA28-D22855E6CC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551-FD2A-4E99-9F7B-CBB072B4BD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343-6347-45A0-8EAC-6D61AC9B605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22F2-5A7C-468C-B1FD-172F49EDB9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F9C8-4B4E-4930-8C51-DA167C5BF6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BE36-B9E4-4C4B-B705-810EE2AACA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D64-810D-4B0B-A759-B6EAE3AAE2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66F-1F86-474B-A218-C8D81E32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342-8383-4DC5-B786-3670BD05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414-52FE-4CD9-81A0-19185C7A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098-EF9F-424F-8FA7-A646F1E2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296-A63E-498D-AA59-F22FA7D7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872C-739F-487F-8689-206AFC2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4A75-99B5-4A56-9B43-6185B12B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29D-4BDE-4862-9731-28E000FB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5190-0379-4E2C-BEF7-DC51126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B74B-AED2-4A60-B879-F5B03A8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043-1158-49AF-AC39-D3452F6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B8C-8227-4708-A7D2-B08FB34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E0F6-FA8A-405A-80EA-02D8B99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9691-718C-44CB-AFE8-DDC1EF4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60D4-0702-4B48-BC2C-E062B65B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327F-A325-475F-93BB-0AA53D70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DAF-466A-4731-83FC-0A735578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105-3F32-4FA5-88D1-5C7618B0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C4C-E87D-4724-8659-1E7BDEC9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186-80E5-4A01-BEC1-DE00DD2B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64F-94B7-40DB-B3FE-C6F11245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59F-1D19-4DA0-AA68-F01298EE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7A40-FF10-4B1E-BB2A-9DEF4D2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6D3-F3C7-46FC-8381-D8268AE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646B-8E48-4425-9618-7D6030528A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D13-351E-4E96-8989-66248D283D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Arial Narrow"/>
              </a:rPr>
              <a:t>Преступность в России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552760"/>
            <a:ext cx="45720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раткие данные за 2001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33"/>
                </a:solidFill>
                <a:latin typeface="Verdana"/>
                <a:ea typeface="Arial"/>
              </a:rPr>
              <a:t>Общий уровень преступности в регионах России различается в разы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Рост регистрируемых преступлений в 2001 году был отмечен в 48 регионах-субъектах Российской Федерации, а снижение - в 41 регионе. В целом по России число зарегистрированных преступлений составило в 2001 году 2044 на 100 тысяч населения, увеличившись на 1,0% по сравнению с предшествующим годом. В отдельных регионах-субъектах Российской Федерации уровень преступности превышал среднероссийский уровень более чем в 1,5 раза (в первую очередь это относится к некоторым регионам Дальнего Востока и Сибири), в других же был ниже в 2-5 раз (рис. 2). Наиболее высоким уровень преступности в 2001 году был в Еврейской автономной области (3235), Курганской области (3165), Хабаровском крае (3153), Республике Бурятия (3098), наиболее низким - в республиках Ингушетии (378) и Дагестане (705). Москва и Московская область занимали, соответственно, 72-е и 71-е места среди 89 регионов-субъектов федерации, а Санкт-Петербург и Ленинградская область - 37-е и 11-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  <a:ea typeface="Arial"/>
              </a:rPr>
              <a:t>В 2001 году возобновился рост преступности в России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Согласно опубликованным Госкомстатом России данным, предоставленным МВД России, для 90-х годов в целом было характерно быстрое повышение общего уровня преступности (рис. 1). Наиболее значительным оно было в периоды обострения кризисных явлений в социально-экономической жизни общества в 1990-1993 и 1998-1999 годы, а в периоды относительной стабилизации отмечались отклонения от общего тренда. После небольшого спада, наблюдавшегося в 2000 году, в России возобновилось повышение уровня преступности. За 2001 год зарегистрировано 2968,3 тысячи преступлений, что на 0,5% больше, чем за предыдущий год. В общем числе зарегистрированных преступлений по своему удельному весу выделяются кражи - их доля в начале 90-х годов составляла около 50%, к 1992 году поднялась до 60%, а затем постепенно снижалась, составив 42,9% в 2001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 advTm="3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дите пример из жизни или расскажите анекд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ыграйте аудитории, если сочтете нуж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зите свое мнение по поводу этой 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ите ключевые моменты, которые должны остаться в памяти слуша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едующие шаги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все действия, которые должны совершить слуш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вои последующие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8:59:28Z</dcterms:created>
  <dc:creator>Computer Centre</dc:creator>
  <dc:description/>
  <dc:language>en-US</dc:language>
  <cp:lastModifiedBy>Николай</cp:lastModifiedBy>
  <dcterms:modified xsi:type="dcterms:W3CDTF">2013-07-02T08:21:45Z</dcterms:modified>
  <cp:revision>3</cp:revision>
  <dc:subject/>
  <dc:title>Преступность в России</dc:title>
</cp:coreProperties>
</file>