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C5A0-6A0A-4384-A632-4A7262737A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354C-AF56-4E71-880A-789E7F7310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7212-4A17-4C33-9D7A-EFC003E617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447E-8F00-49BB-8342-64DA54A00E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4832-4F29-4138-BA8F-6671082F05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6DA3-3469-45B5-A67E-C19BF6E7400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9C22-5412-4886-B713-0503EDFDDE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4EEB-8CE0-4118-BAC4-6007057A8C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868E-0195-41A5-A003-F20D1205B1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32FC-F98E-494C-9ACC-7D64D99C03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A97-B6AA-4358-B7C5-F3D47887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8A1-391C-46E7-91FC-F12707DB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40A-920B-426D-890A-195C6212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9EB-EA4B-410B-AD2E-EEC5234A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779D-8CFC-40D1-88AC-3FC8E41F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5E21-9743-4C2E-B9E2-7CD37EE4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62AB-401E-4420-94AB-CAE8EB7C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464E-3B1E-463E-8E1E-F8BF4D51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9DD1-E5F9-4F64-8417-0315D487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CD46-2E4E-4870-BFEF-3BFD9FBE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D9F7-C9EE-43E1-AFE0-AF39A89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45E2-C0CF-4E86-8153-62B27DB1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3BD4-796D-4E58-BE66-B05E3CC8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2C32-42A4-4FB0-8B3D-A30577B1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2789-EDB3-4212-A2B3-B9CBE778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DBE3-9088-4CE0-A80F-C1FFC7B6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6B43-5FC7-43D5-B8D7-32FAACEF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042-B2F3-47C0-8F4B-C3FDB5A3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962-9DDC-4752-A637-C70A2E54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121-EBCD-449F-818E-0184D627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D3E0-1E16-436F-BFBC-48C8EBC0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211-A615-4D55-B18A-882CECFB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1E4-E493-45B9-904F-D81D1FFD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C6F-A849-4A27-940C-FA713752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A9F1-1F46-416F-9B6E-33C925AEA4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95C0-D0ED-4F7B-B887-221F739A72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</a:rPr>
              <a:t>Преступность в России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62520" y="2552760"/>
            <a:ext cx="4572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раткие данные за 2001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00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33"/>
                </a:solidFill>
                <a:latin typeface="Verdana"/>
                <a:ea typeface="Arial"/>
              </a:rPr>
              <a:t>Общий уровень преступности в регионах России различается в разы</a:t>
            </a:r>
            <a:br>
              <a:rPr sz="2000"/>
            </a:b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Рост регистрируемых преступлений в 2001 году был отмечен в 48 регионах-субъектах Российской Федерации, а снижение - в 41 регионе. В целом по России число зарегистрированных преступлений составило в 2001 году 2044 на 100 тысяч населения, увеличившись на 1,0% по сравнению с предшествующим годом. В отдельных регионах-субъектах Российской Федерации уровень преступности превышал среднероссийский уровень более чем в 1,5 раза (в первую очередь это относится к некоторым регионам Дальнего Востока и Сибири), в других же был ниже в 2-5 раз (рис. 2). Наиболее высоким уровень преступности в 2001 году был в Еврейской автономной области (3235), Курганской области (3165), Хабаровском крае (3153), Республике Бурятия (3098), наиболее низким - в республиках Ингушетии (378) и Дагестане (705). Москва и Московская область занимали, соответственно, 72-е и 71-е места среди 89 регионов-субъектов федерации, а Санкт-Петербург и Ленинградская область - 37-е и 11-е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  <a:ea typeface="Arial"/>
              </a:rPr>
              <a:t>В 2001 году возобновился рост преступности в России</a:t>
            </a:r>
            <a:br>
              <a:rPr sz="2000"/>
            </a:b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Согласно опубликованным Госкомстатом России данным, предоставленным МВД России, для 90-х годов в целом было характерно быстрое повышение общего уровня преступности (рис. 1). Наиболее значительным оно было в периоды обострения кризисных явлений в социально-экономической жизни общества в 1990-1993 и 1998-1999 годы, а в периоды относительной стабилизации отмечались отклонения от общего тренда. После небольшого спада, наблюдавшегося в 2000 году, в России возобновилось повышение уровня преступности. За 2001 год зарегистрировано 2968,3 тысячи преступлений, что на 0,5% больше, чем за предыдущий год. В общем числе зарегистрированных преступлений по своему удельному весу выделяются кражи - их доля в начале 90-х годов составляла около 50%, к 1992 году поднялась до 60%, а затем постепенно снижалась, составив 42,9% в 2001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 advTm="3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имеры из жизн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дите пример из жизни или расскажите анекд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ыграйте аудитории, если сочтете нуж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Что все это значит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разите свое мнение по поводу этой 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ите ключевые моменты, которые должны остаться в памяти слуша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ледующие шаги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все действия, которые должны совершить слуша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свои последующие дей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08:59:28Z</dcterms:created>
  <dc:creator>Computer Centre</dc:creator>
  <dc:description/>
  <dc:language>en-US</dc:language>
  <cp:lastModifiedBy>Николай</cp:lastModifiedBy>
  <dcterms:modified xsi:type="dcterms:W3CDTF">2013-07-02T08:21:45Z</dcterms:modified>
  <cp:revision>3</cp:revision>
  <dc:subject/>
  <dc:title>Преступность в России</dc:title>
</cp:coreProperties>
</file>