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DE42-4FB6-4419-883A-EFAA97AA5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FAD1-F99C-4E21-8CDD-7996F8BA7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EFC-7B9A-4D18-9812-E03FD92C2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116-0482-48CA-9986-CD66AB8B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7CB-7EB6-444D-B071-2E5899A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879-9C55-48BD-BB97-8F4178DD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D01-72EE-4BD8-8807-143A187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6FA-BCCB-44DC-A842-4467F093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686-5E4A-4B86-94BE-5562F20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DD7-D7AA-4877-8207-CF72E53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A58-D2C8-45FC-AFE9-0C9D00F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A8B-9538-4918-AA9A-855CC7C4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74B-43D7-4112-924C-687A746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31E-53F7-4E09-A3EA-C1F68F5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678-259D-4FBB-9490-2DE8949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001A-40B2-4374-83E9-0019E9E52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476280"/>
            <a:ext cx="80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следовательская работа на тему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ступность несовершеннолетних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708360" y="4149720"/>
            <a:ext cx="4699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 ученица 10 класса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«Кувакинская гимназия»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геева Ольга                            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12" descr="i?id=189993127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192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еступления соверш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ff0066"/>
                </a:solidFill>
                <a:latin typeface="Arial"/>
              </a:rPr>
              <a:t>Законодательство об ответственности несовершеннолет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щему правилу к уголовной ответственности привлекаются подростки достигшие 16 лет. Но за общественно опасные деяния привлекаются 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DD458A7"/>
          <p:cNvPicPr/>
          <p:nvPr/>
        </p:nvPicPr>
        <p:blipFill>
          <a:blip r:embed="rId2"/>
          <a:stretch/>
        </p:blipFill>
        <p:spPr>
          <a:xfrm>
            <a:off x="4859280" y="1333440"/>
            <a:ext cx="392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тветственность с 14 лет за пре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бий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причинение вреда здоров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похищение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изнасило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кра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грабё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раз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ымогатель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неправомерное завладение автомоби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ничтожение или повреждение иму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террор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захват залож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хулиганство при отягчающих обстоятельств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андал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?id=47648926&amp;tov=3"/>
          <p:cNvPicPr/>
          <p:nvPr/>
        </p:nvPicPr>
        <p:blipFill>
          <a:blip r:embed="rId2"/>
          <a:stretch/>
        </p:blipFill>
        <p:spPr>
          <a:xfrm>
            <a:off x="5894280" y="1557360"/>
            <a:ext cx="3249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Ответственность имеет регулирующую, оценочную, мотивационную роль в поведении челове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>
            <a:stCxn id="93" idx="0"/>
          </p:cNvCxnSpPr>
          <p:nvPr/>
        </p:nvCxnSpPr>
        <p:spPr>
          <a:xfrm flipH="1">
            <a:off x="1763280" y="1628640"/>
            <a:ext cx="2858400" cy="175824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>
            <a:stCxn id="93" idx="0"/>
          </p:cNvCxnSpPr>
          <p:nvPr/>
        </p:nvCxnSpPr>
        <p:spPr>
          <a:xfrm>
            <a:off x="4572000" y="1599840"/>
            <a:ext cx="2572560" cy="16866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6" name="Овал 9"/>
          <p:cNvSpPr/>
          <p:nvPr/>
        </p:nvSpPr>
        <p:spPr>
          <a:xfrm>
            <a:off x="0" y="3357720"/>
            <a:ext cx="4357800" cy="235728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Обладая определенным сознанием, человек понимает суть своих связей с обществом и готов выполнить все требования, которые предъявляет ему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7200" y="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4643280" y="3286080"/>
            <a:ext cx="4500720" cy="242892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Реальная необходимость за свои отрица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9900cc"/>
                </a:solidFill>
                <a:latin typeface="Arial"/>
              </a:rPr>
              <a:t>Предупреждение преступности — это не только устранение, нейтрализация негативных обстоятельств, но и использование, стимулирование позитивных процессов социальной жизни общества. Именно поэтому оно наиболее эффективное средство борьбы с преступностью и по экономическим параметрам, так как позволяет решать многие задачи путем применения в первую очередь социальных мероприятий, реализуемых государством с целью решения иных, более общих проблем, последовательного улучшения условий жизн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142280" y="1417680"/>
            <a:ext cx="3429720" cy="15832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4" name="Прямая со стрелкой 6"/>
          <p:cNvCxnSpPr/>
          <p:nvPr/>
        </p:nvCxnSpPr>
        <p:spPr>
          <a:xfrm flipH="1">
            <a:off x="2499480" y="1417320"/>
            <a:ext cx="2072520" cy="29404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5" name="Прямая со стрелкой 8"/>
          <p:cNvCxnSpPr/>
          <p:nvPr/>
        </p:nvCxnSpPr>
        <p:spPr>
          <a:xfrm flipH="1">
            <a:off x="4500360" y="1916280"/>
            <a:ext cx="72000" cy="351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/>
          <p:nvPr/>
        </p:nvCxnSpPr>
        <p:spPr>
          <a:xfrm>
            <a:off x="4570920" y="1417680"/>
            <a:ext cx="3143880" cy="15120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/>
          <p:nvPr/>
        </p:nvCxnSpPr>
        <p:spPr>
          <a:xfrm>
            <a:off x="4572000" y="1417680"/>
            <a:ext cx="2000880" cy="27979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08" name="Овал 13"/>
          <p:cNvSpPr/>
          <p:nvPr/>
        </p:nvSpPr>
        <p:spPr>
          <a:xfrm>
            <a:off x="0" y="3143160"/>
            <a:ext cx="2571840" cy="914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илактическое воздействие на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4"/>
          <p:cNvSpPr/>
          <p:nvPr/>
        </p:nvSpPr>
        <p:spPr>
          <a:xfrm>
            <a:off x="214200" y="4357800"/>
            <a:ext cx="3129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контро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 за поведением подростков-правонарушителей со стороны подразделений ОВ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6"/>
          <p:cNvCxnSpPr/>
          <p:nvPr/>
        </p:nvCxnSpPr>
        <p:spPr>
          <a:xfrm flipH="1">
            <a:off x="4498200" y="4859280"/>
            <a:ext cx="2520" cy="5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11" name="Овал 17"/>
          <p:cNvSpPr/>
          <p:nvPr/>
        </p:nvSpPr>
        <p:spPr>
          <a:xfrm>
            <a:off x="2286000" y="5500800"/>
            <a:ext cx="4643280" cy="13572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 воспитательного воздействия, применяемые судами, комиссиями по делам несовершеннолетних к подросткам-правонарушителям</a:t>
            </a: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5072040" y="4214880"/>
            <a:ext cx="2714760" cy="1071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6500880" y="2928960"/>
            <a:ext cx="2643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, применяемые к родителям, отрицательно влияющим н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>
            <a:off x="1547640" y="549360"/>
            <a:ext cx="641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ение преступност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4"/>
          <p:cNvCxnSpPr>
            <a:stCxn id="116" idx="0"/>
          </p:cNvCxnSpPr>
          <p:nvPr/>
        </p:nvCxnSpPr>
        <p:spPr>
          <a:xfrm flipH="1">
            <a:off x="1618560" y="1700280"/>
            <a:ext cx="2858040" cy="14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8" name="Прямая со стрелкой 6"/>
          <p:cNvCxnSpPr>
            <a:stCxn id="116" idx="0"/>
          </p:cNvCxnSpPr>
          <p:nvPr/>
        </p:nvCxnSpPr>
        <p:spPr>
          <a:xfrm>
            <a:off x="4570920" y="1600200"/>
            <a:ext cx="2500920" cy="15436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9" name="Прямая со стрелкой 8"/>
          <p:cNvCxnSpPr>
            <a:stCxn id="116" idx="0"/>
          </p:cNvCxnSpPr>
          <p:nvPr/>
        </p:nvCxnSpPr>
        <p:spPr>
          <a:xfrm flipH="1">
            <a:off x="2268000" y="1627560"/>
            <a:ext cx="228672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20" name="Прямая со стрелкой 10"/>
          <p:cNvCxnSpPr>
            <a:stCxn id="116" idx="0"/>
          </p:cNvCxnSpPr>
          <p:nvPr/>
        </p:nvCxnSpPr>
        <p:spPr>
          <a:xfrm>
            <a:off x="4572000" y="1599840"/>
            <a:ext cx="157248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21" name="Овал 11"/>
          <p:cNvSpPr/>
          <p:nvPr/>
        </p:nvSpPr>
        <p:spPr>
          <a:xfrm>
            <a:off x="0" y="3143160"/>
            <a:ext cx="2428920" cy="9288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органы власти 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6143760" y="3214800"/>
            <a:ext cx="2643120" cy="785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трудовые колл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3"/>
          <p:cNvSpPr/>
          <p:nvPr/>
        </p:nvSpPr>
        <p:spPr>
          <a:xfrm>
            <a:off x="571680" y="4500720"/>
            <a:ext cx="3000240" cy="1500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ебно-воспитательные учре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школы, П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4857840" y="4500720"/>
            <a:ext cx="2857320" cy="1285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реждения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755640" y="189000"/>
            <a:ext cx="74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профилактики выполняю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школе ежегодно проходят месячники по профилактике правонарушений среди несовершеннолетних. В нашей школе проводился цикл мероприятий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родителей ( общешкольные собрания, беседы о правах и обязанностях родителей, о привлечение их к ответственности за недостойное воспитание своих детей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учащихся ( классные часы, игры, викторины на правовую тему, встречи с инспектором)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4280" y="571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cc"/>
                </a:solidFill>
                <a:latin typeface="Bradley Hand ITC"/>
              </a:rPr>
              <a:t>Что же делает школа для предупреждения правонарушений в молодежной сре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еступность несовершенн26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Л.jpg"/>
          <p:cNvPicPr/>
          <p:nvPr/>
        </p:nvPicPr>
        <p:blipFill>
          <a:blip r:embed="rId2"/>
          <a:srcRect l="4598" t="4888" r="3447" b="5537"/>
          <a:stretch/>
        </p:blipFill>
        <p:spPr>
          <a:xfrm>
            <a:off x="121428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187280" y="404640"/>
            <a:ext cx="7142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ая игра в 9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oudy Stout"/>
              </a:rPr>
              <a:t>Урок на тему:»Преступность несовершеннолетних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КЛ 002.jpg"/>
          <p:cNvPicPr/>
          <p:nvPr/>
        </p:nvPicPr>
        <p:blipFill>
          <a:blip r:embed="rId2"/>
          <a:srcRect l="3786" t="4466" r="4028" b="5813"/>
          <a:stretch/>
        </p:blipFill>
        <p:spPr>
          <a:xfrm>
            <a:off x="785880" y="2000160"/>
            <a:ext cx="757224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91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                                                                   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Н.Рер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еступность несовершенн25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619280" y="-171360"/>
            <a:ext cx="58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image695"/>
          <p:cNvPicPr/>
          <p:nvPr/>
        </p:nvPicPr>
        <p:blipFill>
          <a:blip r:embed="rId5"/>
          <a:stretch/>
        </p:blipFill>
        <p:spPr>
          <a:xfrm>
            <a:off x="4427640" y="4292640"/>
            <a:ext cx="2619360" cy="20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D20656_"/>
          <p:cNvPicPr/>
          <p:nvPr/>
        </p:nvPicPr>
        <p:blipFill>
          <a:blip r:embed="rId6"/>
          <a:stretch/>
        </p:blipFill>
        <p:spPr>
          <a:xfrm>
            <a:off x="684360" y="0"/>
            <a:ext cx="784836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КЛ 001.jpg"/>
          <p:cNvPicPr/>
          <p:nvPr/>
        </p:nvPicPr>
        <p:blipFill>
          <a:blip r:embed="rId2"/>
          <a:stretch/>
        </p:blipFill>
        <p:spPr>
          <a:xfrm>
            <a:off x="714240" y="1946160"/>
            <a:ext cx="778680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539640" y="33336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еда с учащимися 8 клас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мся 9-11 классов были заданы следующие вопрос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 чем вы видите причины роста преступности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 с ней боротьс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Рисунок5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38" name="Преступность несовершенн30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Учащиеся выявили следующие причины пре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еступность несовершенн26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Учащиеся так же предложили методы борьбы с причинами роста пре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заработную пла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Восстановить сельское хозяй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Занять свободное время подрос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еспечить мораль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ав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еступность несовершенн26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009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то суровое предупреждение пришло в наш быт из прошлого. Оно напоминает о самых неблагоприятных поворотах судьбы. Самые безрассудные поступки свойственны молодости. Именно в раннем возрасте сам человек нередко протаптывает тропинку к высокому забору с орнаментом из колючей проволоки. «Не знал!», «Не думал», «Не хотел…», - этот лепет часто приходится слышать. Поэтому одна из задач воспитательной работы в нашей школе – предупредить учащихся об опасностях в игре с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еступность несовершенн26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395280" y="404640"/>
            <a:ext cx="84200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сумы и от тюрьмы не зарекайся!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аботе над проектом я воспользовалась материалом ОВД по г. Алатырь и Алатырского района. И выявила следующее, что вопросы совершенствования профилактики безнадзорности, беспризорности и правонарушений несовершеннолетних постоянно находятся в центре внимания руководства ОВД г. Алатыря и Алатыр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еступность несовершенн30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татистика преступлений несовершеннолетних в городе Алатырь и Алатырском райо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920" y="1600200"/>
            <a:ext cx="87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9 месяцев (январь-октябрь) 2009 г. ОВД выявлено 249 подростков-правонарушителей. За АППГ -3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данный период поставлено на профилактический учет 86 подросток, АППГ-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сего на профилактическом учете находятся 94 несовершеннолетних. АППГ-115. Из них условно осужденных-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еступность несовершенн30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6"/>
          <p:cNvGraphicFramePr/>
          <p:nvPr/>
        </p:nvGraphicFramePr>
        <p:xfrm>
          <a:off x="1681200" y="1486080"/>
          <a:ext cx="5781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1486080"/>
                    <a:ext cx="578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8" descr="i?id=192173105&amp;tov=0"/>
          <p:cNvPicPr/>
          <p:nvPr/>
        </p:nvPicPr>
        <p:blipFill>
          <a:blip r:embed="rId5"/>
          <a:stretch/>
        </p:blipFill>
        <p:spPr>
          <a:xfrm>
            <a:off x="0" y="0"/>
            <a:ext cx="1785960" cy="1751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4997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е время проводится определенная работа с семьями, находящимися в социально-опасном положении. Всего на контроле 28 семей, АППГ -35, собрано 20 материалов на лишении родительских прав, АППГ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еступность несовершенн30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23916438&amp;tov=0"/>
          <p:cNvPicPr/>
          <p:nvPr/>
        </p:nvPicPr>
        <p:blipFill>
          <a:blip r:embed="rId3"/>
          <a:stretch/>
        </p:blipFill>
        <p:spPr>
          <a:xfrm>
            <a:off x="4356000" y="4797360"/>
            <a:ext cx="223848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103241614&amp;tov=0"/>
          <p:cNvPicPr/>
          <p:nvPr/>
        </p:nvPicPr>
        <p:blipFill>
          <a:blip r:embed="rId4"/>
          <a:stretch/>
        </p:blipFill>
        <p:spPr>
          <a:xfrm>
            <a:off x="395280" y="333360"/>
            <a:ext cx="1636560" cy="12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РОФИЛАКТИЧЕСКАЯ РАБОТА ПРОВОДИМАЯ ПО ПРЕДУПРЕЖДЕНИЮ ПРАВОНАРУШЕНИЯ СРЕД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целях профилактики безнадзорности, беспризорности и правонарушений несовершеннолетних  в январе – октябре  текущего года были проведены операции под условными наименованиями «Салон», «Безнадзорность», «Рецидив»,«Условник», «Подросток», «Гардероб»,  акция «Милиция и дети», проведено 95 рейдов по лини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еступность несовершенн27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результаты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январь-февраль 2009 года Алатырским ОВД проделана определенная работа по стабилизации роста преступлений и правонарушений среди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Актуальность данной темы обусловлена, с одной стороны, существенной ролью, занимаемой подростковой преступностью в общей структуре преступности, с другой  - необходимостью коренного пересмотра  подходов к профилактике противоправных проявлений сред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403280" y="33336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BD20656_"/>
          <p:cNvPicPr/>
          <p:nvPr/>
        </p:nvPicPr>
        <p:blipFill>
          <a:blip r:embed="rId4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 текущем периоде произошло сни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месту совершения преступл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еступность несовершенн28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4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видам преступ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1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категории преступлений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преступность несовершеннолетних при значительных масштабах распространения требует решительных, энергичных и целенаправленных мер по ее предупреждению. Для этого следует постоянно совершенствовать формы и методы работы органов внутренних дел, обеспечивать должным образом их приоритетное кадровое пополнение и материально-техническое снабжен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остоит прежде всего в снижении уровня преступности несовершеннолетних, недопущении разлагающего влияния несовершеннолетних преступников на других подростков и пополнения ими рядов взрослых преступников-рецидивис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шении этой и других задач важная роль принадлежит мерам общей и индивидуальной профилактики, применяемым органами внутренних дел в целях устранения причин и условий, способствующих преступлениям несовершеннолетних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фективность такой деятельности в значительной степени зависит от того, насколько данные меры базируются на положениях, разработанных криминологией, уголовным правом, уголовно-исполнительным правом, психологией, педагог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[74]"/>
          <p:cNvPicPr/>
          <p:nvPr/>
        </p:nvPicPr>
        <p:blipFill>
          <a:blip r:embed="rId3"/>
          <a:stretch/>
        </p:blipFill>
        <p:spPr>
          <a:xfrm>
            <a:off x="826920" y="1916280"/>
            <a:ext cx="6950160" cy="46814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2050920" y="549360"/>
            <a:ext cx="5473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ЕННЫЙ Д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3000">
    <p:push dir="r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">
                                      <p:cBhvr>
                                        <p:cTn id="3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~PP2414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i[62]"/>
          <p:cNvPicPr/>
          <p:nvPr/>
        </p:nvPicPr>
        <p:blipFill>
          <a:blip r:embed="rId4"/>
          <a:stretch/>
        </p:blipFill>
        <p:spPr>
          <a:xfrm>
            <a:off x="611280" y="1197000"/>
            <a:ext cx="8280360" cy="5375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468360" y="476280"/>
            <a:ext cx="854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ой! Руки за спину! Шагом марш!» Этап прибыл в зону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9738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 Black"/>
              </a:rPr>
              <a:t>ВСЕ. ПОЗАДИ: ШАЛЬНЫЕ ПРИЯТЕЛИ, ВЕСЕЛЫЕ ДЕВЧОНКИ ПЬЯНЫЕ ВЕЧЕРА. ВПЕРЕДИ  - ЗОН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1846080"/>
            <a:ext cx="7777080" cy="41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140383920&amp;tov=5"/>
          <p:cNvPicPr/>
          <p:nvPr/>
        </p:nvPicPr>
        <p:blipFill>
          <a:blip r:embed="rId3"/>
          <a:stretch/>
        </p:blipFill>
        <p:spPr>
          <a:xfrm>
            <a:off x="0" y="1484280"/>
            <a:ext cx="5041800" cy="379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[34]"/>
          <p:cNvPicPr/>
          <p:nvPr/>
        </p:nvPicPr>
        <p:blipFill>
          <a:blip r:embed="rId4"/>
          <a:stretch/>
        </p:blipFill>
        <p:spPr>
          <a:xfrm>
            <a:off x="4211640" y="329724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23845917&amp;tov=4"/>
          <p:cNvPicPr/>
          <p:nvPr/>
        </p:nvPicPr>
        <p:blipFill>
          <a:blip r:embed="rId4"/>
          <a:stretch/>
        </p:blipFill>
        <p:spPr>
          <a:xfrm>
            <a:off x="0" y="1341360"/>
            <a:ext cx="46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i?id=31415089&amp;tov=2"/>
          <p:cNvPicPr/>
          <p:nvPr/>
        </p:nvPicPr>
        <p:blipFill>
          <a:blip r:embed="rId5"/>
          <a:stretch/>
        </p:blipFill>
        <p:spPr>
          <a:xfrm>
            <a:off x="4788000" y="3673440"/>
            <a:ext cx="4356000" cy="3184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755640" y="620640"/>
            <a:ext cx="7485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ЕСЬ ЗА ОКНАМИ БЕРЕЗЫ НЕ РАСТУТ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КРОССОВКИ, ДЖИНСЫ, ФУТБОЛКИ, УВЫ, ТЕПЕРЬ НЕ ДЛЯ НИХ. КАЗЕННАЯ ФОРМА ЕДИН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[48]"/>
          <p:cNvPicPr/>
          <p:nvPr/>
        </p:nvPicPr>
        <p:blipFill>
          <a:blip r:embed="rId3"/>
          <a:stretch/>
        </p:blipFill>
        <p:spPr>
          <a:xfrm>
            <a:off x="395280" y="1773360"/>
            <a:ext cx="8029440" cy="481788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260280"/>
            <a:ext cx="54435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ahoma"/>
              </a:rPr>
              <a:t>Рост преступности в России, в том числе несовершеннолетних, стал следствием того, что помимо воздействия социально-экономических причин такие высокие духовные национальные ценности бытия как самоценность личности каждого человека, стремление к доброте и отвержение насилия по отношению к другим, любовь к Отечеству и забота о ближних в условиях деструктивных изменений в общественной жизни утратили свое значение. В связи с этим, задача духовно-нравственного обновления современного общества через духовно-ориентированное воспитание подрастающего поколения россиян становится вместе с тем и задачей ранней профилактики преступности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[19]"/>
          <p:cNvPicPr/>
          <p:nvPr/>
        </p:nvPicPr>
        <p:blipFill>
          <a:blip r:embed="rId2"/>
          <a:stretch/>
        </p:blipFill>
        <p:spPr>
          <a:xfrm>
            <a:off x="5796000" y="1197000"/>
            <a:ext cx="3041640" cy="22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[37]"/>
          <p:cNvPicPr/>
          <p:nvPr/>
        </p:nvPicPr>
        <p:blipFill>
          <a:blip r:embed="rId3"/>
          <a:stretch/>
        </p:blipFill>
        <p:spPr>
          <a:xfrm>
            <a:off x="5219640" y="4264200"/>
            <a:ext cx="32590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К числу наиболее острых проблем современной общественной жизни относятся катастрофический всплеск преступности среди школьников, распространение жестокости в молодеж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еступность несовершенн29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i[37]"/>
          <p:cNvPicPr/>
          <p:nvPr/>
        </p:nvPicPr>
        <p:blipFill>
          <a:blip r:embed="rId3"/>
          <a:stretch/>
        </p:blipFill>
        <p:spPr>
          <a:xfrm>
            <a:off x="250920" y="1989000"/>
            <a:ext cx="2890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[39]"/>
          <p:cNvPicPr/>
          <p:nvPr/>
        </p:nvPicPr>
        <p:blipFill>
          <a:blip r:embed="rId4"/>
          <a:stretch/>
        </p:blipFill>
        <p:spPr>
          <a:xfrm>
            <a:off x="3995640" y="2205000"/>
            <a:ext cx="261324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81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Цель моего исследование заключается в рассмотрение истоков возникновения и развития проблемы преступности несовершеннолетних: расширение у подростков рамок знаний в правовой сфере, формирование правового сознания и воспитание правовой культуры; предотвращение и профилактика экстремистских настроений в молодеж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еступность несовершенн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547640" y="404640"/>
            <a:ext cx="48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7" descr="BD20656_"/>
          <p:cNvPicPr/>
          <p:nvPr/>
        </p:nvPicPr>
        <p:blipFill>
          <a:blip r:embed="rId5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и достижении поставленной цели я постаралась решить следующие задачи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Выявить причины возникновения детской пре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характеризовать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законодательства об ответственности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дложить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етоды борьбы с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ступностью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Найти статистические данные о состоянии детской преступности в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городе Алатырь и Алатырском районе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ост преступности – одна из проблем заставляет государство искать пути ее решен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еступность несовершенн30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[17]"/>
          <p:cNvPicPr/>
          <p:nvPr/>
        </p:nvPicPr>
        <p:blipFill>
          <a:blip r:embed="rId3"/>
          <a:stretch/>
        </p:blipFill>
        <p:spPr>
          <a:xfrm>
            <a:off x="250920" y="1628640"/>
            <a:ext cx="3452760" cy="25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[25]"/>
          <p:cNvPicPr/>
          <p:nvPr/>
        </p:nvPicPr>
        <p:blipFill>
          <a:blip r:embed="rId4"/>
          <a:stretch/>
        </p:blipFill>
        <p:spPr>
          <a:xfrm>
            <a:off x="4284720" y="1700280"/>
            <a:ext cx="35859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i[14]"/>
          <p:cNvPicPr/>
          <p:nvPr/>
        </p:nvPicPr>
        <p:blipFill>
          <a:blip r:embed="rId5"/>
          <a:stretch/>
        </p:blipFill>
        <p:spPr>
          <a:xfrm>
            <a:off x="2484360" y="4221000"/>
            <a:ext cx="3301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800080"/>
                </a:solidFill>
                <a:latin typeface="Arial"/>
              </a:rPr>
              <a:t>Причины возникновения детской преступ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Неудовлетворительные условия воспитания детей в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спад семей, приводящий к тому, что ежегодно остается без одного из родителей 500 тыс.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Безработица, обнищание семей, неспособность родителей обеспечить детей полноценным питанием и оде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клонения детей от получения образования в начальной и средн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зрушение сети государственных организаций, обеспечивающих культурный досуг подростков, которая была достаточно развитой в советское время, коммерциализация в этой области сделали нормой жизни многих подростков бессмысленное времяпровождение на улицах, в подъездах, на чердаках и в подва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лагающее влияние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щемление прав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7:17:23Z</dcterms:created>
  <dc:creator>Zver</dc:creator>
  <dc:description/>
  <dc:language>en-US</dc:language>
  <cp:lastModifiedBy>история</cp:lastModifiedBy>
  <dcterms:modified xsi:type="dcterms:W3CDTF">2010-02-16T05:58:18Z</dcterms:modified>
  <cp:revision>135</cp:revision>
  <dc:subject/>
  <dc:title>Проект на тему: «Я И ЗАКОН».</dc:title>
</cp:coreProperties>
</file>