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67BC-7E41-42C2-B756-9268EBB1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BC570-C71B-4DA6-A5E8-0E444D9A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CB85-A089-4C2B-A731-4F78989F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1A8F-48DB-4FAF-BA84-90AE9F51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43DF-A8DD-4E03-834C-8DD95862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02E2-839C-4241-97E5-085C1B14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7651-9E30-403A-BB28-655A5FD3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6957-1720-486B-94CF-448D30A3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78F4-B602-484E-8AAD-6CF34371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24EE-91AD-41C4-93D3-6007AB89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9F1E-69B3-4AEC-AA56-17894576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1E9D-69EF-4DB4-9509-220C75BF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BC15-71F0-4F58-82EE-FE8C1976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5ED6-06B5-4364-83B9-F5B031CE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DFE2-8215-45BD-B6C4-653B1630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B373-5F59-4113-814C-C6BBD7AA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78BC-0095-435C-86AA-5A3B7C4B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BE07-02E9-4ED6-A5B8-0F0D2D04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566A3-EED6-4A68-BCA6-68F826A7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7EBE-034E-4FF8-8826-F9C02CFA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FFB9B-B7EF-410F-8D1D-42EE275B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715E-721B-468F-975D-892E7896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947F-7902-404F-AA22-F7830EAC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FD216-6EFD-42E4-9911-2F24246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76D4-CA57-498C-9B29-66159166E2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79D8-CD38-4E9F-A3A8-FC140E98551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2096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8dec6"/>
                </a:solidFill>
                <a:latin typeface="Georgia"/>
              </a:rPr>
              <a:t>Правила поведения школьников во время зимних каникул</a:t>
            </a:r>
            <a:endParaRPr b="0" lang="en-US" sz="5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47960" y="5562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Сазанова О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9861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1825920" cy="1466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825560" cy="1467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1760" y="609120"/>
            <a:ext cx="74674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r>
              <a:rPr b="1" lang="ru-RU" sz="3200" spc="-1" strike="noStrike" u="sng">
                <a:solidFill>
                  <a:srgbClr val="cc00cc"/>
                </a:solidFill>
                <a:uFillTx/>
                <a:latin typeface="Tahoma"/>
              </a:rPr>
              <a:t>При обморожении нельзя:</a:t>
            </a:r>
            <a:r>
              <a:rPr b="0" lang="ru-RU" sz="3200" spc="-1" strike="noStrike">
                <a:solidFill>
                  <a:srgbClr val="cc00cc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1. Растирать обмороженные участки тела снегом; </a:t>
            </a:r>
            <a:br>
              <a:rPr sz="3200"/>
            </a:b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2. Помещать обмороженные конечности сразу в тёплую воду или обкладывать тёплыми грелками; </a:t>
            </a:r>
            <a:br>
              <a:rPr sz="3200"/>
            </a:b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3. смазывать кожу маслами; </a:t>
            </a:r>
            <a:br>
              <a:rPr sz="3200"/>
            </a:b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4. давать большие дозы алкоголя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705720" y="5105520"/>
            <a:ext cx="182556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96040" cy="4246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3399ff"/>
                </a:solidFill>
                <a:latin typeface="Georgia"/>
              </a:rPr>
              <a:t>При соблюдении всех этих несложных правил надеемся, что каникулы ваши пройдут весело, разнообразно и не принесут никаких неприятных ощуще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b8dec6"/>
                </a:solidFill>
                <a:uFillTx/>
                <a:latin typeface="Tahoma"/>
              </a:rPr>
              <a:t>I. Правила поведения в общественных местах во время проведения Новогодних Ёлок и в других местах массового скопления людей.</a:t>
            </a: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1. Если вы поехали на новогоднее представление с родителями, ни в коем случае не отходите от них далеко, т.к. при большом скоплении людей легко затеряться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2. В местах проведения массовых новогодних гуляний старайтесь держаться подальше от толпы, во избежание получения травм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Следует: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3. Подчиняться законным предупреждениям и требованиям администрации, милиции и иных лиц, ответственных за поддержание порядка, пожарной безопасности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4. Вести себя уважительно по отношению к участникам массовых мероприятий, обслуживающему персоналу, должностным лицам, ответственным за поддержание общественного порядка и безопасности при проведении массовых мероприятий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5. Не допускать действий, способных создать опасность для окружающих и привести к созданию экстремальной ситуации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6. Осуществлять организованный выход из помещений и сооружений по окончании мероприятий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7. При получении информации об эвакуации действовать согласно указаниям администрации и сотрудников правоохранительных органов, ответственных за обеспечение правопорядка, соблюдая спокойствие и не создавая паник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19960" y="4648320"/>
            <a:ext cx="1724040" cy="2209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8dec6"/>
                </a:solidFill>
                <a:uFillTx/>
                <a:latin typeface="Tahoma"/>
              </a:rPr>
              <a:t>I I. Правила пожарной безопасности во время новогодних праздников.</a:t>
            </a:r>
            <a:r>
              <a:rPr b="0" lang="ru-RU" sz="3200" spc="-1" strike="noStrike">
                <a:solidFill>
                  <a:srgbClr val="b8dec6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86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66ffff"/>
                </a:solidFill>
                <a:latin typeface="Georgia"/>
              </a:rPr>
              <a:t>1. Не украшайте ёлку матерчатыми и пластмассовыми игрушкам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2. Не обкладывайте подставку ёлки ватой. </a:t>
            </a:r>
            <a:br>
              <a:rPr sz="2000"/>
            </a:br>
            <a:r>
              <a:rPr b="1" lang="ru-RU" sz="2000" spc="-1" strike="noStrike">
                <a:solidFill>
                  <a:srgbClr val="66ffff"/>
                </a:solidFill>
                <a:latin typeface="Georgia"/>
              </a:rPr>
              <a:t>3. Освещать ёлку следует только электрогирляндами промышленного производства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4. В помещении не разрешается зажигать бенгальские огни, применять хлопушки и восковые свечи. Помните, открытый огонь всегда опасен! </a:t>
            </a:r>
            <a:br>
              <a:rPr sz="2000"/>
            </a:br>
            <a:r>
              <a:rPr b="1" lang="ru-RU" sz="2000" spc="-1" strike="noStrike">
                <a:solidFill>
                  <a:srgbClr val="66ffff"/>
                </a:solidFill>
                <a:latin typeface="Georgia"/>
              </a:rPr>
              <a:t>5. Не следует использовать пиротехнику, если вы не понимаете как ею пользоваться, а инструкции не прилагается, или она написана на непонятном вам языке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6. Нельзя ремонтировать и вторично использовать не сработавшую пиротехнику. </a:t>
            </a:r>
            <a:br>
              <a:rPr sz="2000"/>
            </a:br>
            <a:r>
              <a:rPr b="1" lang="ru-RU" sz="2000" spc="-1" strike="noStrike">
                <a:solidFill>
                  <a:srgbClr val="66ffff"/>
                </a:solidFill>
                <a:latin typeface="Georgia"/>
              </a:rPr>
              <a:t>7. Категорически запрещается применять самодельные пиротехнические устройств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b8dec6"/>
                </a:solidFill>
                <a:uFillTx/>
                <a:latin typeface="Tahoma"/>
              </a:rPr>
              <a:t>III. Правила поведения на дороге.</a:t>
            </a: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1. Переходите дорогу только на зелёный сигнал светофора. </a:t>
            </a:r>
            <a:br>
              <a:rPr sz="1800"/>
            </a:br>
            <a:r>
              <a:rPr b="1" lang="ru-RU" sz="1800" spc="-1" strike="noStrike">
                <a:solidFill>
                  <a:srgbClr val="001a19"/>
                </a:solidFill>
                <a:latin typeface="Georgia"/>
              </a:rPr>
              <a:t>2. Переходить дорогу можно только на пешеходном переходе, обозначенном специальным знаком и «зеброй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Georgi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3. При переходе через дорогу на пешеходном переходе, не оборудованном светофором, следует не забывать сначала посмотреть направо, а, дойдя до середины дороги, налево. </a:t>
            </a:r>
            <a:br>
              <a:rPr sz="1800"/>
            </a:br>
            <a:r>
              <a:rPr b="1" lang="ru-RU" sz="1800" spc="-1" strike="noStrike">
                <a:solidFill>
                  <a:srgbClr val="001a19"/>
                </a:solidFill>
                <a:latin typeface="Georgia"/>
              </a:rPr>
              <a:t>4. Не следует перебегать дорогу перед близко едущей машиной. Лучше подождать, когда она проедет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5. Не забывайте, что при переходе через дорогу автобус и троллейбус следует обходить сзади, а трамвай спереди. </a:t>
            </a:r>
            <a:br>
              <a:rPr sz="1800"/>
            </a:br>
            <a:r>
              <a:rPr b="1" lang="ru-RU" sz="1800" spc="-1" strike="noStrike">
                <a:solidFill>
                  <a:srgbClr val="001a19"/>
                </a:solidFill>
                <a:latin typeface="Georgia"/>
              </a:rPr>
              <a:t>6. При проезде в пригородных поездах соблюдайте правила поведения; переходите железнодорожные пути в строго отведённых для этого местах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7. При пользовании общественным транспортом соблюдайте правила поведения в общественном транспорте, будьте вежливы, уступайте места пожилым пассажирам, инвалидам, пассажирам с детьми и беременным женщинам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52680" y="5486400"/>
            <a:ext cx="21337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8dec6"/>
                </a:solidFill>
                <a:uFillTx/>
                <a:latin typeface="Tahoma"/>
              </a:rPr>
              <a:t>IV. Правила поведения на общественном катке.</a:t>
            </a:r>
            <a:r>
              <a:rPr b="0" lang="ru-RU" sz="3200" spc="-1" strike="noStrike">
                <a:solidFill>
                  <a:srgbClr val="b8dec6"/>
                </a:solidFill>
                <a:latin typeface="Tahoma"/>
              </a:rPr>
              <a:t> </a:t>
            </a:r>
            <a:br>
              <a:rPr sz="3200"/>
            </a:br>
            <a:br>
              <a:rPr sz="3800"/>
            </a:br>
            <a:endParaRPr b="0" lang="en-US" sz="3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Во время нахождения на катке </a:t>
            </a:r>
            <a:r>
              <a:rPr b="1" lang="en-US" sz="1600" spc="-1" strike="noStrike">
                <a:solidFill>
                  <a:srgbClr val="ff6600"/>
                </a:solidFill>
                <a:latin typeface="Georgia"/>
              </a:rPr>
              <a:t>ЗАПРЕЩАЕТСЯ: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1. Бегать, прыгать, толкаться, баловаться, кататься на высокой скорости, играть в хоккей, совершать любые действия, мешающие остальным посетителям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2. Бросать на лёд мусор или любые другие предметы. Пожалуйста, пользуйтесь мусорными баками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3. Приносить с собой спиртные напитки и распивать их на территории катка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4. Находиться на территории катка в состоянии алкогольного или наркотического опьянения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5. Портить инвентарь и ледовое покрытие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6. Выходить на лед с животными.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7. Применять взрывчатые и легковоспламеняющиеся вещества (в том числе пиротехнические изделия).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8. Проявлять неуважение к обслуживающему персоналу и посетителям катка.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9. Во время катания на льду могут появляться трещины и выбоины. Во избежание неожиданных падений и травм просим Вас быть внимательными и аккуратными. В случае получения травмы незамедлительно сообщите об этом персоналу катка. Вам окажут помощь.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10. Помните, что администрация катка не несет ответственности за рисковые ситуации, связанные с нарушением здоровья посетителей (травмы, ушибы и др.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8dec6"/>
                </a:solidFill>
                <a:uFillTx/>
                <a:latin typeface="Tahoma"/>
              </a:rPr>
              <a:t>V. Правила поведения зимой на открытых водоёмах. (Осторожно, тонкий лёд!)</a:t>
            </a: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1. Не выходите на тонкий неокрепший лед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2. Места с темным прозрачным льдом более надежны, чем соседние с ним — непрозрачные, замерзавшие со снегом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3. Не пользуйтесь коньками на первом льду. На них очень легко въехать на тонкий, неокрепший лед или в полынью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4. В случае крайней необходимости перехода опасного места на льду завяжите вокруг пояса шнур, оставив за собой свободно волочащийся конец, если сзади движется товарищ. Переходите это место с большим шестом в руках, держа eгo поперек тела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5. Помогая провалившемуся под лед товарищу, подавайте ему в руки пояс, шарф, палку и т. п. За них можно ухватиться крепче, чем за протянутую руку, к тому же при сближении легче обломить кромку льда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6. Попав случайно на тонкий лед, отходите назад скользящими осторожными шагами, не отрывая ног ото льда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7. Не ходите с грузом за плечами по ненадежному льду. Если этого нельзя избежать, обязательно снимайте одну из лямок заплечного мешка, чтобы сразу освободиться от него в случае провала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8. При провале под лед не теряйтесь, не пытайтесь ползти вперед и подламывать его локтями и грудью. Постарайтесь лечь "на спину и выползти на свой след, а затем, не вставая, отползти от опасного места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67480" y="5430960"/>
            <a:ext cx="16765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При попадании под лёд необходимо: 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Избавиться от тяжёлых, сковывающих движения предмет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Не терять времени на освобождение от одежды, так как в первые минуты, до полного намокания, она удерживает человека на поверхност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Выбираться на лёд в месте, где произошло падение; </a:t>
            </a:r>
            <a:br>
              <a:rPr sz="2400"/>
            </a:b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Выползать на лёд методом «вкручивания», т.е. перекатываясь со спины на живот; </a:t>
            </a:r>
            <a:br>
              <a:rPr sz="2400"/>
            </a:b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Втыкать в лёд острые предметы, подтягиваясь к ним; </a:t>
            </a:r>
            <a:br>
              <a:rPr sz="2400"/>
            </a:b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Удаляться от полыньи ползком по собственным следам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19920" y="4089240"/>
            <a:ext cx="3124080" cy="2768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8dec6"/>
                </a:solidFill>
                <a:uFillTx/>
                <a:latin typeface="Tahoma"/>
              </a:rPr>
              <a:t>VI. Во время загородных пеших или лыжных прогулок нас может подстерегать такие опасности как переохлаждение и обморожения.</a:t>
            </a: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ahoma"/>
              </a:rPr>
              <a:t>Признаки переохлаждения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озноб и дрожь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нарушение сознания (заторможенность и апатия, бред и галлюцинации, неадекватное поведение)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осинение или побледнение губ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снижение температуры тела </a:t>
            </a:r>
            <a:br>
              <a:rPr sz="2400"/>
            </a:br>
            <a:r>
              <a:rPr b="1" lang="ru-RU" sz="2400" spc="-1" strike="noStrike" u="sng">
                <a:solidFill>
                  <a:srgbClr val="6600ff"/>
                </a:solidFill>
                <a:uFillTx/>
                <a:latin typeface="Tahoma"/>
              </a:rPr>
              <a:t>Признаки обморожения конечностей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потеря чувствительности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кожа бледная, твёрдая и холодная наощупь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нет пульса у лодыжек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при постукивании пальцем слышен деревянный зву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1600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769608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99ff"/>
                </a:solidFill>
                <a:uFillTx/>
                <a:latin typeface="Tahoma"/>
              </a:rPr>
              <a:t>Первая помощь при переохлаждении и обморожении:</a:t>
            </a:r>
            <a:r>
              <a:rPr b="0" lang="ru-RU" sz="2400" spc="-1" strike="noStrike">
                <a:solidFill>
                  <a:srgbClr val="3399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1. Доставить пострадавшего в помещение и постараться согреть. Лучше всего это сделать с помощью ванны, температура воды в которой должна быть от 30 до 40 градусов (в случае обморожения конечностей, сначала опускают их в воду с температурой 20 градусов и за 20-30 минут доводят температуру воды до 40 градусов.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2. После согревания, следует высушить тело, одеть человека в сухую тёплую одежду и положить его в постель, укрыв тёплым одеялом.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3. Дать тёплое сладкое питьё или пищу с большим содержанием сахар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221600" y="4876920"/>
            <a:ext cx="192240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5049720"/>
            <a:ext cx="16192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0-12-20T17:12:4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