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43079-C6F9-4448-8359-5BD37AEA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F9D30-3F29-4C13-87EE-5CB1EA72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2AA46-4EF1-4C0A-ACE4-12FA9483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7DA83-0630-4AF2-91E1-603861C9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6883-ED13-4125-BA75-C4180C2D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49CA-0F5A-45CE-8C81-1D2344DE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ABBD-7F56-4CFC-8EC1-F304D724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8DEF-9D9E-4845-87F6-D7468568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7499-7609-43D5-8FB5-B5F6DF2C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73D7-F4DA-4AB0-A389-DF30DE0D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7189-06A1-4226-A043-B772685D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E85BF-01B4-4F6A-8441-F60AEC6E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5530-B8E0-45FE-BDD3-BDD6EBFD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145F-CA34-47CC-84B0-28C07E98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F0CE-B599-4C6A-9501-5495123A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998C-0CB8-4C87-847B-5297EC3B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0316-0855-4E7C-B213-47A61EFE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A50EA-7BC5-448C-8B54-53F9DD25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CAF7-5006-4BAE-A248-B2E69EBF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B290F-8121-46F0-AA84-AEC432AD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83CD2-6EB4-4EFF-9D23-F5F998FC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A567D-CE3B-4437-B549-DEBDBA32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884F3-0D70-4254-BA69-81889692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DD35B-0796-47DB-B8EC-3718B7A5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6413-BCF7-4D70-B5D8-C2F73DF2BF5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CF86-ADF1-42F5-8658-34BDC30CAAE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20968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8dec6"/>
                </a:solidFill>
                <a:latin typeface="Georgia"/>
              </a:rPr>
              <a:t>Правила поведения школьников во время зимних каникул</a:t>
            </a:r>
            <a:endParaRPr b="0" lang="en-US" sz="5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647960" y="556236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Сазанова О.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9861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1825920" cy="1466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1825560" cy="1467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1760" y="609120"/>
            <a:ext cx="746748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  </a:t>
            </a:r>
            <a:r>
              <a:rPr b="1" lang="ru-RU" sz="3200" spc="-1" strike="noStrike" u="sng">
                <a:solidFill>
                  <a:srgbClr val="cc00cc"/>
                </a:solidFill>
                <a:uFillTx/>
                <a:latin typeface="Tahoma"/>
              </a:rPr>
              <a:t>При обморожении нельзя:</a:t>
            </a:r>
            <a:r>
              <a:rPr b="0" lang="ru-RU" sz="3200" spc="-1" strike="noStrike">
                <a:solidFill>
                  <a:srgbClr val="cc00cc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1. Растирать обмороженные участки тела снегом; </a:t>
            </a:r>
            <a:br>
              <a:rPr sz="3200"/>
            </a:b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2. Помещать обмороженные конечности сразу в тёплую воду или обкладывать тёплыми грелками; </a:t>
            </a:r>
            <a:br>
              <a:rPr sz="3200"/>
            </a:b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3. смазывать кожу маслами; </a:t>
            </a:r>
            <a:br>
              <a:rPr sz="3200"/>
            </a:b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4. давать большие дозы алкоголя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705720" y="5105520"/>
            <a:ext cx="182556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496040" cy="42465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800" spc="-1" strike="noStrike">
                <a:solidFill>
                  <a:srgbClr val="3399ff"/>
                </a:solidFill>
                <a:latin typeface="Georgia"/>
              </a:rPr>
              <a:t>При соблюдении всех этих несложных правил надеемся, что каникулы ваши пройдут весело, разнообразно и не принесут никаких неприятных ощущен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b8dec6"/>
                </a:solidFill>
                <a:uFillTx/>
                <a:latin typeface="Tahoma"/>
              </a:rPr>
              <a:t>I. Правила поведения в общественных местах во время проведения Новогодних Ёлок и в других местах массового скопления людей.</a:t>
            </a: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1. Если вы поехали на новогоднее представление с родителями, ни в коем случае не отходите от них далеко, т.к. при большом скоплении людей легко затеряться. </a:t>
            </a:r>
            <a:br>
              <a:rPr sz="1800"/>
            </a:b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2. В местах проведения массовых новогодних гуляний старайтесь держаться подальше от толпы, во избежание получения травм. </a:t>
            </a:r>
            <a:br>
              <a:rPr sz="1800"/>
            </a:b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Следует: </a:t>
            </a:r>
            <a:br>
              <a:rPr sz="1800"/>
            </a:b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3. Подчиняться законным предупреждениям и требованиям администрации, милиции и иных лиц, ответственных за поддержание порядка, пожарной безопасности. </a:t>
            </a:r>
            <a:br>
              <a:rPr sz="1800"/>
            </a:b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4. Вести себя уважительно по отношению к участникам массовых мероприятий, обслуживающему персоналу, должностным лицам, ответственным за поддержание общественного порядка и безопасности при проведении массовых мероприятий. </a:t>
            </a:r>
            <a:br>
              <a:rPr sz="1800"/>
            </a:b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5. Не допускать действий, способных создать опасность для окружающих и привести к созданию экстремальной ситуации. </a:t>
            </a:r>
            <a:br>
              <a:rPr sz="1800"/>
            </a:b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6. Осуществлять организованный выход из помещений и сооружений по окончании мероприятий </a:t>
            </a:r>
            <a:br>
              <a:rPr sz="1800"/>
            </a:br>
            <a:r>
              <a:rPr b="1" lang="ru-RU" sz="1800" spc="-1" strike="noStrike">
                <a:solidFill>
                  <a:srgbClr val="66ffff"/>
                </a:solidFill>
                <a:latin typeface="Georgia"/>
              </a:rPr>
              <a:t>7. При получении информации об эвакуации действовать согласно указаниям администрации и сотрудников правоохранительных органов, ответственных за обеспечение правопорядка, соблюдая спокойствие и не создавая паники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419960" y="4648320"/>
            <a:ext cx="1724040" cy="2209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b8dec6"/>
                </a:solidFill>
                <a:uFillTx/>
                <a:latin typeface="Tahoma"/>
              </a:rPr>
              <a:t>I I. Правила пожарной безопасности во время новогодних праздников.</a:t>
            </a:r>
            <a:r>
              <a:rPr b="0" lang="ru-RU" sz="3200" spc="-1" strike="noStrike">
                <a:solidFill>
                  <a:srgbClr val="b8dec6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86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66ffff"/>
                </a:solidFill>
                <a:latin typeface="Georgia"/>
              </a:rPr>
              <a:t>1. Не украшайте ёлку матерчатыми и пластмассовыми игрушками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2. Не обкладывайте подставку ёлки ватой. </a:t>
            </a:r>
            <a:br>
              <a:rPr sz="2000"/>
            </a:br>
            <a:r>
              <a:rPr b="1" lang="ru-RU" sz="2000" spc="-1" strike="noStrike">
                <a:solidFill>
                  <a:srgbClr val="66ffff"/>
                </a:solidFill>
                <a:latin typeface="Georgia"/>
              </a:rPr>
              <a:t>3. Освещать ёлку следует только электрогирляндами промышленного производства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4. В помещении не разрешается зажигать бенгальские огни, применять хлопушки и восковые свечи. Помните, открытый огонь всегда опасен! </a:t>
            </a:r>
            <a:br>
              <a:rPr sz="2000"/>
            </a:br>
            <a:r>
              <a:rPr b="1" lang="ru-RU" sz="2000" spc="-1" strike="noStrike">
                <a:solidFill>
                  <a:srgbClr val="66ffff"/>
                </a:solidFill>
                <a:latin typeface="Georgia"/>
              </a:rPr>
              <a:t>5. Не следует использовать пиротехнику, если вы не понимаете как ею пользоваться, а инструкции не прилагается, или она написана на непонятном вам языке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6. Нельзя ремонтировать и вторично использовать не сработавшую пиротехнику. </a:t>
            </a:r>
            <a:br>
              <a:rPr sz="2000"/>
            </a:br>
            <a:r>
              <a:rPr b="1" lang="ru-RU" sz="2000" spc="-1" strike="noStrike">
                <a:solidFill>
                  <a:srgbClr val="66ffff"/>
                </a:solidFill>
                <a:latin typeface="Georgia"/>
              </a:rPr>
              <a:t>7. Категорически запрещается применять самодельные пиротехнические устройства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b8dec6"/>
                </a:solidFill>
                <a:uFillTx/>
                <a:latin typeface="Tahoma"/>
              </a:rPr>
              <a:t>III. Правила поведения на дороге.</a:t>
            </a: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1. Переходите дорогу только на зелёный сигнал светофора. </a:t>
            </a:r>
            <a:br>
              <a:rPr sz="1800"/>
            </a:br>
            <a:r>
              <a:rPr b="1" lang="ru-RU" sz="1800" spc="-1" strike="noStrike">
                <a:solidFill>
                  <a:srgbClr val="001a19"/>
                </a:solidFill>
                <a:latin typeface="Georgia"/>
              </a:rPr>
              <a:t>2. Переходить дорогу можно только на пешеходном переходе, обозначенном специальным знаком и «зеброй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ccff"/>
                </a:solidFill>
                <a:latin typeface="Georgi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3. При переходе через дорогу на пешеходном переходе, не оборудованном светофором, следует не забывать сначала посмотреть направо, а, дойдя до середины дороги, налево. </a:t>
            </a:r>
            <a:br>
              <a:rPr sz="1800"/>
            </a:br>
            <a:r>
              <a:rPr b="1" lang="ru-RU" sz="1800" spc="-1" strike="noStrike">
                <a:solidFill>
                  <a:srgbClr val="001a19"/>
                </a:solidFill>
                <a:latin typeface="Georgia"/>
              </a:rPr>
              <a:t>4. Не следует перебегать дорогу перед близко едущей машиной. Лучше подождать, когда она проедет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5. Не забывайте, что при переходе через дорогу автобус и троллейбус следует обходить сзади, а трамвай спереди. </a:t>
            </a:r>
            <a:br>
              <a:rPr sz="1800"/>
            </a:br>
            <a:r>
              <a:rPr b="1" lang="ru-RU" sz="1800" spc="-1" strike="noStrike">
                <a:solidFill>
                  <a:srgbClr val="001a19"/>
                </a:solidFill>
                <a:latin typeface="Georgia"/>
              </a:rPr>
              <a:t>6. При проезде в пригородных поездах соблюдайте правила поведения; переходите железнодорожные пути в строго отведённых для этого местах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7. При пользовании общественным транспортом соблюдайте правила поведения в общественном транспорте, будьте вежливы, уступайте места пожилым пассажирам, инвалидам, пассажирам с детьми и беременным женщинам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352680" y="5486400"/>
            <a:ext cx="21337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b8dec6"/>
                </a:solidFill>
                <a:uFillTx/>
                <a:latin typeface="Tahoma"/>
              </a:rPr>
              <a:t>IV. Правила поведения на общественном катке.</a:t>
            </a:r>
            <a:r>
              <a:rPr b="0" lang="ru-RU" sz="3200" spc="-1" strike="noStrike">
                <a:solidFill>
                  <a:srgbClr val="b8dec6"/>
                </a:solidFill>
                <a:latin typeface="Tahoma"/>
              </a:rPr>
              <a:t> </a:t>
            </a:r>
            <a:br>
              <a:rPr sz="3200"/>
            </a:br>
            <a:br>
              <a:rPr sz="3800"/>
            </a:br>
            <a:endParaRPr b="0" lang="en-US" sz="3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Во время нахождения на катке </a:t>
            </a:r>
            <a:r>
              <a:rPr b="1" lang="en-US" sz="1600" spc="-1" strike="noStrike">
                <a:solidFill>
                  <a:srgbClr val="ff6600"/>
                </a:solidFill>
                <a:latin typeface="Georgia"/>
              </a:rPr>
              <a:t>ЗАПРЕЩАЕТСЯ: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1. Бегать, прыгать, толкаться, баловаться, кататься на высокой скорости, играть в хоккей, совершать любые действия, мешающие остальным посетителям;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2. Бросать на лёд мусор или любые другие предметы. Пожалуйста, пользуйтесь мусорными баками;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3. Приносить с собой спиртные напитки и распивать их на территории катка;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4. Находиться на территории катка в состоянии алкогольного или наркотического опьянения;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5. Портить инвентарь и ледовое покрытие;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6. Выходить на лед с животными.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7. Применять взрывчатые и легковоспламеняющиеся вещества (в том числе пиротехнические изделия).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8. Проявлять неуважение к обслуживающему персоналу и посетителям катка.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9. Во время катания на льду могут появляться трещины и выбоины. Во избежание неожиданных падений и травм просим Вас быть внимательными и аккуратными. В случае получения травмы незамедлительно сообщите об этом персоналу катка. Вам окажут помощь.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10. Помните, что администрация катка не несет ответственности за рисковые ситуации, связанные с нарушением здоровья посетителей (травмы, ушибы и др.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2133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b8dec6"/>
                </a:solidFill>
                <a:uFillTx/>
                <a:latin typeface="Tahoma"/>
              </a:rPr>
              <a:t>V. Правила поведения зимой на открытых водоёмах. (Осторожно, тонкий лёд!)</a:t>
            </a: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1. Не выходите на тонкий неокрепший лед. </a:t>
            </a:r>
            <a:br>
              <a:rPr sz="1600"/>
            </a:b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2. Места с темным прозрачным льдом более надежны, чем соседние с ним — непрозрачные, замерзавшие со снегом. </a:t>
            </a:r>
            <a:br>
              <a:rPr sz="1600"/>
            </a:b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3. Не пользуйтесь коньками на первом льду. На них очень легко въехать на тонкий, неокрепший лед или в полынью. </a:t>
            </a:r>
            <a:br>
              <a:rPr sz="1600"/>
            </a:b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4. В случае крайней необходимости перехода опасного места на льду завяжите вокруг пояса шнур, оставив за собой свободно волочащийся конец, если сзади движется товарищ. Переходите это место с большим шестом в руках, держа eгo поперек тела. </a:t>
            </a:r>
            <a:br>
              <a:rPr sz="1600"/>
            </a:b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5. Помогая провалившемуся под лед товарищу, подавайте ему в руки пояс, шарф, палку и т. п. За них можно ухватиться крепче, чем за протянутую руку, к тому же при сближении легче обломить кромку льда. </a:t>
            </a:r>
            <a:br>
              <a:rPr sz="1600"/>
            </a:b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6. Попав случайно на тонкий лед, отходите назад скользящими осторожными шагами, не отрывая ног ото льда. </a:t>
            </a:r>
            <a:br>
              <a:rPr sz="1600"/>
            </a:b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7. Не ходите с грузом за плечами по ненадежному льду. Если этого нельзя избежать, обязательно снимайте одну из лямок заплечного мешка, чтобы сразу освободиться от него в случае провала. </a:t>
            </a:r>
            <a:br>
              <a:rPr sz="1600"/>
            </a:br>
            <a:r>
              <a:rPr b="1" lang="ru-RU" sz="1600" spc="-1" strike="noStrike">
                <a:solidFill>
                  <a:srgbClr val="99ccff"/>
                </a:solidFill>
                <a:latin typeface="Georgia"/>
              </a:rPr>
              <a:t>8. При провале под лед не теряйтесь, не пытайтесь ползти вперед и подламывать его локтями и грудью. Постарайтесь лечь "на спину и выползти на свой след, а затем, не вставая, отползти от опасного места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467480" y="5430960"/>
            <a:ext cx="167652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8dec6"/>
                </a:solidFill>
                <a:latin typeface="Tahoma"/>
              </a:rPr>
              <a:t>При попадании под лёд необходимо: 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Избавиться от тяжёлых, сковывающих движения предметов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Не терять времени на освобождение от одежды, так как в первые минуты, до полного намокания, она удерживает человека на поверхност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Выбираться на лёд в месте, где произошло падение; </a:t>
            </a:r>
            <a:br>
              <a:rPr sz="2400"/>
            </a:b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Выползать на лёд методом «вкручивания», т.е. перекатываясь со спины на живот; </a:t>
            </a:r>
            <a:br>
              <a:rPr sz="2400"/>
            </a:b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Втыкать в лёд острые предметы, подтягиваясь к ним; </a:t>
            </a:r>
            <a:br>
              <a:rPr sz="2400"/>
            </a:b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Удаляться от полыньи ползком по собственным следам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19920" y="4089240"/>
            <a:ext cx="3124080" cy="27687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b8dec6"/>
                </a:solidFill>
                <a:uFillTx/>
                <a:latin typeface="Tahoma"/>
              </a:rPr>
              <a:t>VI. Во время загородных пеших или лыжных прогулок нас может подстерегать такие опасности как переохлаждение и обморожения.</a:t>
            </a:r>
            <a:r>
              <a:rPr b="0" lang="ru-RU" sz="3800" spc="-1" strike="noStrike">
                <a:solidFill>
                  <a:srgbClr val="b8dec6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1532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ahoma"/>
              </a:rPr>
              <a:t>Признаки переохлаждения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озноб и дрожь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нарушение сознания (заторможенность и апатия, бред и галлюцинации, неадекватное поведение)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посинение или побледнение губ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снижение температуры тела </a:t>
            </a:r>
            <a:br>
              <a:rPr sz="2400"/>
            </a:br>
            <a:r>
              <a:rPr b="1" lang="ru-RU" sz="2400" spc="-1" strike="noStrike" u="sng">
                <a:solidFill>
                  <a:srgbClr val="6600ff"/>
                </a:solidFill>
                <a:uFillTx/>
                <a:latin typeface="Tahoma"/>
              </a:rPr>
              <a:t>Признаки обморожения конечностей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потеря чувствительности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кожа бледная, твёрдая и холодная наощупь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нет пульса у лодыжек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при постукивании пальцем слышен деревянный зву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238880" y="1600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74d4b"/>
            </a:gs>
            <a:gs pos="50000">
              <a:srgbClr val="0d8784"/>
            </a:gs>
            <a:gs pos="100000">
              <a:srgbClr val="074d4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769608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99ff"/>
                </a:solidFill>
                <a:uFillTx/>
                <a:latin typeface="Tahoma"/>
              </a:rPr>
              <a:t>Первая помощь при переохлаждении и обморожении:</a:t>
            </a:r>
            <a:r>
              <a:rPr b="0" lang="ru-RU" sz="2400" spc="-1" strike="noStrike">
                <a:solidFill>
                  <a:srgbClr val="3399ff"/>
                </a:solidFill>
                <a:latin typeface="Tahom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1. Доставить пострадавшего в помещение и постараться согреть. Лучше всего это сделать с помощью ванны, температура воды в которой должна быть от 30 до 40 градусов (в случае обморожения конечностей, сначала опускают их в воду с температурой 20 градусов и за 20-30 минут доводят температуру воды до 40 градусов. </a:t>
            </a:r>
            <a:br>
              <a:rPr sz="2400"/>
            </a:b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2. После согревания, следует высушить тело, одеть человека в сухую тёплую одежду и положить его в постель, укрыв тёплым одеялом. </a:t>
            </a:r>
            <a:br>
              <a:rPr sz="2400"/>
            </a:b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3. Дать тёплое сладкое питьё или пищу с большим содержанием сахар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221600" y="4876920"/>
            <a:ext cx="1922400" cy="1981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5049720"/>
            <a:ext cx="16192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0-12-20T17:12:4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