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4DD5-5080-47BB-BA2E-30A255DA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1DE3-6BA0-475D-9A9D-63765CAC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1484-1376-485B-9563-020220B6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0EFF-32EF-4C87-8319-401925A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1A48-93B2-457B-8E2F-B5F47DCC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EF92-644C-4870-8ECE-60715276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59B8-3D11-456F-8CBF-CFFC7DF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1786-D86A-45C7-8642-138C3C5E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05C2-0DE7-4670-836E-96E5F28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0BF-637D-484E-AC44-8E56C76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5A6B-5BD3-4D55-BC90-1E472E2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63EE-E4D8-424D-A29E-4CDBD2B3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D3A-1AE7-4714-B534-63958907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49DC-B0FE-4D51-B7B8-50AC71F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B8A-E0A4-46E9-9DE1-1AFB841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09E-C212-4A71-9B99-8B654A51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8D8B-5702-418F-A2B4-D3401D6E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930D-6F0C-491F-B2C4-4EE8AC1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6757-3E8A-4E07-AAD4-404D2EB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A8D3-2A69-40E3-A3D1-46BB312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C6D0-A883-4F90-93DD-D41D0B3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6C4E-F6B9-498E-BC0D-8D601112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A72E-3595-4B59-B47F-AB17A194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ED55-BF30-4D4C-8BB6-FFB9DFA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C5E-11A1-499A-B3A5-00B0360E4A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9F16-6083-44B1-98E4-5E9F2D1746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dec6"/>
                </a:solidFill>
                <a:latin typeface="Georgia"/>
              </a:rPr>
              <a:t>Правила поведения школьников во время зимних каникул</a:t>
            </a:r>
            <a:endParaRPr b="0" lang="en-US" sz="5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47960" y="5562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азанова О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6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825920" cy="1466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825560" cy="146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609120"/>
            <a:ext cx="7467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cc00cc"/>
                </a:solidFill>
                <a:uFillTx/>
                <a:latin typeface="Tahoma"/>
              </a:rPr>
              <a:t>При обморожении нельзя:</a:t>
            </a:r>
            <a:r>
              <a:rPr b="0" lang="ru-RU" sz="3200" spc="-1" strike="noStrike">
                <a:solidFill>
                  <a:srgbClr val="cc00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 Растирать обмороженные участки тела снегом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. Помещать обмороженные конечности сразу в тёплую воду или обкладывать тёплыми грелк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3. смазывать кожу масл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4. давать большие дозы алкоголя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8255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4246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3399ff"/>
                </a:solidFill>
                <a:latin typeface="Georgia"/>
              </a:rPr>
              <a:t>При соблюдении всех этих несложных правил надеемся, что каникулы ваши пройдут весело, разнообразно и не принесут никаких неприятных ощущ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8dec6"/>
                </a:solidFill>
                <a:uFillTx/>
                <a:latin typeface="Tahoma"/>
              </a:rPr>
              <a:t>I. Правила поведения в общественных местах во время проведения Новогодних Ёлок и в других местах массового скопления людей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1. Если вы поехали на новогоднее представление с родителями, ни в коем случае не отходите от них далеко, т.к. при большом скоплении людей легко затеряться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2. В местах проведения массовых новогодних гуляний старайтесь держаться подальше от толпы, во избежание получения травм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Следует: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3. Подчиняться законным предупреждениям и требованиям администрации, милиции и иных лиц, ответственных за поддержание порядка, пожарной безопасност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4. Вести себя уважительно по отношению к участникам массовых мероприятий, обслуживающему персоналу, должностным лицам, ответственным за поддержание общественного порядка и безопасности при проведении массовых мероприятий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5. Не допускать действий, способных создать опасность для окружающих и привести к созданию экстремальной ситуаци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6. Осуществлять организованный выход из помещений и сооружений по окончании мероприятий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7. При получении информации об эвакуации действовать согласно указаниям администрации и сотрудников правоохранительных органов, ответственных за обеспечение правопорядка, соблюдая спокойствие и не создавая пани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19960" y="4648320"/>
            <a:ext cx="172404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 I. Правила пожарной безопасности во время новогодних праздников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1. Не украшайте ёлку матерчатыми и пластмассовыми игрушкам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2. Не обкладывайте подставку ёлки ватой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3. Освещать ёлку следует только электрогирляндами промышленного производств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4. В помещении не разрешается зажигать бенгальские огни, применять хлопушки и восковые свечи. Помните, открытый огонь всегда опасен!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5. Не следует использовать пиротехнику, если вы не понимаете как ею пользоваться, а инструкции не прилагается, или она написана на непонятном вам язык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6. Нельзя ремонтировать и вторично использовать не сработавшую пиротехнику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7. Категорически запрещается применять самодельные пиротехнические устройств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b8dec6"/>
                </a:solidFill>
                <a:uFillTx/>
                <a:latin typeface="Tahoma"/>
              </a:rPr>
              <a:t>III. Правила поведения на дороге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Переходите дорогу только на зелёный сигнал светофора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2. Переходить дорогу можно только на пешеходном переходе, обозначенном специальным знаком и «зеброй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Georgi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При переходе через дорогу на пешеходном переходе, не оборудованном светофором, следует не забывать сначала посмотреть направо, а, дойдя до середины дороги, налево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4. Не следует перебегать дорогу перед близко едущей машиной. Лучше подождать, когда она проедет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5. Не забывайте, что при переходе через дорогу автобус и троллейбус следует обходить сзади, а трамвай спереди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6. При проезде в пригородных поездах соблюдайте правила поведения; переходите железнодорожные пути в строго отведённых для этого местах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7. При пользовании общественным транспортом соблюдайте правила поведения в общественном транспорте, будьте вежливы, уступайте места пожилым пассажирам, инвалидам, пассажирам с детьми и беременным женщинам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5486400"/>
            <a:ext cx="21337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V. Правила поведения на общественном катке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8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Во время нахождения на катке </a:t>
            </a:r>
            <a:r>
              <a:rPr b="1" lang="en-US" sz="1600" spc="-1" strike="noStrike">
                <a:solidFill>
                  <a:srgbClr val="ff6600"/>
                </a:solidFill>
                <a:latin typeface="Georgia"/>
              </a:rPr>
              <a:t>ЗАПРЕЩАЕТСЯ: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. Бегать, прыгать, толкаться, баловаться, кататься на высокой скорости, играть в хоккей, совершать любые действия, мешающие остальным посетителям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2. Бросать на лёд мусор или любые другие предметы. Пожалуйста, пользуйтесь мусорными баками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3. Приносить с собой спиртные напитки и распивать их на территории катка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4. Находиться на территории катка в состоянии алкогольного или наркотического опьянения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5. Портить инвентарь и ледовое покрытие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6. Выходить на лед с животными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7. Применять взрывчатые и легковоспламеняющиеся вещества (в том числе пиротехнические изделия)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8. Проявлять неуважение к обслуживающему персоналу и посетителям катка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9. Во время катания на льду могут появляться трещины и выбоины. Во избежание неожиданных падений и травм просим Вас быть внимательными и аккуратными. В случае получения травмы незамедлительно сообщите об этом персоналу катка. Вам окажут помощь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0. Помните, что администрация катка не несет ответственности за рисковые ситуации, связанные с нарушением здоровья посетителей (травмы, ушибы и др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. Правила поведения зимой на открытых водоёмах. (Осторожно, тонкий лёд!)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1. Не выходите на тонкий неокрепший лед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2. Места с темным прозрачным льдом более надежны, чем соседние с ним — непрозрачные, замерзавшие со снегом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3. Не пользуйтесь коньками на первом льду. На них очень легко въехать на тонкий, неокрепший лед или в полынью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4. В случае крайней необходимости перехода опасного места на льду завяжите вокруг пояса шнур, оставив за собой свободно волочащийся конец, если сзади движется товарищ. Переходите это место с большим шестом в руках, держа eгo поперек те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5. Помогая провалившемуся под лед товарищу, подавайте ему в руки пояс, шарф, палку и т. п. За них можно ухватиться крепче, чем за протянутую руку, к тому же при сближении легче обломить кромку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6. Попав случайно на тонкий лед, отходите назад скользящими осторожными шагами, не отрывая ног ото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7. Не ходите с грузом за плечами по ненадежному льду. Если этого нельзя избежать, обязательно снимайте одну из лямок заплечного мешка, чтобы сразу освободиться от него в случае прова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8. При провале под лед не теряйтесь, не пытайтесь ползти вперед и подламывать его локтями и грудью. Постарайтесь лечь "на спину и выползти на свой след, а затем, не вставая, отползти от опасного места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7480" y="5430960"/>
            <a:ext cx="1676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и попадании под лёд необходимо: 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Избавиться от тяжёлых, сковывающих движения предме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Не терять времени на освобождение от одежды, так как в первые минуты, до полного намокания, она удерживает человека на поверх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бираться на лёд в месте, где произошло падение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ползать на лёд методом «вкручивания», т.е. перекатываясь со спины на живот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тыкать в лёд острые предметы, подтягиваясь к ним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Удаляться от полыньи ползком по собственным следа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9920" y="4089240"/>
            <a:ext cx="3124080" cy="2768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I. Во время загородных пеших или лыжных прогулок нас может подстерегать такие опасности как переохлаждение и обморожения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Признаки переохлажде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озноб и дрож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нарушение сознания (заторможенность и апатия, бред и галлюцинации, неадекватное поведение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синение или побледнение г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нижение температуры тела </a:t>
            </a:r>
            <a:br>
              <a:rPr sz="2400"/>
            </a:br>
            <a:r>
              <a:rPr b="1" lang="ru-RU" sz="2400" spc="-1" strike="noStrike" u="sng">
                <a:solidFill>
                  <a:srgbClr val="6600ff"/>
                </a:solidFill>
                <a:uFillTx/>
                <a:latin typeface="Tahoma"/>
              </a:rPr>
              <a:t>Признаки обморожения конечностей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теря чувствительности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кожа бледная, твёрдая и холодная наощуп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нет пульса у лодыжек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 постукивании пальцем слышен деревянный зв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1600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6960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Tahoma"/>
              </a:rPr>
              <a:t>Первая помощь при переохлаждении и обморожении:</a:t>
            </a:r>
            <a:r>
              <a:rPr b="0" lang="ru-RU" sz="2400" spc="-1" strike="noStrike">
                <a:solidFill>
                  <a:srgbClr val="3399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. Доставить пострадавшего в помещение и постараться согреть. Лучше всего это сделать с помощью ванны, температура воды в которой должна быть от 30 до 40 градусов (в случае обморожения конечностей, сначала опускают их в воду с температурой 20 градусов и за 20-30 минут доводят температуру воды до 40 градусов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. После согревания, следует высушить тело, одеть человека в сухую тёплую одежду и положить его в постель, укрыв тёплым одеялом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3. Дать тёплое сладкое питьё или пищу с большим содержанием саха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21600" y="4876920"/>
            <a:ext cx="19224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049720"/>
            <a:ext cx="16192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12-20T17:12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