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24.gif" ContentType="image/gif"/>
  <Override PartName="/ppt/media/image23.jpeg" ContentType="image/jpeg"/>
  <Override PartName="/ppt/media/image20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662-8288-418E-9A9C-78FA63CA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0B1-DE77-4E99-BADC-CED3B4F8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6C9-9CAD-46BB-A916-499A7190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28B-B4E8-46EC-89B0-7C5CFC4C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334D-688D-4A89-9FCE-7606013C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6B2-6736-443A-9B1D-1272639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9F97-B116-445F-80C2-9E84F4D9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8836-EC45-4DF7-A2A5-99734BF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D22B-9C6F-433F-AC28-3C615AC6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C5C8-8B75-406F-A7F0-7E63D6F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F7E-BCDD-47B2-BDD3-E653A3F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468-9C52-498E-8989-ACFA271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1358-7964-45F8-BA28-E1FDED13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1106-8294-4110-821C-7C5F02D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3328-CC92-4108-8A35-81B9F1E7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ABE7-3B06-468E-B2A7-1FB40D3F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E45-4AE4-49CE-B7CD-D3EDD1B6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843-B690-4415-B5AD-F773D2D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2A9-5408-417B-A635-D5B505A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04E-B22E-4805-9036-A3D8CD7D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617-62D0-4888-8F73-E1C7465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FF5-027E-4560-BD0D-5EB884E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914-45DD-487E-9C77-50EF186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ECC-AF4F-4E99-A3E3-73EAABD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F763-CCFF-4DD4-AB71-AAA9569C2D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87C3-5A5E-47B8-BEAD-17FEBDCE3E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admin.ru/content/5254" TargetMode="Externa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5760" y="1571760"/>
            <a:ext cx="498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равила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оведения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на воде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001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чий Ирин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основ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0" descr="http://www.mambulus.ru/card/92/92_61.jpg"/>
          <p:cNvPicPr/>
          <p:nvPr/>
        </p:nvPicPr>
        <p:blipFill>
          <a:blip r:embed="rId1"/>
          <a:stretch/>
        </p:blipFill>
        <p:spPr>
          <a:xfrm>
            <a:off x="225360" y="225360"/>
            <a:ext cx="37800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ы плохо плаваете, держитесь поближе к берег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Так, чтобы в любой момент можно было коснуться ногами дна. И не поддавайтесь на уговоры друзей, плавающих лучше вас. Им – забава,  а  вы  рискуете наглотаться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учитесь плавать? 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гда  не заходите глубж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 поя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94" descr="http://www.mambulus.ru/card/92/92_63.jpg"/>
          <p:cNvPicPr/>
          <p:nvPr/>
        </p:nvPicPr>
        <p:blipFill>
          <a:blip r:embed="rId1"/>
          <a:stretch/>
        </p:blipFill>
        <p:spPr>
          <a:xfrm>
            <a:off x="6143760" y="3357720"/>
            <a:ext cx="2214360" cy="3381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:\Семейная\Ирина\Анимашки\плавание 1 gif"/>
          <p:cNvPicPr/>
          <p:nvPr/>
        </p:nvPicPr>
        <p:blipFill>
          <a:blip r:embed="rId2"/>
          <a:stretch/>
        </p:blipFill>
        <p:spPr>
          <a:xfrm>
            <a:off x="1000080" y="5143680"/>
            <a:ext cx="21430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920" y="356760"/>
            <a:ext cx="8586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стали плавать? – отдохни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т перенапряжения могут начаться судороги. И не старайтесь установить рекорд по плаванию. Мирового рекорда вам все равно не побить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D:\Семейная\Ирина\Анимашки\прав купан 5"/>
          <p:cNvPicPr/>
          <p:nvPr/>
        </p:nvPicPr>
        <p:blipFill>
          <a:blip r:embed="rId1"/>
          <a:stretch/>
        </p:blipFill>
        <p:spPr>
          <a:xfrm>
            <a:off x="4000680" y="321480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Содержимое 2"/>
          <p:cNvSpPr/>
          <p:nvPr/>
        </p:nvSpPr>
        <p:spPr>
          <a:xfrm>
            <a:off x="4000680" y="4500720"/>
            <a:ext cx="4429080" cy="2214360"/>
          </a:xfrm>
          <a:prstGeom prst="rect">
            <a:avLst/>
          </a:prstGeom>
          <a:solidFill>
            <a:srgbClr val="64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Если в воде вам стало плох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охраняйте  спокойствие.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оложении  на  спине  вы  д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лывёте  до  берега   с  мин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маль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D:\Семейная\Ирина\Анимашки\плавание gif"/>
          <p:cNvPicPr/>
          <p:nvPr/>
        </p:nvPicPr>
        <p:blipFill>
          <a:blip r:embed="rId2"/>
          <a:stretch/>
        </p:blipFill>
        <p:spPr>
          <a:xfrm>
            <a:off x="1000080" y="4429080"/>
            <a:ext cx="1967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конец, последнее: не купайтесь подолгу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ой бы теплой ни казалась вода, переохладиться и заболеть – проще простого. Как только вы начали покрываться “гусиной кожей”, а зубы стали отбивать чечетку, немедленно выходите из воды. После этого вытр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ь насухо и вытряс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из ушей.  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ейтесь, поигр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яч, побегайте и т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 идите купаться с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97" descr="http://www.mambulus.ru/card/92/92_62.jpg"/>
          <p:cNvPicPr/>
          <p:nvPr/>
        </p:nvPicPr>
        <p:blipFill>
          <a:blip r:embed="rId1"/>
          <a:stretch/>
        </p:blipFill>
        <p:spPr>
          <a:xfrm>
            <a:off x="5857920" y="328608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000080"/>
            <a:ext cx="857268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я простые меры предосто-рожности и прислушиваясь к советам специалистов, вы обезопасите себя от несчастных случаев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4357800" y="3214800"/>
            <a:ext cx="4638600" cy="29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:\Семейная\Ирина\Анимашки\прав купан 6"/>
          <p:cNvPicPr/>
          <p:nvPr/>
        </p:nvPicPr>
        <p:blipFill>
          <a:blip r:embed="rId2"/>
          <a:stretch/>
        </p:blipFill>
        <p:spPr>
          <a:xfrm>
            <a:off x="214200" y="3214800"/>
            <a:ext cx="40006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214200" y="5214960"/>
            <a:ext cx="4000680" cy="15001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входите в воду разгорячёнными, лучше выждать какое-то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4357800" y="5429160"/>
            <a:ext cx="4643280" cy="12859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Будьте осторожны в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переоценивайте сво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ил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heladmin.ru/content/52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ames.ru/p21aa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onegid.com/2009/05/03/page/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unhome.ru/cards/172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animo2.ucoz.ru/photo/mir_animashek_letnego_nastroenija/otdykh_na_more_puteshestvija/animacija_more_7/44-0-2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D:\Семейная\Ирина\Анимашки\дельфин .gif"/>
          <p:cNvPicPr/>
          <p:nvPr/>
        </p:nvPicPr>
        <p:blipFill>
          <a:blip r:embed="rId2"/>
          <a:stretch/>
        </p:blipFill>
        <p:spPr>
          <a:xfrm>
            <a:off x="285840" y="5286240"/>
            <a:ext cx="5724360" cy="533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:\Семейная\Ирина\Анимашки\дельфин .gif"/>
          <p:cNvPicPr/>
          <p:nvPr/>
        </p:nvPicPr>
        <p:blipFill>
          <a:blip r:embed="rId3"/>
          <a:stretch/>
        </p:blipFill>
        <p:spPr>
          <a:xfrm flipH="1">
            <a:off x="135720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D:\Семейная\Ирина\Анимашки\пляж 4.gif"/>
          <p:cNvPicPr/>
          <p:nvPr/>
        </p:nvPicPr>
        <p:blipFill>
          <a:blip r:embed="rId4"/>
          <a:stretch/>
        </p:blipFill>
        <p:spPr>
          <a:xfrm>
            <a:off x="7215120" y="4572000"/>
            <a:ext cx="19288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Топчий </a:t>
            </a:r>
            <a:br>
              <a:rPr sz="3600"/>
            </a:b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Ирина Викторовна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4214520"/>
            <a:ext cx="442908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-метод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572080" y="16430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D:\Семейная\Ирина\Анимашки\дельфин gif"/>
          <p:cNvPicPr/>
          <p:nvPr/>
        </p:nvPicPr>
        <p:blipFill>
          <a:blip r:embed="rId2"/>
          <a:stretch/>
        </p:blipFill>
        <p:spPr>
          <a:xfrm>
            <a:off x="128592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D:\Семейная\Ирина\Анимашки\дельфин gif"/>
          <p:cNvPicPr/>
          <p:nvPr/>
        </p:nvPicPr>
        <p:blipFill>
          <a:blip r:embed="rId3"/>
          <a:stretch/>
        </p:blipFill>
        <p:spPr>
          <a:xfrm>
            <a:off x="2000160" y="5000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D:\Семейная\Ирина\Анимашки\дельфин gif"/>
          <p:cNvPicPr/>
          <p:nvPr/>
        </p:nvPicPr>
        <p:blipFill>
          <a:blip r:embed="rId4"/>
          <a:stretch/>
        </p:blipFill>
        <p:spPr>
          <a:xfrm>
            <a:off x="50004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:\Семейная\Ирина\Анимашки\дельфин gif"/>
          <p:cNvPicPr/>
          <p:nvPr/>
        </p:nvPicPr>
        <p:blipFill>
          <a:blip r:embed="rId5"/>
          <a:stretch/>
        </p:blipFill>
        <p:spPr>
          <a:xfrm>
            <a:off x="271476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Семейная\Ирина\Анимашки\дельфин gif"/>
          <p:cNvPicPr/>
          <p:nvPr/>
        </p:nvPicPr>
        <p:blipFill>
          <a:blip r:embed="rId6"/>
          <a:stretch/>
        </p:blipFill>
        <p:spPr>
          <a:xfrm>
            <a:off x="3429000" y="500040"/>
            <a:ext cx="9619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85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методические материалы, объясняющие правила поведения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9" descr="http://www.mambulus.ru/card/92/92_55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256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летний отдых без купания? Тоска, да и только. Особенно когда солнышко припекает, а прохладная вода пруда или речки, озера или моря так и манит, так и приглашает окуну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82" descr="http://www.mambulus.ru/card/92/92_54.jpg"/>
          <p:cNvPicPr/>
          <p:nvPr/>
        </p:nvPicPr>
        <p:blipFill>
          <a:blip r:embed="rId1"/>
          <a:stretch/>
        </p:blipFill>
        <p:spPr>
          <a:xfrm>
            <a:off x="1928880" y="3143160"/>
            <a:ext cx="5715000" cy="3441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480" y="571680"/>
            <a:ext cx="864396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унуться и поплавать – это хорошо, даже полезно. А еще лучше купаться с комфортом. То есть с удобствами. Думаете, я посоветую купаться только в бассейне или джакузи? Вовсе нет! Но мелочи (а на самом деле – очень даже крупности), о которых вы не подумали могут испортить все удовольств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от какие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D:\Семейная\Ирина\Анимашки\купание .gif"/>
          <p:cNvPicPr/>
          <p:nvPr/>
        </p:nvPicPr>
        <p:blipFill>
          <a:blip r:embed="rId1"/>
          <a:stretch/>
        </p:blipFill>
        <p:spPr>
          <a:xfrm>
            <a:off x="5929200" y="4929120"/>
            <a:ext cx="200052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жде всего спросите у взросл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стоит ли вообще купаться в этом озере (реке, пруду) – достаточно ли чистая там вода. А то еще подхватите какую-нибудь инфекцию и будете лечиться все оставшееся лето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15" descr="http://www.mambulus.ru/card/92/92_59.jpg"/>
          <p:cNvPicPr/>
          <p:nvPr/>
        </p:nvPicPr>
        <p:blipFill>
          <a:blip r:embed="rId1"/>
          <a:stretch/>
        </p:blipFill>
        <p:spPr>
          <a:xfrm>
            <a:off x="4429080" y="3000240"/>
            <a:ext cx="422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292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гда не купайтесь в одиночку в незнакомом мест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прочем, в знакомом тоже. И никогда не заплывайте  далеко от берега – только с друзьями, которые плавают не хуже вас. Мало ли что... Да и скучно одному, правда? А вообще запомните, что безопаснее всего купаться в зоне, огороженной буйками или поплавками. Поверьте, их не просто так устанавливают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D:\Семейная\Ирина\Анимашки\плавание 3gif"/>
          <p:cNvPicPr/>
          <p:nvPr/>
        </p:nvPicPr>
        <p:blipFill>
          <a:blip r:embed="rId1"/>
          <a:stretch/>
        </p:blipFill>
        <p:spPr>
          <a:xfrm>
            <a:off x="5857920" y="5572080"/>
            <a:ext cx="276228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холодную воду заходите медл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собенно если это первое ваше купание в этом сезоне. Иначе может свести ногу. Или голова закружитс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1357200" y="407196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D:\Семейная\Ирина\Анимашки\прав купан 8"/>
          <p:cNvPicPr/>
          <p:nvPr/>
        </p:nvPicPr>
        <p:blipFill>
          <a:blip r:embed="rId2"/>
          <a:stretch/>
        </p:blipFill>
        <p:spPr>
          <a:xfrm>
            <a:off x="3929040" y="3000240"/>
            <a:ext cx="4633920" cy="3119400"/>
          </a:xfrm>
          <a:prstGeom prst="rect">
            <a:avLst/>
          </a:prstGeom>
          <a:ln w="0">
            <a:noFill/>
          </a:ln>
        </p:spPr>
      </p:pic>
      <p:sp>
        <p:nvSpPr>
          <p:cNvPr id="228" name="Содержимое 2"/>
          <p:cNvSpPr/>
          <p:nvPr/>
        </p:nvSpPr>
        <p:spPr>
          <a:xfrm>
            <a:off x="3929040" y="5286240"/>
            <a:ext cx="4643640" cy="107172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Входите в воду не сра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а постеп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480" y="428400"/>
            <a:ext cx="8643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ныряйте и не прыгайте с обрыва в в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если вы не уверены, что дно чистое. Сначала поплавайте, а еще лучше – узнайте у местных ребят, нет ли под водой затопленных бревен или арматуры – ржавых    железок,   о    которые   мож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аниться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D:\Семейная\Ирина\Анимашки\волны .gif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D:\Семейная\Ирина\Анимашки\волны .gif"/>
          <p:cNvPicPr/>
          <p:nvPr/>
        </p:nvPicPr>
        <p:blipFill>
          <a:blip r:embed="rId2"/>
          <a:stretch/>
        </p:blipFill>
        <p:spPr>
          <a:xfrm>
            <a:off x="2071800" y="5643720"/>
            <a:ext cx="171432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Семейная\Ирина\Анимашки\волны .gif"/>
          <p:cNvPicPr/>
          <p:nvPr/>
        </p:nvPicPr>
        <p:blipFill>
          <a:blip r:embed="rId3"/>
          <a:stretch/>
        </p:blipFill>
        <p:spPr>
          <a:xfrm>
            <a:off x="3786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:\Семейная\Ирина\Анимашки\прав купан 9"/>
          <p:cNvPicPr/>
          <p:nvPr/>
        </p:nvPicPr>
        <p:blipFill>
          <a:blip r:embed="rId4"/>
          <a:stretch/>
        </p:blipFill>
        <p:spPr>
          <a:xfrm>
            <a:off x="4429080" y="342900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234" name="Содержимое 2"/>
          <p:cNvSpPr/>
          <p:nvPr/>
        </p:nvSpPr>
        <p:spPr>
          <a:xfrm>
            <a:off x="4429080" y="5643720"/>
            <a:ext cx="4429080" cy="92844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Перед купанием   проверьте 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356760"/>
            <a:ext cx="8929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купайтесь в реке, по которой плавают катера или су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ли, по крайней мере, держитесь от них подальше. Волна от катера может накрыть вас с головой –весьма сомнительное и небезопасное удовольствие.    А  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подплывёте слиш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зко    к   судну,  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затя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винты. 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91" descr="http://www.mambulus.ru/card/92/92_64.jpg"/>
          <p:cNvPicPr/>
          <p:nvPr/>
        </p:nvPicPr>
        <p:blipFill>
          <a:blip r:embed="rId1"/>
          <a:stretch/>
        </p:blipFill>
        <p:spPr>
          <a:xfrm>
            <a:off x="5786280" y="2928960"/>
            <a:ext cx="280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:\Семейная\Ирина\Анимашки\скутер .gif"/>
          <p:cNvPicPr/>
          <p:nvPr/>
        </p:nvPicPr>
        <p:blipFill>
          <a:blip r:embed="rId2"/>
          <a:stretch/>
        </p:blipFill>
        <p:spPr>
          <a:xfrm>
            <a:off x="642960" y="5715000"/>
            <a:ext cx="1542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00:27Z</dcterms:created>
  <dc:creator>Tanya</dc:creator>
  <dc:description/>
  <dc:language>en-US</dc:language>
  <cp:lastModifiedBy>Denis</cp:lastModifiedBy>
  <dcterms:modified xsi:type="dcterms:W3CDTF">2011-02-24T14:37:20Z</dcterms:modified>
  <cp:revision>35</cp:revision>
  <dc:subject/>
  <dc:title>Презентация на тему:  "Энергетические напитки" ученицы 10-Б класса Фомицкой Татьяны</dc:title>
</cp:coreProperties>
</file>