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gif" ContentType="image/gif"/>
  <Override PartName="/ppt/media/image11.gif" ContentType="image/gif"/>
  <Override PartName="/ppt/media/image9.gif" ContentType="image/gif"/>
  <Override PartName="/ppt/media/image7.gif" ContentType="image/gif"/>
  <Override PartName="/ppt/media/image6.jpeg" ContentType="image/jpeg"/>
  <Override PartName="/ppt/media/image5.gif" ContentType="image/gif"/>
  <Override PartName="/ppt/media/image14.jpeg" ContentType="image/jpeg"/>
  <Override PartName="/ppt/media/image13.gif" ContentType="image/gif"/>
  <Override PartName="/ppt/media/image8.gif" ContentType="image/gif"/>
  <Override PartName="/ppt/media/image18.jpeg" ContentType="image/jpeg"/>
  <Override PartName="/ppt/media/image24.gif" ContentType="image/gif"/>
  <Override PartName="/ppt/media/image23.jpeg" ContentType="image/jpeg"/>
  <Override PartName="/ppt/media/image20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3.jpeg" ContentType="image/jpeg"/>
  <Override PartName="/ppt/media/image1.png" ContentType="image/png"/>
  <Override PartName="/ppt/media/image21.gif" ContentType="image/gif"/>
  <Override PartName="/ppt/media/image19.gif" ContentType="image/gif"/>
  <Override PartName="/ppt/media/image2.png" ContentType="image/png"/>
  <Override PartName="/ppt/media/image22.gif" ContentType="image/gi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5C2F-FAF1-45F0-B9D5-428991269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D2A0-D3F4-4001-8EA7-C1030AB36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7DAA-1949-4478-8ED8-CEC2CF479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CC4C-E7A2-4F97-854C-D8DA04BD7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8C23E-704C-415C-82EC-C696760FA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06F5A-8CD8-4DB0-8E2A-384968344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49BBB-3F31-4D38-A127-53EC843CE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E2B2B-3B12-4FDD-A1F0-D426923CA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1790F-AA13-4B38-888A-3125AA2B3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B26EC-2F1F-4F65-A3F0-6DFC8FB9D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11F56-5F29-42CC-AE85-37498AF2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B24B-8258-43AD-B064-70E420601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BBEA7-BA55-411D-A027-ABAF38BA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95E4A-B610-44F0-A129-85D706F9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1F160-556E-4CB4-91DD-0E345137F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BF474-F8B9-4989-9565-96C7D2581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6CBA9-1A19-404C-BBF8-E1183F87F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84EF-0EF1-43FB-84F3-D96569219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CFCD-1381-4684-8C13-B5912BF63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3756-99F5-46AA-ADBD-FBD28392E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07E3-8DD4-49B5-92E0-1B9AE2DA7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6EB4-B330-4B97-8C17-ECEFC4D6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F85C-D043-4C1E-B656-F6328391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1F53-95E4-4CA9-B859-C13A9D7C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6699"/>
              </a:gs>
              <a:gs pos="100000">
                <a:srgbClr val="005a8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254a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6394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5682"/>
                  </a:gs>
                  <a:gs pos="100000">
                    <a:srgbClr val="0066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68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4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6f9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6394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f8fb5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E8AF9-DAB0-4065-B553-56FE54345F1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254a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6394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5682"/>
                  </a:gs>
                  <a:gs pos="100000">
                    <a:srgbClr val="0066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68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4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6f9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6394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f8fb5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0B504-58E4-4D20-BD97-42708967A87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cheladmin.ru/content/5254" TargetMode="External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image" Target="../media/image24.gif"/><Relationship Id="rId4" Type="http://schemas.openxmlformats.org/officeDocument/2006/relationships/image" Target="../media/image24.gif"/><Relationship Id="rId5" Type="http://schemas.openxmlformats.org/officeDocument/2006/relationships/image" Target="../media/image24.gif"/><Relationship Id="rId6" Type="http://schemas.openxmlformats.org/officeDocument/2006/relationships/image" Target="../media/image24.gi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785760" y="1571760"/>
            <a:ext cx="498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c0c0"/>
                </a:solidFill>
                <a:latin typeface="Arial"/>
              </a:rPr>
              <a:t>Правила </a:t>
            </a:r>
            <a:br>
              <a:rPr sz="5400"/>
            </a:br>
            <a:r>
              <a:rPr b="0" lang="ru-RU" sz="5400" spc="-1" strike="noStrike">
                <a:solidFill>
                  <a:srgbClr val="c0c0c0"/>
                </a:solidFill>
                <a:latin typeface="Arial"/>
              </a:rPr>
              <a:t>поведения </a:t>
            </a:r>
            <a:br>
              <a:rPr sz="5400"/>
            </a:br>
            <a:r>
              <a:rPr b="0" lang="ru-RU" sz="5400" spc="-1" strike="noStrike">
                <a:solidFill>
                  <a:srgbClr val="c0c0c0"/>
                </a:solidFill>
                <a:latin typeface="Arial"/>
              </a:rPr>
              <a:t>на воде</a:t>
            </a: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500120" y="39290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полни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пчий Ирина Викторо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итель основ здоровь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порожской гимназии № 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Рисунок 100" descr="http://www.mambulus.ru/card/92/92_61.jpg"/>
          <p:cNvPicPr/>
          <p:nvPr/>
        </p:nvPicPr>
        <p:blipFill>
          <a:blip r:embed="rId1"/>
          <a:stretch/>
        </p:blipFill>
        <p:spPr>
          <a:xfrm>
            <a:off x="225360" y="225360"/>
            <a:ext cx="3780000" cy="38703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3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7000"/>
                            </p:stCondLst>
                            <p:childTnLst>
                              <p:par>
                                <p:cTn id="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9000"/>
                            </p:stCondLst>
                            <p:childTnLst>
                              <p:par>
                                <p:cTn id="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213840" y="285480"/>
            <a:ext cx="864396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Если вы плохо плаваете, держитесь поближе к берегу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Так, чтобы в любой момент можно было коснуться ногами дна. И не поддавайтесь на уговоры друзей, плавающих лучше вас. Им – забава,  а  вы  рискуете наглотаться вод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лько учитесь плавать? -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гда  не заходите глубж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м по поя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Рисунок 94" descr="http://www.mambulus.ru/card/92/92_63.jpg"/>
          <p:cNvPicPr/>
          <p:nvPr/>
        </p:nvPicPr>
        <p:blipFill>
          <a:blip r:embed="rId1"/>
          <a:stretch/>
        </p:blipFill>
        <p:spPr>
          <a:xfrm>
            <a:off x="6143760" y="3357720"/>
            <a:ext cx="2214360" cy="33811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D:\Семейная\Ирина\Анимашки\плавание 1 gif"/>
          <p:cNvPicPr/>
          <p:nvPr/>
        </p:nvPicPr>
        <p:blipFill>
          <a:blip r:embed="rId2"/>
          <a:stretch/>
        </p:blipFill>
        <p:spPr>
          <a:xfrm>
            <a:off x="1000080" y="5143680"/>
            <a:ext cx="2143080" cy="13572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2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142920" y="356760"/>
            <a:ext cx="8586720" cy="56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Устали плавать? – отдохните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От перенапряжения могут начаться судороги. И не старайтесь установить рекорд по плаванию. Мирового рекорда вам все равно не побить.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7" descr="D:\Семейная\Ирина\Анимашки\прав купан 5"/>
          <p:cNvPicPr/>
          <p:nvPr/>
        </p:nvPicPr>
        <p:blipFill>
          <a:blip r:embed="rId1"/>
          <a:stretch/>
        </p:blipFill>
        <p:spPr>
          <a:xfrm>
            <a:off x="4000680" y="3214800"/>
            <a:ext cx="4429080" cy="2928960"/>
          </a:xfrm>
          <a:prstGeom prst="rect">
            <a:avLst/>
          </a:prstGeom>
          <a:ln w="0">
            <a:noFill/>
          </a:ln>
        </p:spPr>
      </p:pic>
      <p:sp>
        <p:nvSpPr>
          <p:cNvPr id="243" name="Содержимое 2"/>
          <p:cNvSpPr/>
          <p:nvPr/>
        </p:nvSpPr>
        <p:spPr>
          <a:xfrm>
            <a:off x="4000680" y="4500720"/>
            <a:ext cx="4429080" cy="2214360"/>
          </a:xfrm>
          <a:prstGeom prst="rect">
            <a:avLst/>
          </a:prstGeom>
          <a:solidFill>
            <a:srgbClr val="64e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54a"/>
                </a:solidFill>
                <a:latin typeface="Arial"/>
              </a:rPr>
              <a:t>Если в воде вам стало плохо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54a"/>
                </a:solidFill>
                <a:latin typeface="Arial"/>
              </a:rPr>
              <a:t>сохраняйте  спокойствие.   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54a"/>
                </a:solidFill>
                <a:latin typeface="Arial"/>
              </a:rPr>
              <a:t>положении  на  спине  вы  до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54a"/>
                </a:solidFill>
                <a:latin typeface="Arial"/>
              </a:rPr>
              <a:t>плывёте  до  берега   с  мини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54a"/>
                </a:solidFill>
                <a:latin typeface="Arial"/>
              </a:rPr>
              <a:t>мальными затрат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7" descr="D:\Семейная\Ирина\Анимашки\плавание gif"/>
          <p:cNvPicPr/>
          <p:nvPr/>
        </p:nvPicPr>
        <p:blipFill>
          <a:blip r:embed="rId2"/>
          <a:stretch/>
        </p:blipFill>
        <p:spPr>
          <a:xfrm>
            <a:off x="1000080" y="4429080"/>
            <a:ext cx="1967040" cy="14288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0" y="214200"/>
            <a:ext cx="885816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Наконец, последнее: не купайтесь подолгу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Какой бы теплой ни казалась вода, переохладиться и заболеть – проще простого. Как только вы начали покрываться “гусиной кожей”, а зубы стали отбивать чечетку, немедленно выходите из воды. После этого вытри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сь насухо и вытрясит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ду из ушей.   Хорош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грейтесь, поиграй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мяч, побегайте и тольк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том идите купаться сно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Рисунок 97" descr="http://www.mambulus.ru/card/92/92_62.jpg"/>
          <p:cNvPicPr/>
          <p:nvPr/>
        </p:nvPicPr>
        <p:blipFill>
          <a:blip r:embed="rId1"/>
          <a:stretch/>
        </p:blipFill>
        <p:spPr>
          <a:xfrm>
            <a:off x="5857920" y="3286080"/>
            <a:ext cx="3071880" cy="32860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ВЫВОД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213840" y="1000080"/>
            <a:ext cx="8572680" cy="50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блюдая простые меры предосто-рожности и прислушиваясь к советам специалистов, вы обезопасите себя от несчастных случаев на вод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9" descr="D:\Семейная\Ирина\Анимашки\прав купан 7"/>
          <p:cNvPicPr/>
          <p:nvPr/>
        </p:nvPicPr>
        <p:blipFill>
          <a:blip r:embed="rId1"/>
          <a:stretch/>
        </p:blipFill>
        <p:spPr>
          <a:xfrm>
            <a:off x="4357800" y="3214800"/>
            <a:ext cx="4638600" cy="29289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D:\Семейная\Ирина\Анимашки\прав купан 6"/>
          <p:cNvPicPr/>
          <p:nvPr/>
        </p:nvPicPr>
        <p:blipFill>
          <a:blip r:embed="rId2"/>
          <a:stretch/>
        </p:blipFill>
        <p:spPr>
          <a:xfrm>
            <a:off x="214200" y="3214800"/>
            <a:ext cx="4000680" cy="2928960"/>
          </a:xfrm>
          <a:prstGeom prst="rect">
            <a:avLst/>
          </a:prstGeom>
          <a:ln w="0">
            <a:noFill/>
          </a:ln>
        </p:spPr>
      </p:pic>
      <p:sp>
        <p:nvSpPr>
          <p:cNvPr id="251" name="Содержимое 2"/>
          <p:cNvSpPr/>
          <p:nvPr/>
        </p:nvSpPr>
        <p:spPr>
          <a:xfrm>
            <a:off x="214200" y="5214960"/>
            <a:ext cx="4000680" cy="1500120"/>
          </a:xfrm>
          <a:prstGeom prst="rect">
            <a:avLst/>
          </a:prstGeom>
          <a:solidFill>
            <a:srgbClr val="09b1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54a"/>
                </a:solidFill>
                <a:latin typeface="Arial"/>
              </a:rPr>
              <a:t>Не входите в воду разгорячёнными, лучше выждать какое-то врем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Содержимое 2"/>
          <p:cNvSpPr/>
          <p:nvPr/>
        </p:nvSpPr>
        <p:spPr>
          <a:xfrm>
            <a:off x="4357800" y="5429160"/>
            <a:ext cx="4643280" cy="1285920"/>
          </a:xfrm>
          <a:prstGeom prst="rect">
            <a:avLst/>
          </a:prstGeom>
          <a:solidFill>
            <a:srgbClr val="09b1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54a"/>
                </a:solidFill>
                <a:latin typeface="Arial"/>
              </a:rPr>
              <a:t>Будьте осторожны в вод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54a"/>
                </a:solidFill>
                <a:latin typeface="Arial"/>
              </a:rPr>
              <a:t>Не переоценивайте сво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54a"/>
                </a:solidFill>
                <a:latin typeface="Arial"/>
              </a:rPr>
              <a:t>силы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Использованные источники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00040" y="9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www.cheladmin.ru/content/525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biogames.ru/p21aa1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onegid.com/2009/05/03/page/2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sunhome.ru/cards/1729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animo2.ucoz.ru/photo/mir_animashek_letnego_nastroenija/otdykh_na_more_puteshestvija/animacija_more_7/44-0-21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4" descr="D:\Семейная\Ирина\Анимашки\дельфин .gif"/>
          <p:cNvPicPr/>
          <p:nvPr/>
        </p:nvPicPr>
        <p:blipFill>
          <a:blip r:embed="rId2"/>
          <a:stretch/>
        </p:blipFill>
        <p:spPr>
          <a:xfrm>
            <a:off x="285840" y="5286240"/>
            <a:ext cx="5724360" cy="5335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D:\Семейная\Ирина\Анимашки\дельфин .gif"/>
          <p:cNvPicPr/>
          <p:nvPr/>
        </p:nvPicPr>
        <p:blipFill>
          <a:blip r:embed="rId3"/>
          <a:stretch/>
        </p:blipFill>
        <p:spPr>
          <a:xfrm flipH="1">
            <a:off x="1357200" y="5929200"/>
            <a:ext cx="5724720" cy="5335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7" descr="D:\Семейная\Ирина\Анимашки\пляж 4.gif"/>
          <p:cNvPicPr/>
          <p:nvPr/>
        </p:nvPicPr>
        <p:blipFill>
          <a:blip r:embed="rId4"/>
          <a:stretch/>
        </p:blipFill>
        <p:spPr>
          <a:xfrm>
            <a:off x="7215120" y="4572000"/>
            <a:ext cx="1928880" cy="15717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4000"/>
                            </p:stCondLst>
                            <p:childTnLst>
                              <p:par>
                                <p:cTn id="3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6000"/>
                            </p:stCondLst>
                            <p:childTnLst>
                              <p:par>
                                <p:cTn id="3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8000"/>
                            </p:stCondLst>
                            <p:childTnLst>
                              <p:par>
                                <p:cTn id="3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56760" y="571320"/>
            <a:ext cx="4071960" cy="28573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c0c0c0"/>
                </a:solidFill>
                <a:latin typeface="Arial"/>
              </a:rPr>
              <a:t>Топчий </a:t>
            </a:r>
            <a:br>
              <a:rPr sz="3600"/>
            </a:br>
            <a:r>
              <a:rPr b="1" lang="ru-RU" sz="3600" spc="-1" strike="noStrike">
                <a:solidFill>
                  <a:srgbClr val="c0c0c0"/>
                </a:solidFill>
                <a:latin typeface="Arial"/>
              </a:rPr>
              <a:t>Ирина Викторовна</a:t>
            </a:r>
            <a:endParaRPr b="0" lang="en-US" sz="36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56760" y="4214520"/>
            <a:ext cx="4429080" cy="23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итель высшей категори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итель-методи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порожской гимназии № 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"/>
          <a:srcRect l="2633" t="1533" r="0" b="1533"/>
          <a:stretch/>
        </p:blipFill>
        <p:spPr>
          <a:xfrm>
            <a:off x="5572080" y="1643040"/>
            <a:ext cx="2857680" cy="40719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D:\Семейная\Ирина\Анимашки\дельфин gif"/>
          <p:cNvPicPr/>
          <p:nvPr/>
        </p:nvPicPr>
        <p:blipFill>
          <a:blip r:embed="rId2"/>
          <a:stretch/>
        </p:blipFill>
        <p:spPr>
          <a:xfrm>
            <a:off x="1285920" y="500040"/>
            <a:ext cx="961920" cy="9525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4" descr="D:\Семейная\Ирина\Анимашки\дельфин gif"/>
          <p:cNvPicPr/>
          <p:nvPr/>
        </p:nvPicPr>
        <p:blipFill>
          <a:blip r:embed="rId3"/>
          <a:stretch/>
        </p:blipFill>
        <p:spPr>
          <a:xfrm>
            <a:off x="2000160" y="500040"/>
            <a:ext cx="962280" cy="9525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3" descr="D:\Семейная\Ирина\Анимашки\дельфин gif"/>
          <p:cNvPicPr/>
          <p:nvPr/>
        </p:nvPicPr>
        <p:blipFill>
          <a:blip r:embed="rId4"/>
          <a:stretch/>
        </p:blipFill>
        <p:spPr>
          <a:xfrm>
            <a:off x="500040" y="500040"/>
            <a:ext cx="961920" cy="9525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D:\Семейная\Ирина\Анимашки\дельфин gif"/>
          <p:cNvPicPr/>
          <p:nvPr/>
        </p:nvPicPr>
        <p:blipFill>
          <a:blip r:embed="rId5"/>
          <a:stretch/>
        </p:blipFill>
        <p:spPr>
          <a:xfrm>
            <a:off x="2714760" y="500040"/>
            <a:ext cx="961920" cy="9525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D:\Семейная\Ирина\Анимашки\дельфин gif"/>
          <p:cNvPicPr/>
          <p:nvPr/>
        </p:nvPicPr>
        <p:blipFill>
          <a:blip r:embed="rId6"/>
          <a:stretch/>
        </p:blipFill>
        <p:spPr>
          <a:xfrm>
            <a:off x="3429000" y="500040"/>
            <a:ext cx="961920" cy="9525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4100"/>
                            </p:stCondLst>
                            <p:childTnLst>
                              <p:par>
                                <p:cTn id="3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850"/>
                            </p:stCondLst>
                            <p:childTnLst>
                              <p:par>
                                <p:cTn id="36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Цель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здать методические материалы, объясняющие правила поведения на вод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Рисунок 79" descr="http://www.mambulus.ru/card/92/92_55.jpg"/>
          <p:cNvPicPr/>
          <p:nvPr/>
        </p:nvPicPr>
        <p:blipFill>
          <a:blip r:embed="rId1"/>
          <a:stretch/>
        </p:blipFill>
        <p:spPr>
          <a:xfrm>
            <a:off x="4572000" y="285768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8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142560" y="428760"/>
            <a:ext cx="864396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за летний отдых без купания? Тоска, да и только. Особенно когда солнышко припекает, а прохладная вода пруда или речки, озера или моря так и манит, так и приглашает окунутьс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Рисунок 82" descr="http://www.mambulus.ru/card/92/92_54.jpg"/>
          <p:cNvPicPr/>
          <p:nvPr/>
        </p:nvPicPr>
        <p:blipFill>
          <a:blip r:embed="rId1"/>
          <a:stretch/>
        </p:blipFill>
        <p:spPr>
          <a:xfrm>
            <a:off x="1928880" y="3143160"/>
            <a:ext cx="5715000" cy="34419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285480" y="571680"/>
            <a:ext cx="8643960" cy="57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кунуться и поплавать – это хорошо, даже полезно. А еще лучше купаться с комфортом. То есть с удобствами. Думаете, я посоветую купаться только в бассейне или джакузи? Вовсе нет! Но мелочи (а на самом деле – очень даже крупности), о которых вы не подумали могут испортить все удовольстви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ие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 вот какие!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5" descr="D:\Семейная\Ирина\Анимашки\купание .gif"/>
          <p:cNvPicPr/>
          <p:nvPr/>
        </p:nvPicPr>
        <p:blipFill>
          <a:blip r:embed="rId1"/>
          <a:stretch/>
        </p:blipFill>
        <p:spPr>
          <a:xfrm>
            <a:off x="5929200" y="4929120"/>
            <a:ext cx="2000520" cy="13575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285840" y="214200"/>
            <a:ext cx="850104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режде всего спросите у взрослых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 стоит ли вообще купаться в этом озере (реке, пруду) – достаточно ли чистая там вода. А то еще подхватите какую-нибудь инфекцию и будете лечиться все оставшееся лето.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Рисунок 115" descr="http://www.mambulus.ru/card/92/92_59.jpg"/>
          <p:cNvPicPr/>
          <p:nvPr/>
        </p:nvPicPr>
        <p:blipFill>
          <a:blip r:embed="rId1"/>
          <a:stretch/>
        </p:blipFill>
        <p:spPr>
          <a:xfrm>
            <a:off x="4429080" y="3000240"/>
            <a:ext cx="4222800" cy="35244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142920" y="356760"/>
            <a:ext cx="878688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Никогда не купайтесь в одиночку в незнакомом месте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Впрочем, в знакомом тоже. И никогда не заплывайте  далеко от берега – только с друзьями, которые плавают не хуже вас. Мало ли что... Да и скучно одному, правда? А вообще запомните, что безопаснее всего купаться в зоне, огороженной буйками или поплавками. Поверьте, их не просто так устанавливают.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6" descr="D:\Семейная\Ирина\Анимашки\плавание 3gif"/>
          <p:cNvPicPr/>
          <p:nvPr/>
        </p:nvPicPr>
        <p:blipFill>
          <a:blip r:embed="rId1"/>
          <a:stretch/>
        </p:blipFill>
        <p:spPr>
          <a:xfrm>
            <a:off x="5857920" y="5572080"/>
            <a:ext cx="2762280" cy="6764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285840" y="356760"/>
            <a:ext cx="840096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В холодную воду заходите медленно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особенно если это первое ваше купание в этом сезоне. Иначе может свести ногу. Или голова закружится.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4" descr="D:\Семейная\Ирина\Анимашки\пляж 1.gif"/>
          <p:cNvPicPr/>
          <p:nvPr/>
        </p:nvPicPr>
        <p:blipFill>
          <a:blip r:embed="rId1"/>
          <a:stretch/>
        </p:blipFill>
        <p:spPr>
          <a:xfrm>
            <a:off x="1357200" y="4071960"/>
            <a:ext cx="1067040" cy="11430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0" descr="D:\Семейная\Ирина\Анимашки\прав купан 8"/>
          <p:cNvPicPr/>
          <p:nvPr/>
        </p:nvPicPr>
        <p:blipFill>
          <a:blip r:embed="rId2"/>
          <a:stretch/>
        </p:blipFill>
        <p:spPr>
          <a:xfrm>
            <a:off x="3929040" y="3000240"/>
            <a:ext cx="4633920" cy="3119400"/>
          </a:xfrm>
          <a:prstGeom prst="rect">
            <a:avLst/>
          </a:prstGeom>
          <a:ln w="0">
            <a:noFill/>
          </a:ln>
        </p:spPr>
      </p:pic>
      <p:sp>
        <p:nvSpPr>
          <p:cNvPr id="228" name="Содержимое 2"/>
          <p:cNvSpPr/>
          <p:nvPr/>
        </p:nvSpPr>
        <p:spPr>
          <a:xfrm>
            <a:off x="3929040" y="5286240"/>
            <a:ext cx="4643640" cy="1071720"/>
          </a:xfrm>
          <a:prstGeom prst="rect">
            <a:avLst/>
          </a:prstGeom>
          <a:solidFill>
            <a:srgbClr val="6ede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54a"/>
                </a:solidFill>
                <a:latin typeface="Arial"/>
              </a:rPr>
              <a:t>Входите в воду не сразу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54a"/>
                </a:solidFill>
                <a:latin typeface="Arial"/>
              </a:rPr>
              <a:t>а постепенн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285480" y="428400"/>
            <a:ext cx="864396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Не ныряйте и не прыгайте с обрыва в воду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 если вы не уверены, что дно чистое. Сначала поплавайте, а еще лучше – узнайте у местных ребят, нет ли под водой затопленных бревен или арматуры – ржавых    железок,   о    которые   можно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раниться.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2" descr="D:\Семейная\Ирина\Анимашки\волны .gif"/>
          <p:cNvPicPr/>
          <p:nvPr/>
        </p:nvPicPr>
        <p:blipFill>
          <a:blip r:embed="rId1"/>
          <a:stretch/>
        </p:blipFill>
        <p:spPr>
          <a:xfrm>
            <a:off x="357120" y="5643720"/>
            <a:ext cx="1714680" cy="9331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D:\Семейная\Ирина\Анимашки\волны .gif"/>
          <p:cNvPicPr/>
          <p:nvPr/>
        </p:nvPicPr>
        <p:blipFill>
          <a:blip r:embed="rId2"/>
          <a:stretch/>
        </p:blipFill>
        <p:spPr>
          <a:xfrm>
            <a:off x="2071800" y="5643720"/>
            <a:ext cx="1714320" cy="9331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D:\Семейная\Ирина\Анимашки\волны .gif"/>
          <p:cNvPicPr/>
          <p:nvPr/>
        </p:nvPicPr>
        <p:blipFill>
          <a:blip r:embed="rId3"/>
          <a:stretch/>
        </p:blipFill>
        <p:spPr>
          <a:xfrm>
            <a:off x="3786120" y="5643720"/>
            <a:ext cx="1714680" cy="9331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1" descr="D:\Семейная\Ирина\Анимашки\прав купан 9"/>
          <p:cNvPicPr/>
          <p:nvPr/>
        </p:nvPicPr>
        <p:blipFill>
          <a:blip r:embed="rId4"/>
          <a:stretch/>
        </p:blipFill>
        <p:spPr>
          <a:xfrm>
            <a:off x="4429080" y="3429000"/>
            <a:ext cx="4367160" cy="2786040"/>
          </a:xfrm>
          <a:prstGeom prst="rect">
            <a:avLst/>
          </a:prstGeom>
          <a:ln w="0">
            <a:noFill/>
          </a:ln>
        </p:spPr>
      </p:pic>
      <p:sp>
        <p:nvSpPr>
          <p:cNvPr id="234" name="Содержимое 2"/>
          <p:cNvSpPr/>
          <p:nvPr/>
        </p:nvSpPr>
        <p:spPr>
          <a:xfrm>
            <a:off x="4429080" y="5643720"/>
            <a:ext cx="4429080" cy="928440"/>
          </a:xfrm>
          <a:prstGeom prst="rect">
            <a:avLst/>
          </a:prstGeom>
          <a:solidFill>
            <a:srgbClr val="6ede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254a"/>
                </a:solidFill>
                <a:latin typeface="Arial"/>
              </a:rPr>
              <a:t>Перед купанием   проверьте д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2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-360" y="356760"/>
            <a:ext cx="89298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Не купайтесь в реке, по которой плавают катера или суда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Или, по крайней мере, держитесь от них подальше. Волна от катера может накрыть вас с головой –весьма сомнительное и небезопасное удовольствие.    А   есл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 подплывёте слишк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лизко    к   судну,   вас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жет затянут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д винты. 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Рисунок 91" descr="http://www.mambulus.ru/card/92/92_64.jpg"/>
          <p:cNvPicPr/>
          <p:nvPr/>
        </p:nvPicPr>
        <p:blipFill>
          <a:blip r:embed="rId1"/>
          <a:stretch/>
        </p:blipFill>
        <p:spPr>
          <a:xfrm>
            <a:off x="5786280" y="2928960"/>
            <a:ext cx="2806920" cy="38098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D:\Семейная\Ирина\Анимашки\скутер .gif"/>
          <p:cNvPicPr/>
          <p:nvPr/>
        </p:nvPicPr>
        <p:blipFill>
          <a:blip r:embed="rId2"/>
          <a:stretch/>
        </p:blipFill>
        <p:spPr>
          <a:xfrm>
            <a:off x="642960" y="5715000"/>
            <a:ext cx="1542960" cy="8287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17:00:27Z</dcterms:created>
  <dc:creator>Tanya</dc:creator>
  <dc:description/>
  <dc:language>en-US</dc:language>
  <cp:lastModifiedBy>Denis</cp:lastModifiedBy>
  <dcterms:modified xsi:type="dcterms:W3CDTF">2011-02-24T14:37:20Z</dcterms:modified>
  <cp:revision>35</cp:revision>
  <dc:subject/>
  <dc:title>Презентация на тему:  "Энергетические напитки" ученицы 10-Б класса Фомицкой Татьяны</dc:title>
</cp:coreProperties>
</file>