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24.gif" ContentType="image/gif"/>
  <Override PartName="/ppt/media/image23.jpeg" ContentType="image/jpeg"/>
  <Override PartName="/ppt/media/image20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AA8-C7C9-4B3D-BBF5-CF08551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E48-7464-4216-82DA-E8F85F46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BBF-EB52-4736-B0B3-C7465C32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29A-4312-47F7-BCCA-2FA0F4BF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0B39-AAF0-4389-AB4D-55F3FEF0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374-6563-4B84-BAA0-29E43E1F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6F9-EAF3-4702-A999-6D5E3F51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54B2-E8DA-4C7A-8785-0841AC47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BD13-FF07-42C5-801B-96BB56AC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DF2C-FCEA-4657-A28E-89FE4C7B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E707-7A43-4F17-AC3A-BE4F06C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FBF-B3C5-44C6-92C4-4A59B69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9604-9C12-4270-BE59-6D84DB11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22EE-CF26-4FAA-B117-6431FB4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DD8E-B9A2-4ECB-AEB0-D081C9C7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8396-3E99-45A4-AE20-64426E3F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BD11-3A53-4B26-9241-702596B8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03B-7EEA-463A-970D-F9D46B39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B09-2C21-4A67-BE9E-A2911AD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44F-6A49-4A17-AB24-43D2ABBA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F2F-61F0-4141-96D1-5D622E55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29C-45CB-434E-B28C-2CA9528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B72-7BD8-4DD8-8D5D-B576DFB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F33-B316-4E6B-91F5-818F0F2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856-7F70-4E10-AC24-D122C43BAB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85EE-2E54-4B00-ADA9-6AC562436F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admin.ru/content/5254" TargetMode="Externa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5760" y="1571760"/>
            <a:ext cx="498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равила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оведения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на воде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001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чий Ирин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основ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0" descr="http://www.mambulus.ru/card/92/92_61.jpg"/>
          <p:cNvPicPr/>
          <p:nvPr/>
        </p:nvPicPr>
        <p:blipFill>
          <a:blip r:embed="rId1"/>
          <a:stretch/>
        </p:blipFill>
        <p:spPr>
          <a:xfrm>
            <a:off x="225360" y="225360"/>
            <a:ext cx="37800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ы плохо плаваете, держитесь поближе к берег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Так, чтобы в любой момент можно было коснуться ногами дна. И не поддавайтесь на уговоры друзей, плавающих лучше вас. Им – забава,  а  вы  рискуете наглотаться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учитесь плавать? 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гда  не заходите глубж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 поя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94" descr="http://www.mambulus.ru/card/92/92_63.jpg"/>
          <p:cNvPicPr/>
          <p:nvPr/>
        </p:nvPicPr>
        <p:blipFill>
          <a:blip r:embed="rId1"/>
          <a:stretch/>
        </p:blipFill>
        <p:spPr>
          <a:xfrm>
            <a:off x="6143760" y="3357720"/>
            <a:ext cx="2214360" cy="3381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:\Семейная\Ирина\Анимашки\плавание 1 gif"/>
          <p:cNvPicPr/>
          <p:nvPr/>
        </p:nvPicPr>
        <p:blipFill>
          <a:blip r:embed="rId2"/>
          <a:stretch/>
        </p:blipFill>
        <p:spPr>
          <a:xfrm>
            <a:off x="1000080" y="5143680"/>
            <a:ext cx="21430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920" y="356760"/>
            <a:ext cx="8586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стали плавать? – отдохни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т перенапряжения могут начаться судороги. И не старайтесь установить рекорд по плаванию. Мирового рекорда вам все равно не побить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D:\Семейная\Ирина\Анимашки\прав купан 5"/>
          <p:cNvPicPr/>
          <p:nvPr/>
        </p:nvPicPr>
        <p:blipFill>
          <a:blip r:embed="rId1"/>
          <a:stretch/>
        </p:blipFill>
        <p:spPr>
          <a:xfrm>
            <a:off x="4000680" y="321480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Содержимое 2"/>
          <p:cNvSpPr/>
          <p:nvPr/>
        </p:nvSpPr>
        <p:spPr>
          <a:xfrm>
            <a:off x="4000680" y="4500720"/>
            <a:ext cx="4429080" cy="2214360"/>
          </a:xfrm>
          <a:prstGeom prst="rect">
            <a:avLst/>
          </a:prstGeom>
          <a:solidFill>
            <a:srgbClr val="64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Если в воде вам стало плох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охраняйте  спокойствие.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оложении  на  спине  вы  д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лывёте  до  берега   с  мин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маль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D:\Семейная\Ирина\Анимашки\плавание gif"/>
          <p:cNvPicPr/>
          <p:nvPr/>
        </p:nvPicPr>
        <p:blipFill>
          <a:blip r:embed="rId2"/>
          <a:stretch/>
        </p:blipFill>
        <p:spPr>
          <a:xfrm>
            <a:off x="1000080" y="4429080"/>
            <a:ext cx="1967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конец, последнее: не купайтесь подолгу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ой бы теплой ни казалась вода, переохладиться и заболеть – проще простого. Как только вы начали покрываться “гусиной кожей”, а зубы стали отбивать чечетку, немедленно выходите из воды. После этого вытр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ь насухо и вытряс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из ушей.  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ейтесь, поигр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яч, побегайте и т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 идите купаться с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97" descr="http://www.mambulus.ru/card/92/92_62.jpg"/>
          <p:cNvPicPr/>
          <p:nvPr/>
        </p:nvPicPr>
        <p:blipFill>
          <a:blip r:embed="rId1"/>
          <a:stretch/>
        </p:blipFill>
        <p:spPr>
          <a:xfrm>
            <a:off x="5857920" y="328608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000080"/>
            <a:ext cx="857268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я простые меры предосто-рожности и прислушиваясь к советам специалистов, вы обезопасите себя от несчастных случаев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4357800" y="3214800"/>
            <a:ext cx="4638600" cy="29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:\Семейная\Ирина\Анимашки\прав купан 6"/>
          <p:cNvPicPr/>
          <p:nvPr/>
        </p:nvPicPr>
        <p:blipFill>
          <a:blip r:embed="rId2"/>
          <a:stretch/>
        </p:blipFill>
        <p:spPr>
          <a:xfrm>
            <a:off x="214200" y="3214800"/>
            <a:ext cx="40006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214200" y="5214960"/>
            <a:ext cx="4000680" cy="15001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входите в воду разгорячёнными, лучше выждать какое-то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4357800" y="5429160"/>
            <a:ext cx="4643280" cy="12859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Будьте осторожны в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переоценивайте сво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ил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heladmin.ru/content/52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ames.ru/p21aa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onegid.com/2009/05/03/page/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unhome.ru/cards/172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animo2.ucoz.ru/photo/mir_animashek_letnego_nastroenija/otdykh_na_more_puteshestvija/animacija_more_7/44-0-2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D:\Семейная\Ирина\Анимашки\дельфин .gif"/>
          <p:cNvPicPr/>
          <p:nvPr/>
        </p:nvPicPr>
        <p:blipFill>
          <a:blip r:embed="rId2"/>
          <a:stretch/>
        </p:blipFill>
        <p:spPr>
          <a:xfrm>
            <a:off x="285840" y="5286240"/>
            <a:ext cx="5724360" cy="533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:\Семейная\Ирина\Анимашки\дельфин .gif"/>
          <p:cNvPicPr/>
          <p:nvPr/>
        </p:nvPicPr>
        <p:blipFill>
          <a:blip r:embed="rId3"/>
          <a:stretch/>
        </p:blipFill>
        <p:spPr>
          <a:xfrm flipH="1">
            <a:off x="135720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D:\Семейная\Ирина\Анимашки\пляж 4.gif"/>
          <p:cNvPicPr/>
          <p:nvPr/>
        </p:nvPicPr>
        <p:blipFill>
          <a:blip r:embed="rId4"/>
          <a:stretch/>
        </p:blipFill>
        <p:spPr>
          <a:xfrm>
            <a:off x="7215120" y="4572000"/>
            <a:ext cx="19288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Топчий </a:t>
            </a:r>
            <a:br>
              <a:rPr sz="3600"/>
            </a:b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Ирина Викторовна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4214520"/>
            <a:ext cx="442908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-метод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572080" y="16430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D:\Семейная\Ирина\Анимашки\дельфин gif"/>
          <p:cNvPicPr/>
          <p:nvPr/>
        </p:nvPicPr>
        <p:blipFill>
          <a:blip r:embed="rId2"/>
          <a:stretch/>
        </p:blipFill>
        <p:spPr>
          <a:xfrm>
            <a:off x="128592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D:\Семейная\Ирина\Анимашки\дельфин gif"/>
          <p:cNvPicPr/>
          <p:nvPr/>
        </p:nvPicPr>
        <p:blipFill>
          <a:blip r:embed="rId3"/>
          <a:stretch/>
        </p:blipFill>
        <p:spPr>
          <a:xfrm>
            <a:off x="2000160" y="5000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D:\Семейная\Ирина\Анимашки\дельфин gif"/>
          <p:cNvPicPr/>
          <p:nvPr/>
        </p:nvPicPr>
        <p:blipFill>
          <a:blip r:embed="rId4"/>
          <a:stretch/>
        </p:blipFill>
        <p:spPr>
          <a:xfrm>
            <a:off x="50004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:\Семейная\Ирина\Анимашки\дельфин gif"/>
          <p:cNvPicPr/>
          <p:nvPr/>
        </p:nvPicPr>
        <p:blipFill>
          <a:blip r:embed="rId5"/>
          <a:stretch/>
        </p:blipFill>
        <p:spPr>
          <a:xfrm>
            <a:off x="271476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Семейная\Ирина\Анимашки\дельфин gif"/>
          <p:cNvPicPr/>
          <p:nvPr/>
        </p:nvPicPr>
        <p:blipFill>
          <a:blip r:embed="rId6"/>
          <a:stretch/>
        </p:blipFill>
        <p:spPr>
          <a:xfrm>
            <a:off x="3429000" y="500040"/>
            <a:ext cx="9619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85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методические материалы, объясняющие правила поведения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9" descr="http://www.mambulus.ru/card/92/92_55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256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летний отдых без купания? Тоска, да и только. Особенно когда солнышко припекает, а прохладная вода пруда или речки, озера или моря так и манит, так и приглашает окуну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82" descr="http://www.mambulus.ru/card/92/92_54.jpg"/>
          <p:cNvPicPr/>
          <p:nvPr/>
        </p:nvPicPr>
        <p:blipFill>
          <a:blip r:embed="rId1"/>
          <a:stretch/>
        </p:blipFill>
        <p:spPr>
          <a:xfrm>
            <a:off x="1928880" y="3143160"/>
            <a:ext cx="5715000" cy="3441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480" y="571680"/>
            <a:ext cx="864396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унуться и поплавать – это хорошо, даже полезно. А еще лучше купаться с комфортом. То есть с удобствами. Думаете, я посоветую купаться только в бассейне или джакузи? Вовсе нет! Но мелочи (а на самом деле – очень даже крупности), о которых вы не подумали могут испортить все удовольств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от какие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D:\Семейная\Ирина\Анимашки\купание .gif"/>
          <p:cNvPicPr/>
          <p:nvPr/>
        </p:nvPicPr>
        <p:blipFill>
          <a:blip r:embed="rId1"/>
          <a:stretch/>
        </p:blipFill>
        <p:spPr>
          <a:xfrm>
            <a:off x="5929200" y="4929120"/>
            <a:ext cx="200052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жде всего спросите у взросл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стоит ли вообще купаться в этом озере (реке, пруду) – достаточно ли чистая там вода. А то еще подхватите какую-нибудь инфекцию и будете лечиться все оставшееся лето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15" descr="http://www.mambulus.ru/card/92/92_59.jpg"/>
          <p:cNvPicPr/>
          <p:nvPr/>
        </p:nvPicPr>
        <p:blipFill>
          <a:blip r:embed="rId1"/>
          <a:stretch/>
        </p:blipFill>
        <p:spPr>
          <a:xfrm>
            <a:off x="4429080" y="3000240"/>
            <a:ext cx="422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292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гда не купайтесь в одиночку в незнакомом мест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прочем, в знакомом тоже. И никогда не заплывайте  далеко от берега – только с друзьями, которые плавают не хуже вас. Мало ли что... Да и скучно одному, правда? А вообще запомните, что безопаснее всего купаться в зоне, огороженной буйками или поплавками. Поверьте, их не просто так устанавливают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D:\Семейная\Ирина\Анимашки\плавание 3gif"/>
          <p:cNvPicPr/>
          <p:nvPr/>
        </p:nvPicPr>
        <p:blipFill>
          <a:blip r:embed="rId1"/>
          <a:stretch/>
        </p:blipFill>
        <p:spPr>
          <a:xfrm>
            <a:off x="5857920" y="5572080"/>
            <a:ext cx="276228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холодную воду заходите медл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собенно если это первое ваше купание в этом сезоне. Иначе может свести ногу. Или голова закружитс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1357200" y="407196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D:\Семейная\Ирина\Анимашки\прав купан 8"/>
          <p:cNvPicPr/>
          <p:nvPr/>
        </p:nvPicPr>
        <p:blipFill>
          <a:blip r:embed="rId2"/>
          <a:stretch/>
        </p:blipFill>
        <p:spPr>
          <a:xfrm>
            <a:off x="3929040" y="3000240"/>
            <a:ext cx="4633920" cy="3119400"/>
          </a:xfrm>
          <a:prstGeom prst="rect">
            <a:avLst/>
          </a:prstGeom>
          <a:ln w="0">
            <a:noFill/>
          </a:ln>
        </p:spPr>
      </p:pic>
      <p:sp>
        <p:nvSpPr>
          <p:cNvPr id="228" name="Содержимое 2"/>
          <p:cNvSpPr/>
          <p:nvPr/>
        </p:nvSpPr>
        <p:spPr>
          <a:xfrm>
            <a:off x="3929040" y="5286240"/>
            <a:ext cx="4643640" cy="107172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Входите в воду не сра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а постеп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480" y="428400"/>
            <a:ext cx="8643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ныряйте и не прыгайте с обрыва в в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если вы не уверены, что дно чистое. Сначала поплавайте, а еще лучше – узнайте у местных ребят, нет ли под водой затопленных бревен или арматуры – ржавых    железок,   о    которые   мож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аниться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D:\Семейная\Ирина\Анимашки\волны .gif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D:\Семейная\Ирина\Анимашки\волны .gif"/>
          <p:cNvPicPr/>
          <p:nvPr/>
        </p:nvPicPr>
        <p:blipFill>
          <a:blip r:embed="rId2"/>
          <a:stretch/>
        </p:blipFill>
        <p:spPr>
          <a:xfrm>
            <a:off x="2071800" y="5643720"/>
            <a:ext cx="171432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Семейная\Ирина\Анимашки\волны .gif"/>
          <p:cNvPicPr/>
          <p:nvPr/>
        </p:nvPicPr>
        <p:blipFill>
          <a:blip r:embed="rId3"/>
          <a:stretch/>
        </p:blipFill>
        <p:spPr>
          <a:xfrm>
            <a:off x="3786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:\Семейная\Ирина\Анимашки\прав купан 9"/>
          <p:cNvPicPr/>
          <p:nvPr/>
        </p:nvPicPr>
        <p:blipFill>
          <a:blip r:embed="rId4"/>
          <a:stretch/>
        </p:blipFill>
        <p:spPr>
          <a:xfrm>
            <a:off x="4429080" y="342900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234" name="Содержимое 2"/>
          <p:cNvSpPr/>
          <p:nvPr/>
        </p:nvSpPr>
        <p:spPr>
          <a:xfrm>
            <a:off x="4429080" y="5643720"/>
            <a:ext cx="4429080" cy="92844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Перед купанием   проверьте 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356760"/>
            <a:ext cx="8929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купайтесь в реке, по которой плавают катера или су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ли, по крайней мере, держитесь от них подальше. Волна от катера может накрыть вас с головой –весьма сомнительное и небезопасное удовольствие.    А  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подплывёте слиш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зко    к   судну,  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затя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винты. 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91" descr="http://www.mambulus.ru/card/92/92_64.jpg"/>
          <p:cNvPicPr/>
          <p:nvPr/>
        </p:nvPicPr>
        <p:blipFill>
          <a:blip r:embed="rId1"/>
          <a:stretch/>
        </p:blipFill>
        <p:spPr>
          <a:xfrm>
            <a:off x="5786280" y="2928960"/>
            <a:ext cx="280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:\Семейная\Ирина\Анимашки\скутер .gif"/>
          <p:cNvPicPr/>
          <p:nvPr/>
        </p:nvPicPr>
        <p:blipFill>
          <a:blip r:embed="rId2"/>
          <a:stretch/>
        </p:blipFill>
        <p:spPr>
          <a:xfrm>
            <a:off x="642960" y="5715000"/>
            <a:ext cx="1542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00:27Z</dcterms:created>
  <dc:creator>Tanya</dc:creator>
  <dc:description/>
  <dc:language>en-US</dc:language>
  <cp:lastModifiedBy>Denis</cp:lastModifiedBy>
  <dcterms:modified xsi:type="dcterms:W3CDTF">2011-02-24T14:37:20Z</dcterms:modified>
  <cp:revision>35</cp:revision>
  <dc:subject/>
  <dc:title>Презентация на тему:  "Энергетические напитки" ученицы 10-Б класса Фомицкой Татьяны</dc:title>
</cp:coreProperties>
</file>