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3C8C-8F47-4377-A30E-FD16B463A3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8C3-C90C-43AE-A0B3-D43CB5B61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DF3-1BB5-4524-B0F0-1E25BFF6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2FB-10B3-43DA-B7C9-B8B6DCB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DF5-9351-4F65-AAA2-2B04869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988-88F3-48A4-A914-02D67875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8F07-4A17-4261-8659-5AED6B25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A6E-44A8-4D5F-B1B0-361703BF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F65-FD3A-47FF-9937-88EFB99C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11A1-4D56-4262-808C-19D9DDA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298E-0FCA-4A22-BA32-A35024CB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113-E465-4BD8-A3A2-2EFC57B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64CC-6F00-45F3-AF48-F1DBF56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50E-8C69-4354-B16C-7B58618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7BF2-94DB-4CA2-B8D5-9F0FB3A7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84B-D083-4502-89A1-282B371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ECA-0375-47D5-9316-FC699F5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DF8-2B7F-42B5-B04C-2F4468B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113-F4F7-46D1-8952-0BEE7799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63B-77D8-4535-B27F-17DC1BF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B78-8895-4CBF-B8B5-858820A5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4ED-20A6-457C-B0A7-1C87BEC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76B-0CE8-4D33-93D1-15C19D8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D97-E06F-4349-B451-5B47134E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AD9-400E-4F1F-9C37-13D3872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C72-2FD7-4222-A78B-D29C54D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D7B9-9128-4163-8207-DDB1CB935C2F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48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0F8-8152-40DC-99DD-2DE4A6EF20DD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Николай</cp:lastModifiedBy>
  <dcterms:modified xsi:type="dcterms:W3CDTF">2013-04-25T12:00:32Z</dcterms:modified>
  <cp:revision>16</cp:revision>
  <dc:subject/>
  <dc:title>Слайд 1</dc:title>
</cp:coreProperties>
</file>