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986963" cy="71564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036800" y="685440"/>
            <a:ext cx="47844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5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BBF0-5992-49F2-9480-67ED19345B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036800" y="685800"/>
            <a:ext cx="47844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D8DB-934E-4840-A20A-7E4A75C6AA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88F3-0AD2-4A7F-A0AA-A3AADF47D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848844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98280" y="4139280"/>
            <a:ext cx="848844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6BF7-1B2C-4B52-9F28-63EB9078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4780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98280" y="413928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47800" y="413928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892C-8D68-40CA-A22E-140753174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8560" y="167004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38480" y="167004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98280" y="413928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68560" y="413928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38480" y="413928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DAEE-DF3B-4D53-BB7D-EC95B5EDD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4148-28CA-4EB4-AE58-3AE7F31C4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98280" y="1670040"/>
            <a:ext cx="8488440" cy="47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0BAB5-2822-40D2-9D38-4045C973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848844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0AA5-9A20-4C41-A2E2-BCC0C20A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414216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47800" y="1670040"/>
            <a:ext cx="414216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708D6-6543-4B2D-BACF-82C12739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0F26-EB90-4EEE-BC55-61C5ACEB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98280" y="290520"/>
            <a:ext cx="8488440" cy="55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66E9-1174-4A66-84FF-C59020CC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7800" y="1670040"/>
            <a:ext cx="414216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8280" y="413928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62CE4-4BE5-40DB-941C-5CDDC50C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98280" y="1670040"/>
            <a:ext cx="8488440" cy="47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A06D-AF88-4BC2-A071-3DDAC1DE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414216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4780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47800" y="413928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1331-8582-4D87-8B52-27FD4953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4780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98280" y="4139280"/>
            <a:ext cx="848844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27E65-A819-4453-B930-2C7200F2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848844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98280" y="4139280"/>
            <a:ext cx="848844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D6E2-03EA-4FC4-B690-E8F65A6D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4780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98280" y="413928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347800" y="413928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9291-D6B3-4B1D-9405-31A3508C3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868560" y="167004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738480" y="167004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98280" y="413928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868560" y="413928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738480" y="413928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6A273-0147-4F42-BC82-5DF940D73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848844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D854-DE01-48D6-8D4A-4F7E62C7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414216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47800" y="1670040"/>
            <a:ext cx="414216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A4BC-496E-47DF-B114-22FF60C0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4E0A-CC91-4CED-B9F8-6C93F3EC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98280" y="290520"/>
            <a:ext cx="8488440" cy="55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759C-D570-4991-BDC9-1B557D44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47800" y="1670040"/>
            <a:ext cx="414216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8280" y="413928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D84D-9CDB-4AD2-98B9-6A3C7D90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414216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4780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47800" y="413928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1A79-27FB-4939-978D-BA61C958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4780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8280" y="4139280"/>
            <a:ext cx="848844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C6CC-2EDF-4F1E-9430-F163F3A2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2"/>
          <p:cNvGrpSpPr/>
          <p:nvPr/>
        </p:nvGrpSpPr>
        <p:grpSpPr>
          <a:xfrm>
            <a:off x="0" y="0"/>
            <a:ext cx="9486360" cy="5089320"/>
            <a:chOff x="0" y="0"/>
            <a:chExt cx="9486360" cy="5089320"/>
          </a:xfrm>
        </p:grpSpPr>
        <p:sp>
          <p:nvSpPr>
            <p:cNvPr id="1" name="Прямоуг. 3"/>
            <p:cNvSpPr/>
            <p:nvPr/>
          </p:nvSpPr>
          <p:spPr>
            <a:xfrm>
              <a:off x="0" y="0"/>
              <a:ext cx="665280" cy="50893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48960" bIns="48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Группа 4"/>
            <p:cNvGrpSpPr/>
            <p:nvPr/>
          </p:nvGrpSpPr>
          <p:grpSpPr>
            <a:xfrm>
              <a:off x="415800" y="1479240"/>
              <a:ext cx="9070560" cy="190080"/>
              <a:chOff x="415800" y="1479240"/>
              <a:chExt cx="9070560" cy="190080"/>
            </a:xfrm>
          </p:grpSpPr>
          <p:sp>
            <p:nvSpPr>
              <p:cNvPr id="3" name="Прямоуг. 5"/>
              <p:cNvSpPr/>
              <p:nvPr/>
            </p:nvSpPr>
            <p:spPr>
              <a:xfrm>
                <a:off x="7489440" y="1479240"/>
                <a:ext cx="1996920" cy="1900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7920" rIns="97920" tIns="48960" bIns="48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79560"/>
                    <a:tab algn="l" pos="1959120"/>
                    <a:tab algn="l" pos="2938320"/>
                    <a:tab algn="l" pos="3917880"/>
                    <a:tab algn="l" pos="4897440"/>
                    <a:tab algn="l" pos="5877000"/>
                    <a:tab algn="l" pos="6856560"/>
                    <a:tab algn="l" pos="7835760"/>
                    <a:tab algn="l" pos="8815320"/>
                    <a:tab algn="l" pos="9794880"/>
                    <a:tab algn="l" pos="107744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Линия 6"/>
              <p:cNvSpPr/>
              <p:nvPr/>
            </p:nvSpPr>
            <p:spPr>
              <a:xfrm>
                <a:off x="415800" y="1558800"/>
                <a:ext cx="907056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5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98280" y="1670040"/>
            <a:ext cx="848844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6840" indent="-36684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04560">
              <a:spcBef>
                <a:spcPts val="7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24000" indent="-244440">
              <a:spcBef>
                <a:spcPts val="7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44800">
              <a:spcBef>
                <a:spcPts val="7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03560" indent="-244440">
              <a:spcBef>
                <a:spcPts val="7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03560" indent="-2444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03560" indent="-2444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98640" y="6522840"/>
            <a:ext cx="2163600" cy="477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662280" y="6519600"/>
            <a:ext cx="3245040" cy="477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407000" y="6519600"/>
            <a:ext cx="2079720" cy="477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D02C-9130-4803-8C02-C98568C3C5B3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Линия 12"/>
          <p:cNvSpPr/>
          <p:nvPr/>
        </p:nvSpPr>
        <p:spPr>
          <a:xfrm>
            <a:off x="0" y="5089680"/>
            <a:ext cx="6652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Группа 2"/>
          <p:cNvGrpSpPr/>
          <p:nvPr/>
        </p:nvGrpSpPr>
        <p:grpSpPr>
          <a:xfrm>
            <a:off x="0" y="0"/>
            <a:ext cx="9570240" cy="6201720"/>
            <a:chOff x="0" y="0"/>
            <a:chExt cx="9570240" cy="6201720"/>
          </a:xfrm>
        </p:grpSpPr>
        <p:sp>
          <p:nvSpPr>
            <p:cNvPr id="48" name="Прямоуг. 3"/>
            <p:cNvSpPr/>
            <p:nvPr/>
          </p:nvSpPr>
          <p:spPr>
            <a:xfrm>
              <a:off x="0" y="0"/>
              <a:ext cx="1913760" cy="508896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48960" bIns="48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Группа 4"/>
            <p:cNvGrpSpPr/>
            <p:nvPr/>
          </p:nvGrpSpPr>
          <p:grpSpPr>
            <a:xfrm>
              <a:off x="0" y="3657960"/>
              <a:ext cx="9570240" cy="2543760"/>
              <a:chOff x="0" y="3657960"/>
              <a:chExt cx="9570240" cy="2543760"/>
            </a:xfrm>
          </p:grpSpPr>
          <p:sp>
            <p:nvSpPr>
              <p:cNvPr id="50" name="Прямоуг. 5"/>
              <p:cNvSpPr/>
              <p:nvPr/>
            </p:nvSpPr>
            <p:spPr>
              <a:xfrm>
                <a:off x="1081800" y="3657960"/>
                <a:ext cx="8488440" cy="254376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7920" rIns="97920" tIns="48960" bIns="48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79560"/>
                    <a:tab algn="l" pos="1959120"/>
                    <a:tab algn="l" pos="2938320"/>
                    <a:tab algn="l" pos="3917880"/>
                    <a:tab algn="l" pos="4897440"/>
                    <a:tab algn="l" pos="5877000"/>
                    <a:tab algn="l" pos="6856560"/>
                    <a:tab algn="l" pos="7835760"/>
                    <a:tab algn="l" pos="8815320"/>
                    <a:tab algn="l" pos="9794880"/>
                    <a:tab algn="l" pos="107744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Прямоуг. 6"/>
              <p:cNvSpPr/>
              <p:nvPr/>
            </p:nvSpPr>
            <p:spPr>
              <a:xfrm>
                <a:off x="1133640" y="3896280"/>
                <a:ext cx="8354880" cy="223092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7920" rIns="97920" tIns="48960" bIns="48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79560"/>
                    <a:tab algn="l" pos="1959120"/>
                    <a:tab algn="l" pos="2938320"/>
                    <a:tab algn="l" pos="3917880"/>
                    <a:tab algn="l" pos="4897440"/>
                    <a:tab algn="l" pos="5877000"/>
                    <a:tab algn="l" pos="6856560"/>
                    <a:tab algn="l" pos="7835760"/>
                    <a:tab algn="l" pos="8815320"/>
                    <a:tab algn="l" pos="9794880"/>
                    <a:tab algn="l" pos="107744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Линия 7"/>
              <p:cNvSpPr/>
              <p:nvPr/>
            </p:nvSpPr>
            <p:spPr>
              <a:xfrm>
                <a:off x="0" y="5088960"/>
                <a:ext cx="108180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Группа 8"/>
            <p:cNvGrpSpPr/>
            <p:nvPr/>
          </p:nvGrpSpPr>
          <p:grpSpPr>
            <a:xfrm>
              <a:off x="693360" y="556560"/>
              <a:ext cx="8821440" cy="317160"/>
              <a:chOff x="693360" y="556560"/>
              <a:chExt cx="8821440" cy="317160"/>
            </a:xfrm>
          </p:grpSpPr>
          <p:sp>
            <p:nvSpPr>
              <p:cNvPr id="54" name="Прямоуг. 9"/>
              <p:cNvSpPr/>
              <p:nvPr/>
            </p:nvSpPr>
            <p:spPr>
              <a:xfrm>
                <a:off x="6851520" y="556560"/>
                <a:ext cx="2663280" cy="3171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7920" rIns="97920" tIns="48960" bIns="48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79560"/>
                    <a:tab algn="l" pos="1959120"/>
                    <a:tab algn="l" pos="2938320"/>
                    <a:tab algn="l" pos="3917880"/>
                    <a:tab algn="l" pos="4897440"/>
                    <a:tab algn="l" pos="5877000"/>
                    <a:tab algn="l" pos="6856560"/>
                    <a:tab algn="l" pos="7835760"/>
                    <a:tab algn="l" pos="8815320"/>
                    <a:tab algn="l" pos="9794880"/>
                    <a:tab algn="l" pos="107744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Линия 10"/>
              <p:cNvSpPr/>
              <p:nvPr/>
            </p:nvSpPr>
            <p:spPr>
              <a:xfrm>
                <a:off x="693360" y="714960"/>
                <a:ext cx="882144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5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98280" y="1670040"/>
            <a:ext cx="848844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6840" indent="-36684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04560">
              <a:spcBef>
                <a:spcPts val="7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24000" indent="-244440">
              <a:spcBef>
                <a:spcPts val="7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44800">
              <a:spcBef>
                <a:spcPts val="7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03560" indent="-244440">
              <a:spcBef>
                <a:spcPts val="7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03560" indent="-2444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03560" indent="-2444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96480" y="6522840"/>
            <a:ext cx="2081160" cy="477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664080" y="6519600"/>
            <a:ext cx="3162240" cy="477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7407000" y="6519600"/>
            <a:ext cx="2079720" cy="477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9FD0-537B-4783-AB85-B2F759C28668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Военно-полевые сборы. КПП 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5" name="Содержимое 3" descr="P1010160.JPG"/>
          <p:cNvPicPr/>
          <p:nvPr/>
        </p:nvPicPr>
        <p:blipFill>
          <a:blip r:embed="rId1"/>
          <a:stretch/>
        </p:blipFill>
        <p:spPr>
          <a:xfrm>
            <a:off x="1176480" y="1490760"/>
            <a:ext cx="748980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Неполная разборка и сборка АК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1919160" y="1725480"/>
            <a:ext cx="650412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Действие солдата в бою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4" name="Picture 2" descr="E:\Users\Ринат 1\Pictures\Новая папка\P1010275.JPG"/>
          <p:cNvPicPr/>
          <p:nvPr/>
        </p:nvPicPr>
        <p:blipFill>
          <a:blip r:embed="rId1"/>
          <a:stretch/>
        </p:blipFill>
        <p:spPr>
          <a:xfrm>
            <a:off x="1752480" y="1562040"/>
            <a:ext cx="684072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Выполнение команды «Газы!»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6" name="Picture 2" descr="E:\Users\Ринат 1\Pictures\Новая папка\P1010287.JPG"/>
          <p:cNvPicPr/>
          <p:nvPr/>
        </p:nvPicPr>
        <p:blipFill>
          <a:blip r:embed="rId1"/>
          <a:stretch/>
        </p:blipFill>
        <p:spPr>
          <a:xfrm>
            <a:off x="1393920" y="1490760"/>
            <a:ext cx="698328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Ожидание условного противника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8" name="Picture 2" descr="E:\Users\Ринат 1\Pictures\Новая папка\P1010267.JPG"/>
          <p:cNvPicPr/>
          <p:nvPr/>
        </p:nvPicPr>
        <p:blipFill>
          <a:blip r:embed="rId1"/>
          <a:stretch/>
        </p:blipFill>
        <p:spPr>
          <a:xfrm>
            <a:off x="1536840" y="1417680"/>
            <a:ext cx="682920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Короткий привал после боя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0" name="Picture 2" descr="E:\Users\Ринат 1\Pictures\Новая папка\P1010297.JPG"/>
          <p:cNvPicPr/>
          <p:nvPr/>
        </p:nvPicPr>
        <p:blipFill>
          <a:blip r:embed="rId1"/>
          <a:stretch/>
        </p:blipFill>
        <p:spPr>
          <a:xfrm>
            <a:off x="1393920" y="1417680"/>
            <a:ext cx="748800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Получать грамоты за успехи всегда приятно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2" name="Picture 2" descr="E:\Users\Ринат 1\Pictures\Новая папка\P1010314.JPG"/>
          <p:cNvPicPr/>
          <p:nvPr/>
        </p:nvPicPr>
        <p:blipFill>
          <a:blip r:embed="rId1"/>
          <a:stretch/>
        </p:blipFill>
        <p:spPr>
          <a:xfrm>
            <a:off x="2112840" y="1670040"/>
            <a:ext cx="6769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На память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4" name="Picture 2" descr="E:\Users\Ринат 1\Pictures\Новая папка\P1010331.JPG"/>
          <p:cNvPicPr/>
          <p:nvPr/>
        </p:nvPicPr>
        <p:blipFill>
          <a:blip r:embed="rId1"/>
          <a:stretch/>
        </p:blipFill>
        <p:spPr>
          <a:xfrm>
            <a:off x="2268360" y="1670040"/>
            <a:ext cx="594864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Инструктаж военного комиссара перед стрельбой с боевыми патронам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6" name="Picture 2" descr="E:\Users\Ринат 1\Pictures\Новая папка\P1010356.JPG"/>
          <p:cNvPicPr/>
          <p:nvPr/>
        </p:nvPicPr>
        <p:blipFill>
          <a:blip r:embed="rId1"/>
          <a:stretch/>
        </p:blipFill>
        <p:spPr>
          <a:xfrm>
            <a:off x="2268360" y="1670040"/>
            <a:ext cx="594864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Стрельба с боевыми патронами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752480" y="1490760"/>
            <a:ext cx="698508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Просмотр результатов стрельбы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0" name="Picture 2" descr="E:\Users\Ринат 1\Pictures\Новая папка\P1010363.JPG"/>
          <p:cNvPicPr/>
          <p:nvPr/>
        </p:nvPicPr>
        <p:blipFill>
          <a:blip r:embed="rId1"/>
          <a:stretch/>
        </p:blipFill>
        <p:spPr>
          <a:xfrm>
            <a:off x="2268360" y="1670040"/>
            <a:ext cx="594864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Соревнование. Бег на 100м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7" name="Picture 2" descr="E:\Users\Ринат 1\Pictures\Новая папка\P1010299.JPG"/>
          <p:cNvPicPr/>
          <p:nvPr/>
        </p:nvPicPr>
        <p:blipFill>
          <a:blip r:embed="rId1"/>
          <a:stretch/>
        </p:blipFill>
        <p:spPr>
          <a:xfrm>
            <a:off x="1536840" y="1490760"/>
            <a:ext cx="7056360" cy="56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А патроны как много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2" name="Picture 2" descr="E:\Users\Ринат 1\Pictures\Новая папка\P1010353.JPG"/>
          <p:cNvPicPr/>
          <p:nvPr/>
        </p:nvPicPr>
        <p:blipFill>
          <a:blip r:embed="rId1"/>
          <a:stretch/>
        </p:blipFill>
        <p:spPr>
          <a:xfrm>
            <a:off x="1393920" y="1490760"/>
            <a:ext cx="69660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Спать в палатке тоже не очень то просто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4" name="Picture 2" descr="E:\Users\Ринат 1\Pictures\Новая папка\P1010212.JPG"/>
          <p:cNvPicPr/>
          <p:nvPr/>
        </p:nvPicPr>
        <p:blipFill>
          <a:blip r:embed="rId1"/>
          <a:stretch/>
        </p:blipFill>
        <p:spPr>
          <a:xfrm>
            <a:off x="1609560" y="1490760"/>
            <a:ext cx="7417080" cy="55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100" spc="-1" strike="noStrike">
                <a:solidFill>
                  <a:srgbClr val="330033"/>
                </a:solidFill>
                <a:latin typeface="Times New Roman"/>
              </a:rPr>
              <a:t>Стрельба из пневматической винтовки</a:t>
            </a:r>
            <a:endParaRPr b="0" lang="en-US" sz="41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609560" y="1593720"/>
            <a:ext cx="6985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Место приготовления пищи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1" name="Picture 2" descr="E:\Users\Ринат 1\Pictures\Новая папка\P1010220.JPG"/>
          <p:cNvPicPr/>
          <p:nvPr/>
        </p:nvPicPr>
        <p:blipFill>
          <a:blip r:embed="rId1"/>
          <a:stretch/>
        </p:blipFill>
        <p:spPr>
          <a:xfrm>
            <a:off x="1609560" y="1562040"/>
            <a:ext cx="68216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Футбол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3" name="Picture 2" descr="E:\Users\Ринат 1\Pictures\Новая папка\P1010238.JPG"/>
          <p:cNvPicPr/>
          <p:nvPr/>
        </p:nvPicPr>
        <p:blipFill>
          <a:blip r:embed="rId1"/>
          <a:stretch/>
        </p:blipFill>
        <p:spPr>
          <a:xfrm>
            <a:off x="1681200" y="1562040"/>
            <a:ext cx="682956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100" spc="-1" strike="noStrike">
                <a:solidFill>
                  <a:srgbClr val="330033"/>
                </a:solidFill>
                <a:latin typeface="Times New Roman"/>
              </a:rPr>
              <a:t>Преодоление зараженного участка </a:t>
            </a:r>
            <a:endParaRPr b="0" lang="en-US" sz="41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5" name="Picture 2" descr="E:\Users\Ринат 1\Pictures\Новая папка\P1010256.JPG"/>
          <p:cNvPicPr/>
          <p:nvPr/>
        </p:nvPicPr>
        <p:blipFill>
          <a:blip r:embed="rId1"/>
          <a:stretch/>
        </p:blipFill>
        <p:spPr>
          <a:xfrm>
            <a:off x="1681200" y="1633680"/>
            <a:ext cx="6840360" cy="54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4" descr="P1020180_2"/>
          <p:cNvPicPr/>
          <p:nvPr/>
        </p:nvPicPr>
        <p:blipFill>
          <a:blip r:embed="rId1"/>
          <a:stretch/>
        </p:blipFill>
        <p:spPr>
          <a:xfrm>
            <a:off x="1104840" y="409680"/>
            <a:ext cx="7848720" cy="64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Первое построение 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1320840" y="1490760"/>
            <a:ext cx="720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Обед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393920" y="1562040"/>
            <a:ext cx="695808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3:37:42Z</dcterms:created>
  <dc:creator>Ринат 1</dc:creator>
  <dc:description/>
  <dc:language>en-US</dc:language>
  <cp:lastModifiedBy>Николай</cp:lastModifiedBy>
  <dcterms:modified xsi:type="dcterms:W3CDTF">2013-04-25T12:00:32Z</dcterms:modified>
  <cp:revision>16</cp:revision>
  <dc:subject/>
  <dc:title>Слайд 1</dc:title>
</cp:coreProperties>
</file>