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86963" cy="7156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036800" y="685440"/>
            <a:ext cx="4784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2837-84C8-45E1-9243-89CF7A177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36800" y="685800"/>
            <a:ext cx="47844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A1C8-6A85-4F1F-B3A6-3CA121839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E50-B38C-49C2-9899-FAE1CD2B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D45-3E22-437B-BCCD-E8E04637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CA3-495D-4CCC-8EED-4E33FA08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856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384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82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856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384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1152-B475-4976-89E2-C14D6D9E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F452-090F-456D-B3DA-39324E30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32DD-DE68-44DD-BA0C-A27D31EA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9167-A001-446E-B563-413CD09A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891C-93DA-4179-AAA2-C5A9C519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AB0D-8131-45F9-8E7B-F746D50C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8280" y="290520"/>
            <a:ext cx="848844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FF65-3932-4364-9D82-93356B7C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F774-25DC-40B7-935B-E03EBFA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5FA-96F2-4826-9FC7-EB7A24DD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6563-CCA5-4999-869C-66ED42BE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FF31-2434-445A-A06C-7594B1CC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25B6-C69A-449F-9029-314CDAF0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624D-BBAB-438F-BB03-D1D12615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6856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7384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82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6856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7384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F98C-9DC6-47C8-8D3B-468BCD20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7C5-38DB-4F90-BA36-3AC64112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D14-9FCC-48C1-9145-A76B4169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FB7-364C-477C-B975-AEBF2774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8280" y="290520"/>
            <a:ext cx="848844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454-843F-4F57-AA72-9A9413CA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BF0-311A-48F2-BBED-821115F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867-7496-43B5-B524-3AEF2CFF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EEF-F0D3-424B-B05F-669C4FA5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9486360" cy="5089320"/>
            <a:chOff x="0" y="0"/>
            <a:chExt cx="9486360" cy="50893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65280" cy="50893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415800" y="1479240"/>
              <a:ext cx="9070560" cy="190080"/>
              <a:chOff x="415800" y="1479240"/>
              <a:chExt cx="9070560" cy="19008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7489440" y="1479240"/>
                <a:ext cx="1996920" cy="190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415800" y="1558800"/>
                <a:ext cx="907056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7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444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8640" y="6522840"/>
            <a:ext cx="216360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62280" y="6519600"/>
            <a:ext cx="324504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407000" y="6519600"/>
            <a:ext cx="207972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2785-3FCE-415A-B326-2279BF45FAAB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5089680"/>
            <a:ext cx="6652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9570240" cy="6201720"/>
            <a:chOff x="0" y="0"/>
            <a:chExt cx="9570240" cy="6201720"/>
          </a:xfrm>
        </p:grpSpPr>
        <p:sp>
          <p:nvSpPr>
            <p:cNvPr id="48" name="Прямоуг. 3"/>
            <p:cNvSpPr/>
            <p:nvPr/>
          </p:nvSpPr>
          <p:spPr>
            <a:xfrm>
              <a:off x="0" y="0"/>
              <a:ext cx="1913760" cy="5088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Группа 4"/>
            <p:cNvGrpSpPr/>
            <p:nvPr/>
          </p:nvGrpSpPr>
          <p:grpSpPr>
            <a:xfrm>
              <a:off x="0" y="3657960"/>
              <a:ext cx="9570240" cy="2543760"/>
              <a:chOff x="0" y="3657960"/>
              <a:chExt cx="9570240" cy="2543760"/>
            </a:xfrm>
          </p:grpSpPr>
          <p:sp>
            <p:nvSpPr>
              <p:cNvPr id="50" name="Прямоуг. 5"/>
              <p:cNvSpPr/>
              <p:nvPr/>
            </p:nvSpPr>
            <p:spPr>
              <a:xfrm>
                <a:off x="1081800" y="3657960"/>
                <a:ext cx="8488440" cy="254376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Прямоуг. 6"/>
              <p:cNvSpPr/>
              <p:nvPr/>
            </p:nvSpPr>
            <p:spPr>
              <a:xfrm>
                <a:off x="1133640" y="3896280"/>
                <a:ext cx="8354880" cy="223092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Линия 7"/>
              <p:cNvSpPr/>
              <p:nvPr/>
            </p:nvSpPr>
            <p:spPr>
              <a:xfrm>
                <a:off x="0" y="5088960"/>
                <a:ext cx="108180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Группа 8"/>
            <p:cNvGrpSpPr/>
            <p:nvPr/>
          </p:nvGrpSpPr>
          <p:grpSpPr>
            <a:xfrm>
              <a:off x="693360" y="556560"/>
              <a:ext cx="8821440" cy="317160"/>
              <a:chOff x="693360" y="556560"/>
              <a:chExt cx="8821440" cy="317160"/>
            </a:xfrm>
          </p:grpSpPr>
          <p:sp>
            <p:nvSpPr>
              <p:cNvPr id="54" name="Прямоуг. 9"/>
              <p:cNvSpPr/>
              <p:nvPr/>
            </p:nvSpPr>
            <p:spPr>
              <a:xfrm>
                <a:off x="6851520" y="556560"/>
                <a:ext cx="2663280" cy="3171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Линия 10"/>
              <p:cNvSpPr/>
              <p:nvPr/>
            </p:nvSpPr>
            <p:spPr>
              <a:xfrm>
                <a:off x="693360" y="714960"/>
                <a:ext cx="882144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7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444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96480" y="6522840"/>
            <a:ext cx="208116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664080" y="6519600"/>
            <a:ext cx="316224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407000" y="6519600"/>
            <a:ext cx="207972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22AB-1976-4F98-85D8-FA58948C2D05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Военно-полевые сборы. КПП 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Содержимое 3" descr="P1010160.JPG"/>
          <p:cNvPicPr/>
          <p:nvPr/>
        </p:nvPicPr>
        <p:blipFill>
          <a:blip r:embed="rId1"/>
          <a:stretch/>
        </p:blipFill>
        <p:spPr>
          <a:xfrm>
            <a:off x="1176480" y="1490760"/>
            <a:ext cx="74898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Неполная разборка и сборка АК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919160" y="172548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Действие солдата в бою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2" descr="E:\Users\Ринат 1\Pictures\Новая папка\P1010275.JPG"/>
          <p:cNvPicPr/>
          <p:nvPr/>
        </p:nvPicPr>
        <p:blipFill>
          <a:blip r:embed="rId1"/>
          <a:stretch/>
        </p:blipFill>
        <p:spPr>
          <a:xfrm>
            <a:off x="1752480" y="1562040"/>
            <a:ext cx="68407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Выполнение команды «Газы!»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Picture 2" descr="E:\Users\Ринат 1\Pictures\Новая папка\P1010287.JPG"/>
          <p:cNvPicPr/>
          <p:nvPr/>
        </p:nvPicPr>
        <p:blipFill>
          <a:blip r:embed="rId1"/>
          <a:stretch/>
        </p:blipFill>
        <p:spPr>
          <a:xfrm>
            <a:off x="1393920" y="1490760"/>
            <a:ext cx="698328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Ожидание условного противника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2" descr="E:\Users\Ринат 1\Pictures\Новая папка\P1010267.JPG"/>
          <p:cNvPicPr/>
          <p:nvPr/>
        </p:nvPicPr>
        <p:blipFill>
          <a:blip r:embed="rId1"/>
          <a:stretch/>
        </p:blipFill>
        <p:spPr>
          <a:xfrm>
            <a:off x="1536840" y="1417680"/>
            <a:ext cx="68292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Короткий привал после боя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2" descr="E:\Users\Ринат 1\Pictures\Новая папка\P1010297.JPG"/>
          <p:cNvPicPr/>
          <p:nvPr/>
        </p:nvPicPr>
        <p:blipFill>
          <a:blip r:embed="rId1"/>
          <a:stretch/>
        </p:blipFill>
        <p:spPr>
          <a:xfrm>
            <a:off x="1393920" y="1417680"/>
            <a:ext cx="74880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олучать грамоты за успехи всегда приятн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Picture 2" descr="E:\Users\Ринат 1\Pictures\Новая папка\P1010314.JPG"/>
          <p:cNvPicPr/>
          <p:nvPr/>
        </p:nvPicPr>
        <p:blipFill>
          <a:blip r:embed="rId1"/>
          <a:stretch/>
        </p:blipFill>
        <p:spPr>
          <a:xfrm>
            <a:off x="2112840" y="1670040"/>
            <a:ext cx="676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На память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Picture 2" descr="E:\Users\Ринат 1\Pictures\Новая папка\P1010331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нструктаж военного комиссара перед стрельбой с боевыми патрон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2" descr="E:\Users\Ринат 1\Pictures\Новая папка\P1010356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трельба с боевыми патронами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752480" y="1490760"/>
            <a:ext cx="69850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росмотр результатов стрельбы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2" descr="E:\Users\Ринат 1\Pictures\Новая папка\P1010363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оревнование. Бег на 100м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2" descr="E:\Users\Ринат 1\Pictures\Новая папка\P1010299.JPG"/>
          <p:cNvPicPr/>
          <p:nvPr/>
        </p:nvPicPr>
        <p:blipFill>
          <a:blip r:embed="rId1"/>
          <a:stretch/>
        </p:blipFill>
        <p:spPr>
          <a:xfrm>
            <a:off x="1536840" y="1490760"/>
            <a:ext cx="705636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А патроны как мног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Picture 2" descr="E:\Users\Ринат 1\Pictures\Новая папка\P1010353.JPG"/>
          <p:cNvPicPr/>
          <p:nvPr/>
        </p:nvPicPr>
        <p:blipFill>
          <a:blip r:embed="rId1"/>
          <a:stretch/>
        </p:blipFill>
        <p:spPr>
          <a:xfrm>
            <a:off x="1393920" y="1490760"/>
            <a:ext cx="6966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пать в палатке тоже не очень то прост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4" name="Picture 2" descr="E:\Users\Ринат 1\Pictures\Новая папка\P1010212.JPG"/>
          <p:cNvPicPr/>
          <p:nvPr/>
        </p:nvPicPr>
        <p:blipFill>
          <a:blip r:embed="rId1"/>
          <a:stretch/>
        </p:blipFill>
        <p:spPr>
          <a:xfrm>
            <a:off x="1609560" y="1490760"/>
            <a:ext cx="741708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Стрельба из пневматической винтовки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609560" y="1593720"/>
            <a:ext cx="6985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Место приготовления пищи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Picture 2" descr="E:\Users\Ринат 1\Pictures\Новая папка\P1010220.JPG"/>
          <p:cNvPicPr/>
          <p:nvPr/>
        </p:nvPicPr>
        <p:blipFill>
          <a:blip r:embed="rId1"/>
          <a:stretch/>
        </p:blipFill>
        <p:spPr>
          <a:xfrm>
            <a:off x="1609560" y="1562040"/>
            <a:ext cx="68216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Футбол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Picture 2" descr="E:\Users\Ринат 1\Pictures\Новая папка\P1010238.JPG"/>
          <p:cNvPicPr/>
          <p:nvPr/>
        </p:nvPicPr>
        <p:blipFill>
          <a:blip r:embed="rId1"/>
          <a:stretch/>
        </p:blipFill>
        <p:spPr>
          <a:xfrm>
            <a:off x="1681200" y="1562040"/>
            <a:ext cx="68295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Преодоление зараженного участка 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2" descr="E:\Users\Ринат 1\Pictures\Новая папка\P1010256.JPG"/>
          <p:cNvPicPr/>
          <p:nvPr/>
        </p:nvPicPr>
        <p:blipFill>
          <a:blip r:embed="rId1"/>
          <a:stretch/>
        </p:blipFill>
        <p:spPr>
          <a:xfrm>
            <a:off x="1681200" y="1633680"/>
            <a:ext cx="684036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4" descr="P1020180_2"/>
          <p:cNvPicPr/>
          <p:nvPr/>
        </p:nvPicPr>
        <p:blipFill>
          <a:blip r:embed="rId1"/>
          <a:stretch/>
        </p:blipFill>
        <p:spPr>
          <a:xfrm>
            <a:off x="1104840" y="409680"/>
            <a:ext cx="784872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ервое построение 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320840" y="149076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Обед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393920" y="1562040"/>
            <a:ext cx="69580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3:37:42Z</dcterms:created>
  <dc:creator>Ринат 1</dc:creator>
  <dc:description/>
  <dc:language>en-US</dc:language>
  <cp:lastModifiedBy>Николай</cp:lastModifiedBy>
  <dcterms:modified xsi:type="dcterms:W3CDTF">2013-04-25T12:00:32Z</dcterms:modified>
  <cp:revision>16</cp:revision>
  <dc:subject/>
  <dc:title>Слайд 1</dc:title>
</cp:coreProperties>
</file>